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431640"/>
            <a:ext cx="9309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78000" y="2174760"/>
            <a:ext cx="6553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31880" y="92160"/>
            <a:ext cx="73846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B2 UFR SdV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E Physiologie des grandes fonctions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E. R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7680" y="1382760"/>
            <a:ext cx="805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grande variabilité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a pris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 typ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s besoins quantitatifs / qualit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uveurs de 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i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trit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ymbiose éventuelle (ex : digestion de la cellul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2120" y="76032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5480" y="5557680"/>
            <a:ext cx="81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n relation avec l’anatomie et le fonctionnement de l’appareil diges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57680" y="3097080"/>
            <a:ext cx="3930840" cy="155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NB : certains nutriments indispens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(non synthétisés à partir de précur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cides aminé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cides gra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vita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fr-FR" sz="1600" spc="-1" strike="noStrike">
                <a:solidFill>
                  <a:srgbClr val="ff3300"/>
                </a:solidFill>
                <a:latin typeface="Arial"/>
              </a:rPr>
              <a:t>variable selon l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2120" y="76032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chéma géné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7680" y="1979640"/>
            <a:ext cx="40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it : motilité intest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2120" y="1154160"/>
            <a:ext cx="4070520" cy="5575320"/>
            <a:chOff x="222120" y="1154160"/>
            <a:chExt cx="4070520" cy="55753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530360" y="115416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3680" y="19796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2120" y="63612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66760" y="304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87880" y="42530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545004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2120" y="76032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chéma géné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57680" y="1979640"/>
            <a:ext cx="40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it : motilité intest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s digestiv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nzymes, HCl, sels biliair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2120" y="1154160"/>
            <a:ext cx="4070520" cy="5575320"/>
            <a:chOff x="222120" y="1154160"/>
            <a:chExt cx="4070520" cy="55753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30360" y="115416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3680" y="19796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20" y="63612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66760" y="304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87880" y="42530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545004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2120" y="76032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chéma géné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7680" y="1979640"/>
            <a:ext cx="405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it : motilité intest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s digestiv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nzymes, HCl, sels biliair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bsorption, assimila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utriments , médicaments, tox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quilibre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2120" y="1154160"/>
            <a:ext cx="4070520" cy="5575320"/>
            <a:chOff x="222120" y="1154160"/>
            <a:chExt cx="4070520" cy="55753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30360" y="115416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3680" y="19796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2120" y="63612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66760" y="304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880" y="42530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5120" y="545004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2120" y="76032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chéma géné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2120" y="1154160"/>
            <a:ext cx="4070520" cy="5575320"/>
            <a:chOff x="222120" y="1154160"/>
            <a:chExt cx="4070520" cy="55753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30360" y="115416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93680" y="19796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2120" y="63612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66760" y="304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7880" y="42530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545004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657680" y="1979640"/>
            <a:ext cx="405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it : motilité intest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s digestiv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nzymes, HCl, sels biliair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bsorption, assimila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utriments , médicaments, tox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quilibre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9680" y="6018120"/>
            <a:ext cx="45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régulation endocrine : gastrine, sécrétin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60880" y="1900080"/>
            <a:ext cx="4695840" cy="1673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9360" y="4519440"/>
            <a:ext cx="4698720" cy="1127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02560" y="38815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8600" y="3871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j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93640" y="38592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é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08040" y="38592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34680" y="14335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9160" y="5700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1800" y="2744640"/>
            <a:ext cx="0" cy="1154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424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2730600"/>
            <a:ext cx="0" cy="1155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1520" y="4255920"/>
            <a:ext cx="0" cy="798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22920" y="5079960"/>
            <a:ext cx="0" cy="622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3040" y="4255920"/>
            <a:ext cx="0" cy="811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1790640"/>
            <a:ext cx="0" cy="12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64240" y="2732040"/>
            <a:ext cx="0" cy="11415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3040" y="2908440"/>
            <a:ext cx="0" cy="992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31080" y="11034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se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56560" y="60436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nné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2120" y="1154160"/>
            <a:ext cx="4070520" cy="5575320"/>
            <a:chOff x="222120" y="1154160"/>
            <a:chExt cx="4070520" cy="557532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30360" y="115416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93680" y="19796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2120" y="63612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66760" y="304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7880" y="42530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05120" y="545004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2120" y="76032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89200" y="519264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ctus gastro-intestinal (TGI) : milieu 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4720" y="5192640"/>
            <a:ext cx="68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bouche, pharynx, oesophag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broyage de la nourriture, mélange à la salive (amylase), propulsion du bol alimentaire dans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5600" y="1384200"/>
            <a:ext cx="2768760" cy="2032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3360" y="5192640"/>
            <a:ext cx="79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estomac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mplissage, stockage, malaxage, évac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igestion des glucides, début de digestion des protéines, formation du ch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duction endocrine (gastr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9558800">
            <a:off x="3218040" y="2547720"/>
            <a:ext cx="2176200" cy="1331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4720" y="51926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écrétions biliaires et pancréatiqu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nzymes de digestion des glucides, lipides, protides ; neutralisation du pH (pancréas) ; sels biliaires : digestion des lipides (fo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22840" y="1131840"/>
            <a:ext cx="2057400" cy="129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179000">
            <a:off x="4878000" y="2663640"/>
            <a:ext cx="792360" cy="1649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7360" y="12366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s énergétique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tituant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9120" y="5192640"/>
            <a:ext cx="82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stin grêl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egmentation ; digestion et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glucides, lipides, protides, 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, eau, sécrétions digestives, cellules desquam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773400">
            <a:off x="5151600" y="2390400"/>
            <a:ext cx="2438280" cy="704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tractus digestif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9760" y="2170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15480" y="1471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7920" y="1954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2840" y="3147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45720" y="162396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68600" y="4205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78640" y="181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120" y="3833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17160" y="4341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65320" y="3786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11360" y="3343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958200">
            <a:off x="5400360" y="3106800"/>
            <a:ext cx="2449440" cy="19130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840" y="5192640"/>
            <a:ext cx="55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gros intesti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tockage, brassage, absorption d’eau et d’électrol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7040" y="117792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éreu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ouche conjonctive externe, sécrétion a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81360" y="18525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0280" y="2211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91480" y="2665440"/>
            <a:ext cx="46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sculeus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lis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ne couche de muscle longitudinal (ex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ne couche de muscle circulaire (in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43280" y="1400040"/>
            <a:ext cx="1390680" cy="466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81360" y="18525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80280" y="2211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80280" y="25797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0480" y="308124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ous-muqueu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tissu conjonctif, vaisseaux sanguins et lymph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43280" y="1400040"/>
            <a:ext cx="2104920" cy="1143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81360" y="18525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80280" y="2211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0280" y="25797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81000" y="29750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62320" y="3722760"/>
            <a:ext cx="48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queu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épithéliales, exocrines et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uqueuse musculaire :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dification de la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76680" y="3257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43280" y="1400040"/>
            <a:ext cx="2286000" cy="15336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81360" y="18525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80280" y="2211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80280" y="25797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79920" y="3537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81000" y="29750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76680" y="3257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43280" y="1400040"/>
            <a:ext cx="2286000" cy="21812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is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25760" y="431640"/>
            <a:ext cx="5121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2120" y="7603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istologi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2440" y="524340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exus myentérique (ou d’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82080" y="472608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exus sous-muqueux (ou de Meiss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384280" y="494820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84280" y="542124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9200" y="1494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81360" y="18525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80280" y="2211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80280" y="25797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79920" y="3537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46080" y="3780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81000" y="29750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76680" y="3257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43280" y="1400040"/>
            <a:ext cx="2286000" cy="25815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05440" y="420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ystème nerveux intrinsèqu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extrinsèque (SN autono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4080" y="1490760"/>
            <a:ext cx="173808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94680" y="1484280"/>
            <a:ext cx="17168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5240" y="4151160"/>
            <a:ext cx="57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efférentes : tronc cérébral / moelle épin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afférentes : chémorécepteurs, mécan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14880" y="330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Arial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79880" y="1636560"/>
            <a:ext cx="26542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76680" y="2019240"/>
            <a:ext cx="0" cy="1143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092560" y="2006640"/>
            <a:ext cx="0" cy="12952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extrinsèque (SN autono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240" y="1490760"/>
            <a:ext cx="18572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1200" y="41101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erf vague : oesophage, estomac, intestin grêle, pancréas, gros intestin s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erf pelvien : gros intestin inférieur, rectum, 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19040" y="1509840"/>
            <a:ext cx="11437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5400" y="2274840"/>
            <a:ext cx="138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69360" y="17874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50360" y="21877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56160" y="1484280"/>
            <a:ext cx="4273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14880" y="330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Arial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7360" y="12366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s énergétique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tituant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 : hétéro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rce de composés organiques ext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’aliments ; production et absorption de nut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extrinsèque (SN autono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6240" y="1490760"/>
            <a:ext cx="18572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5342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parasympathiques préganglionn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ynapses dans les plexus sous-muqueux et myent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postganglionnaires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ML ; C. exocrines ; C.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19040" y="1509840"/>
            <a:ext cx="11437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5400" y="2274840"/>
            <a:ext cx="138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69360" y="17874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50360" y="21877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56160" y="1484280"/>
            <a:ext cx="4273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00480" y="4654440"/>
            <a:ext cx="7462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40800" y="4654440"/>
            <a:ext cx="10465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89640" y="4654440"/>
            <a:ext cx="10540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33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17920" y="3614760"/>
            <a:ext cx="116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85440" y="3614760"/>
            <a:ext cx="135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extrinsèque (SN autono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26760" y="1498680"/>
            <a:ext cx="21193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76440" y="2314440"/>
            <a:ext cx="20962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81680" y="2637000"/>
            <a:ext cx="0" cy="330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3280" y="26640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06040" y="18795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96120" y="1484280"/>
            <a:ext cx="18252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14880" y="330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Arial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9840" y="1674720"/>
            <a:ext cx="379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extrinsèque (SN autono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26760" y="1498680"/>
            <a:ext cx="21193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76440" y="2314440"/>
            <a:ext cx="20962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2637000"/>
            <a:ext cx="0" cy="19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13280" y="26640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06040" y="18795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296120" y="1484280"/>
            <a:ext cx="18252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840" y="5052960"/>
            <a:ext cx="84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préganglionnair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part T8-L2 ; synapses dans les ganglions prévertéb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es postganglionnaires : plexus sous-muqueux et myentérique (+ vaisseaux sanguins, quelques C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9840" y="1674720"/>
            <a:ext cx="379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17920" y="3614760"/>
            <a:ext cx="116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5440" y="3614760"/>
            <a:ext cx="135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82000" y="4654440"/>
            <a:ext cx="9763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36720" y="9302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ystème nerveux intrinsèque (plex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38760" y="325584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17920" y="3614760"/>
            <a:ext cx="116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5440" y="3614760"/>
            <a:ext cx="135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00480" y="4654440"/>
            <a:ext cx="7462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340800" y="4654440"/>
            <a:ext cx="10465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89640" y="4654440"/>
            <a:ext cx="10540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82000" y="4654440"/>
            <a:ext cx="9763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89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4600" y="1319040"/>
            <a:ext cx="35020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plexus myentérique (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tilité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7440" y="1319040"/>
            <a:ext cx="49305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plexus sous-muqueux (Meiss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it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tilité et sécrétion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ais de l’information en provenance du 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965240" y="1509840"/>
            <a:ext cx="11437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25400" y="2274840"/>
            <a:ext cx="138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38760" y="325584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17920" y="3614760"/>
            <a:ext cx="116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85440" y="3614760"/>
            <a:ext cx="135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9400" y="1517760"/>
            <a:ext cx="15494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517520" y="1511280"/>
            <a:ext cx="153252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11480" y="1681200"/>
            <a:ext cx="857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69360" y="16606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50360" y="21877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26760" y="1498680"/>
            <a:ext cx="21193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76440" y="2314440"/>
            <a:ext cx="20962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00480" y="4654440"/>
            <a:ext cx="7462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40800" y="4654440"/>
            <a:ext cx="10465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9640" y="4654440"/>
            <a:ext cx="10540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82000" y="4654440"/>
            <a:ext cx="97632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81680" y="2637000"/>
            <a:ext cx="0" cy="2019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619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13280" y="26640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040" y="18795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06000" y="5419800"/>
            <a:ext cx="1172880" cy="672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mot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pérista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36920" y="5419800"/>
            <a:ext cx="906120" cy="106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sécré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HCO</a:t>
            </a:r>
            <a:r>
              <a:rPr b="1" lang="fr-FR" sz="12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66240" y="5410080"/>
            <a:ext cx="2190960" cy="1037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horm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ges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cholécyctoki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sécré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peptide inhibiteur gas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04800" y="5437080"/>
            <a:ext cx="1243080" cy="307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débit sa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0656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4192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7060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61040" y="518652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2000" y="87480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ntrôle nerveux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3520" y="82872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voies réflexes centrales et locales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578040" y="1512720"/>
            <a:ext cx="2654280" cy="368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60600" y="2930400"/>
            <a:ext cx="2336760" cy="114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lexus myent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lexus sous-muqu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16320" y="3371760"/>
            <a:ext cx="0" cy="3049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857840" y="3362040"/>
            <a:ext cx="0" cy="3142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37080" y="19368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77960" y="3222720"/>
            <a:ext cx="19821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hém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écan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21240" y="3218040"/>
            <a:ext cx="2419560" cy="1310760"/>
          </a:xfrm>
          <a:prstGeom prst="rect">
            <a:avLst/>
          </a:prstGeom>
          <a:gradFill rotWithShape="0">
            <a:gsLst>
              <a:gs pos="0">
                <a:srgbClr val="fec49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usculeuse ex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uqueuse muscul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ellules endoc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ellules sécré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vaisseaux sa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37080" y="2352600"/>
            <a:ext cx="3079800" cy="857160"/>
          </a:xfrm>
          <a:custGeom>
            <a:avLst/>
            <a:gdLst/>
            <a:ahLst/>
            <a:rect l="l" t="t" r="r" b="b"/>
            <a:pathLst>
              <a:path w="1008" h="1044">
                <a:moveTo>
                  <a:pt x="0" y="0"/>
                </a:moveTo>
                <a:lnTo>
                  <a:pt x="1008" y="0"/>
                </a:lnTo>
                <a:lnTo>
                  <a:pt x="1008" y="10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35040" y="1800360"/>
            <a:ext cx="2040120" cy="1427040"/>
          </a:xfrm>
          <a:custGeom>
            <a:avLst/>
            <a:gdLst/>
            <a:ahLst/>
            <a:rect l="l" t="t" r="r" b="b"/>
            <a:pathLst>
              <a:path w="666" h="1536">
                <a:moveTo>
                  <a:pt x="0" y="1536"/>
                </a:moveTo>
                <a:lnTo>
                  <a:pt x="0" y="0"/>
                </a:lnTo>
                <a:lnTo>
                  <a:pt x="66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0160" y="1424160"/>
            <a:ext cx="23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afférences vagal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splan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57600" y="1978200"/>
            <a:ext cx="26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efférences 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et para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16160" y="3956040"/>
            <a:ext cx="19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afférenc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0504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9592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800" y="4651200"/>
            <a:ext cx="82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hémorécepteurs, mécanorécepteur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uqueuse, musculeus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orps cellul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lexus myentérique et sous-muqu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onnections axonales avec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des plexus : 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ystème nerveux central : réflexe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635040" y="119232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éristaltisme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nnervation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093680" y="2185920"/>
            <a:ext cx="2278080" cy="2898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5197320" y="2195640"/>
            <a:ext cx="2141640" cy="28843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2158920" y="3200400"/>
            <a:ext cx="0" cy="146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350040" y="347976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0040" y="28954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9720" y="1192320"/>
            <a:ext cx="52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’appareil contractile de la cellule musculaire li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2880" y="824040"/>
            <a:ext cx="65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muscle lisse gastro-intestinal : effecteur de la mot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625320" y="2185920"/>
            <a:ext cx="2548080" cy="3691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521160" y="4232160"/>
            <a:ext cx="942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0680" y="4191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jonction « gap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73520" y="2468520"/>
            <a:ext cx="1000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41040" y="237816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lament interméd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67000" y="3081240"/>
            <a:ext cx="966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52200" y="3068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28840" y="3662280"/>
            <a:ext cx="1386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54000" y="3583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jonction m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éc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73440" y="5060880"/>
            <a:ext cx="898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20920" y="5070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rps d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1487520" y="257652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881360" y="3252960"/>
            <a:ext cx="8474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09600" y="3773520"/>
            <a:ext cx="6397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901520" y="4357800"/>
            <a:ext cx="8478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408040" y="5272200"/>
            <a:ext cx="7966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47680" y="3144960"/>
            <a:ext cx="30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scle lisse pluri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scle lisse mono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39720" y="1192320"/>
            <a:ext cx="52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l’appareil contractile de la cellule musculaire li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2880" y="824040"/>
            <a:ext cx="65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muscle lisse gastro-intestinal : effecteur de la mot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7160" y="2154240"/>
            <a:ext cx="72583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es muscle lisses pluri-unitair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otentiel d'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ropagation électrique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 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ex : les myocytes des voies aériennes (réactivité bronch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es muscles lisses mono-unitair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jonctions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mission  d'un potentiel d'a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 pha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ex : myocytes responsables du péristaltisme intest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214280" y="141444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+ calmod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48640" y="140796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1120" y="343548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2920" y="3708360"/>
            <a:ext cx="628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20200" y="2104920"/>
            <a:ext cx="8910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L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905280" y="2770200"/>
            <a:ext cx="1386000" cy="541080"/>
            <a:chOff x="3905280" y="2770200"/>
            <a:chExt cx="1386000" cy="541080"/>
          </a:xfrm>
        </p:grpSpPr>
        <p:grpSp>
          <p:nvGrpSpPr>
            <p:cNvPr id="699" name=""/>
            <p:cNvGrpSpPr/>
            <p:nvPr/>
          </p:nvGrpSpPr>
          <p:grpSpPr>
            <a:xfrm>
              <a:off x="4583160" y="2770200"/>
              <a:ext cx="708120" cy="541080"/>
              <a:chOff x="4583160" y="2770200"/>
              <a:chExt cx="708120" cy="541080"/>
            </a:xfrm>
          </p:grpSpPr>
          <p:sp>
            <p:nvSpPr>
              <p:cNvPr id="700" name=""/>
              <p:cNvSpPr/>
              <p:nvPr/>
            </p:nvSpPr>
            <p:spPr>
              <a:xfrm>
                <a:off x="4583160" y="2770200"/>
                <a:ext cx="671760" cy="473040"/>
              </a:xfrm>
              <a:custGeom>
                <a:avLst/>
                <a:gdLst/>
                <a:ahLst/>
                <a:rect l="l" t="t" r="r" b="b"/>
                <a:pathLst>
                  <a:path w="848" h="596">
                    <a:moveTo>
                      <a:pt x="0" y="0"/>
                    </a:moveTo>
                    <a:lnTo>
                      <a:pt x="41" y="1"/>
                    </a:lnTo>
                    <a:lnTo>
                      <a:pt x="81" y="3"/>
                    </a:lnTo>
                    <a:lnTo>
                      <a:pt x="120" y="7"/>
                    </a:lnTo>
                    <a:lnTo>
                      <a:pt x="160" y="12"/>
                    </a:lnTo>
                    <a:lnTo>
                      <a:pt x="198" y="19"/>
                    </a:lnTo>
                    <a:lnTo>
                      <a:pt x="235" y="26"/>
                    </a:lnTo>
                    <a:lnTo>
                      <a:pt x="273" y="36"/>
                    </a:lnTo>
                    <a:lnTo>
                      <a:pt x="309" y="46"/>
                    </a:lnTo>
                    <a:lnTo>
                      <a:pt x="379" y="71"/>
                    </a:lnTo>
                    <a:lnTo>
                      <a:pt x="446" y="100"/>
                    </a:lnTo>
                    <a:lnTo>
                      <a:pt x="509" y="134"/>
                    </a:lnTo>
                    <a:lnTo>
                      <a:pt x="567" y="171"/>
                    </a:lnTo>
                    <a:lnTo>
                      <a:pt x="621" y="214"/>
                    </a:lnTo>
                    <a:lnTo>
                      <a:pt x="671" y="260"/>
                    </a:lnTo>
                    <a:lnTo>
                      <a:pt x="694" y="283"/>
                    </a:lnTo>
                    <a:lnTo>
                      <a:pt x="716" y="308"/>
                    </a:lnTo>
                    <a:lnTo>
                      <a:pt x="736" y="335"/>
                    </a:lnTo>
                    <a:lnTo>
                      <a:pt x="754" y="361"/>
                    </a:lnTo>
                    <a:lnTo>
                      <a:pt x="771" y="388"/>
                    </a:lnTo>
                    <a:lnTo>
                      <a:pt x="787" y="416"/>
                    </a:lnTo>
                    <a:lnTo>
                      <a:pt x="802" y="444"/>
                    </a:lnTo>
                    <a:lnTo>
                      <a:pt x="814" y="473"/>
                    </a:lnTo>
                    <a:lnTo>
                      <a:pt x="826" y="503"/>
                    </a:lnTo>
                    <a:lnTo>
                      <a:pt x="835" y="534"/>
                    </a:lnTo>
                    <a:lnTo>
                      <a:pt x="843" y="564"/>
                    </a:lnTo>
                    <a:lnTo>
                      <a:pt x="848" y="596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21440" y="324000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0" y="6"/>
                    </a:moveTo>
                    <a:lnTo>
                      <a:pt x="52" y="91"/>
                    </a:lnTo>
                    <a:lnTo>
                      <a:pt x="8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3905280" y="2770200"/>
              <a:ext cx="677880" cy="54108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0" y="683"/>
                  </a:moveTo>
                  <a:lnTo>
                    <a:pt x="1" y="647"/>
                  </a:lnTo>
                  <a:lnTo>
                    <a:pt x="4" y="613"/>
                  </a:lnTo>
                  <a:lnTo>
                    <a:pt x="9" y="579"/>
                  </a:lnTo>
                  <a:lnTo>
                    <a:pt x="17" y="546"/>
                  </a:lnTo>
                  <a:lnTo>
                    <a:pt x="26" y="513"/>
                  </a:lnTo>
                  <a:lnTo>
                    <a:pt x="38" y="480"/>
                  </a:lnTo>
                  <a:lnTo>
                    <a:pt x="51" y="448"/>
                  </a:lnTo>
                  <a:lnTo>
                    <a:pt x="67" y="416"/>
                  </a:lnTo>
                  <a:lnTo>
                    <a:pt x="84" y="386"/>
                  </a:lnTo>
                  <a:lnTo>
                    <a:pt x="103" y="357"/>
                  </a:lnTo>
                  <a:lnTo>
                    <a:pt x="124" y="328"/>
                  </a:lnTo>
                  <a:lnTo>
                    <a:pt x="146" y="301"/>
                  </a:lnTo>
                  <a:lnTo>
                    <a:pt x="170" y="274"/>
                  </a:lnTo>
                  <a:lnTo>
                    <a:pt x="195" y="249"/>
                  </a:lnTo>
                  <a:lnTo>
                    <a:pt x="221" y="224"/>
                  </a:lnTo>
                  <a:lnTo>
                    <a:pt x="250" y="200"/>
                  </a:lnTo>
                  <a:lnTo>
                    <a:pt x="279" y="178"/>
                  </a:lnTo>
                  <a:lnTo>
                    <a:pt x="311" y="156"/>
                  </a:lnTo>
                  <a:lnTo>
                    <a:pt x="377" y="117"/>
                  </a:lnTo>
                  <a:lnTo>
                    <a:pt x="411" y="99"/>
                  </a:lnTo>
                  <a:lnTo>
                    <a:pt x="447" y="83"/>
                  </a:lnTo>
                  <a:lnTo>
                    <a:pt x="484" y="67"/>
                  </a:lnTo>
                  <a:lnTo>
                    <a:pt x="522" y="54"/>
                  </a:lnTo>
                  <a:lnTo>
                    <a:pt x="560" y="41"/>
                  </a:lnTo>
                  <a:lnTo>
                    <a:pt x="600" y="30"/>
                  </a:lnTo>
                  <a:lnTo>
                    <a:pt x="641" y="21"/>
                  </a:lnTo>
                  <a:lnTo>
                    <a:pt x="682" y="15"/>
                  </a:lnTo>
                  <a:lnTo>
                    <a:pt x="724" y="8"/>
                  </a:lnTo>
                  <a:lnTo>
                    <a:pt x="767" y="4"/>
                  </a:lnTo>
                  <a:lnTo>
                    <a:pt x="811" y="1"/>
                  </a:lnTo>
                  <a:lnTo>
                    <a:pt x="854" y="0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870360" y="4010040"/>
            <a:ext cx="1396440" cy="541440"/>
            <a:chOff x="3870360" y="4010040"/>
            <a:chExt cx="1396440" cy="541440"/>
          </a:xfrm>
        </p:grpSpPr>
        <p:grpSp>
          <p:nvGrpSpPr>
            <p:cNvPr id="704" name=""/>
            <p:cNvGrpSpPr/>
            <p:nvPr/>
          </p:nvGrpSpPr>
          <p:grpSpPr>
            <a:xfrm>
              <a:off x="3870360" y="4010040"/>
              <a:ext cx="708840" cy="541440"/>
              <a:chOff x="3870360" y="4010040"/>
              <a:chExt cx="708840" cy="541440"/>
            </a:xfrm>
          </p:grpSpPr>
          <p:sp>
            <p:nvSpPr>
              <p:cNvPr id="705" name=""/>
              <p:cNvSpPr/>
              <p:nvPr/>
            </p:nvSpPr>
            <p:spPr>
              <a:xfrm>
                <a:off x="3904920" y="4078440"/>
                <a:ext cx="674280" cy="473040"/>
              </a:xfrm>
              <a:custGeom>
                <a:avLst/>
                <a:gdLst/>
                <a:ahLst/>
                <a:rect l="l" t="t" r="r" b="b"/>
                <a:pathLst>
                  <a:path w="849" h="597">
                    <a:moveTo>
                      <a:pt x="849" y="597"/>
                    </a:moveTo>
                    <a:lnTo>
                      <a:pt x="808" y="595"/>
                    </a:lnTo>
                    <a:lnTo>
                      <a:pt x="769" y="594"/>
                    </a:lnTo>
                    <a:lnTo>
                      <a:pt x="729" y="590"/>
                    </a:lnTo>
                    <a:lnTo>
                      <a:pt x="690" y="585"/>
                    </a:lnTo>
                    <a:lnTo>
                      <a:pt x="652" y="578"/>
                    </a:lnTo>
                    <a:lnTo>
                      <a:pt x="613" y="570"/>
                    </a:lnTo>
                    <a:lnTo>
                      <a:pt x="576" y="561"/>
                    </a:lnTo>
                    <a:lnTo>
                      <a:pt x="540" y="550"/>
                    </a:lnTo>
                    <a:lnTo>
                      <a:pt x="470" y="525"/>
                    </a:lnTo>
                    <a:lnTo>
                      <a:pt x="402" y="496"/>
                    </a:lnTo>
                    <a:lnTo>
                      <a:pt x="340" y="462"/>
                    </a:lnTo>
                    <a:lnTo>
                      <a:pt x="281" y="424"/>
                    </a:lnTo>
                    <a:lnTo>
                      <a:pt x="227" y="382"/>
                    </a:lnTo>
                    <a:lnTo>
                      <a:pt x="177" y="336"/>
                    </a:lnTo>
                    <a:lnTo>
                      <a:pt x="155" y="312"/>
                    </a:lnTo>
                    <a:lnTo>
                      <a:pt x="132" y="287"/>
                    </a:lnTo>
                    <a:lnTo>
                      <a:pt x="112" y="262"/>
                    </a:lnTo>
                    <a:lnTo>
                      <a:pt x="94" y="234"/>
                    </a:lnTo>
                    <a:lnTo>
                      <a:pt x="77" y="208"/>
                    </a:lnTo>
                    <a:lnTo>
                      <a:pt x="61" y="180"/>
                    </a:lnTo>
                    <a:lnTo>
                      <a:pt x="46" y="151"/>
                    </a:lnTo>
                    <a:lnTo>
                      <a:pt x="35" y="122"/>
                    </a:lnTo>
                    <a:lnTo>
                      <a:pt x="23" y="92"/>
                    </a:lnTo>
                    <a:lnTo>
                      <a:pt x="14" y="62"/>
                    </a:lnTo>
                    <a:lnTo>
                      <a:pt x="6" y="3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70360" y="401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88" h="91">
                    <a:moveTo>
                      <a:pt x="88" y="84"/>
                    </a:moveTo>
                    <a:lnTo>
                      <a:pt x="37" y="0"/>
                    </a:lnTo>
                    <a:lnTo>
                      <a:pt x="0" y="91"/>
                    </a:lnTo>
                    <a:lnTo>
                      <a:pt x="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4589280" y="4010040"/>
              <a:ext cx="677520" cy="54144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854" y="0"/>
                  </a:moveTo>
                  <a:lnTo>
                    <a:pt x="852" y="36"/>
                  </a:lnTo>
                  <a:lnTo>
                    <a:pt x="850" y="70"/>
                  </a:lnTo>
                  <a:lnTo>
                    <a:pt x="845" y="104"/>
                  </a:lnTo>
                  <a:lnTo>
                    <a:pt x="837" y="137"/>
                  </a:lnTo>
                  <a:lnTo>
                    <a:pt x="827" y="170"/>
                  </a:lnTo>
                  <a:lnTo>
                    <a:pt x="816" y="203"/>
                  </a:lnTo>
                  <a:lnTo>
                    <a:pt x="802" y="235"/>
                  </a:lnTo>
                  <a:lnTo>
                    <a:pt x="787" y="266"/>
                  </a:lnTo>
                  <a:lnTo>
                    <a:pt x="769" y="296"/>
                  </a:lnTo>
                  <a:lnTo>
                    <a:pt x="751" y="325"/>
                  </a:lnTo>
                  <a:lnTo>
                    <a:pt x="730" y="354"/>
                  </a:lnTo>
                  <a:lnTo>
                    <a:pt x="707" y="382"/>
                  </a:lnTo>
                  <a:lnTo>
                    <a:pt x="684" y="408"/>
                  </a:lnTo>
                  <a:lnTo>
                    <a:pt x="659" y="434"/>
                  </a:lnTo>
                  <a:lnTo>
                    <a:pt x="632" y="459"/>
                  </a:lnTo>
                  <a:lnTo>
                    <a:pt x="603" y="482"/>
                  </a:lnTo>
                  <a:lnTo>
                    <a:pt x="574" y="505"/>
                  </a:lnTo>
                  <a:lnTo>
                    <a:pt x="543" y="527"/>
                  </a:lnTo>
                  <a:lnTo>
                    <a:pt x="477" y="567"/>
                  </a:lnTo>
                  <a:lnTo>
                    <a:pt x="442" y="584"/>
                  </a:lnTo>
                  <a:lnTo>
                    <a:pt x="407" y="600"/>
                  </a:lnTo>
                  <a:lnTo>
                    <a:pt x="370" y="615"/>
                  </a:lnTo>
                  <a:lnTo>
                    <a:pt x="332" y="629"/>
                  </a:lnTo>
                  <a:lnTo>
                    <a:pt x="293" y="642"/>
                  </a:lnTo>
                  <a:lnTo>
                    <a:pt x="254" y="652"/>
                  </a:lnTo>
                  <a:lnTo>
                    <a:pt x="213" y="662"/>
                  </a:lnTo>
                  <a:lnTo>
                    <a:pt x="172" y="669"/>
                  </a:lnTo>
                  <a:lnTo>
                    <a:pt x="130" y="675"/>
                  </a:lnTo>
                  <a:lnTo>
                    <a:pt x="87" y="679"/>
                  </a:lnTo>
                  <a:lnTo>
                    <a:pt x="43" y="681"/>
                  </a:lnTo>
                  <a:lnTo>
                    <a:pt x="0" y="683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417920" y="4924440"/>
            <a:ext cx="2793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40720" y="5027760"/>
            <a:ext cx="8910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LC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583160" y="4587480"/>
            <a:ext cx="1440" cy="376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8680" y="4564080"/>
            <a:ext cx="9882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6000" y="4836960"/>
            <a:ext cx="908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37880" y="4564080"/>
            <a:ext cx="1116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11800" y="5070600"/>
            <a:ext cx="1536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 1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35280" y="3670200"/>
            <a:ext cx="766800" cy="893880"/>
          </a:xfrm>
          <a:custGeom>
            <a:avLst/>
            <a:gdLst/>
            <a:ahLst/>
            <a:rect l="l" t="t" r="r" b="b"/>
            <a:pathLst>
              <a:path w="316" h="1126">
                <a:moveTo>
                  <a:pt x="316" y="0"/>
                </a:moveTo>
                <a:lnTo>
                  <a:pt x="0" y="0"/>
                </a:lnTo>
                <a:lnTo>
                  <a:pt x="0" y="1126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23000" y="3670200"/>
            <a:ext cx="250920" cy="889200"/>
          </a:xfrm>
          <a:custGeom>
            <a:avLst/>
            <a:gdLst/>
            <a:ahLst/>
            <a:rect l="l" t="t" r="r" b="b"/>
            <a:pathLst>
              <a:path w="317" h="1119">
                <a:moveTo>
                  <a:pt x="0" y="0"/>
                </a:moveTo>
                <a:lnTo>
                  <a:pt x="317" y="0"/>
                </a:lnTo>
                <a:lnTo>
                  <a:pt x="317" y="111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0560" y="1684440"/>
            <a:ext cx="2880" cy="33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75240" y="2422440"/>
            <a:ext cx="3240" cy="277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31560" y="3535200"/>
            <a:ext cx="1731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–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– 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16280" y="5086440"/>
            <a:ext cx="1658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 10n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51160" y="1579680"/>
            <a:ext cx="743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80080" y="3505320"/>
            <a:ext cx="199800" cy="322200"/>
          </a:xfrm>
          <a:prstGeom prst="ellipse">
            <a:avLst/>
          </a:prstGeom>
          <a:noFill/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5320" y="595296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fonctionnement de l’appareil contractile du muscle 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2880" y="824040"/>
            <a:ext cx="65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muscle lisse gastro-intestinal : effecteur de la mot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360" y="1236600"/>
            <a:ext cx="76327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s énergétique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tituant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 : hétéro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rce de composés organiques ext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’aliments ; production et absorption de nut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xydation de nutr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duction d’énergie /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consomm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6120" y="831960"/>
            <a:ext cx="63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électrophysiologie du muscle liss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7520" y="17762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6120" y="831960"/>
            <a:ext cx="63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électrophysiologie du muscle liss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7520" y="17762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5560" y="2990880"/>
            <a:ext cx="760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36840" y="1663560"/>
            <a:ext cx="3276360" cy="10670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6120" y="831960"/>
            <a:ext cx="63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électrophysiologie du muscle liss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7520" y="17762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5560" y="2990880"/>
            <a:ext cx="760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euil de PA : bouffées de PA (10-20 msec - 1-10 /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69160" y="113508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03720" y="117324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746840" y="1739880"/>
            <a:ext cx="317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76120" y="831960"/>
            <a:ext cx="63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électrophysiologie du muscle liss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16200" y="2744640"/>
            <a:ext cx="5943600" cy="986040"/>
          </a:xfrm>
          <a:custGeom>
            <a:avLst/>
            <a:gdLst/>
            <a:ahLst/>
            <a:rect l="l" t="t" r="r" b="b"/>
            <a:pathLst>
              <a:path w="3744" h="621">
                <a:moveTo>
                  <a:pt x="0" y="599"/>
                </a:moveTo>
                <a:cubicBezTo>
                  <a:pt x="49" y="599"/>
                  <a:pt x="98" y="600"/>
                  <a:pt x="140" y="599"/>
                </a:cubicBezTo>
                <a:cubicBezTo>
                  <a:pt x="182" y="598"/>
                  <a:pt x="213" y="608"/>
                  <a:pt x="252" y="595"/>
                </a:cubicBezTo>
                <a:cubicBezTo>
                  <a:pt x="291" y="582"/>
                  <a:pt x="339" y="534"/>
                  <a:pt x="372" y="519"/>
                </a:cubicBezTo>
                <a:cubicBezTo>
                  <a:pt x="405" y="504"/>
                  <a:pt x="416" y="496"/>
                  <a:pt x="448" y="503"/>
                </a:cubicBezTo>
                <a:cubicBezTo>
                  <a:pt x="480" y="510"/>
                  <a:pt x="532" y="543"/>
                  <a:pt x="564" y="559"/>
                </a:cubicBezTo>
                <a:cubicBezTo>
                  <a:pt x="596" y="575"/>
                  <a:pt x="579" y="592"/>
                  <a:pt x="640" y="599"/>
                </a:cubicBezTo>
                <a:cubicBezTo>
                  <a:pt x="701" y="606"/>
                  <a:pt x="836" y="602"/>
                  <a:pt x="928" y="603"/>
                </a:cubicBezTo>
                <a:cubicBezTo>
                  <a:pt x="1020" y="604"/>
                  <a:pt x="1089" y="604"/>
                  <a:pt x="1192" y="603"/>
                </a:cubicBezTo>
                <a:cubicBezTo>
                  <a:pt x="1295" y="602"/>
                  <a:pt x="1459" y="621"/>
                  <a:pt x="1548" y="599"/>
                </a:cubicBezTo>
                <a:cubicBezTo>
                  <a:pt x="1637" y="577"/>
                  <a:pt x="1669" y="534"/>
                  <a:pt x="1724" y="471"/>
                </a:cubicBezTo>
                <a:cubicBezTo>
                  <a:pt x="1779" y="408"/>
                  <a:pt x="1831" y="274"/>
                  <a:pt x="1880" y="223"/>
                </a:cubicBezTo>
                <a:cubicBezTo>
                  <a:pt x="1929" y="172"/>
                  <a:pt x="1974" y="161"/>
                  <a:pt x="2016" y="163"/>
                </a:cubicBezTo>
                <a:cubicBezTo>
                  <a:pt x="2058" y="165"/>
                  <a:pt x="2092" y="196"/>
                  <a:pt x="2132" y="235"/>
                </a:cubicBezTo>
                <a:cubicBezTo>
                  <a:pt x="2172" y="274"/>
                  <a:pt x="2219" y="347"/>
                  <a:pt x="2256" y="395"/>
                </a:cubicBezTo>
                <a:cubicBezTo>
                  <a:pt x="2293" y="443"/>
                  <a:pt x="2319" y="492"/>
                  <a:pt x="2352" y="523"/>
                </a:cubicBezTo>
                <a:cubicBezTo>
                  <a:pt x="2385" y="554"/>
                  <a:pt x="2409" y="570"/>
                  <a:pt x="2452" y="583"/>
                </a:cubicBezTo>
                <a:cubicBezTo>
                  <a:pt x="2495" y="596"/>
                  <a:pt x="2545" y="601"/>
                  <a:pt x="2612" y="603"/>
                </a:cubicBezTo>
                <a:cubicBezTo>
                  <a:pt x="2679" y="605"/>
                  <a:pt x="2797" y="612"/>
                  <a:pt x="2856" y="595"/>
                </a:cubicBezTo>
                <a:cubicBezTo>
                  <a:pt x="2915" y="578"/>
                  <a:pt x="2933" y="546"/>
                  <a:pt x="2964" y="499"/>
                </a:cubicBezTo>
                <a:cubicBezTo>
                  <a:pt x="2995" y="452"/>
                  <a:pt x="3020" y="376"/>
                  <a:pt x="3040" y="315"/>
                </a:cubicBezTo>
                <a:cubicBezTo>
                  <a:pt x="3060" y="254"/>
                  <a:pt x="3059" y="184"/>
                  <a:pt x="3084" y="135"/>
                </a:cubicBezTo>
                <a:cubicBezTo>
                  <a:pt x="3109" y="86"/>
                  <a:pt x="3151" y="38"/>
                  <a:pt x="3188" y="19"/>
                </a:cubicBezTo>
                <a:cubicBezTo>
                  <a:pt x="3225" y="0"/>
                  <a:pt x="3275" y="14"/>
                  <a:pt x="3304" y="23"/>
                </a:cubicBezTo>
                <a:cubicBezTo>
                  <a:pt x="3333" y="32"/>
                  <a:pt x="3339" y="42"/>
                  <a:pt x="3360" y="71"/>
                </a:cubicBezTo>
                <a:cubicBezTo>
                  <a:pt x="3381" y="100"/>
                  <a:pt x="3409" y="140"/>
                  <a:pt x="3428" y="195"/>
                </a:cubicBezTo>
                <a:cubicBezTo>
                  <a:pt x="3447" y="250"/>
                  <a:pt x="3456" y="342"/>
                  <a:pt x="3476" y="399"/>
                </a:cubicBezTo>
                <a:cubicBezTo>
                  <a:pt x="3496" y="456"/>
                  <a:pt x="3516" y="508"/>
                  <a:pt x="3548" y="539"/>
                </a:cubicBezTo>
                <a:cubicBezTo>
                  <a:pt x="3580" y="570"/>
                  <a:pt x="3635" y="576"/>
                  <a:pt x="3668" y="583"/>
                </a:cubicBezTo>
                <a:cubicBezTo>
                  <a:pt x="3701" y="590"/>
                  <a:pt x="3722" y="586"/>
                  <a:pt x="3744" y="583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16200" y="2003400"/>
            <a:ext cx="583884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819440" y="2882520"/>
            <a:ext cx="0" cy="1057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19440" y="3940200"/>
            <a:ext cx="59245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7520" y="17762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7520" y="31226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29080" y="4646520"/>
            <a:ext cx="69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euil de contraction (&lt; seuil PA) : sommation temporelle du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dulation : SN intrinsèque et extrinsèque ; hormones ; para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7746840" y="1994040"/>
            <a:ext cx="368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466560" y="1419120"/>
            <a:ext cx="8007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olontaire ou réf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s le contrôle du centre bulb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 des muscles du pharynx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 de contraction rapide (1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déglutition et motilité oesophag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lévation du voile du pa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ermeture du naso-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ermeture du l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du bol alimentaire dans l’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5840" y="831960"/>
            <a:ext cx="14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glutitio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2079720" y="1641600"/>
            <a:ext cx="59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esophage :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uscle strié (partie crâni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uscle lisse (partie caud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5080" y="3098880"/>
            <a:ext cx="1568160" cy="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49520" y="310212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as d’activité péristaltique spont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glutition </a:t>
            </a: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activité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625760" y="163800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370160" y="2208240"/>
            <a:ext cx="86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.str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625760" y="3149280"/>
            <a:ext cx="0" cy="2019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0520" y="371952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.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407160" y="621648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19680" y="13366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513520" y="5713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1197360" y="3465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407160" y="621648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19680" y="133668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13520" y="5713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1197360" y="3465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407160" y="621648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49400" y="2496960"/>
            <a:ext cx="2571840" cy="615960"/>
          </a:xfrm>
          <a:custGeom>
            <a:avLst/>
            <a:gdLst/>
            <a:ahLst/>
            <a:rect l="l" t="t" r="r" b="b"/>
            <a:pathLst>
              <a:path w="1724" h="388">
                <a:moveTo>
                  <a:pt x="0" y="379"/>
                </a:moveTo>
                <a:cubicBezTo>
                  <a:pt x="266" y="378"/>
                  <a:pt x="533" y="378"/>
                  <a:pt x="652" y="379"/>
                </a:cubicBezTo>
                <a:cubicBezTo>
                  <a:pt x="771" y="380"/>
                  <a:pt x="690" y="388"/>
                  <a:pt x="716" y="383"/>
                </a:cubicBezTo>
                <a:cubicBezTo>
                  <a:pt x="742" y="378"/>
                  <a:pt x="783" y="374"/>
                  <a:pt x="808" y="347"/>
                </a:cubicBezTo>
                <a:cubicBezTo>
                  <a:pt x="833" y="320"/>
                  <a:pt x="845" y="271"/>
                  <a:pt x="864" y="219"/>
                </a:cubicBezTo>
                <a:cubicBezTo>
                  <a:pt x="883" y="167"/>
                  <a:pt x="906" y="70"/>
                  <a:pt x="920" y="35"/>
                </a:cubicBezTo>
                <a:cubicBezTo>
                  <a:pt x="934" y="0"/>
                  <a:pt x="939" y="2"/>
                  <a:pt x="948" y="11"/>
                </a:cubicBezTo>
                <a:cubicBezTo>
                  <a:pt x="957" y="20"/>
                  <a:pt x="967" y="51"/>
                  <a:pt x="976" y="87"/>
                </a:cubicBezTo>
                <a:cubicBezTo>
                  <a:pt x="985" y="123"/>
                  <a:pt x="989" y="184"/>
                  <a:pt x="1004" y="227"/>
                </a:cubicBezTo>
                <a:cubicBezTo>
                  <a:pt x="1019" y="270"/>
                  <a:pt x="1051" y="325"/>
                  <a:pt x="1068" y="347"/>
                </a:cubicBezTo>
                <a:cubicBezTo>
                  <a:pt x="1085" y="369"/>
                  <a:pt x="1050" y="356"/>
                  <a:pt x="1108" y="359"/>
                </a:cubicBezTo>
                <a:cubicBezTo>
                  <a:pt x="1166" y="362"/>
                  <a:pt x="1338" y="363"/>
                  <a:pt x="1416" y="363"/>
                </a:cubicBezTo>
                <a:cubicBezTo>
                  <a:pt x="1494" y="363"/>
                  <a:pt x="1525" y="360"/>
                  <a:pt x="1576" y="359"/>
                </a:cubicBezTo>
                <a:cubicBezTo>
                  <a:pt x="1627" y="358"/>
                  <a:pt x="1693" y="356"/>
                  <a:pt x="1724" y="355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54080" y="3216240"/>
            <a:ext cx="2675160" cy="665280"/>
          </a:xfrm>
          <a:custGeom>
            <a:avLst/>
            <a:gdLst/>
            <a:ahLst/>
            <a:rect l="l" t="t" r="r" b="b"/>
            <a:pathLst>
              <a:path w="1792" h="419">
                <a:moveTo>
                  <a:pt x="0" y="406"/>
                </a:moveTo>
                <a:cubicBezTo>
                  <a:pt x="137" y="407"/>
                  <a:pt x="679" y="409"/>
                  <a:pt x="828" y="410"/>
                </a:cubicBezTo>
                <a:cubicBezTo>
                  <a:pt x="977" y="411"/>
                  <a:pt x="866" y="419"/>
                  <a:pt x="892" y="414"/>
                </a:cubicBezTo>
                <a:cubicBezTo>
                  <a:pt x="918" y="409"/>
                  <a:pt x="959" y="405"/>
                  <a:pt x="984" y="378"/>
                </a:cubicBezTo>
                <a:cubicBezTo>
                  <a:pt x="1009" y="351"/>
                  <a:pt x="1021" y="302"/>
                  <a:pt x="1040" y="250"/>
                </a:cubicBezTo>
                <a:cubicBezTo>
                  <a:pt x="1059" y="198"/>
                  <a:pt x="1080" y="107"/>
                  <a:pt x="1096" y="66"/>
                </a:cubicBezTo>
                <a:cubicBezTo>
                  <a:pt x="1112" y="25"/>
                  <a:pt x="1124" y="0"/>
                  <a:pt x="1136" y="6"/>
                </a:cubicBezTo>
                <a:cubicBezTo>
                  <a:pt x="1148" y="12"/>
                  <a:pt x="1156" y="61"/>
                  <a:pt x="1168" y="102"/>
                </a:cubicBezTo>
                <a:cubicBezTo>
                  <a:pt x="1180" y="143"/>
                  <a:pt x="1193" y="211"/>
                  <a:pt x="1208" y="254"/>
                </a:cubicBezTo>
                <a:cubicBezTo>
                  <a:pt x="1223" y="297"/>
                  <a:pt x="1236" y="340"/>
                  <a:pt x="1256" y="362"/>
                </a:cubicBezTo>
                <a:cubicBezTo>
                  <a:pt x="1276" y="384"/>
                  <a:pt x="1272" y="381"/>
                  <a:pt x="1328" y="386"/>
                </a:cubicBezTo>
                <a:cubicBezTo>
                  <a:pt x="1384" y="391"/>
                  <a:pt x="1517" y="394"/>
                  <a:pt x="1592" y="394"/>
                </a:cubicBezTo>
                <a:cubicBezTo>
                  <a:pt x="1667" y="394"/>
                  <a:pt x="1760" y="387"/>
                  <a:pt x="1776" y="386"/>
                </a:cubicBezTo>
                <a:cubicBezTo>
                  <a:pt x="1792" y="385"/>
                  <a:pt x="1706" y="386"/>
                  <a:pt x="1688" y="386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60560" y="3927600"/>
            <a:ext cx="2714760" cy="639720"/>
          </a:xfrm>
          <a:custGeom>
            <a:avLst/>
            <a:gdLst/>
            <a:ahLst/>
            <a:rect l="l" t="t" r="r" b="b"/>
            <a:pathLst>
              <a:path w="1819" h="403">
                <a:moveTo>
                  <a:pt x="0" y="394"/>
                </a:moveTo>
                <a:cubicBezTo>
                  <a:pt x="169" y="394"/>
                  <a:pt x="828" y="393"/>
                  <a:pt x="1016" y="394"/>
                </a:cubicBezTo>
                <a:cubicBezTo>
                  <a:pt x="1204" y="395"/>
                  <a:pt x="1093" y="403"/>
                  <a:pt x="1128" y="398"/>
                </a:cubicBezTo>
                <a:cubicBezTo>
                  <a:pt x="1163" y="393"/>
                  <a:pt x="1202" y="393"/>
                  <a:pt x="1228" y="366"/>
                </a:cubicBezTo>
                <a:cubicBezTo>
                  <a:pt x="1254" y="339"/>
                  <a:pt x="1267" y="292"/>
                  <a:pt x="1284" y="238"/>
                </a:cubicBezTo>
                <a:cubicBezTo>
                  <a:pt x="1301" y="184"/>
                  <a:pt x="1315" y="80"/>
                  <a:pt x="1328" y="42"/>
                </a:cubicBezTo>
                <a:cubicBezTo>
                  <a:pt x="1341" y="4"/>
                  <a:pt x="1350" y="0"/>
                  <a:pt x="1360" y="10"/>
                </a:cubicBezTo>
                <a:cubicBezTo>
                  <a:pt x="1370" y="20"/>
                  <a:pt x="1379" y="63"/>
                  <a:pt x="1388" y="102"/>
                </a:cubicBezTo>
                <a:cubicBezTo>
                  <a:pt x="1397" y="141"/>
                  <a:pt x="1403" y="201"/>
                  <a:pt x="1416" y="242"/>
                </a:cubicBezTo>
                <a:cubicBezTo>
                  <a:pt x="1429" y="283"/>
                  <a:pt x="1447" y="328"/>
                  <a:pt x="1464" y="350"/>
                </a:cubicBezTo>
                <a:cubicBezTo>
                  <a:pt x="1481" y="372"/>
                  <a:pt x="1484" y="370"/>
                  <a:pt x="1520" y="374"/>
                </a:cubicBezTo>
                <a:cubicBezTo>
                  <a:pt x="1556" y="378"/>
                  <a:pt x="1633" y="375"/>
                  <a:pt x="1680" y="374"/>
                </a:cubicBezTo>
                <a:cubicBezTo>
                  <a:pt x="1727" y="373"/>
                  <a:pt x="1789" y="371"/>
                  <a:pt x="1804" y="370"/>
                </a:cubicBezTo>
                <a:cubicBezTo>
                  <a:pt x="1819" y="369"/>
                  <a:pt x="1775" y="370"/>
                  <a:pt x="1768" y="3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19680" y="1336680"/>
            <a:ext cx="424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uis contraction ren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 péristaltique le long du corps de l’oesophage (2,5 à 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513520" y="5713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1197360" y="3465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07160" y="621648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49400" y="2496960"/>
            <a:ext cx="2571840" cy="615960"/>
          </a:xfrm>
          <a:custGeom>
            <a:avLst/>
            <a:gdLst/>
            <a:ahLst/>
            <a:rect l="l" t="t" r="r" b="b"/>
            <a:pathLst>
              <a:path w="1724" h="388">
                <a:moveTo>
                  <a:pt x="0" y="379"/>
                </a:moveTo>
                <a:cubicBezTo>
                  <a:pt x="266" y="378"/>
                  <a:pt x="533" y="378"/>
                  <a:pt x="652" y="379"/>
                </a:cubicBezTo>
                <a:cubicBezTo>
                  <a:pt x="771" y="380"/>
                  <a:pt x="690" y="388"/>
                  <a:pt x="716" y="383"/>
                </a:cubicBezTo>
                <a:cubicBezTo>
                  <a:pt x="742" y="378"/>
                  <a:pt x="783" y="374"/>
                  <a:pt x="808" y="347"/>
                </a:cubicBezTo>
                <a:cubicBezTo>
                  <a:pt x="833" y="320"/>
                  <a:pt x="845" y="271"/>
                  <a:pt x="864" y="219"/>
                </a:cubicBezTo>
                <a:cubicBezTo>
                  <a:pt x="883" y="167"/>
                  <a:pt x="906" y="70"/>
                  <a:pt x="920" y="35"/>
                </a:cubicBezTo>
                <a:cubicBezTo>
                  <a:pt x="934" y="0"/>
                  <a:pt x="939" y="2"/>
                  <a:pt x="948" y="11"/>
                </a:cubicBezTo>
                <a:cubicBezTo>
                  <a:pt x="957" y="20"/>
                  <a:pt x="967" y="51"/>
                  <a:pt x="976" y="87"/>
                </a:cubicBezTo>
                <a:cubicBezTo>
                  <a:pt x="985" y="123"/>
                  <a:pt x="989" y="184"/>
                  <a:pt x="1004" y="227"/>
                </a:cubicBezTo>
                <a:cubicBezTo>
                  <a:pt x="1019" y="270"/>
                  <a:pt x="1051" y="325"/>
                  <a:pt x="1068" y="347"/>
                </a:cubicBezTo>
                <a:cubicBezTo>
                  <a:pt x="1085" y="369"/>
                  <a:pt x="1050" y="356"/>
                  <a:pt x="1108" y="359"/>
                </a:cubicBezTo>
                <a:cubicBezTo>
                  <a:pt x="1166" y="362"/>
                  <a:pt x="1338" y="363"/>
                  <a:pt x="1416" y="363"/>
                </a:cubicBezTo>
                <a:cubicBezTo>
                  <a:pt x="1494" y="363"/>
                  <a:pt x="1525" y="360"/>
                  <a:pt x="1576" y="359"/>
                </a:cubicBezTo>
                <a:cubicBezTo>
                  <a:pt x="1627" y="358"/>
                  <a:pt x="1693" y="356"/>
                  <a:pt x="1724" y="355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954080" y="3216240"/>
            <a:ext cx="2675160" cy="665280"/>
          </a:xfrm>
          <a:custGeom>
            <a:avLst/>
            <a:gdLst/>
            <a:ahLst/>
            <a:rect l="l" t="t" r="r" b="b"/>
            <a:pathLst>
              <a:path w="1792" h="419">
                <a:moveTo>
                  <a:pt x="0" y="406"/>
                </a:moveTo>
                <a:cubicBezTo>
                  <a:pt x="137" y="407"/>
                  <a:pt x="679" y="409"/>
                  <a:pt x="828" y="410"/>
                </a:cubicBezTo>
                <a:cubicBezTo>
                  <a:pt x="977" y="411"/>
                  <a:pt x="866" y="419"/>
                  <a:pt x="892" y="414"/>
                </a:cubicBezTo>
                <a:cubicBezTo>
                  <a:pt x="918" y="409"/>
                  <a:pt x="959" y="405"/>
                  <a:pt x="984" y="378"/>
                </a:cubicBezTo>
                <a:cubicBezTo>
                  <a:pt x="1009" y="351"/>
                  <a:pt x="1021" y="302"/>
                  <a:pt x="1040" y="250"/>
                </a:cubicBezTo>
                <a:cubicBezTo>
                  <a:pt x="1059" y="198"/>
                  <a:pt x="1080" y="107"/>
                  <a:pt x="1096" y="66"/>
                </a:cubicBezTo>
                <a:cubicBezTo>
                  <a:pt x="1112" y="25"/>
                  <a:pt x="1124" y="0"/>
                  <a:pt x="1136" y="6"/>
                </a:cubicBezTo>
                <a:cubicBezTo>
                  <a:pt x="1148" y="12"/>
                  <a:pt x="1156" y="61"/>
                  <a:pt x="1168" y="102"/>
                </a:cubicBezTo>
                <a:cubicBezTo>
                  <a:pt x="1180" y="143"/>
                  <a:pt x="1193" y="211"/>
                  <a:pt x="1208" y="254"/>
                </a:cubicBezTo>
                <a:cubicBezTo>
                  <a:pt x="1223" y="297"/>
                  <a:pt x="1236" y="340"/>
                  <a:pt x="1256" y="362"/>
                </a:cubicBezTo>
                <a:cubicBezTo>
                  <a:pt x="1276" y="384"/>
                  <a:pt x="1272" y="381"/>
                  <a:pt x="1328" y="386"/>
                </a:cubicBezTo>
                <a:cubicBezTo>
                  <a:pt x="1384" y="391"/>
                  <a:pt x="1517" y="394"/>
                  <a:pt x="1592" y="394"/>
                </a:cubicBezTo>
                <a:cubicBezTo>
                  <a:pt x="1667" y="394"/>
                  <a:pt x="1760" y="387"/>
                  <a:pt x="1776" y="386"/>
                </a:cubicBezTo>
                <a:cubicBezTo>
                  <a:pt x="1792" y="385"/>
                  <a:pt x="1706" y="386"/>
                  <a:pt x="1688" y="386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960560" y="3927600"/>
            <a:ext cx="2714760" cy="639720"/>
          </a:xfrm>
          <a:custGeom>
            <a:avLst/>
            <a:gdLst/>
            <a:ahLst/>
            <a:rect l="l" t="t" r="r" b="b"/>
            <a:pathLst>
              <a:path w="1819" h="403">
                <a:moveTo>
                  <a:pt x="0" y="394"/>
                </a:moveTo>
                <a:cubicBezTo>
                  <a:pt x="169" y="394"/>
                  <a:pt x="828" y="393"/>
                  <a:pt x="1016" y="394"/>
                </a:cubicBezTo>
                <a:cubicBezTo>
                  <a:pt x="1204" y="395"/>
                  <a:pt x="1093" y="403"/>
                  <a:pt x="1128" y="398"/>
                </a:cubicBezTo>
                <a:cubicBezTo>
                  <a:pt x="1163" y="393"/>
                  <a:pt x="1202" y="393"/>
                  <a:pt x="1228" y="366"/>
                </a:cubicBezTo>
                <a:cubicBezTo>
                  <a:pt x="1254" y="339"/>
                  <a:pt x="1267" y="292"/>
                  <a:pt x="1284" y="238"/>
                </a:cubicBezTo>
                <a:cubicBezTo>
                  <a:pt x="1301" y="184"/>
                  <a:pt x="1315" y="80"/>
                  <a:pt x="1328" y="42"/>
                </a:cubicBezTo>
                <a:cubicBezTo>
                  <a:pt x="1341" y="4"/>
                  <a:pt x="1350" y="0"/>
                  <a:pt x="1360" y="10"/>
                </a:cubicBezTo>
                <a:cubicBezTo>
                  <a:pt x="1370" y="20"/>
                  <a:pt x="1379" y="63"/>
                  <a:pt x="1388" y="102"/>
                </a:cubicBezTo>
                <a:cubicBezTo>
                  <a:pt x="1397" y="141"/>
                  <a:pt x="1403" y="201"/>
                  <a:pt x="1416" y="242"/>
                </a:cubicBezTo>
                <a:cubicBezTo>
                  <a:pt x="1429" y="283"/>
                  <a:pt x="1447" y="328"/>
                  <a:pt x="1464" y="350"/>
                </a:cubicBezTo>
                <a:cubicBezTo>
                  <a:pt x="1481" y="372"/>
                  <a:pt x="1484" y="370"/>
                  <a:pt x="1520" y="374"/>
                </a:cubicBezTo>
                <a:cubicBezTo>
                  <a:pt x="1556" y="378"/>
                  <a:pt x="1633" y="375"/>
                  <a:pt x="1680" y="374"/>
                </a:cubicBezTo>
                <a:cubicBezTo>
                  <a:pt x="1727" y="373"/>
                  <a:pt x="1789" y="371"/>
                  <a:pt x="1804" y="370"/>
                </a:cubicBezTo>
                <a:cubicBezTo>
                  <a:pt x="1819" y="369"/>
                  <a:pt x="1775" y="370"/>
                  <a:pt x="1768" y="3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67040" y="4867200"/>
            <a:ext cx="2757240" cy="641520"/>
          </a:xfrm>
          <a:custGeom>
            <a:avLst/>
            <a:gdLst/>
            <a:ahLst/>
            <a:rect l="l" t="t" r="r" b="b"/>
            <a:pathLst>
              <a:path w="1848" h="404">
                <a:moveTo>
                  <a:pt x="0" y="158"/>
                </a:moveTo>
                <a:cubicBezTo>
                  <a:pt x="181" y="153"/>
                  <a:pt x="363" y="149"/>
                  <a:pt x="476" y="150"/>
                </a:cubicBezTo>
                <a:cubicBezTo>
                  <a:pt x="589" y="151"/>
                  <a:pt x="625" y="144"/>
                  <a:pt x="676" y="162"/>
                </a:cubicBezTo>
                <a:cubicBezTo>
                  <a:pt x="727" y="180"/>
                  <a:pt x="749" y="221"/>
                  <a:pt x="780" y="258"/>
                </a:cubicBezTo>
                <a:cubicBezTo>
                  <a:pt x="811" y="295"/>
                  <a:pt x="826" y="360"/>
                  <a:pt x="860" y="382"/>
                </a:cubicBezTo>
                <a:cubicBezTo>
                  <a:pt x="894" y="404"/>
                  <a:pt x="918" y="390"/>
                  <a:pt x="984" y="390"/>
                </a:cubicBezTo>
                <a:cubicBezTo>
                  <a:pt x="1050" y="390"/>
                  <a:pt x="1195" y="395"/>
                  <a:pt x="1256" y="382"/>
                </a:cubicBezTo>
                <a:cubicBezTo>
                  <a:pt x="1317" y="369"/>
                  <a:pt x="1321" y="343"/>
                  <a:pt x="1348" y="314"/>
                </a:cubicBezTo>
                <a:cubicBezTo>
                  <a:pt x="1375" y="285"/>
                  <a:pt x="1392" y="254"/>
                  <a:pt x="1416" y="210"/>
                </a:cubicBezTo>
                <a:cubicBezTo>
                  <a:pt x="1440" y="166"/>
                  <a:pt x="1466" y="85"/>
                  <a:pt x="1492" y="50"/>
                </a:cubicBezTo>
                <a:cubicBezTo>
                  <a:pt x="1518" y="15"/>
                  <a:pt x="1548" y="0"/>
                  <a:pt x="1572" y="2"/>
                </a:cubicBezTo>
                <a:cubicBezTo>
                  <a:pt x="1596" y="4"/>
                  <a:pt x="1617" y="42"/>
                  <a:pt x="1636" y="62"/>
                </a:cubicBezTo>
                <a:cubicBezTo>
                  <a:pt x="1655" y="82"/>
                  <a:pt x="1666" y="112"/>
                  <a:pt x="1684" y="122"/>
                </a:cubicBezTo>
                <a:cubicBezTo>
                  <a:pt x="1702" y="132"/>
                  <a:pt x="1717" y="122"/>
                  <a:pt x="1744" y="122"/>
                </a:cubicBezTo>
                <a:cubicBezTo>
                  <a:pt x="1771" y="122"/>
                  <a:pt x="1809" y="122"/>
                  <a:pt x="1848" y="122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19680" y="1336680"/>
            <a:ext cx="424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uis contraction ren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 péristaltique le long du corps de l’oesophage (2,5 à 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axation du sphincter inférieur de l’oesophage (SIO) (2 à 3 sec après le début de la déglu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13520" y="5713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6200000">
            <a:off x="1197360" y="3465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360" y="1236600"/>
            <a:ext cx="76327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s énergétique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tituant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 : hétéro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rce de composés organiques ext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’aliments ; production et absorption de nut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xydation de nutr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duction d’énergie /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consomm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tilisation des nutriments comme constituants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ommation d’é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08960" y="1351080"/>
            <a:ext cx="72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activité mécanique et électrique du sphincter inférieur de l’oesophage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33480" y="2894040"/>
            <a:ext cx="3562200" cy="641160"/>
          </a:xfrm>
          <a:custGeom>
            <a:avLst/>
            <a:gdLst/>
            <a:ahLst/>
            <a:rect l="l" t="t" r="r" b="b"/>
            <a:pathLst>
              <a:path w="2244" h="404">
                <a:moveTo>
                  <a:pt x="0" y="127"/>
                </a:moveTo>
                <a:cubicBezTo>
                  <a:pt x="79" y="124"/>
                  <a:pt x="158" y="121"/>
                  <a:pt x="264" y="151"/>
                </a:cubicBezTo>
                <a:cubicBezTo>
                  <a:pt x="370" y="181"/>
                  <a:pt x="538" y="267"/>
                  <a:pt x="636" y="307"/>
                </a:cubicBezTo>
                <a:cubicBezTo>
                  <a:pt x="734" y="347"/>
                  <a:pt x="771" y="378"/>
                  <a:pt x="852" y="391"/>
                </a:cubicBezTo>
                <a:cubicBezTo>
                  <a:pt x="933" y="404"/>
                  <a:pt x="1057" y="392"/>
                  <a:pt x="1122" y="385"/>
                </a:cubicBezTo>
                <a:cubicBezTo>
                  <a:pt x="1187" y="378"/>
                  <a:pt x="1197" y="375"/>
                  <a:pt x="1242" y="349"/>
                </a:cubicBezTo>
                <a:cubicBezTo>
                  <a:pt x="1287" y="323"/>
                  <a:pt x="1335" y="279"/>
                  <a:pt x="1392" y="229"/>
                </a:cubicBezTo>
                <a:cubicBezTo>
                  <a:pt x="1449" y="179"/>
                  <a:pt x="1536" y="87"/>
                  <a:pt x="1584" y="49"/>
                </a:cubicBezTo>
                <a:cubicBezTo>
                  <a:pt x="1632" y="11"/>
                  <a:pt x="1648" y="0"/>
                  <a:pt x="1680" y="1"/>
                </a:cubicBezTo>
                <a:cubicBezTo>
                  <a:pt x="1712" y="2"/>
                  <a:pt x="1729" y="36"/>
                  <a:pt x="1776" y="55"/>
                </a:cubicBezTo>
                <a:cubicBezTo>
                  <a:pt x="1823" y="74"/>
                  <a:pt x="1904" y="103"/>
                  <a:pt x="1965" y="115"/>
                </a:cubicBezTo>
                <a:cubicBezTo>
                  <a:pt x="2026" y="127"/>
                  <a:pt x="2096" y="125"/>
                  <a:pt x="2142" y="127"/>
                </a:cubicBezTo>
                <a:cubicBezTo>
                  <a:pt x="2188" y="129"/>
                  <a:pt x="2223" y="127"/>
                  <a:pt x="2244" y="127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23760" y="3095640"/>
            <a:ext cx="357192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19320" y="40291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06560" y="40258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320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318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46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320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177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749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415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08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747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70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274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224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703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46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035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6798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846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70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70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371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848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334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434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02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02040" y="50734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797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51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40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860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068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2925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4960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7652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656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32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16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5526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30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397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920880" y="43434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901800" y="53802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84480" y="1886040"/>
            <a:ext cx="29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vagale excitatrice (FV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vagale inhibitrice (F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914400" y="2666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920880" y="3768840"/>
            <a:ext cx="0" cy="961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920880" y="4844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138600" y="3052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-278280" y="47415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tivité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23040" y="40482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74800" y="4997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08960" y="1351080"/>
            <a:ext cx="72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activité mécanique et électrique du sphincter inférieur de l’oesophage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33480" y="2894040"/>
            <a:ext cx="3562200" cy="641160"/>
          </a:xfrm>
          <a:custGeom>
            <a:avLst/>
            <a:gdLst/>
            <a:ahLst/>
            <a:rect l="l" t="t" r="r" b="b"/>
            <a:pathLst>
              <a:path w="2244" h="404">
                <a:moveTo>
                  <a:pt x="0" y="127"/>
                </a:moveTo>
                <a:cubicBezTo>
                  <a:pt x="79" y="124"/>
                  <a:pt x="158" y="121"/>
                  <a:pt x="264" y="151"/>
                </a:cubicBezTo>
                <a:cubicBezTo>
                  <a:pt x="370" y="181"/>
                  <a:pt x="538" y="267"/>
                  <a:pt x="636" y="307"/>
                </a:cubicBezTo>
                <a:cubicBezTo>
                  <a:pt x="734" y="347"/>
                  <a:pt x="771" y="378"/>
                  <a:pt x="852" y="391"/>
                </a:cubicBezTo>
                <a:cubicBezTo>
                  <a:pt x="933" y="404"/>
                  <a:pt x="1057" y="392"/>
                  <a:pt x="1122" y="385"/>
                </a:cubicBezTo>
                <a:cubicBezTo>
                  <a:pt x="1187" y="378"/>
                  <a:pt x="1197" y="375"/>
                  <a:pt x="1242" y="349"/>
                </a:cubicBezTo>
                <a:cubicBezTo>
                  <a:pt x="1287" y="323"/>
                  <a:pt x="1335" y="279"/>
                  <a:pt x="1392" y="229"/>
                </a:cubicBezTo>
                <a:cubicBezTo>
                  <a:pt x="1449" y="179"/>
                  <a:pt x="1536" y="87"/>
                  <a:pt x="1584" y="49"/>
                </a:cubicBezTo>
                <a:cubicBezTo>
                  <a:pt x="1632" y="11"/>
                  <a:pt x="1648" y="0"/>
                  <a:pt x="1680" y="1"/>
                </a:cubicBezTo>
                <a:cubicBezTo>
                  <a:pt x="1712" y="2"/>
                  <a:pt x="1729" y="36"/>
                  <a:pt x="1776" y="55"/>
                </a:cubicBezTo>
                <a:cubicBezTo>
                  <a:pt x="1823" y="74"/>
                  <a:pt x="1904" y="103"/>
                  <a:pt x="1965" y="115"/>
                </a:cubicBezTo>
                <a:cubicBezTo>
                  <a:pt x="2026" y="127"/>
                  <a:pt x="2096" y="125"/>
                  <a:pt x="2142" y="127"/>
                </a:cubicBezTo>
                <a:cubicBezTo>
                  <a:pt x="2188" y="129"/>
                  <a:pt x="2223" y="127"/>
                  <a:pt x="2244" y="127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23760" y="3095640"/>
            <a:ext cx="357192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19320" y="40291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006560" y="40258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4320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18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746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320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177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749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0415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108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747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70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3274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224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703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46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6035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798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7846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70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70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371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848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34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434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02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02040" y="50734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97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51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740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860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6068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2925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54960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7652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656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32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16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526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30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1397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920880" y="43434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901800" y="53802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églutition &amp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25760" y="431640"/>
            <a:ext cx="260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5840" y="83196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éristaltisme oesopha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84480" y="1886040"/>
            <a:ext cx="29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vagale excitatrice (FV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vagale inhibitrice (F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914400" y="2666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920880" y="3768840"/>
            <a:ext cx="0" cy="961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920880" y="4844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138600" y="3052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-278280" y="47415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tivité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23040" y="40482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74800" y="4997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359400" y="3449520"/>
            <a:ext cx="249480" cy="19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59600" y="3449520"/>
            <a:ext cx="249120" cy="1987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372360" y="4637160"/>
            <a:ext cx="236520" cy="2412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94400" y="3659040"/>
            <a:ext cx="0" cy="1003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068960" y="4637160"/>
            <a:ext cx="236880" cy="241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183440" y="3670200"/>
            <a:ext cx="0" cy="100188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372360" y="3141720"/>
            <a:ext cx="236520" cy="2412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066080" y="3141720"/>
            <a:ext cx="236520" cy="241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183440" y="2776680"/>
            <a:ext cx="0" cy="374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494400" y="2776680"/>
            <a:ext cx="0" cy="37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09280" y="233676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FVE      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36040" y="33512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358400" y="33512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972400" y="45734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71360" y="45626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548040" y="3538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84480" y="3919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720" y="3894120"/>
            <a:ext cx="5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Arial"/>
              </a:rPr>
              <a:t>V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835600" y="4941720"/>
            <a:ext cx="1998360" cy="612360"/>
            <a:chOff x="5835600" y="4941720"/>
            <a:chExt cx="1998360" cy="612360"/>
          </a:xfrm>
        </p:grpSpPr>
        <p:sp>
          <p:nvSpPr>
            <p:cNvPr id="1027" name=""/>
            <p:cNvSpPr/>
            <p:nvPr/>
          </p:nvSpPr>
          <p:spPr>
            <a:xfrm>
              <a:off x="5835600" y="4941720"/>
              <a:ext cx="1998360" cy="612360"/>
            </a:xfrm>
            <a:prstGeom prst="ellipse">
              <a:avLst/>
            </a:prstGeom>
            <a:gradFill rotWithShape="0">
              <a:gsLst>
                <a:gs pos="0">
                  <a:srgbClr val="750808"/>
                </a:gs>
                <a:gs pos="50000">
                  <a:srgbClr val="ff1313"/>
                </a:gs>
                <a:gs pos="100000">
                  <a:srgbClr val="75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10600" y="5056920"/>
              <a:ext cx="273240" cy="319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6834600" y="5046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80960" y="1835280"/>
            <a:ext cx="4443480" cy="325116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25760" y="431640"/>
            <a:ext cx="5082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7880" y="1827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05984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y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4920" y="5560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34640" y="1960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u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64520" y="4586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59600" y="5005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75560" y="30621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 pace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858680" y="2033640"/>
            <a:ext cx="12538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82840" y="327960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946080" y="474336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522320" y="3259080"/>
            <a:ext cx="4539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47720" y="4743360"/>
            <a:ext cx="714600" cy="190440"/>
          </a:xfrm>
          <a:custGeom>
            <a:avLst/>
            <a:gdLst/>
            <a:ahLst/>
            <a:rect l="l" t="t" r="r" b="b"/>
            <a:pathLst>
              <a:path w="450" h="120">
                <a:moveTo>
                  <a:pt x="0" y="0"/>
                </a:moveTo>
                <a:lnTo>
                  <a:pt x="0" y="120"/>
                </a:lnTo>
                <a:lnTo>
                  <a:pt x="450" y="120"/>
                </a:lnTo>
                <a:lnTo>
                  <a:pt x="450" y="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19200" y="3314880"/>
            <a:ext cx="2467080" cy="1618920"/>
          </a:xfrm>
          <a:custGeom>
            <a:avLst/>
            <a:gdLst/>
            <a:ahLst/>
            <a:rect l="l" t="t" r="r" b="b"/>
            <a:pathLst>
              <a:path w="1500" h="1020">
                <a:moveTo>
                  <a:pt x="0" y="912"/>
                </a:moveTo>
                <a:lnTo>
                  <a:pt x="0" y="1020"/>
                </a:lnTo>
                <a:lnTo>
                  <a:pt x="986" y="756"/>
                </a:lnTo>
                <a:lnTo>
                  <a:pt x="1500" y="242"/>
                </a:lnTo>
                <a:lnTo>
                  <a:pt x="150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4809960" y="3324240"/>
            <a:ext cx="763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67160" y="1992240"/>
            <a:ext cx="1419120" cy="1189080"/>
          </a:xfrm>
          <a:custGeom>
            <a:avLst/>
            <a:gdLst/>
            <a:ahLst/>
            <a:rect l="l" t="t" r="r" b="b"/>
            <a:pathLst>
              <a:path w="894" h="749">
                <a:moveTo>
                  <a:pt x="852" y="749"/>
                </a:moveTo>
                <a:lnTo>
                  <a:pt x="894" y="743"/>
                </a:lnTo>
                <a:lnTo>
                  <a:pt x="894" y="359"/>
                </a:lnTo>
                <a:lnTo>
                  <a:pt x="660" y="0"/>
                </a:lnTo>
                <a:lnTo>
                  <a:pt x="0" y="0"/>
                </a:lnTo>
                <a:lnTo>
                  <a:pt x="0" y="191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03200" y="8240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natomie de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37480" y="5129280"/>
            <a:ext cx="43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omac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royage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vacuation contrôlée ver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25760" y="431640"/>
            <a:ext cx="5082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829800" y="4108320"/>
            <a:ext cx="82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malaxage des aliments : formation du ch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 de la partier caudale de l’estomac : onde lente (3 /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igine : pacemaker de l’estomac : onde lente du 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nde de contraction vers l’antre : propagation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ermeture de la partie distale de l’antre : refoulement des aliments en ar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mplexe électrique migrant : ondes de contraction lentes toutes les 9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y compris si estomac v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060800" y="1344600"/>
            <a:ext cx="49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éservoir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undus et partie haute du corps de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laxation de réception : réflexe vago-va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stension de l’estoma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N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relaxation (NO, V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279440" y="4619520"/>
            <a:ext cx="58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vidang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énomène contrô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quide / solide ; taille des particules alimentaires (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89520" y="1841400"/>
            <a:ext cx="2882880" cy="1797120"/>
          </a:xfrm>
          <a:custGeom>
            <a:avLst/>
            <a:gdLst/>
            <a:ahLst/>
            <a:rect l="l" t="t" r="r" b="b"/>
            <a:pathLst>
              <a:path w="1852" h="1132">
                <a:moveTo>
                  <a:pt x="0" y="0"/>
                </a:moveTo>
                <a:lnTo>
                  <a:pt x="0" y="1132"/>
                </a:lnTo>
                <a:lnTo>
                  <a:pt x="1852" y="1132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613480" y="36385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374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0610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96000" y="1806480"/>
            <a:ext cx="2933640" cy="1832040"/>
          </a:xfrm>
          <a:custGeom>
            <a:avLst/>
            <a:gdLst/>
            <a:ahLst/>
            <a:rect l="l" t="t" r="r" b="b"/>
            <a:pathLst>
              <a:path w="1848" h="1154">
                <a:moveTo>
                  <a:pt x="0" y="1154"/>
                </a:moveTo>
                <a:cubicBezTo>
                  <a:pt x="17" y="1084"/>
                  <a:pt x="53" y="870"/>
                  <a:pt x="104" y="730"/>
                </a:cubicBezTo>
                <a:cubicBezTo>
                  <a:pt x="155" y="590"/>
                  <a:pt x="216" y="422"/>
                  <a:pt x="304" y="314"/>
                </a:cubicBezTo>
                <a:cubicBezTo>
                  <a:pt x="392" y="206"/>
                  <a:pt x="522" y="132"/>
                  <a:pt x="632" y="82"/>
                </a:cubicBezTo>
                <a:cubicBezTo>
                  <a:pt x="742" y="32"/>
                  <a:pt x="876" y="27"/>
                  <a:pt x="966" y="14"/>
                </a:cubicBezTo>
                <a:cubicBezTo>
                  <a:pt x="1056" y="1"/>
                  <a:pt x="1025" y="4"/>
                  <a:pt x="1172" y="2"/>
                </a:cubicBezTo>
                <a:cubicBezTo>
                  <a:pt x="1319" y="0"/>
                  <a:pt x="1583" y="2"/>
                  <a:pt x="1848" y="2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89520" y="1801800"/>
            <a:ext cx="2940120" cy="1847880"/>
          </a:xfrm>
          <a:custGeom>
            <a:avLst/>
            <a:gdLst/>
            <a:ahLst/>
            <a:rect l="l" t="t" r="r" b="b"/>
            <a:pathLst>
              <a:path w="1852" h="1164">
                <a:moveTo>
                  <a:pt x="0" y="1157"/>
                </a:moveTo>
                <a:cubicBezTo>
                  <a:pt x="43" y="1152"/>
                  <a:pt x="175" y="1164"/>
                  <a:pt x="260" y="1125"/>
                </a:cubicBezTo>
                <a:cubicBezTo>
                  <a:pt x="345" y="1086"/>
                  <a:pt x="408" y="1021"/>
                  <a:pt x="508" y="925"/>
                </a:cubicBezTo>
                <a:cubicBezTo>
                  <a:pt x="608" y="829"/>
                  <a:pt x="741" y="670"/>
                  <a:pt x="860" y="549"/>
                </a:cubicBezTo>
                <a:cubicBezTo>
                  <a:pt x="979" y="428"/>
                  <a:pt x="1123" y="279"/>
                  <a:pt x="1220" y="197"/>
                </a:cubicBezTo>
                <a:cubicBezTo>
                  <a:pt x="1317" y="115"/>
                  <a:pt x="1379" y="88"/>
                  <a:pt x="1444" y="57"/>
                </a:cubicBezTo>
                <a:cubicBezTo>
                  <a:pt x="1509" y="26"/>
                  <a:pt x="1540" y="18"/>
                  <a:pt x="1608" y="9"/>
                </a:cubicBezTo>
                <a:cubicBezTo>
                  <a:pt x="1676" y="0"/>
                  <a:pt x="1764" y="0"/>
                  <a:pt x="1852" y="1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25760" y="431640"/>
            <a:ext cx="5082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874280" y="3460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818960" y="3689280"/>
            <a:ext cx="27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        1         2          3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81760" y="36511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4762440" y="1838160"/>
            <a:ext cx="123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6200000">
            <a:off x="4091400" y="27622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vid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15800" y="1670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54760" y="16556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451200" y="265284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625760" y="431640"/>
            <a:ext cx="5082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951280" y="2849400"/>
            <a:ext cx="4362480" cy="447840"/>
          </a:xfrm>
          <a:prstGeom prst="rect">
            <a:avLst/>
          </a:prstGeom>
          <a:gradFill rotWithShape="0">
            <a:gsLst>
              <a:gs pos="0">
                <a:srgbClr val="fe9d85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Vidange gas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5124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72608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81800" y="2435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60960" y="2203560"/>
            <a:ext cx="154944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952360" y="2203560"/>
            <a:ext cx="119268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21200" y="24354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173400" y="4233960"/>
            <a:ext cx="3633840" cy="546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79600" y="4319640"/>
            <a:ext cx="443160" cy="406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82920" y="4308480"/>
            <a:ext cx="44316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234040" y="430848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237360" y="429732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004160" y="433224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393000" y="5051520"/>
            <a:ext cx="768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04960" y="5041800"/>
            <a:ext cx="835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96760" y="5029200"/>
            <a:ext cx="82548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hyp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onic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55520" y="5037120"/>
            <a:ext cx="452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500280" y="331128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449424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545472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000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979360" y="3679920"/>
            <a:ext cx="1005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écré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49000" y="3583080"/>
            <a:ext cx="609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G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286240" y="3637080"/>
            <a:ext cx="2934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80680" y="3646440"/>
            <a:ext cx="9032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gastr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586320" y="4725720"/>
            <a:ext cx="0" cy="35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61016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559260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9592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476440" y="1874880"/>
            <a:ext cx="2862360" cy="4052880"/>
          </a:xfrm>
          <a:custGeom>
            <a:avLst/>
            <a:gdLst/>
            <a:ahLst/>
            <a:rect l="l" t="t" r="r" b="b"/>
            <a:pathLst>
              <a:path w="1770" h="2250">
                <a:moveTo>
                  <a:pt x="1770" y="1590"/>
                </a:moveTo>
                <a:lnTo>
                  <a:pt x="1770" y="2250"/>
                </a:lnTo>
                <a:lnTo>
                  <a:pt x="0" y="2250"/>
                </a:lnTo>
                <a:lnTo>
                  <a:pt x="0" y="0"/>
                </a:lnTo>
                <a:lnTo>
                  <a:pt x="936" y="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335480" y="47163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21000" y="472284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11440" y="317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33840" y="317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27440" y="3162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553080" y="3162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14280" y="83196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ntrôle de la vidange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983760" y="1727280"/>
            <a:ext cx="21193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7160" y="345456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omac -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911160" y="3516480"/>
            <a:ext cx="719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ntre du vomissement (SNC) + récepteurs duodénaux/gastr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éristaltime inverse (duodénum+ estoma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inspiration (dépression oesopha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contraction muscles abdominaux (supress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ouverture réflexe du 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25760" y="431640"/>
            <a:ext cx="5082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4280" y="83196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ntrôle de la vidange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4669920" y="21574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omissement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85760" y="206280"/>
            <a:ext cx="8589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de l’intestin grê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625760" y="431640"/>
            <a:ext cx="3416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36400" y="2716200"/>
            <a:ext cx="808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à jeûn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mplexe moteur migrant (CMM) : activité de 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itiation au niveau du pacemaker gastrique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propagation jusqu’à la valvule iléo-coecale en 90-12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se I (35-65 min) : re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se II (25-60 min) : activité irrégul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ase III (5–10 min) : activité régulière et propag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pas 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vité semblable à phases II et III : segmentation (fractionnement et refoulement du chyme dans les 2 sens) + péristaltis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1132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11160" y="1025640"/>
            <a:ext cx="785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foulement du chyme dans les 2 sens) + péristaltis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caecum et côlon proxima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ction de segmentation : formation de « hautra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uvement de masse (1 – 3 /j) : péristaltisme avec avancée importante du contenu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côlon dista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tériel fécal semi-solide (réabsorption d’e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pulsion lente vers le 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flexe gastro-colique : aliments dans l’estomac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motilité du 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mposante parasympathique rapide (réponse nerveuse à la disten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mposante hormonale lente (distension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gastrine, C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85760" y="206280"/>
            <a:ext cx="8589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motilité gros inte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625760" y="431640"/>
            <a:ext cx="3416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éfé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25760" y="431640"/>
            <a:ext cx="5146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11160" y="1025640"/>
            <a:ext cx="755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ctum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phincter involontaire (muscle li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phincter volontaire (muscle stri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mplissage de l’ampoule anal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réflexe de défé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flexe recto-sphinctérie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flexe recto-anal inhibiteur : relaxation involontaire du sphincter 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flexe recto-anal excitateur : contraction volontaire du sphincter str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7360" y="1236600"/>
            <a:ext cx="76327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s énergétique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tituants tissulaires /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 : hétéro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rce de composés organiques ext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’aliments ; production et absorption de nut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xydation de nutr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duction d’énergie /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consomm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tilisation des nutriments comme constituants cell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ommation d’é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ydratation : absorption d’eau (pas toujours nécess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7360" y="12366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igestion (au sens lar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= réponse au problème de la fourniture en nut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formation des aliments en nutriments assimil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limination des déchets : éléments non di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+ élimination des produits du catabolis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1040" y="90000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sition du probl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17680" y="1382760"/>
            <a:ext cx="805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grande variabilité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a pris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 typ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s besoins quantitatifs / qualit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uveurs de 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i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trit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ymbiose éventuelle (ex : digestion de la cellul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2120" y="76032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1382760"/>
            <a:ext cx="805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grande variabilité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a pris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 type de nourr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es besoins quantitatifs / qualit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uveurs de 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i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triti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ymbiose éventuelle (ex : digestion de la cellul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2120" y="76032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7680" y="3097080"/>
            <a:ext cx="3930840" cy="155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NB : certains nutriments indispen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(non synthétisés à partir de précur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cides aminé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cides gra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vita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fr-FR" sz="1600" spc="-1" strike="noStrike">
                <a:solidFill>
                  <a:srgbClr val="ff3300"/>
                </a:solidFill>
                <a:latin typeface="Arial"/>
              </a:rPr>
              <a:t>variable selon l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6-10-02T08:15:01Z</dcterms:modified>
  <cp:revision>1260</cp:revision>
  <dc:subject/>
  <dc:title>Présentation PowerPoint</dc:title>
</cp:coreProperties>
</file>