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7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26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28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7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526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2840" y="568080"/>
            <a:ext cx="78073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468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672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431640"/>
            <a:ext cx="9309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278000" y="2174760"/>
            <a:ext cx="65530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31880" y="92160"/>
            <a:ext cx="738468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UB2 UFR SdV 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UE Physiologie des grandes fonctions 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800000"/>
                </a:solidFill>
                <a:latin typeface="Arial"/>
              </a:rPr>
              <a:t>E. Ro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53560" y="3160800"/>
            <a:ext cx="37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les sécrétions gastro-intesti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osition du probl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4720" y="868320"/>
            <a:ext cx="33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médiateurs paracr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7440" y="1643040"/>
            <a:ext cx="2157480" cy="4400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921760" y="3656160"/>
            <a:ext cx="37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ction paracrine : à courte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479760" y="1384200"/>
          <a:ext cx="3297240" cy="1127160"/>
        </p:xfrm>
        <a:graphic>
          <a:graphicData uri="http://schemas.openxmlformats.org/drawingml/2006/table">
            <a:tbl>
              <a:tblPr/>
              <a:tblGrid>
                <a:gridCol w="1866960"/>
                <a:gridCol w="143028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édia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rodu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hist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estom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omatostat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T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saliv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24920" y="2549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93800" y="2408400"/>
            <a:ext cx="566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glandes salivaires principales (90 % salive) :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ubling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parot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ous-maxil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glandes salivaires annexes (10 % sal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4720" y="868320"/>
            <a:ext cx="33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glandes saliv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saliv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24920" y="2549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1440" y="1370160"/>
            <a:ext cx="599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acinus : cellules séreuses (zymogène) + cellules à mu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alive prim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720" y="868320"/>
            <a:ext cx="33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ppareil sécré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38760" y="1816200"/>
            <a:ext cx="3978000" cy="3421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74800" y="432108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duit saliv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97280" y="2317680"/>
            <a:ext cx="217440" cy="1600200"/>
          </a:xfrm>
          <a:custGeom>
            <a:avLst/>
            <a:gdLst/>
            <a:ahLst/>
            <a:rect l="l" t="t" r="r" b="b"/>
            <a:pathLst>
              <a:path w="114" h="840">
                <a:moveTo>
                  <a:pt x="108" y="0"/>
                </a:moveTo>
                <a:lnTo>
                  <a:pt x="0" y="0"/>
                </a:lnTo>
                <a:lnTo>
                  <a:pt x="0" y="840"/>
                </a:lnTo>
                <a:lnTo>
                  <a:pt x="114" y="840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58120" y="28591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ci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295760" y="3243240"/>
            <a:ext cx="27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6986520" y="3346560"/>
            <a:ext cx="92160" cy="171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170480" y="2854440"/>
            <a:ext cx="90360" cy="19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7080" y="2916360"/>
            <a:ext cx="98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sal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prim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18160" y="2558520"/>
            <a:ext cx="125640" cy="466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95840" y="22622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129360" y="2546280"/>
            <a:ext cx="92160" cy="411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54320" y="2147760"/>
            <a:ext cx="695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278040" y="3129120"/>
            <a:ext cx="125640" cy="399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060960" y="3049560"/>
            <a:ext cx="68400" cy="39996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43520" y="3405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9920" y="344016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64240" y="4718160"/>
            <a:ext cx="639720" cy="330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98200" y="486396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salive défin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1440" y="5484960"/>
            <a:ext cx="516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drainage : divers canaux innervés et vascularis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modification de la composition de la sal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alive défin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06840" y="4508640"/>
            <a:ext cx="11174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saliv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24920" y="2549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4720" y="868320"/>
            <a:ext cx="33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rô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38760" y="1816200"/>
            <a:ext cx="3978000" cy="3421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774800" y="432108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nduit saliv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97280" y="2317680"/>
            <a:ext cx="217440" cy="1600200"/>
          </a:xfrm>
          <a:custGeom>
            <a:avLst/>
            <a:gdLst/>
            <a:ahLst/>
            <a:rect l="l" t="t" r="r" b="b"/>
            <a:pathLst>
              <a:path w="114" h="840">
                <a:moveTo>
                  <a:pt x="108" y="0"/>
                </a:moveTo>
                <a:lnTo>
                  <a:pt x="0" y="0"/>
                </a:lnTo>
                <a:lnTo>
                  <a:pt x="0" y="840"/>
                </a:lnTo>
                <a:lnTo>
                  <a:pt x="114" y="840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58120" y="28591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ci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295760" y="3243240"/>
            <a:ext cx="27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6986520" y="3346560"/>
            <a:ext cx="92160" cy="171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7170480" y="2854440"/>
            <a:ext cx="90360" cy="19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7080" y="2916360"/>
            <a:ext cx="98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sal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prim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518160" y="2558520"/>
            <a:ext cx="125640" cy="466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95840" y="22622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129360" y="2546280"/>
            <a:ext cx="92160" cy="411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54320" y="2147760"/>
            <a:ext cx="695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278040" y="3129120"/>
            <a:ext cx="125640" cy="399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060960" y="3049560"/>
            <a:ext cx="68400" cy="39996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43520" y="3405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344016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64240" y="4718160"/>
            <a:ext cx="639720" cy="330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98200" y="486396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salive défin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06840" y="4508640"/>
            <a:ext cx="11174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9800" y="1359000"/>
            <a:ext cx="2872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otection de la b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ubrification des ali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ébut de la dig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ffet antibacté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26960" y="1260360"/>
            <a:ext cx="866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amylase saliv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glycoproté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ction à pH neutre (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inhibée par l’acidité gastr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upe les liaisons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-1-4 glucidiques de l’ami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saliv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4720" y="868320"/>
            <a:ext cx="46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composition de la s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26960" y="1260360"/>
            <a:ext cx="8664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amylase saliv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glycoproté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ction à pH neutre (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inhibée par l’acidité gastr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upe les liaisons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-1-4 glucidiques de l’ami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lipase ling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igestion des lipides ( 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saliv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4720" y="868320"/>
            <a:ext cx="46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composition de la s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26960" y="1260360"/>
            <a:ext cx="8664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amylase saliv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glycoproté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ction à pH neutre (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inhibée par l’acidité gastr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upe les liaisons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-1-4 glucidiques de l’ami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lipase ling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igestion des lipides ( 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lysosy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otéine glycolytique : coupe les chaînes des polysaccharides bactéri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ntibacté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saliv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4720" y="868320"/>
            <a:ext cx="46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composition de la s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26960" y="1260360"/>
            <a:ext cx="8664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amylase saliv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glycoproté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ction à pH neutre (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inhibée par l’acidité gastr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upe les liaisons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-1-4 glucidiques de l’ami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lipase ling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igestion des lipides ( 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lysosy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otéine glycolytique : coupe les chaînes des polysaccharides bactéri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ntibacté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muc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gel visqueux et lubrifiant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viscosité de la s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saliv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4720" y="868320"/>
            <a:ext cx="46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composition de la s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26960" y="1260360"/>
            <a:ext cx="8664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amylase saliv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glycoproté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ction à pH neutre (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inhibée par l’acidité gastr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oupe les liaisons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-1-4 glucidiques de l’ami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lipase ling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igestion des lipides ( 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lysosy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otéine glycolytique : coupe les chaînes des polysaccharides bactéri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ntibacté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muc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gel visqueux et lubrifiant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viscosité de la s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immunoglobu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mmunoglobulines plasmatiques (IgA, IgM, IgG)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s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IgA sécrétoires : synthétisées par les plasmocytes de la sous-muqu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saliv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4720" y="868320"/>
            <a:ext cx="46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composition de la s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saliv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4360" y="2035080"/>
            <a:ext cx="852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alive primaire : isoto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anaux salivaires : réabsorption active d’ions (NaCl) + canaux imperméables à l’eau :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salive secondaire hypoto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ébit moyen : 1 à 2 litres / 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ffet du débit sur la composition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si le débit est augmenté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la composition de la salive secondaire se rapproche de celle de la salive prim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4720" y="868320"/>
            <a:ext cx="46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formation de la s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osition du probl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7080" y="976320"/>
            <a:ext cx="77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écrétions exocrines : libérées dans la lumière du 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écrétions endocrines /paracrines : libérées dans la circulation / loca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38280" y="1658160"/>
            <a:ext cx="6394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ous le contrôle du système nerveux auton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pas de modulation horm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centre salivaire (bulbe rachidi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chémorécepteurs, mécanorécepteurs bucc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réflexe simple : stimulation des récepteurs périphér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réflexe acquis ou conditionné : sans stimulation buc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odeur, vue de la nourriture, ou stimulus associ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réflexe de Pavlov (1849-1936 ; prix Nobel en 19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saliv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4720" y="86832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modulation de la sécrétion saliv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1400" y="5141880"/>
            <a:ext cx="63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timulation de la sécrétion : parasympathique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t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sympath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04720" y="86832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modulation de la sécrétion saliv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saliv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4680" y="1552680"/>
            <a:ext cx="609840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timulation parasympath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alive aqueuse et riche en enzy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timulation des récepteurs muscariniques, production d’IP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inhibition muscarinique (atropine) : bouche sèch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04720" y="86832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modulation de la sécrétion saliv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saliv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4680" y="1552680"/>
            <a:ext cx="65584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timulation parasympath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alive aqueuse et riche en enzy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timulation des récepteurs muscariniques, production d’IP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inhibition muscarinique (atropine) : bouche sèch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timulation sympath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alive épaisse, riche en mu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timulation des récepteur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-adrénergiques, production d’AMP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04720" y="86832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modulation de la sécrétion saliv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saliv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4680" y="1552680"/>
            <a:ext cx="65584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timulation parasympath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alive aqueuse et riche en enzy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timulation des récepteurs muscariniques, production d’IP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inhibition muscarinique (atropine) : bouche sèch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timulation sympath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alive épaisse, riche en mu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timulation des récepteur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-adrénergiques, production d’AMP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production de saliv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augmentée par : aliments, odeurs, nausée, réfle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diminuée par : sommeil, deshydratation, p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bases d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hysiologie compa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25760" y="431640"/>
            <a:ext cx="26193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4720" y="86832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composition et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25320" y="2144880"/>
            <a:ext cx="3287880" cy="4181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446640" y="4452840"/>
            <a:ext cx="765000" cy="0"/>
          </a:xfrm>
          <a:prstGeom prst="line">
            <a:avLst/>
          </a:prstGeom>
          <a:ln w="1260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09120" y="4237200"/>
            <a:ext cx="18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cellules princip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06840" y="2932200"/>
            <a:ext cx="204840" cy="925560"/>
          </a:xfrm>
          <a:custGeom>
            <a:avLst/>
            <a:gdLst/>
            <a:ahLst/>
            <a:rect l="l" t="t" r="r" b="b"/>
            <a:pathLst>
              <a:path w="108" h="486">
                <a:moveTo>
                  <a:pt x="0" y="0"/>
                </a:moveTo>
                <a:lnTo>
                  <a:pt x="108" y="0"/>
                </a:lnTo>
                <a:lnTo>
                  <a:pt x="108" y="486"/>
                </a:lnTo>
                <a:lnTo>
                  <a:pt x="24" y="486"/>
                </a:lnTo>
              </a:path>
            </a:pathLst>
          </a:custGeom>
          <a:noFill/>
          <a:ln w="1260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72520" y="3048120"/>
            <a:ext cx="168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cellules à mu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du col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193920" y="2378160"/>
            <a:ext cx="527040" cy="301680"/>
          </a:xfrm>
          <a:prstGeom prst="line">
            <a:avLst/>
          </a:prstGeom>
          <a:ln w="1260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34280" y="2019240"/>
            <a:ext cx="199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cellules épithéli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superfici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75000" y="5492880"/>
            <a:ext cx="1805040" cy="160200"/>
          </a:xfrm>
          <a:prstGeom prst="line">
            <a:avLst/>
          </a:prstGeom>
          <a:ln w="1260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72480" y="545796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cryp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65640" y="4932360"/>
            <a:ext cx="846000" cy="0"/>
          </a:xfrm>
          <a:prstGeom prst="line">
            <a:avLst/>
          </a:prstGeom>
          <a:ln w="1260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7960" y="4732200"/>
            <a:ext cx="179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Arial"/>
              </a:rPr>
              <a:t>cellules parié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1160" y="140760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uc gastrique : 1 à 2 litres /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HCl, mucus, enzy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gast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1160" y="140760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uc gastrique : 1 à 2 litres /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HCl, mucus, enzy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086360" y="2463840"/>
          <a:ext cx="4689360" cy="2803320"/>
        </p:xfrm>
        <a:graphic>
          <a:graphicData uri="http://schemas.openxmlformats.org/drawingml/2006/table">
            <a:tbl>
              <a:tblPr/>
              <a:tblGrid>
                <a:gridCol w="1863720"/>
                <a:gridCol w="28256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ellules pariét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H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ellules princip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psinogène            facteur intrinsèque (F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ellules muque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u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ellules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astr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astocytes, histaminoc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hist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504720" y="86832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composition et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25320" y="2144880"/>
            <a:ext cx="3287880" cy="4181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gast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2520" y="1293840"/>
            <a:ext cx="448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H = 2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[H</a:t>
            </a:r>
            <a:r>
              <a:rPr b="0" lang="fr-FR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] du suc gastrique : 150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oduction d’HCl par les cellules parié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35440" y="3602160"/>
            <a:ext cx="5437080" cy="2170080"/>
          </a:xfrm>
          <a:prstGeom prst="roundRect">
            <a:avLst>
              <a:gd name="adj" fmla="val 12495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442120" y="5345280"/>
            <a:ext cx="50976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5442120" y="5338440"/>
            <a:ext cx="509760" cy="81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5080" y="5961240"/>
            <a:ext cx="5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36880" y="51228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27680" y="5373720"/>
            <a:ext cx="5140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927680" y="5363640"/>
            <a:ext cx="5140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72440" y="527688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Na-K-ATPas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21680" y="3568680"/>
            <a:ext cx="15372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73960" y="3338640"/>
            <a:ext cx="109440" cy="49500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16920" y="3346560"/>
            <a:ext cx="110880" cy="49536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04120" y="309888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5265000" y="5621760"/>
            <a:ext cx="315720" cy="314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7081920" y="5607000"/>
            <a:ext cx="317520" cy="333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059600" y="5345280"/>
            <a:ext cx="0" cy="81576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402680" y="5332320"/>
            <a:ext cx="0" cy="84132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94840" y="498168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Cl</a:t>
            </a:r>
            <a:r>
              <a:rPr b="1" lang="fr-FR" sz="16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18640" y="5850000"/>
            <a:ext cx="73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HCO</a:t>
            </a:r>
            <a:r>
              <a:rPr b="1" lang="fr-FR" sz="16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fr-FR" sz="16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480000" y="3154320"/>
            <a:ext cx="5104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480000" y="3147120"/>
            <a:ext cx="510480" cy="8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66280" y="3182760"/>
            <a:ext cx="513720" cy="82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966280" y="3172680"/>
            <a:ext cx="51372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302880" y="3431160"/>
            <a:ext cx="316080" cy="314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27160" y="2575080"/>
            <a:ext cx="16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-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-ATPas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90160" y="286236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Cl</a:t>
            </a:r>
            <a:r>
              <a:rPr b="1" lang="fr-FR" sz="16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12040" y="4224240"/>
            <a:ext cx="0" cy="9716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91040" y="288936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fr-FR" sz="16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05640" y="3587760"/>
            <a:ext cx="15372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57920" y="3357720"/>
            <a:ext cx="111240" cy="49500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00880" y="3365640"/>
            <a:ext cx="112680" cy="49500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89520" y="311796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64040" y="38718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32880" y="4554360"/>
            <a:ext cx="264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+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75160" y="4727520"/>
            <a:ext cx="72396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05600" y="4724280"/>
            <a:ext cx="342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07880" y="424512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fr-FR" sz="16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47320" y="4532400"/>
            <a:ext cx="73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HCO</a:t>
            </a:r>
            <a:r>
              <a:rPr b="1" lang="fr-FR" sz="16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fr-FR" sz="16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58160" y="4967280"/>
            <a:ext cx="0" cy="2858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48640" y="4025880"/>
            <a:ext cx="0" cy="2858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05120" y="43243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67840" y="2224080"/>
            <a:ext cx="126900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ôle ap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13920" y="6116760"/>
            <a:ext cx="121860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ôle b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4720" y="86832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la sécrétion ac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04720" y="86832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la sécrétion ac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gast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35440" y="3602160"/>
            <a:ext cx="5437080" cy="2170080"/>
          </a:xfrm>
          <a:prstGeom prst="roundRect">
            <a:avLst>
              <a:gd name="adj" fmla="val 12495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442120" y="5345280"/>
            <a:ext cx="50976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5442120" y="5338440"/>
            <a:ext cx="509760" cy="81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35080" y="5961240"/>
            <a:ext cx="5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36880" y="51228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27680" y="5373720"/>
            <a:ext cx="5140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4927680" y="5363640"/>
            <a:ext cx="5140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572440" y="527688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Na-K-ATPas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21680" y="3568680"/>
            <a:ext cx="15372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473960" y="3338640"/>
            <a:ext cx="109440" cy="49500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16920" y="3346560"/>
            <a:ext cx="110880" cy="49536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404120" y="309888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5265000" y="5621760"/>
            <a:ext cx="315720" cy="314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7081920" y="5607000"/>
            <a:ext cx="317520" cy="333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7059600" y="5345280"/>
            <a:ext cx="0" cy="81576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402680" y="5332320"/>
            <a:ext cx="0" cy="84132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94840" y="498168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l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18640" y="5850000"/>
            <a:ext cx="73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6480000" y="3154320"/>
            <a:ext cx="5104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6480000" y="3147120"/>
            <a:ext cx="510480" cy="8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66280" y="3182760"/>
            <a:ext cx="513720" cy="82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966280" y="3172680"/>
            <a:ext cx="51372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6302880" y="3431160"/>
            <a:ext cx="316080" cy="314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27160" y="2575080"/>
            <a:ext cx="16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-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-ATPas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90160" y="286236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l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412040" y="4224240"/>
            <a:ext cx="0" cy="9716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791040" y="288936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05640" y="3587760"/>
            <a:ext cx="15372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857920" y="3357720"/>
            <a:ext cx="111240" cy="49500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00880" y="3365640"/>
            <a:ext cx="112680" cy="49500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89520" y="311796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64040" y="38718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32880" y="4554360"/>
            <a:ext cx="264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+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75160" y="4727520"/>
            <a:ext cx="72396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105600" y="4724280"/>
            <a:ext cx="342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07880" y="424512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547320" y="4532400"/>
            <a:ext cx="73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58160" y="4967280"/>
            <a:ext cx="0" cy="2858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48640" y="4025880"/>
            <a:ext cx="0" cy="2858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05120" y="43243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467840" y="2224080"/>
            <a:ext cx="126900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ôle ap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513920" y="6116760"/>
            <a:ext cx="121860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ôle b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25960" y="131904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complexe sécrétoire : pompe H</a:t>
            </a:r>
            <a:r>
              <a:rPr b="0" lang="en-GB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-K</a:t>
            </a:r>
            <a:r>
              <a:rPr b="0" lang="en-GB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-ATPase + canal K</a:t>
            </a:r>
            <a:r>
              <a:rPr b="0" lang="en-GB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+ canal Cl</a:t>
            </a:r>
            <a:r>
              <a:rPr b="0" lang="en-GB" sz="1800" spc="-1" strike="noStrike" baseline="30000">
                <a:solidFill>
                  <a:srgbClr val="990000"/>
                </a:solidFill>
                <a:latin typeface="Arial"/>
              </a:rPr>
              <a:t>-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dépense énergétique très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81480" y="2463840"/>
            <a:ext cx="2832120" cy="18288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504720" y="86832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la sécrétion ac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gast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35440" y="3602160"/>
            <a:ext cx="5437080" cy="2170080"/>
          </a:xfrm>
          <a:prstGeom prst="roundRect">
            <a:avLst>
              <a:gd name="adj" fmla="val 12495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442120" y="5345280"/>
            <a:ext cx="50976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442120" y="5338440"/>
            <a:ext cx="509760" cy="81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35080" y="5961240"/>
            <a:ext cx="5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36880" y="51228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27680" y="5373720"/>
            <a:ext cx="5140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927680" y="5363640"/>
            <a:ext cx="5140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72440" y="527688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Na-K-ATPas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21680" y="3568680"/>
            <a:ext cx="15372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473960" y="3338640"/>
            <a:ext cx="109440" cy="49500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16920" y="3346560"/>
            <a:ext cx="110880" cy="49536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404120" y="309888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5265000" y="5621760"/>
            <a:ext cx="315720" cy="314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7081920" y="5607000"/>
            <a:ext cx="317520" cy="333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7059600" y="5345280"/>
            <a:ext cx="0" cy="81576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02680" y="5332320"/>
            <a:ext cx="0" cy="84132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94840" y="498168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l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18640" y="5850000"/>
            <a:ext cx="73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6302880" y="3431160"/>
            <a:ext cx="316080" cy="314280"/>
          </a:xfrm>
          <a:prstGeom prst="ellipse">
            <a:avLst/>
          </a:prstGeom>
          <a:gradFill rotWithShape="0">
            <a:gsLst>
              <a:gs pos="0">
                <a:srgbClr val="fe8d8d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27160" y="2575080"/>
            <a:ext cx="16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-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-ATPas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490160" y="286236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l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12040" y="4224240"/>
            <a:ext cx="0" cy="9716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05640" y="3587760"/>
            <a:ext cx="15372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57920" y="3357720"/>
            <a:ext cx="111240" cy="49500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00880" y="3365640"/>
            <a:ext cx="112680" cy="49500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89520" y="311796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32880" y="4554360"/>
            <a:ext cx="264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+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75160" y="4727520"/>
            <a:ext cx="72396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05600" y="4724280"/>
            <a:ext cx="342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7880" y="424512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547320" y="4532400"/>
            <a:ext cx="73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058160" y="4967280"/>
            <a:ext cx="0" cy="2858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48640" y="4025880"/>
            <a:ext cx="0" cy="2858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05120" y="43243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67840" y="2224080"/>
            <a:ext cx="126900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ôle ap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513920" y="6116760"/>
            <a:ext cx="121860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ôle b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736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5960" y="1319040"/>
            <a:ext cx="694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complexe sécrétoire : pompe H</a:t>
            </a:r>
            <a:r>
              <a:rPr b="0" lang="en-GB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-K</a:t>
            </a:r>
            <a:r>
              <a:rPr b="0" lang="en-GB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-ATPase + canal K</a:t>
            </a:r>
            <a:r>
              <a:rPr b="0" lang="en-GB" sz="18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+ canal Cl</a:t>
            </a:r>
            <a:r>
              <a:rPr b="0" lang="en-GB" sz="1800" spc="-1" strike="noStrike" baseline="30000">
                <a:solidFill>
                  <a:srgbClr val="990000"/>
                </a:solidFill>
                <a:latin typeface="Arial"/>
              </a:rPr>
              <a:t>-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dépense énergétique très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édicament anti-acide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oméprazole (inhibiteur de la H-K-ATP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64040" y="387180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504720" y="86832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la 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roduction de Cl</a:t>
            </a:r>
            <a:r>
              <a:rPr b="1" lang="en-GB" sz="1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par cellules non parié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gast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39960" y="2514600"/>
            <a:ext cx="5435640" cy="2168640"/>
          </a:xfrm>
          <a:prstGeom prst="roundRect">
            <a:avLst>
              <a:gd name="adj" fmla="val 12495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4346640" y="4255920"/>
            <a:ext cx="510480" cy="82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4346640" y="4252320"/>
            <a:ext cx="510480" cy="81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38160" y="4881600"/>
            <a:ext cx="5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41400" y="404496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32200" y="4284720"/>
            <a:ext cx="5140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832200" y="4274640"/>
            <a:ext cx="5140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78400" y="41990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Na-K-ATPas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224760" y="2482920"/>
            <a:ext cx="15372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77040" y="2252520"/>
            <a:ext cx="109440" cy="49536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119640" y="2260440"/>
            <a:ext cx="113040" cy="49392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08640" y="2013120"/>
            <a:ext cx="0" cy="9792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16200000">
            <a:off x="4168080" y="4532760"/>
            <a:ext cx="315720" cy="314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16200000">
            <a:off x="5985720" y="4518360"/>
            <a:ext cx="315720" cy="333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962680" y="4255560"/>
            <a:ext cx="0" cy="8161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305400" y="4243320"/>
            <a:ext cx="0" cy="84132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98640" y="390528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l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96480" y="178596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l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15120" y="3137040"/>
            <a:ext cx="0" cy="97128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92520" y="1801800"/>
            <a:ext cx="126900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ôle ap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33920" y="5057640"/>
            <a:ext cx="121860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ôle b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622480" y="3863880"/>
            <a:ext cx="5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36880" y="5840280"/>
            <a:ext cx="54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Cl</a:t>
            </a:r>
            <a:r>
              <a:rPr b="0" lang="en-GB" sz="1800" spc="-1" strike="noStrike" baseline="30000">
                <a:solidFill>
                  <a:srgbClr val="99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: production constante par cellules non parié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osition du probl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57720" y="1376280"/>
            <a:ext cx="2157120" cy="4400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991120" y="13003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03640" y="1536840"/>
            <a:ext cx="102888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807160" y="1006560"/>
          <a:ext cx="1562040" cy="1754280"/>
        </p:xfrm>
        <a:graphic>
          <a:graphicData uri="http://schemas.openxmlformats.org/drawingml/2006/table">
            <a:tbl>
              <a:tblPr/>
              <a:tblGrid>
                <a:gridCol w="156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hypot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sal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HC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GB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-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lysos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03040" y="861840"/>
            <a:ext cx="32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écrétions exocrines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gast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3360" y="5420520"/>
            <a:ext cx="8105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CO</a:t>
            </a:r>
            <a:r>
              <a:rPr b="0" lang="en-GB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0" lang="en-GB" sz="1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: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5 % de la sécrétion acide ; rôle de protection de l’épithélium (+ muc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onfiné dans la couche de muc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49640" y="1592280"/>
            <a:ext cx="3854520" cy="2531880"/>
          </a:xfrm>
          <a:prstGeom prst="rect">
            <a:avLst/>
          </a:prstGeom>
          <a:gradFill rotWithShape="0">
            <a:gsLst>
              <a:gs pos="0">
                <a:srgbClr val="feeade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11760" y="20620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H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04640" y="203976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pH =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536720" y="3619440"/>
            <a:ext cx="695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HCO</a:t>
            </a:r>
            <a:r>
              <a:rPr b="1" lang="fr-FR" sz="1600" spc="-1" strike="noStrike" baseline="-25000">
                <a:solidFill>
                  <a:srgbClr val="99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12760" y="359712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pH =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30560" y="3990960"/>
            <a:ext cx="92376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13360" y="3990960"/>
            <a:ext cx="92376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097600" y="3990960"/>
            <a:ext cx="92376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80040" y="3987720"/>
            <a:ext cx="92412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60800" y="3579840"/>
            <a:ext cx="3824280" cy="0"/>
          </a:xfrm>
          <a:prstGeom prst="line">
            <a:avLst/>
          </a:prstGeom>
          <a:ln w="1908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4720" y="868320"/>
            <a:ext cx="657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HCO</a:t>
            </a:r>
            <a:r>
              <a:rPr b="1" lang="en-GB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149640" y="1592280"/>
            <a:ext cx="3854520" cy="2531880"/>
          </a:xfrm>
          <a:prstGeom prst="rect">
            <a:avLst/>
          </a:prstGeom>
          <a:gradFill rotWithShape="0">
            <a:gsLst>
              <a:gs pos="0">
                <a:srgbClr val="feeade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11760" y="20620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H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04640" y="203976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pH =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36720" y="3619440"/>
            <a:ext cx="695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HCO</a:t>
            </a:r>
            <a:r>
              <a:rPr b="1" lang="fr-FR" sz="1600" spc="-1" strike="noStrike" baseline="-25000">
                <a:solidFill>
                  <a:srgbClr val="99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12760" y="359712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pH =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30560" y="3990960"/>
            <a:ext cx="92376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3360" y="3990960"/>
            <a:ext cx="92376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097600" y="3990960"/>
            <a:ext cx="92376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80040" y="3987720"/>
            <a:ext cx="924120" cy="731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60800" y="3579840"/>
            <a:ext cx="3824280" cy="0"/>
          </a:xfrm>
          <a:prstGeom prst="line">
            <a:avLst/>
          </a:prstGeom>
          <a:ln w="1908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4720" y="86832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au et mu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gast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98600" y="47768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mouvements pas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mu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glycoprotéines hydroph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374920" y="478800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ellules princip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71680" y="4613400"/>
            <a:ext cx="2094120" cy="731880"/>
          </a:xfrm>
          <a:prstGeom prst="roundRect">
            <a:avLst>
              <a:gd name="adj" fmla="val 16667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61080" y="4597560"/>
            <a:ext cx="2093760" cy="731520"/>
          </a:xfrm>
          <a:prstGeom prst="roundRect">
            <a:avLst>
              <a:gd name="adj" fmla="val 16667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919400" y="478476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ellules parié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670840" y="3127320"/>
            <a:ext cx="1483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psino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3280" y="3149640"/>
            <a:ext cx="13766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414840" y="26049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roté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427440" y="3714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ept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935760" y="2976480"/>
            <a:ext cx="0" cy="7844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35400" y="3400560"/>
            <a:ext cx="24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98280" y="3905280"/>
            <a:ext cx="56016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62400" y="4121280"/>
            <a:ext cx="457200" cy="469800"/>
          </a:xfrm>
          <a:custGeom>
            <a:avLst/>
            <a:gdLst/>
            <a:ahLst/>
            <a:rect l="l" t="t" r="r" b="b"/>
            <a:pathLst>
              <a:path w="240" h="246">
                <a:moveTo>
                  <a:pt x="240" y="246"/>
                </a:moveTo>
                <a:lnTo>
                  <a:pt x="24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241800" y="3571920"/>
            <a:ext cx="0" cy="1030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19520" y="3533760"/>
            <a:ext cx="857160" cy="595440"/>
          </a:xfrm>
          <a:custGeom>
            <a:avLst/>
            <a:gdLst/>
            <a:ahLst/>
            <a:rect l="l" t="t" r="r" b="b"/>
            <a:pathLst>
              <a:path w="426" h="312">
                <a:moveTo>
                  <a:pt x="426" y="312"/>
                </a:moveTo>
                <a:lnTo>
                  <a:pt x="0" y="31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203880" y="3378240"/>
            <a:ext cx="69696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732120" y="2847960"/>
            <a:ext cx="1590840" cy="285840"/>
          </a:xfrm>
          <a:custGeom>
            <a:avLst/>
            <a:gdLst/>
            <a:ahLst/>
            <a:rect l="l" t="t" r="r" b="b"/>
            <a:pathLst>
              <a:path w="834" h="150">
                <a:moveTo>
                  <a:pt x="834" y="150"/>
                </a:moveTo>
                <a:lnTo>
                  <a:pt x="834" y="0"/>
                </a:lnTo>
                <a:lnTo>
                  <a:pt x="0" y="0"/>
                </a:lnTo>
                <a:lnTo>
                  <a:pt x="0" y="15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gast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00680" y="879480"/>
            <a:ext cx="512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epsino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epsinogène : précurseur de la pe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epsine : dégradation des protéines en pept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gast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95280" y="8794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facteur intrinsè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487440" y="1643040"/>
            <a:ext cx="2157480" cy="44006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3089160" y="3110040"/>
            <a:ext cx="57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duit dans l’esto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tif dans l’ilé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à pH neutre (période post-prandiale, iléon)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e lie à la cobala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iléon distal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récepteur au complexe FI-cobalamine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absor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761640" y="1357200"/>
            <a:ext cx="45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absorption de la colalamine =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vitamine B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76520" y="3149640"/>
            <a:ext cx="939600" cy="7621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52560" y="4851360"/>
            <a:ext cx="520560" cy="6224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939960" y="4152960"/>
            <a:ext cx="520560" cy="6220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gast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91680" y="879480"/>
            <a:ext cx="50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régulation de la production du suc gast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4440" y="1700280"/>
            <a:ext cx="76262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stimulation de la sécrétion ac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ystème sympathique : 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récepteurs muscariniqu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IP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élévation [Ca]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(inhibiteur pharmacologique : atrop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ystème hormonal : gast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récepteur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IP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élévation [Ca]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+ libération hista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ystème paracrine : histamine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récepteur H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AMPc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P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(inhibiteur pharmacologique : cimétid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51520" y="1268280"/>
            <a:ext cx="75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duction acide : externalisation / internalisation du complexe sécré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68800" y="3639960"/>
            <a:ext cx="3417840" cy="1802160"/>
          </a:xfrm>
          <a:prstGeom prst="roundRect">
            <a:avLst>
              <a:gd name="adj" fmla="val 12495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740720" y="3606840"/>
            <a:ext cx="15408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893000" y="3376440"/>
            <a:ext cx="109440" cy="49536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635960" y="3384720"/>
            <a:ext cx="110880" cy="49500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823160" y="313704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7254720" y="3192480"/>
            <a:ext cx="5104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7254720" y="3185280"/>
            <a:ext cx="510480" cy="8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41000" y="3220920"/>
            <a:ext cx="51372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6741000" y="3210840"/>
            <a:ext cx="51372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16200000">
            <a:off x="7077600" y="3469320"/>
            <a:ext cx="316080" cy="314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909200" y="290052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l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387920" y="290196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80000" y="3625920"/>
            <a:ext cx="15408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32640" y="3395520"/>
            <a:ext cx="111240" cy="49536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75240" y="3403440"/>
            <a:ext cx="113040" cy="49536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564240" y="315612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38760" y="390996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46680" y="3835440"/>
            <a:ext cx="465120" cy="347760"/>
          </a:xfrm>
          <a:prstGeom prst="rect">
            <a:avLst/>
          </a:prstGeom>
          <a:solidFill>
            <a:srgbClr val="ff1313"/>
          </a:solidFill>
          <a:ln w="25560">
            <a:solidFill>
              <a:srgbClr val="ff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54080" y="5929200"/>
            <a:ext cx="41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h + histamine : effet potentialisa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830840" y="4923000"/>
            <a:ext cx="465120" cy="34740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fr-FR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08840" y="2832120"/>
            <a:ext cx="2184120" cy="13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46720" y="4000680"/>
            <a:ext cx="6094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84240" y="3706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34120" y="4635360"/>
            <a:ext cx="1409760" cy="457200"/>
          </a:xfrm>
          <a:custGeom>
            <a:avLst/>
            <a:gdLst/>
            <a:ahLst/>
            <a:rect l="l" t="t" r="r" b="b"/>
            <a:pathLst>
              <a:path w="888" h="288">
                <a:moveTo>
                  <a:pt x="0" y="288"/>
                </a:moveTo>
                <a:lnTo>
                  <a:pt x="888" y="288"/>
                </a:lnTo>
                <a:lnTo>
                  <a:pt x="888" y="0"/>
                </a:lnTo>
              </a:path>
            </a:pathLst>
          </a:custGeom>
          <a:noFill/>
          <a:ln w="93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84240" y="4799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46680" y="4368960"/>
            <a:ext cx="465120" cy="34740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384880" y="4305240"/>
            <a:ext cx="1041480" cy="216000"/>
          </a:xfrm>
          <a:custGeom>
            <a:avLst/>
            <a:gdLst/>
            <a:ahLst/>
            <a:rect l="l" t="t" r="r" b="b"/>
            <a:pathLst>
              <a:path w="888" h="288">
                <a:moveTo>
                  <a:pt x="0" y="288"/>
                </a:moveTo>
                <a:lnTo>
                  <a:pt x="888" y="288"/>
                </a:lnTo>
                <a:lnTo>
                  <a:pt x="888" y="0"/>
                </a:lnTo>
              </a:path>
            </a:pathLst>
          </a:custGeom>
          <a:noFill/>
          <a:ln w="93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484240" y="4214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gast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1680" y="879480"/>
            <a:ext cx="50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régulation de la production du suc gast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1520" y="1268280"/>
            <a:ext cx="75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duction acide : externalisation / internalisation du complexe sécré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68800" y="3639960"/>
            <a:ext cx="3417840" cy="1802160"/>
          </a:xfrm>
          <a:prstGeom prst="roundRect">
            <a:avLst>
              <a:gd name="adj" fmla="val 12495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740720" y="3606840"/>
            <a:ext cx="15408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893000" y="3376440"/>
            <a:ext cx="109440" cy="49536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35960" y="3384720"/>
            <a:ext cx="110880" cy="49500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823160" y="313704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16200000">
            <a:off x="7077600" y="3469320"/>
            <a:ext cx="316080" cy="314280"/>
          </a:xfrm>
          <a:prstGeom prst="ellipse">
            <a:avLst/>
          </a:prstGeom>
          <a:gradFill rotWithShape="0">
            <a:gsLst>
              <a:gs pos="0">
                <a:srgbClr val="fe8d8d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909200" y="290052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l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80000" y="3625920"/>
            <a:ext cx="154080" cy="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32640" y="3395520"/>
            <a:ext cx="111240" cy="49536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375240" y="3403440"/>
            <a:ext cx="113040" cy="49536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564240" y="315612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38760" y="390996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46680" y="3835440"/>
            <a:ext cx="465120" cy="347760"/>
          </a:xfrm>
          <a:prstGeom prst="rect">
            <a:avLst/>
          </a:prstGeom>
          <a:gradFill rotWithShape="0">
            <a:gsLst>
              <a:gs pos="0">
                <a:srgbClr val="fed9d9"/>
              </a:gs>
              <a:gs pos="100000">
                <a:srgbClr val="ff1313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54080" y="5929200"/>
            <a:ext cx="41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h + histamine : effet potentialisa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9640" y="2820960"/>
            <a:ext cx="54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thérapeutique anti-acide : synergie médicament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oméprazole + atropine + cimétid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98880" y="4863960"/>
            <a:ext cx="1562040" cy="470160"/>
          </a:xfrm>
          <a:prstGeom prst="rightArrow">
            <a:avLst>
              <a:gd name="adj1" fmla="val 50000"/>
              <a:gd name="adj2" fmla="val 8305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imétidine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74840" y="3784680"/>
            <a:ext cx="1562400" cy="469800"/>
          </a:xfrm>
          <a:prstGeom prst="rightArrow">
            <a:avLst>
              <a:gd name="adj1" fmla="val 50000"/>
              <a:gd name="adj2" fmla="val 8314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tropine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rot="2766600">
            <a:off x="5552640" y="2400480"/>
            <a:ext cx="1968480" cy="469800"/>
          </a:xfrm>
          <a:prstGeom prst="rightArrow">
            <a:avLst>
              <a:gd name="adj1" fmla="val 50000"/>
              <a:gd name="adj2" fmla="val 10475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acépromazole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830840" y="4923000"/>
            <a:ext cx="465120" cy="347400"/>
          </a:xfrm>
          <a:prstGeom prst="rect">
            <a:avLst/>
          </a:prstGeom>
          <a:gradFill rotWithShape="0">
            <a:gsLst>
              <a:gs pos="0">
                <a:srgbClr val="eaeaf9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846680" y="4368960"/>
            <a:ext cx="465120" cy="34740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84240" y="4214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397480" y="4521240"/>
            <a:ext cx="8254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gast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4840" y="1693800"/>
            <a:ext cx="755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inhibition de la sécrétion acid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stomac (antr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rétroaction négative : pH ba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gastrine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inhibition production H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uodénum :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pH ba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sécrétine, réflexe nerveux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inhibition production HCl, gast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uodénum et jéjunum :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olution hyperosmotique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 ?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inhibition production H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acides gras, monoglycérides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GIP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inhibition production HCl, gast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1680" y="879480"/>
            <a:ext cx="50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régulation de la production du suc gast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1520" y="1268280"/>
            <a:ext cx="75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duction acide : externalisation / internalisation du complexe sécré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gast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625760" y="431640"/>
            <a:ext cx="43084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90960" y="879480"/>
            <a:ext cx="76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ifférentes phase de la modulation de la production du suc gast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60240" y="1798560"/>
            <a:ext cx="724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990000"/>
                </a:solidFill>
                <a:latin typeface="Arial"/>
              </a:rPr>
              <a:t>phase céphaliqu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timulation du nerf vague :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st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990000"/>
                </a:solidFill>
                <a:latin typeface="Arial"/>
              </a:rPr>
              <a:t>phase gastriqu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distension gastrique, pepton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production de gastrine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st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990000"/>
                </a:solidFill>
                <a:latin typeface="Arial"/>
              </a:rPr>
              <a:t>phase intestinal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lipide, pH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production de sécrétine, GIP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inhib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pancré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131920" y="2617920"/>
            <a:ext cx="5897160" cy="2935800"/>
            <a:chOff x="2131920" y="2617920"/>
            <a:chExt cx="5897160" cy="2935800"/>
          </a:xfrm>
        </p:grpSpPr>
        <p:pic>
          <p:nvPicPr>
            <p:cNvPr id="569" name="" descr=""/>
            <p:cNvPicPr/>
            <p:nvPr/>
          </p:nvPicPr>
          <p:blipFill>
            <a:blip r:embed="rId1"/>
            <a:stretch/>
          </p:blipFill>
          <p:spPr>
            <a:xfrm>
              <a:off x="2151000" y="2911320"/>
              <a:ext cx="587808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2751120" y="4610160"/>
              <a:ext cx="0" cy="6296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31920" y="521640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Arial"/>
                </a:rPr>
                <a:t>duodén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271680" y="2765160"/>
              <a:ext cx="205920" cy="479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24920" y="2673360"/>
              <a:ext cx="49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Arial"/>
                </a:rPr>
                <a:t>b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357520" y="2849040"/>
              <a:ext cx="502920" cy="6742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786280" y="2617920"/>
              <a:ext cx="2098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Arial"/>
                </a:rPr>
                <a:t>ilots de Langerha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Arial"/>
                </a:rPr>
                <a:t>(pancréas endocri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6960" y="4321080"/>
              <a:ext cx="0" cy="5871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95520" y="3889440"/>
              <a:ext cx="0" cy="10267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801240" y="4862520"/>
              <a:ext cx="83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Arial"/>
                </a:rPr>
                <a:t>cana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14920" y="4862520"/>
              <a:ext cx="76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Arial"/>
                </a:rPr>
                <a:t>acin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871800" y="5129280"/>
              <a:ext cx="1577520" cy="102600"/>
            </a:xfrm>
            <a:custGeom>
              <a:avLst/>
              <a:gdLst/>
              <a:ahLst/>
              <a:rect l="l" t="t" r="r" b="b"/>
              <a:pathLst>
                <a:path w="828" h="54">
                  <a:moveTo>
                    <a:pt x="0" y="0"/>
                  </a:moveTo>
                  <a:lnTo>
                    <a:pt x="0" y="54"/>
                  </a:lnTo>
                  <a:lnTo>
                    <a:pt x="828" y="54"/>
                  </a:lnTo>
                  <a:lnTo>
                    <a:pt x="828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83520" y="5191200"/>
              <a:ext cx="197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Arial"/>
                </a:rPr>
                <a:t>(pancréas exocri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2888640" y="4130640"/>
              <a:ext cx="479160" cy="399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03520" y="3489120"/>
              <a:ext cx="124920" cy="777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396360" y="879480"/>
            <a:ext cx="48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ancréas : sécrétion exocrine et endoc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2280" y="5751360"/>
            <a:ext cx="62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écrétion endoc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insuline, glucagon, somatostatine, polypeptide pancré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12360" y="1293840"/>
            <a:ext cx="367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écrétion exocrine (1 à 2 litres / j)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écrétion enzym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écrétion aqueuse alca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"/>
          <p:cNvGraphicFramePr/>
          <p:nvPr/>
        </p:nvGraphicFramePr>
        <p:xfrm>
          <a:off x="698400" y="1562040"/>
          <a:ext cx="1943280" cy="365040"/>
        </p:xfrm>
        <a:graphic>
          <a:graphicData uri="http://schemas.openxmlformats.org/drawingml/2006/table">
            <a:tbl>
              <a:tblPr/>
              <a:tblGrid>
                <a:gridCol w="1943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-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pancré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6720" y="879480"/>
            <a:ext cx="48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rincipales enzymes &amp; protéines associ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01720" y="599292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glucides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384200" y="2108160"/>
            <a:ext cx="0" cy="38228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osition du probl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357720" y="1376280"/>
            <a:ext cx="2157120" cy="4400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991120" y="13003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03640" y="1536840"/>
            <a:ext cx="102888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807160" y="1006560"/>
          <a:ext cx="1562040" cy="1754280"/>
        </p:xfrm>
        <a:graphic>
          <a:graphicData uri="http://schemas.openxmlformats.org/drawingml/2006/table">
            <a:tbl>
              <a:tblPr/>
              <a:tblGrid>
                <a:gridCol w="156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hypot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sal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HC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GB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-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lysos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553000" y="2989440"/>
          <a:ext cx="2540160" cy="1536480"/>
        </p:xfrm>
        <a:graphic>
          <a:graphicData uri="http://schemas.openxmlformats.org/drawingml/2006/table">
            <a:tbl>
              <a:tblPr/>
              <a:tblGrid>
                <a:gridCol w="2540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estom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H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psinogè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facteur intrinsèque (F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5857920" y="31082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73640" y="3187800"/>
            <a:ext cx="9907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3040" y="861840"/>
            <a:ext cx="32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écrétions exocrines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698400" y="1562040"/>
          <a:ext cx="1943280" cy="365040"/>
        </p:xfrm>
        <a:graphic>
          <a:graphicData uri="http://schemas.openxmlformats.org/drawingml/2006/table">
            <a:tbl>
              <a:tblPr/>
              <a:tblGrid>
                <a:gridCol w="1943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-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pancré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6720" y="879480"/>
            <a:ext cx="48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rincipales enzymes &amp; protéines associ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2730600" y="1562040"/>
          <a:ext cx="3009960" cy="1095480"/>
        </p:xfrm>
        <a:graphic>
          <a:graphicData uri="http://schemas.openxmlformats.org/drawingml/2006/table">
            <a:tbl>
              <a:tblPr/>
              <a:tblGrid>
                <a:gridCol w="3009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triacylglycérol hydro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hospholipase 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holestérol ester hydro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0" name=""/>
          <p:cNvSpPr/>
          <p:nvPr/>
        </p:nvSpPr>
        <p:spPr>
          <a:xfrm>
            <a:off x="801720" y="5992920"/>
            <a:ext cx="56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glucides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ipides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384200" y="2108160"/>
            <a:ext cx="0" cy="38228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000680" y="2793960"/>
            <a:ext cx="0" cy="31496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3" name=""/>
          <p:cNvGraphicFramePr/>
          <p:nvPr/>
        </p:nvGraphicFramePr>
        <p:xfrm>
          <a:off x="698400" y="1562040"/>
          <a:ext cx="1943280" cy="365040"/>
        </p:xfrm>
        <a:graphic>
          <a:graphicData uri="http://schemas.openxmlformats.org/drawingml/2006/table">
            <a:tbl>
              <a:tblPr/>
              <a:tblGrid>
                <a:gridCol w="1943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-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4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pancré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96720" y="879480"/>
            <a:ext cx="48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rincipales enzymes &amp; protéines associ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2730600" y="1562040"/>
          <a:ext cx="3009960" cy="1095480"/>
        </p:xfrm>
        <a:graphic>
          <a:graphicData uri="http://schemas.openxmlformats.org/drawingml/2006/table">
            <a:tbl>
              <a:tblPr/>
              <a:tblGrid>
                <a:gridCol w="3009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triacylglycérol hydro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hospholipase 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holestérol ester hydro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5918040" y="1566720"/>
          <a:ext cx="2819520" cy="401652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rocarboxypeptidase 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rocarboxypeptidase 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rocarboxypeptidase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rocarboxypeptidase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trypsinogèn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trypsinogèn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trypsinogèn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hymotrypsinogè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roélastas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roélastas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hibiteur de la tryps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0" name=""/>
          <p:cNvSpPr/>
          <p:nvPr/>
        </p:nvSpPr>
        <p:spPr>
          <a:xfrm>
            <a:off x="803160" y="5992920"/>
            <a:ext cx="66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glucides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ipides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roté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384200" y="2108160"/>
            <a:ext cx="0" cy="38228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000680" y="2793960"/>
            <a:ext cx="0" cy="31496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70600" y="5676840"/>
            <a:ext cx="0" cy="2923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4" name=""/>
          <p:cNvGraphicFramePr/>
          <p:nvPr/>
        </p:nvGraphicFramePr>
        <p:xfrm>
          <a:off x="698400" y="1562040"/>
          <a:ext cx="1943280" cy="365040"/>
        </p:xfrm>
        <a:graphic>
          <a:graphicData uri="http://schemas.openxmlformats.org/drawingml/2006/table">
            <a:tbl>
              <a:tblPr/>
              <a:tblGrid>
                <a:gridCol w="1943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-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pancré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96000" y="87948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écrétion enzym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01720" y="599292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glucides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384200" y="2108160"/>
            <a:ext cx="0" cy="38228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984400" y="3133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amylase pancré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polysaccharid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disacchar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pancré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698400" y="1562040"/>
          <a:ext cx="3009960" cy="1095480"/>
        </p:xfrm>
        <a:graphic>
          <a:graphicData uri="http://schemas.openxmlformats.org/drawingml/2006/table">
            <a:tbl>
              <a:tblPr/>
              <a:tblGrid>
                <a:gridCol w="3009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triacylglycérol hydro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hospholipase 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holestérol ester hydro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>
                      <a:noFill/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6" name=""/>
          <p:cNvSpPr/>
          <p:nvPr/>
        </p:nvSpPr>
        <p:spPr>
          <a:xfrm>
            <a:off x="977760" y="599292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ipides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84200" y="2832120"/>
            <a:ext cx="0" cy="30988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43200" y="3357720"/>
            <a:ext cx="623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lipase pancré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eule enzyme capable d’une digestion complète des li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insuffisante pancréatique exocrine : stéatorrh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96000" y="87948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écrétion enzym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4916520" y="3105000"/>
            <a:ext cx="1485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trypsino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82440" y="3711600"/>
            <a:ext cx="21574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hymotrypsino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542840" y="4896000"/>
            <a:ext cx="2296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procarboxypeptid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97440" y="2117880"/>
            <a:ext cx="1485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entérokin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278120" y="3105000"/>
            <a:ext cx="979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try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800240" y="4324320"/>
            <a:ext cx="16513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hymotry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17080" y="5460840"/>
            <a:ext cx="196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arboxypeptid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38880" y="2496960"/>
            <a:ext cx="0" cy="58608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485040" y="3349800"/>
            <a:ext cx="60804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721480" y="2841480"/>
            <a:ext cx="2062080" cy="231840"/>
          </a:xfrm>
          <a:custGeom>
            <a:avLst/>
            <a:gdLst/>
            <a:ahLst/>
            <a:rect l="l" t="t" r="r" b="b"/>
            <a:pathLst>
              <a:path w="1182" h="132">
                <a:moveTo>
                  <a:pt x="1182" y="132"/>
                </a:moveTo>
                <a:lnTo>
                  <a:pt x="1182" y="0"/>
                </a:lnTo>
                <a:lnTo>
                  <a:pt x="0" y="0"/>
                </a:lnTo>
                <a:lnTo>
                  <a:pt x="0" y="132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783560" y="3506760"/>
            <a:ext cx="0" cy="16653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6883560" y="5162400"/>
            <a:ext cx="90000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6840360" y="3936960"/>
            <a:ext cx="94320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931000" y="4114800"/>
            <a:ext cx="0" cy="198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951520" y="5319720"/>
            <a:ext cx="0" cy="19836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6000" y="87948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écrétion enzym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51320" y="4011480"/>
            <a:ext cx="30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activation dans le duodé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4240" y="1579680"/>
            <a:ext cx="3441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Arial"/>
              </a:rPr>
              <a:t>proté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écrétées sous forme inactice (zymogène)  + inhibiteur de la tryp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protection du pancréas contre ses propres proté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15080" y="15606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uodé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pancré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pancré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73600" y="1455480"/>
            <a:ext cx="335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liquide alcalin riche en NaHCO</a:t>
            </a:r>
            <a:r>
              <a:rPr b="0" lang="en-GB" sz="1800" spc="-1" strike="noStrike" baseline="-25000">
                <a:solidFill>
                  <a:srgbClr val="99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219400" y="2862360"/>
            <a:ext cx="4251240" cy="2168280"/>
          </a:xfrm>
          <a:prstGeom prst="roundRect">
            <a:avLst>
              <a:gd name="adj" fmla="val 12495"/>
            </a:avLst>
          </a:prstGeom>
          <a:noFill/>
          <a:ln cap="rnd"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284720" y="4592520"/>
            <a:ext cx="5104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4284720" y="4585320"/>
            <a:ext cx="510480" cy="8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557240" y="4336920"/>
            <a:ext cx="5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322600" y="562284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70280" y="4621320"/>
            <a:ext cx="5140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770280" y="4610880"/>
            <a:ext cx="514080" cy="82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94240" y="2852640"/>
            <a:ext cx="15408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646520" y="2620800"/>
            <a:ext cx="109800" cy="49536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389480" y="2629080"/>
            <a:ext cx="112680" cy="49500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78480" y="238140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4106160" y="4869360"/>
            <a:ext cx="315720" cy="31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5169600" y="2705400"/>
            <a:ext cx="315720" cy="333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146560" y="2444760"/>
            <a:ext cx="0" cy="81432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89640" y="2432160"/>
            <a:ext cx="0" cy="84132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621320" y="310680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l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334480" y="2125800"/>
            <a:ext cx="73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664520" y="215568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l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585120" y="2433600"/>
            <a:ext cx="0" cy="278784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65000" y="3760920"/>
            <a:ext cx="2237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+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O        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672000" y="3986280"/>
            <a:ext cx="342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41920" y="3983040"/>
            <a:ext cx="342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295600" y="383544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565240" y="5614920"/>
            <a:ext cx="91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+ 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77040" y="4170240"/>
            <a:ext cx="0" cy="28440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487840" y="3333600"/>
            <a:ext cx="0" cy="285840"/>
          </a:xfrm>
          <a:prstGeom prst="line">
            <a:avLst/>
          </a:prstGeom>
          <a:ln w="19080">
            <a:solidFill>
              <a:srgbClr val="00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612960" y="35434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52720" y="2322360"/>
            <a:ext cx="126900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ôle ap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141560" y="5148360"/>
            <a:ext cx="121860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ôle b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807280" y="5637240"/>
            <a:ext cx="2183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+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         H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846600" y="5803920"/>
            <a:ext cx="342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997520" y="5805360"/>
            <a:ext cx="342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697120" y="4192560"/>
            <a:ext cx="117360" cy="1612800"/>
          </a:xfrm>
          <a:custGeom>
            <a:avLst/>
            <a:gdLst/>
            <a:ahLst/>
            <a:rect l="l" t="t" r="r" b="b"/>
            <a:pathLst>
              <a:path w="90" h="756">
                <a:moveTo>
                  <a:pt x="90" y="756"/>
                </a:moveTo>
                <a:lnTo>
                  <a:pt x="0" y="7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322680" y="2109960"/>
            <a:ext cx="5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Na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050080" y="3587760"/>
            <a:ext cx="73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HCO</a:t>
            </a:r>
            <a:r>
              <a:rPr b="1" lang="fr-FR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30240" y="436104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fr-FR" sz="16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568680" y="5006880"/>
            <a:ext cx="154080" cy="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720960" y="4757760"/>
            <a:ext cx="111240" cy="495360"/>
          </a:xfrm>
          <a:custGeom>
            <a:avLst/>
            <a:gdLst/>
            <a:ahLst/>
            <a:rect l="l" t="t" r="r" b="b"/>
            <a:pathLst>
              <a:path w="72" h="325">
                <a:moveTo>
                  <a:pt x="71" y="0"/>
                </a:moveTo>
                <a:lnTo>
                  <a:pt x="0" y="0"/>
                </a:lnTo>
                <a:lnTo>
                  <a:pt x="0" y="324"/>
                </a:lnTo>
                <a:lnTo>
                  <a:pt x="71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63920" y="4765680"/>
            <a:ext cx="112680" cy="495360"/>
          </a:xfrm>
          <a:custGeom>
            <a:avLst/>
            <a:gdLst/>
            <a:ahLst/>
            <a:rect l="l" t="t" r="r" b="b"/>
            <a:pathLst>
              <a:path w="73" h="325">
                <a:moveTo>
                  <a:pt x="0" y="0"/>
                </a:moveTo>
                <a:lnTo>
                  <a:pt x="72" y="0"/>
                </a:lnTo>
                <a:lnTo>
                  <a:pt x="72" y="324"/>
                </a:lnTo>
                <a:lnTo>
                  <a:pt x="0" y="324"/>
                </a:lnTo>
              </a:path>
            </a:pathLst>
          </a:custGeom>
          <a:noFill/>
          <a:ln cap="rnd"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652920" y="4518000"/>
            <a:ext cx="0" cy="981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rot="16200000">
            <a:off x="5157720" y="4832280"/>
            <a:ext cx="316080" cy="331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5478480" y="4592160"/>
            <a:ext cx="0" cy="81468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146560" y="4556160"/>
            <a:ext cx="0" cy="84132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95640" y="87948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écrétion aqueuse alca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39200" y="3592440"/>
            <a:ext cx="14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ell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canali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pancré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95640" y="87948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écrétion aqueuse alca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970920" y="1648800"/>
            <a:ext cx="70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parois des canaux perméables à l’eau : suc pancréatique isoto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460600" y="2517840"/>
            <a:ext cx="3772080" cy="2562120"/>
          </a:xfrm>
          <a:custGeom>
            <a:avLst/>
            <a:gdLst/>
            <a:ahLst/>
            <a:rect l="l" t="t" r="r" b="b"/>
            <a:pathLst>
              <a:path w="2376" h="1614">
                <a:moveTo>
                  <a:pt x="0" y="0"/>
                </a:moveTo>
                <a:lnTo>
                  <a:pt x="0" y="1614"/>
                </a:lnTo>
                <a:lnTo>
                  <a:pt x="2376" y="1614"/>
                </a:lnTo>
              </a:path>
            </a:pathLst>
          </a:custGeom>
          <a:noFill/>
          <a:ln w="936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460600" y="2955960"/>
            <a:ext cx="368604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67120" y="2616120"/>
            <a:ext cx="5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Na</a:t>
            </a:r>
            <a:r>
              <a:rPr b="1" lang="fr-FR" sz="1600" spc="-1" strike="noStrike" baseline="30000">
                <a:solidFill>
                  <a:srgbClr val="99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rot="10800000">
            <a:off x="2460600" y="3032640"/>
            <a:ext cx="7333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 rot="10800000">
            <a:off x="2460600" y="3107880"/>
            <a:ext cx="7333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72600" y="51642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dé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580360" y="3073320"/>
            <a:ext cx="73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HCO</a:t>
            </a:r>
            <a:r>
              <a:rPr b="1" lang="fr-FR" sz="1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fr-FR" sz="16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737680" y="4483080"/>
            <a:ext cx="4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8080"/>
                </a:solidFill>
                <a:latin typeface="Arial"/>
              </a:rPr>
              <a:t>Cl</a:t>
            </a:r>
            <a:r>
              <a:rPr b="1" lang="fr-FR" sz="1600" spc="-1" strike="noStrike" baseline="30000">
                <a:solidFill>
                  <a:srgbClr val="00808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165320" y="580464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effet du débit sur la compos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rot="16200000">
            <a:off x="1206360" y="34272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pancré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4200" y="879480"/>
            <a:ext cx="44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régulation de la sécrétion pancré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276200" y="2143080"/>
            <a:ext cx="7175520" cy="4056840"/>
            <a:chOff x="1276200" y="2143080"/>
            <a:chExt cx="7175520" cy="4056840"/>
          </a:xfrm>
        </p:grpSpPr>
        <p:sp>
          <p:nvSpPr>
            <p:cNvPr id="721" name=""/>
            <p:cNvSpPr/>
            <p:nvPr/>
          </p:nvSpPr>
          <p:spPr>
            <a:xfrm>
              <a:off x="6697440" y="2293920"/>
              <a:ext cx="919080" cy="30708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1beb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1" lang="fr-FR" sz="1400" spc="-1" strike="noStrike">
                  <a:solidFill>
                    <a:srgbClr val="000066"/>
                  </a:solidFill>
                  <a:latin typeface="Arial"/>
                </a:rPr>
                <a:t>SNC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149640" y="3055680"/>
              <a:ext cx="4937040" cy="88740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ec4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65640" y="2678040"/>
              <a:ext cx="0" cy="3888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946680" y="389412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956280" y="26683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A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605040" y="4940280"/>
              <a:ext cx="3932280" cy="582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50000">
                  <a:srgbClr val="feb382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719520" y="5032080"/>
              <a:ext cx="480960" cy="435240"/>
            </a:xfrm>
            <a:prstGeom prst="rect">
              <a:avLst/>
            </a:prstGeom>
            <a:gradFill rotWithShape="0">
              <a:gsLst>
                <a:gs pos="0">
                  <a:srgbClr val="b5d2d2"/>
                </a:gs>
                <a:gs pos="100000">
                  <a:srgbClr val="0066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965480" y="5020920"/>
              <a:ext cx="1908360" cy="433440"/>
            </a:xfrm>
            <a:prstGeom prst="rect">
              <a:avLst/>
            </a:prstGeom>
            <a:gradFill rotWithShape="0">
              <a:gsLst>
                <a:gs pos="0">
                  <a:srgbClr val="b5d2d2"/>
                </a:gs>
                <a:gs pos="100000">
                  <a:srgbClr val="0066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665520" y="5862600"/>
              <a:ext cx="82224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acidit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29680" y="5862600"/>
              <a:ext cx="89100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gra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925520" y="5859360"/>
              <a:ext cx="47340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A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3960720" y="3660120"/>
              <a:ext cx="0" cy="136044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6257880" y="3671640"/>
              <a:ext cx="0" cy="13384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406320" y="4362120"/>
              <a:ext cx="1070640" cy="337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Arial"/>
                </a:rPr>
                <a:t>sécrét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903640" y="4362120"/>
              <a:ext cx="619560" cy="337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Arial"/>
                </a:rPr>
                <a:t>C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3971880" y="5466960"/>
              <a:ext cx="0" cy="376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6016320" y="5466960"/>
              <a:ext cx="0" cy="376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400560" y="3296880"/>
              <a:ext cx="23220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Arial"/>
                </a:rPr>
                <a:t>cellules canaliculai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839200" y="3294000"/>
              <a:ext cx="19609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990000"/>
                  </a:solidFill>
                  <a:latin typeface="Arial"/>
                </a:rPr>
                <a:t>cellules acineu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354000" y="393372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637320" y="263808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5145120" y="5473440"/>
              <a:ext cx="0" cy="378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886440" y="2427120"/>
              <a:ext cx="1565280" cy="2811600"/>
            </a:xfrm>
            <a:custGeom>
              <a:avLst/>
              <a:gdLst/>
              <a:ahLst/>
              <a:rect l="l" t="t" r="r" b="b"/>
              <a:pathLst>
                <a:path w="822" h="1662">
                  <a:moveTo>
                    <a:pt x="0" y="1662"/>
                  </a:moveTo>
                  <a:lnTo>
                    <a:pt x="822" y="1662"/>
                  </a:lnTo>
                  <a:lnTo>
                    <a:pt x="822" y="0"/>
                  </a:lnTo>
                  <a:lnTo>
                    <a:pt x="39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137200" y="2145960"/>
              <a:ext cx="140760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sécré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enzymat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00680" y="2143080"/>
              <a:ext cx="180216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sécré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alcaline aque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480920" y="4547880"/>
              <a:ext cx="142092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469040" y="427644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6119640" y="2739960"/>
              <a:ext cx="0" cy="51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4257360" y="2749320"/>
              <a:ext cx="0" cy="503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76200" y="4929120"/>
              <a:ext cx="22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66"/>
                  </a:solidFill>
                  <a:latin typeface="Arial"/>
                </a:rPr>
                <a:t>chémorécepteur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6666"/>
                  </a:solidFill>
                  <a:latin typeface="Arial"/>
                </a:rPr>
                <a:t>duodéna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95720" y="1265400"/>
            <a:ext cx="2983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horm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duodénum : sécrétine, C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990000"/>
                </a:solidFill>
                <a:latin typeface="Arial"/>
              </a:rPr>
              <a:t>parasympath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A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pancré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94200" y="879480"/>
            <a:ext cx="44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régulation de la sécrétion pancré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184400" y="1646280"/>
            <a:ext cx="5406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990000"/>
                </a:solidFill>
                <a:latin typeface="Arial"/>
              </a:rPr>
              <a:t>phase céphaliqu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timulation du nerf vague :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timulation </a:t>
            </a: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sécrétion enzymatique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990000"/>
                </a:solidFill>
                <a:latin typeface="Arial"/>
              </a:rPr>
              <a:t>phase gastriqu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distension gastrique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réflexe vago-vag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timulation </a:t>
            </a: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sécrétion enzymatique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990000"/>
                </a:solidFill>
                <a:latin typeface="Arial"/>
              </a:rPr>
              <a:t>phase intestinal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pH ba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sécrétine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timulation </a:t>
            </a: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sécrétion aqueuse alca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acides gras, acides aminés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C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réflexe vago-vagal entéro-pancré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timulation </a:t>
            </a: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sécrétion enzymatique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626400" y="1471680"/>
            <a:ext cx="42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foie : organe comple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990000"/>
                </a:solidFill>
                <a:latin typeface="Arial"/>
              </a:rPr>
              <a:t>fonction métabo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glucides, lipides, proté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ynthèse, élimination,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bili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93840" y="87948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foie et diges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osition du probl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357720" y="1376280"/>
            <a:ext cx="2157120" cy="4400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991120" y="13003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1536840"/>
            <a:ext cx="102888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807160" y="1006560"/>
          <a:ext cx="1562040" cy="1754280"/>
        </p:xfrm>
        <a:graphic>
          <a:graphicData uri="http://schemas.openxmlformats.org/drawingml/2006/table">
            <a:tbl>
              <a:tblPr/>
              <a:tblGrid>
                <a:gridCol w="156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hypot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sal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HC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GB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-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lysos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553000" y="2989440"/>
          <a:ext cx="2540160" cy="1536480"/>
        </p:xfrm>
        <a:graphic>
          <a:graphicData uri="http://schemas.openxmlformats.org/drawingml/2006/table">
            <a:tbl>
              <a:tblPr/>
              <a:tblGrid>
                <a:gridCol w="2540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estom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H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psinogè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facteur intrinsèque (F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5857920" y="31082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73640" y="3187800"/>
            <a:ext cx="9907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3040" y="861840"/>
            <a:ext cx="32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écrétions exocrines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273320" y="1625760"/>
          <a:ext cx="1952640" cy="1753920"/>
        </p:xfrm>
        <a:graphic>
          <a:graphicData uri="http://schemas.openxmlformats.org/drawingml/2006/table">
            <a:tbl>
              <a:tblPr/>
              <a:tblGrid>
                <a:gridCol w="1952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els bil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igments bil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lécith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holesté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foie (bi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558800" y="30020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78160" y="3213000"/>
            <a:ext cx="14223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650880" y="1471680"/>
            <a:ext cx="6334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foie : organe comple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990000"/>
                </a:solidFill>
                <a:latin typeface="Arial"/>
              </a:rPr>
              <a:t>fonction métabo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glucides, lipides, proté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ynthèse, élimination,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990000"/>
                </a:solidFill>
                <a:latin typeface="Arial"/>
              </a:rPr>
              <a:t>traitement des déchets orga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catabolisme protéique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ur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catabolisme lipidique (cholestérol)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acides bili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catabolisme de l’hémoglobine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pigments bili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bili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93840" y="87948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foie et diges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650880" y="1471680"/>
            <a:ext cx="6334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foie : organe complex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990000"/>
                </a:solidFill>
                <a:latin typeface="Arial"/>
              </a:rPr>
              <a:t>fonction métabo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glucides, lipides, proté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ynthèse, élimination,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990000"/>
                </a:solidFill>
                <a:latin typeface="Arial"/>
              </a:rPr>
              <a:t>traitement des déchets orga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catabolisme protéique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ur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catabolisme lipidique (cholestérol)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acides bili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catabolisme de l’hémoglobine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pigments bili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fr-FR" sz="1800" spc="-1" strike="noStrike">
                <a:solidFill>
                  <a:srgbClr val="990000"/>
                </a:solidFill>
                <a:latin typeface="Arial"/>
              </a:rPr>
              <a:t>dig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Arial"/>
              </a:rPr>
              <a:t>rôle des acides bili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bili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3840" y="87948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foie et diges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bili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32160" y="1405080"/>
            <a:ext cx="7841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écrétion biliaire : production de la bile par les hépatoc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bile hépatocy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modifiée dans les canaux bili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bile cana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tockée et modifiée dans la vésicule bili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bile vési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excrétion bili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contraction du muscle lisse vésiculaire et du canal cholédo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libération dans le duodé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ides biliaires : métabolites du cholesté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ides biliaires conjugés à la choline ou à la taurine : sels bili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NB : différents des pigments biliaires = bilirubine (dégradation hémoglob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93840" y="87948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bile : sécrétion exocrine du fo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bili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1040" y="1468440"/>
            <a:ext cx="79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émulsifiants des graiss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formation de micelles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solubilisation des li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action des lipases facilitée ; absorption des lipides facilit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5280" y="879480"/>
            <a:ext cx="35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écrétion et excrétion biliai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308560" y="2314440"/>
            <a:ext cx="3164040" cy="3810240"/>
          </a:xfrm>
          <a:custGeom>
            <a:avLst/>
            <a:gdLst/>
            <a:ahLst/>
            <a:rect l="l" t="t" r="r" b="b"/>
            <a:pathLst>
              <a:path w="1993" h="2400">
                <a:moveTo>
                  <a:pt x="1984" y="2400"/>
                </a:moveTo>
                <a:cubicBezTo>
                  <a:pt x="1983" y="2309"/>
                  <a:pt x="1993" y="1991"/>
                  <a:pt x="1976" y="1856"/>
                </a:cubicBezTo>
                <a:cubicBezTo>
                  <a:pt x="1959" y="1721"/>
                  <a:pt x="1899" y="1817"/>
                  <a:pt x="1880" y="1592"/>
                </a:cubicBezTo>
                <a:cubicBezTo>
                  <a:pt x="1861" y="1367"/>
                  <a:pt x="1868" y="735"/>
                  <a:pt x="1864" y="504"/>
                </a:cubicBezTo>
                <a:cubicBezTo>
                  <a:pt x="1860" y="273"/>
                  <a:pt x="1887" y="255"/>
                  <a:pt x="1856" y="208"/>
                </a:cubicBezTo>
                <a:cubicBezTo>
                  <a:pt x="1825" y="161"/>
                  <a:pt x="1709" y="187"/>
                  <a:pt x="1680" y="224"/>
                </a:cubicBezTo>
                <a:cubicBezTo>
                  <a:pt x="1651" y="261"/>
                  <a:pt x="1681" y="313"/>
                  <a:pt x="1680" y="432"/>
                </a:cubicBezTo>
                <a:cubicBezTo>
                  <a:pt x="1679" y="551"/>
                  <a:pt x="1677" y="821"/>
                  <a:pt x="1672" y="936"/>
                </a:cubicBezTo>
                <a:cubicBezTo>
                  <a:pt x="1667" y="1051"/>
                  <a:pt x="1667" y="1111"/>
                  <a:pt x="1648" y="1120"/>
                </a:cubicBezTo>
                <a:cubicBezTo>
                  <a:pt x="1629" y="1129"/>
                  <a:pt x="1599" y="1052"/>
                  <a:pt x="1560" y="992"/>
                </a:cubicBezTo>
                <a:cubicBezTo>
                  <a:pt x="1521" y="932"/>
                  <a:pt x="1485" y="841"/>
                  <a:pt x="1416" y="760"/>
                </a:cubicBezTo>
                <a:cubicBezTo>
                  <a:pt x="1347" y="679"/>
                  <a:pt x="1167" y="567"/>
                  <a:pt x="1144" y="504"/>
                </a:cubicBezTo>
                <a:cubicBezTo>
                  <a:pt x="1121" y="441"/>
                  <a:pt x="1221" y="437"/>
                  <a:pt x="1280" y="384"/>
                </a:cubicBezTo>
                <a:cubicBezTo>
                  <a:pt x="1339" y="331"/>
                  <a:pt x="1501" y="237"/>
                  <a:pt x="1496" y="184"/>
                </a:cubicBezTo>
                <a:cubicBezTo>
                  <a:pt x="1491" y="131"/>
                  <a:pt x="1369" y="75"/>
                  <a:pt x="1248" y="64"/>
                </a:cubicBezTo>
                <a:cubicBezTo>
                  <a:pt x="1127" y="53"/>
                  <a:pt x="943" y="123"/>
                  <a:pt x="768" y="120"/>
                </a:cubicBezTo>
                <a:cubicBezTo>
                  <a:pt x="593" y="117"/>
                  <a:pt x="315" y="0"/>
                  <a:pt x="200" y="48"/>
                </a:cubicBezTo>
                <a:cubicBezTo>
                  <a:pt x="85" y="96"/>
                  <a:pt x="96" y="289"/>
                  <a:pt x="80" y="408"/>
                </a:cubicBezTo>
                <a:cubicBezTo>
                  <a:pt x="64" y="527"/>
                  <a:pt x="111" y="620"/>
                  <a:pt x="104" y="760"/>
                </a:cubicBezTo>
                <a:cubicBezTo>
                  <a:pt x="97" y="900"/>
                  <a:pt x="0" y="1177"/>
                  <a:pt x="40" y="1248"/>
                </a:cubicBezTo>
                <a:cubicBezTo>
                  <a:pt x="80" y="1319"/>
                  <a:pt x="201" y="1279"/>
                  <a:pt x="344" y="1184"/>
                </a:cubicBezTo>
                <a:cubicBezTo>
                  <a:pt x="487" y="1089"/>
                  <a:pt x="740" y="733"/>
                  <a:pt x="896" y="680"/>
                </a:cubicBezTo>
                <a:cubicBezTo>
                  <a:pt x="1052" y="627"/>
                  <a:pt x="1163" y="755"/>
                  <a:pt x="1280" y="864"/>
                </a:cubicBezTo>
                <a:cubicBezTo>
                  <a:pt x="1397" y="973"/>
                  <a:pt x="1535" y="1208"/>
                  <a:pt x="1600" y="1336"/>
                </a:cubicBezTo>
                <a:cubicBezTo>
                  <a:pt x="1665" y="1464"/>
                  <a:pt x="1675" y="1543"/>
                  <a:pt x="1672" y="1632"/>
                </a:cubicBezTo>
                <a:cubicBezTo>
                  <a:pt x="1669" y="1721"/>
                  <a:pt x="1601" y="1747"/>
                  <a:pt x="1584" y="1872"/>
                </a:cubicBezTo>
                <a:cubicBezTo>
                  <a:pt x="1567" y="1997"/>
                  <a:pt x="1571" y="2277"/>
                  <a:pt x="1568" y="2384"/>
                </a:cubicBezTo>
              </a:path>
            </a:pathLst>
          </a:custGeom>
          <a:solidFill>
            <a:srgbClr val="ffff99"/>
          </a:solidFill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810560" y="2340000"/>
            <a:ext cx="622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359400" y="2774880"/>
            <a:ext cx="0" cy="2952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397560" y="3211560"/>
            <a:ext cx="1638360" cy="1515960"/>
          </a:xfrm>
          <a:custGeom>
            <a:avLst/>
            <a:gdLst/>
            <a:ahLst/>
            <a:rect l="l" t="t" r="r" b="b"/>
            <a:pathLst>
              <a:path w="1032" h="955">
                <a:moveTo>
                  <a:pt x="0" y="19"/>
                </a:moveTo>
                <a:cubicBezTo>
                  <a:pt x="65" y="23"/>
                  <a:pt x="279" y="0"/>
                  <a:pt x="388" y="35"/>
                </a:cubicBezTo>
                <a:cubicBezTo>
                  <a:pt x="497" y="70"/>
                  <a:pt x="583" y="162"/>
                  <a:pt x="655" y="230"/>
                </a:cubicBezTo>
                <a:cubicBezTo>
                  <a:pt x="727" y="298"/>
                  <a:pt x="766" y="357"/>
                  <a:pt x="822" y="445"/>
                </a:cubicBezTo>
                <a:cubicBezTo>
                  <a:pt x="878" y="533"/>
                  <a:pt x="956" y="675"/>
                  <a:pt x="991" y="760"/>
                </a:cubicBezTo>
                <a:cubicBezTo>
                  <a:pt x="1026" y="845"/>
                  <a:pt x="1023" y="915"/>
                  <a:pt x="1032" y="955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778360" y="3228840"/>
            <a:ext cx="2293920" cy="1764000"/>
          </a:xfrm>
          <a:custGeom>
            <a:avLst/>
            <a:gdLst/>
            <a:ahLst/>
            <a:rect l="l" t="t" r="r" b="b"/>
            <a:pathLst>
              <a:path w="1445" h="1111">
                <a:moveTo>
                  <a:pt x="1416" y="992"/>
                </a:moveTo>
                <a:cubicBezTo>
                  <a:pt x="1425" y="1024"/>
                  <a:pt x="1434" y="1056"/>
                  <a:pt x="1410" y="1070"/>
                </a:cubicBezTo>
                <a:cubicBezTo>
                  <a:pt x="1386" y="1084"/>
                  <a:pt x="1445" y="1075"/>
                  <a:pt x="1272" y="1076"/>
                </a:cubicBezTo>
                <a:cubicBezTo>
                  <a:pt x="1099" y="1077"/>
                  <a:pt x="574" y="1075"/>
                  <a:pt x="372" y="1076"/>
                </a:cubicBezTo>
                <a:cubicBezTo>
                  <a:pt x="170" y="1077"/>
                  <a:pt x="120" y="1111"/>
                  <a:pt x="60" y="1082"/>
                </a:cubicBezTo>
                <a:cubicBezTo>
                  <a:pt x="0" y="1053"/>
                  <a:pt x="20" y="959"/>
                  <a:pt x="12" y="902"/>
                </a:cubicBezTo>
                <a:cubicBezTo>
                  <a:pt x="4" y="845"/>
                  <a:pt x="11" y="820"/>
                  <a:pt x="12" y="740"/>
                </a:cubicBezTo>
                <a:cubicBezTo>
                  <a:pt x="13" y="660"/>
                  <a:pt x="16" y="501"/>
                  <a:pt x="18" y="422"/>
                </a:cubicBezTo>
                <a:cubicBezTo>
                  <a:pt x="20" y="343"/>
                  <a:pt x="22" y="321"/>
                  <a:pt x="24" y="266"/>
                </a:cubicBezTo>
                <a:cubicBezTo>
                  <a:pt x="26" y="211"/>
                  <a:pt x="11" y="134"/>
                  <a:pt x="30" y="92"/>
                </a:cubicBezTo>
                <a:cubicBezTo>
                  <a:pt x="49" y="50"/>
                  <a:pt x="86" y="28"/>
                  <a:pt x="138" y="14"/>
                </a:cubicBezTo>
                <a:cubicBezTo>
                  <a:pt x="190" y="0"/>
                  <a:pt x="300" y="9"/>
                  <a:pt x="342" y="8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803200" y="24969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synthè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19600" y="3225960"/>
            <a:ext cx="2473560" cy="2301840"/>
          </a:xfrm>
          <a:custGeom>
            <a:avLst/>
            <a:gdLst/>
            <a:ahLst/>
            <a:rect l="l" t="t" r="r" b="b"/>
            <a:pathLst>
              <a:path w="1558" h="1450">
                <a:moveTo>
                  <a:pt x="1546" y="1138"/>
                </a:moveTo>
                <a:cubicBezTo>
                  <a:pt x="1543" y="1182"/>
                  <a:pt x="1558" y="1354"/>
                  <a:pt x="1528" y="1402"/>
                </a:cubicBezTo>
                <a:cubicBezTo>
                  <a:pt x="1498" y="1450"/>
                  <a:pt x="1557" y="1421"/>
                  <a:pt x="1369" y="1425"/>
                </a:cubicBezTo>
                <a:cubicBezTo>
                  <a:pt x="1181" y="1429"/>
                  <a:pt x="618" y="1428"/>
                  <a:pt x="402" y="1425"/>
                </a:cubicBezTo>
                <a:cubicBezTo>
                  <a:pt x="186" y="1422"/>
                  <a:pt x="134" y="1430"/>
                  <a:pt x="70" y="1408"/>
                </a:cubicBezTo>
                <a:cubicBezTo>
                  <a:pt x="6" y="1386"/>
                  <a:pt x="25" y="1337"/>
                  <a:pt x="16" y="1294"/>
                </a:cubicBezTo>
                <a:cubicBezTo>
                  <a:pt x="7" y="1251"/>
                  <a:pt x="16" y="1222"/>
                  <a:pt x="16" y="1150"/>
                </a:cubicBezTo>
                <a:cubicBezTo>
                  <a:pt x="16" y="1078"/>
                  <a:pt x="17" y="996"/>
                  <a:pt x="16" y="862"/>
                </a:cubicBezTo>
                <a:cubicBezTo>
                  <a:pt x="15" y="728"/>
                  <a:pt x="12" y="478"/>
                  <a:pt x="10" y="346"/>
                </a:cubicBezTo>
                <a:cubicBezTo>
                  <a:pt x="8" y="214"/>
                  <a:pt x="0" y="126"/>
                  <a:pt x="4" y="70"/>
                </a:cubicBezTo>
                <a:cubicBezTo>
                  <a:pt x="8" y="14"/>
                  <a:pt x="11" y="20"/>
                  <a:pt x="34" y="10"/>
                </a:cubicBezTo>
                <a:cubicBezTo>
                  <a:pt x="57" y="0"/>
                  <a:pt x="120" y="10"/>
                  <a:pt x="142" y="1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439320" y="57895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éli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089920" y="5029200"/>
            <a:ext cx="0" cy="10573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113880" y="2722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840800" y="57070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618960" y="4522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8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568200" y="50720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1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57360" y="2690640"/>
            <a:ext cx="446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ycle entéro-hépatiqu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synthèse hépatique (0,2-0,6 g/j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b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libération dans le duodénum (12-36 g/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réabsorption au niveau de l’iléon terminal, du rectum (95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veine porte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 foi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+ élimination fécale (5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sécrétion bili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93480" y="879480"/>
            <a:ext cx="36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régulation de l’excrétion biliai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346720" y="2031840"/>
            <a:ext cx="622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218360" y="2662200"/>
            <a:ext cx="91908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1beb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SNC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013360" y="3424320"/>
            <a:ext cx="2984400" cy="8874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ec48b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486560" y="3046320"/>
            <a:ext cx="0" cy="5922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76840" y="30369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027760" y="5308560"/>
            <a:ext cx="3030480" cy="5824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b382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918040" y="5389560"/>
            <a:ext cx="1908360" cy="433440"/>
          </a:xfrm>
          <a:prstGeom prst="rect">
            <a:avLst/>
          </a:prstGeom>
          <a:gradFill rotWithShape="0">
            <a:gsLst>
              <a:gs pos="0">
                <a:srgbClr val="b5d2d2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709320" y="6230880"/>
            <a:ext cx="8910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grai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005160" y="6227640"/>
            <a:ext cx="4734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A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778800" y="4039920"/>
            <a:ext cx="0" cy="133812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424560" y="4730760"/>
            <a:ext cx="61956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C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7095960" y="5835240"/>
            <a:ext cx="0" cy="376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92200" y="3662280"/>
            <a:ext cx="27838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00"/>
                </a:solidFill>
                <a:latin typeface="Arial"/>
              </a:rPr>
              <a:t>cellules musculaires li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874920" y="43020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158240" y="30067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6224760" y="5829120"/>
            <a:ext cx="0" cy="377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851600" y="2795760"/>
            <a:ext cx="536760" cy="2811240"/>
          </a:xfrm>
          <a:custGeom>
            <a:avLst/>
            <a:gdLst/>
            <a:ahLst/>
            <a:rect l="l" t="t" r="r" b="b"/>
            <a:pathLst>
              <a:path w="822" h="1662">
                <a:moveTo>
                  <a:pt x="0" y="1662"/>
                </a:moveTo>
                <a:lnTo>
                  <a:pt x="822" y="1662"/>
                </a:lnTo>
                <a:lnTo>
                  <a:pt x="822" y="0"/>
                </a:lnTo>
                <a:lnTo>
                  <a:pt x="396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762280" y="5300640"/>
            <a:ext cx="22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66"/>
                </a:solidFill>
                <a:latin typeface="Arial"/>
              </a:rPr>
              <a:t>chémorécepteu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6666"/>
                </a:solidFill>
                <a:latin typeface="Arial"/>
              </a:rPr>
              <a:t>duodén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22440" y="1471680"/>
            <a:ext cx="8143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période interdigestive : remplissage passif de la vésicule bili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écoulement de la bile dans la vésic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laxation réceptrice du muscle lisse de la paroi vési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pas d’excrétion bili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période post-prandiale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CCK, 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timulation de l’excrétion bili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vésicule biliaire : con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anal cholédoque : onde péristal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phincter d’Oddi : ouver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sécrétion intesti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25760" y="431640"/>
            <a:ext cx="34700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29280" y="1311120"/>
            <a:ext cx="736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mucus, électrolytes, eau (1,5 litre / 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duodé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entérokinase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+ enzymes sécrétées par le pancréas mais activées dans le duodé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+ enzymes présentes dans la bordure en brosse mais sont sécrét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cô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Arial"/>
              </a:rPr>
              <a:t>essentiellement production de mu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93480" y="87948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uodénum et côl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4356000" y="2448000"/>
            <a:ext cx="3359880" cy="1355400"/>
            <a:chOff x="4356000" y="2448000"/>
            <a:chExt cx="3359880" cy="1355400"/>
          </a:xfrm>
        </p:grpSpPr>
        <p:sp>
          <p:nvSpPr>
            <p:cNvPr id="825" name=""/>
            <p:cNvSpPr/>
            <p:nvPr/>
          </p:nvSpPr>
          <p:spPr>
            <a:xfrm>
              <a:off x="4375080" y="3435120"/>
              <a:ext cx="148536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trypsinogè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356000" y="2448000"/>
              <a:ext cx="148536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entérokin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36680" y="3435120"/>
              <a:ext cx="97920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Arial"/>
                </a:rPr>
                <a:t>tryps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897440" y="2827080"/>
              <a:ext cx="0" cy="5860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943600" y="3679920"/>
              <a:ext cx="6080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180040" y="3171600"/>
              <a:ext cx="2062080" cy="231840"/>
            </a:xfrm>
            <a:custGeom>
              <a:avLst/>
              <a:gdLst/>
              <a:ahLst/>
              <a:rect l="l" t="t" r="r" b="b"/>
              <a:pathLst>
                <a:path w="1182" h="132">
                  <a:moveTo>
                    <a:pt x="1182" y="132"/>
                  </a:moveTo>
                  <a:lnTo>
                    <a:pt x="1182" y="0"/>
                  </a:lnTo>
                  <a:lnTo>
                    <a:pt x="0" y="0"/>
                  </a:lnTo>
                  <a:lnTo>
                    <a:pt x="0" y="132"/>
                  </a:lnTo>
                </a:path>
              </a:pathLst>
            </a:custGeom>
            <a:noFill/>
            <a:ln w="1908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osition du probl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357720" y="1376280"/>
            <a:ext cx="2157120" cy="4400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991120" y="13003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3640" y="1536840"/>
            <a:ext cx="102888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807160" y="1006560"/>
          <a:ext cx="1562040" cy="1754280"/>
        </p:xfrm>
        <a:graphic>
          <a:graphicData uri="http://schemas.openxmlformats.org/drawingml/2006/table">
            <a:tbl>
              <a:tblPr/>
              <a:tblGrid>
                <a:gridCol w="156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hypot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sal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HC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GB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-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lysos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5553000" y="2989440"/>
          <a:ext cx="2540160" cy="1536480"/>
        </p:xfrm>
        <a:graphic>
          <a:graphicData uri="http://schemas.openxmlformats.org/drawingml/2006/table">
            <a:tbl>
              <a:tblPr/>
              <a:tblGrid>
                <a:gridCol w="2540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estom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H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psinogè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facteur intrinsèque (F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5857920" y="31082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73640" y="3187800"/>
            <a:ext cx="9907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84480" y="3936960"/>
            <a:ext cx="26701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3040" y="861840"/>
            <a:ext cx="32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écrétions exocrines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73320" y="1625760"/>
          <a:ext cx="1952640" cy="1753920"/>
        </p:xfrm>
        <a:graphic>
          <a:graphicData uri="http://schemas.openxmlformats.org/drawingml/2006/table">
            <a:tbl>
              <a:tblPr/>
              <a:tblGrid>
                <a:gridCol w="1952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els bil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igments bil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lécith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holesté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foie (bi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1558800" y="30020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78160" y="3213000"/>
            <a:ext cx="14223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57320" y="3738600"/>
          <a:ext cx="2438280" cy="245592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ncré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HC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GB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en-GB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sot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lipases pancréat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roté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-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osition du probl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357720" y="1376280"/>
            <a:ext cx="2157120" cy="4400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991120" y="13003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03640" y="1536840"/>
            <a:ext cx="102888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807160" y="1006560"/>
          <a:ext cx="1562040" cy="1754280"/>
        </p:xfrm>
        <a:graphic>
          <a:graphicData uri="http://schemas.openxmlformats.org/drawingml/2006/table">
            <a:tbl>
              <a:tblPr/>
              <a:tblGrid>
                <a:gridCol w="156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hypot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sal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HC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GB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-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lysos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553000" y="2989440"/>
          <a:ext cx="2540160" cy="1536480"/>
        </p:xfrm>
        <a:graphic>
          <a:graphicData uri="http://schemas.openxmlformats.org/drawingml/2006/table">
            <a:tbl>
              <a:tblPr/>
              <a:tblGrid>
                <a:gridCol w="2540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estom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H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psinogè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facteur intrinsèque (F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857920" y="31082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73640" y="3187800"/>
            <a:ext cx="9907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57320" y="3738600"/>
          <a:ext cx="2438280" cy="245592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ncré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HC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GB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en-GB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soto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lipases pancréat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roté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Times New Roman"/>
                        </a:rPr>
                        <a:t>-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2184480" y="3936960"/>
            <a:ext cx="26701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3040" y="861840"/>
            <a:ext cx="32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écrétions exocrines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73320" y="1625760"/>
          <a:ext cx="1952640" cy="1753920"/>
        </p:xfrm>
        <a:graphic>
          <a:graphicData uri="http://schemas.openxmlformats.org/drawingml/2006/table">
            <a:tbl>
              <a:tblPr/>
              <a:tblGrid>
                <a:gridCol w="1952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els bil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igments bil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lécith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holesté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foie (bi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558800" y="30020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641920" y="4830840"/>
          <a:ext cx="1663920" cy="1403280"/>
        </p:xfrm>
        <a:graphic>
          <a:graphicData uri="http://schemas.openxmlformats.org/drawingml/2006/table">
            <a:tbl>
              <a:tblPr/>
              <a:tblGrid>
                <a:gridCol w="1663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tes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e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électrol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8280" indent="-9828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07880"/>
                          <a:tab algn="l" pos="816120"/>
                          <a:tab algn="l" pos="1224000"/>
                          <a:tab algn="l" pos="1631880"/>
                          <a:tab algn="l" pos="2039760"/>
                          <a:tab algn="l" pos="2448000"/>
                          <a:tab algn="l" pos="2855880"/>
                          <a:tab algn="l" pos="3263760"/>
                          <a:tab algn="l" pos="3672000"/>
                          <a:tab algn="l" pos="4079880"/>
                          <a:tab algn="l" pos="4487760"/>
                          <a:tab algn="l" pos="4896000"/>
                          <a:tab algn="l" pos="5303880"/>
                          <a:tab algn="l" pos="5711760"/>
                          <a:tab algn="l" pos="6119640"/>
                          <a:tab algn="l" pos="6527880"/>
                          <a:tab algn="l" pos="6935760"/>
                          <a:tab algn="l" pos="7343640"/>
                          <a:tab algn="l" pos="7751880"/>
                          <a:tab algn="l" pos="815976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u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5896080" y="47926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21280" y="5029200"/>
            <a:ext cx="18666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8160" y="3213000"/>
            <a:ext cx="142236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osition du probl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4720" y="8683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horm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7440" y="1643040"/>
            <a:ext cx="2157480" cy="4400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422360" y="2836800"/>
            <a:ext cx="1222560" cy="12272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479760" y="1384200"/>
          <a:ext cx="4951440" cy="1009800"/>
        </p:xfrm>
        <a:graphic>
          <a:graphicData uri="http://schemas.openxmlformats.org/drawingml/2006/table">
            <a:tbl>
              <a:tblPr/>
              <a:tblGrid>
                <a:gridCol w="1866960"/>
                <a:gridCol w="1430280"/>
                <a:gridCol w="1654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horm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rodu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effe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astr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estom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estomac, intes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542880"/>
            <a:ext cx="9204480" cy="147600"/>
          </a:xfrm>
          <a:prstGeom prst="roundRect">
            <a:avLst>
              <a:gd name="adj" fmla="val 977"/>
            </a:avLst>
          </a:prstGeom>
          <a:gradFill rotWithShape="0">
            <a:gsLst>
              <a:gs pos="0">
                <a:srgbClr val="a14444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5760" y="206280"/>
            <a:ext cx="862632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la diges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position du problè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25760" y="431640"/>
            <a:ext cx="423216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4720" y="8683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horm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479760" y="1384200"/>
          <a:ext cx="4951440" cy="3368880"/>
        </p:xfrm>
        <a:graphic>
          <a:graphicData uri="http://schemas.openxmlformats.org/drawingml/2006/table">
            <a:tbl>
              <a:tblPr/>
              <a:tblGrid>
                <a:gridCol w="1866960"/>
                <a:gridCol w="1430280"/>
                <a:gridCol w="1654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horm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rodu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effec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astr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estom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estomac, intes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holécystokinine (CC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duodénum, jéju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estomac, pancréas,  fo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écrét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duodé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estomac, pancréas,  fo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duodénum, jéju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estomac (pancréa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87440" y="1643040"/>
            <a:ext cx="2157480" cy="4400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65160" y="3878280"/>
            <a:ext cx="689040" cy="8715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78240" y="54388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Arial"/>
                <a:ea typeface="Arial"/>
              </a:rPr>
              <a:t>NB : autres hormones (pancréas endocr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7:47:16Z</dcterms:created>
  <dc:creator>esteve</dc:creator>
  <dc:description/>
  <dc:language>en-US</dc:language>
  <cp:lastModifiedBy>roux</cp:lastModifiedBy>
  <dcterms:modified xsi:type="dcterms:W3CDTF">2005-09-27T09:34:36Z</dcterms:modified>
  <cp:revision>1360</cp:revision>
  <dc:subject/>
  <dc:title>Présentation PowerPoint</dc:title>
</cp:coreProperties>
</file>