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431640"/>
            <a:ext cx="9309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78000" y="2174760"/>
            <a:ext cx="6553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31880" y="92160"/>
            <a:ext cx="73846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UB2 UFR SdV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UE Physiologie des grandes fonctions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E. R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80800" y="316080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 et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00920" y="1332000"/>
            <a:ext cx="69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urtout duodénum et partie supérieure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transporteur au glucose et au galacto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GLT1 (couplé au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2 Na+ / 1 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transporteur au fructo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GLUT5 (transport facilit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81440" y="568152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15080" y="5940360"/>
            <a:ext cx="65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7080" y="5940360"/>
            <a:ext cx="66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10040" y="57038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54760" y="5694480"/>
            <a:ext cx="120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69320" y="5935680"/>
            <a:ext cx="65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99480" y="569124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46200" y="364176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486160" y="3954600"/>
            <a:ext cx="1773000" cy="492120"/>
            <a:chOff x="2486160" y="3954600"/>
            <a:chExt cx="1773000" cy="492120"/>
          </a:xfrm>
        </p:grpSpPr>
        <p:sp>
          <p:nvSpPr>
            <p:cNvPr id="414" name=""/>
            <p:cNvSpPr/>
            <p:nvPr/>
          </p:nvSpPr>
          <p:spPr>
            <a:xfrm>
              <a:off x="3319560" y="3954600"/>
              <a:ext cx="939600" cy="473040"/>
            </a:xfrm>
            <a:custGeom>
              <a:avLst/>
              <a:gdLst/>
              <a:ahLst/>
              <a:rect l="l" t="t" r="r" b="b"/>
              <a:pathLst>
                <a:path w="539" h="298">
                  <a:moveTo>
                    <a:pt x="0" y="0"/>
                  </a:moveTo>
                  <a:lnTo>
                    <a:pt x="55" y="2"/>
                  </a:lnTo>
                  <a:lnTo>
                    <a:pt x="109" y="7"/>
                  </a:lnTo>
                  <a:lnTo>
                    <a:pt x="160" y="14"/>
                  </a:lnTo>
                  <a:lnTo>
                    <a:pt x="209" y="24"/>
                  </a:lnTo>
                  <a:lnTo>
                    <a:pt x="257" y="37"/>
                  </a:lnTo>
                  <a:lnTo>
                    <a:pt x="301" y="51"/>
                  </a:lnTo>
                  <a:lnTo>
                    <a:pt x="343" y="69"/>
                  </a:lnTo>
                  <a:lnTo>
                    <a:pt x="381" y="88"/>
                  </a:lnTo>
                  <a:lnTo>
                    <a:pt x="415" y="109"/>
                  </a:lnTo>
                  <a:lnTo>
                    <a:pt x="447" y="132"/>
                  </a:lnTo>
                  <a:lnTo>
                    <a:pt x="474" y="156"/>
                  </a:lnTo>
                  <a:lnTo>
                    <a:pt x="486" y="169"/>
                  </a:lnTo>
                  <a:lnTo>
                    <a:pt x="497" y="182"/>
                  </a:lnTo>
                  <a:lnTo>
                    <a:pt x="506" y="196"/>
                  </a:lnTo>
                  <a:lnTo>
                    <a:pt x="515" y="210"/>
                  </a:lnTo>
                  <a:lnTo>
                    <a:pt x="522" y="224"/>
                  </a:lnTo>
                  <a:lnTo>
                    <a:pt x="528" y="239"/>
                  </a:lnTo>
                  <a:lnTo>
                    <a:pt x="532" y="253"/>
                  </a:lnTo>
                  <a:lnTo>
                    <a:pt x="537" y="267"/>
                  </a:lnTo>
                  <a:lnTo>
                    <a:pt x="538" y="283"/>
                  </a:lnTo>
                  <a:lnTo>
                    <a:pt x="539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6160" y="3954600"/>
              <a:ext cx="833400" cy="492120"/>
            </a:xfrm>
            <a:custGeom>
              <a:avLst/>
              <a:gdLst/>
              <a:ahLst/>
              <a:rect l="l" t="t" r="r" b="b"/>
              <a:pathLst>
                <a:path w="478" h="310">
                  <a:moveTo>
                    <a:pt x="478" y="0"/>
                  </a:moveTo>
                  <a:lnTo>
                    <a:pt x="434" y="2"/>
                  </a:lnTo>
                  <a:lnTo>
                    <a:pt x="391" y="7"/>
                  </a:lnTo>
                  <a:lnTo>
                    <a:pt x="350" y="14"/>
                  </a:lnTo>
                  <a:lnTo>
                    <a:pt x="309" y="24"/>
                  </a:lnTo>
                  <a:lnTo>
                    <a:pt x="270" y="37"/>
                  </a:lnTo>
                  <a:lnTo>
                    <a:pt x="233" y="52"/>
                  </a:lnTo>
                  <a:lnTo>
                    <a:pt x="197" y="70"/>
                  </a:lnTo>
                  <a:lnTo>
                    <a:pt x="165" y="90"/>
                  </a:lnTo>
                  <a:lnTo>
                    <a:pt x="135" y="111"/>
                  </a:lnTo>
                  <a:lnTo>
                    <a:pt x="106" y="135"/>
                  </a:lnTo>
                  <a:lnTo>
                    <a:pt x="81" y="160"/>
                  </a:lnTo>
                  <a:lnTo>
                    <a:pt x="58" y="188"/>
                  </a:lnTo>
                  <a:lnTo>
                    <a:pt x="39" y="217"/>
                  </a:lnTo>
                  <a:lnTo>
                    <a:pt x="22" y="246"/>
                  </a:lnTo>
                  <a:lnTo>
                    <a:pt x="10" y="278"/>
                  </a:lnTo>
                  <a:lnTo>
                    <a:pt x="0" y="3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504120" y="4197240"/>
            <a:ext cx="620280" cy="320760"/>
            <a:chOff x="6504120" y="4197240"/>
            <a:chExt cx="620280" cy="320760"/>
          </a:xfrm>
        </p:grpSpPr>
        <p:sp>
          <p:nvSpPr>
            <p:cNvPr id="417" name=""/>
            <p:cNvSpPr/>
            <p:nvPr/>
          </p:nvSpPr>
          <p:spPr>
            <a:xfrm>
              <a:off x="6766560" y="4197240"/>
              <a:ext cx="35784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0" y="0"/>
                  </a:moveTo>
                  <a:lnTo>
                    <a:pt x="21" y="1"/>
                  </a:lnTo>
                  <a:lnTo>
                    <a:pt x="42" y="3"/>
                  </a:lnTo>
                  <a:lnTo>
                    <a:pt x="62" y="7"/>
                  </a:lnTo>
                  <a:lnTo>
                    <a:pt x="80" y="13"/>
                  </a:lnTo>
                  <a:lnTo>
                    <a:pt x="99" y="21"/>
                  </a:lnTo>
                  <a:lnTo>
                    <a:pt x="116" y="28"/>
                  </a:lnTo>
                  <a:lnTo>
                    <a:pt x="132" y="38"/>
                  </a:lnTo>
                  <a:lnTo>
                    <a:pt x="147" y="49"/>
                  </a:lnTo>
                  <a:lnTo>
                    <a:pt x="160" y="61"/>
                  </a:lnTo>
                  <a:lnTo>
                    <a:pt x="172" y="75"/>
                  </a:lnTo>
                  <a:lnTo>
                    <a:pt x="182" y="89"/>
                  </a:lnTo>
                  <a:lnTo>
                    <a:pt x="191" y="103"/>
                  </a:lnTo>
                  <a:lnTo>
                    <a:pt x="198" y="119"/>
                  </a:lnTo>
                  <a:lnTo>
                    <a:pt x="203" y="135"/>
                  </a:lnTo>
                  <a:lnTo>
                    <a:pt x="206" y="152"/>
                  </a:lnTo>
                  <a:lnTo>
                    <a:pt x="207" y="16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04120" y="4197240"/>
              <a:ext cx="252360" cy="320760"/>
            </a:xfrm>
            <a:custGeom>
              <a:avLst/>
              <a:gdLst/>
              <a:ahLst/>
              <a:rect l="l" t="t" r="r" b="b"/>
              <a:pathLst>
                <a:path w="146" h="202">
                  <a:moveTo>
                    <a:pt x="146" y="0"/>
                  </a:moveTo>
                  <a:lnTo>
                    <a:pt x="133" y="1"/>
                  </a:lnTo>
                  <a:lnTo>
                    <a:pt x="120" y="4"/>
                  </a:lnTo>
                  <a:lnTo>
                    <a:pt x="108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3"/>
                  </a:lnTo>
                  <a:lnTo>
                    <a:pt x="63" y="45"/>
                  </a:lnTo>
                  <a:lnTo>
                    <a:pt x="53" y="57"/>
                  </a:lnTo>
                  <a:lnTo>
                    <a:pt x="43" y="71"/>
                  </a:lnTo>
                  <a:lnTo>
                    <a:pt x="35" y="87"/>
                  </a:lnTo>
                  <a:lnTo>
                    <a:pt x="26" y="103"/>
                  </a:lnTo>
                  <a:lnTo>
                    <a:pt x="20" y="122"/>
                  </a:lnTo>
                  <a:lnTo>
                    <a:pt x="7" y="161"/>
                  </a:lnTo>
                  <a:lnTo>
                    <a:pt x="0" y="2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543760" y="44308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56160" y="4140360"/>
            <a:ext cx="972360" cy="515880"/>
            <a:chOff x="5456160" y="4140360"/>
            <a:chExt cx="972360" cy="515880"/>
          </a:xfrm>
        </p:grpSpPr>
        <p:sp>
          <p:nvSpPr>
            <p:cNvPr id="421" name=""/>
            <p:cNvSpPr/>
            <p:nvPr/>
          </p:nvSpPr>
          <p:spPr>
            <a:xfrm>
              <a:off x="5943240" y="4140360"/>
              <a:ext cx="4852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0" y="0"/>
                  </a:moveTo>
                  <a:lnTo>
                    <a:pt x="22" y="1"/>
                  </a:lnTo>
                  <a:lnTo>
                    <a:pt x="44" y="5"/>
                  </a:lnTo>
                  <a:lnTo>
                    <a:pt x="66" y="10"/>
                  </a:lnTo>
                  <a:lnTo>
                    <a:pt x="87" y="18"/>
                  </a:lnTo>
                  <a:lnTo>
                    <a:pt x="107" y="27"/>
                  </a:lnTo>
                  <a:lnTo>
                    <a:pt x="126" y="39"/>
                  </a:lnTo>
                  <a:lnTo>
                    <a:pt x="144" y="51"/>
                  </a:lnTo>
                  <a:lnTo>
                    <a:pt x="161" y="67"/>
                  </a:lnTo>
                  <a:lnTo>
                    <a:pt x="177" y="82"/>
                  </a:lnTo>
                  <a:lnTo>
                    <a:pt x="192" y="100"/>
                  </a:lnTo>
                  <a:lnTo>
                    <a:pt x="205" y="118"/>
                  </a:lnTo>
                  <a:lnTo>
                    <a:pt x="217" y="139"/>
                  </a:lnTo>
                  <a:lnTo>
                    <a:pt x="228" y="160"/>
                  </a:lnTo>
                  <a:lnTo>
                    <a:pt x="237" y="183"/>
                  </a:lnTo>
                  <a:lnTo>
                    <a:pt x="245" y="207"/>
                  </a:lnTo>
                  <a:lnTo>
                    <a:pt x="250" y="2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56160" y="4140360"/>
              <a:ext cx="475920" cy="515880"/>
            </a:xfrm>
            <a:custGeom>
              <a:avLst/>
              <a:gdLst/>
              <a:ahLst/>
              <a:rect l="l" t="t" r="r" b="b"/>
              <a:pathLst>
                <a:path w="245" h="325">
                  <a:moveTo>
                    <a:pt x="245" y="0"/>
                  </a:moveTo>
                  <a:lnTo>
                    <a:pt x="219" y="3"/>
                  </a:lnTo>
                  <a:lnTo>
                    <a:pt x="195" y="7"/>
                  </a:lnTo>
                  <a:lnTo>
                    <a:pt x="172" y="15"/>
                  </a:lnTo>
                  <a:lnTo>
                    <a:pt x="149" y="26"/>
                  </a:lnTo>
                  <a:lnTo>
                    <a:pt x="128" y="40"/>
                  </a:lnTo>
                  <a:lnTo>
                    <a:pt x="108" y="56"/>
                  </a:lnTo>
                  <a:lnTo>
                    <a:pt x="89" y="74"/>
                  </a:lnTo>
                  <a:lnTo>
                    <a:pt x="72" y="95"/>
                  </a:lnTo>
                  <a:lnTo>
                    <a:pt x="56" y="118"/>
                  </a:lnTo>
                  <a:lnTo>
                    <a:pt x="42" y="144"/>
                  </a:lnTo>
                  <a:lnTo>
                    <a:pt x="30" y="170"/>
                  </a:lnTo>
                  <a:lnTo>
                    <a:pt x="19" y="199"/>
                  </a:lnTo>
                  <a:lnTo>
                    <a:pt x="11" y="229"/>
                  </a:lnTo>
                  <a:lnTo>
                    <a:pt x="5" y="259"/>
                  </a:lnTo>
                  <a:lnTo>
                    <a:pt x="1" y="291"/>
                  </a:lnTo>
                  <a:lnTo>
                    <a:pt x="0" y="3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11760" y="4368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0600" y="422748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41480" y="4227480"/>
            <a:ext cx="390600" cy="366840"/>
          </a:xfrm>
          <a:custGeom>
            <a:avLst/>
            <a:gdLst/>
            <a:ahLst/>
            <a:rect l="l" t="t" r="r" b="b"/>
            <a:pathLst>
              <a:path w="250" h="231">
                <a:moveTo>
                  <a:pt x="0" y="0"/>
                </a:moveTo>
                <a:lnTo>
                  <a:pt x="22" y="2"/>
                </a:lnTo>
                <a:lnTo>
                  <a:pt x="44" y="5"/>
                </a:lnTo>
                <a:lnTo>
                  <a:pt x="66" y="10"/>
                </a:lnTo>
                <a:lnTo>
                  <a:pt x="87" y="18"/>
                </a:lnTo>
                <a:lnTo>
                  <a:pt x="107" y="27"/>
                </a:lnTo>
                <a:lnTo>
                  <a:pt x="125" y="39"/>
                </a:lnTo>
                <a:lnTo>
                  <a:pt x="143" y="51"/>
                </a:lnTo>
                <a:lnTo>
                  <a:pt x="161" y="67"/>
                </a:lnTo>
                <a:lnTo>
                  <a:pt x="176" y="82"/>
                </a:lnTo>
                <a:lnTo>
                  <a:pt x="192" y="100"/>
                </a:lnTo>
                <a:lnTo>
                  <a:pt x="205" y="118"/>
                </a:lnTo>
                <a:lnTo>
                  <a:pt x="217" y="139"/>
                </a:lnTo>
                <a:lnTo>
                  <a:pt x="228" y="160"/>
                </a:lnTo>
                <a:lnTo>
                  <a:pt x="237" y="183"/>
                </a:lnTo>
                <a:lnTo>
                  <a:pt x="245" y="207"/>
                </a:lnTo>
                <a:lnTo>
                  <a:pt x="250" y="231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666960" y="4259160"/>
            <a:ext cx="631800" cy="473040"/>
            <a:chOff x="3666960" y="4259160"/>
            <a:chExt cx="631800" cy="473040"/>
          </a:xfrm>
        </p:grpSpPr>
        <p:sp>
          <p:nvSpPr>
            <p:cNvPr id="431" name=""/>
            <p:cNvSpPr/>
            <p:nvPr/>
          </p:nvSpPr>
          <p:spPr>
            <a:xfrm>
              <a:off x="3970080" y="4259160"/>
              <a:ext cx="328680" cy="473040"/>
            </a:xfrm>
            <a:custGeom>
              <a:avLst/>
              <a:gdLst/>
              <a:ahLst/>
              <a:rect l="l" t="t" r="r" b="b"/>
              <a:pathLst>
                <a:path w="207" h="298">
                  <a:moveTo>
                    <a:pt x="0" y="0"/>
                  </a:moveTo>
                  <a:lnTo>
                    <a:pt x="21" y="1"/>
                  </a:lnTo>
                  <a:lnTo>
                    <a:pt x="42" y="7"/>
                  </a:lnTo>
                  <a:lnTo>
                    <a:pt x="62" y="14"/>
                  </a:lnTo>
                  <a:lnTo>
                    <a:pt x="81" y="23"/>
                  </a:lnTo>
                  <a:lnTo>
                    <a:pt x="99" y="37"/>
                  </a:lnTo>
                  <a:lnTo>
                    <a:pt x="116" y="51"/>
                  </a:lnTo>
                  <a:lnTo>
                    <a:pt x="132" y="69"/>
                  </a:lnTo>
                  <a:lnTo>
                    <a:pt x="147" y="87"/>
                  </a:lnTo>
                  <a:lnTo>
                    <a:pt x="160" y="108"/>
                  </a:lnTo>
                  <a:lnTo>
                    <a:pt x="172" y="132"/>
                  </a:lnTo>
                  <a:lnTo>
                    <a:pt x="182" y="156"/>
                  </a:lnTo>
                  <a:lnTo>
                    <a:pt x="191" y="182"/>
                  </a:lnTo>
                  <a:lnTo>
                    <a:pt x="198" y="210"/>
                  </a:lnTo>
                  <a:lnTo>
                    <a:pt x="203" y="238"/>
                  </a:lnTo>
                  <a:lnTo>
                    <a:pt x="206" y="267"/>
                  </a:lnTo>
                  <a:lnTo>
                    <a:pt x="207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66960" y="4259160"/>
              <a:ext cx="307800" cy="407880"/>
            </a:xfrm>
            <a:custGeom>
              <a:avLst/>
              <a:gdLst/>
              <a:ahLst/>
              <a:rect l="l" t="t" r="r" b="b"/>
              <a:pathLst>
                <a:path w="194" h="257">
                  <a:moveTo>
                    <a:pt x="194" y="0"/>
                  </a:moveTo>
                  <a:lnTo>
                    <a:pt x="176" y="1"/>
                  </a:lnTo>
                  <a:lnTo>
                    <a:pt x="158" y="6"/>
                  </a:lnTo>
                  <a:lnTo>
                    <a:pt x="142" y="11"/>
                  </a:lnTo>
                  <a:lnTo>
                    <a:pt x="125" y="20"/>
                  </a:lnTo>
                  <a:lnTo>
                    <a:pt x="110" y="30"/>
                  </a:lnTo>
                  <a:lnTo>
                    <a:pt x="95" y="43"/>
                  </a:lnTo>
                  <a:lnTo>
                    <a:pt x="81" y="58"/>
                  </a:lnTo>
                  <a:lnTo>
                    <a:pt x="68" y="74"/>
                  </a:lnTo>
                  <a:lnTo>
                    <a:pt x="56" y="92"/>
                  </a:lnTo>
                  <a:lnTo>
                    <a:pt x="44" y="112"/>
                  </a:lnTo>
                  <a:lnTo>
                    <a:pt x="34" y="133"/>
                  </a:lnTo>
                  <a:lnTo>
                    <a:pt x="24" y="156"/>
                  </a:lnTo>
                  <a:lnTo>
                    <a:pt x="16" y="179"/>
                  </a:lnTo>
                  <a:lnTo>
                    <a:pt x="9" y="204"/>
                  </a:lnTo>
                  <a:lnTo>
                    <a:pt x="4" y="230"/>
                  </a:lnTo>
                  <a:lnTo>
                    <a:pt x="0" y="2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8240" y="395748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476244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4775040"/>
            <a:ext cx="0" cy="7876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68680" y="471168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59400" y="3949560"/>
            <a:ext cx="0" cy="78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83360" y="395748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88120" y="395748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83440" y="461016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99080" y="464832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36480" y="435456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98480" y="4373640"/>
            <a:ext cx="6772320" cy="1209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6000" y="366552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31960" y="3940200"/>
            <a:ext cx="48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82560" y="366552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4680" y="344952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23000" y="367344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84280" y="366696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79080" y="390852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3320" y="403704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05880" y="389412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02000" y="132228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ôle basal : transport facilité (GLU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220760" y="1471680"/>
            <a:ext cx="6841800" cy="4798440"/>
            <a:chOff x="1220760" y="1471680"/>
            <a:chExt cx="6841800" cy="479844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4060440" y="2080080"/>
              <a:ext cx="3651120" cy="40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321680" y="4290840"/>
              <a:ext cx="590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82280" y="3900960"/>
              <a:ext cx="4658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73440" y="3943800"/>
              <a:ext cx="20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0" lang="fr-FR" sz="1600" spc="-1" strike="noStrike" baseline="30000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16560" y="3921480"/>
              <a:ext cx="846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81640" y="382644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NKA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38560" y="4133880"/>
              <a:ext cx="354600" cy="35712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3360" y="2722320"/>
              <a:ext cx="354600" cy="3571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41560" y="2082240"/>
              <a:ext cx="5900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41720" y="1956600"/>
              <a:ext cx="655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02640" y="1471680"/>
              <a:ext cx="270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72840" y="1943640"/>
              <a:ext cx="354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9600" y="177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0880" y="3215520"/>
              <a:ext cx="808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56040" y="33084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GLUT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9640" y="3060720"/>
              <a:ext cx="79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34600" y="3302280"/>
              <a:ext cx="65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SGL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68720" y="4998960"/>
              <a:ext cx="81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35640" y="57726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GL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82280" y="3900960"/>
              <a:ext cx="4658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16560" y="3921480"/>
              <a:ext cx="846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41560" y="2082240"/>
              <a:ext cx="5900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41720" y="1956600"/>
              <a:ext cx="655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72840" y="1943640"/>
              <a:ext cx="354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79640" y="3060720"/>
              <a:ext cx="79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8720" y="4998960"/>
              <a:ext cx="81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43640" y="18118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Na</a:t>
              </a:r>
              <a:r>
                <a:rPr b="0" lang="fr-FR" sz="1600" spc="-1" strike="noStrike" baseline="30000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25840" y="2181600"/>
              <a:ext cx="0" cy="117000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54480" y="2635560"/>
              <a:ext cx="346320" cy="46188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28" y="0"/>
                  </a:moveTo>
                  <a:lnTo>
                    <a:pt x="23" y="1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196"/>
                  </a:lnTo>
                  <a:lnTo>
                    <a:pt x="1" y="201"/>
                  </a:lnTo>
                  <a:lnTo>
                    <a:pt x="2" y="207"/>
                  </a:lnTo>
                  <a:lnTo>
                    <a:pt x="9" y="215"/>
                  </a:lnTo>
                  <a:lnTo>
                    <a:pt x="17" y="222"/>
                  </a:lnTo>
                  <a:lnTo>
                    <a:pt x="23" y="223"/>
                  </a:lnTo>
                  <a:lnTo>
                    <a:pt x="28" y="224"/>
                  </a:lnTo>
                  <a:lnTo>
                    <a:pt x="140" y="224"/>
                  </a:lnTo>
                  <a:lnTo>
                    <a:pt x="145" y="223"/>
                  </a:lnTo>
                  <a:lnTo>
                    <a:pt x="152" y="222"/>
                  </a:lnTo>
                  <a:lnTo>
                    <a:pt x="160" y="215"/>
                  </a:lnTo>
                  <a:lnTo>
                    <a:pt x="166" y="207"/>
                  </a:lnTo>
                  <a:lnTo>
                    <a:pt x="167" y="201"/>
                  </a:lnTo>
                  <a:lnTo>
                    <a:pt x="168" y="196"/>
                  </a:lnTo>
                  <a:lnTo>
                    <a:pt x="168" y="28"/>
                  </a:lnTo>
                  <a:lnTo>
                    <a:pt x="167" y="23"/>
                  </a:lnTo>
                  <a:lnTo>
                    <a:pt x="166" y="16"/>
                  </a:lnTo>
                  <a:lnTo>
                    <a:pt x="160" y="8"/>
                  </a:lnTo>
                  <a:lnTo>
                    <a:pt x="152" y="2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02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89400" y="2119320"/>
              <a:ext cx="0" cy="117036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460920" y="2118960"/>
              <a:ext cx="0" cy="117036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41720" y="5100120"/>
              <a:ext cx="0" cy="117000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68560" y="5419800"/>
              <a:ext cx="346320" cy="46224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28" y="0"/>
                  </a:moveTo>
                  <a:lnTo>
                    <a:pt x="23" y="1"/>
                  </a:lnTo>
                  <a:lnTo>
                    <a:pt x="17" y="2"/>
                  </a:lnTo>
                  <a:lnTo>
                    <a:pt x="8" y="9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196"/>
                  </a:lnTo>
                  <a:lnTo>
                    <a:pt x="1" y="201"/>
                  </a:lnTo>
                  <a:lnTo>
                    <a:pt x="2" y="208"/>
                  </a:lnTo>
                  <a:lnTo>
                    <a:pt x="8" y="216"/>
                  </a:lnTo>
                  <a:lnTo>
                    <a:pt x="17" y="222"/>
                  </a:lnTo>
                  <a:lnTo>
                    <a:pt x="23" y="223"/>
                  </a:lnTo>
                  <a:lnTo>
                    <a:pt x="28" y="224"/>
                  </a:lnTo>
                  <a:lnTo>
                    <a:pt x="140" y="224"/>
                  </a:lnTo>
                  <a:lnTo>
                    <a:pt x="145" y="223"/>
                  </a:lnTo>
                  <a:lnTo>
                    <a:pt x="151" y="222"/>
                  </a:lnTo>
                  <a:lnTo>
                    <a:pt x="160" y="216"/>
                  </a:lnTo>
                  <a:lnTo>
                    <a:pt x="166" y="208"/>
                  </a:lnTo>
                  <a:lnTo>
                    <a:pt x="167" y="201"/>
                  </a:lnTo>
                  <a:lnTo>
                    <a:pt x="168" y="196"/>
                  </a:lnTo>
                  <a:lnTo>
                    <a:pt x="168" y="28"/>
                  </a:lnTo>
                  <a:lnTo>
                    <a:pt x="167" y="23"/>
                  </a:lnTo>
                  <a:lnTo>
                    <a:pt x="166" y="17"/>
                  </a:lnTo>
                  <a:lnTo>
                    <a:pt x="160" y="9"/>
                  </a:lnTo>
                  <a:lnTo>
                    <a:pt x="151" y="2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0240">
              <a:solidFill>
                <a:srgbClr val="00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36400" y="3871800"/>
              <a:ext cx="569880" cy="56952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46680" y="4202280"/>
              <a:ext cx="569520" cy="56952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70720" y="429732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Na</a:t>
              </a:r>
              <a:r>
                <a:rPr b="0" lang="fr-FR" sz="1600" spc="-1" strike="noStrike" baseline="30000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1220760" y="2094480"/>
              <a:ext cx="3650760" cy="40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4434120" y="2992680"/>
              <a:ext cx="115560" cy="32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– malabsorption des glu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160" y="1293840"/>
            <a:ext cx="8467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mono-disaccharides : absorption complète dans l’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idon : 6 à 10 % non digéré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ôlon : source de carbone pour la flore bactér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ntolérance au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ficit de lactase : digestion du lactose par colonies bactérienn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atulences, augmentation de la motilité diges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50 % des adultes sont intolérants au lactose (surtout Asie, Af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olérance congénitale au lactose : beaucoup plus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– malabsorption des glu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160" y="1293840"/>
            <a:ext cx="8467920" cy="35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mono-disaccharides : absorption complète dans l’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idon : 6 à 10 % non digéré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ôlon : source de carbone pour la flore bactér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ntolérance au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ficit de lactase : digestion du lactose par colonies bactérienn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atulences, augmentation de la motilité diges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50 % des adultes sont intolérants au lactose (surtout Asie, Af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olérance congénitale au lactose : beaucoup plus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déficience en sucrose-isomal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ficit génétique autosomal récessif ou maladie auto-imm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10 % des Esquimaux du Groënla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– malabsorption des glu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160" y="1293840"/>
            <a:ext cx="8467920" cy="43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mono-disaccharides : absorption complète dans l’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idon : 6 à 10 % non digéré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ôlon : source de carbone pour la flore bactér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ntolérance au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ficit de lactase : digestion du lactose par colonies bactérienn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atulences, augmentation de la motilité diges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50 % des adultes sont intolérants au lactose (surtout Asie, Af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ntolérance congénitale au lactose : beaucoup plus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déficience en sucrose-isomal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ficit génétique autosomal récessif ou maladie auto-imm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10 % des Esquimaux du Groënla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alabsorption du glucose-ga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ès rare. Mutation du SGLT1. Pas d’anomalie enzymatique mais de tran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urces dans l’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3080" y="1738440"/>
            <a:ext cx="653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pport très variable en quantité / en 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esoin adulte : 0,5 à 0,7g/j/kg de poids corpo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ys pauvres ; apport insuffis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ciété développée : apport en protéines trop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téines ingérées, sécrétées, provenant des cellules exfo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07760" y="1289160"/>
            <a:ext cx="25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epsinogène </a:t>
            </a:r>
            <a:r>
              <a:rPr b="0" i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92520" y="440676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89280" y="423216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78320" y="421632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36640" y="4403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88440" y="2746440"/>
            <a:ext cx="148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60880" y="2768760"/>
            <a:ext cx="1376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32080" y="2224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45040" y="33336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53360" y="2595600"/>
            <a:ext cx="0" cy="784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53000" y="30193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5520" y="3524400"/>
            <a:ext cx="560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80000" y="3740040"/>
            <a:ext cx="457200" cy="47016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759040" y="3190680"/>
            <a:ext cx="0" cy="102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36760" y="3152880"/>
            <a:ext cx="857520" cy="59508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21480" y="299736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49720" y="2467080"/>
            <a:ext cx="1590480" cy="28548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3880" y="567540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ydrolyse au maximum 15 % des protéines en AA et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687960" y="1289160"/>
            <a:ext cx="5469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duodénum,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enzymes sécrétées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uc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trypsine, chymotrypsine, carboxypeptidase, élas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(activation par entéropeptidase et tryp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olig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90120" y="1289160"/>
            <a:ext cx="7636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duodénum,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enzymes sécrétées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uc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trypsine, chymotrypsine, carboxypeptidase, élas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(activation par entéropeptidase et tryp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olig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enzymes de la bordure en brosse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duodénum et surtout jéjunum prox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mino-oligopeptidases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AA + (n-1)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minopeptidases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i- tri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dipeptidyl aminopeptidase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(n-2)-peptides + dipept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52560" y="5089320"/>
            <a:ext cx="78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bsorption d’AA, de di- et de tri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téines intactes : pas d’absorption (sauf Ig du colostrum chez les rongeurs et les Rumi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bsorption des di- et tripeptides : plus rapide que des mon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 &amp;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93160" y="4430880"/>
            <a:ext cx="209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mino-olig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02760" y="4440240"/>
            <a:ext cx="154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42800" y="4202280"/>
            <a:ext cx="154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dipeptidy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8440" y="171936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3000" y="210024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40880" y="23893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2040" y="2760840"/>
            <a:ext cx="130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32480" y="2460600"/>
            <a:ext cx="108252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343320" y="3247920"/>
            <a:ext cx="523800" cy="857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9424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21160" y="3216240"/>
            <a:ext cx="809640" cy="876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116000"/>
            <a:ext cx="72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diges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formation des aliments en nutriments assimil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cessus essentiellement chimiqu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d’enzymes sécrétées dans la lumière ou présentes à la surface de l’épithélium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expériences de Réaumur sur la digestion (17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7320" y="4964040"/>
            <a:ext cx="33051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A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s spécifiqu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s ou non à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81360" y="4964040"/>
            <a:ext cx="30639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- et tri-peptid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 non spécif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 à 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8440" y="171936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83000" y="210024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40880" y="23893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32040" y="2760840"/>
            <a:ext cx="130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18000" y="2460600"/>
            <a:ext cx="119700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594240" y="3035160"/>
            <a:ext cx="0" cy="1295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640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72320" y="4392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28480" y="28558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06960" y="3098880"/>
            <a:ext cx="0" cy="12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97000" y="3276720"/>
            <a:ext cx="1344600" cy="933480"/>
          </a:xfrm>
          <a:custGeom>
            <a:avLst/>
            <a:gdLst/>
            <a:ahLst/>
            <a:rect l="l" t="t" r="r" b="b"/>
            <a:pathLst>
              <a:path w="823" h="588">
                <a:moveTo>
                  <a:pt x="158" y="12"/>
                </a:moveTo>
                <a:cubicBezTo>
                  <a:pt x="138" y="14"/>
                  <a:pt x="117" y="12"/>
                  <a:pt x="98" y="18"/>
                </a:cubicBezTo>
                <a:cubicBezTo>
                  <a:pt x="84" y="22"/>
                  <a:pt x="62" y="42"/>
                  <a:pt x="62" y="42"/>
                </a:cubicBezTo>
                <a:cubicBezTo>
                  <a:pt x="49" y="62"/>
                  <a:pt x="33" y="70"/>
                  <a:pt x="20" y="90"/>
                </a:cubicBezTo>
                <a:cubicBezTo>
                  <a:pt x="18" y="104"/>
                  <a:pt x="18" y="118"/>
                  <a:pt x="14" y="132"/>
                </a:cubicBezTo>
                <a:cubicBezTo>
                  <a:pt x="12" y="139"/>
                  <a:pt x="2" y="143"/>
                  <a:pt x="2" y="150"/>
                </a:cubicBezTo>
                <a:cubicBezTo>
                  <a:pt x="0" y="230"/>
                  <a:pt x="5" y="310"/>
                  <a:pt x="8" y="390"/>
                </a:cubicBezTo>
                <a:cubicBezTo>
                  <a:pt x="14" y="523"/>
                  <a:pt x="87" y="519"/>
                  <a:pt x="194" y="546"/>
                </a:cubicBezTo>
                <a:cubicBezTo>
                  <a:pt x="220" y="563"/>
                  <a:pt x="260" y="580"/>
                  <a:pt x="290" y="588"/>
                </a:cubicBezTo>
                <a:cubicBezTo>
                  <a:pt x="390" y="580"/>
                  <a:pt x="453" y="568"/>
                  <a:pt x="560" y="564"/>
                </a:cubicBezTo>
                <a:cubicBezTo>
                  <a:pt x="592" y="559"/>
                  <a:pt x="625" y="556"/>
                  <a:pt x="656" y="546"/>
                </a:cubicBezTo>
                <a:cubicBezTo>
                  <a:pt x="696" y="506"/>
                  <a:pt x="653" y="544"/>
                  <a:pt x="692" y="522"/>
                </a:cubicBezTo>
                <a:cubicBezTo>
                  <a:pt x="705" y="515"/>
                  <a:pt x="728" y="498"/>
                  <a:pt x="728" y="498"/>
                </a:cubicBezTo>
                <a:cubicBezTo>
                  <a:pt x="745" y="472"/>
                  <a:pt x="765" y="451"/>
                  <a:pt x="782" y="426"/>
                </a:cubicBezTo>
                <a:cubicBezTo>
                  <a:pt x="784" y="418"/>
                  <a:pt x="787" y="410"/>
                  <a:pt x="788" y="402"/>
                </a:cubicBezTo>
                <a:cubicBezTo>
                  <a:pt x="791" y="378"/>
                  <a:pt x="789" y="354"/>
                  <a:pt x="794" y="330"/>
                </a:cubicBezTo>
                <a:cubicBezTo>
                  <a:pt x="797" y="317"/>
                  <a:pt x="808" y="307"/>
                  <a:pt x="812" y="294"/>
                </a:cubicBezTo>
                <a:cubicBezTo>
                  <a:pt x="809" y="198"/>
                  <a:pt x="823" y="40"/>
                  <a:pt x="704" y="0"/>
                </a:cubicBezTo>
                <a:cubicBezTo>
                  <a:pt x="678" y="9"/>
                  <a:pt x="655" y="9"/>
                  <a:pt x="632" y="24"/>
                </a:cubicBezTo>
                <a:cubicBezTo>
                  <a:pt x="583" y="98"/>
                  <a:pt x="621" y="51"/>
                  <a:pt x="416" y="36"/>
                </a:cubicBezTo>
                <a:cubicBezTo>
                  <a:pt x="248" y="23"/>
                  <a:pt x="455" y="27"/>
                  <a:pt x="362" y="18"/>
                </a:cubicBezTo>
                <a:cubicBezTo>
                  <a:pt x="254" y="7"/>
                  <a:pt x="322" y="12"/>
                  <a:pt x="158" y="12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13440" y="3087720"/>
            <a:ext cx="966960" cy="1025640"/>
          </a:xfrm>
          <a:custGeom>
            <a:avLst/>
            <a:gdLst/>
            <a:ahLst/>
            <a:rect l="l" t="t" r="r" b="b"/>
            <a:pathLst>
              <a:path w="609" h="646">
                <a:moveTo>
                  <a:pt x="133" y="41"/>
                </a:moveTo>
                <a:cubicBezTo>
                  <a:pt x="86" y="47"/>
                  <a:pt x="38" y="60"/>
                  <a:pt x="19" y="77"/>
                </a:cubicBezTo>
                <a:cubicBezTo>
                  <a:pt x="0" y="94"/>
                  <a:pt x="22" y="83"/>
                  <a:pt x="19" y="143"/>
                </a:cubicBezTo>
                <a:cubicBezTo>
                  <a:pt x="16" y="203"/>
                  <a:pt x="0" y="370"/>
                  <a:pt x="1" y="437"/>
                </a:cubicBezTo>
                <a:cubicBezTo>
                  <a:pt x="2" y="504"/>
                  <a:pt x="19" y="514"/>
                  <a:pt x="25" y="545"/>
                </a:cubicBezTo>
                <a:cubicBezTo>
                  <a:pt x="31" y="576"/>
                  <a:pt x="2" y="609"/>
                  <a:pt x="37" y="623"/>
                </a:cubicBezTo>
                <a:cubicBezTo>
                  <a:pt x="72" y="637"/>
                  <a:pt x="156" y="626"/>
                  <a:pt x="235" y="629"/>
                </a:cubicBezTo>
                <a:cubicBezTo>
                  <a:pt x="314" y="632"/>
                  <a:pt x="451" y="646"/>
                  <a:pt x="511" y="641"/>
                </a:cubicBezTo>
                <a:cubicBezTo>
                  <a:pt x="571" y="636"/>
                  <a:pt x="581" y="617"/>
                  <a:pt x="595" y="599"/>
                </a:cubicBezTo>
                <a:cubicBezTo>
                  <a:pt x="609" y="581"/>
                  <a:pt x="595" y="619"/>
                  <a:pt x="595" y="533"/>
                </a:cubicBezTo>
                <a:cubicBezTo>
                  <a:pt x="595" y="447"/>
                  <a:pt x="601" y="166"/>
                  <a:pt x="595" y="83"/>
                </a:cubicBezTo>
                <a:cubicBezTo>
                  <a:pt x="589" y="0"/>
                  <a:pt x="608" y="42"/>
                  <a:pt x="559" y="35"/>
                </a:cubicBezTo>
                <a:cubicBezTo>
                  <a:pt x="510" y="28"/>
                  <a:pt x="374" y="40"/>
                  <a:pt x="301" y="41"/>
                </a:cubicBezTo>
                <a:cubicBezTo>
                  <a:pt x="228" y="42"/>
                  <a:pt x="180" y="35"/>
                  <a:pt x="133" y="41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290840" y="3197160"/>
            <a:ext cx="527400" cy="1003320"/>
          </a:xfrm>
          <a:custGeom>
            <a:avLst/>
            <a:gdLst/>
            <a:ahLst/>
            <a:rect l="l" t="t" r="r" b="b"/>
            <a:pathLst>
              <a:path w="332" h="632">
                <a:moveTo>
                  <a:pt x="73" y="36"/>
                </a:moveTo>
                <a:cubicBezTo>
                  <a:pt x="47" y="34"/>
                  <a:pt x="18" y="8"/>
                  <a:pt x="9" y="26"/>
                </a:cubicBezTo>
                <a:cubicBezTo>
                  <a:pt x="0" y="44"/>
                  <a:pt x="21" y="79"/>
                  <a:pt x="21" y="146"/>
                </a:cubicBezTo>
                <a:cubicBezTo>
                  <a:pt x="21" y="213"/>
                  <a:pt x="10" y="362"/>
                  <a:pt x="9" y="428"/>
                </a:cubicBezTo>
                <a:cubicBezTo>
                  <a:pt x="8" y="494"/>
                  <a:pt x="12" y="508"/>
                  <a:pt x="14" y="540"/>
                </a:cubicBezTo>
                <a:cubicBezTo>
                  <a:pt x="16" y="572"/>
                  <a:pt x="1" y="604"/>
                  <a:pt x="20" y="618"/>
                </a:cubicBezTo>
                <a:cubicBezTo>
                  <a:pt x="39" y="632"/>
                  <a:pt x="98" y="626"/>
                  <a:pt x="128" y="624"/>
                </a:cubicBezTo>
                <a:cubicBezTo>
                  <a:pt x="158" y="622"/>
                  <a:pt x="177" y="615"/>
                  <a:pt x="201" y="608"/>
                </a:cubicBezTo>
                <a:cubicBezTo>
                  <a:pt x="225" y="601"/>
                  <a:pt x="256" y="602"/>
                  <a:pt x="273" y="584"/>
                </a:cubicBezTo>
                <a:cubicBezTo>
                  <a:pt x="290" y="566"/>
                  <a:pt x="294" y="584"/>
                  <a:pt x="303" y="500"/>
                </a:cubicBezTo>
                <a:cubicBezTo>
                  <a:pt x="312" y="416"/>
                  <a:pt x="325" y="156"/>
                  <a:pt x="325" y="78"/>
                </a:cubicBezTo>
                <a:cubicBezTo>
                  <a:pt x="325" y="0"/>
                  <a:pt x="332" y="37"/>
                  <a:pt x="306" y="30"/>
                </a:cubicBezTo>
                <a:cubicBezTo>
                  <a:pt x="279" y="23"/>
                  <a:pt x="205" y="35"/>
                  <a:pt x="165" y="36"/>
                </a:cubicBezTo>
                <a:cubicBezTo>
                  <a:pt x="125" y="37"/>
                  <a:pt x="98" y="30"/>
                  <a:pt x="73" y="36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16120" y="2757600"/>
            <a:ext cx="1473120" cy="2649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2680" y="2048040"/>
            <a:ext cx="1130400" cy="607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87320" y="1577880"/>
          <a:ext cx="6118200" cy="3313080"/>
        </p:xfrm>
        <a:graphic>
          <a:graphicData uri="http://schemas.openxmlformats.org/drawingml/2006/table">
            <a:tbl>
              <a:tblPr/>
              <a:tblGrid>
                <a:gridCol w="2476440"/>
                <a:gridCol w="364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dépendant du Na</a:t>
                      </a:r>
                      <a:r>
                        <a:rPr b="1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substr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AA ne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0,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AA neutres, basiques, cysté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M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proline, hydroxypro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AA ac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tau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indépendant du Na</a:t>
                      </a:r>
                      <a:r>
                        <a:rPr b="1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0,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AA neutres, basiques, cysté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AA bas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transporteurs apicaux des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6120" y="5624640"/>
            <a:ext cx="56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ficit d’absorption des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ficit de certains transporteurs : B ; B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0,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; IMINO ; b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0,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038480" y="1542960"/>
            <a:ext cx="4033800" cy="44560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transport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0920" y="1193760"/>
            <a:ext cx="1155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20920" y="1193760"/>
            <a:ext cx="1155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5920" y="1136520"/>
            <a:ext cx="1052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i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092560" y="3208320"/>
            <a:ext cx="622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68120" y="141768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08840" y="5114880"/>
            <a:ext cx="0" cy="900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7400" y="4100400"/>
            <a:ext cx="542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62960" y="378000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06720" y="36720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91360" y="3956040"/>
            <a:ext cx="3268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189920" y="371304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15320" y="401796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776360" y="41054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45000" y="22748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46880" y="1720800"/>
            <a:ext cx="0" cy="1082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89560" y="2141640"/>
            <a:ext cx="319320" cy="42696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42120" y="171756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5784840" y="17172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54600" y="22892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51360" y="17334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194440" y="173304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07320" y="2282760"/>
            <a:ext cx="3286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04080" y="172548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246800" y="172512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52960" y="538632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720" y="2865600"/>
            <a:ext cx="2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57160" y="141768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9880" y="13986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22680" y="142416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53160" y="2882880"/>
            <a:ext cx="253800" cy="1676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84280" y="3798720"/>
            <a:ext cx="1102680" cy="274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aabf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ptid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264000" y="2895480"/>
            <a:ext cx="415800" cy="16383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92560" y="462456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92000" y="3357720"/>
            <a:ext cx="291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ptidases cytoplas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- et tripep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trusion au pôle ba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3 transporteurs différ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27440" y="1814400"/>
            <a:ext cx="304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urtout triglycér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+ phospholip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+ stérols et esters de sté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urces dans l’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94800" y="1319040"/>
            <a:ext cx="7582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éparation du contenu stomachal en phase aqueuse et phase lip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ormation d’émulsion limitée par l’ac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de lipases pré-duodénal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 lingual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rat)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gastriqu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hom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s lipases ne sont pas indispensables à la diges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69960" y="1311120"/>
            <a:ext cx="828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duodénum et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lipases pancré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glycérol ester oxydas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lipa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iglycér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monoglycérides + 2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holestérol ester hydrolas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er de cholestéro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holestérol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hospholipase A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ospha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lysophosphatides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9960" y="1311120"/>
            <a:ext cx="828360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duodénum et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rôle des sels biliair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1/ lipides en émulsion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lipides avant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rmet l’activité enzym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pases : hydrosolu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’activité enzymatique est proportionnelle à l’interface eau-lip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activée par les sels bi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olip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mpêche l’inactivation de la lipase par les sel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9960" y="1311120"/>
            <a:ext cx="82836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duodénum et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rôle des sels biliair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1/ lipides en émulsion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lipides avant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rmet l’activité enzym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pases : hydrosolu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’activité enzymatique est proportionnelle à l’interface eau-lip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activée par les sels bi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olip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empêche l’inactivation de la lipase par les sel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2/ formation de micelle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produits de la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grégats de 20 à 30 molé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ncentration minimale de sels bilaires nécessaires à la formation des mic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33520" y="1398600"/>
            <a:ext cx="83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ntact des micelle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vec la membrane plasmique des cellules de la bordure en bros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bsorption passive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G de grande taille (+ lysophosphatides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 facilité (MVM-FABP) couplé à un influx de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holestérol libr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stérifié dans la membrane plasm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uis désestérifié avant libération dans le cy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82760" y="1398600"/>
            <a:ext cx="83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79640" y="2558880"/>
            <a:ext cx="2425680" cy="342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86320" y="542592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bordure en brosse de l’intest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626000" y="4456080"/>
            <a:ext cx="287280" cy="1030320"/>
          </a:xfrm>
          <a:prstGeom prst="line">
            <a:avLst/>
          </a:prstGeom>
          <a:ln w="11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92840" y="4276800"/>
            <a:ext cx="24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rypte de Lieberkü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39720" y="260496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villo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629240" y="2776680"/>
            <a:ext cx="425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95080" y="296712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560" y="1116000"/>
            <a:ext cx="72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cessus par lequel les nutriments, sels minéraux, vitamines, eau… sont transportées à travers la paroi de l’intestin dans le sang ou dans la lymp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52600" y="2486160"/>
            <a:ext cx="2462040" cy="3396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52720" y="5030640"/>
            <a:ext cx="120600" cy="36720"/>
          </a:xfrm>
          <a:custGeom>
            <a:avLst/>
            <a:gdLst/>
            <a:ahLst/>
            <a:rect l="l" t="t" r="r" b="b"/>
            <a:pathLst>
              <a:path w="76" h="23">
                <a:moveTo>
                  <a:pt x="0" y="7"/>
                </a:moveTo>
                <a:cubicBezTo>
                  <a:pt x="21" y="3"/>
                  <a:pt x="43" y="0"/>
                  <a:pt x="56" y="3"/>
                </a:cubicBezTo>
                <a:cubicBezTo>
                  <a:pt x="69" y="6"/>
                  <a:pt x="72" y="14"/>
                  <a:pt x="76" y="23"/>
                </a:cubicBezTo>
              </a:path>
            </a:pathLst>
          </a:custGeom>
          <a:noFill/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82760" y="1398600"/>
            <a:ext cx="83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82760" y="1398600"/>
            <a:ext cx="832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82760" y="1398600"/>
            <a:ext cx="83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482760" y="1398600"/>
            <a:ext cx="832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ocy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482760" y="1398600"/>
            <a:ext cx="83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ocy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assage dans les vaisseaux lymphatique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anal thoracique lymph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82760" y="1398600"/>
            <a:ext cx="83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aison à des protéines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ABP (fatty acid-binding proteins), S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-FABP : AG à longues chaî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-FABP : AG, cholestérol, monoglycérides, lysophospha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CP-1 et –2 :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ocy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assage dans les vaisseaux lymphatique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anal thoracique lymph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evenir des lipides dans l’entéroc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6597000" y="36432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931360" y="3141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01920" y="1095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62800" y="7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29120" y="1263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50920" y="10987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23680" y="3351240"/>
            <a:ext cx="5522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4680" y="3351240"/>
            <a:ext cx="41832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93520" y="2436840"/>
            <a:ext cx="1070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8080" y="4214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76600" y="14097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46520" y="13590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14960" y="9018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03400" y="14223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9400" y="14349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86480" y="13129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01920" y="1095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62800" y="7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9120" y="1263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750920" y="10987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93520" y="2436840"/>
            <a:ext cx="1070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97000" y="36432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31360" y="3141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423680" y="3351240"/>
            <a:ext cx="5522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24680" y="3351240"/>
            <a:ext cx="41832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18080" y="4214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86480" y="13129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301920" y="1095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62800" y="7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29120" y="1263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50920" y="10987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293520" y="2436840"/>
            <a:ext cx="1070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597000" y="36432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31360" y="3141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23680" y="3351240"/>
            <a:ext cx="5522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4680" y="3351240"/>
            <a:ext cx="41832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18080" y="4214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6597000" y="36432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86480" y="13129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931360" y="3141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01920" y="1095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62800" y="7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29120" y="1263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50920" y="10987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423680" y="3351240"/>
            <a:ext cx="5522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4680" y="3351240"/>
            <a:ext cx="41832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293520" y="2436840"/>
            <a:ext cx="1070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18080" y="4214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8160" y="5792760"/>
            <a:ext cx="27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14880" y="2311560"/>
            <a:ext cx="1573200" cy="277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9560" y="2311560"/>
            <a:ext cx="1573200" cy="27730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214880" y="2130480"/>
            <a:ext cx="153720" cy="3191760"/>
            <a:chOff x="4214880" y="2130480"/>
            <a:chExt cx="153720" cy="3191760"/>
          </a:xfrm>
        </p:grpSpPr>
        <p:sp>
          <p:nvSpPr>
            <p:cNvPr id="67" name=""/>
            <p:cNvSpPr/>
            <p:nvPr/>
          </p:nvSpPr>
          <p:spPr>
            <a:xfrm>
              <a:off x="4292640" y="2130480"/>
              <a:ext cx="1440" cy="304560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14880" y="5169960"/>
              <a:ext cx="153720" cy="1522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243320" y="2860560"/>
            <a:ext cx="127080" cy="2923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890960" y="2170080"/>
            <a:ext cx="153720" cy="1096560"/>
            <a:chOff x="4890960" y="2170080"/>
            <a:chExt cx="153720" cy="1096560"/>
          </a:xfrm>
        </p:grpSpPr>
        <p:sp>
          <p:nvSpPr>
            <p:cNvPr id="71" name=""/>
            <p:cNvSpPr/>
            <p:nvPr/>
          </p:nvSpPr>
          <p:spPr>
            <a:xfrm>
              <a:off x="4968720" y="2170080"/>
              <a:ext cx="1800" cy="94968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90960" y="3114000"/>
              <a:ext cx="153720" cy="15264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13240" y="3521160"/>
            <a:ext cx="434880" cy="369360"/>
            <a:chOff x="5313240" y="3521160"/>
            <a:chExt cx="434880" cy="369360"/>
          </a:xfrm>
        </p:grpSpPr>
        <p:sp>
          <p:nvSpPr>
            <p:cNvPr id="74" name=""/>
            <p:cNvSpPr/>
            <p:nvPr/>
          </p:nvSpPr>
          <p:spPr>
            <a:xfrm>
              <a:off x="5313240" y="3521160"/>
              <a:ext cx="324360" cy="2743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0360" y="3732480"/>
              <a:ext cx="167760" cy="15804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0" y="61"/>
                  </a:moveTo>
                  <a:lnTo>
                    <a:pt x="88" y="83"/>
                  </a:lnTo>
                  <a:lnTo>
                    <a:pt x="54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6600" y="56088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2560" y="1116000"/>
            <a:ext cx="72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cessus par lequel les nutriments, sels minéraux, vitamines, eau… sont transportées à travers la paroi de l’intestin dans le sang ou dans la lymp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6597000" y="36432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86480" y="13129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31360" y="3141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301920" y="1095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62800" y="7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9120" y="1263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50920" y="10987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54680" y="582948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23680" y="3351240"/>
            <a:ext cx="5522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24680" y="3351240"/>
            <a:ext cx="41832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293520" y="2436840"/>
            <a:ext cx="1070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718080" y="4214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lip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6597000" y="36432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19800" y="494352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86480" y="13129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31360" y="3141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01920" y="1095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62800" y="7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29120" y="1263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50920" y="1098720"/>
            <a:ext cx="33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054680" y="582948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423680" y="3351240"/>
            <a:ext cx="5522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424680" y="3351240"/>
            <a:ext cx="41832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293520" y="2436840"/>
            <a:ext cx="1070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MVB-FA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18080" y="4214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33800" y="5303880"/>
            <a:ext cx="351000" cy="106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568440" y="98892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vitamines liposolubles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990000"/>
                </a:solidFill>
                <a:latin typeface="Arial"/>
              </a:rPr>
              <a:t>vitamines A, D, E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passive à partir des mic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vitamines hydrosolu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itamine C : absorption par un cotransport vitamine C/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itamines B1, B2, B6 : cotransport vitamine/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itamine B12 : fixation au FI dans l’intestio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aison à un récepteur dans l’iléon terminal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des vitam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625760" y="431640"/>
            <a:ext cx="3495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593640" y="98892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de calc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par voie transcellulaire ; liaison dans le cytosol à une CaB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trusion au pôle basal par PMCA et échangeur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des minér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25760" y="431640"/>
            <a:ext cx="3495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593640" y="988920"/>
            <a:ext cx="792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de calc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par voie transcellulaire ; liaison dans le cytosol à une CaB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trusion au pôle basal par PMCA et échangeur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de 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fer lié à l’hème de l’hé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du fer et de l’hè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bération du fer (héme oxygénas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aison à la ferritin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aison à la transfer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trusion dans la 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Fe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Arial"/>
              </a:rPr>
              <a:t>2+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 l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xation à des récepteurs spécif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aison à la ferritin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iaison à la transfer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trusion dans la 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des minér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25760" y="431640"/>
            <a:ext cx="3495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bilan hyd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3603600" y="1312920"/>
            <a:ext cx="1746360" cy="356220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495360" y="1584360"/>
            <a:ext cx="3009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appor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gestion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liv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c gastrique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c pancréatiqu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bile : 0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 intestinal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24200" y="3368520"/>
            <a:ext cx="22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ré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testin grêle : 8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ôlon : 0,4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82840" y="4583160"/>
            <a:ext cx="36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élimination fécale :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50 à 100 m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bilan hyd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3603600" y="1312920"/>
            <a:ext cx="1746360" cy="356220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495360" y="1584360"/>
            <a:ext cx="3009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appor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gestion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liv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c gastrique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c pancréatiqu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bile : 0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 intestinal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24200" y="3368520"/>
            <a:ext cx="22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ré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testin grêle : 8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ôlon : 0,4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82840" y="4583160"/>
            <a:ext cx="36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élimination fécale :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50 à 100 m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504800" y="4964040"/>
            <a:ext cx="408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mmets des villosités :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ryptes de Lierberkühn : excré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bilan hyd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603600" y="1312920"/>
            <a:ext cx="1746360" cy="35622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495360" y="1584360"/>
            <a:ext cx="3009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appor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gestion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liv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c gastrique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c pancréatiqu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bile : 0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 intestinal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24200" y="3368520"/>
            <a:ext cx="22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ré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testin grêle : 8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ôlon : 0,4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82840" y="4583160"/>
            <a:ext cx="36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élimination fécale :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50 à 100 m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6083280" y="4842000"/>
            <a:ext cx="1257480" cy="177480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5245200" y="5168880"/>
            <a:ext cx="10792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45200" y="6311880"/>
            <a:ext cx="11682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58240" y="5519880"/>
            <a:ext cx="28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ux dans les deux s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52440" y="138276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entrée 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700 à 800 mmol/j (alimentation + sécré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sorti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5 mmo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bsorption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urtout intestin grêle (surface d’échange plus impor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essentiellement par voie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jonction serrées plus perméables au niveau du duodén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t du jéjunum supéri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absorption de Na</a:t>
            </a:r>
            <a:r>
              <a:rPr b="1" lang="nl-NL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52440" y="138276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duodénum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sage par voie paracellulaire, suivant le gradient de concen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jéjunum proximal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oies paracellulaire + transcellul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transport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vec AA, glucose-galact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effet synergique : conséquence sur la réhydratation orale : eau + sel + gluc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rtie au pôle basolatéral par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TP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jéjunum distal, iléon, côlon proxim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nette plus faible. moins de cotrans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contre le gradient électrochim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lumière TD : 25 mM ; plasma : 120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e à l’extrusion d’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absorption de Na</a:t>
            </a:r>
            <a:r>
              <a:rPr b="1" lang="nl-NL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4080" y="1268280"/>
            <a:ext cx="790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idon : chaînes ramifiées de molécules de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rce principale de carbohyd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ylose : chaîne linéaire de molécules de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ose : non digestible par les enzymes du TGI (symbiose : rumi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urces dans l’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54240" y="3111480"/>
            <a:ext cx="6184800" cy="3186000"/>
            <a:chOff x="1254240" y="3111480"/>
            <a:chExt cx="6184800" cy="3186000"/>
          </a:xfrm>
        </p:grpSpPr>
        <p:grpSp>
          <p:nvGrpSpPr>
            <p:cNvPr id="84" name=""/>
            <p:cNvGrpSpPr/>
            <p:nvPr/>
          </p:nvGrpSpPr>
          <p:grpSpPr>
            <a:xfrm>
              <a:off x="4788000" y="3114720"/>
              <a:ext cx="990000" cy="1562040"/>
              <a:chOff x="4788000" y="3114720"/>
              <a:chExt cx="990000" cy="1562040"/>
            </a:xfrm>
          </p:grpSpPr>
          <p:sp>
            <p:nvSpPr>
              <p:cNvPr id="85" name=""/>
              <p:cNvSpPr/>
              <p:nvPr/>
            </p:nvSpPr>
            <p:spPr>
              <a:xfrm>
                <a:off x="4790880" y="367488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91040" y="33368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88000" y="4019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97520" y="40291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35640" y="43480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43480" y="3627360"/>
                <a:ext cx="14256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81560" y="35701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26080" y="40161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60000" y="3114720"/>
                <a:ext cx="677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478480" y="42814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254240" y="3111480"/>
              <a:ext cx="3531600" cy="1569960"/>
              <a:chOff x="1254240" y="3111480"/>
              <a:chExt cx="3531600" cy="15699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609720" y="3114720"/>
                <a:ext cx="1176120" cy="1562040"/>
                <a:chOff x="3609720" y="3114720"/>
                <a:chExt cx="1176120" cy="1562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12960" y="3674880"/>
                  <a:ext cx="838080" cy="68112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812760" y="333684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609720" y="401940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819240" y="40291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57360" y="434808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5200" y="362736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103640" y="35701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447800" y="401616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682080" y="3114720"/>
                  <a:ext cx="6775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Arial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447800" y="434808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57240" y="427824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481280" y="42098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254240" y="3111480"/>
                <a:ext cx="2351520" cy="1569960"/>
                <a:chOff x="1254240" y="3111480"/>
                <a:chExt cx="2351520" cy="156996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1254240" y="3119400"/>
                  <a:ext cx="1176120" cy="1562040"/>
                  <a:chOff x="1254240" y="3119400"/>
                  <a:chExt cx="1176120" cy="15620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1257480" y="3679560"/>
                    <a:ext cx="83808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457280" y="334152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254240" y="402408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463760" y="403380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01880" y="435276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809720" y="3632040"/>
                    <a:ext cx="14292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748160" y="357480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092320" y="402084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326600" y="3119400"/>
                    <a:ext cx="67752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092320" y="4352760"/>
                    <a:ext cx="33804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201760" y="4282920"/>
                    <a:ext cx="14292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125800" y="421452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2430360" y="3111480"/>
                  <a:ext cx="1175400" cy="1562040"/>
                  <a:chOff x="2430360" y="3111480"/>
                  <a:chExt cx="1175400" cy="15620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433240" y="3671640"/>
                    <a:ext cx="8377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633040" y="333360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430360" y="401616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2639520" y="40258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077640" y="434484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985480" y="3624120"/>
                    <a:ext cx="14256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2923560" y="356688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268080" y="401292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2502000" y="3111480"/>
                    <a:ext cx="67752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268080" y="4344840"/>
                    <a:ext cx="33768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377520" y="4275000"/>
                    <a:ext cx="14256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301560" y="420660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" name=""/>
            <p:cNvGrpSpPr/>
            <p:nvPr/>
          </p:nvGrpSpPr>
          <p:grpSpPr>
            <a:xfrm>
              <a:off x="6597720" y="4730760"/>
              <a:ext cx="841320" cy="1562040"/>
              <a:chOff x="6597720" y="4730760"/>
              <a:chExt cx="841320" cy="1562040"/>
            </a:xfrm>
          </p:grpSpPr>
          <p:sp>
            <p:nvSpPr>
              <p:cNvPr id="137" name=""/>
              <p:cNvSpPr/>
              <p:nvPr/>
            </p:nvSpPr>
            <p:spPr>
              <a:xfrm>
                <a:off x="6600960" y="529128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00760" y="49528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97720" y="563580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07240" y="56451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45360" y="59641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3200" y="524340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91640" y="51865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5800" y="56325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70080" y="4730760"/>
                <a:ext cx="677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241880" y="4727520"/>
              <a:ext cx="2352600" cy="1569960"/>
              <a:chOff x="4241880" y="4727520"/>
              <a:chExt cx="2352600" cy="156996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4241880" y="4735440"/>
                <a:ext cx="1176120" cy="1562040"/>
                <a:chOff x="4241880" y="4735440"/>
                <a:chExt cx="1176120" cy="15620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245120" y="5295600"/>
                  <a:ext cx="838080" cy="68112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44920" y="495756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41880" y="564012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451400" y="56498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889520" y="596880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97360" y="524808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35800" y="51908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79960" y="563688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314240" y="4735440"/>
                  <a:ext cx="6775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Arial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79960" y="596880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189400" y="589896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113440" y="58305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418360" y="4727520"/>
                <a:ext cx="1176120" cy="1562040"/>
                <a:chOff x="5418360" y="4727520"/>
                <a:chExt cx="1176120" cy="15620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421600" y="5287680"/>
                  <a:ext cx="838080" cy="68112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21400" y="494964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418360" y="563220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27880" y="56419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066000" y="596088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73840" y="524016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912280" y="51829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256440" y="562896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90720" y="4727520"/>
                  <a:ext cx="4489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56440" y="596088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365880" y="589104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289920" y="58226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5622840" y="451656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282320" y="5167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555480" y="1459080"/>
            <a:ext cx="7886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990000"/>
                </a:solidFill>
                <a:latin typeface="Arial"/>
              </a:rPr>
              <a:t>jéjunum :</a:t>
            </a:r>
            <a:r>
              <a:rPr b="0" lang="de-DE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0000"/>
                </a:solidFill>
                <a:latin typeface="Arial"/>
              </a:rPr>
              <a:t>(absorption maxi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passive paracellulaire qui suit les mouvements de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léon, côlon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paracellulaire + absorption transcellulaire couplée à la sortie de H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absorption de Cl</a:t>
            </a:r>
            <a:r>
              <a:rPr b="1" lang="nl-NL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555480" y="1459080"/>
            <a:ext cx="78868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duodénum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écrétion par le 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jéjunum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(passage transcellulaire de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léon, côlon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xcrétion couplée à l’entré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lux net : dépend de la concentration en H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(équilibre : 45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3040" y="861840"/>
            <a:ext cx="555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absorption de</a:t>
            </a:r>
            <a:r>
              <a:rPr b="1" lang="nl-NL" sz="1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555480" y="1268280"/>
            <a:ext cx="78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entrée :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120 mmo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Arial"/>
              </a:rPr>
              <a:t>sorti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10 mmo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ntestin grêl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bsportion passive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 de preuve d’une absoprtion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ôlon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lux net = excré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bsorption de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: liée à l’absorption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arrhée sévère prolongée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hypokalié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blèmes liés à l’hypokaliémie : arythmie cardia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Arial"/>
              </a:rPr>
              <a:t>absorption de K</a:t>
            </a:r>
            <a:r>
              <a:rPr b="1" lang="nl-NL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750960" y="233208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011400" y="233208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284800" y="2332080"/>
            <a:ext cx="2871720" cy="395280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08160" y="6054840"/>
            <a:ext cx="652464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208160" y="6054840"/>
            <a:ext cx="652464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968600" y="45324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407360" y="4707000"/>
            <a:ext cx="3920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405560" y="441468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196040" y="47800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062120" y="41972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60920" y="2881440"/>
            <a:ext cx="3938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56240" y="23907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5068800" y="2390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22840" y="2894040"/>
            <a:ext cx="39348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17800" y="1969920"/>
            <a:ext cx="0" cy="17305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230720" y="24030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575320" y="2414520"/>
            <a:ext cx="0" cy="24242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01920" y="2414520"/>
            <a:ext cx="0" cy="24512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82960" y="1957320"/>
            <a:ext cx="0" cy="43927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123560" y="1608120"/>
            <a:ext cx="289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 + 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436560" y="1103400"/>
            <a:ext cx="805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01040" y="20858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64760" y="2139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458600" y="2139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786920" y="179856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86760" y="212724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861680" y="527688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98200" y="187308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750960" y="233208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3011400" y="233208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3"/>
          <a:stretch/>
        </p:blipFill>
        <p:spPr>
          <a:xfrm>
            <a:off x="5284800" y="2332080"/>
            <a:ext cx="2871720" cy="395280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ilé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208160" y="6054840"/>
            <a:ext cx="652464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208160" y="6054840"/>
            <a:ext cx="652464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68600" y="45324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07360" y="4707000"/>
            <a:ext cx="3920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05560" y="441468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96040" y="47800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62120" y="41972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660920" y="2881440"/>
            <a:ext cx="3938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656240" y="23907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068800" y="2390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22840" y="2894040"/>
            <a:ext cx="39348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17800" y="240192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230720" y="24030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575320" y="2414520"/>
            <a:ext cx="0" cy="24242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01920" y="2414520"/>
            <a:ext cx="0" cy="24512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760040" y="2073240"/>
            <a:ext cx="80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01040" y="20858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64760" y="2139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58600" y="2139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86920" y="179856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486760" y="212724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861680" y="527688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11160" y="3673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86000" y="2906640"/>
            <a:ext cx="3938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1320" y="241452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693880" y="2416320"/>
            <a:ext cx="0" cy="12967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04160" y="2077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81080" y="5637240"/>
            <a:ext cx="3938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76400" y="514512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389320" y="51462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23360" y="4857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16960" y="4816440"/>
            <a:ext cx="80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750960" y="233208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3011400" y="233208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3"/>
          <a:stretch/>
        </p:blipFill>
        <p:spPr>
          <a:xfrm>
            <a:off x="5284800" y="2332080"/>
            <a:ext cx="2871720" cy="39528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1208160" y="6054840"/>
            <a:ext cx="652464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208160" y="6054840"/>
            <a:ext cx="652464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968600" y="45324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407360" y="4707000"/>
            <a:ext cx="3920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405560" y="441468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196040" y="47800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062120" y="41972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59280" y="23907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22840" y="2894040"/>
            <a:ext cx="39348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17800" y="240192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4230720" y="24030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75320" y="2414520"/>
            <a:ext cx="0" cy="242424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01920" y="2414520"/>
            <a:ext cx="0" cy="24512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760040" y="2073240"/>
            <a:ext cx="80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01040" y="20858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064760" y="2139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674240" y="2139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86760" y="212724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861680" y="527688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86000" y="2906640"/>
            <a:ext cx="3938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81320" y="241452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2693880" y="2416320"/>
            <a:ext cx="0" cy="12967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504160" y="2077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981080" y="5637240"/>
            <a:ext cx="3938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976400" y="514512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2389320" y="51462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23360" y="485784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16960" y="4816440"/>
            <a:ext cx="80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0920" y="2881440"/>
            <a:ext cx="3938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611160" y="3673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51040" y="2806560"/>
            <a:ext cx="0" cy="34164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76400" y="24620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30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644400" y="1433520"/>
            <a:ext cx="768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uvement d’eau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uit de manière passive – paracellulaire ou transcellulaire – les mouvements d’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assage paracellulaire plu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villosités intestinales : absorption eau et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ryptes de Lieberkühn : sécrétion eau et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/ sécrétion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5715000" y="2957400"/>
            <a:ext cx="2133720" cy="301176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6642000" y="2565360"/>
            <a:ext cx="0" cy="133344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248520" y="4927680"/>
            <a:ext cx="0" cy="133344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44400" y="1370160"/>
            <a:ext cx="814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ntestin grêl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de façon isosmo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uodénum : jonction serrées très perméables : passage essentiellement paracell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léon : passage paracellulaire et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côlon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ontre le gradient osmotique entre la lumière et le secteur plas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« standing osmotic gradient mechanism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bsorption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4200" y="619776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écanisme analogue au niveau de la vésicule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2732040" y="1836720"/>
            <a:ext cx="2871720" cy="395280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4992840" y="1824120"/>
            <a:ext cx="2871720" cy="395280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016080" y="5543640"/>
            <a:ext cx="442620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84800" y="3129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16600" y="152100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14960" y="2960640"/>
            <a:ext cx="135000" cy="217440"/>
          </a:xfrm>
          <a:prstGeom prst="rect">
            <a:avLst/>
          </a:prstGeom>
          <a:solidFill>
            <a:srgbClr val="808080"/>
          </a:solidFill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44560" y="2166840"/>
            <a:ext cx="644760" cy="717480"/>
          </a:xfrm>
          <a:prstGeom prst="rect">
            <a:avLst/>
          </a:prstGeom>
          <a:solidFill>
            <a:srgbClr val="357a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744560" y="3271680"/>
            <a:ext cx="644760" cy="2250720"/>
            <a:chOff x="1744560" y="3271680"/>
            <a:chExt cx="644760" cy="2250720"/>
          </a:xfrm>
        </p:grpSpPr>
        <p:grpSp>
          <p:nvGrpSpPr>
            <p:cNvPr id="1162" name=""/>
            <p:cNvGrpSpPr/>
            <p:nvPr/>
          </p:nvGrpSpPr>
          <p:grpSpPr>
            <a:xfrm>
              <a:off x="1744560" y="3271680"/>
              <a:ext cx="642960" cy="2247480"/>
              <a:chOff x="1744560" y="3271680"/>
              <a:chExt cx="642960" cy="2247480"/>
            </a:xfrm>
          </p:grpSpPr>
          <p:sp>
            <p:nvSpPr>
              <p:cNvPr id="1163" name=""/>
              <p:cNvSpPr/>
              <p:nvPr/>
            </p:nvSpPr>
            <p:spPr>
              <a:xfrm>
                <a:off x="1744560" y="3271680"/>
                <a:ext cx="642960" cy="16200"/>
              </a:xfrm>
              <a:prstGeom prst="rect">
                <a:avLst/>
              </a:prstGeom>
              <a:solidFill>
                <a:srgbClr val="357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744560" y="3287880"/>
                <a:ext cx="642960" cy="18000"/>
              </a:xfrm>
              <a:prstGeom prst="rect">
                <a:avLst/>
              </a:prstGeom>
              <a:solidFill>
                <a:srgbClr val="357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44560" y="3306240"/>
                <a:ext cx="642960" cy="14400"/>
              </a:xfrm>
              <a:prstGeom prst="rect">
                <a:avLst/>
              </a:prstGeom>
              <a:solidFill>
                <a:srgbClr val="367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744560" y="3320640"/>
                <a:ext cx="642960" cy="16560"/>
              </a:xfrm>
              <a:prstGeom prst="rect">
                <a:avLst/>
              </a:prstGeom>
              <a:solidFill>
                <a:srgbClr val="367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744560" y="3337560"/>
                <a:ext cx="642960" cy="17640"/>
              </a:xfrm>
              <a:prstGeom prst="rect">
                <a:avLst/>
              </a:prstGeom>
              <a:solidFill>
                <a:srgbClr val="377a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44560" y="3355200"/>
                <a:ext cx="642960" cy="16200"/>
              </a:xfrm>
              <a:prstGeom prst="rect">
                <a:avLst/>
              </a:prstGeom>
              <a:solidFill>
                <a:srgbClr val="387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744560" y="3371760"/>
                <a:ext cx="642960" cy="18000"/>
              </a:xfrm>
              <a:prstGeom prst="rect">
                <a:avLst/>
              </a:prstGeom>
              <a:solidFill>
                <a:srgbClr val="387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744560" y="3390120"/>
                <a:ext cx="642960" cy="14400"/>
              </a:xfrm>
              <a:prstGeom prst="rect">
                <a:avLst/>
              </a:prstGeom>
              <a:solidFill>
                <a:srgbClr val="397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744560" y="3404520"/>
                <a:ext cx="642960" cy="16200"/>
              </a:xfrm>
              <a:prstGeom prst="rect">
                <a:avLst/>
              </a:prstGeom>
              <a:solidFill>
                <a:srgbClr val="3a7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744560" y="3421080"/>
                <a:ext cx="642960" cy="18000"/>
              </a:xfrm>
              <a:prstGeom prst="rect">
                <a:avLst/>
              </a:prstGeom>
              <a:solidFill>
                <a:srgbClr val="3a7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744560" y="3439080"/>
                <a:ext cx="642960" cy="16200"/>
              </a:xfrm>
              <a:prstGeom prst="rect">
                <a:avLst/>
              </a:prstGeom>
              <a:solidFill>
                <a:srgbClr val="3b7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744560" y="3455640"/>
                <a:ext cx="642960" cy="18000"/>
              </a:xfrm>
              <a:prstGeom prst="rect">
                <a:avLst/>
              </a:prstGeom>
              <a:solidFill>
                <a:srgbClr val="3c7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744560" y="3473640"/>
                <a:ext cx="642960" cy="14400"/>
              </a:xfrm>
              <a:prstGeom prst="rect">
                <a:avLst/>
              </a:prstGeom>
              <a:solidFill>
                <a:srgbClr val="3d7d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744560" y="3488400"/>
                <a:ext cx="642960" cy="16200"/>
              </a:xfrm>
              <a:prstGeom prst="rect">
                <a:avLst/>
              </a:prstGeom>
              <a:solidFill>
                <a:srgbClr val="3e7d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744560" y="3504600"/>
                <a:ext cx="642960" cy="18000"/>
              </a:xfrm>
              <a:prstGeom prst="rect">
                <a:avLst/>
              </a:prstGeom>
              <a:solidFill>
                <a:srgbClr val="3e7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744560" y="3522960"/>
                <a:ext cx="642960" cy="16200"/>
              </a:xfrm>
              <a:prstGeom prst="rect">
                <a:avLst/>
              </a:prstGeom>
              <a:solidFill>
                <a:srgbClr val="3f7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744560" y="3539520"/>
                <a:ext cx="642960" cy="17640"/>
              </a:xfrm>
              <a:prstGeom prst="rect">
                <a:avLst/>
              </a:prstGeom>
              <a:solidFill>
                <a:srgbClr val="407f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744560" y="3557160"/>
                <a:ext cx="642960" cy="16560"/>
              </a:xfrm>
              <a:prstGeom prst="rect">
                <a:avLst/>
              </a:prstGeom>
              <a:solidFill>
                <a:srgbClr val="417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744560" y="3574080"/>
                <a:ext cx="642960" cy="14400"/>
              </a:xfrm>
              <a:prstGeom prst="rect">
                <a:avLst/>
              </a:prstGeom>
              <a:solidFill>
                <a:srgbClr val="438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744560" y="3588480"/>
                <a:ext cx="642960" cy="18000"/>
              </a:xfrm>
              <a:prstGeom prst="rect">
                <a:avLst/>
              </a:prstGeom>
              <a:solidFill>
                <a:srgbClr val="448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744560" y="3606840"/>
                <a:ext cx="642960" cy="16200"/>
              </a:xfrm>
              <a:prstGeom prst="rect">
                <a:avLst/>
              </a:prstGeom>
              <a:solidFill>
                <a:srgbClr val="458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44560" y="3623400"/>
                <a:ext cx="642960" cy="17640"/>
              </a:xfrm>
              <a:prstGeom prst="rect">
                <a:avLst/>
              </a:prstGeom>
              <a:solidFill>
                <a:srgbClr val="468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744560" y="3641040"/>
                <a:ext cx="642960" cy="16200"/>
              </a:xfrm>
              <a:prstGeom prst="rect">
                <a:avLst/>
              </a:prstGeom>
              <a:solidFill>
                <a:srgbClr val="478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744560" y="3657600"/>
                <a:ext cx="642960" cy="14760"/>
              </a:xfrm>
              <a:prstGeom prst="rect">
                <a:avLst/>
              </a:prstGeom>
              <a:solidFill>
                <a:srgbClr val="4882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744560" y="3672360"/>
                <a:ext cx="642960" cy="18000"/>
              </a:xfrm>
              <a:prstGeom prst="rect">
                <a:avLst/>
              </a:prstGeom>
              <a:solidFill>
                <a:srgbClr val="49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744560" y="3690720"/>
                <a:ext cx="642960" cy="16200"/>
              </a:xfrm>
              <a:prstGeom prst="rect">
                <a:avLst/>
              </a:prstGeom>
              <a:solidFill>
                <a:srgbClr val="4a8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44560" y="3706920"/>
                <a:ext cx="642960" cy="17640"/>
              </a:xfrm>
              <a:prstGeom prst="rect">
                <a:avLst/>
              </a:prstGeom>
              <a:solidFill>
                <a:srgbClr val="4c84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744560" y="3724920"/>
                <a:ext cx="642960" cy="16200"/>
              </a:xfrm>
              <a:prstGeom prst="rect">
                <a:avLst/>
              </a:prstGeom>
              <a:solidFill>
                <a:srgbClr val="4d8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744560" y="3741480"/>
                <a:ext cx="642960" cy="14760"/>
              </a:xfrm>
              <a:prstGeom prst="rect">
                <a:avLst/>
              </a:prstGeom>
              <a:solidFill>
                <a:srgbClr val="4e8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44560" y="3756240"/>
                <a:ext cx="642960" cy="18000"/>
              </a:xfrm>
              <a:prstGeom prst="rect">
                <a:avLst/>
              </a:prstGeom>
              <a:solidFill>
                <a:srgbClr val="5086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744560" y="3774600"/>
                <a:ext cx="642960" cy="16200"/>
              </a:xfrm>
              <a:prstGeom prst="rect">
                <a:avLst/>
              </a:prstGeom>
              <a:solidFill>
                <a:srgbClr val="5187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4560" y="3790800"/>
                <a:ext cx="642960" cy="17640"/>
              </a:xfrm>
              <a:prstGeom prst="rect">
                <a:avLst/>
              </a:prstGeom>
              <a:solidFill>
                <a:srgbClr val="528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744560" y="3808800"/>
                <a:ext cx="642960" cy="16200"/>
              </a:xfrm>
              <a:prstGeom prst="rect">
                <a:avLst/>
              </a:prstGeom>
              <a:solidFill>
                <a:srgbClr val="5489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744560" y="3825000"/>
                <a:ext cx="642960" cy="14760"/>
              </a:xfrm>
              <a:prstGeom prst="rect">
                <a:avLst/>
              </a:prstGeom>
              <a:solidFill>
                <a:srgbClr val="558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44560" y="3840120"/>
                <a:ext cx="642960" cy="17640"/>
              </a:xfrm>
              <a:prstGeom prst="rect">
                <a:avLst/>
              </a:prstGeom>
              <a:solidFill>
                <a:srgbClr val="5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44560" y="3858120"/>
                <a:ext cx="642960" cy="16560"/>
              </a:xfrm>
              <a:prstGeom prst="rect">
                <a:avLst/>
              </a:prstGeom>
              <a:solidFill>
                <a:srgbClr val="588b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44560" y="3874680"/>
                <a:ext cx="642960" cy="17640"/>
              </a:xfrm>
              <a:prstGeom prst="rect">
                <a:avLst/>
              </a:prstGeom>
              <a:solidFill>
                <a:srgbClr val="598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744560" y="3892680"/>
                <a:ext cx="642960" cy="16200"/>
              </a:xfrm>
              <a:prstGeom prst="rect">
                <a:avLst/>
              </a:prstGeom>
              <a:solidFill>
                <a:srgbClr val="5b8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44560" y="3908880"/>
                <a:ext cx="642960" cy="14760"/>
              </a:xfrm>
              <a:prstGeom prst="rect">
                <a:avLst/>
              </a:prstGeom>
              <a:solidFill>
                <a:srgbClr val="5c8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44560" y="3924000"/>
                <a:ext cx="642960" cy="17640"/>
              </a:xfrm>
              <a:prstGeom prst="rect">
                <a:avLst/>
              </a:prstGeom>
              <a:solidFill>
                <a:srgbClr val="5e8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44560" y="3941640"/>
                <a:ext cx="642960" cy="16200"/>
              </a:xfrm>
              <a:prstGeom prst="rect">
                <a:avLst/>
              </a:prstGeom>
              <a:solidFill>
                <a:srgbClr val="5f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744560" y="3958200"/>
                <a:ext cx="642960" cy="18000"/>
              </a:xfrm>
              <a:prstGeom prst="rect">
                <a:avLst/>
              </a:prstGeom>
              <a:solidFill>
                <a:srgbClr val="619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44560" y="3976560"/>
                <a:ext cx="642960" cy="16200"/>
              </a:xfrm>
              <a:prstGeom prst="rect">
                <a:avLst/>
              </a:prstGeom>
              <a:solidFill>
                <a:srgbClr val="63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44560" y="3992760"/>
                <a:ext cx="642960" cy="14760"/>
              </a:xfrm>
              <a:prstGeom prst="rect">
                <a:avLst/>
              </a:prstGeom>
              <a:solidFill>
                <a:srgbClr val="64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44560" y="4007880"/>
                <a:ext cx="642960" cy="17640"/>
              </a:xfrm>
              <a:prstGeom prst="rect">
                <a:avLst/>
              </a:prstGeom>
              <a:solidFill>
                <a:srgbClr val="669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44560" y="4025520"/>
                <a:ext cx="642960" cy="16200"/>
              </a:xfrm>
              <a:prstGeom prst="rect">
                <a:avLst/>
              </a:prstGeom>
              <a:solidFill>
                <a:srgbClr val="67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44560" y="4042080"/>
                <a:ext cx="642960" cy="18000"/>
              </a:xfrm>
              <a:prstGeom prst="rect">
                <a:avLst/>
              </a:prstGeom>
              <a:solidFill>
                <a:srgbClr val="689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44560" y="4060440"/>
                <a:ext cx="642960" cy="16200"/>
              </a:xfrm>
              <a:prstGeom prst="rect">
                <a:avLst/>
              </a:prstGeom>
              <a:solidFill>
                <a:srgbClr val="6a9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744560" y="4076640"/>
                <a:ext cx="642960" cy="14760"/>
              </a:xfrm>
              <a:prstGeom prst="rect">
                <a:avLst/>
              </a:prstGeom>
              <a:solidFill>
                <a:srgbClr val="6c9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744560" y="4091400"/>
                <a:ext cx="642960" cy="17640"/>
              </a:xfrm>
              <a:prstGeom prst="rect">
                <a:avLst/>
              </a:prstGeom>
              <a:solidFill>
                <a:srgbClr val="6d9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744560" y="4109400"/>
                <a:ext cx="642960" cy="16200"/>
              </a:xfrm>
              <a:prstGeom prst="rect">
                <a:avLst/>
              </a:prstGeom>
              <a:solidFill>
                <a:srgbClr val="6f9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744560" y="4125960"/>
                <a:ext cx="642960" cy="18000"/>
              </a:xfrm>
              <a:prstGeom prst="rect">
                <a:avLst/>
              </a:prstGeom>
              <a:solidFill>
                <a:srgbClr val="70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744560" y="4143960"/>
                <a:ext cx="642960" cy="16200"/>
              </a:xfrm>
              <a:prstGeom prst="rect">
                <a:avLst/>
              </a:prstGeom>
              <a:solidFill>
                <a:srgbClr val="729b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744560" y="4160520"/>
                <a:ext cx="642960" cy="17640"/>
              </a:xfrm>
              <a:prstGeom prst="rect">
                <a:avLst/>
              </a:prstGeom>
              <a:solidFill>
                <a:srgbClr val="749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44560" y="4178520"/>
                <a:ext cx="642960" cy="14760"/>
              </a:xfrm>
              <a:prstGeom prst="rect">
                <a:avLst/>
              </a:prstGeom>
              <a:solidFill>
                <a:srgbClr val="759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744560" y="4193280"/>
                <a:ext cx="642960" cy="16200"/>
              </a:xfrm>
              <a:prstGeom prst="rect">
                <a:avLst/>
              </a:prstGeom>
              <a:solidFill>
                <a:srgbClr val="779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744560" y="4209840"/>
                <a:ext cx="642960" cy="18000"/>
              </a:xfrm>
              <a:prstGeom prst="rect">
                <a:avLst/>
              </a:prstGeom>
              <a:solidFill>
                <a:srgbClr val="789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744560" y="4227840"/>
                <a:ext cx="642960" cy="16200"/>
              </a:xfrm>
              <a:prstGeom prst="rect">
                <a:avLst/>
              </a:prstGeom>
              <a:solidFill>
                <a:srgbClr val="7aa0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744560" y="4244400"/>
                <a:ext cx="642960" cy="17640"/>
              </a:xfrm>
              <a:prstGeom prst="rect">
                <a:avLst/>
              </a:prstGeom>
              <a:solidFill>
                <a:srgbClr val="7ba1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744560" y="4262040"/>
                <a:ext cx="642960" cy="14760"/>
              </a:xfrm>
              <a:prstGeom prst="rect">
                <a:avLst/>
              </a:prstGeom>
              <a:solidFill>
                <a:srgbClr val="7da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744560" y="4277160"/>
                <a:ext cx="642960" cy="16200"/>
              </a:xfrm>
              <a:prstGeom prst="rect">
                <a:avLst/>
              </a:prstGeom>
              <a:solidFill>
                <a:srgbClr val="7ea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744560" y="4293360"/>
                <a:ext cx="642960" cy="18000"/>
              </a:xfrm>
              <a:prstGeom prst="rect">
                <a:avLst/>
              </a:prstGeom>
              <a:solidFill>
                <a:srgbClr val="80a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744560" y="4311720"/>
                <a:ext cx="642960" cy="16200"/>
              </a:xfrm>
              <a:prstGeom prst="rect">
                <a:avLst/>
              </a:prstGeom>
              <a:solidFill>
                <a:srgbClr val="82a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744560" y="4328280"/>
                <a:ext cx="642960" cy="17640"/>
              </a:xfrm>
              <a:prstGeom prst="rect">
                <a:avLst/>
              </a:prstGeom>
              <a:solidFill>
                <a:srgbClr val="83a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744560" y="4345920"/>
                <a:ext cx="642960" cy="14760"/>
              </a:xfrm>
              <a:prstGeom prst="rect">
                <a:avLst/>
              </a:prstGeom>
              <a:solidFill>
                <a:srgbClr val="85a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744560" y="4361040"/>
                <a:ext cx="642960" cy="16200"/>
              </a:xfrm>
              <a:prstGeom prst="rect">
                <a:avLst/>
              </a:prstGeom>
              <a:solidFill>
                <a:srgbClr val="86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744560" y="4377240"/>
                <a:ext cx="642960" cy="17640"/>
              </a:xfrm>
              <a:prstGeom prst="rect">
                <a:avLst/>
              </a:prstGeom>
              <a:solidFill>
                <a:srgbClr val="88a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744560" y="4395240"/>
                <a:ext cx="642960" cy="16560"/>
              </a:xfrm>
              <a:prstGeom prst="rect">
                <a:avLst/>
              </a:prstGeom>
              <a:solidFill>
                <a:srgbClr val="89a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744560" y="4412160"/>
                <a:ext cx="642960" cy="17640"/>
              </a:xfrm>
              <a:prstGeom prst="rect">
                <a:avLst/>
              </a:prstGeom>
              <a:solidFill>
                <a:srgbClr val="8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744560" y="4429800"/>
                <a:ext cx="642960" cy="14760"/>
              </a:xfrm>
              <a:prstGeom prst="rect">
                <a:avLst/>
              </a:prstGeom>
              <a:solidFill>
                <a:srgbClr val="8c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744560" y="4444920"/>
                <a:ext cx="642960" cy="16200"/>
              </a:xfrm>
              <a:prstGeom prst="rect">
                <a:avLst/>
              </a:prstGeom>
              <a:solidFill>
                <a:srgbClr val="8dae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44560" y="4461120"/>
                <a:ext cx="642960" cy="17640"/>
              </a:xfrm>
              <a:prstGeom prst="rect">
                <a:avLst/>
              </a:prstGeom>
              <a:solidFill>
                <a:srgbClr val="8f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744560" y="4479120"/>
                <a:ext cx="642960" cy="16200"/>
              </a:xfrm>
              <a:prstGeom prst="rect">
                <a:avLst/>
              </a:prstGeom>
              <a:solidFill>
                <a:srgbClr val="90b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744560" y="4495320"/>
                <a:ext cx="642960" cy="18000"/>
              </a:xfrm>
              <a:prstGeom prst="rect">
                <a:avLst/>
              </a:prstGeom>
              <a:solidFill>
                <a:srgbClr val="91b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44560" y="4513680"/>
                <a:ext cx="642960" cy="14760"/>
              </a:xfrm>
              <a:prstGeom prst="rect">
                <a:avLst/>
              </a:prstGeom>
              <a:solidFill>
                <a:srgbClr val="93b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44560" y="4528440"/>
                <a:ext cx="642960" cy="16200"/>
              </a:xfrm>
              <a:prstGeom prst="rect">
                <a:avLst/>
              </a:prstGeom>
              <a:solidFill>
                <a:srgbClr val="94b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44560" y="4545000"/>
                <a:ext cx="642960" cy="17640"/>
              </a:xfrm>
              <a:prstGeom prst="rect">
                <a:avLst/>
              </a:prstGeom>
              <a:solidFill>
                <a:srgbClr val="96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44560" y="4563000"/>
                <a:ext cx="642960" cy="16200"/>
              </a:xfrm>
              <a:prstGeom prst="rect">
                <a:avLst/>
              </a:prstGeom>
              <a:solidFill>
                <a:srgbClr val="97b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44560" y="4579200"/>
                <a:ext cx="642960" cy="18000"/>
              </a:xfrm>
              <a:prstGeom prst="rect">
                <a:avLst/>
              </a:prstGeom>
              <a:solidFill>
                <a:srgbClr val="97b6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44560" y="4597560"/>
                <a:ext cx="642960" cy="14400"/>
              </a:xfrm>
              <a:prstGeom prst="rect">
                <a:avLst/>
              </a:prstGeom>
              <a:solidFill>
                <a:srgbClr val="99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744560" y="4611960"/>
                <a:ext cx="642960" cy="16560"/>
              </a:xfrm>
              <a:prstGeom prst="rect">
                <a:avLst/>
              </a:prstGeom>
              <a:solidFill>
                <a:srgbClr val="9ab8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744560" y="4628880"/>
                <a:ext cx="642960" cy="17640"/>
              </a:xfrm>
              <a:prstGeom prst="rect">
                <a:avLst/>
              </a:prstGeom>
              <a:solidFill>
                <a:srgbClr val="9bb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744560" y="4646880"/>
                <a:ext cx="642960" cy="18000"/>
              </a:xfrm>
              <a:prstGeom prst="rect">
                <a:avLst/>
              </a:prstGeom>
              <a:solidFill>
                <a:srgbClr val="9cb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744560" y="4664880"/>
                <a:ext cx="642960" cy="16200"/>
              </a:xfrm>
              <a:prstGeom prst="rect">
                <a:avLst/>
              </a:prstGeom>
              <a:solidFill>
                <a:srgbClr val="9eb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744560" y="4681440"/>
                <a:ext cx="642960" cy="17640"/>
              </a:xfrm>
              <a:prstGeom prst="rect">
                <a:avLst/>
              </a:prstGeom>
              <a:solidFill>
                <a:srgbClr val="9f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744560" y="4699080"/>
                <a:ext cx="642960" cy="14760"/>
              </a:xfrm>
              <a:prstGeom prst="rect">
                <a:avLst/>
              </a:prstGeom>
              <a:solidFill>
                <a:srgbClr val="a0b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744560" y="4714200"/>
                <a:ext cx="642960" cy="16200"/>
              </a:xfrm>
              <a:prstGeom prst="rect">
                <a:avLst/>
              </a:prstGeom>
              <a:solidFill>
                <a:srgbClr val="a1bd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744560" y="4730400"/>
                <a:ext cx="642960" cy="18000"/>
              </a:xfrm>
              <a:prstGeom prst="rect">
                <a:avLst/>
              </a:prstGeom>
              <a:solidFill>
                <a:srgbClr val="a2b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744560" y="4748760"/>
                <a:ext cx="642960" cy="16200"/>
              </a:xfrm>
              <a:prstGeom prst="rect">
                <a:avLst/>
              </a:prstGeom>
              <a:solidFill>
                <a:srgbClr val="a3b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744560" y="4765320"/>
                <a:ext cx="642960" cy="17640"/>
              </a:xfrm>
              <a:prstGeom prst="rect">
                <a:avLst/>
              </a:prstGeom>
              <a:solidFill>
                <a:srgbClr val="a4b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744560" y="4782960"/>
                <a:ext cx="642960" cy="14760"/>
              </a:xfrm>
              <a:prstGeom prst="rect">
                <a:avLst/>
              </a:prstGeom>
              <a:solidFill>
                <a:srgbClr val="a5c0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744560" y="4798080"/>
                <a:ext cx="642960" cy="16200"/>
              </a:xfrm>
              <a:prstGeom prst="rect">
                <a:avLst/>
              </a:prstGeom>
              <a:solidFill>
                <a:srgbClr val="a6c1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744560" y="4814280"/>
                <a:ext cx="642960" cy="17640"/>
              </a:xfrm>
              <a:prstGeom prst="rect">
                <a:avLst/>
              </a:prstGeom>
              <a:solidFill>
                <a:srgbClr val="a7c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744560" y="4832280"/>
                <a:ext cx="642960" cy="16200"/>
              </a:xfrm>
              <a:prstGeom prst="rect">
                <a:avLst/>
              </a:prstGeom>
              <a:solidFill>
                <a:srgbClr val="a7c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44560" y="4848840"/>
                <a:ext cx="642960" cy="18000"/>
              </a:xfrm>
              <a:prstGeom prst="rect">
                <a:avLst/>
              </a:prstGeom>
              <a:solidFill>
                <a:srgbClr val="a8c3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44560" y="4866840"/>
                <a:ext cx="642960" cy="14760"/>
              </a:xfrm>
              <a:prstGeom prst="rect">
                <a:avLst/>
              </a:prstGeom>
              <a:solidFill>
                <a:srgbClr val="a9c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44560" y="4881960"/>
                <a:ext cx="642960" cy="16200"/>
              </a:xfrm>
              <a:prstGeom prst="rect">
                <a:avLst/>
              </a:prstGeom>
              <a:solidFill>
                <a:srgbClr val="aac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44560" y="4898160"/>
                <a:ext cx="642960" cy="17640"/>
              </a:xfrm>
              <a:prstGeom prst="rect">
                <a:avLst/>
              </a:prstGeom>
              <a:solidFill>
                <a:srgbClr val="abc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744560" y="4916160"/>
                <a:ext cx="642960" cy="16200"/>
              </a:xfrm>
              <a:prstGeom prst="rect">
                <a:avLst/>
              </a:prstGeom>
              <a:solidFill>
                <a:srgbClr val="acc5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744560" y="4932360"/>
                <a:ext cx="642960" cy="18000"/>
              </a:xfrm>
              <a:prstGeom prst="rect">
                <a:avLst/>
              </a:prstGeom>
              <a:solidFill>
                <a:srgbClr val="acc6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744560" y="4950720"/>
                <a:ext cx="642960" cy="14760"/>
              </a:xfrm>
              <a:prstGeom prst="rect">
                <a:avLst/>
              </a:prstGeom>
              <a:solidFill>
                <a:srgbClr val="ad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744560" y="4965840"/>
                <a:ext cx="642960" cy="16200"/>
              </a:xfrm>
              <a:prstGeom prst="rect">
                <a:avLst/>
              </a:prstGeom>
              <a:solidFill>
                <a:srgbClr val="ae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44560" y="4982040"/>
                <a:ext cx="642960" cy="17640"/>
              </a:xfrm>
              <a:prstGeom prst="rect">
                <a:avLst/>
              </a:prstGeom>
              <a:solidFill>
                <a:srgbClr val="aec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744560" y="5000040"/>
                <a:ext cx="642960" cy="16200"/>
              </a:xfrm>
              <a:prstGeom prst="rect">
                <a:avLst/>
              </a:prstGeom>
              <a:solidFill>
                <a:srgbClr val="af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744560" y="5016240"/>
                <a:ext cx="642960" cy="18000"/>
              </a:xfrm>
              <a:prstGeom prst="rect">
                <a:avLst/>
              </a:prstGeom>
              <a:solidFill>
                <a:srgbClr val="b0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744560" y="5034600"/>
                <a:ext cx="642960" cy="14400"/>
              </a:xfrm>
              <a:prstGeom prst="rect">
                <a:avLst/>
              </a:prstGeom>
              <a:solidFill>
                <a:srgbClr val="b0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744560" y="5049000"/>
                <a:ext cx="642960" cy="16560"/>
              </a:xfrm>
              <a:prstGeom prst="rect">
                <a:avLst/>
              </a:prstGeom>
              <a:solidFill>
                <a:srgbClr val="b1c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744560" y="5065920"/>
                <a:ext cx="642960" cy="17640"/>
              </a:xfrm>
              <a:prstGeom prst="rect">
                <a:avLst/>
              </a:prstGeom>
              <a:solidFill>
                <a:srgbClr val="b1c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744560" y="5083920"/>
                <a:ext cx="642960" cy="16200"/>
              </a:xfrm>
              <a:prstGeom prst="rect">
                <a:avLst/>
              </a:prstGeom>
              <a:solidFill>
                <a:srgbClr val="b2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744560" y="5100120"/>
                <a:ext cx="642960" cy="18000"/>
              </a:xfrm>
              <a:prstGeom prst="rect">
                <a:avLst/>
              </a:prstGeom>
              <a:solidFill>
                <a:srgbClr val="b2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744560" y="5118480"/>
                <a:ext cx="642960" cy="14400"/>
              </a:xfrm>
              <a:prstGeom prst="rect">
                <a:avLst/>
              </a:prstGeom>
              <a:solidFill>
                <a:srgbClr val="b3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744560" y="5132880"/>
                <a:ext cx="642960" cy="16200"/>
              </a:xfrm>
              <a:prstGeom prst="rect">
                <a:avLst/>
              </a:prstGeom>
              <a:solidFill>
                <a:srgbClr val="b3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744560" y="5149440"/>
                <a:ext cx="642960" cy="18000"/>
              </a:xfrm>
              <a:prstGeom prst="rect">
                <a:avLst/>
              </a:prstGeom>
              <a:solidFill>
                <a:srgbClr val="b4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744560" y="5167440"/>
                <a:ext cx="642960" cy="16200"/>
              </a:xfrm>
              <a:prstGeom prst="rect">
                <a:avLst/>
              </a:prstGeom>
              <a:solidFill>
                <a:srgbClr val="b4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744560" y="5184000"/>
                <a:ext cx="642960" cy="18000"/>
              </a:xfrm>
              <a:prstGeom prst="rect">
                <a:avLst/>
              </a:prstGeom>
              <a:solidFill>
                <a:srgbClr val="b4c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44560" y="5202360"/>
                <a:ext cx="642960" cy="14400"/>
              </a:xfrm>
              <a:prstGeom prst="rect">
                <a:avLst/>
              </a:prstGeom>
              <a:solidFill>
                <a:srgbClr val="b5c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744560" y="5216760"/>
                <a:ext cx="642960" cy="16200"/>
              </a:xfrm>
              <a:prstGeom prst="rect">
                <a:avLst/>
              </a:prstGeom>
              <a:solidFill>
                <a:srgbClr val="b5c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744560" y="5233320"/>
                <a:ext cx="642960" cy="18000"/>
              </a:xfrm>
              <a:prstGeom prst="rect">
                <a:avLst/>
              </a:prstGeom>
              <a:solidFill>
                <a:srgbClr val="b6c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744560" y="5251320"/>
                <a:ext cx="642960" cy="16200"/>
              </a:xfrm>
              <a:prstGeom prst="rect">
                <a:avLst/>
              </a:prstGeom>
              <a:solidFill>
                <a:srgbClr val="b6ce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744560" y="5267880"/>
                <a:ext cx="642960" cy="17640"/>
              </a:xfrm>
              <a:prstGeom prst="rect">
                <a:avLst/>
              </a:prstGeom>
              <a:solidFill>
                <a:srgbClr val="b6ce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744560" y="5285880"/>
                <a:ext cx="642960" cy="16560"/>
              </a:xfrm>
              <a:prstGeom prst="rect">
                <a:avLst/>
              </a:prstGeom>
              <a:solidFill>
                <a:srgbClr val="b7ce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44560" y="5302440"/>
                <a:ext cx="642960" cy="14400"/>
              </a:xfrm>
              <a:prstGeom prst="rect">
                <a:avLst/>
              </a:prstGeom>
              <a:solidFill>
                <a:srgbClr val="b7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744560" y="5316840"/>
                <a:ext cx="642960" cy="18000"/>
              </a:xfrm>
              <a:prstGeom prst="rect">
                <a:avLst/>
              </a:prstGeom>
              <a:solidFill>
                <a:srgbClr val="b7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44560" y="5335200"/>
                <a:ext cx="642960" cy="16200"/>
              </a:xfrm>
              <a:prstGeom prst="rect">
                <a:avLst/>
              </a:prstGeom>
              <a:solidFill>
                <a:srgbClr val="b7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744560" y="5351760"/>
                <a:ext cx="642960" cy="17640"/>
              </a:xfrm>
              <a:prstGeom prst="rect">
                <a:avLst/>
              </a:prstGeom>
              <a:solidFill>
                <a:srgbClr val="b8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744560" y="5369400"/>
                <a:ext cx="642960" cy="16200"/>
              </a:xfrm>
              <a:prstGeom prst="rect">
                <a:avLst/>
              </a:prstGeom>
              <a:solidFill>
                <a:srgbClr val="b8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744560" y="5385960"/>
                <a:ext cx="642960" cy="14760"/>
              </a:xfrm>
              <a:prstGeom prst="rect">
                <a:avLst/>
              </a:prstGeom>
              <a:solidFill>
                <a:srgbClr val="b8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744560" y="5400720"/>
                <a:ext cx="642960" cy="18000"/>
              </a:xfrm>
              <a:prstGeom prst="rect">
                <a:avLst/>
              </a:prstGeom>
              <a:solidFill>
                <a:srgbClr val="b8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744560" y="5419080"/>
                <a:ext cx="642960" cy="16200"/>
              </a:xfrm>
              <a:prstGeom prst="rect">
                <a:avLst/>
              </a:prstGeom>
              <a:solidFill>
                <a:srgbClr val="b9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744560" y="5435640"/>
                <a:ext cx="642960" cy="17640"/>
              </a:xfrm>
              <a:prstGeom prst="rect">
                <a:avLst/>
              </a:prstGeom>
              <a:solidFill>
                <a:srgbClr val="b9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744560" y="5453280"/>
                <a:ext cx="642960" cy="16200"/>
              </a:xfrm>
              <a:prstGeom prst="rect">
                <a:avLst/>
              </a:prstGeom>
              <a:solidFill>
                <a:srgbClr val="b9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744560" y="5469840"/>
                <a:ext cx="642960" cy="14760"/>
              </a:xfrm>
              <a:prstGeom prst="rect">
                <a:avLst/>
              </a:prstGeom>
              <a:solidFill>
                <a:srgbClr val="b9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744560" y="5484600"/>
                <a:ext cx="642960" cy="18000"/>
              </a:xfrm>
              <a:prstGeom prst="rect">
                <a:avLst/>
              </a:prstGeom>
              <a:solidFill>
                <a:srgbClr val="b9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744560" y="5502960"/>
                <a:ext cx="642960" cy="16200"/>
              </a:xfrm>
              <a:prstGeom prst="rect">
                <a:avLst/>
              </a:prstGeom>
              <a:solidFill>
                <a:srgbClr val="ba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1744560" y="3271680"/>
              <a:ext cx="644760" cy="22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1744560" y="5691240"/>
            <a:ext cx="644760" cy="560160"/>
          </a:xfrm>
          <a:prstGeom prst="rect">
            <a:avLst/>
          </a:prstGeom>
          <a:solidFill>
            <a:srgbClr val="b1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758960" y="2981160"/>
            <a:ext cx="630360" cy="203400"/>
          </a:xfrm>
          <a:prstGeom prst="rect">
            <a:avLst/>
          </a:prstGeom>
          <a:solidFill>
            <a:srgbClr val="808080"/>
          </a:solidFill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3978360"/>
            <a:ext cx="11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0920" y="37321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Arial"/>
              </a:rPr>
              <a:t>osmola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54080" y="3648240"/>
            <a:ext cx="247680" cy="2371680"/>
          </a:xfrm>
          <a:custGeom>
            <a:avLst/>
            <a:gdLst/>
            <a:ahLst/>
            <a:rect l="l" t="t" r="r" b="b"/>
            <a:pathLst>
              <a:path w="156" h="1494">
                <a:moveTo>
                  <a:pt x="0" y="1121"/>
                </a:moveTo>
                <a:lnTo>
                  <a:pt x="39" y="1121"/>
                </a:lnTo>
                <a:lnTo>
                  <a:pt x="39" y="0"/>
                </a:lnTo>
                <a:lnTo>
                  <a:pt x="117" y="0"/>
                </a:lnTo>
                <a:lnTo>
                  <a:pt x="117" y="1121"/>
                </a:lnTo>
                <a:lnTo>
                  <a:pt x="156" y="1121"/>
                </a:lnTo>
                <a:lnTo>
                  <a:pt x="78" y="1494"/>
                </a:lnTo>
                <a:lnTo>
                  <a:pt x="0" y="112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016080" y="5543640"/>
            <a:ext cx="4426200" cy="8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384800" y="3129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285440" y="411336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40120" y="3639960"/>
            <a:ext cx="39240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38680" y="3348000"/>
            <a:ext cx="541440" cy="54144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29160" y="371304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394880" y="313056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267440" y="354960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92360" y="2335320"/>
            <a:ext cx="39384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87680" y="1843200"/>
            <a:ext cx="0" cy="128592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900600" y="18442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34640" y="158112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281040" y="311472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478400" y="18446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293360" y="159372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80040" y="233532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295960" y="1868400"/>
            <a:ext cx="0" cy="18417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095080" y="15397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90480" y="154476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273720" y="1855800"/>
            <a:ext cx="0" cy="18414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5346720" y="3720960"/>
            <a:ext cx="736560" cy="343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68880" y="4165560"/>
            <a:ext cx="254160" cy="2146320"/>
          </a:xfrm>
          <a:prstGeom prst="downArrow">
            <a:avLst>
              <a:gd name="adj1" fmla="val 50000"/>
              <a:gd name="adj2" fmla="val 21111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094400" y="88416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« standing osmotic gradient mechanism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26440" y="6311880"/>
            <a:ext cx="60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B : mécanisme analogue au niveau de la vésicule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" descr=""/>
          <p:cNvPicPr/>
          <p:nvPr/>
        </p:nvPicPr>
        <p:blipFill>
          <a:blip r:embed="rId1"/>
          <a:stretch/>
        </p:blipFill>
        <p:spPr>
          <a:xfrm>
            <a:off x="2193840" y="1319040"/>
            <a:ext cx="3316320" cy="47912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03040" y="86184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2"/>
          <a:stretch/>
        </p:blipFill>
        <p:spPr>
          <a:xfrm>
            <a:off x="4822920" y="1333440"/>
            <a:ext cx="3316320" cy="4791240"/>
          </a:xfrm>
          <a:prstGeom prst="rect">
            <a:avLst/>
          </a:prstGeom>
          <a:ln w="0">
            <a:noFill/>
          </a:ln>
        </p:spPr>
      </p:pic>
      <p:sp>
        <p:nvSpPr>
          <p:cNvPr id="1338" name=""/>
          <p:cNvSpPr/>
          <p:nvPr/>
        </p:nvSpPr>
        <p:spPr>
          <a:xfrm>
            <a:off x="5916600" y="470700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813280" y="2690640"/>
            <a:ext cx="1800" cy="1292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5662440" y="1736640"/>
            <a:ext cx="314280" cy="964800"/>
            <a:chOff x="5662440" y="1736640"/>
            <a:chExt cx="314280" cy="964800"/>
          </a:xfrm>
        </p:grpSpPr>
        <p:sp>
          <p:nvSpPr>
            <p:cNvPr id="1341" name=""/>
            <p:cNvSpPr/>
            <p:nvPr/>
          </p:nvSpPr>
          <p:spPr>
            <a:xfrm>
              <a:off x="5676840" y="175104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676840" y="175104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62440" y="173664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662440" y="186876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5916600" y="470700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72040" y="248292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5662440" y="1736640"/>
            <a:ext cx="314280" cy="964800"/>
            <a:chOff x="5662440" y="1736640"/>
            <a:chExt cx="314280" cy="964800"/>
          </a:xfrm>
        </p:grpSpPr>
        <p:sp>
          <p:nvSpPr>
            <p:cNvPr id="1348" name=""/>
            <p:cNvSpPr/>
            <p:nvPr/>
          </p:nvSpPr>
          <p:spPr>
            <a:xfrm>
              <a:off x="5676840" y="175104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676840" y="175104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662440" y="173664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62440" y="186876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 flipV="1">
            <a:off x="5816520" y="4533480"/>
            <a:ext cx="0" cy="16002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81800" y="5307120"/>
            <a:ext cx="461880" cy="45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032520" y="499068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575320" y="499068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803920" y="1206360"/>
            <a:ext cx="0" cy="749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480000" y="484020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7135920" y="4743360"/>
            <a:ext cx="286920" cy="1004760"/>
            <a:chOff x="7135920" y="4743360"/>
            <a:chExt cx="286920" cy="1004760"/>
          </a:xfrm>
        </p:grpSpPr>
        <p:sp>
          <p:nvSpPr>
            <p:cNvPr id="1359" name=""/>
            <p:cNvSpPr/>
            <p:nvPr/>
          </p:nvSpPr>
          <p:spPr>
            <a:xfrm>
              <a:off x="7150320" y="4755240"/>
              <a:ext cx="258120" cy="980640"/>
            </a:xfrm>
            <a:custGeom>
              <a:avLst/>
              <a:gdLst/>
              <a:ahLst/>
              <a:rect l="l" t="t" r="r" b="b"/>
              <a:pathLst>
                <a:path w="125" h="475">
                  <a:moveTo>
                    <a:pt x="62" y="0"/>
                  </a:move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lnTo>
                    <a:pt x="0" y="415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8"/>
                  </a:lnTo>
                  <a:lnTo>
                    <a:pt x="19" y="457"/>
                  </a:lnTo>
                  <a:lnTo>
                    <a:pt x="27" y="465"/>
                  </a:lnTo>
                  <a:lnTo>
                    <a:pt x="38" y="470"/>
                  </a:lnTo>
                  <a:lnTo>
                    <a:pt x="50" y="473"/>
                  </a:lnTo>
                  <a:lnTo>
                    <a:pt x="62" y="475"/>
                  </a:lnTo>
                  <a:lnTo>
                    <a:pt x="75" y="473"/>
                  </a:lnTo>
                  <a:lnTo>
                    <a:pt x="87" y="470"/>
                  </a:lnTo>
                  <a:lnTo>
                    <a:pt x="98" y="465"/>
                  </a:lnTo>
                  <a:lnTo>
                    <a:pt x="106" y="457"/>
                  </a:lnTo>
                  <a:lnTo>
                    <a:pt x="114" y="448"/>
                  </a:lnTo>
                  <a:lnTo>
                    <a:pt x="119" y="438"/>
                  </a:lnTo>
                  <a:lnTo>
                    <a:pt x="124" y="427"/>
                  </a:lnTo>
                  <a:lnTo>
                    <a:pt x="125" y="415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150320" y="4755240"/>
              <a:ext cx="258120" cy="2455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60"/>
                  </a:moveTo>
                  <a:lnTo>
                    <a:pt x="1" y="72"/>
                  </a:lnTo>
                  <a:lnTo>
                    <a:pt x="5" y="83"/>
                  </a:lnTo>
                  <a:lnTo>
                    <a:pt x="11" y="93"/>
                  </a:lnTo>
                  <a:lnTo>
                    <a:pt x="19" y="101"/>
                  </a:lnTo>
                  <a:lnTo>
                    <a:pt x="27" y="109"/>
                  </a:lnTo>
                  <a:lnTo>
                    <a:pt x="38" y="115"/>
                  </a:lnTo>
                  <a:lnTo>
                    <a:pt x="50" y="118"/>
                  </a:lnTo>
                  <a:lnTo>
                    <a:pt x="62" y="119"/>
                  </a:lnTo>
                  <a:lnTo>
                    <a:pt x="75" y="118"/>
                  </a:lnTo>
                  <a:lnTo>
                    <a:pt x="87" y="115"/>
                  </a:lnTo>
                  <a:lnTo>
                    <a:pt x="98" y="109"/>
                  </a:lnTo>
                  <a:lnTo>
                    <a:pt x="106" y="101"/>
                  </a:lnTo>
                  <a:lnTo>
                    <a:pt x="114" y="93"/>
                  </a:lnTo>
                  <a:lnTo>
                    <a:pt x="119" y="83"/>
                  </a:lnTo>
                  <a:lnTo>
                    <a:pt x="124" y="72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35920" y="4743360"/>
              <a:ext cx="286920" cy="100476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5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3"/>
                  </a:lnTo>
                  <a:lnTo>
                    <a:pt x="6" y="444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6" y="460"/>
                  </a:lnTo>
                  <a:lnTo>
                    <a:pt x="132" y="450"/>
                  </a:lnTo>
                  <a:lnTo>
                    <a:pt x="133" y="444"/>
                  </a:lnTo>
                  <a:lnTo>
                    <a:pt x="137" y="433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6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5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7"/>
                  </a:lnTo>
                  <a:lnTo>
                    <a:pt x="101" y="23"/>
                  </a:lnTo>
                  <a:lnTo>
                    <a:pt x="105" y="16"/>
                  </a:lnTo>
                  <a:lnTo>
                    <a:pt x="99" y="22"/>
                  </a:lnTo>
                  <a:lnTo>
                    <a:pt x="109" y="28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6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3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79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79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4"/>
                  </a:lnTo>
                  <a:lnTo>
                    <a:pt x="19" y="444"/>
                  </a:lnTo>
                  <a:lnTo>
                    <a:pt x="15" y="433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8"/>
                  </a:lnTo>
                  <a:lnTo>
                    <a:pt x="40" y="22"/>
                  </a:lnTo>
                  <a:lnTo>
                    <a:pt x="34" y="16"/>
                  </a:lnTo>
                  <a:lnTo>
                    <a:pt x="38" y="23"/>
                  </a:lnTo>
                  <a:lnTo>
                    <a:pt x="49" y="17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35920" y="487944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3"/>
                  </a:lnTo>
                  <a:lnTo>
                    <a:pt x="57" y="64"/>
                  </a:lnTo>
                  <a:lnTo>
                    <a:pt x="69" y="66"/>
                  </a:lnTo>
                  <a:lnTo>
                    <a:pt x="82" y="64"/>
                  </a:lnTo>
                  <a:lnTo>
                    <a:pt x="85" y="63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6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6" y="23"/>
                  </a:lnTo>
                  <a:lnTo>
                    <a:pt x="122" y="18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2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8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286760" y="449748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89640" y="576576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6230880" y="4770360"/>
            <a:ext cx="286920" cy="1004760"/>
            <a:chOff x="6230880" y="4770360"/>
            <a:chExt cx="286920" cy="1004760"/>
          </a:xfrm>
        </p:grpSpPr>
        <p:sp>
          <p:nvSpPr>
            <p:cNvPr id="1366" name=""/>
            <p:cNvSpPr/>
            <p:nvPr/>
          </p:nvSpPr>
          <p:spPr>
            <a:xfrm>
              <a:off x="6245280" y="4784760"/>
              <a:ext cx="258480" cy="978120"/>
            </a:xfrm>
            <a:custGeom>
              <a:avLst/>
              <a:gdLst/>
              <a:ahLst/>
              <a:rect l="l" t="t" r="r" b="b"/>
              <a:pathLst>
                <a:path w="125" h="474">
                  <a:moveTo>
                    <a:pt x="62" y="0"/>
                  </a:move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414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7"/>
                  </a:lnTo>
                  <a:lnTo>
                    <a:pt x="19" y="456"/>
                  </a:lnTo>
                  <a:lnTo>
                    <a:pt x="27" y="464"/>
                  </a:lnTo>
                  <a:lnTo>
                    <a:pt x="38" y="469"/>
                  </a:lnTo>
                  <a:lnTo>
                    <a:pt x="50" y="473"/>
                  </a:lnTo>
                  <a:lnTo>
                    <a:pt x="62" y="474"/>
                  </a:lnTo>
                  <a:lnTo>
                    <a:pt x="75" y="473"/>
                  </a:lnTo>
                  <a:lnTo>
                    <a:pt x="87" y="469"/>
                  </a:lnTo>
                  <a:lnTo>
                    <a:pt x="98" y="464"/>
                  </a:lnTo>
                  <a:lnTo>
                    <a:pt x="106" y="456"/>
                  </a:lnTo>
                  <a:lnTo>
                    <a:pt x="114" y="447"/>
                  </a:lnTo>
                  <a:lnTo>
                    <a:pt x="120" y="438"/>
                  </a:lnTo>
                  <a:lnTo>
                    <a:pt x="124" y="427"/>
                  </a:lnTo>
                  <a:lnTo>
                    <a:pt x="125" y="414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245280" y="4784760"/>
              <a:ext cx="258480" cy="24336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59"/>
                  </a:moveTo>
                  <a:lnTo>
                    <a:pt x="1" y="71"/>
                  </a:lnTo>
                  <a:lnTo>
                    <a:pt x="5" y="82"/>
                  </a:lnTo>
                  <a:lnTo>
                    <a:pt x="11" y="92"/>
                  </a:lnTo>
                  <a:lnTo>
                    <a:pt x="19" y="101"/>
                  </a:lnTo>
                  <a:lnTo>
                    <a:pt x="27" y="108"/>
                  </a:lnTo>
                  <a:lnTo>
                    <a:pt x="38" y="114"/>
                  </a:lnTo>
                  <a:lnTo>
                    <a:pt x="50" y="117"/>
                  </a:lnTo>
                  <a:lnTo>
                    <a:pt x="62" y="118"/>
                  </a:lnTo>
                  <a:lnTo>
                    <a:pt x="75" y="117"/>
                  </a:lnTo>
                  <a:lnTo>
                    <a:pt x="87" y="114"/>
                  </a:lnTo>
                  <a:lnTo>
                    <a:pt x="98" y="108"/>
                  </a:lnTo>
                  <a:lnTo>
                    <a:pt x="106" y="101"/>
                  </a:lnTo>
                  <a:lnTo>
                    <a:pt x="114" y="92"/>
                  </a:lnTo>
                  <a:lnTo>
                    <a:pt x="120" y="82"/>
                  </a:lnTo>
                  <a:lnTo>
                    <a:pt x="124" y="71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230880" y="4770360"/>
              <a:ext cx="286920" cy="100476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6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4"/>
                  </a:lnTo>
                  <a:lnTo>
                    <a:pt x="6" y="445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7" y="460"/>
                  </a:lnTo>
                  <a:lnTo>
                    <a:pt x="132" y="450"/>
                  </a:lnTo>
                  <a:lnTo>
                    <a:pt x="133" y="445"/>
                  </a:lnTo>
                  <a:lnTo>
                    <a:pt x="137" y="434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7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6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8"/>
                  </a:lnTo>
                  <a:lnTo>
                    <a:pt x="101" y="23"/>
                  </a:lnTo>
                  <a:lnTo>
                    <a:pt x="105" y="17"/>
                  </a:lnTo>
                  <a:lnTo>
                    <a:pt x="99" y="22"/>
                  </a:lnTo>
                  <a:lnTo>
                    <a:pt x="109" y="29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7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4"/>
                  </a:lnTo>
                  <a:lnTo>
                    <a:pt x="120" y="445"/>
                  </a:lnTo>
                  <a:lnTo>
                    <a:pt x="127" y="445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80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80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5"/>
                  </a:lnTo>
                  <a:lnTo>
                    <a:pt x="19" y="445"/>
                  </a:lnTo>
                  <a:lnTo>
                    <a:pt x="15" y="434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9"/>
                  </a:lnTo>
                  <a:lnTo>
                    <a:pt x="40" y="22"/>
                  </a:lnTo>
                  <a:lnTo>
                    <a:pt x="34" y="17"/>
                  </a:lnTo>
                  <a:lnTo>
                    <a:pt x="38" y="23"/>
                  </a:lnTo>
                  <a:lnTo>
                    <a:pt x="49" y="18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230880" y="490644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4"/>
                  </a:lnTo>
                  <a:lnTo>
                    <a:pt x="57" y="65"/>
                  </a:lnTo>
                  <a:lnTo>
                    <a:pt x="69" y="66"/>
                  </a:lnTo>
                  <a:lnTo>
                    <a:pt x="82" y="65"/>
                  </a:lnTo>
                  <a:lnTo>
                    <a:pt x="85" y="64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7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7" y="23"/>
                  </a:lnTo>
                  <a:lnTo>
                    <a:pt x="122" y="19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3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9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6384960" y="452268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375240" y="577836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20000" y="1332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452"/>
                </a:solidFill>
                <a:latin typeface="Arial"/>
              </a:rPr>
              <a:t>CF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90080" y="8668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622480" y="41562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2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415840" y="473076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98480" y="617868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943960" y="474336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226640" y="6178680"/>
            <a:ext cx="2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5168880" y="1599840"/>
            <a:ext cx="0" cy="30862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400480" y="1193760"/>
            <a:ext cx="151128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41360" y="1382760"/>
            <a:ext cx="370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des cryp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ôle basal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tation activ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(cotransport 2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/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/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ôle apic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rti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par canal CFTR (régulé+ par AM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29920" y="12636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879440" y="887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4080" y="1268280"/>
            <a:ext cx="790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ido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my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disaccharides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ucrose (saccharose)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    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urces dans l’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90000" y="3032280"/>
            <a:ext cx="1911240" cy="2693880"/>
            <a:chOff x="1890000" y="3032280"/>
            <a:chExt cx="1911240" cy="2693880"/>
          </a:xfrm>
        </p:grpSpPr>
        <p:sp>
          <p:nvSpPr>
            <p:cNvPr id="181" name=""/>
            <p:cNvSpPr/>
            <p:nvPr/>
          </p:nvSpPr>
          <p:spPr>
            <a:xfrm>
              <a:off x="2667960" y="3032280"/>
              <a:ext cx="677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30360" y="4626000"/>
              <a:ext cx="838440" cy="1100160"/>
              <a:chOff x="2430360" y="4626000"/>
              <a:chExt cx="838440" cy="1100160"/>
            </a:xfrm>
          </p:grpSpPr>
          <p:sp>
            <p:nvSpPr>
              <p:cNvPr id="183" name=""/>
              <p:cNvSpPr/>
              <p:nvPr/>
            </p:nvSpPr>
            <p:spPr>
              <a:xfrm>
                <a:off x="2430360" y="4721400"/>
                <a:ext cx="833400" cy="676080"/>
              </a:xfrm>
              <a:custGeom>
                <a:avLst/>
                <a:gdLst/>
                <a:ahLst/>
                <a:rect l="l" t="t" r="r" b="b"/>
                <a:pathLst>
                  <a:path w="525" h="426">
                    <a:moveTo>
                      <a:pt x="264" y="0"/>
                    </a:moveTo>
                    <a:lnTo>
                      <a:pt x="525" y="219"/>
                    </a:lnTo>
                    <a:lnTo>
                      <a:pt x="396" y="426"/>
                    </a:lnTo>
                    <a:lnTo>
                      <a:pt x="120" y="426"/>
                    </a:lnTo>
                    <a:lnTo>
                      <a:pt x="0" y="207"/>
                    </a:lnTo>
                    <a:lnTo>
                      <a:pt x="26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74880" y="465624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7480" y="46260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68800" y="47433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63760" y="50688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59280" y="507384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16120" y="5397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30360" y="472140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123720" y="5334120"/>
              <a:ext cx="677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0000" y="4524480"/>
              <a:ext cx="677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16520" y="45306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616120" y="3254400"/>
              <a:ext cx="841320" cy="1339920"/>
              <a:chOff x="2616120" y="3254400"/>
              <a:chExt cx="841320" cy="1339920"/>
            </a:xfrm>
          </p:grpSpPr>
          <p:sp>
            <p:nvSpPr>
              <p:cNvPr id="195" name=""/>
              <p:cNvSpPr/>
              <p:nvPr/>
            </p:nvSpPr>
            <p:spPr>
              <a:xfrm>
                <a:off x="2619360" y="359244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19520" y="3254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16120" y="39369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25640" y="394668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63760" y="42656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71960" y="354492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10040" y="34876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54560" y="39243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5013360" y="4583160"/>
            <a:ext cx="838080" cy="681120"/>
          </a:xfrm>
          <a:custGeom>
            <a:avLst/>
            <a:gdLst/>
            <a:ahLst/>
            <a:rect l="l" t="t" r="r" b="b"/>
            <a:pathLst>
              <a:path w="528" h="429">
                <a:moveTo>
                  <a:pt x="402" y="0"/>
                </a:moveTo>
                <a:lnTo>
                  <a:pt x="126" y="0"/>
                </a:lnTo>
                <a:lnTo>
                  <a:pt x="0" y="213"/>
                </a:lnTo>
                <a:lnTo>
                  <a:pt x="129" y="429"/>
                </a:lnTo>
                <a:lnTo>
                  <a:pt x="405" y="429"/>
                </a:lnTo>
                <a:lnTo>
                  <a:pt x="528" y="210"/>
                </a:lnTo>
                <a:lnTo>
                  <a:pt x="40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3520" y="4245120"/>
            <a:ext cx="0" cy="328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10120" y="4591080"/>
            <a:ext cx="0" cy="32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4937040"/>
            <a:ext cx="0" cy="32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57760" y="5256360"/>
            <a:ext cx="0" cy="328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5600" y="4535640"/>
            <a:ext cx="1429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4040" y="4478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48200" y="4591080"/>
            <a:ext cx="0" cy="32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848200" y="3191040"/>
            <a:ext cx="841320" cy="1561320"/>
            <a:chOff x="5848200" y="3191040"/>
            <a:chExt cx="841320" cy="1561320"/>
          </a:xfrm>
        </p:grpSpPr>
        <p:grpSp>
          <p:nvGrpSpPr>
            <p:cNvPr id="212" name=""/>
            <p:cNvGrpSpPr/>
            <p:nvPr/>
          </p:nvGrpSpPr>
          <p:grpSpPr>
            <a:xfrm>
              <a:off x="5848200" y="3413160"/>
              <a:ext cx="841320" cy="1339200"/>
              <a:chOff x="5848200" y="3413160"/>
              <a:chExt cx="841320" cy="1339200"/>
            </a:xfrm>
          </p:grpSpPr>
          <p:sp>
            <p:nvSpPr>
              <p:cNvPr id="213" name=""/>
              <p:cNvSpPr/>
              <p:nvPr/>
            </p:nvSpPr>
            <p:spPr>
              <a:xfrm>
                <a:off x="5851440" y="375084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51600" y="341316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48200" y="409536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57720" y="4105080"/>
                <a:ext cx="0" cy="3279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95840" y="442404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04040" y="3703320"/>
                <a:ext cx="1429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42120" y="36460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6640" y="408276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920560" y="3191040"/>
              <a:ext cx="677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CH</a:t>
              </a:r>
              <a:r>
                <a:rPr b="1" lang="fr-FR" sz="12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074560" y="4016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00960" y="436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6960" y="3892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glucose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fructose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37160" y="3956040"/>
            <a:ext cx="115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ga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593640" y="1535040"/>
            <a:ext cx="768348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gonistes activant l’excrétion : VIP (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c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 ; ACh (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holéra : infection par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Vibrio choler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nzymes (mucinase, protéase) : adhésion aux entérocytes des cryp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ntérotoxine cholérique : 3 sous-unités : A1 A2 B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s-unité B : fixation aux récepteurs gangliosides GM1 de l’enté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s-unité A2 : permet la passage dans la cellule de la sous-unité 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ous-unité A1 : activateur irréversible de la adénylate cycla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vation des CFT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orti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ortie d’eau : diarrhée (10 à 20 L/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eshydratation, hypovolémie, acidose métabolique…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mort (5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ibrose cystique : mutation du CFTR (population USA : 1/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omozygote : mucovisci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hétérozygote : plus grande résistance au vibrion chol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03040" y="861840"/>
            <a:ext cx="37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ulation de la sécrétion d’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0" name=""/>
          <p:cNvGraphicFramePr/>
          <p:nvPr/>
        </p:nvGraphicFramePr>
        <p:xfrm>
          <a:off x="625320" y="912960"/>
          <a:ext cx="7996320" cy="5155920"/>
        </p:xfrm>
        <a:graphic>
          <a:graphicData uri="http://schemas.openxmlformats.org/drawingml/2006/table">
            <a:tbl>
              <a:tblPr/>
              <a:tblGrid>
                <a:gridCol w="2343240"/>
                <a:gridCol w="3191040"/>
                <a:gridCol w="24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écré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bsor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ellules épithél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éroto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omatostat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astr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eurotens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amina prop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étabolites de l’A. ar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latelet-activating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bradyki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eur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radréna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éroto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europeptid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ubstance 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dréna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stagland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ticostéroï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ptide atrial natriuré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inéralocorticoï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alciton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ngiotens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5760" y="206280"/>
            <a:ext cx="874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bsorption et sécrétion d’eau et d’é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625760" y="431640"/>
            <a:ext cx="1425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25760" y="431640"/>
            <a:ext cx="5146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31800" y="1504800"/>
            <a:ext cx="74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ctivité du TD :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ganisation de base : plan commun à la plupart des Métazo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rande variations de fonctionnement (liée à la variabilité du milie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625760" y="431640"/>
            <a:ext cx="5146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1800" y="1504800"/>
            <a:ext cx="74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ctivité du TD :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ganisation de base : plan commun à la plupart des Métazo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rande variations de fonctionnement (liée à la variabilité du milie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écanismes complexes : motilité, sécrétion, digestion,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625760" y="431640"/>
            <a:ext cx="5146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31800" y="1504800"/>
            <a:ext cx="74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ctivité du TD :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ganisation de base : plan commun à la plupart des Métazo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rande variations de fonctionnement (liée à la variabilité du milie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écanismes complexes : motilité, sécrétion, digestion,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acité d’ajustemen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ise de nourriture non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état physiologique : effort, croissance, grossess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dulation complexe : nerveuse, humorale, para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625760" y="431640"/>
            <a:ext cx="51465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31800" y="1504800"/>
            <a:ext cx="74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activité du TD :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organisation de base : plan commun à la plupart des Métazo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rande variations de fonctionnement (liée à la variabilité du milie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écanismes complexes : motilité, sécrétion, digestion,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pacité d’ajustemen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ise de nourriture non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état physiologique : effort, croissance, grossess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odulation complexe : nerveuse, humorale, para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nombreuses interconnexion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u sein du système diges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vec d’autres systèmes : régulation de la volémie, du pH, de la calcémie, de la kaliémi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080" y="1268280"/>
            <a:ext cx="790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disaccharides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ucrose (saccharose)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onosaccharides 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glucose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urces dans l’al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63320" y="3451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86400" y="3940200"/>
            <a:ext cx="838080" cy="1100160"/>
            <a:chOff x="5486400" y="3940200"/>
            <a:chExt cx="838080" cy="1100160"/>
          </a:xfrm>
        </p:grpSpPr>
        <p:sp>
          <p:nvSpPr>
            <p:cNvPr id="233" name=""/>
            <p:cNvSpPr/>
            <p:nvPr/>
          </p:nvSpPr>
          <p:spPr>
            <a:xfrm>
              <a:off x="5486400" y="4035600"/>
              <a:ext cx="833040" cy="676080"/>
            </a:xfrm>
            <a:custGeom>
              <a:avLst/>
              <a:gdLst/>
              <a:ahLst/>
              <a:rect l="l" t="t" r="r" b="b"/>
              <a:pathLst>
                <a:path w="525" h="426">
                  <a:moveTo>
                    <a:pt x="264" y="0"/>
                  </a:moveTo>
                  <a:lnTo>
                    <a:pt x="525" y="219"/>
                  </a:lnTo>
                  <a:lnTo>
                    <a:pt x="396" y="426"/>
                  </a:lnTo>
                  <a:lnTo>
                    <a:pt x="120" y="426"/>
                  </a:lnTo>
                  <a:lnTo>
                    <a:pt x="0" y="207"/>
                  </a:lnTo>
                  <a:lnTo>
                    <a:pt x="264" y="0"/>
                  </a:lnTo>
                  <a:close/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30560" y="3970440"/>
              <a:ext cx="14256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2800" y="394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4480" y="405756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9440" y="43830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4960" y="4388040"/>
              <a:ext cx="0" cy="328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71800" y="47116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4035600"/>
              <a:ext cx="0" cy="328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179400" y="4648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46040" y="383868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H</a:t>
            </a:r>
            <a:r>
              <a:rPr b="1" lang="fr-FR" sz="1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111480" y="3673440"/>
            <a:ext cx="841320" cy="1339920"/>
            <a:chOff x="3111480" y="3673440"/>
            <a:chExt cx="841320" cy="1339920"/>
          </a:xfrm>
        </p:grpSpPr>
        <p:sp>
          <p:nvSpPr>
            <p:cNvPr id="244" name=""/>
            <p:cNvSpPr/>
            <p:nvPr/>
          </p:nvSpPr>
          <p:spPr>
            <a:xfrm>
              <a:off x="3114720" y="4011480"/>
              <a:ext cx="838080" cy="681120"/>
            </a:xfrm>
            <a:custGeom>
              <a:avLst/>
              <a:gdLst/>
              <a:ahLst/>
              <a:rect l="l" t="t" r="r" b="b"/>
              <a:pathLst>
                <a:path w="528" h="429">
                  <a:moveTo>
                    <a:pt x="402" y="0"/>
                  </a:moveTo>
                  <a:lnTo>
                    <a:pt x="126" y="0"/>
                  </a:lnTo>
                  <a:lnTo>
                    <a:pt x="0" y="213"/>
                  </a:lnTo>
                  <a:lnTo>
                    <a:pt x="129" y="429"/>
                  </a:lnTo>
                  <a:lnTo>
                    <a:pt x="405" y="429"/>
                  </a:lnTo>
                  <a:lnTo>
                    <a:pt x="528" y="21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14880" y="367344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1480" y="43560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21000" y="4365720"/>
              <a:ext cx="0" cy="328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59120" y="46846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963960"/>
              <a:ext cx="1429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05400" y="39067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920" y="434340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25760" y="1328760"/>
            <a:ext cx="61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-amylase salivaire et pancréatiqu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nzymes sécrétées</a:t>
            </a: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hydrolyse d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1,4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4600" y="5567400"/>
            <a:ext cx="65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gestion de l’amidon dans le duodénum : 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maltose (2 G), maltotriose (3 G), dextrines (4 à 9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5760" y="2324160"/>
            <a:ext cx="6184800" cy="3186000"/>
            <a:chOff x="1355760" y="2324160"/>
            <a:chExt cx="6184800" cy="3186000"/>
          </a:xfrm>
        </p:grpSpPr>
        <p:grpSp>
          <p:nvGrpSpPr>
            <p:cNvPr id="259" name=""/>
            <p:cNvGrpSpPr/>
            <p:nvPr/>
          </p:nvGrpSpPr>
          <p:grpSpPr>
            <a:xfrm>
              <a:off x="4889520" y="2327400"/>
              <a:ext cx="990000" cy="1562040"/>
              <a:chOff x="4889520" y="2327400"/>
              <a:chExt cx="990000" cy="1562040"/>
            </a:xfrm>
          </p:grpSpPr>
          <p:sp>
            <p:nvSpPr>
              <p:cNvPr id="260" name=""/>
              <p:cNvSpPr/>
              <p:nvPr/>
            </p:nvSpPr>
            <p:spPr>
              <a:xfrm>
                <a:off x="4892400" y="288756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560" y="25495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89520" y="32320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9040" y="32418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37160" y="35607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45000" y="2840040"/>
                <a:ext cx="14256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83080" y="27828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27600" y="32288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61520" y="2327400"/>
                <a:ext cx="677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80000" y="34941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355760" y="2324160"/>
              <a:ext cx="3531600" cy="1569960"/>
              <a:chOff x="1355760" y="2324160"/>
              <a:chExt cx="3531600" cy="15699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711240" y="2327400"/>
                <a:ext cx="1176120" cy="1562040"/>
                <a:chOff x="3711240" y="2327400"/>
                <a:chExt cx="1176120" cy="15620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714480" y="2887560"/>
                  <a:ext cx="838080" cy="68112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914280" y="254952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711240" y="323208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20760" y="32418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358880" y="356076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66720" y="284004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205160" y="27828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49320" y="322884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783600" y="2327400"/>
                  <a:ext cx="6775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Arial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49320" y="356076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58760" y="349092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582800" y="34225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355760" y="2324160"/>
                <a:ext cx="2351520" cy="1569960"/>
                <a:chOff x="1355760" y="2324160"/>
                <a:chExt cx="2351520" cy="15699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1355760" y="2332080"/>
                  <a:ext cx="1176120" cy="1562040"/>
                  <a:chOff x="1355760" y="2332080"/>
                  <a:chExt cx="1176120" cy="15620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359000" y="2892240"/>
                    <a:ext cx="83808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58800" y="255420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355760" y="323676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1565280" y="3246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03400" y="356544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911240" y="2844720"/>
                    <a:ext cx="14292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849680" y="278748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193840" y="323352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428120" y="2332080"/>
                    <a:ext cx="67752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193840" y="3565440"/>
                    <a:ext cx="33804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303280" y="3495600"/>
                    <a:ext cx="14292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227320" y="342720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2531880" y="2324160"/>
                  <a:ext cx="1175400" cy="1562040"/>
                  <a:chOff x="2531880" y="2324160"/>
                  <a:chExt cx="1175400" cy="15620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2534760" y="2884320"/>
                    <a:ext cx="8377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734560" y="254628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531880" y="322884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741040" y="323856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179160" y="355752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87000" y="2836800"/>
                    <a:ext cx="14256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025080" y="277956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369600" y="3225600"/>
                    <a:ext cx="0" cy="32868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603520" y="2324160"/>
                    <a:ext cx="67752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Arial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369600" y="3557520"/>
                    <a:ext cx="33768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479040" y="3487680"/>
                    <a:ext cx="142560" cy="147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403080" y="3419280"/>
                    <a:ext cx="299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Arial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1" name=""/>
            <p:cNvGrpSpPr/>
            <p:nvPr/>
          </p:nvGrpSpPr>
          <p:grpSpPr>
            <a:xfrm>
              <a:off x="6699240" y="3943440"/>
              <a:ext cx="841320" cy="1562040"/>
              <a:chOff x="6699240" y="3943440"/>
              <a:chExt cx="841320" cy="1562040"/>
            </a:xfrm>
          </p:grpSpPr>
          <p:sp>
            <p:nvSpPr>
              <p:cNvPr id="312" name=""/>
              <p:cNvSpPr/>
              <p:nvPr/>
            </p:nvSpPr>
            <p:spPr>
              <a:xfrm>
                <a:off x="6702480" y="450396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02280" y="41655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99240" y="484848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08760" y="48578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46880" y="51768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54720" y="445608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93160" y="43992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37320" y="48452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71600" y="3943440"/>
                <a:ext cx="677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Arial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343400" y="3940200"/>
              <a:ext cx="2352600" cy="1569960"/>
              <a:chOff x="4343400" y="3940200"/>
              <a:chExt cx="2352600" cy="15699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4343400" y="3948120"/>
                <a:ext cx="1176120" cy="1562040"/>
                <a:chOff x="4343400" y="3948120"/>
                <a:chExt cx="1176120" cy="1562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46640" y="4508280"/>
                  <a:ext cx="838080" cy="68112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46440" y="417024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343400" y="485280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552920" y="4862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991040" y="518148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898880" y="446076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837320" y="44035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181480" y="484956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15760" y="3948120"/>
                  <a:ext cx="6775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Arial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181480" y="518148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290920" y="511164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214960" y="50432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5519880" y="3940200"/>
                <a:ext cx="1176120" cy="1562040"/>
                <a:chOff x="5519880" y="3940200"/>
                <a:chExt cx="1176120" cy="1562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523120" y="4500360"/>
                  <a:ext cx="838080" cy="68112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22920" y="416232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19880" y="484488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29400" y="48546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167520" y="517356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75360" y="445284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13800" y="43956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357960" y="4841640"/>
                  <a:ext cx="0" cy="3286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592240" y="3940200"/>
                  <a:ext cx="4489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357960" y="517356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467400" y="5103720"/>
                  <a:ext cx="142920" cy="14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391440" y="50353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5724360" y="372924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340080" y="3340080"/>
            <a:ext cx="444600" cy="41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03040" y="86184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gestion et absorption des glu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25760" y="431640"/>
            <a:ext cx="2657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7120" y="1332000"/>
            <a:ext cx="6273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</a:rPr>
              <a:t>oligosaccharidas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ans la bordure en brosse du duodénum et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sucr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ucro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fructose +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act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lacto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galactose +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glucoamyl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maltose, maltotrios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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-dextrinase :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clive la liaison a-1,6 : dextrin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82880" y="568476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11480" y="570708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56560" y="5697360"/>
            <a:ext cx="120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01280" y="569448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26000" y="366552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31960" y="3940200"/>
            <a:ext cx="48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82560" y="366552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21000" y="3957480"/>
            <a:ext cx="939960" cy="473400"/>
          </a:xfrm>
          <a:custGeom>
            <a:avLst/>
            <a:gdLst/>
            <a:ahLst/>
            <a:rect l="l" t="t" r="r" b="b"/>
            <a:pathLst>
              <a:path w="539" h="298">
                <a:moveTo>
                  <a:pt x="0" y="0"/>
                </a:moveTo>
                <a:lnTo>
                  <a:pt x="55" y="2"/>
                </a:lnTo>
                <a:lnTo>
                  <a:pt x="109" y="7"/>
                </a:lnTo>
                <a:lnTo>
                  <a:pt x="160" y="14"/>
                </a:lnTo>
                <a:lnTo>
                  <a:pt x="209" y="24"/>
                </a:lnTo>
                <a:lnTo>
                  <a:pt x="257" y="37"/>
                </a:lnTo>
                <a:lnTo>
                  <a:pt x="301" y="51"/>
                </a:lnTo>
                <a:lnTo>
                  <a:pt x="343" y="69"/>
                </a:lnTo>
                <a:lnTo>
                  <a:pt x="381" y="88"/>
                </a:lnTo>
                <a:lnTo>
                  <a:pt x="415" y="109"/>
                </a:lnTo>
                <a:lnTo>
                  <a:pt x="447" y="132"/>
                </a:lnTo>
                <a:lnTo>
                  <a:pt x="474" y="156"/>
                </a:lnTo>
                <a:lnTo>
                  <a:pt x="486" y="169"/>
                </a:lnTo>
                <a:lnTo>
                  <a:pt x="497" y="182"/>
                </a:lnTo>
                <a:lnTo>
                  <a:pt x="506" y="196"/>
                </a:lnTo>
                <a:lnTo>
                  <a:pt x="515" y="210"/>
                </a:lnTo>
                <a:lnTo>
                  <a:pt x="522" y="224"/>
                </a:lnTo>
                <a:lnTo>
                  <a:pt x="528" y="239"/>
                </a:lnTo>
                <a:lnTo>
                  <a:pt x="532" y="253"/>
                </a:lnTo>
                <a:lnTo>
                  <a:pt x="537" y="267"/>
                </a:lnTo>
                <a:lnTo>
                  <a:pt x="538" y="283"/>
                </a:lnTo>
                <a:lnTo>
                  <a:pt x="539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44680" y="344952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23000" y="367344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69080" y="4200480"/>
            <a:ext cx="357120" cy="268200"/>
          </a:xfrm>
          <a:custGeom>
            <a:avLst/>
            <a:gdLst/>
            <a:ahLst/>
            <a:rect l="l" t="t" r="r" b="b"/>
            <a:pathLst>
              <a:path w="207" h="169">
                <a:moveTo>
                  <a:pt x="0" y="0"/>
                </a:moveTo>
                <a:lnTo>
                  <a:pt x="21" y="1"/>
                </a:lnTo>
                <a:lnTo>
                  <a:pt x="42" y="3"/>
                </a:lnTo>
                <a:lnTo>
                  <a:pt x="62" y="7"/>
                </a:lnTo>
                <a:lnTo>
                  <a:pt x="80" y="13"/>
                </a:lnTo>
                <a:lnTo>
                  <a:pt x="99" y="21"/>
                </a:lnTo>
                <a:lnTo>
                  <a:pt x="116" y="28"/>
                </a:lnTo>
                <a:lnTo>
                  <a:pt x="132" y="38"/>
                </a:lnTo>
                <a:lnTo>
                  <a:pt x="147" y="49"/>
                </a:lnTo>
                <a:lnTo>
                  <a:pt x="160" y="61"/>
                </a:lnTo>
                <a:lnTo>
                  <a:pt x="172" y="75"/>
                </a:lnTo>
                <a:lnTo>
                  <a:pt x="182" y="89"/>
                </a:lnTo>
                <a:lnTo>
                  <a:pt x="191" y="103"/>
                </a:lnTo>
                <a:lnTo>
                  <a:pt x="198" y="119"/>
                </a:lnTo>
                <a:lnTo>
                  <a:pt x="203" y="135"/>
                </a:lnTo>
                <a:lnTo>
                  <a:pt x="206" y="152"/>
                </a:lnTo>
                <a:lnTo>
                  <a:pt x="207" y="16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84280" y="366696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57960" y="4143240"/>
            <a:ext cx="476280" cy="51624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19" y="3"/>
                </a:lnTo>
                <a:lnTo>
                  <a:pt x="195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89" y="74"/>
                </a:lnTo>
                <a:lnTo>
                  <a:pt x="72" y="95"/>
                </a:lnTo>
                <a:lnTo>
                  <a:pt x="56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5" y="259"/>
                </a:lnTo>
                <a:lnTo>
                  <a:pt x="1" y="291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79080" y="390852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53320" y="403704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13200" y="43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423072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1880" y="4262400"/>
            <a:ext cx="328680" cy="473040"/>
          </a:xfrm>
          <a:custGeom>
            <a:avLst/>
            <a:gdLst/>
            <a:ahLst/>
            <a:rect l="l" t="t" r="r" b="b"/>
            <a:pathLst>
              <a:path w="207" h="298">
                <a:moveTo>
                  <a:pt x="0" y="0"/>
                </a:moveTo>
                <a:lnTo>
                  <a:pt x="21" y="1"/>
                </a:lnTo>
                <a:lnTo>
                  <a:pt x="42" y="7"/>
                </a:lnTo>
                <a:lnTo>
                  <a:pt x="62" y="14"/>
                </a:lnTo>
                <a:lnTo>
                  <a:pt x="81" y="23"/>
                </a:lnTo>
                <a:lnTo>
                  <a:pt x="99" y="37"/>
                </a:lnTo>
                <a:lnTo>
                  <a:pt x="116" y="51"/>
                </a:lnTo>
                <a:lnTo>
                  <a:pt x="132" y="69"/>
                </a:lnTo>
                <a:lnTo>
                  <a:pt x="147" y="87"/>
                </a:lnTo>
                <a:lnTo>
                  <a:pt x="160" y="108"/>
                </a:lnTo>
                <a:lnTo>
                  <a:pt x="172" y="132"/>
                </a:lnTo>
                <a:lnTo>
                  <a:pt x="182" y="156"/>
                </a:lnTo>
                <a:lnTo>
                  <a:pt x="191" y="182"/>
                </a:lnTo>
                <a:lnTo>
                  <a:pt x="198" y="210"/>
                </a:lnTo>
                <a:lnTo>
                  <a:pt x="203" y="238"/>
                </a:lnTo>
                <a:lnTo>
                  <a:pt x="206" y="267"/>
                </a:lnTo>
                <a:lnTo>
                  <a:pt x="207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09680" y="396072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0840" y="3952800"/>
            <a:ext cx="0" cy="78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84800" y="396072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89920" y="396072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00280" y="4376880"/>
            <a:ext cx="6771960" cy="12096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006640" y="4681440"/>
            <a:ext cx="1879560" cy="7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17720" y="4813200"/>
            <a:ext cx="20574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68480" y="47941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55880" y="52387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99000"/>
            <a:ext cx="69840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06960" y="4775040"/>
            <a:ext cx="8827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87880" y="4762440"/>
            <a:ext cx="96552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75280" y="5207040"/>
            <a:ext cx="9651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05880" y="389412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4-11-12T15:05:52Z</dcterms:modified>
  <cp:revision>1518</cp:revision>
  <dc:subject/>
  <dc:title>Présentation PowerPoint</dc:title>
</cp:coreProperties>
</file>