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84080" y="719280"/>
            <a:ext cx="814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apport de la physiologie comparée à la compréhension des grandes fonctions : exemple de la respiration aérienne des Vertébrés</a:t>
            </a:r>
            <a:r>
              <a:rPr b="1" i="1" lang="fr-FR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17600" y="406872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S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une brève histoire des Vertéb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54360" y="431640"/>
            <a:ext cx="26827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006640" y="3927600"/>
            <a:ext cx="6502320" cy="2201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52760" y="3230640"/>
            <a:ext cx="0" cy="2727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92560" y="3467160"/>
            <a:ext cx="0" cy="2235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92560" y="3807000"/>
            <a:ext cx="1724040" cy="1380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87880" y="3460680"/>
            <a:ext cx="0" cy="1327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73680" y="3460680"/>
            <a:ext cx="0" cy="1098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3463920"/>
            <a:ext cx="0" cy="876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08960" y="3463920"/>
            <a:ext cx="0" cy="463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03520" y="60040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ARA v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00640" y="4919760"/>
            <a:ext cx="924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pert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l’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9360" y="46292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ARA Do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5457960"/>
            <a:ext cx="2574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1763640" y="1957680"/>
            <a:ext cx="16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Elasmo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2720880" y="183312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Dipneu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618720" y="18079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Térap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426920" y="18115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Actinist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419800" y="17928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Cladist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5920200" y="17841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Chondrosté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7121880" y="181260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Halecomorp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7911360" y="186336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Téléosté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26080" y="2557440"/>
            <a:ext cx="692280" cy="706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034040" y="2544840"/>
            <a:ext cx="497160" cy="757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14840" y="2627280"/>
            <a:ext cx="855720" cy="700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800440" y="2614680"/>
            <a:ext cx="906480" cy="700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591080" y="2602080"/>
            <a:ext cx="792000" cy="699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6410160" y="2644920"/>
            <a:ext cx="49392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8264520" y="2606760"/>
            <a:ext cx="493560" cy="669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22560" y="1282680"/>
            <a:ext cx="2235240" cy="216000"/>
          </a:xfrm>
          <a:custGeom>
            <a:avLst/>
            <a:gdLst/>
            <a:ahLst/>
            <a:rect l="l" t="t" r="r" b="b"/>
            <a:pathLst>
              <a:path w="1408" h="136">
                <a:moveTo>
                  <a:pt x="0" y="136"/>
                </a:moveTo>
                <a:lnTo>
                  <a:pt x="0" y="0"/>
                </a:lnTo>
                <a:lnTo>
                  <a:pt x="1408" y="0"/>
                </a:lnTo>
                <a:lnTo>
                  <a:pt x="1408" y="128"/>
                </a:ln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0840" y="1282680"/>
            <a:ext cx="2914560" cy="203400"/>
          </a:xfrm>
          <a:custGeom>
            <a:avLst/>
            <a:gdLst/>
            <a:ahLst/>
            <a:rect l="l" t="t" r="r" b="b"/>
            <a:pathLst>
              <a:path w="1408" h="136">
                <a:moveTo>
                  <a:pt x="0" y="136"/>
                </a:moveTo>
                <a:lnTo>
                  <a:pt x="0" y="0"/>
                </a:lnTo>
                <a:lnTo>
                  <a:pt x="1408" y="0"/>
                </a:lnTo>
                <a:lnTo>
                  <a:pt x="1408" y="128"/>
                </a:lnTo>
              </a:path>
            </a:pathLst>
          </a:cu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1360" y="8874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Sarcoptéryg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9880" y="874800"/>
            <a:ext cx="16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Actinoptéryg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59080" y="34606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92560" y="3893760"/>
            <a:ext cx="866520" cy="69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016600" y="345132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68920" y="3738600"/>
            <a:ext cx="216000" cy="23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02760" y="3567240"/>
            <a:ext cx="215640" cy="23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81240" y="5916600"/>
            <a:ext cx="303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0880" y="4554360"/>
            <a:ext cx="216000" cy="230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24120" y="5735520"/>
            <a:ext cx="27468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83640" y="3473280"/>
            <a:ext cx="0" cy="667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6644520" y="170748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Gingly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7624800" y="2639880"/>
            <a:ext cx="496800" cy="75744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5902200" y="4991040"/>
            <a:ext cx="2911680" cy="1427400"/>
            <a:chOff x="5902200" y="4991040"/>
            <a:chExt cx="2911680" cy="1427400"/>
          </a:xfrm>
        </p:grpSpPr>
        <p:sp>
          <p:nvSpPr>
            <p:cNvPr id="247" name=""/>
            <p:cNvSpPr/>
            <p:nvPr/>
          </p:nvSpPr>
          <p:spPr>
            <a:xfrm>
              <a:off x="5902200" y="5087880"/>
              <a:ext cx="216000" cy="23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3720" y="5078520"/>
              <a:ext cx="14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Arial"/>
                </a:rPr>
                <a:t>vessie natato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58440" y="559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Arial"/>
                </a:rPr>
                <a:t>A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9"/>
            <a:stretch/>
          </p:blipFill>
          <p:spPr>
            <a:xfrm>
              <a:off x="7575480" y="5057640"/>
              <a:ext cx="23832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450480" y="602928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Arial"/>
                </a:rPr>
                <a:t>oesoph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7572240" y="6010200"/>
              <a:ext cx="27936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575480" y="4991040"/>
              <a:ext cx="0" cy="141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11"/>
            <a:stretch/>
          </p:blipFill>
          <p:spPr>
            <a:xfrm>
              <a:off x="7585200" y="5504040"/>
              <a:ext cx="2854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575480" y="574344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48360" y="545688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Arial"/>
                </a:rPr>
                <a:t>non sep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49800" y="571392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Arial"/>
                </a:rPr>
                <a:t>sep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22120" y="798480"/>
            <a:ext cx="30704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ppareil respiratoire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une brève histoire des Vertéb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431640"/>
            <a:ext cx="26827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120" y="798480"/>
            <a:ext cx="3807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ppareil respiratoire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500120"/>
            <a:ext cx="78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ppareil respiratoire aérien primitivement v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sition dorsale déri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nction initiale double : flottaison et respiration aér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umon ventral, à fonction essentiellement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rgane de flottaison, dorsal (vessie natato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volution secondaire en poumon dorsal (ex: Halécomorph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b : rôle de flottaison du poumon chez certains Tétrapodes (Pingoui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ppareil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400" y="912960"/>
            <a:ext cx="79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quelles sont les caractéristiques que doit avoir un appareil respiratoire pour répondre aux contraintes liées à la respiration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560" y="1712880"/>
            <a:ext cx="8024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s échanges gazeux (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t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ntre le milieu extérieur et l’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rface milieu-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ppareil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4400" y="912960"/>
            <a:ext cx="79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quelles sont les caractéristiques que doit avoir un appareil respiratoire pour répondre aux contraintes liées à la respiration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7560" y="1712880"/>
            <a:ext cx="80240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s échanges gazeux (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t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ntre le milieu extérieur et l’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rface milieu-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renouvellement du milieu au niveau de la surface d’é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ompe :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ppareil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4400" y="912960"/>
            <a:ext cx="79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quelles sont les caractéristiques que doit avoir un appareil respiratoire pour répondre aux contraintes liées à la respiration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7560" y="1712880"/>
            <a:ext cx="80240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s échanges gazeux (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t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ntre le milieu extérieur et l’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rface milieu-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renouvellement du milieu au niveau de la surface d’é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ompe :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transport des gaz dans l’organ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ppareil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4400" y="912960"/>
            <a:ext cx="79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quelles sont les caractéristiques que doit avoir un appareil respiratoire pour répondre aux contraintes liées à la respiration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7560" y="1712880"/>
            <a:ext cx="80240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s échanges gazeux (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t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ntre le milieu extérieur et l’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rface milieu-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renouvellement du milieu au niveau de la surface d’é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ompe :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transport des gaz dans l’organ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a libération et la capt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t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i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ppareil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400" y="912960"/>
            <a:ext cx="79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quelles sont les caractéristiques que doit avoir un appareil respiratoire pour répondre aux contraintes liées à la respiration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560" y="1712880"/>
            <a:ext cx="80240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s échanges gazeux (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t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ntre le milieu extérieur et l’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interface milieu-an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renouvellement du milieu au niveau de la surface d’é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ompe :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e transport des gaz dans l’organ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surer la libération et la capt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t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i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duler les échanges en fonction des bes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régulation physiologique : ajustement et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e surface d’échange importante et une 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33480" y="1509840"/>
            <a:ext cx="3235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poumon des « Poissons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43280" y="2887560"/>
            <a:ext cx="6086520" cy="3095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924920" y="2922480"/>
            <a:ext cx="1540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ellule épithé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(type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84040" y="3266640"/>
            <a:ext cx="762120" cy="2034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1440" y="1855800"/>
            <a:ext cx="154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ellule épithé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(type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6616440" y="2123640"/>
            <a:ext cx="685800" cy="8636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6960" y="244008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892840" y="2720520"/>
            <a:ext cx="101520" cy="3812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1727280" y="4448160"/>
            <a:ext cx="1396800" cy="763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120400" y="4765680"/>
            <a:ext cx="901800" cy="1015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739520" y="5083200"/>
            <a:ext cx="1206360" cy="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600" y="5400360"/>
            <a:ext cx="380880" cy="12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01640" y="5680080"/>
            <a:ext cx="406440" cy="12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577960" y="5946840"/>
            <a:ext cx="393840" cy="1141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120" y="43084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apillair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8640" y="461340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ouche fibreus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1520" y="4900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uscle lisse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5640" y="519264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uscle strié longitudinal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4240" y="551016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uscle strié transversal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9480" y="589608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ellules péritonéales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e surface d’échange importante et une 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4160" y="1581120"/>
          <a:ext cx="8547120" cy="1611360"/>
        </p:xfrm>
        <a:graphic>
          <a:graphicData uri="http://schemas.openxmlformats.org/drawingml/2006/table">
            <a:tbl>
              <a:tblPr/>
              <a:tblGrid>
                <a:gridCol w="2234880"/>
                <a:gridCol w="1609920"/>
                <a:gridCol w="1146240"/>
                <a:gridCol w="1130040"/>
                <a:gridCol w="1143000"/>
                <a:gridCol w="1283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pneu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ig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. pulm.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L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x 10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rrière de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µ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V</a:t>
                      </a:r>
                      <a:r>
                        <a:rPr b="1" lang="en-GB" sz="16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583560" y="3603600"/>
            <a:ext cx="3498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ER : surface d’échange respirato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ER/V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</a:rPr>
              <a:t>p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 : SER / volum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e surface d’échange importante et une 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4160" y="1581120"/>
          <a:ext cx="8547120" cy="1611360"/>
        </p:xfrm>
        <a:graphic>
          <a:graphicData uri="http://schemas.openxmlformats.org/drawingml/2006/table">
            <a:tbl>
              <a:tblPr/>
              <a:tblGrid>
                <a:gridCol w="2234880"/>
                <a:gridCol w="1609920"/>
                <a:gridCol w="1146240"/>
                <a:gridCol w="1130040"/>
                <a:gridCol w="1143000"/>
                <a:gridCol w="1283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pneu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ig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. pulm.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L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rrière de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µ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V</a:t>
                      </a:r>
                      <a:r>
                        <a:rPr b="1" lang="en-GB" sz="16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27080" y="2197080"/>
            <a:ext cx="8800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360" y="369720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ne surface d’échange important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s extrêm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libri et Hirondelle africaine : 87 cm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/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auve-souris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Epomophorus wahlbergi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138 cm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8440" y="1878120"/>
            <a:ext cx="80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8440" y="874800"/>
            <a:ext cx="80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urquoi un poumon existe-t-il chez les Vertébré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igine du poumon des Tétrap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ysiologie comparée : 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aleur adap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onnées phyl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8440" y="3506760"/>
            <a:ext cx="80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 adaptative : fonctionnement particulier de l’appareil respiratoire dans une situation donnée est-il favorable à l’organism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emple : l’hypoxie d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ysiologie comparée : 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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otion d’ajustement et d’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e surface d’échange importante et une 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4160" y="1581120"/>
          <a:ext cx="8547120" cy="1611360"/>
        </p:xfrm>
        <a:graphic>
          <a:graphicData uri="http://schemas.openxmlformats.org/drawingml/2006/table">
            <a:tbl>
              <a:tblPr/>
              <a:tblGrid>
                <a:gridCol w="2234880"/>
                <a:gridCol w="1609920"/>
                <a:gridCol w="1146240"/>
                <a:gridCol w="1130040"/>
                <a:gridCol w="1143000"/>
                <a:gridCol w="1283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pneu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ig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. pulm.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L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x 10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rrière de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µ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V</a:t>
                      </a:r>
                      <a:r>
                        <a:rPr b="1" lang="en-GB" sz="16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127080" y="2540160"/>
            <a:ext cx="8800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360" y="3697200"/>
            <a:ext cx="785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arrière de diffusion mince (&lt; 1 µ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leurs extrêmes : hirondelle africaine : 0,09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auve-souris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Phyllostomus hastatu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0, 1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e surface d’échange importante et une épaisseur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54160" y="1581120"/>
          <a:ext cx="8547120" cy="1611360"/>
        </p:xfrm>
        <a:graphic>
          <a:graphicData uri="http://schemas.openxmlformats.org/drawingml/2006/table">
            <a:tbl>
              <a:tblPr/>
              <a:tblGrid>
                <a:gridCol w="2234880"/>
                <a:gridCol w="1609920"/>
                <a:gridCol w="1146240"/>
                <a:gridCol w="1130040"/>
                <a:gridCol w="1143000"/>
                <a:gridCol w="1283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amè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pneu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ig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. pulm.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L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p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x 10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barrière de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µ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R/V</a:t>
                      </a:r>
                      <a:r>
                        <a:rPr b="1" lang="en-GB" sz="16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/cm</a:t>
                      </a:r>
                      <a:r>
                        <a:rPr b="1" lang="en-GB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127080" y="2882880"/>
            <a:ext cx="88009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360" y="3697200"/>
            <a:ext cx="8235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apport surface/volu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ariable (à mettre en rapport avec le rapport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p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/ poi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loisonnement du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7080" y="1866960"/>
            <a:ext cx="8800920" cy="43164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interface organisme-mili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54360" y="431640"/>
            <a:ext cx="3317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un poumon cloisonné de diverses man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119240" y="2023920"/>
            <a:ext cx="3378240" cy="11955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940280" y="4218120"/>
            <a:ext cx="3125880" cy="1582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719600" y="1949400"/>
            <a:ext cx="3346560" cy="1359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130400" y="4257720"/>
            <a:ext cx="3365280" cy="1485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25320" y="153000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. poumon monocavitaire sep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24040" y="153648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B. poumon pluricavitaire sep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3240" y="3727080"/>
            <a:ext cx="30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. poumon broncho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16200" y="373356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. poumon tu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69480" y="31608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« reptiles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26560" y="584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9200" y="58532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400" y="912960"/>
            <a:ext cx="7969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nécessité d’une pompe ventil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98520" y="1674720"/>
            <a:ext cx="59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ffusion (mouvement aléatoire des molécules ; pass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entilation (flux directionnel ; act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3040" y="126828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enouvellement de l’oxygène au niveau de la surface d’é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2957400"/>
            <a:ext cx="721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umons à diffusion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ares, métabolisme basal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ex : escargots, scorp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umons à ventilation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mpe refoulante :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oissons, Amphibiens, quelques Rep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mpe aspirante :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a plupart des Reptiles, les Oiseaux et 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8040" y="2416320"/>
            <a:ext cx="1216080" cy="102528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20840" y="2654280"/>
            <a:ext cx="941400" cy="561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06560" y="2970360"/>
            <a:ext cx="12268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66960" y="2492280"/>
            <a:ext cx="626760" cy="105408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9120" y="297036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87720" y="4518000"/>
            <a:ext cx="1358640" cy="1033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73080" y="5049720"/>
            <a:ext cx="12272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4813200"/>
            <a:ext cx="627120" cy="4953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20760" y="5049720"/>
            <a:ext cx="36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0400" y="1030320"/>
            <a:ext cx="38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mpe refoulan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foule l’air dans le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ession positive dans le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19800" y="2647800"/>
            <a:ext cx="941400" cy="561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05520" y="2963880"/>
            <a:ext cx="12268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48400" y="3525840"/>
            <a:ext cx="19548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033600" y="3540240"/>
            <a:ext cx="12060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473960" y="2177640"/>
            <a:ext cx="13500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44680" y="2166480"/>
            <a:ext cx="1969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08240" y="5010120"/>
            <a:ext cx="301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873520" y="4657680"/>
            <a:ext cx="0" cy="20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60560" y="5192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31080" y="4224240"/>
            <a:ext cx="1854000" cy="1679760"/>
          </a:xfrm>
          <a:prstGeom prst="rect">
            <a:avLst/>
          </a:prstGeom>
          <a:solidFill>
            <a:srgbClr val="b9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5072040"/>
            <a:ext cx="12268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05720" y="5592600"/>
            <a:ext cx="19512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295680" y="5553000"/>
            <a:ext cx="12060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682040" y="4411440"/>
            <a:ext cx="13464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6129000" y="4362120"/>
            <a:ext cx="1969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4546440"/>
            <a:ext cx="1359000" cy="1033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96040" y="5076720"/>
            <a:ext cx="366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03640" y="1027080"/>
            <a:ext cx="390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mpe aspiran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pire l’air dans le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ession négative dans le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282680" y="21967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7480" y="3645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5086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282680" y="53848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27000" y="2011320"/>
            <a:ext cx="7328160" cy="3695760"/>
          </a:xfrm>
          <a:prstGeom prst="rect">
            <a:avLst/>
          </a:prstGeom>
          <a:solidFill>
            <a:srgbClr val="b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48960" y="5770440"/>
            <a:ext cx="72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1. transfert           2. expulsion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3. inhalation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 4.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398000">
            <a:off x="1704600" y="1968120"/>
            <a:ext cx="876240" cy="3738600"/>
          </a:xfrm>
          <a:prstGeom prst="ellips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384200">
            <a:off x="2538360" y="2138040"/>
            <a:ext cx="347760" cy="700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384200">
            <a:off x="2292480" y="2707920"/>
            <a:ext cx="263520" cy="9144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2298240" y="2268000"/>
            <a:ext cx="207360" cy="1044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82880" y="2553120"/>
            <a:ext cx="220680" cy="102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398600">
            <a:off x="3365280" y="1760040"/>
            <a:ext cx="876240" cy="3711600"/>
          </a:xfrm>
          <a:prstGeom prst="ellips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384800">
            <a:off x="4281480" y="1871640"/>
            <a:ext cx="195120" cy="701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384800">
            <a:off x="3981240" y="2472840"/>
            <a:ext cx="214200" cy="916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45320" y="2079720"/>
            <a:ext cx="200880" cy="90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4482360" y="2284560"/>
            <a:ext cx="189720" cy="846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462200">
            <a:off x="2545920" y="2712600"/>
            <a:ext cx="68400" cy="1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454120" y="2544480"/>
            <a:ext cx="219600" cy="515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462200">
            <a:off x="4457520" y="1876320"/>
            <a:ext cx="680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329000" y="1773000"/>
            <a:ext cx="219960" cy="515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323960" y="1711440"/>
            <a:ext cx="2272320" cy="3780720"/>
            <a:chOff x="4323960" y="1711440"/>
            <a:chExt cx="2272320" cy="3780720"/>
          </a:xfrm>
        </p:grpSpPr>
        <p:sp>
          <p:nvSpPr>
            <p:cNvPr id="418" name=""/>
            <p:cNvSpPr/>
            <p:nvPr/>
          </p:nvSpPr>
          <p:spPr>
            <a:xfrm rot="1398000">
              <a:off x="5022360" y="1756800"/>
              <a:ext cx="874800" cy="37134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384200">
              <a:off x="5878080" y="1868400"/>
              <a:ext cx="347760" cy="6843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384200">
              <a:off x="5633640" y="2471760"/>
              <a:ext cx="214200" cy="9144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643000" y="2050560"/>
              <a:ext cx="164880" cy="70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03160" y="2313360"/>
              <a:ext cx="200160" cy="84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462200">
              <a:off x="6075360" y="1860480"/>
              <a:ext cx="1206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006960" y="1711440"/>
              <a:ext cx="219600" cy="515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021000" y="1940040"/>
            <a:ext cx="2273760" cy="3755520"/>
            <a:chOff x="6021000" y="1940040"/>
            <a:chExt cx="2273760" cy="3755520"/>
          </a:xfrm>
        </p:grpSpPr>
        <p:sp>
          <p:nvSpPr>
            <p:cNvPr id="426" name=""/>
            <p:cNvSpPr/>
            <p:nvPr/>
          </p:nvSpPr>
          <p:spPr>
            <a:xfrm rot="1398600">
              <a:off x="6719400" y="1962000"/>
              <a:ext cx="876600" cy="3711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384800">
              <a:off x="7608960" y="2119320"/>
              <a:ext cx="195120" cy="700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98360" y="2281680"/>
              <a:ext cx="228600" cy="99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7832520" y="2482920"/>
              <a:ext cx="215640" cy="9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384800">
              <a:off x="7238880" y="2676600"/>
              <a:ext cx="412920" cy="9144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462200">
              <a:off x="7562520" y="2678040"/>
              <a:ext cx="7776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58120" y="2579760"/>
              <a:ext cx="218880" cy="51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89160" y="90000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mpe refoulante des pois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0120" y="628488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ême principe chez les Amphibiens et quelques Rep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8560" y="1281240"/>
            <a:ext cx="35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mpe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foulante : cavité buc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6280" y="900000"/>
            <a:ext cx="57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arais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s pompes aspirantes et refou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66840" y="4122720"/>
            <a:ext cx="75042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2440" y="3513240"/>
            <a:ext cx="0" cy="151920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95480" y="3510000"/>
            <a:ext cx="0" cy="152064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73480" y="3510000"/>
            <a:ext cx="0" cy="152064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27360" y="3513240"/>
            <a:ext cx="0" cy="151920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62240" y="3510000"/>
            <a:ext cx="0" cy="152064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72000" y="3510000"/>
            <a:ext cx="0" cy="152064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62280" y="4419720"/>
            <a:ext cx="66816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55800" y="4572000"/>
            <a:ext cx="58572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55800" y="4740120"/>
            <a:ext cx="73836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14400" y="4919760"/>
            <a:ext cx="47484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95320" y="4422600"/>
            <a:ext cx="187164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95320" y="4572000"/>
            <a:ext cx="187164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95320" y="4740120"/>
            <a:ext cx="187164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03240" y="4919760"/>
            <a:ext cx="187200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44480" y="2879640"/>
            <a:ext cx="2129040" cy="898560"/>
          </a:xfrm>
          <a:custGeom>
            <a:avLst/>
            <a:gdLst/>
            <a:ahLst/>
            <a:rect l="l" t="t" r="r" b="b"/>
            <a:pathLst>
              <a:path w="1412" h="880">
                <a:moveTo>
                  <a:pt x="0" y="105"/>
                </a:moveTo>
                <a:cubicBezTo>
                  <a:pt x="34" y="80"/>
                  <a:pt x="69" y="56"/>
                  <a:pt x="96" y="45"/>
                </a:cubicBezTo>
                <a:cubicBezTo>
                  <a:pt x="123" y="34"/>
                  <a:pt x="141" y="35"/>
                  <a:pt x="160" y="37"/>
                </a:cubicBezTo>
                <a:cubicBezTo>
                  <a:pt x="179" y="39"/>
                  <a:pt x="195" y="47"/>
                  <a:pt x="208" y="57"/>
                </a:cubicBezTo>
                <a:cubicBezTo>
                  <a:pt x="221" y="67"/>
                  <a:pt x="224" y="63"/>
                  <a:pt x="240" y="97"/>
                </a:cubicBezTo>
                <a:cubicBezTo>
                  <a:pt x="256" y="131"/>
                  <a:pt x="273" y="175"/>
                  <a:pt x="304" y="261"/>
                </a:cubicBezTo>
                <a:cubicBezTo>
                  <a:pt x="335" y="347"/>
                  <a:pt x="392" y="529"/>
                  <a:pt x="424" y="613"/>
                </a:cubicBezTo>
                <a:cubicBezTo>
                  <a:pt x="456" y="697"/>
                  <a:pt x="471" y="728"/>
                  <a:pt x="496" y="765"/>
                </a:cubicBezTo>
                <a:cubicBezTo>
                  <a:pt x="521" y="802"/>
                  <a:pt x="549" y="820"/>
                  <a:pt x="572" y="837"/>
                </a:cubicBezTo>
                <a:cubicBezTo>
                  <a:pt x="595" y="854"/>
                  <a:pt x="607" y="863"/>
                  <a:pt x="632" y="869"/>
                </a:cubicBezTo>
                <a:cubicBezTo>
                  <a:pt x="657" y="875"/>
                  <a:pt x="692" y="880"/>
                  <a:pt x="720" y="873"/>
                </a:cubicBezTo>
                <a:cubicBezTo>
                  <a:pt x="748" y="866"/>
                  <a:pt x="777" y="853"/>
                  <a:pt x="800" y="825"/>
                </a:cubicBezTo>
                <a:cubicBezTo>
                  <a:pt x="823" y="797"/>
                  <a:pt x="835" y="780"/>
                  <a:pt x="856" y="705"/>
                </a:cubicBezTo>
                <a:cubicBezTo>
                  <a:pt x="877" y="630"/>
                  <a:pt x="906" y="458"/>
                  <a:pt x="928" y="373"/>
                </a:cubicBezTo>
                <a:cubicBezTo>
                  <a:pt x="950" y="288"/>
                  <a:pt x="967" y="247"/>
                  <a:pt x="988" y="197"/>
                </a:cubicBezTo>
                <a:cubicBezTo>
                  <a:pt x="1009" y="147"/>
                  <a:pt x="1033" y="102"/>
                  <a:pt x="1056" y="73"/>
                </a:cubicBezTo>
                <a:cubicBezTo>
                  <a:pt x="1079" y="44"/>
                  <a:pt x="1104" y="33"/>
                  <a:pt x="1124" y="21"/>
                </a:cubicBezTo>
                <a:cubicBezTo>
                  <a:pt x="1144" y="9"/>
                  <a:pt x="1161" y="2"/>
                  <a:pt x="1176" y="1"/>
                </a:cubicBezTo>
                <a:cubicBezTo>
                  <a:pt x="1191" y="0"/>
                  <a:pt x="1199" y="7"/>
                  <a:pt x="1216" y="13"/>
                </a:cubicBezTo>
                <a:cubicBezTo>
                  <a:pt x="1233" y="19"/>
                  <a:pt x="1259" y="30"/>
                  <a:pt x="1280" y="37"/>
                </a:cubicBezTo>
                <a:cubicBezTo>
                  <a:pt x="1301" y="44"/>
                  <a:pt x="1323" y="53"/>
                  <a:pt x="1340" y="57"/>
                </a:cubicBezTo>
                <a:cubicBezTo>
                  <a:pt x="1357" y="61"/>
                  <a:pt x="1368" y="61"/>
                  <a:pt x="1380" y="61"/>
                </a:cubicBezTo>
                <a:cubicBezTo>
                  <a:pt x="1392" y="61"/>
                  <a:pt x="1402" y="59"/>
                  <a:pt x="1412" y="57"/>
                </a:cubicBezTo>
              </a:path>
            </a:pathLst>
          </a:custGeom>
          <a:noFill/>
          <a:ln cap="sq"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00200" y="2760840"/>
            <a:ext cx="2344680" cy="1492200"/>
          </a:xfrm>
          <a:custGeom>
            <a:avLst/>
            <a:gdLst/>
            <a:ahLst/>
            <a:rect l="l" t="t" r="r" b="b"/>
            <a:pathLst>
              <a:path w="2299" h="1610">
                <a:moveTo>
                  <a:pt x="0" y="1319"/>
                </a:moveTo>
                <a:cubicBezTo>
                  <a:pt x="41" y="1346"/>
                  <a:pt x="83" y="1372"/>
                  <a:pt x="130" y="1412"/>
                </a:cubicBezTo>
                <a:cubicBezTo>
                  <a:pt x="178" y="1451"/>
                  <a:pt x="244" y="1527"/>
                  <a:pt x="284" y="1557"/>
                </a:cubicBezTo>
                <a:cubicBezTo>
                  <a:pt x="324" y="1587"/>
                  <a:pt x="344" y="1586"/>
                  <a:pt x="367" y="1588"/>
                </a:cubicBezTo>
                <a:cubicBezTo>
                  <a:pt x="391" y="1590"/>
                  <a:pt x="400" y="1599"/>
                  <a:pt x="427" y="1570"/>
                </a:cubicBezTo>
                <a:cubicBezTo>
                  <a:pt x="453" y="1542"/>
                  <a:pt x="496" y="1478"/>
                  <a:pt x="527" y="1416"/>
                </a:cubicBezTo>
                <a:cubicBezTo>
                  <a:pt x="558" y="1354"/>
                  <a:pt x="587" y="1262"/>
                  <a:pt x="616" y="1200"/>
                </a:cubicBezTo>
                <a:cubicBezTo>
                  <a:pt x="646" y="1138"/>
                  <a:pt x="680" y="1081"/>
                  <a:pt x="705" y="1046"/>
                </a:cubicBezTo>
                <a:cubicBezTo>
                  <a:pt x="730" y="1011"/>
                  <a:pt x="753" y="1001"/>
                  <a:pt x="770" y="989"/>
                </a:cubicBezTo>
                <a:cubicBezTo>
                  <a:pt x="788" y="976"/>
                  <a:pt x="784" y="981"/>
                  <a:pt x="812" y="975"/>
                </a:cubicBezTo>
                <a:cubicBezTo>
                  <a:pt x="840" y="970"/>
                  <a:pt x="893" y="966"/>
                  <a:pt x="936" y="958"/>
                </a:cubicBezTo>
                <a:cubicBezTo>
                  <a:pt x="979" y="949"/>
                  <a:pt x="1034" y="937"/>
                  <a:pt x="1072" y="922"/>
                </a:cubicBezTo>
                <a:cubicBezTo>
                  <a:pt x="1111" y="908"/>
                  <a:pt x="1142" y="895"/>
                  <a:pt x="1167" y="870"/>
                </a:cubicBezTo>
                <a:cubicBezTo>
                  <a:pt x="1192" y="844"/>
                  <a:pt x="1201" y="829"/>
                  <a:pt x="1221" y="768"/>
                </a:cubicBezTo>
                <a:cubicBezTo>
                  <a:pt x="1241" y="707"/>
                  <a:pt x="1268" y="571"/>
                  <a:pt x="1286" y="503"/>
                </a:cubicBezTo>
                <a:cubicBezTo>
                  <a:pt x="1304" y="435"/>
                  <a:pt x="1311" y="416"/>
                  <a:pt x="1327" y="358"/>
                </a:cubicBezTo>
                <a:cubicBezTo>
                  <a:pt x="1343" y="300"/>
                  <a:pt x="1361" y="208"/>
                  <a:pt x="1381" y="155"/>
                </a:cubicBezTo>
                <a:cubicBezTo>
                  <a:pt x="1400" y="103"/>
                  <a:pt x="1421" y="66"/>
                  <a:pt x="1440" y="41"/>
                </a:cubicBezTo>
                <a:cubicBezTo>
                  <a:pt x="1459" y="16"/>
                  <a:pt x="1478" y="2"/>
                  <a:pt x="1493" y="1"/>
                </a:cubicBezTo>
                <a:cubicBezTo>
                  <a:pt x="1508" y="0"/>
                  <a:pt x="1520" y="13"/>
                  <a:pt x="1529" y="36"/>
                </a:cubicBezTo>
                <a:cubicBezTo>
                  <a:pt x="1538" y="59"/>
                  <a:pt x="1542" y="95"/>
                  <a:pt x="1550" y="137"/>
                </a:cubicBezTo>
                <a:cubicBezTo>
                  <a:pt x="1558" y="179"/>
                  <a:pt x="1572" y="236"/>
                  <a:pt x="1580" y="287"/>
                </a:cubicBezTo>
                <a:cubicBezTo>
                  <a:pt x="1588" y="338"/>
                  <a:pt x="1586" y="369"/>
                  <a:pt x="1601" y="445"/>
                </a:cubicBezTo>
                <a:cubicBezTo>
                  <a:pt x="1616" y="521"/>
                  <a:pt x="1651" y="663"/>
                  <a:pt x="1671" y="746"/>
                </a:cubicBezTo>
                <a:cubicBezTo>
                  <a:pt x="1691" y="829"/>
                  <a:pt x="1709" y="879"/>
                  <a:pt x="1724" y="944"/>
                </a:cubicBezTo>
                <a:cubicBezTo>
                  <a:pt x="1739" y="1009"/>
                  <a:pt x="1746" y="1076"/>
                  <a:pt x="1760" y="1138"/>
                </a:cubicBezTo>
                <a:cubicBezTo>
                  <a:pt x="1773" y="1201"/>
                  <a:pt x="1785" y="1261"/>
                  <a:pt x="1807" y="1324"/>
                </a:cubicBezTo>
                <a:cubicBezTo>
                  <a:pt x="1829" y="1386"/>
                  <a:pt x="1871" y="1468"/>
                  <a:pt x="1896" y="1513"/>
                </a:cubicBezTo>
                <a:cubicBezTo>
                  <a:pt x="1921" y="1558"/>
                  <a:pt x="1939" y="1576"/>
                  <a:pt x="1961" y="1592"/>
                </a:cubicBezTo>
                <a:cubicBezTo>
                  <a:pt x="1983" y="1609"/>
                  <a:pt x="2001" y="1610"/>
                  <a:pt x="2026" y="1610"/>
                </a:cubicBezTo>
                <a:cubicBezTo>
                  <a:pt x="2052" y="1610"/>
                  <a:pt x="2087" y="1604"/>
                  <a:pt x="2115" y="1592"/>
                </a:cubicBezTo>
                <a:cubicBezTo>
                  <a:pt x="2143" y="1580"/>
                  <a:pt x="2161" y="1564"/>
                  <a:pt x="2192" y="1535"/>
                </a:cubicBezTo>
                <a:cubicBezTo>
                  <a:pt x="2223" y="1506"/>
                  <a:pt x="2260" y="1463"/>
                  <a:pt x="2299" y="1420"/>
                </a:cubicBez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800" y="298116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.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5520" y="36417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p. buc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880" y="3905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p.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3560" y="4289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0320" y="44481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24720" y="45957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34080" y="47782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(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05680" y="3416400"/>
            <a:ext cx="0" cy="285732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48200" y="3697200"/>
            <a:ext cx="2514600" cy="895320"/>
          </a:xfrm>
          <a:custGeom>
            <a:avLst/>
            <a:gdLst/>
            <a:ahLst/>
            <a:rect l="l" t="t" r="r" b="b"/>
            <a:pathLst>
              <a:path w="1584" h="960">
                <a:moveTo>
                  <a:pt x="0" y="483"/>
                </a:moveTo>
                <a:cubicBezTo>
                  <a:pt x="67" y="551"/>
                  <a:pt x="206" y="960"/>
                  <a:pt x="402" y="891"/>
                </a:cubicBezTo>
                <a:cubicBezTo>
                  <a:pt x="598" y="822"/>
                  <a:pt x="979" y="138"/>
                  <a:pt x="1176" y="69"/>
                </a:cubicBezTo>
                <a:cubicBezTo>
                  <a:pt x="1373" y="0"/>
                  <a:pt x="1499" y="392"/>
                  <a:pt x="1584" y="477"/>
                </a:cubicBezTo>
              </a:path>
            </a:pathLst>
          </a:custGeom>
          <a:noFill/>
          <a:ln cap="sq"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848200" y="4784760"/>
            <a:ext cx="2511360" cy="1127160"/>
            <a:chOff x="5848200" y="4784760"/>
            <a:chExt cx="2511360" cy="1127160"/>
          </a:xfrm>
        </p:grpSpPr>
        <p:sp>
          <p:nvSpPr>
            <p:cNvPr id="467" name=""/>
            <p:cNvSpPr/>
            <p:nvPr/>
          </p:nvSpPr>
          <p:spPr>
            <a:xfrm>
              <a:off x="5848200" y="4794840"/>
              <a:ext cx="1257480" cy="1117080"/>
            </a:xfrm>
            <a:custGeom>
              <a:avLst/>
              <a:gdLst/>
              <a:ahLst/>
              <a:rect l="l" t="t" r="r" b="b"/>
              <a:pathLst>
                <a:path w="792" h="876">
                  <a:moveTo>
                    <a:pt x="0" y="0"/>
                  </a:moveTo>
                  <a:cubicBezTo>
                    <a:pt x="57" y="110"/>
                    <a:pt x="210" y="514"/>
                    <a:pt x="342" y="660"/>
                  </a:cubicBezTo>
                  <a:cubicBezTo>
                    <a:pt x="474" y="806"/>
                    <a:pt x="698" y="831"/>
                    <a:pt x="792" y="876"/>
                  </a:cubicBezTo>
                </a:path>
              </a:pathLst>
            </a:custGeom>
            <a:noFill/>
            <a:ln cap="sq"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520" y="4784760"/>
              <a:ext cx="1238040" cy="1116720"/>
            </a:xfrm>
            <a:custGeom>
              <a:avLst/>
              <a:gdLst/>
              <a:ahLst/>
              <a:rect l="l" t="t" r="r" b="b"/>
              <a:pathLst>
                <a:path w="792" h="876">
                  <a:moveTo>
                    <a:pt x="0" y="876"/>
                  </a:moveTo>
                  <a:cubicBezTo>
                    <a:pt x="53" y="782"/>
                    <a:pt x="188" y="460"/>
                    <a:pt x="320" y="314"/>
                  </a:cubicBezTo>
                  <a:cubicBezTo>
                    <a:pt x="452" y="168"/>
                    <a:pt x="694" y="65"/>
                    <a:pt x="792" y="0"/>
                  </a:cubicBezTo>
                </a:path>
              </a:pathLst>
            </a:custGeom>
            <a:noFill/>
            <a:ln cap="sq"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845320" y="3413160"/>
            <a:ext cx="0" cy="285732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79000" y="3422520"/>
            <a:ext cx="0" cy="2857680"/>
          </a:xfrm>
          <a:prstGeom prst="line">
            <a:avLst/>
          </a:prstGeom>
          <a:ln w="1260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41040" y="37306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p.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53040" y="46004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6600"/>
                </a:solidFill>
                <a:latin typeface="Arial"/>
              </a:rPr>
              <a:t>p. intrapleu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40280" y="6118200"/>
            <a:ext cx="251964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83120" y="6111720"/>
            <a:ext cx="120204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83480" y="32338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28000" y="3230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8400" y="1344600"/>
            <a:ext cx="289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mpe refou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umon en sur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ût énergétique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91600" y="1357200"/>
            <a:ext cx="27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mpe aspi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spiration en dé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ût énergétique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20880" y="59421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Arial"/>
              </a:rPr>
              <a:t>(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1120" y="5573880"/>
            <a:ext cx="1256760" cy="36828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mphib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85600" y="2550960"/>
            <a:ext cx="1322280" cy="36828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ammif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4120" y="9000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mpes et ventil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00200" y="3103560"/>
            <a:ext cx="3378240" cy="1195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914400" y="4651200"/>
            <a:ext cx="3365640" cy="1486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647360" y="42224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oumon sep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160" y="20811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issons, Amphibiens, Reptiles, 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9560" y="143352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entilation bidire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70680" y="2654280"/>
            <a:ext cx="1752480" cy="14860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7391160" y="3289320"/>
            <a:ext cx="126972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67360" y="3378240"/>
            <a:ext cx="1371600" cy="190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64160" y="4711680"/>
            <a:ext cx="1359000" cy="118116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7390800" y="514332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67360" y="5232240"/>
            <a:ext cx="1625400" cy="190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83080" y="3465360"/>
            <a:ext cx="10382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21280" y="5345280"/>
            <a:ext cx="10382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98920" y="2093760"/>
            <a:ext cx="1560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A in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52920" y="4270320"/>
            <a:ext cx="1506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B ex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9360" y="2590920"/>
            <a:ext cx="4254480" cy="38862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93320" y="61275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oumon broncho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120" y="9000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mpes et ventil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00200" y="2849400"/>
            <a:ext cx="3378240" cy="11955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460840" y="3240000"/>
            <a:ext cx="3125880" cy="1582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914400" y="4651200"/>
            <a:ext cx="3365640" cy="1486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596600" y="41587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oumon sep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93320" y="612756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oumon broncho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82280" y="5143320"/>
            <a:ext cx="18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oumon tub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160" y="20811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issons, Amphibiens, Reptiles, 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27160" y="20937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9560" y="143352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entilation bidire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00360" y="14461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entilation unidire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75040" y="888840"/>
            <a:ext cx="4254840" cy="52326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4120" y="9000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ompes et ventil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440" y="4324320"/>
            <a:ext cx="1573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C in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98840" y="2189160"/>
            <a:ext cx="1506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B ex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6680" y="2197080"/>
            <a:ext cx="1560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A in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30600" y="4325760"/>
            <a:ext cx="1521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D ex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61960" y="275436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73120" y="2948040"/>
            <a:ext cx="115416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73120" y="314316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89360" y="3676680"/>
            <a:ext cx="744480" cy="6588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280" y="3173400"/>
            <a:ext cx="744480" cy="6588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04960" y="2754360"/>
            <a:ext cx="147600" cy="12351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70160" y="2754360"/>
            <a:ext cx="1602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87280" y="3429000"/>
            <a:ext cx="28584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2640" y="3919680"/>
            <a:ext cx="2527560" cy="13644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6680" y="3973680"/>
            <a:ext cx="72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800360" y="2795760"/>
            <a:ext cx="527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999720" y="3481560"/>
            <a:ext cx="4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3680" y="2768760"/>
            <a:ext cx="1154160" cy="889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84840" y="2962440"/>
            <a:ext cx="1155600" cy="903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4840" y="3157560"/>
            <a:ext cx="1155600" cy="8892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69120" y="3773520"/>
            <a:ext cx="561960" cy="4842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16680" y="2768760"/>
            <a:ext cx="149040" cy="12333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82960" y="2768760"/>
            <a:ext cx="158760" cy="1233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0440" y="3443400"/>
            <a:ext cx="28440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75120" y="3933720"/>
            <a:ext cx="247644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3440" y="3936960"/>
            <a:ext cx="444600" cy="1317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71960" y="3236760"/>
            <a:ext cx="561960" cy="4842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080040" y="3102120"/>
            <a:ext cx="0" cy="560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56040" y="3502080"/>
            <a:ext cx="0" cy="411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326200" y="2998800"/>
            <a:ext cx="490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068360" y="3992400"/>
            <a:ext cx="3999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55840" y="491328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67000" y="5106960"/>
            <a:ext cx="115380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67000" y="5302080"/>
            <a:ext cx="115380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82880" y="5835600"/>
            <a:ext cx="744480" cy="6588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800" y="5332320"/>
            <a:ext cx="744480" cy="6588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8840" y="4913280"/>
            <a:ext cx="1476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63680" y="4913280"/>
            <a:ext cx="160200" cy="12351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6520" y="6078600"/>
            <a:ext cx="2527200" cy="136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62240" y="5592600"/>
            <a:ext cx="161640" cy="615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82600" y="5587920"/>
            <a:ext cx="33984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36760" y="5084640"/>
            <a:ext cx="0" cy="365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52480" y="5634000"/>
            <a:ext cx="549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63960" y="4908600"/>
            <a:ext cx="11541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75120" y="5102280"/>
            <a:ext cx="1155960" cy="9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75120" y="5297400"/>
            <a:ext cx="1155960" cy="8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06960" y="4908600"/>
            <a:ext cx="14940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73600" y="4908600"/>
            <a:ext cx="158760" cy="123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73600" y="6075360"/>
            <a:ext cx="1668600" cy="13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70360" y="5587920"/>
            <a:ext cx="162000" cy="61596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2520" y="5583240"/>
            <a:ext cx="33840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97560" y="5889600"/>
            <a:ext cx="561960" cy="48420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78440" y="5386320"/>
            <a:ext cx="561960" cy="484200"/>
          </a:xfrm>
          <a:prstGeom prst="ellipse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75120" y="6075360"/>
            <a:ext cx="955800" cy="13500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4880" y="5715000"/>
            <a:ext cx="0" cy="343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182840" y="6137280"/>
            <a:ext cx="479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34080" y="2478240"/>
            <a:ext cx="126972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30280" y="249084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463716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21120" y="4637160"/>
            <a:ext cx="1270080" cy="190440"/>
          </a:xfrm>
          <a:custGeom>
            <a:avLst/>
            <a:gdLst/>
            <a:ahLst/>
            <a:rect l="l" t="t" r="r" b="b"/>
            <a:pathLst>
              <a:path w="800" h="296">
                <a:moveTo>
                  <a:pt x="0" y="0"/>
                </a:moveTo>
                <a:lnTo>
                  <a:pt x="0" y="296"/>
                </a:lnTo>
                <a:lnTo>
                  <a:pt x="800" y="296"/>
                </a:lnTo>
                <a:lnTo>
                  <a:pt x="800" y="32"/>
                </a:lnTo>
              </a:path>
            </a:pathLst>
          </a:custGeom>
          <a:noFill/>
          <a:ln cap="sq"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03880" y="2532240"/>
            <a:ext cx="504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066000" y="966960"/>
            <a:ext cx="2800080" cy="1417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071000" y="147168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a ventilation unidirectionnelle des 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9160" y="800280"/>
            <a:ext cx="3085920" cy="16002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8160" y="928800"/>
            <a:ext cx="756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aractéristiques de l’air et de l’eau en relation avec la respirati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ir et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360" y="1438200"/>
            <a:ext cx="8173800" cy="32749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ncentration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l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7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2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densité (kg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viscosité (cP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efficient de diffusion 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O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. s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2,5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5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98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haleur spécifique (cal. 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.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°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litre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kg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6640" y="90000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nécessité d’un système circul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3080" y="3656160"/>
            <a:ext cx="8432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circulation pulmonaire :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/ libération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ans le pou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circulation systémique :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bér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captation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ans les ti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9080" y="1484280"/>
            <a:ext cx="77245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stribu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s surfaces d’échanges respiratoires vers les ti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 du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s tissus vers les surfaces d’échanges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rai même en absence de poumon (ex : Amphibiens à respiration cutané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utile chez les Insectes (système trachéal : « capillaires » respirato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35840" y="1092240"/>
            <a:ext cx="2504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Échinode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Plathelmin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hord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Némat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Mollus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Chi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Lamelli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Céphalop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Opisthobranches pulmon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Anné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Oligochè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Polychè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rustac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Insec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Brachiop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Sipuncul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Priapu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Annélides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 Polychè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Annélides </a:t>
            </a:r>
            <a:r>
              <a:rPr b="0" i="1" lang="en-GB" sz="1400" spc="-1" strike="noStrike">
                <a:solidFill>
                  <a:srgbClr val="990000"/>
                </a:solidFill>
                <a:latin typeface="Arial"/>
              </a:rPr>
              <a:t>Polychè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éphalop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Opisthobranches pulmon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rustac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hélicé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82360" y="1924200"/>
            <a:ext cx="1200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hémoglob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81280" y="4578480"/>
            <a:ext cx="1221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hémérythr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69040" y="6089760"/>
            <a:ext cx="1241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hémocyan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80560" y="5353200"/>
            <a:ext cx="1311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chlorocruor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54640" y="747720"/>
            <a:ext cx="4286160" cy="368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igment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080" y="2208240"/>
            <a:ext cx="380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ubiqu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artition : ne suit pas les parentés phyl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ésen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 solution dans le 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des cellules spécialisées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éryth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57880" y="749160"/>
            <a:ext cx="4279680" cy="593100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57880" y="4191120"/>
            <a:ext cx="427968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57880" y="5283360"/>
            <a:ext cx="427968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57880" y="5727600"/>
            <a:ext cx="427968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18040" y="736560"/>
            <a:ext cx="0" cy="59310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720" y="76032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partition phylogéné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es pigments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5920" y="900000"/>
            <a:ext cx="696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opriétés de l’hémoglobine : la courbe de dissociation de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96920" y="2125800"/>
            <a:ext cx="4656600" cy="3749040"/>
            <a:chOff x="196920" y="2125800"/>
            <a:chExt cx="4656600" cy="3749040"/>
          </a:xfrm>
        </p:grpSpPr>
        <p:sp>
          <p:nvSpPr>
            <p:cNvPr id="612" name=""/>
            <p:cNvSpPr/>
            <p:nvPr/>
          </p:nvSpPr>
          <p:spPr>
            <a:xfrm>
              <a:off x="759960" y="5049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076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0760" y="4464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0760" y="417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60" y="3879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760" y="358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760" y="329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0760" y="300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0760" y="2711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0760" y="2419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4440" y="2125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4349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79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15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51316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87352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23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59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95280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3131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6720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74600" y="485928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74600" y="456552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74600" y="427356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4600" y="398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74600" y="369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74600" y="339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4600" y="310500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74600" y="281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74600" y="252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74600" y="222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88560" y="523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7292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3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936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5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7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318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9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14400" y="5238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0746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2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4349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6146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79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97316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5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33352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51316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9388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87352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0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23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1460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59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77352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528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13388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3131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4928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6720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74600" y="5151600"/>
              <a:ext cx="3633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25640" y="515160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49400" y="500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25640" y="485928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49400" y="471492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25640" y="456552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49400" y="441972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25640" y="427356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49400" y="412740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25640" y="398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49400" y="383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25640" y="369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49400" y="354348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25640" y="339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49400" y="324972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25640" y="310500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49400" y="296064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25640" y="281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49400" y="266868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25640" y="252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49400" y="237636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25640" y="222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074600" y="2198160"/>
              <a:ext cx="1800" cy="295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71720" y="514980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71720" y="514980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9920" y="2293920"/>
              <a:ext cx="3548160" cy="28576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49640" y="5573880"/>
              <a:ext cx="148356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(mm 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-487440" y="350388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% saturation 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757800" y="1376280"/>
            <a:ext cx="51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uvoir oxyphorique : capacité de fixa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56160" y="2805120"/>
            <a:ext cx="3006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 quantité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ixée à l’hémoglobine dépend de manière non linéaire de la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5920" y="900000"/>
            <a:ext cx="696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opriétés de l’hémoglobine : la courbe de dissociation de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83320" y="589104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  et relarg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7800" y="1376280"/>
            <a:ext cx="51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uvoir oxyphorique : capacité de fixa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3560" y="238140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5600" y="496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60440" y="4643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60440" y="4314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60440" y="398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60440" y="365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95640" y="33163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95640" y="2987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95640" y="2660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95640" y="2333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38880" y="5073480"/>
            <a:ext cx="336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76880" y="50641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45280" y="489888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76880" y="473544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45280" y="457200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76880" y="44067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45280" y="424332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76880" y="40813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45280" y="39164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76880" y="37530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45280" y="358920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76880" y="34243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45280" y="326088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76880" y="309564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45280" y="293220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76880" y="27702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45280" y="260496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76880" y="24415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413320" y="2408040"/>
            <a:ext cx="46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42120" y="2604960"/>
            <a:ext cx="3249360" cy="221472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66520" y="22161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91440" y="30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86480" y="28926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43560" y="2965320"/>
            <a:ext cx="0" cy="2095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515360" y="3508200"/>
            <a:ext cx="3333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14120" y="31021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234560" y="35971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68040" y="425124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273800" y="237816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169120" y="236844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96920" y="2125800"/>
            <a:ext cx="4656600" cy="3749040"/>
            <a:chOff x="196920" y="2125800"/>
            <a:chExt cx="4656600" cy="3749040"/>
          </a:xfrm>
        </p:grpSpPr>
        <p:sp>
          <p:nvSpPr>
            <p:cNvPr id="752" name=""/>
            <p:cNvSpPr/>
            <p:nvPr/>
          </p:nvSpPr>
          <p:spPr>
            <a:xfrm>
              <a:off x="759960" y="5049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076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0760" y="4464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0760" y="417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0760" y="3879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0760" y="358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0760" y="329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0760" y="300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0760" y="2711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0760" y="2419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40" y="2125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4349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179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15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251316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87352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323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359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95280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43131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6720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74600" y="485928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74600" y="456552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74600" y="427356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4600" y="398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74600" y="369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74600" y="339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74600" y="310500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74600" y="281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74600" y="252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74600" y="222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88560" y="523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7292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3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936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5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7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318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9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14400" y="5238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10746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12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14349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6146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179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97316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15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33352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51316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269388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87352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0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23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41460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359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77352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9528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13388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43131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44928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6720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4600" y="5151600"/>
              <a:ext cx="3633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25640" y="515160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49400" y="500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25640" y="485928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49400" y="471492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25640" y="456552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49400" y="441972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25640" y="427356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49400" y="412740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25640" y="398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49400" y="383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25640" y="369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49400" y="354348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25640" y="339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49400" y="324972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25640" y="310500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49400" y="296064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25640" y="281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49400" y="266868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25640" y="252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49400" y="237636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25640" y="222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074600" y="2198160"/>
              <a:ext cx="1800" cy="295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71720" y="514980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71720" y="514980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69920" y="2293920"/>
              <a:ext cx="3548160" cy="28576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0000" y="5573880"/>
              <a:ext cx="14194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6200000">
              <a:off x="-487440" y="350388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% saturation 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 rot="16200000">
            <a:off x="4066200" y="3524400"/>
            <a:ext cx="1346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PO2 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5920" y="900000"/>
            <a:ext cx="696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opriétés de l’hémoglobine : la courbe de dissociation de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82240" y="5891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57800" y="1376280"/>
            <a:ext cx="51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uvoir oxyphorique : capacité de fixa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43560" y="238140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025600" y="496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60440" y="4643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60440" y="4314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60440" y="398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60440" y="365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95640" y="33163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95640" y="2987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95640" y="2660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95640" y="2333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38880" y="5073480"/>
            <a:ext cx="336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76880" y="50641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45280" y="489888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76880" y="473544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45280" y="457200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6880" y="44067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45280" y="424332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76880" y="40813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45280" y="39164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76880" y="37530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45280" y="358920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76880" y="34243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45280" y="326088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76880" y="309564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45280" y="293220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76880" y="27702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45280" y="260496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276880" y="24415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5413320" y="2408040"/>
            <a:ext cx="46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42120" y="2604960"/>
            <a:ext cx="3249360" cy="221472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66520" y="22161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91440" y="30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86480" y="28926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43560" y="2965320"/>
            <a:ext cx="0" cy="2095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515360" y="3508200"/>
            <a:ext cx="3333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14120" y="31021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234560" y="35971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68040" y="425124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73800" y="237816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169120" y="236844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96920" y="2125800"/>
            <a:ext cx="4656600" cy="3749040"/>
            <a:chOff x="196920" y="2125800"/>
            <a:chExt cx="4656600" cy="3749040"/>
          </a:xfrm>
        </p:grpSpPr>
        <p:sp>
          <p:nvSpPr>
            <p:cNvPr id="891" name=""/>
            <p:cNvSpPr/>
            <p:nvPr/>
          </p:nvSpPr>
          <p:spPr>
            <a:xfrm>
              <a:off x="759960" y="5049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076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0760" y="4464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0760" y="417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80760" y="3879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760" y="358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0760" y="329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0760" y="300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0760" y="2711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0760" y="2419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4440" y="2125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14349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179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15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51316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87352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23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59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395280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3131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6720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74600" y="485928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74600" y="456552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74600" y="427356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74600" y="398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74600" y="369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74600" y="339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74600" y="310500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4600" y="281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74600" y="252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74600" y="222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8560" y="523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67292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3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936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5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1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7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318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9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14400" y="5238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0746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12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14349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6146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179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197316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215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33352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251316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69388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287352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0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23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41460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59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377352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9528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13388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43131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44928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46720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74600" y="5151600"/>
              <a:ext cx="3633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25640" y="515160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49400" y="500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25640" y="485928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49400" y="471492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25640" y="456552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49400" y="441972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25640" y="427356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9400" y="412740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25640" y="398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49400" y="383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25640" y="369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49400" y="354348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25640" y="339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49400" y="324972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25640" y="310500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49400" y="296064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25640" y="281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049400" y="266868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025640" y="252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49400" y="237636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25640" y="222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074600" y="2198160"/>
              <a:ext cx="1800" cy="295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071720" y="514980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071720" y="514980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69920" y="2293920"/>
              <a:ext cx="3548160" cy="28576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50000" y="5573880"/>
              <a:ext cx="14194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-487440" y="350388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% saturation 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 rot="16200000">
            <a:off x="4066200" y="3524400"/>
            <a:ext cx="1346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PO2 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134040" y="3098880"/>
            <a:ext cx="2197080" cy="9651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892160"/>
            <a:ext cx="2197080" cy="965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nction respiratoire d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cir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54360" y="431640"/>
            <a:ext cx="245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5920" y="900000"/>
            <a:ext cx="696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opriétés de l’hémoglobine : la courbe de dissociation de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84760" y="589104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  et relargage : compromis fonction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57800" y="1376280"/>
            <a:ext cx="51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uvoir oxyphorique : capacité de fixation de l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343560" y="238140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25600" y="496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960440" y="4643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60440" y="4314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960440" y="3986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960440" y="365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895640" y="33163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95640" y="29876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95640" y="2660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95640" y="23335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438880" y="5073480"/>
            <a:ext cx="336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276880" y="50641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45280" y="489888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76880" y="473544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45280" y="457200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276880" y="44067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345280" y="424332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276880" y="40813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45280" y="391644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276880" y="37530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45280" y="358920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276880" y="342432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345280" y="3260880"/>
            <a:ext cx="6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276880" y="309564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345280" y="2932200"/>
            <a:ext cx="68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276880" y="277020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45280" y="2604960"/>
            <a:ext cx="6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276880" y="244152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413320" y="2408040"/>
            <a:ext cx="4680" cy="26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442120" y="2604960"/>
            <a:ext cx="3249360" cy="221472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66520" y="22161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391440" y="30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lvé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86480" y="28926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43560" y="2965320"/>
            <a:ext cx="0" cy="2095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5360" y="3508200"/>
            <a:ext cx="33336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214120" y="31021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4560" y="35971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68040" y="425124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73800" y="2378160"/>
            <a:ext cx="0" cy="269532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169120" y="2368440"/>
            <a:ext cx="0" cy="269568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96920" y="2125800"/>
            <a:ext cx="4656600" cy="3749040"/>
            <a:chOff x="196920" y="2125800"/>
            <a:chExt cx="4656600" cy="3749040"/>
          </a:xfrm>
        </p:grpSpPr>
        <p:sp>
          <p:nvSpPr>
            <p:cNvPr id="1032" name=""/>
            <p:cNvSpPr/>
            <p:nvPr/>
          </p:nvSpPr>
          <p:spPr>
            <a:xfrm>
              <a:off x="759960" y="5049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8076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80760" y="4464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0760" y="4172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0760" y="3879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0760" y="358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0760" y="329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0760" y="300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0760" y="2711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0760" y="2419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4440" y="2125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14349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179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15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51316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287352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32338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359424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95280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313160" y="2198160"/>
              <a:ext cx="180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672080" y="2198160"/>
              <a:ext cx="1440" cy="295308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74600" y="485928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74600" y="456552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74600" y="427356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74600" y="398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74600" y="369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74600" y="339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74600" y="3105000"/>
              <a:ext cx="3633840" cy="180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74600" y="281304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74600" y="252108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74600" y="2227320"/>
              <a:ext cx="3633840" cy="1440"/>
            </a:xfrm>
            <a:prstGeom prst="line">
              <a:avLst/>
            </a:prstGeom>
            <a:ln w="14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88560" y="523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7292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03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936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5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11256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7148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3184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92200" y="523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14400" y="5238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10746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2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349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6146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179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197316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233352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51316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69388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87352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54240" y="5151600"/>
              <a:ext cx="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32338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414600" y="5151600"/>
              <a:ext cx="180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59424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77352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395280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413388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313160" y="5151600"/>
              <a:ext cx="180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4492800" y="5151600"/>
              <a:ext cx="1440" cy="31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4672080" y="5151600"/>
              <a:ext cx="1440" cy="6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74600" y="5151600"/>
              <a:ext cx="3633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25640" y="515160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49400" y="500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25640" y="485928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49400" y="471492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25640" y="456552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49400" y="441972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25640" y="427356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49400" y="412740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25640" y="398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49400" y="383544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25640" y="369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49400" y="3543480"/>
              <a:ext cx="252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25640" y="339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49400" y="3249720"/>
              <a:ext cx="252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25640" y="3105000"/>
              <a:ext cx="48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49400" y="296064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25640" y="281304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49400" y="2668680"/>
              <a:ext cx="25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25640" y="252108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49400" y="2376360"/>
              <a:ext cx="25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25640" y="2227320"/>
              <a:ext cx="48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074600" y="2198160"/>
              <a:ext cx="1800" cy="295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71720" y="5149800"/>
              <a:ext cx="4680" cy="32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71720" y="5149800"/>
              <a:ext cx="4680" cy="3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69920" y="2293920"/>
              <a:ext cx="3548160" cy="2857680"/>
            </a:xfrm>
            <a:custGeom>
              <a:avLst/>
              <a:gdLst/>
              <a:ahLst/>
              <a:rect l="l" t="t" r="r" b="b"/>
              <a:pathLst>
                <a:path w="4666" h="2876">
                  <a:moveTo>
                    <a:pt x="0" y="2876"/>
                  </a:moveTo>
                  <a:lnTo>
                    <a:pt x="15" y="2863"/>
                  </a:lnTo>
                  <a:lnTo>
                    <a:pt x="96" y="2792"/>
                  </a:lnTo>
                  <a:lnTo>
                    <a:pt x="176" y="2716"/>
                  </a:lnTo>
                  <a:lnTo>
                    <a:pt x="256" y="2634"/>
                  </a:lnTo>
                  <a:lnTo>
                    <a:pt x="336" y="2548"/>
                  </a:lnTo>
                  <a:lnTo>
                    <a:pt x="416" y="2456"/>
                  </a:lnTo>
                  <a:lnTo>
                    <a:pt x="496" y="2361"/>
                  </a:lnTo>
                  <a:lnTo>
                    <a:pt x="576" y="2262"/>
                  </a:lnTo>
                  <a:lnTo>
                    <a:pt x="656" y="2161"/>
                  </a:lnTo>
                  <a:lnTo>
                    <a:pt x="736" y="2056"/>
                  </a:lnTo>
                  <a:lnTo>
                    <a:pt x="817" y="1949"/>
                  </a:lnTo>
                  <a:lnTo>
                    <a:pt x="897" y="1840"/>
                  </a:lnTo>
                  <a:lnTo>
                    <a:pt x="977" y="1732"/>
                  </a:lnTo>
                  <a:lnTo>
                    <a:pt x="1059" y="1625"/>
                  </a:lnTo>
                  <a:lnTo>
                    <a:pt x="1139" y="1516"/>
                  </a:lnTo>
                  <a:lnTo>
                    <a:pt x="1219" y="1411"/>
                  </a:lnTo>
                  <a:lnTo>
                    <a:pt x="1299" y="1310"/>
                  </a:lnTo>
                  <a:lnTo>
                    <a:pt x="1379" y="1209"/>
                  </a:lnTo>
                  <a:lnTo>
                    <a:pt x="1459" y="1114"/>
                  </a:lnTo>
                  <a:lnTo>
                    <a:pt x="1540" y="1022"/>
                  </a:lnTo>
                  <a:lnTo>
                    <a:pt x="1620" y="936"/>
                  </a:lnTo>
                  <a:lnTo>
                    <a:pt x="1700" y="854"/>
                  </a:lnTo>
                  <a:lnTo>
                    <a:pt x="1780" y="776"/>
                  </a:lnTo>
                  <a:lnTo>
                    <a:pt x="1860" y="704"/>
                  </a:lnTo>
                  <a:lnTo>
                    <a:pt x="1940" y="637"/>
                  </a:lnTo>
                  <a:lnTo>
                    <a:pt x="2020" y="576"/>
                  </a:lnTo>
                  <a:lnTo>
                    <a:pt x="2100" y="519"/>
                  </a:lnTo>
                  <a:lnTo>
                    <a:pt x="2180" y="465"/>
                  </a:lnTo>
                  <a:lnTo>
                    <a:pt x="2261" y="417"/>
                  </a:lnTo>
                  <a:lnTo>
                    <a:pt x="2341" y="374"/>
                  </a:lnTo>
                  <a:lnTo>
                    <a:pt x="2421" y="334"/>
                  </a:lnTo>
                  <a:lnTo>
                    <a:pt x="2501" y="297"/>
                  </a:lnTo>
                  <a:lnTo>
                    <a:pt x="2581" y="265"/>
                  </a:lnTo>
                  <a:lnTo>
                    <a:pt x="2661" y="236"/>
                  </a:lnTo>
                  <a:lnTo>
                    <a:pt x="2741" y="210"/>
                  </a:lnTo>
                  <a:lnTo>
                    <a:pt x="2821" y="185"/>
                  </a:lnTo>
                  <a:lnTo>
                    <a:pt x="2901" y="164"/>
                  </a:lnTo>
                  <a:lnTo>
                    <a:pt x="2982" y="145"/>
                  </a:lnTo>
                  <a:lnTo>
                    <a:pt x="3062" y="128"/>
                  </a:lnTo>
                  <a:lnTo>
                    <a:pt x="3142" y="112"/>
                  </a:lnTo>
                  <a:lnTo>
                    <a:pt x="3224" y="97"/>
                  </a:lnTo>
                  <a:lnTo>
                    <a:pt x="3304" y="86"/>
                  </a:lnTo>
                  <a:lnTo>
                    <a:pt x="3384" y="74"/>
                  </a:lnTo>
                  <a:lnTo>
                    <a:pt x="3464" y="65"/>
                  </a:lnTo>
                  <a:lnTo>
                    <a:pt x="3544" y="57"/>
                  </a:lnTo>
                  <a:lnTo>
                    <a:pt x="3624" y="47"/>
                  </a:lnTo>
                  <a:lnTo>
                    <a:pt x="3705" y="42"/>
                  </a:lnTo>
                  <a:lnTo>
                    <a:pt x="3785" y="36"/>
                  </a:lnTo>
                  <a:lnTo>
                    <a:pt x="3865" y="30"/>
                  </a:lnTo>
                  <a:lnTo>
                    <a:pt x="3945" y="25"/>
                  </a:lnTo>
                  <a:lnTo>
                    <a:pt x="4025" y="21"/>
                  </a:lnTo>
                  <a:lnTo>
                    <a:pt x="4105" y="17"/>
                  </a:lnTo>
                  <a:lnTo>
                    <a:pt x="4185" y="13"/>
                  </a:lnTo>
                  <a:lnTo>
                    <a:pt x="4265" y="11"/>
                  </a:lnTo>
                  <a:lnTo>
                    <a:pt x="4345" y="7"/>
                  </a:lnTo>
                  <a:lnTo>
                    <a:pt x="4426" y="5"/>
                  </a:lnTo>
                  <a:lnTo>
                    <a:pt x="4506" y="4"/>
                  </a:lnTo>
                  <a:lnTo>
                    <a:pt x="4586" y="2"/>
                  </a:lnTo>
                  <a:lnTo>
                    <a:pt x="4666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250000" y="5573880"/>
              <a:ext cx="14194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Pa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6200000">
              <a:off x="-487440" y="3503880"/>
              <a:ext cx="1764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% saturation O</a:t>
              </a:r>
              <a:r>
                <a:rPr b="0" lang="fr-FR" sz="1800" spc="-1" strike="noStrike" baseline="-20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 rot="16200000">
            <a:off x="4066200" y="3524400"/>
            <a:ext cx="1346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PO2 (mmH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43200" y="1892160"/>
            <a:ext cx="2197080" cy="965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34040" y="3098880"/>
            <a:ext cx="2197080" cy="9651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166240" y="3911760"/>
            <a:ext cx="774720" cy="96516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55600" y="3670200"/>
            <a:ext cx="1067040" cy="1435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rég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5200" y="9000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nécessité de ré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8440" y="1319040"/>
            <a:ext cx="8065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écessité fonctionnelle du système :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’apport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u niveau des cellules nécessite le maintien constant de certains paramètres :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;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93280" y="2220840"/>
            <a:ext cx="807336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odification des appor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lieu aquatique : variation de la concentration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: sourc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lieu aérien : proportion d’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dans l’air constante (~ 21 %) : source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odification des besoi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ariations de la consommation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(effort physiqu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écessité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a rég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84840" y="90000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incipales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61800" y="1779480"/>
          <a:ext cx="8447400" cy="3900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riables régul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p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f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chémorécepteurs périphé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débit san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résistances vascul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concentration en 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capteurs rén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érythropoï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chémorécepteurs périphé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débit san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résistances vascul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chémorécepteurs centr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99880" y="10098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hysiologie comparée de la respiration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en 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hypoxie d’al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54360" y="431640"/>
            <a:ext cx="415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2571840" y="1739880"/>
            <a:ext cx="2638440" cy="395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743200" y="431640"/>
            <a:ext cx="40417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5760" y="206280"/>
            <a:ext cx="8958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de l’al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6720" y="1052640"/>
            <a:ext cx="50864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effet de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11120" y="3747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425480" y="3747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5244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7616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23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1225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54480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7500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9872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819560" y="374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633480" y="3587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33480" y="31240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633480" y="2658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33480" y="2195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33480" y="1731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33480" y="1268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33480" y="804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26888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69260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11488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53716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95944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638316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8040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722772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765000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57560" y="35863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57560" y="335448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57560" y="31226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57560" y="289080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057560" y="26575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57560" y="24271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57560" y="219384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57560" y="19638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57560" y="173052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57560" y="15001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057560" y="12668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57560" y="10368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7984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90392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53262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5746680" y="919080"/>
            <a:ext cx="32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1722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595920" y="919080"/>
            <a:ext cx="180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1676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439040" y="919080"/>
            <a:ext cx="32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057560" y="346860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057560" y="32385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057560" y="300528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057560" y="277488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057560" y="254160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57560" y="23115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057560" y="207792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57560" y="1846440"/>
            <a:ext cx="3805200" cy="288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057560" y="161604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057560" y="138276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57560" y="1152360"/>
            <a:ext cx="3805200" cy="1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405756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268880" y="370152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47984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69260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90392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511488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532620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53716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5746680" y="3701520"/>
            <a:ext cx="32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595944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17220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38316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659592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6804000" y="370152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016760" y="3701520"/>
            <a:ext cx="14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22772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39040" y="3701520"/>
            <a:ext cx="324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650000" y="370152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862760" y="3701520"/>
            <a:ext cx="1800" cy="55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57560" y="3701880"/>
            <a:ext cx="38052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02120" y="37018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29120" y="35863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002120" y="346860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029120" y="335448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02120" y="32385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29120" y="312264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002120" y="300528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029120" y="289080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002120" y="27748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29120" y="26575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002120" y="254160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029120" y="242712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02120" y="23115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29120" y="219384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02120" y="207792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29120" y="196380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2120" y="1846440"/>
            <a:ext cx="55440" cy="2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029120" y="173052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02120" y="161604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29120" y="1500120"/>
            <a:ext cx="28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02120" y="1382760"/>
            <a:ext cx="55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29120" y="126684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002120" y="115236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29120" y="1036800"/>
            <a:ext cx="28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02120" y="919080"/>
            <a:ext cx="554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4057560" y="919080"/>
            <a:ext cx="1800" cy="2782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057560" y="1103400"/>
            <a:ext cx="1800" cy="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86320" y="2281320"/>
            <a:ext cx="324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96160" y="3355920"/>
            <a:ext cx="324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057560" y="1104840"/>
            <a:ext cx="3740400" cy="2252880"/>
          </a:xfrm>
          <a:custGeom>
            <a:avLst/>
            <a:gdLst/>
            <a:ahLst/>
            <a:rect l="l" t="t" r="r" b="b"/>
            <a:pathLst>
              <a:path w="4402" h="2595">
                <a:moveTo>
                  <a:pt x="0" y="0"/>
                </a:moveTo>
                <a:lnTo>
                  <a:pt x="74" y="82"/>
                </a:lnTo>
                <a:lnTo>
                  <a:pt x="149" y="160"/>
                </a:lnTo>
                <a:lnTo>
                  <a:pt x="223" y="238"/>
                </a:lnTo>
                <a:lnTo>
                  <a:pt x="299" y="314"/>
                </a:lnTo>
                <a:lnTo>
                  <a:pt x="373" y="389"/>
                </a:lnTo>
                <a:lnTo>
                  <a:pt x="448" y="459"/>
                </a:lnTo>
                <a:lnTo>
                  <a:pt x="522" y="530"/>
                </a:lnTo>
                <a:lnTo>
                  <a:pt x="596" y="599"/>
                </a:lnTo>
                <a:lnTo>
                  <a:pt x="671" y="667"/>
                </a:lnTo>
                <a:lnTo>
                  <a:pt x="747" y="732"/>
                </a:lnTo>
                <a:lnTo>
                  <a:pt x="821" y="797"/>
                </a:lnTo>
                <a:lnTo>
                  <a:pt x="896" y="858"/>
                </a:lnTo>
                <a:lnTo>
                  <a:pt x="970" y="919"/>
                </a:lnTo>
                <a:lnTo>
                  <a:pt x="1044" y="978"/>
                </a:lnTo>
                <a:lnTo>
                  <a:pt x="1119" y="1037"/>
                </a:lnTo>
                <a:lnTo>
                  <a:pt x="1195" y="1094"/>
                </a:lnTo>
                <a:lnTo>
                  <a:pt x="1269" y="1150"/>
                </a:lnTo>
                <a:lnTo>
                  <a:pt x="1343" y="1203"/>
                </a:lnTo>
                <a:lnTo>
                  <a:pt x="1418" y="1256"/>
                </a:lnTo>
                <a:lnTo>
                  <a:pt x="1492" y="1308"/>
                </a:lnTo>
                <a:lnTo>
                  <a:pt x="1566" y="1357"/>
                </a:lnTo>
                <a:lnTo>
                  <a:pt x="1641" y="1407"/>
                </a:lnTo>
                <a:lnTo>
                  <a:pt x="1717" y="1455"/>
                </a:lnTo>
                <a:lnTo>
                  <a:pt x="1791" y="1502"/>
                </a:lnTo>
                <a:lnTo>
                  <a:pt x="1866" y="1546"/>
                </a:lnTo>
                <a:lnTo>
                  <a:pt x="1940" y="1592"/>
                </a:lnTo>
                <a:lnTo>
                  <a:pt x="2014" y="1636"/>
                </a:lnTo>
                <a:lnTo>
                  <a:pt x="2089" y="1678"/>
                </a:lnTo>
                <a:lnTo>
                  <a:pt x="2165" y="1720"/>
                </a:lnTo>
                <a:lnTo>
                  <a:pt x="2239" y="1760"/>
                </a:lnTo>
                <a:lnTo>
                  <a:pt x="2313" y="1800"/>
                </a:lnTo>
                <a:lnTo>
                  <a:pt x="2388" y="1838"/>
                </a:lnTo>
                <a:lnTo>
                  <a:pt x="2462" y="1876"/>
                </a:lnTo>
                <a:lnTo>
                  <a:pt x="2536" y="1912"/>
                </a:lnTo>
                <a:lnTo>
                  <a:pt x="2613" y="1948"/>
                </a:lnTo>
                <a:lnTo>
                  <a:pt x="2687" y="1983"/>
                </a:lnTo>
                <a:lnTo>
                  <a:pt x="2761" y="2017"/>
                </a:lnTo>
                <a:lnTo>
                  <a:pt x="2836" y="2051"/>
                </a:lnTo>
                <a:lnTo>
                  <a:pt x="2910" y="2084"/>
                </a:lnTo>
                <a:lnTo>
                  <a:pt x="2984" y="2114"/>
                </a:lnTo>
                <a:lnTo>
                  <a:pt x="3059" y="2147"/>
                </a:lnTo>
                <a:lnTo>
                  <a:pt x="3135" y="2177"/>
                </a:lnTo>
                <a:lnTo>
                  <a:pt x="3209" y="2206"/>
                </a:lnTo>
                <a:lnTo>
                  <a:pt x="3283" y="2235"/>
                </a:lnTo>
                <a:lnTo>
                  <a:pt x="3358" y="2263"/>
                </a:lnTo>
                <a:lnTo>
                  <a:pt x="3432" y="2292"/>
                </a:lnTo>
                <a:lnTo>
                  <a:pt x="3506" y="2318"/>
                </a:lnTo>
                <a:lnTo>
                  <a:pt x="3583" y="2343"/>
                </a:lnTo>
                <a:lnTo>
                  <a:pt x="3657" y="2370"/>
                </a:lnTo>
                <a:lnTo>
                  <a:pt x="3731" y="2395"/>
                </a:lnTo>
                <a:lnTo>
                  <a:pt x="3806" y="2419"/>
                </a:lnTo>
                <a:lnTo>
                  <a:pt x="3880" y="2442"/>
                </a:lnTo>
                <a:lnTo>
                  <a:pt x="3954" y="2465"/>
                </a:lnTo>
                <a:lnTo>
                  <a:pt x="4031" y="2488"/>
                </a:lnTo>
                <a:lnTo>
                  <a:pt x="4105" y="2511"/>
                </a:lnTo>
                <a:lnTo>
                  <a:pt x="4179" y="2532"/>
                </a:lnTo>
                <a:lnTo>
                  <a:pt x="4254" y="2553"/>
                </a:lnTo>
                <a:lnTo>
                  <a:pt x="4328" y="2574"/>
                </a:lnTo>
                <a:lnTo>
                  <a:pt x="4402" y="2595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16200000">
            <a:off x="1783800" y="2382120"/>
            <a:ext cx="321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pression atmosphérique 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80560" y="4008600"/>
            <a:ext cx="160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altitude (1000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7867800" y="919080"/>
            <a:ext cx="1440" cy="278280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057560" y="917640"/>
            <a:ext cx="3805200" cy="1440"/>
          </a:xfrm>
          <a:prstGeom prst="line">
            <a:avLst/>
          </a:prstGeom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550800" y="4444920"/>
          <a:ext cx="8043840" cy="2009880"/>
        </p:xfrm>
        <a:graphic>
          <a:graphicData uri="http://schemas.openxmlformats.org/drawingml/2006/table">
            <a:tbl>
              <a:tblPr/>
              <a:tblGrid>
                <a:gridCol w="2757600"/>
                <a:gridCol w="2116080"/>
                <a:gridCol w="158580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ressions ( mm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iveau de la 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5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iffé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. atmosphér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I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I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8160" y="928800"/>
            <a:ext cx="756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aractéristiques de l’air et de l’eau en relation avec la respirati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ir et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880" y="5119560"/>
            <a:ext cx="78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s contraintes sont-elles les mêmes pour la respiration aquatique et la respiration aérienne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360" y="1438200"/>
            <a:ext cx="8173800" cy="32749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ncentration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l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7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2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densité (kg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viscosité (cP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efficient de diffusion 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O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. s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2,5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5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98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haleur spécifique (cal. 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.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°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litre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kg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4840" y="90000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incipales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4840" y="90000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incipales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225360" y="2019240"/>
            <a:ext cx="1067040" cy="9399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686560" y="2057400"/>
            <a:ext cx="1447560" cy="4968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40080" y="1495080"/>
            <a:ext cx="6075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5840" y="925560"/>
            <a:ext cx="7959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tivation des chémorécepteurs à la 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artérielle et ces con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50520" y="1496880"/>
            <a:ext cx="64962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75840" y="925560"/>
            <a:ext cx="7959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tivation des chémorécepteurs à la 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artérielle et ces con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5840" y="925560"/>
            <a:ext cx="7959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tivation des chémorécepteurs à la 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artérielle et ces con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14680" y="2870280"/>
            <a:ext cx="3733920" cy="6998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50520" y="1496880"/>
            <a:ext cx="64962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4840" y="90000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incipales variables régulées de la fonction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361800" y="1765440"/>
          <a:ext cx="8447400" cy="3657600"/>
        </p:xfrm>
        <a:graphic>
          <a:graphicData uri="http://schemas.openxmlformats.org/drawingml/2006/table">
            <a:tbl>
              <a:tblPr/>
              <a:tblGrid>
                <a:gridCol w="2267280"/>
                <a:gridCol w="3166920"/>
                <a:gridCol w="3013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riables régul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p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ffect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oncentration en 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apteurs ré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érythropoïè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périphér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débit sangu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résistances vascul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PCO</a:t>
                      </a:r>
                      <a:r>
                        <a:rPr b="0" lang="en-GB" sz="16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chémorécepteurs centr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enti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"/>
          <p:cNvSpPr/>
          <p:nvPr/>
        </p:nvSpPr>
        <p:spPr>
          <a:xfrm>
            <a:off x="174600" y="3848040"/>
            <a:ext cx="1066680" cy="18162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800680" y="3924360"/>
            <a:ext cx="1447920" cy="4968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50880" y="1479240"/>
            <a:ext cx="787968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u dioxyde de carbone sur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 → activation des chémorécepteurs a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75840" y="925560"/>
            <a:ext cx="7959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tivation des chémorécepteurs à la 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artérielle et ces con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variables, capteurs &amp; eff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0880" y="1469880"/>
            <a:ext cx="787968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e l’hyperventilation sur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erventilation réflexe (fréquence respiratoire et volu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ation de la PA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sur le dioxyde de car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limination accrue d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→ 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ffet du dioxyde de carbone sur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minution de la P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alcalose → activation des chémorécepteurs au 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→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espiration cyc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ommeil : respiration périodique avec phase d’ap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75840" y="925560"/>
            <a:ext cx="795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ctivation des chémorécepteurs à la 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artérielle et ces con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    ventilation et pH san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59120" y="431640"/>
            <a:ext cx="2009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038240" y="5586480"/>
            <a:ext cx="6762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tabilisation de l’hyper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tabilisation du p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modulation de l’élimination des bicarbon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64800" y="4834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69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590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2248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8452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4656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708600" y="4834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090520" y="4591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090520" y="4257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090520" y="3921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90520" y="3586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90520" y="3251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090520" y="2917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090520" y="2583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090520" y="2247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90520" y="1911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090520" y="157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83356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16548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49560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382752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159080" y="467172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448956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82112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5151600" y="4671720"/>
            <a:ext cx="144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48316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581328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614520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6475320" y="4671720"/>
            <a:ext cx="1800" cy="34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6807240" y="467172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14480" y="4672080"/>
            <a:ext cx="3976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2436840" y="1660320"/>
            <a:ext cx="70920" cy="3012840"/>
            <a:chOff x="2436840" y="1660320"/>
            <a:chExt cx="70920" cy="3012840"/>
          </a:xfrm>
        </p:grpSpPr>
        <p:sp>
          <p:nvSpPr>
            <p:cNvPr id="1341" name=""/>
            <p:cNvSpPr/>
            <p:nvPr/>
          </p:nvSpPr>
          <p:spPr>
            <a:xfrm>
              <a:off x="2436840" y="46713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69960" y="45043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36840" y="43372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469960" y="416988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6840" y="40024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469960" y="383544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36840" y="36684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69960" y="349920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36840" y="333216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69960" y="316512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436840" y="299808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69960" y="28303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36840" y="26632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69960" y="249624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36840" y="232920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469960" y="2162160"/>
              <a:ext cx="3528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36840" y="1995120"/>
              <a:ext cx="68760" cy="1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469960" y="1827720"/>
              <a:ext cx="3528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436840" y="1660680"/>
              <a:ext cx="68760" cy="2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2505600" y="1660320"/>
              <a:ext cx="2160" cy="3010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 flipV="1">
            <a:off x="2833560" y="2797200"/>
            <a:ext cx="165240" cy="684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998800" y="2262240"/>
            <a:ext cx="1214280" cy="5349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213080" y="2262240"/>
            <a:ext cx="1270080" cy="32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5483160" y="2162160"/>
            <a:ext cx="1324080" cy="1000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765520" y="279576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930400" y="2728800"/>
            <a:ext cx="138240" cy="13824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145040" y="2192400"/>
            <a:ext cx="13788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413320" y="2192400"/>
            <a:ext cx="138240" cy="13788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38840" y="2093760"/>
            <a:ext cx="136800" cy="136800"/>
          </a:xfrm>
          <a:prstGeom prst="ellipse">
            <a:avLst/>
          </a:prstGeom>
          <a:gradFill rotWithShape="0">
            <a:gsLst>
              <a:gs pos="0">
                <a:srgbClr val="b5b5d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833560" y="4068720"/>
            <a:ext cx="165240" cy="1684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98800" y="4237200"/>
            <a:ext cx="1214280" cy="1681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213080" y="4405320"/>
            <a:ext cx="1270080" cy="666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483160" y="4471920"/>
            <a:ext cx="1324080" cy="180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771640" y="4006800"/>
            <a:ext cx="125640" cy="1270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936880" y="4175280"/>
            <a:ext cx="12528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51160" y="4341960"/>
            <a:ext cx="125640" cy="1252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419800" y="4410000"/>
            <a:ext cx="1252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45320" y="4410000"/>
            <a:ext cx="127080" cy="125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066920" y="51386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 (he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rot="16200000">
            <a:off x="583920" y="2819880"/>
            <a:ext cx="219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, 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892480" y="1573200"/>
            <a:ext cx="65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919840" y="3808440"/>
            <a:ext cx="78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cc"/>
                </a:solidFill>
                <a:latin typeface="Verdana"/>
                <a:ea typeface="Arial"/>
              </a:rPr>
              <a:t>PACO</a:t>
            </a:r>
            <a:r>
              <a:rPr b="0" lang="fr-FR" sz="1600" spc="-1" strike="noStrike" baseline="-25000">
                <a:solidFill>
                  <a:srgbClr val="0066cc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26880" y="87480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ession partielle et concentration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57360" y="1643040"/>
            <a:ext cx="7968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séquence</a:t>
            </a: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ur l’oxygénation tiss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58640" y="1255680"/>
            <a:ext cx="723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748960" y="58435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670480" y="5429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670480" y="5000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670480" y="4573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670480" y="4148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593800" y="3701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93800" y="327492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93800" y="28479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93800" y="24224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38320" y="5977080"/>
            <a:ext cx="463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987640" y="597708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076560" y="5761080"/>
            <a:ext cx="88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87640" y="5548320"/>
            <a:ext cx="1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76560" y="5335560"/>
            <a:ext cx="88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87640" y="512136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076560" y="4908600"/>
            <a:ext cx="889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87640" y="469728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76560" y="4483080"/>
            <a:ext cx="8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87640" y="427032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076560" y="4057560"/>
            <a:ext cx="8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87640" y="3841920"/>
            <a:ext cx="1778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76560" y="3629160"/>
            <a:ext cx="889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87640" y="3414600"/>
            <a:ext cx="17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76560" y="3201840"/>
            <a:ext cx="8892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2990880"/>
            <a:ext cx="1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76560" y="2776680"/>
            <a:ext cx="8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987640" y="2563920"/>
            <a:ext cx="177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3165480" y="2521080"/>
            <a:ext cx="648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201840" y="2776680"/>
            <a:ext cx="3621240" cy="2881080"/>
          </a:xfrm>
          <a:custGeom>
            <a:avLst/>
            <a:gdLst/>
            <a:ahLst/>
            <a:rect l="l" t="t" r="r" b="b"/>
            <a:pathLst>
              <a:path w="1176" h="1208">
                <a:moveTo>
                  <a:pt x="0" y="0"/>
                </a:moveTo>
                <a:lnTo>
                  <a:pt x="328" y="0"/>
                </a:lnTo>
                <a:lnTo>
                  <a:pt x="328" y="452"/>
                </a:lnTo>
                <a:lnTo>
                  <a:pt x="660" y="452"/>
                </a:lnTo>
                <a:lnTo>
                  <a:pt x="660" y="492"/>
                </a:lnTo>
                <a:lnTo>
                  <a:pt x="984" y="492"/>
                </a:lnTo>
                <a:lnTo>
                  <a:pt x="1176" y="1208"/>
                </a:lnTo>
                <a:lnTo>
                  <a:pt x="996" y="896"/>
                </a:lnTo>
                <a:lnTo>
                  <a:pt x="660" y="896"/>
                </a:lnTo>
              </a:path>
            </a:pathLst>
          </a:custGeom>
          <a:noFill/>
          <a:ln w="93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355760" y="3849840"/>
            <a:ext cx="1244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212280" y="225576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ir inspir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26040" y="27986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ir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359320" y="35067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s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214880" y="3244680"/>
            <a:ext cx="0" cy="273240"/>
          </a:xfrm>
          <a:prstGeom prst="line">
            <a:avLst/>
          </a:prstGeom>
          <a:ln w="3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97240" y="4729320"/>
            <a:ext cx="0" cy="27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29160" y="3952800"/>
            <a:ext cx="4334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535720" y="5175360"/>
            <a:ext cx="4348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36000" y="3298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is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32600" y="40179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rtér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34400" y="448452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ein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298320" y="27288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Verdana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27040" y="4444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55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195720" y="4483080"/>
            <a:ext cx="3639960" cy="1344600"/>
          </a:xfrm>
          <a:custGeom>
            <a:avLst/>
            <a:gdLst/>
            <a:ahLst/>
            <a:rect l="l" t="t" r="r" b="b"/>
            <a:pathLst>
              <a:path w="1182" h="564">
                <a:moveTo>
                  <a:pt x="660" y="465"/>
                </a:moveTo>
                <a:lnTo>
                  <a:pt x="990" y="465"/>
                </a:lnTo>
                <a:lnTo>
                  <a:pt x="1182" y="564"/>
                </a:lnTo>
                <a:lnTo>
                  <a:pt x="993" y="288"/>
                </a:lnTo>
                <a:lnTo>
                  <a:pt x="660" y="288"/>
                </a:lnTo>
                <a:lnTo>
                  <a:pt x="660" y="270"/>
                </a:lnTo>
                <a:lnTo>
                  <a:pt x="327" y="270"/>
                </a:lnTo>
                <a:lnTo>
                  <a:pt x="3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ressions &amp; concentrations en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22840" y="431640"/>
            <a:ext cx="460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8160" y="928800"/>
            <a:ext cx="756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aractéristiques de l’air et de l’eau en relation avec la respirati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ir et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360" y="1438200"/>
            <a:ext cx="8173800" cy="32749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ncentration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l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7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2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densité (kg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viscosité (cP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efficient de diffusion 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O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. s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2,5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5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98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haleur spécifique (cal. 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.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°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litre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kg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880" y="4916520"/>
            <a:ext cx="78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 captation d’oxygène à partir de l’air est moins « coûteuse » qu’à partir de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720" y="3289320"/>
            <a:ext cx="7988400" cy="291960"/>
          </a:xfrm>
          <a:prstGeom prst="rect">
            <a:avLst/>
          </a:prstGeom>
          <a:solidFill>
            <a:srgbClr val="ffff7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326880" y="87480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ffusion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290760" y="2185920"/>
            <a:ext cx="32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776760" y="2185920"/>
            <a:ext cx="14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4264200" y="2185920"/>
            <a:ext cx="14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748040" y="2185920"/>
            <a:ext cx="32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234040" y="2185920"/>
            <a:ext cx="14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722920" y="2185920"/>
            <a:ext cx="32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208560" y="2185920"/>
            <a:ext cx="180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6692760" y="2185920"/>
            <a:ext cx="32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3535200" y="2185920"/>
            <a:ext cx="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4019400" y="2185920"/>
            <a:ext cx="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4506840" y="2185920"/>
            <a:ext cx="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4992840" y="2185920"/>
            <a:ext cx="14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5477040" y="2185920"/>
            <a:ext cx="288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5964120" y="2185920"/>
            <a:ext cx="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6450120" y="2185920"/>
            <a:ext cx="1440" cy="2640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048120" y="4565520"/>
            <a:ext cx="3695760" cy="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048120" y="430200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8120" y="404172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8120" y="378000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351792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48120" y="3257640"/>
            <a:ext cx="3695760" cy="14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299556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48120" y="2732040"/>
            <a:ext cx="3695760" cy="324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247320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048120" y="2212920"/>
            <a:ext cx="3695760" cy="1800"/>
          </a:xfrm>
          <a:prstGeom prst="line">
            <a:avLst/>
          </a:prstGeom>
          <a:ln w="1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6856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5600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94164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2908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91472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40072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88636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373800" y="4898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721960" y="47401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647800" y="4479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647800" y="4218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647800" y="3957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647800" y="3695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647800" y="3432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47800" y="3171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647800" y="2913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47800" y="2649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47800" y="23875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572920" y="21272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3048120" y="4825800"/>
            <a:ext cx="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290760" y="482580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535200" y="4825800"/>
            <a:ext cx="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3776760" y="482580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4019400" y="4825800"/>
            <a:ext cx="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4264200" y="482580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4506840" y="4825800"/>
            <a:ext cx="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4748040" y="482580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4992840" y="4825800"/>
            <a:ext cx="144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5234040" y="4825800"/>
            <a:ext cx="14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5477040" y="4825800"/>
            <a:ext cx="288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722920" y="482580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5964120" y="4825800"/>
            <a:ext cx="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208560" y="4825800"/>
            <a:ext cx="180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50120" y="4825800"/>
            <a:ext cx="1440" cy="522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692760" y="4825800"/>
            <a:ext cx="3240" cy="270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048120" y="4826160"/>
            <a:ext cx="3695760" cy="2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94120" y="4826160"/>
            <a:ext cx="54000" cy="2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021120" y="469584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994120" y="4565520"/>
            <a:ext cx="5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021120" y="443376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994120" y="430200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21120" y="417204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994120" y="404172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21120" y="391176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994120" y="378000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021120" y="364824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994120" y="351792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021120" y="338760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94120" y="3257640"/>
            <a:ext cx="54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1120" y="3127320"/>
            <a:ext cx="27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994120" y="299556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1120" y="2862360"/>
            <a:ext cx="2700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94120" y="2732040"/>
            <a:ext cx="5400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21120" y="260352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94120" y="247320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21120" y="234324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994120" y="2212920"/>
            <a:ext cx="54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3048120" y="2185920"/>
            <a:ext cx="0" cy="2640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8120" y="3508200"/>
            <a:ext cx="3644640" cy="854280"/>
          </a:xfrm>
          <a:custGeom>
            <a:avLst/>
            <a:gdLst/>
            <a:ahLst/>
            <a:rect l="l" t="t" r="r" b="b"/>
            <a:pathLst>
              <a:path w="4418" h="1905">
                <a:moveTo>
                  <a:pt x="0" y="1905"/>
                </a:moveTo>
                <a:lnTo>
                  <a:pt x="25" y="1894"/>
                </a:lnTo>
                <a:lnTo>
                  <a:pt x="49" y="1882"/>
                </a:lnTo>
                <a:lnTo>
                  <a:pt x="74" y="1871"/>
                </a:lnTo>
                <a:lnTo>
                  <a:pt x="99" y="1859"/>
                </a:lnTo>
                <a:lnTo>
                  <a:pt x="124" y="1848"/>
                </a:lnTo>
                <a:lnTo>
                  <a:pt x="149" y="1836"/>
                </a:lnTo>
                <a:lnTo>
                  <a:pt x="173" y="1825"/>
                </a:lnTo>
                <a:lnTo>
                  <a:pt x="198" y="1814"/>
                </a:lnTo>
                <a:lnTo>
                  <a:pt x="223" y="1802"/>
                </a:lnTo>
                <a:lnTo>
                  <a:pt x="248" y="1789"/>
                </a:lnTo>
                <a:lnTo>
                  <a:pt x="272" y="1777"/>
                </a:lnTo>
                <a:lnTo>
                  <a:pt x="297" y="1764"/>
                </a:lnTo>
                <a:lnTo>
                  <a:pt x="322" y="1751"/>
                </a:lnTo>
                <a:lnTo>
                  <a:pt x="347" y="1737"/>
                </a:lnTo>
                <a:lnTo>
                  <a:pt x="371" y="1724"/>
                </a:lnTo>
                <a:lnTo>
                  <a:pt x="396" y="1711"/>
                </a:lnTo>
                <a:lnTo>
                  <a:pt x="421" y="1695"/>
                </a:lnTo>
                <a:lnTo>
                  <a:pt x="446" y="1680"/>
                </a:lnTo>
                <a:lnTo>
                  <a:pt x="470" y="1665"/>
                </a:lnTo>
                <a:lnTo>
                  <a:pt x="495" y="1650"/>
                </a:lnTo>
                <a:lnTo>
                  <a:pt x="520" y="1635"/>
                </a:lnTo>
                <a:lnTo>
                  <a:pt x="545" y="1617"/>
                </a:lnTo>
                <a:lnTo>
                  <a:pt x="570" y="1600"/>
                </a:lnTo>
                <a:lnTo>
                  <a:pt x="589" y="1587"/>
                </a:lnTo>
                <a:lnTo>
                  <a:pt x="613" y="1570"/>
                </a:lnTo>
                <a:lnTo>
                  <a:pt x="638" y="1551"/>
                </a:lnTo>
                <a:lnTo>
                  <a:pt x="663" y="1532"/>
                </a:lnTo>
                <a:lnTo>
                  <a:pt x="688" y="1513"/>
                </a:lnTo>
                <a:lnTo>
                  <a:pt x="712" y="1492"/>
                </a:lnTo>
                <a:lnTo>
                  <a:pt x="737" y="1471"/>
                </a:lnTo>
                <a:lnTo>
                  <a:pt x="762" y="1450"/>
                </a:lnTo>
                <a:lnTo>
                  <a:pt x="787" y="1429"/>
                </a:lnTo>
                <a:lnTo>
                  <a:pt x="811" y="1408"/>
                </a:lnTo>
                <a:lnTo>
                  <a:pt x="836" y="1387"/>
                </a:lnTo>
                <a:lnTo>
                  <a:pt x="861" y="1364"/>
                </a:lnTo>
                <a:lnTo>
                  <a:pt x="886" y="1341"/>
                </a:lnTo>
                <a:lnTo>
                  <a:pt x="911" y="1318"/>
                </a:lnTo>
                <a:lnTo>
                  <a:pt x="935" y="1296"/>
                </a:lnTo>
                <a:lnTo>
                  <a:pt x="960" y="1273"/>
                </a:lnTo>
                <a:lnTo>
                  <a:pt x="985" y="1250"/>
                </a:lnTo>
                <a:lnTo>
                  <a:pt x="1010" y="1227"/>
                </a:lnTo>
                <a:lnTo>
                  <a:pt x="1034" y="1202"/>
                </a:lnTo>
                <a:lnTo>
                  <a:pt x="1059" y="1179"/>
                </a:lnTo>
                <a:lnTo>
                  <a:pt x="1084" y="1156"/>
                </a:lnTo>
                <a:lnTo>
                  <a:pt x="1109" y="1132"/>
                </a:lnTo>
                <a:lnTo>
                  <a:pt x="1133" y="1109"/>
                </a:lnTo>
                <a:lnTo>
                  <a:pt x="1158" y="1084"/>
                </a:lnTo>
                <a:lnTo>
                  <a:pt x="1183" y="1061"/>
                </a:lnTo>
                <a:lnTo>
                  <a:pt x="1208" y="1037"/>
                </a:lnTo>
                <a:lnTo>
                  <a:pt x="1233" y="1014"/>
                </a:lnTo>
                <a:lnTo>
                  <a:pt x="1257" y="991"/>
                </a:lnTo>
                <a:lnTo>
                  <a:pt x="1282" y="966"/>
                </a:lnTo>
                <a:lnTo>
                  <a:pt x="1307" y="943"/>
                </a:lnTo>
                <a:lnTo>
                  <a:pt x="1332" y="920"/>
                </a:lnTo>
                <a:lnTo>
                  <a:pt x="1356" y="897"/>
                </a:lnTo>
                <a:lnTo>
                  <a:pt x="1381" y="875"/>
                </a:lnTo>
                <a:lnTo>
                  <a:pt x="1406" y="854"/>
                </a:lnTo>
                <a:lnTo>
                  <a:pt x="1431" y="831"/>
                </a:lnTo>
                <a:lnTo>
                  <a:pt x="1455" y="810"/>
                </a:lnTo>
                <a:lnTo>
                  <a:pt x="1473" y="795"/>
                </a:lnTo>
                <a:lnTo>
                  <a:pt x="1497" y="774"/>
                </a:lnTo>
                <a:lnTo>
                  <a:pt x="1522" y="753"/>
                </a:lnTo>
                <a:lnTo>
                  <a:pt x="1547" y="732"/>
                </a:lnTo>
                <a:lnTo>
                  <a:pt x="1572" y="713"/>
                </a:lnTo>
                <a:lnTo>
                  <a:pt x="1596" y="692"/>
                </a:lnTo>
                <a:lnTo>
                  <a:pt x="1621" y="673"/>
                </a:lnTo>
                <a:lnTo>
                  <a:pt x="1646" y="654"/>
                </a:lnTo>
                <a:lnTo>
                  <a:pt x="1671" y="635"/>
                </a:lnTo>
                <a:lnTo>
                  <a:pt x="1695" y="618"/>
                </a:lnTo>
                <a:lnTo>
                  <a:pt x="1720" y="598"/>
                </a:lnTo>
                <a:lnTo>
                  <a:pt x="1745" y="581"/>
                </a:lnTo>
                <a:lnTo>
                  <a:pt x="1770" y="564"/>
                </a:lnTo>
                <a:lnTo>
                  <a:pt x="1795" y="547"/>
                </a:lnTo>
                <a:lnTo>
                  <a:pt x="1819" y="530"/>
                </a:lnTo>
                <a:lnTo>
                  <a:pt x="1844" y="515"/>
                </a:lnTo>
                <a:lnTo>
                  <a:pt x="1869" y="498"/>
                </a:lnTo>
                <a:lnTo>
                  <a:pt x="1894" y="482"/>
                </a:lnTo>
                <a:lnTo>
                  <a:pt x="1918" y="467"/>
                </a:lnTo>
                <a:lnTo>
                  <a:pt x="1943" y="452"/>
                </a:lnTo>
                <a:lnTo>
                  <a:pt x="1968" y="437"/>
                </a:lnTo>
                <a:lnTo>
                  <a:pt x="1993" y="421"/>
                </a:lnTo>
                <a:lnTo>
                  <a:pt x="2017" y="408"/>
                </a:lnTo>
                <a:lnTo>
                  <a:pt x="2042" y="395"/>
                </a:lnTo>
                <a:lnTo>
                  <a:pt x="2067" y="381"/>
                </a:lnTo>
                <a:lnTo>
                  <a:pt x="2092" y="368"/>
                </a:lnTo>
                <a:lnTo>
                  <a:pt x="2116" y="355"/>
                </a:lnTo>
                <a:lnTo>
                  <a:pt x="2141" y="341"/>
                </a:lnTo>
                <a:lnTo>
                  <a:pt x="2166" y="328"/>
                </a:lnTo>
                <a:lnTo>
                  <a:pt x="2191" y="317"/>
                </a:lnTo>
                <a:lnTo>
                  <a:pt x="2216" y="305"/>
                </a:lnTo>
                <a:lnTo>
                  <a:pt x="2240" y="294"/>
                </a:lnTo>
                <a:lnTo>
                  <a:pt x="2265" y="282"/>
                </a:lnTo>
                <a:lnTo>
                  <a:pt x="2290" y="271"/>
                </a:lnTo>
                <a:lnTo>
                  <a:pt x="2315" y="260"/>
                </a:lnTo>
                <a:lnTo>
                  <a:pt x="2339" y="250"/>
                </a:lnTo>
                <a:lnTo>
                  <a:pt x="2364" y="239"/>
                </a:lnTo>
                <a:lnTo>
                  <a:pt x="2389" y="229"/>
                </a:lnTo>
                <a:lnTo>
                  <a:pt x="2414" y="220"/>
                </a:lnTo>
                <a:lnTo>
                  <a:pt x="2438" y="210"/>
                </a:lnTo>
                <a:lnTo>
                  <a:pt x="2463" y="200"/>
                </a:lnTo>
                <a:lnTo>
                  <a:pt x="2488" y="191"/>
                </a:lnTo>
                <a:lnTo>
                  <a:pt x="2513" y="183"/>
                </a:lnTo>
                <a:lnTo>
                  <a:pt x="2537" y="174"/>
                </a:lnTo>
                <a:lnTo>
                  <a:pt x="2562" y="166"/>
                </a:lnTo>
                <a:lnTo>
                  <a:pt x="2587" y="159"/>
                </a:lnTo>
                <a:lnTo>
                  <a:pt x="2612" y="151"/>
                </a:lnTo>
                <a:lnTo>
                  <a:pt x="2637" y="143"/>
                </a:lnTo>
                <a:lnTo>
                  <a:pt x="2661" y="136"/>
                </a:lnTo>
                <a:lnTo>
                  <a:pt x="2686" y="128"/>
                </a:lnTo>
                <a:lnTo>
                  <a:pt x="2711" y="120"/>
                </a:lnTo>
                <a:lnTo>
                  <a:pt x="2736" y="115"/>
                </a:lnTo>
                <a:lnTo>
                  <a:pt x="2760" y="109"/>
                </a:lnTo>
                <a:lnTo>
                  <a:pt x="2785" y="101"/>
                </a:lnTo>
                <a:lnTo>
                  <a:pt x="2810" y="96"/>
                </a:lnTo>
                <a:lnTo>
                  <a:pt x="2835" y="90"/>
                </a:lnTo>
                <a:lnTo>
                  <a:pt x="2859" y="84"/>
                </a:lnTo>
                <a:lnTo>
                  <a:pt x="2884" y="79"/>
                </a:lnTo>
                <a:lnTo>
                  <a:pt x="2909" y="75"/>
                </a:lnTo>
                <a:lnTo>
                  <a:pt x="2934" y="69"/>
                </a:lnTo>
                <a:lnTo>
                  <a:pt x="2945" y="67"/>
                </a:lnTo>
                <a:lnTo>
                  <a:pt x="2970" y="63"/>
                </a:lnTo>
                <a:lnTo>
                  <a:pt x="2995" y="58"/>
                </a:lnTo>
                <a:lnTo>
                  <a:pt x="3019" y="54"/>
                </a:lnTo>
                <a:lnTo>
                  <a:pt x="3044" y="50"/>
                </a:lnTo>
                <a:lnTo>
                  <a:pt x="3069" y="46"/>
                </a:lnTo>
                <a:lnTo>
                  <a:pt x="3094" y="42"/>
                </a:lnTo>
                <a:lnTo>
                  <a:pt x="3119" y="39"/>
                </a:lnTo>
                <a:lnTo>
                  <a:pt x="3143" y="35"/>
                </a:lnTo>
                <a:lnTo>
                  <a:pt x="3168" y="33"/>
                </a:lnTo>
                <a:lnTo>
                  <a:pt x="3193" y="29"/>
                </a:lnTo>
                <a:lnTo>
                  <a:pt x="3218" y="27"/>
                </a:lnTo>
                <a:lnTo>
                  <a:pt x="3242" y="23"/>
                </a:lnTo>
                <a:lnTo>
                  <a:pt x="3267" y="21"/>
                </a:lnTo>
                <a:lnTo>
                  <a:pt x="3292" y="20"/>
                </a:lnTo>
                <a:lnTo>
                  <a:pt x="3317" y="18"/>
                </a:lnTo>
                <a:lnTo>
                  <a:pt x="3341" y="16"/>
                </a:lnTo>
                <a:lnTo>
                  <a:pt x="3366" y="14"/>
                </a:lnTo>
                <a:lnTo>
                  <a:pt x="3391" y="12"/>
                </a:lnTo>
                <a:lnTo>
                  <a:pt x="3416" y="10"/>
                </a:lnTo>
                <a:lnTo>
                  <a:pt x="3440" y="8"/>
                </a:lnTo>
                <a:lnTo>
                  <a:pt x="3465" y="6"/>
                </a:lnTo>
                <a:lnTo>
                  <a:pt x="3490" y="6"/>
                </a:lnTo>
                <a:lnTo>
                  <a:pt x="3515" y="4"/>
                </a:lnTo>
                <a:lnTo>
                  <a:pt x="3534" y="4"/>
                </a:lnTo>
                <a:lnTo>
                  <a:pt x="3559" y="4"/>
                </a:lnTo>
                <a:lnTo>
                  <a:pt x="3583" y="2"/>
                </a:lnTo>
                <a:lnTo>
                  <a:pt x="3608" y="2"/>
                </a:lnTo>
                <a:lnTo>
                  <a:pt x="3633" y="2"/>
                </a:lnTo>
                <a:lnTo>
                  <a:pt x="3658" y="2"/>
                </a:lnTo>
                <a:lnTo>
                  <a:pt x="3682" y="0"/>
                </a:lnTo>
                <a:lnTo>
                  <a:pt x="3707" y="0"/>
                </a:lnTo>
                <a:lnTo>
                  <a:pt x="3732" y="0"/>
                </a:lnTo>
                <a:lnTo>
                  <a:pt x="3757" y="0"/>
                </a:lnTo>
                <a:lnTo>
                  <a:pt x="3781" y="0"/>
                </a:lnTo>
                <a:lnTo>
                  <a:pt x="3806" y="0"/>
                </a:lnTo>
                <a:lnTo>
                  <a:pt x="3831" y="0"/>
                </a:lnTo>
                <a:lnTo>
                  <a:pt x="3856" y="2"/>
                </a:lnTo>
                <a:lnTo>
                  <a:pt x="3881" y="2"/>
                </a:lnTo>
                <a:lnTo>
                  <a:pt x="3905" y="2"/>
                </a:lnTo>
                <a:lnTo>
                  <a:pt x="3930" y="2"/>
                </a:lnTo>
                <a:lnTo>
                  <a:pt x="3955" y="2"/>
                </a:lnTo>
                <a:lnTo>
                  <a:pt x="3980" y="2"/>
                </a:lnTo>
                <a:lnTo>
                  <a:pt x="4004" y="2"/>
                </a:lnTo>
                <a:lnTo>
                  <a:pt x="4029" y="4"/>
                </a:lnTo>
                <a:lnTo>
                  <a:pt x="4054" y="4"/>
                </a:lnTo>
                <a:lnTo>
                  <a:pt x="4079" y="4"/>
                </a:lnTo>
                <a:lnTo>
                  <a:pt x="4103" y="4"/>
                </a:lnTo>
                <a:lnTo>
                  <a:pt x="4123" y="4"/>
                </a:lnTo>
                <a:lnTo>
                  <a:pt x="4147" y="4"/>
                </a:lnTo>
                <a:lnTo>
                  <a:pt x="4172" y="4"/>
                </a:lnTo>
                <a:lnTo>
                  <a:pt x="4197" y="4"/>
                </a:lnTo>
                <a:lnTo>
                  <a:pt x="4222" y="4"/>
                </a:lnTo>
                <a:lnTo>
                  <a:pt x="4246" y="4"/>
                </a:lnTo>
                <a:lnTo>
                  <a:pt x="4271" y="4"/>
                </a:lnTo>
                <a:lnTo>
                  <a:pt x="4296" y="4"/>
                </a:lnTo>
                <a:lnTo>
                  <a:pt x="4321" y="4"/>
                </a:lnTo>
                <a:lnTo>
                  <a:pt x="4345" y="4"/>
                </a:lnTo>
                <a:lnTo>
                  <a:pt x="4370" y="4"/>
                </a:lnTo>
                <a:lnTo>
                  <a:pt x="4395" y="4"/>
                </a:lnTo>
                <a:lnTo>
                  <a:pt x="4418" y="4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097880" y="5130720"/>
            <a:ext cx="272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temps dans le capillaire (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16200000">
            <a:off x="1647000" y="2684160"/>
            <a:ext cx="129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505400" y="2219400"/>
            <a:ext cx="219240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6808680" y="350676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095600" y="3270240"/>
            <a:ext cx="155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(hyp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6816600" y="2214720"/>
            <a:ext cx="2239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099560" y="1978200"/>
            <a:ext cx="172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808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8080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(norm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85000" y="3597120"/>
            <a:ext cx="170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808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8080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(norm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20720" y="4189320"/>
            <a:ext cx="1542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 baseline="30000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(hypo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324160" y="3792600"/>
            <a:ext cx="2221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332080" y="4383000"/>
            <a:ext cx="222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56040" y="2216160"/>
            <a:ext cx="1449360" cy="1550880"/>
          </a:xfrm>
          <a:custGeom>
            <a:avLst/>
            <a:gdLst/>
            <a:ahLst/>
            <a:rect l="l" t="t" r="r" b="b"/>
            <a:pathLst>
              <a:path w="702" h="757">
                <a:moveTo>
                  <a:pt x="0" y="757"/>
                </a:moveTo>
                <a:cubicBezTo>
                  <a:pt x="40" y="704"/>
                  <a:pt x="81" y="651"/>
                  <a:pt x="114" y="589"/>
                </a:cubicBezTo>
                <a:cubicBezTo>
                  <a:pt x="147" y="527"/>
                  <a:pt x="163" y="455"/>
                  <a:pt x="198" y="385"/>
                </a:cubicBezTo>
                <a:cubicBezTo>
                  <a:pt x="233" y="315"/>
                  <a:pt x="286" y="223"/>
                  <a:pt x="324" y="169"/>
                </a:cubicBezTo>
                <a:cubicBezTo>
                  <a:pt x="362" y="115"/>
                  <a:pt x="401" y="83"/>
                  <a:pt x="426" y="61"/>
                </a:cubicBezTo>
                <a:cubicBezTo>
                  <a:pt x="451" y="39"/>
                  <a:pt x="457" y="45"/>
                  <a:pt x="474" y="37"/>
                </a:cubicBezTo>
                <a:cubicBezTo>
                  <a:pt x="491" y="29"/>
                  <a:pt x="509" y="18"/>
                  <a:pt x="528" y="13"/>
                </a:cubicBezTo>
                <a:cubicBezTo>
                  <a:pt x="547" y="8"/>
                  <a:pt x="566" y="9"/>
                  <a:pt x="588" y="7"/>
                </a:cubicBezTo>
                <a:cubicBezTo>
                  <a:pt x="610" y="5"/>
                  <a:pt x="641" y="2"/>
                  <a:pt x="660" y="1"/>
                </a:cubicBezTo>
                <a:cubicBezTo>
                  <a:pt x="679" y="0"/>
                  <a:pt x="690" y="0"/>
                  <a:pt x="702" y="1"/>
                </a:cubicBezTo>
              </a:path>
            </a:pathLst>
          </a:cu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23800" y="5658120"/>
            <a:ext cx="82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 dans le sang, en fonction du temps de passage dans le capillaire, selon la 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ressions &amp; concentrations en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822840" y="431640"/>
            <a:ext cx="460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326880" y="87480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ession partielle et concentration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quantité d’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résente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58640" y="1255680"/>
            <a:ext cx="723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494080" y="2576520"/>
            <a:ext cx="841320" cy="17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2092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4640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7476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70204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530760" y="54770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090520" y="5108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090520" y="4734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090520" y="4357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090520" y="3979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090520" y="36050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090520" y="3228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090520" y="28512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22120" y="24764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3344760" y="537984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3755880" y="5380200"/>
            <a:ext cx="324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4172040" y="5379840"/>
            <a:ext cx="14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458460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4998960" y="5379840"/>
            <a:ext cx="180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41332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826240" y="5379840"/>
            <a:ext cx="14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6238800" y="5380200"/>
            <a:ext cx="1800" cy="31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653160" y="5379840"/>
            <a:ext cx="3240" cy="68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332160" y="5380200"/>
            <a:ext cx="334476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48000" y="519120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81120" y="50022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48000" y="481320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81120" y="46260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448000" y="4438800"/>
            <a:ext cx="6660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481120" y="4251240"/>
            <a:ext cx="334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448000" y="4062240"/>
            <a:ext cx="6660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481120" y="38736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448000" y="3687840"/>
            <a:ext cx="6660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481120" y="349740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448000" y="330984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481120" y="3121200"/>
            <a:ext cx="334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48000" y="293364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481120" y="274644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448000" y="2558880"/>
            <a:ext cx="666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514600" y="2567160"/>
            <a:ext cx="1440" cy="26143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344760" y="3533760"/>
            <a:ext cx="827280" cy="2271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72040" y="3760920"/>
            <a:ext cx="826920" cy="4521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998960" y="4213080"/>
            <a:ext cx="827280" cy="300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26240" y="4513320"/>
            <a:ext cx="701640" cy="45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287880" y="3481560"/>
            <a:ext cx="11268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16240" y="3705120"/>
            <a:ext cx="108000" cy="1098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943520" y="4157640"/>
            <a:ext cx="11124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70440" y="4459320"/>
            <a:ext cx="111240" cy="10944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472080" y="4911840"/>
            <a:ext cx="111240" cy="1080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44760" y="4362480"/>
            <a:ext cx="827280" cy="15084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172040" y="4513320"/>
            <a:ext cx="826920" cy="6015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287880" y="4308480"/>
            <a:ext cx="11268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116240" y="4459320"/>
            <a:ext cx="10800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943520" y="5059440"/>
            <a:ext cx="111240" cy="110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2519280" y="2576520"/>
            <a:ext cx="828720" cy="954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261040" y="2876400"/>
            <a:ext cx="111240" cy="1098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62480" y="3338640"/>
            <a:ext cx="109800" cy="109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003560" y="57992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ltitude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0800000">
            <a:off x="1428840" y="3454920"/>
            <a:ext cx="45720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Sat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407200" y="27162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491080" y="319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effort max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ressions &amp; concentrations en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22840" y="431640"/>
            <a:ext cx="460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/>
          <p:nvPr/>
        </p:nvSpPr>
        <p:spPr>
          <a:xfrm>
            <a:off x="326880" y="87480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ession partielle et concentration 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92120" y="1611720"/>
            <a:ext cx="7969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quantité d’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résente dans le sang – en ml 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/100 ml de sa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58640" y="1255680"/>
            <a:ext cx="7236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58880" y="2284560"/>
            <a:ext cx="389880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(1,39 x Hb x (Sat/100)) + 0,003 P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418840" y="5783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156760" y="56070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74680" y="53323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074680" y="5057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074680" y="47862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074680" y="45115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074680" y="4238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074680" y="3963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074680" y="3689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074680" y="3417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074680" y="3144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88640" y="28684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2457360" y="570204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80800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4756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68892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12884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56840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00976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44788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89104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330600" y="57960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727320" y="57960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266544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288612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3105000" y="5713200"/>
            <a:ext cx="32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332748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54636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376704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398628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420696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442584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4646520" y="571320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486720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08644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530712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52600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5746680" y="5713200"/>
            <a:ext cx="180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5965920" y="5713200"/>
            <a:ext cx="14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6186600" y="5713200"/>
            <a:ext cx="32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6405480" y="5713200"/>
            <a:ext cx="324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6627960" y="5713200"/>
            <a:ext cx="1440" cy="298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6846840" y="5713200"/>
            <a:ext cx="1800" cy="586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446200" y="5713560"/>
            <a:ext cx="44434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397240" y="570240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427120" y="5564160"/>
            <a:ext cx="3024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397240" y="542772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427120" y="529272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397240" y="51530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427120" y="501660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397240" y="488160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427120" y="474336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397240" y="460692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427120" y="4470480"/>
            <a:ext cx="3024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97240" y="43340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427120" y="419724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397240" y="405936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427120" y="3922560"/>
            <a:ext cx="302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397240" y="3784680"/>
            <a:ext cx="6012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427120" y="364968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97240" y="351324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427120" y="337500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397240" y="3240000"/>
            <a:ext cx="6012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427120" y="3103560"/>
            <a:ext cx="302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397240" y="2963880"/>
            <a:ext cx="60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2457360" y="2936880"/>
            <a:ext cx="3240" cy="27655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455920" y="5700600"/>
            <a:ext cx="4680" cy="324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845400" y="3017880"/>
            <a:ext cx="3240" cy="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455920" y="5700600"/>
            <a:ext cx="4680" cy="324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845400" y="2962440"/>
            <a:ext cx="3240" cy="28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471760" y="3027240"/>
            <a:ext cx="4375080" cy="2675160"/>
          </a:xfrm>
          <a:custGeom>
            <a:avLst/>
            <a:gdLst/>
            <a:ahLst/>
            <a:rect l="l" t="t" r="r" b="b"/>
            <a:pathLst>
              <a:path w="4555" h="2808">
                <a:moveTo>
                  <a:pt x="0" y="2808"/>
                </a:moveTo>
                <a:lnTo>
                  <a:pt x="15" y="2795"/>
                </a:lnTo>
                <a:lnTo>
                  <a:pt x="93" y="2726"/>
                </a:lnTo>
                <a:lnTo>
                  <a:pt x="172" y="2651"/>
                </a:lnTo>
                <a:lnTo>
                  <a:pt x="250" y="2571"/>
                </a:lnTo>
                <a:lnTo>
                  <a:pt x="328" y="2487"/>
                </a:lnTo>
                <a:lnTo>
                  <a:pt x="406" y="2398"/>
                </a:lnTo>
                <a:lnTo>
                  <a:pt x="484" y="2305"/>
                </a:lnTo>
                <a:lnTo>
                  <a:pt x="563" y="2208"/>
                </a:lnTo>
                <a:lnTo>
                  <a:pt x="641" y="2109"/>
                </a:lnTo>
                <a:lnTo>
                  <a:pt x="719" y="2007"/>
                </a:lnTo>
                <a:lnTo>
                  <a:pt x="797" y="1903"/>
                </a:lnTo>
                <a:lnTo>
                  <a:pt x="875" y="1797"/>
                </a:lnTo>
                <a:lnTo>
                  <a:pt x="954" y="1690"/>
                </a:lnTo>
                <a:lnTo>
                  <a:pt x="1034" y="1586"/>
                </a:lnTo>
                <a:lnTo>
                  <a:pt x="1112" y="1480"/>
                </a:lnTo>
                <a:lnTo>
                  <a:pt x="1190" y="1378"/>
                </a:lnTo>
                <a:lnTo>
                  <a:pt x="1268" y="1279"/>
                </a:lnTo>
                <a:lnTo>
                  <a:pt x="1347" y="1180"/>
                </a:lnTo>
                <a:lnTo>
                  <a:pt x="1425" y="1087"/>
                </a:lnTo>
                <a:lnTo>
                  <a:pt x="1503" y="998"/>
                </a:lnTo>
                <a:lnTo>
                  <a:pt x="1581" y="914"/>
                </a:lnTo>
                <a:lnTo>
                  <a:pt x="1659" y="834"/>
                </a:lnTo>
                <a:lnTo>
                  <a:pt x="1738" y="758"/>
                </a:lnTo>
                <a:lnTo>
                  <a:pt x="1816" y="687"/>
                </a:lnTo>
                <a:lnTo>
                  <a:pt x="1894" y="622"/>
                </a:lnTo>
                <a:lnTo>
                  <a:pt x="1972" y="562"/>
                </a:lnTo>
                <a:lnTo>
                  <a:pt x="2051" y="506"/>
                </a:lnTo>
                <a:lnTo>
                  <a:pt x="2129" y="454"/>
                </a:lnTo>
                <a:lnTo>
                  <a:pt x="2207" y="408"/>
                </a:lnTo>
                <a:lnTo>
                  <a:pt x="2285" y="365"/>
                </a:lnTo>
                <a:lnTo>
                  <a:pt x="2363" y="326"/>
                </a:lnTo>
                <a:lnTo>
                  <a:pt x="2442" y="290"/>
                </a:lnTo>
                <a:lnTo>
                  <a:pt x="2520" y="259"/>
                </a:lnTo>
                <a:lnTo>
                  <a:pt x="2598" y="231"/>
                </a:lnTo>
                <a:lnTo>
                  <a:pt x="2676" y="205"/>
                </a:lnTo>
                <a:lnTo>
                  <a:pt x="2754" y="180"/>
                </a:lnTo>
                <a:lnTo>
                  <a:pt x="2833" y="160"/>
                </a:lnTo>
                <a:lnTo>
                  <a:pt x="2911" y="141"/>
                </a:lnTo>
                <a:lnTo>
                  <a:pt x="2989" y="125"/>
                </a:lnTo>
                <a:lnTo>
                  <a:pt x="3067" y="110"/>
                </a:lnTo>
                <a:lnTo>
                  <a:pt x="3147" y="95"/>
                </a:lnTo>
                <a:lnTo>
                  <a:pt x="3226" y="84"/>
                </a:lnTo>
                <a:lnTo>
                  <a:pt x="3304" y="72"/>
                </a:lnTo>
                <a:lnTo>
                  <a:pt x="3382" y="63"/>
                </a:lnTo>
                <a:lnTo>
                  <a:pt x="3460" y="56"/>
                </a:lnTo>
                <a:lnTo>
                  <a:pt x="3538" y="46"/>
                </a:lnTo>
                <a:lnTo>
                  <a:pt x="3617" y="41"/>
                </a:lnTo>
                <a:lnTo>
                  <a:pt x="3695" y="35"/>
                </a:lnTo>
                <a:lnTo>
                  <a:pt x="3773" y="30"/>
                </a:lnTo>
                <a:lnTo>
                  <a:pt x="3851" y="24"/>
                </a:lnTo>
                <a:lnTo>
                  <a:pt x="3929" y="20"/>
                </a:lnTo>
                <a:lnTo>
                  <a:pt x="4008" y="17"/>
                </a:lnTo>
                <a:lnTo>
                  <a:pt x="4086" y="13"/>
                </a:lnTo>
                <a:lnTo>
                  <a:pt x="4164" y="11"/>
                </a:lnTo>
                <a:lnTo>
                  <a:pt x="4242" y="7"/>
                </a:lnTo>
                <a:lnTo>
                  <a:pt x="4321" y="5"/>
                </a:lnTo>
                <a:lnTo>
                  <a:pt x="4399" y="4"/>
                </a:lnTo>
                <a:lnTo>
                  <a:pt x="4477" y="2"/>
                </a:lnTo>
                <a:lnTo>
                  <a:pt x="4555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135320" y="6137280"/>
            <a:ext cx="1640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16200000">
            <a:off x="953280" y="3805560"/>
            <a:ext cx="166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saturation 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5524560" y="3160800"/>
            <a:ext cx="1440" cy="2549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6846840" y="3052800"/>
            <a:ext cx="1800" cy="26416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2494080" y="3022560"/>
            <a:ext cx="3898800" cy="1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2501640" y="3110040"/>
            <a:ext cx="2881080" cy="2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373800" y="3359160"/>
            <a:ext cx="1095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ormox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086800" y="3675240"/>
            <a:ext cx="1043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hypox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modé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643280" y="3446640"/>
            <a:ext cx="3240" cy="2193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9920" y="4311720"/>
            <a:ext cx="1209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hypox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ronon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517840" y="3365640"/>
            <a:ext cx="2023920" cy="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ressions &amp; concentrations en g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746520" y="431640"/>
            <a:ext cx="53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85760" y="206280"/>
            <a:ext cx="8626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urbe de dissociation de l’O</a:t>
            </a:r>
            <a:r>
              <a:rPr b="1" lang="fr-FR" sz="20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20960" y="431640"/>
            <a:ext cx="1146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77800" y="810720"/>
            <a:ext cx="786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  <a:ea typeface="Arial"/>
              </a:rPr>
              <a:t>courbe de saturation de l’hémoglobine au niveau de la mer et à La P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745640" y="4443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179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657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33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11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87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56516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04144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51628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95800" y="4443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426000" y="44434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472760" y="4251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382400" y="3954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382400" y="36561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382400" y="3360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82400" y="3063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382400" y="2768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382400" y="2471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382400" y="21747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382400" y="1879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382400" y="1584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290240" y="128412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1789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02716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226692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250524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2743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298116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322092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3457440" y="4354560"/>
            <a:ext cx="32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369720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393552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17528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411800" y="4354560"/>
            <a:ext cx="288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464976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488952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5126040" y="4354560"/>
            <a:ext cx="32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5365800" y="4354560"/>
            <a:ext cx="144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60376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584352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6080040" y="4354560"/>
            <a:ext cx="180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6319800" y="4354560"/>
            <a:ext cx="1800" cy="331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6558120" y="4354560"/>
            <a:ext cx="1440" cy="63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789200" y="4354560"/>
            <a:ext cx="48164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724040" y="435456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757520" y="420516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724040" y="405756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757520" y="390996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724040" y="3759120"/>
            <a:ext cx="6516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757520" y="3611520"/>
            <a:ext cx="3168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724040" y="3463920"/>
            <a:ext cx="6516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757520" y="33163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724040" y="316692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57520" y="30211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724040" y="287172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757520" y="272412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24040" y="25750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757520" y="242568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24040" y="22780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757520" y="2130480"/>
            <a:ext cx="31680" cy="32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4040" y="19828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57520" y="1833480"/>
            <a:ext cx="3168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724040" y="1687680"/>
            <a:ext cx="6516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757520" y="1538280"/>
            <a:ext cx="3168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724040" y="1387440"/>
            <a:ext cx="6516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789200" y="1358640"/>
            <a:ext cx="3240" cy="2995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787400" y="4352760"/>
            <a:ext cx="5040" cy="324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787400" y="4352760"/>
            <a:ext cx="5040" cy="324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5800" y="1455840"/>
            <a:ext cx="4702320" cy="2898720"/>
          </a:xfrm>
          <a:custGeom>
            <a:avLst/>
            <a:gdLst/>
            <a:ahLst/>
            <a:rect l="l" t="t" r="r" b="b"/>
            <a:pathLst>
              <a:path w="4555" h="2808">
                <a:moveTo>
                  <a:pt x="0" y="2808"/>
                </a:moveTo>
                <a:lnTo>
                  <a:pt x="15" y="2795"/>
                </a:lnTo>
                <a:lnTo>
                  <a:pt x="93" y="2726"/>
                </a:lnTo>
                <a:lnTo>
                  <a:pt x="172" y="2651"/>
                </a:lnTo>
                <a:lnTo>
                  <a:pt x="250" y="2571"/>
                </a:lnTo>
                <a:lnTo>
                  <a:pt x="328" y="2487"/>
                </a:lnTo>
                <a:lnTo>
                  <a:pt x="406" y="2398"/>
                </a:lnTo>
                <a:lnTo>
                  <a:pt x="484" y="2305"/>
                </a:lnTo>
                <a:lnTo>
                  <a:pt x="563" y="2208"/>
                </a:lnTo>
                <a:lnTo>
                  <a:pt x="641" y="2109"/>
                </a:lnTo>
                <a:lnTo>
                  <a:pt x="719" y="2007"/>
                </a:lnTo>
                <a:lnTo>
                  <a:pt x="797" y="1903"/>
                </a:lnTo>
                <a:lnTo>
                  <a:pt x="875" y="1797"/>
                </a:lnTo>
                <a:lnTo>
                  <a:pt x="954" y="1690"/>
                </a:lnTo>
                <a:lnTo>
                  <a:pt x="1034" y="1586"/>
                </a:lnTo>
                <a:lnTo>
                  <a:pt x="1112" y="1480"/>
                </a:lnTo>
                <a:lnTo>
                  <a:pt x="1190" y="1378"/>
                </a:lnTo>
                <a:lnTo>
                  <a:pt x="1268" y="1279"/>
                </a:lnTo>
                <a:lnTo>
                  <a:pt x="1347" y="1180"/>
                </a:lnTo>
                <a:lnTo>
                  <a:pt x="1425" y="1087"/>
                </a:lnTo>
                <a:lnTo>
                  <a:pt x="1503" y="998"/>
                </a:lnTo>
                <a:lnTo>
                  <a:pt x="1581" y="914"/>
                </a:lnTo>
                <a:lnTo>
                  <a:pt x="1659" y="834"/>
                </a:lnTo>
                <a:lnTo>
                  <a:pt x="1738" y="758"/>
                </a:lnTo>
                <a:lnTo>
                  <a:pt x="1816" y="687"/>
                </a:lnTo>
                <a:lnTo>
                  <a:pt x="1894" y="622"/>
                </a:lnTo>
                <a:lnTo>
                  <a:pt x="1972" y="562"/>
                </a:lnTo>
                <a:lnTo>
                  <a:pt x="2051" y="506"/>
                </a:lnTo>
                <a:lnTo>
                  <a:pt x="2129" y="454"/>
                </a:lnTo>
                <a:lnTo>
                  <a:pt x="2207" y="408"/>
                </a:lnTo>
                <a:lnTo>
                  <a:pt x="2285" y="365"/>
                </a:lnTo>
                <a:lnTo>
                  <a:pt x="2363" y="326"/>
                </a:lnTo>
                <a:lnTo>
                  <a:pt x="2442" y="290"/>
                </a:lnTo>
                <a:lnTo>
                  <a:pt x="2520" y="259"/>
                </a:lnTo>
                <a:lnTo>
                  <a:pt x="2598" y="231"/>
                </a:lnTo>
                <a:lnTo>
                  <a:pt x="2676" y="205"/>
                </a:lnTo>
                <a:lnTo>
                  <a:pt x="2754" y="180"/>
                </a:lnTo>
                <a:lnTo>
                  <a:pt x="2833" y="160"/>
                </a:lnTo>
                <a:lnTo>
                  <a:pt x="2911" y="141"/>
                </a:lnTo>
                <a:lnTo>
                  <a:pt x="2989" y="125"/>
                </a:lnTo>
                <a:lnTo>
                  <a:pt x="3067" y="110"/>
                </a:lnTo>
                <a:lnTo>
                  <a:pt x="3147" y="95"/>
                </a:lnTo>
                <a:lnTo>
                  <a:pt x="3226" y="84"/>
                </a:lnTo>
                <a:lnTo>
                  <a:pt x="3304" y="72"/>
                </a:lnTo>
                <a:lnTo>
                  <a:pt x="3382" y="63"/>
                </a:lnTo>
                <a:lnTo>
                  <a:pt x="3460" y="56"/>
                </a:lnTo>
                <a:lnTo>
                  <a:pt x="3538" y="46"/>
                </a:lnTo>
                <a:lnTo>
                  <a:pt x="3617" y="41"/>
                </a:lnTo>
                <a:lnTo>
                  <a:pt x="3695" y="35"/>
                </a:lnTo>
                <a:lnTo>
                  <a:pt x="3773" y="30"/>
                </a:lnTo>
                <a:lnTo>
                  <a:pt x="3851" y="24"/>
                </a:lnTo>
                <a:lnTo>
                  <a:pt x="3929" y="20"/>
                </a:lnTo>
                <a:lnTo>
                  <a:pt x="4008" y="17"/>
                </a:lnTo>
                <a:lnTo>
                  <a:pt x="4086" y="13"/>
                </a:lnTo>
                <a:lnTo>
                  <a:pt x="4164" y="11"/>
                </a:lnTo>
                <a:lnTo>
                  <a:pt x="4242" y="7"/>
                </a:lnTo>
                <a:lnTo>
                  <a:pt x="4321" y="5"/>
                </a:lnTo>
                <a:lnTo>
                  <a:pt x="4399" y="4"/>
                </a:lnTo>
                <a:lnTo>
                  <a:pt x="4477" y="2"/>
                </a:lnTo>
                <a:lnTo>
                  <a:pt x="4555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887480" y="1463760"/>
            <a:ext cx="4670640" cy="2890800"/>
          </a:xfrm>
          <a:custGeom>
            <a:avLst/>
            <a:gdLst/>
            <a:ahLst/>
            <a:rect l="l" t="t" r="r" b="b"/>
            <a:pathLst>
              <a:path w="4523" h="2801">
                <a:moveTo>
                  <a:pt x="0" y="2801"/>
                </a:moveTo>
                <a:lnTo>
                  <a:pt x="61" y="2750"/>
                </a:lnTo>
                <a:lnTo>
                  <a:pt x="140" y="2681"/>
                </a:lnTo>
                <a:lnTo>
                  <a:pt x="218" y="2609"/>
                </a:lnTo>
                <a:lnTo>
                  <a:pt x="296" y="2534"/>
                </a:lnTo>
                <a:lnTo>
                  <a:pt x="374" y="2454"/>
                </a:lnTo>
                <a:lnTo>
                  <a:pt x="452" y="2370"/>
                </a:lnTo>
                <a:lnTo>
                  <a:pt x="531" y="2283"/>
                </a:lnTo>
                <a:lnTo>
                  <a:pt x="609" y="2194"/>
                </a:lnTo>
                <a:lnTo>
                  <a:pt x="687" y="2101"/>
                </a:lnTo>
                <a:lnTo>
                  <a:pt x="765" y="2006"/>
                </a:lnTo>
                <a:lnTo>
                  <a:pt x="843" y="1911"/>
                </a:lnTo>
                <a:lnTo>
                  <a:pt x="922" y="1814"/>
                </a:lnTo>
                <a:lnTo>
                  <a:pt x="1002" y="1715"/>
                </a:lnTo>
                <a:lnTo>
                  <a:pt x="1080" y="1618"/>
                </a:lnTo>
                <a:lnTo>
                  <a:pt x="1158" y="1521"/>
                </a:lnTo>
                <a:lnTo>
                  <a:pt x="1236" y="1426"/>
                </a:lnTo>
                <a:lnTo>
                  <a:pt x="1315" y="1333"/>
                </a:lnTo>
                <a:lnTo>
                  <a:pt x="1393" y="1242"/>
                </a:lnTo>
                <a:lnTo>
                  <a:pt x="1471" y="1155"/>
                </a:lnTo>
                <a:lnTo>
                  <a:pt x="1549" y="1069"/>
                </a:lnTo>
                <a:lnTo>
                  <a:pt x="1627" y="987"/>
                </a:lnTo>
                <a:lnTo>
                  <a:pt x="1706" y="909"/>
                </a:lnTo>
                <a:lnTo>
                  <a:pt x="1784" y="836"/>
                </a:lnTo>
                <a:lnTo>
                  <a:pt x="1862" y="766"/>
                </a:lnTo>
                <a:lnTo>
                  <a:pt x="1940" y="700"/>
                </a:lnTo>
                <a:lnTo>
                  <a:pt x="2019" y="639"/>
                </a:lnTo>
                <a:lnTo>
                  <a:pt x="2097" y="581"/>
                </a:lnTo>
                <a:lnTo>
                  <a:pt x="2175" y="527"/>
                </a:lnTo>
                <a:lnTo>
                  <a:pt x="2253" y="479"/>
                </a:lnTo>
                <a:lnTo>
                  <a:pt x="2331" y="432"/>
                </a:lnTo>
                <a:lnTo>
                  <a:pt x="2410" y="391"/>
                </a:lnTo>
                <a:lnTo>
                  <a:pt x="2488" y="352"/>
                </a:lnTo>
                <a:lnTo>
                  <a:pt x="2566" y="317"/>
                </a:lnTo>
                <a:lnTo>
                  <a:pt x="2644" y="283"/>
                </a:lnTo>
                <a:lnTo>
                  <a:pt x="2722" y="253"/>
                </a:lnTo>
                <a:lnTo>
                  <a:pt x="2801" y="227"/>
                </a:lnTo>
                <a:lnTo>
                  <a:pt x="2879" y="203"/>
                </a:lnTo>
                <a:lnTo>
                  <a:pt x="2957" y="181"/>
                </a:lnTo>
                <a:lnTo>
                  <a:pt x="3035" y="160"/>
                </a:lnTo>
                <a:lnTo>
                  <a:pt x="3115" y="142"/>
                </a:lnTo>
                <a:lnTo>
                  <a:pt x="3194" y="125"/>
                </a:lnTo>
                <a:lnTo>
                  <a:pt x="3272" y="110"/>
                </a:lnTo>
                <a:lnTo>
                  <a:pt x="3350" y="97"/>
                </a:lnTo>
                <a:lnTo>
                  <a:pt x="3428" y="84"/>
                </a:lnTo>
                <a:lnTo>
                  <a:pt x="3506" y="73"/>
                </a:lnTo>
                <a:lnTo>
                  <a:pt x="3585" y="64"/>
                </a:lnTo>
                <a:lnTo>
                  <a:pt x="3663" y="54"/>
                </a:lnTo>
                <a:lnTo>
                  <a:pt x="3741" y="47"/>
                </a:lnTo>
                <a:lnTo>
                  <a:pt x="3819" y="39"/>
                </a:lnTo>
                <a:lnTo>
                  <a:pt x="3897" y="34"/>
                </a:lnTo>
                <a:lnTo>
                  <a:pt x="3976" y="26"/>
                </a:lnTo>
                <a:lnTo>
                  <a:pt x="4054" y="23"/>
                </a:lnTo>
                <a:lnTo>
                  <a:pt x="4132" y="17"/>
                </a:lnTo>
                <a:lnTo>
                  <a:pt x="4210" y="13"/>
                </a:lnTo>
                <a:lnTo>
                  <a:pt x="4289" y="10"/>
                </a:lnTo>
                <a:lnTo>
                  <a:pt x="4367" y="6"/>
                </a:lnTo>
                <a:lnTo>
                  <a:pt x="4445" y="2"/>
                </a:lnTo>
                <a:lnTo>
                  <a:pt x="4523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543480" y="4726080"/>
            <a:ext cx="1581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rot="16200000">
            <a:off x="226080" y="2401920"/>
            <a:ext cx="166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saturation 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423520" y="23684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877920" y="236844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moyen et long term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43480" y="431640"/>
            <a:ext cx="3203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25320" y="1039680"/>
            <a:ext cx="40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timulation de l’érythropoïè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15388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71260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26988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8300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38876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9478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0476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063840" y="4416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217656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245592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273528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301464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329400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3573360" y="4227120"/>
            <a:ext cx="180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385272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413244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441180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69116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97052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249880" y="4227120"/>
            <a:ext cx="144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5527800" y="4227120"/>
            <a:ext cx="144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5808600" y="4227120"/>
            <a:ext cx="1800" cy="255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6087960" y="4227120"/>
            <a:ext cx="1800" cy="507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176560" y="4227480"/>
            <a:ext cx="391140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2176560" y="1700280"/>
            <a:ext cx="1440" cy="2527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176560" y="1930320"/>
            <a:ext cx="3911400" cy="2067120"/>
          </a:xfrm>
          <a:custGeom>
            <a:avLst/>
            <a:gdLst/>
            <a:ahLst/>
            <a:rect l="l" t="t" r="r" b="b"/>
            <a:pathLst>
              <a:path w="7391" h="3905">
                <a:moveTo>
                  <a:pt x="0" y="3905"/>
                </a:moveTo>
                <a:lnTo>
                  <a:pt x="37" y="3887"/>
                </a:lnTo>
                <a:lnTo>
                  <a:pt x="74" y="3870"/>
                </a:lnTo>
                <a:lnTo>
                  <a:pt x="111" y="3850"/>
                </a:lnTo>
                <a:lnTo>
                  <a:pt x="148" y="3830"/>
                </a:lnTo>
                <a:lnTo>
                  <a:pt x="185" y="3808"/>
                </a:lnTo>
                <a:lnTo>
                  <a:pt x="223" y="3785"/>
                </a:lnTo>
                <a:lnTo>
                  <a:pt x="260" y="3758"/>
                </a:lnTo>
                <a:lnTo>
                  <a:pt x="297" y="3731"/>
                </a:lnTo>
                <a:lnTo>
                  <a:pt x="334" y="3700"/>
                </a:lnTo>
                <a:lnTo>
                  <a:pt x="371" y="3664"/>
                </a:lnTo>
                <a:lnTo>
                  <a:pt x="408" y="3625"/>
                </a:lnTo>
                <a:lnTo>
                  <a:pt x="446" y="3582"/>
                </a:lnTo>
                <a:lnTo>
                  <a:pt x="483" y="3535"/>
                </a:lnTo>
                <a:lnTo>
                  <a:pt x="520" y="3482"/>
                </a:lnTo>
                <a:lnTo>
                  <a:pt x="527" y="3472"/>
                </a:lnTo>
                <a:lnTo>
                  <a:pt x="564" y="3414"/>
                </a:lnTo>
                <a:lnTo>
                  <a:pt x="601" y="3351"/>
                </a:lnTo>
                <a:lnTo>
                  <a:pt x="638" y="3282"/>
                </a:lnTo>
                <a:lnTo>
                  <a:pt x="676" y="3208"/>
                </a:lnTo>
                <a:lnTo>
                  <a:pt x="713" y="3129"/>
                </a:lnTo>
                <a:lnTo>
                  <a:pt x="750" y="3045"/>
                </a:lnTo>
                <a:lnTo>
                  <a:pt x="787" y="2957"/>
                </a:lnTo>
                <a:lnTo>
                  <a:pt x="824" y="2862"/>
                </a:lnTo>
                <a:lnTo>
                  <a:pt x="861" y="2764"/>
                </a:lnTo>
                <a:lnTo>
                  <a:pt x="899" y="2659"/>
                </a:lnTo>
                <a:lnTo>
                  <a:pt x="936" y="2551"/>
                </a:lnTo>
                <a:lnTo>
                  <a:pt x="973" y="2438"/>
                </a:lnTo>
                <a:lnTo>
                  <a:pt x="1010" y="2321"/>
                </a:lnTo>
                <a:lnTo>
                  <a:pt x="1047" y="2198"/>
                </a:lnTo>
                <a:lnTo>
                  <a:pt x="1056" y="2169"/>
                </a:lnTo>
                <a:lnTo>
                  <a:pt x="1093" y="2041"/>
                </a:lnTo>
                <a:lnTo>
                  <a:pt x="1130" y="1911"/>
                </a:lnTo>
                <a:lnTo>
                  <a:pt x="1167" y="1776"/>
                </a:lnTo>
                <a:lnTo>
                  <a:pt x="1205" y="1640"/>
                </a:lnTo>
                <a:lnTo>
                  <a:pt x="1242" y="1506"/>
                </a:lnTo>
                <a:lnTo>
                  <a:pt x="1279" y="1370"/>
                </a:lnTo>
                <a:lnTo>
                  <a:pt x="1316" y="1239"/>
                </a:lnTo>
                <a:lnTo>
                  <a:pt x="1353" y="1109"/>
                </a:lnTo>
                <a:lnTo>
                  <a:pt x="1390" y="983"/>
                </a:lnTo>
                <a:lnTo>
                  <a:pt x="1427" y="862"/>
                </a:lnTo>
                <a:lnTo>
                  <a:pt x="1465" y="747"/>
                </a:lnTo>
                <a:lnTo>
                  <a:pt x="1502" y="639"/>
                </a:lnTo>
                <a:lnTo>
                  <a:pt x="1539" y="540"/>
                </a:lnTo>
                <a:lnTo>
                  <a:pt x="1576" y="449"/>
                </a:lnTo>
                <a:lnTo>
                  <a:pt x="1583" y="433"/>
                </a:lnTo>
                <a:lnTo>
                  <a:pt x="1620" y="354"/>
                </a:lnTo>
                <a:lnTo>
                  <a:pt x="1658" y="287"/>
                </a:lnTo>
                <a:lnTo>
                  <a:pt x="1695" y="227"/>
                </a:lnTo>
                <a:lnTo>
                  <a:pt x="1732" y="177"/>
                </a:lnTo>
                <a:lnTo>
                  <a:pt x="1769" y="134"/>
                </a:lnTo>
                <a:lnTo>
                  <a:pt x="1806" y="99"/>
                </a:lnTo>
                <a:lnTo>
                  <a:pt x="1843" y="70"/>
                </a:lnTo>
                <a:lnTo>
                  <a:pt x="1881" y="47"/>
                </a:lnTo>
                <a:lnTo>
                  <a:pt x="1918" y="30"/>
                </a:lnTo>
                <a:lnTo>
                  <a:pt x="1955" y="17"/>
                </a:lnTo>
                <a:lnTo>
                  <a:pt x="1992" y="9"/>
                </a:lnTo>
                <a:lnTo>
                  <a:pt x="2029" y="3"/>
                </a:lnTo>
                <a:lnTo>
                  <a:pt x="2066" y="0"/>
                </a:lnTo>
                <a:lnTo>
                  <a:pt x="2104" y="0"/>
                </a:lnTo>
                <a:lnTo>
                  <a:pt x="2111" y="0"/>
                </a:lnTo>
                <a:lnTo>
                  <a:pt x="2148" y="1"/>
                </a:lnTo>
                <a:lnTo>
                  <a:pt x="2185" y="4"/>
                </a:lnTo>
                <a:lnTo>
                  <a:pt x="2222" y="7"/>
                </a:lnTo>
                <a:lnTo>
                  <a:pt x="2259" y="13"/>
                </a:lnTo>
                <a:lnTo>
                  <a:pt x="2297" y="19"/>
                </a:lnTo>
                <a:lnTo>
                  <a:pt x="2334" y="26"/>
                </a:lnTo>
                <a:lnTo>
                  <a:pt x="2371" y="34"/>
                </a:lnTo>
                <a:lnTo>
                  <a:pt x="2408" y="44"/>
                </a:lnTo>
                <a:lnTo>
                  <a:pt x="2445" y="54"/>
                </a:lnTo>
                <a:lnTo>
                  <a:pt x="2482" y="66"/>
                </a:lnTo>
                <a:lnTo>
                  <a:pt x="2519" y="79"/>
                </a:lnTo>
                <a:lnTo>
                  <a:pt x="2557" y="93"/>
                </a:lnTo>
                <a:lnTo>
                  <a:pt x="2594" y="107"/>
                </a:lnTo>
                <a:lnTo>
                  <a:pt x="2631" y="123"/>
                </a:lnTo>
                <a:lnTo>
                  <a:pt x="2668" y="139"/>
                </a:lnTo>
                <a:lnTo>
                  <a:pt x="2705" y="156"/>
                </a:lnTo>
                <a:lnTo>
                  <a:pt x="2742" y="174"/>
                </a:lnTo>
                <a:lnTo>
                  <a:pt x="2780" y="193"/>
                </a:lnTo>
                <a:lnTo>
                  <a:pt x="2817" y="213"/>
                </a:lnTo>
                <a:lnTo>
                  <a:pt x="2854" y="234"/>
                </a:lnTo>
                <a:lnTo>
                  <a:pt x="2891" y="256"/>
                </a:lnTo>
                <a:lnTo>
                  <a:pt x="2928" y="277"/>
                </a:lnTo>
                <a:lnTo>
                  <a:pt x="2965" y="300"/>
                </a:lnTo>
                <a:lnTo>
                  <a:pt x="3003" y="323"/>
                </a:lnTo>
                <a:lnTo>
                  <a:pt x="3040" y="347"/>
                </a:lnTo>
                <a:lnTo>
                  <a:pt x="3077" y="371"/>
                </a:lnTo>
                <a:lnTo>
                  <a:pt x="3114" y="396"/>
                </a:lnTo>
                <a:lnTo>
                  <a:pt x="3151" y="421"/>
                </a:lnTo>
                <a:lnTo>
                  <a:pt x="3167" y="433"/>
                </a:lnTo>
                <a:lnTo>
                  <a:pt x="3204" y="459"/>
                </a:lnTo>
                <a:lnTo>
                  <a:pt x="3241" y="486"/>
                </a:lnTo>
                <a:lnTo>
                  <a:pt x="3278" y="513"/>
                </a:lnTo>
                <a:lnTo>
                  <a:pt x="3316" y="542"/>
                </a:lnTo>
                <a:lnTo>
                  <a:pt x="3353" y="569"/>
                </a:lnTo>
                <a:lnTo>
                  <a:pt x="3390" y="597"/>
                </a:lnTo>
                <a:lnTo>
                  <a:pt x="3427" y="627"/>
                </a:lnTo>
                <a:lnTo>
                  <a:pt x="3464" y="656"/>
                </a:lnTo>
                <a:lnTo>
                  <a:pt x="3501" y="686"/>
                </a:lnTo>
                <a:lnTo>
                  <a:pt x="3539" y="716"/>
                </a:lnTo>
                <a:lnTo>
                  <a:pt x="3576" y="746"/>
                </a:lnTo>
                <a:lnTo>
                  <a:pt x="3613" y="776"/>
                </a:lnTo>
                <a:lnTo>
                  <a:pt x="3650" y="807"/>
                </a:lnTo>
                <a:lnTo>
                  <a:pt x="3687" y="837"/>
                </a:lnTo>
                <a:lnTo>
                  <a:pt x="3724" y="869"/>
                </a:lnTo>
                <a:lnTo>
                  <a:pt x="3762" y="900"/>
                </a:lnTo>
                <a:lnTo>
                  <a:pt x="3799" y="933"/>
                </a:lnTo>
                <a:lnTo>
                  <a:pt x="3836" y="965"/>
                </a:lnTo>
                <a:lnTo>
                  <a:pt x="3873" y="996"/>
                </a:lnTo>
                <a:lnTo>
                  <a:pt x="3910" y="1029"/>
                </a:lnTo>
                <a:lnTo>
                  <a:pt x="3947" y="1060"/>
                </a:lnTo>
                <a:lnTo>
                  <a:pt x="3985" y="1093"/>
                </a:lnTo>
                <a:lnTo>
                  <a:pt x="4022" y="1126"/>
                </a:lnTo>
                <a:lnTo>
                  <a:pt x="4059" y="1157"/>
                </a:lnTo>
                <a:lnTo>
                  <a:pt x="4096" y="1190"/>
                </a:lnTo>
                <a:lnTo>
                  <a:pt x="4133" y="1223"/>
                </a:lnTo>
                <a:lnTo>
                  <a:pt x="4170" y="1256"/>
                </a:lnTo>
                <a:lnTo>
                  <a:pt x="4208" y="1287"/>
                </a:lnTo>
                <a:lnTo>
                  <a:pt x="4223" y="1302"/>
                </a:lnTo>
                <a:lnTo>
                  <a:pt x="4260" y="1335"/>
                </a:lnTo>
                <a:lnTo>
                  <a:pt x="4298" y="1366"/>
                </a:lnTo>
                <a:lnTo>
                  <a:pt x="4335" y="1399"/>
                </a:lnTo>
                <a:lnTo>
                  <a:pt x="4372" y="1430"/>
                </a:lnTo>
                <a:lnTo>
                  <a:pt x="4409" y="1463"/>
                </a:lnTo>
                <a:lnTo>
                  <a:pt x="4446" y="1495"/>
                </a:lnTo>
                <a:lnTo>
                  <a:pt x="4483" y="1528"/>
                </a:lnTo>
                <a:lnTo>
                  <a:pt x="4521" y="1559"/>
                </a:lnTo>
                <a:lnTo>
                  <a:pt x="4558" y="1590"/>
                </a:lnTo>
                <a:lnTo>
                  <a:pt x="4595" y="1622"/>
                </a:lnTo>
                <a:lnTo>
                  <a:pt x="4632" y="1653"/>
                </a:lnTo>
                <a:lnTo>
                  <a:pt x="4669" y="1685"/>
                </a:lnTo>
                <a:lnTo>
                  <a:pt x="4706" y="1716"/>
                </a:lnTo>
                <a:lnTo>
                  <a:pt x="4744" y="1748"/>
                </a:lnTo>
                <a:lnTo>
                  <a:pt x="4781" y="1778"/>
                </a:lnTo>
                <a:lnTo>
                  <a:pt x="4818" y="1809"/>
                </a:lnTo>
                <a:lnTo>
                  <a:pt x="4855" y="1839"/>
                </a:lnTo>
                <a:lnTo>
                  <a:pt x="4892" y="1869"/>
                </a:lnTo>
                <a:lnTo>
                  <a:pt x="4929" y="1899"/>
                </a:lnTo>
                <a:lnTo>
                  <a:pt x="4967" y="1929"/>
                </a:lnTo>
                <a:lnTo>
                  <a:pt x="5004" y="1958"/>
                </a:lnTo>
                <a:lnTo>
                  <a:pt x="5041" y="1988"/>
                </a:lnTo>
                <a:lnTo>
                  <a:pt x="5078" y="2016"/>
                </a:lnTo>
                <a:lnTo>
                  <a:pt x="5115" y="2045"/>
                </a:lnTo>
                <a:lnTo>
                  <a:pt x="5152" y="2073"/>
                </a:lnTo>
                <a:lnTo>
                  <a:pt x="5190" y="2102"/>
                </a:lnTo>
                <a:lnTo>
                  <a:pt x="5227" y="2131"/>
                </a:lnTo>
                <a:lnTo>
                  <a:pt x="5264" y="2158"/>
                </a:lnTo>
                <a:lnTo>
                  <a:pt x="5280" y="2169"/>
                </a:lnTo>
                <a:lnTo>
                  <a:pt x="5317" y="2196"/>
                </a:lnTo>
                <a:lnTo>
                  <a:pt x="5354" y="2223"/>
                </a:lnTo>
                <a:lnTo>
                  <a:pt x="5391" y="2251"/>
                </a:lnTo>
                <a:lnTo>
                  <a:pt x="5428" y="2276"/>
                </a:lnTo>
                <a:lnTo>
                  <a:pt x="5465" y="2302"/>
                </a:lnTo>
                <a:lnTo>
                  <a:pt x="5503" y="2328"/>
                </a:lnTo>
                <a:lnTo>
                  <a:pt x="5540" y="2354"/>
                </a:lnTo>
                <a:lnTo>
                  <a:pt x="5577" y="2379"/>
                </a:lnTo>
                <a:lnTo>
                  <a:pt x="5614" y="2404"/>
                </a:lnTo>
                <a:lnTo>
                  <a:pt x="5651" y="2428"/>
                </a:lnTo>
                <a:lnTo>
                  <a:pt x="5688" y="2452"/>
                </a:lnTo>
                <a:lnTo>
                  <a:pt x="5726" y="2476"/>
                </a:lnTo>
                <a:lnTo>
                  <a:pt x="5763" y="2499"/>
                </a:lnTo>
                <a:lnTo>
                  <a:pt x="5800" y="2522"/>
                </a:lnTo>
                <a:lnTo>
                  <a:pt x="5837" y="2545"/>
                </a:lnTo>
                <a:lnTo>
                  <a:pt x="5874" y="2568"/>
                </a:lnTo>
                <a:lnTo>
                  <a:pt x="5911" y="2591"/>
                </a:lnTo>
                <a:lnTo>
                  <a:pt x="5948" y="2612"/>
                </a:lnTo>
                <a:lnTo>
                  <a:pt x="5986" y="2634"/>
                </a:lnTo>
                <a:lnTo>
                  <a:pt x="6023" y="2655"/>
                </a:lnTo>
                <a:lnTo>
                  <a:pt x="6060" y="2676"/>
                </a:lnTo>
                <a:lnTo>
                  <a:pt x="6097" y="2696"/>
                </a:lnTo>
                <a:lnTo>
                  <a:pt x="6134" y="2717"/>
                </a:lnTo>
                <a:lnTo>
                  <a:pt x="6171" y="2737"/>
                </a:lnTo>
                <a:lnTo>
                  <a:pt x="6209" y="2757"/>
                </a:lnTo>
                <a:lnTo>
                  <a:pt x="6246" y="2777"/>
                </a:lnTo>
                <a:lnTo>
                  <a:pt x="6283" y="2795"/>
                </a:lnTo>
                <a:lnTo>
                  <a:pt x="6320" y="2814"/>
                </a:lnTo>
                <a:lnTo>
                  <a:pt x="6334" y="2821"/>
                </a:lnTo>
                <a:lnTo>
                  <a:pt x="6372" y="2839"/>
                </a:lnTo>
                <a:lnTo>
                  <a:pt x="6409" y="2857"/>
                </a:lnTo>
                <a:lnTo>
                  <a:pt x="6446" y="2875"/>
                </a:lnTo>
                <a:lnTo>
                  <a:pt x="6483" y="2892"/>
                </a:lnTo>
                <a:lnTo>
                  <a:pt x="6520" y="2909"/>
                </a:lnTo>
                <a:lnTo>
                  <a:pt x="6557" y="2925"/>
                </a:lnTo>
                <a:lnTo>
                  <a:pt x="6595" y="2942"/>
                </a:lnTo>
                <a:lnTo>
                  <a:pt x="6632" y="2958"/>
                </a:lnTo>
                <a:lnTo>
                  <a:pt x="6669" y="2974"/>
                </a:lnTo>
                <a:lnTo>
                  <a:pt x="6706" y="2989"/>
                </a:lnTo>
                <a:lnTo>
                  <a:pt x="6743" y="3005"/>
                </a:lnTo>
                <a:lnTo>
                  <a:pt x="6780" y="3021"/>
                </a:lnTo>
                <a:lnTo>
                  <a:pt x="6818" y="3037"/>
                </a:lnTo>
                <a:lnTo>
                  <a:pt x="6855" y="3051"/>
                </a:lnTo>
                <a:lnTo>
                  <a:pt x="6892" y="3067"/>
                </a:lnTo>
                <a:lnTo>
                  <a:pt x="6929" y="3081"/>
                </a:lnTo>
                <a:lnTo>
                  <a:pt x="6966" y="3095"/>
                </a:lnTo>
                <a:lnTo>
                  <a:pt x="7003" y="3109"/>
                </a:lnTo>
                <a:lnTo>
                  <a:pt x="7041" y="3124"/>
                </a:lnTo>
                <a:lnTo>
                  <a:pt x="7078" y="3138"/>
                </a:lnTo>
                <a:lnTo>
                  <a:pt x="7115" y="3152"/>
                </a:lnTo>
                <a:lnTo>
                  <a:pt x="7152" y="3167"/>
                </a:lnTo>
                <a:lnTo>
                  <a:pt x="7189" y="3181"/>
                </a:lnTo>
                <a:lnTo>
                  <a:pt x="7226" y="3194"/>
                </a:lnTo>
                <a:lnTo>
                  <a:pt x="7263" y="3208"/>
                </a:lnTo>
                <a:lnTo>
                  <a:pt x="7301" y="3222"/>
                </a:lnTo>
                <a:lnTo>
                  <a:pt x="7338" y="3235"/>
                </a:lnTo>
                <a:lnTo>
                  <a:pt x="7375" y="3250"/>
                </a:lnTo>
                <a:lnTo>
                  <a:pt x="7391" y="325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176560" y="3078000"/>
            <a:ext cx="3911400" cy="1038240"/>
          </a:xfrm>
          <a:custGeom>
            <a:avLst/>
            <a:gdLst/>
            <a:ahLst/>
            <a:rect l="l" t="t" r="r" b="b"/>
            <a:pathLst>
              <a:path w="7391" h="1961">
                <a:moveTo>
                  <a:pt x="0" y="1954"/>
                </a:moveTo>
                <a:lnTo>
                  <a:pt x="37" y="1954"/>
                </a:lnTo>
                <a:lnTo>
                  <a:pt x="74" y="1954"/>
                </a:lnTo>
                <a:lnTo>
                  <a:pt x="111" y="1954"/>
                </a:lnTo>
                <a:lnTo>
                  <a:pt x="148" y="1954"/>
                </a:lnTo>
                <a:lnTo>
                  <a:pt x="185" y="1954"/>
                </a:lnTo>
                <a:lnTo>
                  <a:pt x="223" y="1954"/>
                </a:lnTo>
                <a:lnTo>
                  <a:pt x="260" y="1954"/>
                </a:lnTo>
                <a:lnTo>
                  <a:pt x="297" y="1954"/>
                </a:lnTo>
                <a:lnTo>
                  <a:pt x="334" y="1954"/>
                </a:lnTo>
                <a:lnTo>
                  <a:pt x="371" y="1954"/>
                </a:lnTo>
                <a:lnTo>
                  <a:pt x="408" y="1954"/>
                </a:lnTo>
                <a:lnTo>
                  <a:pt x="446" y="1954"/>
                </a:lnTo>
                <a:lnTo>
                  <a:pt x="483" y="1954"/>
                </a:lnTo>
                <a:lnTo>
                  <a:pt x="520" y="1954"/>
                </a:lnTo>
                <a:lnTo>
                  <a:pt x="527" y="1954"/>
                </a:lnTo>
                <a:lnTo>
                  <a:pt x="564" y="1954"/>
                </a:lnTo>
                <a:lnTo>
                  <a:pt x="601" y="1954"/>
                </a:lnTo>
                <a:lnTo>
                  <a:pt x="638" y="1954"/>
                </a:lnTo>
                <a:lnTo>
                  <a:pt x="676" y="1954"/>
                </a:lnTo>
                <a:lnTo>
                  <a:pt x="713" y="1954"/>
                </a:lnTo>
                <a:lnTo>
                  <a:pt x="750" y="1954"/>
                </a:lnTo>
                <a:lnTo>
                  <a:pt x="787" y="1954"/>
                </a:lnTo>
                <a:lnTo>
                  <a:pt x="824" y="1954"/>
                </a:lnTo>
                <a:lnTo>
                  <a:pt x="861" y="1954"/>
                </a:lnTo>
                <a:lnTo>
                  <a:pt x="899" y="1954"/>
                </a:lnTo>
                <a:lnTo>
                  <a:pt x="936" y="1954"/>
                </a:lnTo>
                <a:lnTo>
                  <a:pt x="973" y="1954"/>
                </a:lnTo>
                <a:lnTo>
                  <a:pt x="1010" y="1954"/>
                </a:lnTo>
                <a:lnTo>
                  <a:pt x="1047" y="1954"/>
                </a:lnTo>
                <a:lnTo>
                  <a:pt x="1056" y="1954"/>
                </a:lnTo>
                <a:lnTo>
                  <a:pt x="1093" y="1954"/>
                </a:lnTo>
                <a:lnTo>
                  <a:pt x="1130" y="1954"/>
                </a:lnTo>
                <a:lnTo>
                  <a:pt x="1167" y="1954"/>
                </a:lnTo>
                <a:lnTo>
                  <a:pt x="1205" y="1954"/>
                </a:lnTo>
                <a:lnTo>
                  <a:pt x="1242" y="1954"/>
                </a:lnTo>
                <a:lnTo>
                  <a:pt x="1279" y="1954"/>
                </a:lnTo>
                <a:lnTo>
                  <a:pt x="1316" y="1954"/>
                </a:lnTo>
                <a:lnTo>
                  <a:pt x="1353" y="1954"/>
                </a:lnTo>
                <a:lnTo>
                  <a:pt x="1390" y="1954"/>
                </a:lnTo>
                <a:lnTo>
                  <a:pt x="1427" y="1954"/>
                </a:lnTo>
                <a:lnTo>
                  <a:pt x="1465" y="1954"/>
                </a:lnTo>
                <a:lnTo>
                  <a:pt x="1502" y="1954"/>
                </a:lnTo>
                <a:lnTo>
                  <a:pt x="1539" y="1954"/>
                </a:lnTo>
                <a:lnTo>
                  <a:pt x="1576" y="1954"/>
                </a:lnTo>
                <a:lnTo>
                  <a:pt x="1583" y="1954"/>
                </a:lnTo>
                <a:lnTo>
                  <a:pt x="1620" y="1954"/>
                </a:lnTo>
                <a:lnTo>
                  <a:pt x="1658" y="1954"/>
                </a:lnTo>
                <a:lnTo>
                  <a:pt x="1695" y="1954"/>
                </a:lnTo>
                <a:lnTo>
                  <a:pt x="1732" y="1954"/>
                </a:lnTo>
                <a:lnTo>
                  <a:pt x="1769" y="1954"/>
                </a:lnTo>
                <a:lnTo>
                  <a:pt x="1806" y="1954"/>
                </a:lnTo>
                <a:lnTo>
                  <a:pt x="1843" y="1954"/>
                </a:lnTo>
                <a:lnTo>
                  <a:pt x="1881" y="1954"/>
                </a:lnTo>
                <a:lnTo>
                  <a:pt x="1918" y="1954"/>
                </a:lnTo>
                <a:lnTo>
                  <a:pt x="1955" y="1954"/>
                </a:lnTo>
                <a:lnTo>
                  <a:pt x="1992" y="1954"/>
                </a:lnTo>
                <a:lnTo>
                  <a:pt x="2029" y="1954"/>
                </a:lnTo>
                <a:lnTo>
                  <a:pt x="2066" y="1954"/>
                </a:lnTo>
                <a:lnTo>
                  <a:pt x="2104" y="1954"/>
                </a:lnTo>
                <a:lnTo>
                  <a:pt x="2111" y="1954"/>
                </a:lnTo>
                <a:lnTo>
                  <a:pt x="2148" y="1954"/>
                </a:lnTo>
                <a:lnTo>
                  <a:pt x="2185" y="1954"/>
                </a:lnTo>
                <a:lnTo>
                  <a:pt x="2222" y="1955"/>
                </a:lnTo>
                <a:lnTo>
                  <a:pt x="2259" y="1955"/>
                </a:lnTo>
                <a:lnTo>
                  <a:pt x="2297" y="1957"/>
                </a:lnTo>
                <a:lnTo>
                  <a:pt x="2334" y="1957"/>
                </a:lnTo>
                <a:lnTo>
                  <a:pt x="2371" y="1957"/>
                </a:lnTo>
                <a:lnTo>
                  <a:pt x="2408" y="1958"/>
                </a:lnTo>
                <a:lnTo>
                  <a:pt x="2445" y="1958"/>
                </a:lnTo>
                <a:lnTo>
                  <a:pt x="2482" y="1958"/>
                </a:lnTo>
                <a:lnTo>
                  <a:pt x="2519" y="1959"/>
                </a:lnTo>
                <a:lnTo>
                  <a:pt x="2557" y="1959"/>
                </a:lnTo>
                <a:lnTo>
                  <a:pt x="2594" y="1959"/>
                </a:lnTo>
                <a:lnTo>
                  <a:pt x="2631" y="1961"/>
                </a:lnTo>
                <a:lnTo>
                  <a:pt x="2668" y="1961"/>
                </a:lnTo>
                <a:lnTo>
                  <a:pt x="2705" y="1961"/>
                </a:lnTo>
                <a:lnTo>
                  <a:pt x="2742" y="1961"/>
                </a:lnTo>
                <a:lnTo>
                  <a:pt x="2780" y="1961"/>
                </a:lnTo>
                <a:lnTo>
                  <a:pt x="2817" y="1961"/>
                </a:lnTo>
                <a:lnTo>
                  <a:pt x="2854" y="1961"/>
                </a:lnTo>
                <a:lnTo>
                  <a:pt x="2891" y="1961"/>
                </a:lnTo>
                <a:lnTo>
                  <a:pt x="2928" y="1961"/>
                </a:lnTo>
                <a:lnTo>
                  <a:pt x="2965" y="1959"/>
                </a:lnTo>
                <a:lnTo>
                  <a:pt x="3003" y="1959"/>
                </a:lnTo>
                <a:lnTo>
                  <a:pt x="3040" y="1958"/>
                </a:lnTo>
                <a:lnTo>
                  <a:pt x="3077" y="1957"/>
                </a:lnTo>
                <a:lnTo>
                  <a:pt x="3114" y="1955"/>
                </a:lnTo>
                <a:lnTo>
                  <a:pt x="3151" y="1954"/>
                </a:lnTo>
                <a:lnTo>
                  <a:pt x="3167" y="1954"/>
                </a:lnTo>
                <a:lnTo>
                  <a:pt x="3204" y="1952"/>
                </a:lnTo>
                <a:lnTo>
                  <a:pt x="3241" y="1949"/>
                </a:lnTo>
                <a:lnTo>
                  <a:pt x="3278" y="1948"/>
                </a:lnTo>
                <a:lnTo>
                  <a:pt x="3316" y="1945"/>
                </a:lnTo>
                <a:lnTo>
                  <a:pt x="3353" y="1944"/>
                </a:lnTo>
                <a:lnTo>
                  <a:pt x="3390" y="1941"/>
                </a:lnTo>
                <a:lnTo>
                  <a:pt x="3427" y="1938"/>
                </a:lnTo>
                <a:lnTo>
                  <a:pt x="3464" y="1935"/>
                </a:lnTo>
                <a:lnTo>
                  <a:pt x="3501" y="1932"/>
                </a:lnTo>
                <a:lnTo>
                  <a:pt x="3539" y="1928"/>
                </a:lnTo>
                <a:lnTo>
                  <a:pt x="3576" y="1925"/>
                </a:lnTo>
                <a:lnTo>
                  <a:pt x="3613" y="1921"/>
                </a:lnTo>
                <a:lnTo>
                  <a:pt x="3650" y="1918"/>
                </a:lnTo>
                <a:lnTo>
                  <a:pt x="3687" y="1914"/>
                </a:lnTo>
                <a:lnTo>
                  <a:pt x="3724" y="1909"/>
                </a:lnTo>
                <a:lnTo>
                  <a:pt x="3762" y="1905"/>
                </a:lnTo>
                <a:lnTo>
                  <a:pt x="3799" y="1901"/>
                </a:lnTo>
                <a:lnTo>
                  <a:pt x="3836" y="1897"/>
                </a:lnTo>
                <a:lnTo>
                  <a:pt x="3873" y="1892"/>
                </a:lnTo>
                <a:lnTo>
                  <a:pt x="3910" y="1888"/>
                </a:lnTo>
                <a:lnTo>
                  <a:pt x="3947" y="1884"/>
                </a:lnTo>
                <a:lnTo>
                  <a:pt x="3985" y="1878"/>
                </a:lnTo>
                <a:lnTo>
                  <a:pt x="4022" y="1874"/>
                </a:lnTo>
                <a:lnTo>
                  <a:pt x="4059" y="1868"/>
                </a:lnTo>
                <a:lnTo>
                  <a:pt x="4096" y="1864"/>
                </a:lnTo>
                <a:lnTo>
                  <a:pt x="4133" y="1858"/>
                </a:lnTo>
                <a:lnTo>
                  <a:pt x="4170" y="1852"/>
                </a:lnTo>
                <a:lnTo>
                  <a:pt x="4208" y="1848"/>
                </a:lnTo>
                <a:lnTo>
                  <a:pt x="4223" y="1845"/>
                </a:lnTo>
                <a:lnTo>
                  <a:pt x="4260" y="1839"/>
                </a:lnTo>
                <a:lnTo>
                  <a:pt x="4298" y="1834"/>
                </a:lnTo>
                <a:lnTo>
                  <a:pt x="4335" y="1828"/>
                </a:lnTo>
                <a:lnTo>
                  <a:pt x="4372" y="1822"/>
                </a:lnTo>
                <a:lnTo>
                  <a:pt x="4409" y="1816"/>
                </a:lnTo>
                <a:lnTo>
                  <a:pt x="4446" y="1811"/>
                </a:lnTo>
                <a:lnTo>
                  <a:pt x="4483" y="1804"/>
                </a:lnTo>
                <a:lnTo>
                  <a:pt x="4521" y="1796"/>
                </a:lnTo>
                <a:lnTo>
                  <a:pt x="4558" y="1789"/>
                </a:lnTo>
                <a:lnTo>
                  <a:pt x="4595" y="1782"/>
                </a:lnTo>
                <a:lnTo>
                  <a:pt x="4632" y="1774"/>
                </a:lnTo>
                <a:lnTo>
                  <a:pt x="4669" y="1765"/>
                </a:lnTo>
                <a:lnTo>
                  <a:pt x="4706" y="1756"/>
                </a:lnTo>
                <a:lnTo>
                  <a:pt x="4744" y="1746"/>
                </a:lnTo>
                <a:lnTo>
                  <a:pt x="4781" y="1736"/>
                </a:lnTo>
                <a:lnTo>
                  <a:pt x="4818" y="1725"/>
                </a:lnTo>
                <a:lnTo>
                  <a:pt x="4855" y="1714"/>
                </a:lnTo>
                <a:lnTo>
                  <a:pt x="4892" y="1701"/>
                </a:lnTo>
                <a:lnTo>
                  <a:pt x="4929" y="1688"/>
                </a:lnTo>
                <a:lnTo>
                  <a:pt x="4967" y="1674"/>
                </a:lnTo>
                <a:lnTo>
                  <a:pt x="5004" y="1659"/>
                </a:lnTo>
                <a:lnTo>
                  <a:pt x="5041" y="1644"/>
                </a:lnTo>
                <a:lnTo>
                  <a:pt x="5078" y="1626"/>
                </a:lnTo>
                <a:lnTo>
                  <a:pt x="5115" y="1609"/>
                </a:lnTo>
                <a:lnTo>
                  <a:pt x="5152" y="1591"/>
                </a:lnTo>
                <a:lnTo>
                  <a:pt x="5190" y="1571"/>
                </a:lnTo>
                <a:lnTo>
                  <a:pt x="5227" y="1551"/>
                </a:lnTo>
                <a:lnTo>
                  <a:pt x="5264" y="1529"/>
                </a:lnTo>
                <a:lnTo>
                  <a:pt x="5280" y="1519"/>
                </a:lnTo>
                <a:lnTo>
                  <a:pt x="5317" y="1496"/>
                </a:lnTo>
                <a:lnTo>
                  <a:pt x="5354" y="1471"/>
                </a:lnTo>
                <a:lnTo>
                  <a:pt x="5391" y="1446"/>
                </a:lnTo>
                <a:lnTo>
                  <a:pt x="5428" y="1419"/>
                </a:lnTo>
                <a:lnTo>
                  <a:pt x="5465" y="1392"/>
                </a:lnTo>
                <a:lnTo>
                  <a:pt x="5503" y="1363"/>
                </a:lnTo>
                <a:lnTo>
                  <a:pt x="5540" y="1335"/>
                </a:lnTo>
                <a:lnTo>
                  <a:pt x="5577" y="1305"/>
                </a:lnTo>
                <a:lnTo>
                  <a:pt x="5614" y="1275"/>
                </a:lnTo>
                <a:lnTo>
                  <a:pt x="5651" y="1243"/>
                </a:lnTo>
                <a:lnTo>
                  <a:pt x="5688" y="1212"/>
                </a:lnTo>
                <a:lnTo>
                  <a:pt x="5726" y="1181"/>
                </a:lnTo>
                <a:lnTo>
                  <a:pt x="5763" y="1148"/>
                </a:lnTo>
                <a:lnTo>
                  <a:pt x="5800" y="1116"/>
                </a:lnTo>
                <a:lnTo>
                  <a:pt x="5837" y="1083"/>
                </a:lnTo>
                <a:lnTo>
                  <a:pt x="5874" y="1049"/>
                </a:lnTo>
                <a:lnTo>
                  <a:pt x="5911" y="1016"/>
                </a:lnTo>
                <a:lnTo>
                  <a:pt x="5948" y="983"/>
                </a:lnTo>
                <a:lnTo>
                  <a:pt x="5986" y="950"/>
                </a:lnTo>
                <a:lnTo>
                  <a:pt x="6023" y="918"/>
                </a:lnTo>
                <a:lnTo>
                  <a:pt x="6060" y="885"/>
                </a:lnTo>
                <a:lnTo>
                  <a:pt x="6097" y="852"/>
                </a:lnTo>
                <a:lnTo>
                  <a:pt x="6134" y="819"/>
                </a:lnTo>
                <a:lnTo>
                  <a:pt x="6171" y="788"/>
                </a:lnTo>
                <a:lnTo>
                  <a:pt x="6209" y="755"/>
                </a:lnTo>
                <a:lnTo>
                  <a:pt x="6246" y="725"/>
                </a:lnTo>
                <a:lnTo>
                  <a:pt x="6283" y="693"/>
                </a:lnTo>
                <a:lnTo>
                  <a:pt x="6320" y="663"/>
                </a:lnTo>
                <a:lnTo>
                  <a:pt x="6334" y="652"/>
                </a:lnTo>
                <a:lnTo>
                  <a:pt x="6372" y="623"/>
                </a:lnTo>
                <a:lnTo>
                  <a:pt x="6409" y="595"/>
                </a:lnTo>
                <a:lnTo>
                  <a:pt x="6446" y="566"/>
                </a:lnTo>
                <a:lnTo>
                  <a:pt x="6483" y="539"/>
                </a:lnTo>
                <a:lnTo>
                  <a:pt x="6520" y="513"/>
                </a:lnTo>
                <a:lnTo>
                  <a:pt x="6557" y="486"/>
                </a:lnTo>
                <a:lnTo>
                  <a:pt x="6595" y="462"/>
                </a:lnTo>
                <a:lnTo>
                  <a:pt x="6632" y="436"/>
                </a:lnTo>
                <a:lnTo>
                  <a:pt x="6669" y="412"/>
                </a:lnTo>
                <a:lnTo>
                  <a:pt x="6706" y="387"/>
                </a:lnTo>
                <a:lnTo>
                  <a:pt x="6743" y="365"/>
                </a:lnTo>
                <a:lnTo>
                  <a:pt x="6780" y="340"/>
                </a:lnTo>
                <a:lnTo>
                  <a:pt x="6818" y="319"/>
                </a:lnTo>
                <a:lnTo>
                  <a:pt x="6855" y="296"/>
                </a:lnTo>
                <a:lnTo>
                  <a:pt x="6892" y="275"/>
                </a:lnTo>
                <a:lnTo>
                  <a:pt x="6929" y="252"/>
                </a:lnTo>
                <a:lnTo>
                  <a:pt x="6966" y="230"/>
                </a:lnTo>
                <a:lnTo>
                  <a:pt x="7003" y="210"/>
                </a:lnTo>
                <a:lnTo>
                  <a:pt x="7041" y="189"/>
                </a:lnTo>
                <a:lnTo>
                  <a:pt x="7078" y="169"/>
                </a:lnTo>
                <a:lnTo>
                  <a:pt x="7115" y="147"/>
                </a:lnTo>
                <a:lnTo>
                  <a:pt x="7152" y="127"/>
                </a:lnTo>
                <a:lnTo>
                  <a:pt x="7189" y="107"/>
                </a:lnTo>
                <a:lnTo>
                  <a:pt x="7226" y="87"/>
                </a:lnTo>
                <a:lnTo>
                  <a:pt x="7263" y="67"/>
                </a:lnTo>
                <a:lnTo>
                  <a:pt x="7301" y="47"/>
                </a:lnTo>
                <a:lnTo>
                  <a:pt x="7338" y="29"/>
                </a:lnTo>
                <a:lnTo>
                  <a:pt x="7375" y="9"/>
                </a:lnTo>
                <a:lnTo>
                  <a:pt x="7391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398880" y="2801160"/>
            <a:ext cx="27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ncentration plas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59400" y="417204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 (jo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701880" y="170964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Verdana"/>
                <a:ea typeface="Arial"/>
              </a:rPr>
              <a:t>erythropoïétine (EP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424680" y="363852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erythr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276200" y="497664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hématocr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ormal : 40-45 %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près 3-4 semaines d’altitude (3500 m) : 55 – 60 %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moyen et long term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543480" y="431640"/>
            <a:ext cx="3203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25320" y="1039680"/>
            <a:ext cx="40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ncentration en oxygène du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17200" y="570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47608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25260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03200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809960" y="5702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565600" y="57024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488600" y="5340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488600" y="5068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88600" y="479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488600" y="452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488600" y="4259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390320" y="3987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90320" y="3718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390320" y="3446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390320" y="3179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390320" y="2906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390320" y="2639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390320" y="2370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390320" y="2098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1787400" y="5460840"/>
            <a:ext cx="180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2174760" y="5460840"/>
            <a:ext cx="32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565360" y="5460840"/>
            <a:ext cx="32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2954160" y="5460840"/>
            <a:ext cx="180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334332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3920" y="5460840"/>
            <a:ext cx="14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412272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4511520" y="5460840"/>
            <a:ext cx="180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4898880" y="5460840"/>
            <a:ext cx="32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5289480" y="5460840"/>
            <a:ext cx="3240" cy="367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5678640" y="5460840"/>
            <a:ext cx="1440" cy="698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787400" y="5460840"/>
            <a:ext cx="389124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735200" y="546084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760400" y="532764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735200" y="519264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760400" y="505620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735200" y="492120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60400" y="4786200"/>
            <a:ext cx="270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735200" y="4651200"/>
            <a:ext cx="522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760400" y="451800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735200" y="438156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760400" y="424656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35200" y="411336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760400" y="3976560"/>
            <a:ext cx="270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735200" y="384192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760400" y="370836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735200" y="357192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760400" y="343692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735200" y="330048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760400" y="316692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735200" y="303228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760400" y="289548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735200" y="276084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760400" y="2627280"/>
            <a:ext cx="27000" cy="180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35200" y="2490840"/>
            <a:ext cx="522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760400" y="2355840"/>
            <a:ext cx="27000" cy="14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35200" y="2220840"/>
            <a:ext cx="52200" cy="324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1787400" y="2199960"/>
            <a:ext cx="1800" cy="3260520"/>
          </a:xfrm>
          <a:prstGeom prst="line">
            <a:avLst/>
          </a:prstGeom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787400" y="3584520"/>
            <a:ext cx="3891240" cy="1876320"/>
          </a:xfrm>
          <a:custGeom>
            <a:avLst/>
            <a:gdLst/>
            <a:ahLst/>
            <a:rect l="l" t="t" r="r" b="b"/>
            <a:pathLst>
              <a:path w="6129" h="2655">
                <a:moveTo>
                  <a:pt x="0" y="2655"/>
                </a:moveTo>
                <a:lnTo>
                  <a:pt x="307" y="2639"/>
                </a:lnTo>
                <a:lnTo>
                  <a:pt x="613" y="2537"/>
                </a:lnTo>
                <a:lnTo>
                  <a:pt x="920" y="2293"/>
                </a:lnTo>
                <a:lnTo>
                  <a:pt x="1226" y="1930"/>
                </a:lnTo>
                <a:lnTo>
                  <a:pt x="1533" y="1527"/>
                </a:lnTo>
                <a:lnTo>
                  <a:pt x="1838" y="1158"/>
                </a:lnTo>
                <a:lnTo>
                  <a:pt x="2145" y="861"/>
                </a:lnTo>
                <a:lnTo>
                  <a:pt x="2451" y="635"/>
                </a:lnTo>
                <a:lnTo>
                  <a:pt x="2758" y="469"/>
                </a:lnTo>
                <a:lnTo>
                  <a:pt x="3065" y="348"/>
                </a:lnTo>
                <a:lnTo>
                  <a:pt x="3371" y="259"/>
                </a:lnTo>
                <a:lnTo>
                  <a:pt x="3678" y="192"/>
                </a:lnTo>
                <a:lnTo>
                  <a:pt x="3983" y="143"/>
                </a:lnTo>
                <a:lnTo>
                  <a:pt x="4290" y="104"/>
                </a:lnTo>
                <a:lnTo>
                  <a:pt x="4596" y="76"/>
                </a:lnTo>
                <a:lnTo>
                  <a:pt x="4903" y="53"/>
                </a:lnTo>
                <a:lnTo>
                  <a:pt x="5209" y="36"/>
                </a:lnTo>
                <a:lnTo>
                  <a:pt x="5516" y="22"/>
                </a:lnTo>
                <a:lnTo>
                  <a:pt x="5822" y="10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87400" y="3606840"/>
            <a:ext cx="3891240" cy="1854000"/>
          </a:xfrm>
          <a:custGeom>
            <a:avLst/>
            <a:gdLst/>
            <a:ahLst/>
            <a:rect l="l" t="t" r="r" b="b"/>
            <a:pathLst>
              <a:path w="6129" h="2626">
                <a:moveTo>
                  <a:pt x="0" y="2626"/>
                </a:moveTo>
                <a:lnTo>
                  <a:pt x="307" y="2616"/>
                </a:lnTo>
                <a:lnTo>
                  <a:pt x="613" y="2546"/>
                </a:lnTo>
                <a:lnTo>
                  <a:pt x="920" y="2373"/>
                </a:lnTo>
                <a:lnTo>
                  <a:pt x="1226" y="2094"/>
                </a:lnTo>
                <a:lnTo>
                  <a:pt x="1533" y="1750"/>
                </a:lnTo>
                <a:lnTo>
                  <a:pt x="1838" y="1401"/>
                </a:lnTo>
                <a:lnTo>
                  <a:pt x="2145" y="1088"/>
                </a:lnTo>
                <a:lnTo>
                  <a:pt x="2451" y="832"/>
                </a:lnTo>
                <a:lnTo>
                  <a:pt x="2758" y="630"/>
                </a:lnTo>
                <a:lnTo>
                  <a:pt x="3065" y="476"/>
                </a:lnTo>
                <a:lnTo>
                  <a:pt x="3371" y="360"/>
                </a:lnTo>
                <a:lnTo>
                  <a:pt x="3678" y="270"/>
                </a:lnTo>
                <a:lnTo>
                  <a:pt x="3983" y="203"/>
                </a:lnTo>
                <a:lnTo>
                  <a:pt x="4290" y="150"/>
                </a:lnTo>
                <a:lnTo>
                  <a:pt x="4596" y="108"/>
                </a:lnTo>
                <a:lnTo>
                  <a:pt x="4903" y="75"/>
                </a:lnTo>
                <a:lnTo>
                  <a:pt x="5209" y="50"/>
                </a:lnTo>
                <a:lnTo>
                  <a:pt x="5516" y="30"/>
                </a:lnTo>
                <a:lnTo>
                  <a:pt x="5822" y="13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787400" y="2697120"/>
            <a:ext cx="3891240" cy="2763720"/>
          </a:xfrm>
          <a:custGeom>
            <a:avLst/>
            <a:gdLst/>
            <a:ahLst/>
            <a:rect l="l" t="t" r="r" b="b"/>
            <a:pathLst>
              <a:path w="6129" h="3913">
                <a:moveTo>
                  <a:pt x="0" y="3913"/>
                </a:moveTo>
                <a:lnTo>
                  <a:pt x="307" y="3897"/>
                </a:lnTo>
                <a:lnTo>
                  <a:pt x="613" y="3793"/>
                </a:lnTo>
                <a:lnTo>
                  <a:pt x="920" y="3536"/>
                </a:lnTo>
                <a:lnTo>
                  <a:pt x="1226" y="3120"/>
                </a:lnTo>
                <a:lnTo>
                  <a:pt x="1533" y="2608"/>
                </a:lnTo>
                <a:lnTo>
                  <a:pt x="1838" y="2087"/>
                </a:lnTo>
                <a:lnTo>
                  <a:pt x="2145" y="1623"/>
                </a:lnTo>
                <a:lnTo>
                  <a:pt x="2451" y="1241"/>
                </a:lnTo>
                <a:lnTo>
                  <a:pt x="2758" y="941"/>
                </a:lnTo>
                <a:lnTo>
                  <a:pt x="3065" y="712"/>
                </a:lnTo>
                <a:lnTo>
                  <a:pt x="3371" y="537"/>
                </a:lnTo>
                <a:lnTo>
                  <a:pt x="3678" y="404"/>
                </a:lnTo>
                <a:lnTo>
                  <a:pt x="3983" y="303"/>
                </a:lnTo>
                <a:lnTo>
                  <a:pt x="4290" y="224"/>
                </a:lnTo>
                <a:lnTo>
                  <a:pt x="4596" y="163"/>
                </a:lnTo>
                <a:lnTo>
                  <a:pt x="4903" y="116"/>
                </a:lnTo>
                <a:lnTo>
                  <a:pt x="5209" y="77"/>
                </a:lnTo>
                <a:lnTo>
                  <a:pt x="5516" y="46"/>
                </a:lnTo>
                <a:lnTo>
                  <a:pt x="5822" y="21"/>
                </a:lnTo>
                <a:lnTo>
                  <a:pt x="6129" y="0"/>
                </a:lnTo>
                <a:lnTo>
                  <a:pt x="6129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098880" y="6005520"/>
            <a:ext cx="133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rot="16200000">
            <a:off x="-528120" y="3610080"/>
            <a:ext cx="3061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ncentration sanguine en 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(mL/100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51400" y="3398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825000" y="3957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016080" y="3241800"/>
            <a:ext cx="3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7640" y="1471680"/>
            <a:ext cx="831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centration sanguine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ml/ 100 ml) = (1,39 x Hb x (Sat/100)) + 0,003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524920" y="3892680"/>
            <a:ext cx="32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oncentration sanguine en O2 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 : au niveau de la mer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 : après 2 jours à 4000 m 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 : après 3 semaines à 4000 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819360" y="5497560"/>
            <a:ext cx="74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ltitude → hypoxie alvéolaire → vasoconstriction hypoxique général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ypertension artériell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court terme (1-3 jours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720960" y="431640"/>
            <a:ext cx="2200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65040" y="925560"/>
            <a:ext cx="55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ffet sur la circul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066040" y="475308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367000" y="5041800"/>
            <a:ext cx="150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rot="16200000">
            <a:off x="-612720" y="3101400"/>
            <a:ext cx="26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rot="16200000">
            <a:off x="1685160" y="4382280"/>
            <a:ext cx="92160" cy="69048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076480" y="46782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74880" y="468324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468600" y="468324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98640" y="450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295280" y="248904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rot="5400000">
            <a:off x="1068480" y="3260520"/>
            <a:ext cx="542880" cy="9864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rot="5400000">
            <a:off x="1062720" y="381384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rot="5400000">
            <a:off x="1061640" y="4363920"/>
            <a:ext cx="5446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911160" y="39686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908280" y="3398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914400" y="2859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914400" y="23209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21160" y="17622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292400" y="1944720"/>
            <a:ext cx="9180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176560" y="322092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717640" y="2413080"/>
            <a:ext cx="9864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11360" y="211464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673280" y="3838680"/>
            <a:ext cx="1000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105440" y="194472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768840" y="2016000"/>
            <a:ext cx="9972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382840" y="273996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060720" y="225252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717560" y="1990800"/>
            <a:ext cx="244656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645080" y="2513160"/>
            <a:ext cx="43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hypoxie alvéolaire locale : redistribution des débits sanguins vers les secteurs normox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322640" y="14079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a vasoconstriction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moyen et long term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hypertension artérielle pulmonaire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543480" y="431640"/>
            <a:ext cx="1171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68360" y="8938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pression artérielle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at  normoxique : 20 mm Hg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at hypoxique (15 jours à 5500 m) : 32 mm 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95000" y="225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ffet cardi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3" name=""/>
          <p:cNvGraphicFramePr/>
          <p:nvPr/>
        </p:nvGraphicFramePr>
        <p:xfrm>
          <a:off x="593640" y="2914560"/>
          <a:ext cx="4600800" cy="1005120"/>
        </p:xfrm>
        <a:graphic>
          <a:graphicData uri="http://schemas.openxmlformats.org/drawingml/2006/table">
            <a:tbl>
              <a:tblPr/>
              <a:tblGrid>
                <a:gridCol w="1619280"/>
                <a:gridCol w="1216080"/>
                <a:gridCol w="1308240"/>
                <a:gridCol w="457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D 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GS (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ormox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7 ±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965 ± 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x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09 ±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56 ±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4" name=""/>
          <p:cNvSpPr/>
          <p:nvPr/>
        </p:nvSpPr>
        <p:spPr>
          <a:xfrm>
            <a:off x="6226200" y="5027760"/>
            <a:ext cx="801720" cy="9126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0960" y="3992400"/>
            <a:ext cx="803520" cy="19576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626160" y="4983120"/>
            <a:ext cx="1800" cy="41400"/>
          </a:xfrm>
          <a:prstGeom prst="line">
            <a:avLst/>
          </a:prstGeom>
          <a:ln w="1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599160" y="4983120"/>
            <a:ext cx="55800" cy="1800"/>
          </a:xfrm>
          <a:prstGeom prst="line">
            <a:avLst/>
          </a:prstGeom>
          <a:ln w="1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632720" y="3895560"/>
            <a:ext cx="1440" cy="84240"/>
          </a:xfrm>
          <a:prstGeom prst="line">
            <a:avLst/>
          </a:prstGeom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04280" y="3895560"/>
            <a:ext cx="56880" cy="1800"/>
          </a:xfrm>
          <a:prstGeom prst="line">
            <a:avLst/>
          </a:prstGeom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673600" y="583236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673600" y="5415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673600" y="49975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673600" y="45799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673600" y="4160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5673600" y="37432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6122880" y="5916600"/>
            <a:ext cx="1800" cy="525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122880" y="5943600"/>
            <a:ext cx="201312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095880" y="594360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108840" y="5734080"/>
            <a:ext cx="1404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095880" y="552456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108840" y="531648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095880" y="510840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108840" y="489888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095880" y="4689360"/>
            <a:ext cx="2700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08840" y="447984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095880" y="427212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108840" y="4062240"/>
            <a:ext cx="14040" cy="180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095880" y="3854520"/>
            <a:ext cx="27000" cy="14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6122880" y="3854160"/>
            <a:ext cx="180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16200000">
            <a:off x="4949640" y="46004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D/V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333480" y="6060960"/>
            <a:ext cx="538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235640" y="6070680"/>
            <a:ext cx="886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55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200600" y="4654440"/>
            <a:ext cx="336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D : ventricule d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GS : ventricule gauche + sep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93320" y="55069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/>
          <p:nvPr/>
        </p:nvSpPr>
        <p:spPr>
          <a:xfrm>
            <a:off x="1670040" y="2006640"/>
            <a:ext cx="4797360" cy="2895480"/>
          </a:xfrm>
          <a:custGeom>
            <a:avLst/>
            <a:gdLst/>
            <a:ahLst/>
            <a:rect l="l" t="t" r="r" b="b"/>
            <a:pathLst>
              <a:path w="2850" h="1470">
                <a:moveTo>
                  <a:pt x="0" y="0"/>
                </a:moveTo>
                <a:lnTo>
                  <a:pt x="0" y="1470"/>
                </a:lnTo>
                <a:lnTo>
                  <a:pt x="2850" y="147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681200" y="3649680"/>
            <a:ext cx="4241880" cy="511200"/>
          </a:xfrm>
          <a:custGeom>
            <a:avLst/>
            <a:gdLst/>
            <a:ahLst/>
            <a:rect l="l" t="t" r="r" b="b"/>
            <a:pathLst>
              <a:path w="2520" h="259">
                <a:moveTo>
                  <a:pt x="0" y="258"/>
                </a:moveTo>
                <a:cubicBezTo>
                  <a:pt x="101" y="233"/>
                  <a:pt x="265" y="242"/>
                  <a:pt x="354" y="240"/>
                </a:cubicBezTo>
                <a:cubicBezTo>
                  <a:pt x="392" y="231"/>
                  <a:pt x="371" y="239"/>
                  <a:pt x="414" y="210"/>
                </a:cubicBezTo>
                <a:cubicBezTo>
                  <a:pt x="420" y="206"/>
                  <a:pt x="432" y="198"/>
                  <a:pt x="432" y="198"/>
                </a:cubicBezTo>
                <a:cubicBezTo>
                  <a:pt x="457" y="160"/>
                  <a:pt x="469" y="134"/>
                  <a:pt x="510" y="114"/>
                </a:cubicBezTo>
                <a:cubicBezTo>
                  <a:pt x="523" y="95"/>
                  <a:pt x="553" y="74"/>
                  <a:pt x="576" y="66"/>
                </a:cubicBezTo>
                <a:cubicBezTo>
                  <a:pt x="604" y="24"/>
                  <a:pt x="672" y="12"/>
                  <a:pt x="720" y="0"/>
                </a:cubicBezTo>
                <a:cubicBezTo>
                  <a:pt x="792" y="6"/>
                  <a:pt x="880" y="19"/>
                  <a:pt x="942" y="60"/>
                </a:cubicBezTo>
                <a:cubicBezTo>
                  <a:pt x="986" y="126"/>
                  <a:pt x="1051" y="157"/>
                  <a:pt x="1122" y="192"/>
                </a:cubicBezTo>
                <a:cubicBezTo>
                  <a:pt x="1159" y="210"/>
                  <a:pt x="1205" y="232"/>
                  <a:pt x="1248" y="234"/>
                </a:cubicBezTo>
                <a:cubicBezTo>
                  <a:pt x="1314" y="238"/>
                  <a:pt x="1380" y="238"/>
                  <a:pt x="1446" y="240"/>
                </a:cubicBezTo>
                <a:cubicBezTo>
                  <a:pt x="1597" y="259"/>
                  <a:pt x="1777" y="237"/>
                  <a:pt x="1926" y="234"/>
                </a:cubicBezTo>
                <a:cubicBezTo>
                  <a:pt x="2010" y="213"/>
                  <a:pt x="2184" y="237"/>
                  <a:pt x="2262" y="240"/>
                </a:cubicBezTo>
                <a:cubicBezTo>
                  <a:pt x="2322" y="245"/>
                  <a:pt x="2366" y="253"/>
                  <a:pt x="2424" y="246"/>
                </a:cubicBezTo>
                <a:cubicBezTo>
                  <a:pt x="2438" y="244"/>
                  <a:pt x="2452" y="242"/>
                  <a:pt x="2466" y="240"/>
                </a:cubicBezTo>
                <a:cubicBezTo>
                  <a:pt x="2484" y="238"/>
                  <a:pt x="2520" y="234"/>
                  <a:pt x="2520" y="23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677960" y="3070080"/>
            <a:ext cx="4318200" cy="1095480"/>
          </a:xfrm>
          <a:custGeom>
            <a:avLst/>
            <a:gdLst/>
            <a:ahLst/>
            <a:rect l="l" t="t" r="r" b="b"/>
            <a:pathLst>
              <a:path w="2566" h="556">
                <a:moveTo>
                  <a:pt x="0" y="556"/>
                </a:moveTo>
                <a:cubicBezTo>
                  <a:pt x="101" y="531"/>
                  <a:pt x="265" y="540"/>
                  <a:pt x="354" y="538"/>
                </a:cubicBezTo>
                <a:cubicBezTo>
                  <a:pt x="392" y="529"/>
                  <a:pt x="371" y="537"/>
                  <a:pt x="414" y="508"/>
                </a:cubicBezTo>
                <a:cubicBezTo>
                  <a:pt x="420" y="504"/>
                  <a:pt x="432" y="496"/>
                  <a:pt x="432" y="496"/>
                </a:cubicBezTo>
                <a:cubicBezTo>
                  <a:pt x="436" y="492"/>
                  <a:pt x="454" y="440"/>
                  <a:pt x="462" y="420"/>
                </a:cubicBezTo>
                <a:cubicBezTo>
                  <a:pt x="470" y="400"/>
                  <a:pt x="469" y="398"/>
                  <a:pt x="478" y="376"/>
                </a:cubicBezTo>
                <a:cubicBezTo>
                  <a:pt x="487" y="354"/>
                  <a:pt x="502" y="319"/>
                  <a:pt x="514" y="288"/>
                </a:cubicBezTo>
                <a:cubicBezTo>
                  <a:pt x="526" y="257"/>
                  <a:pt x="536" y="231"/>
                  <a:pt x="550" y="192"/>
                </a:cubicBezTo>
                <a:cubicBezTo>
                  <a:pt x="562" y="152"/>
                  <a:pt x="575" y="64"/>
                  <a:pt x="598" y="56"/>
                </a:cubicBezTo>
                <a:cubicBezTo>
                  <a:pt x="626" y="14"/>
                  <a:pt x="634" y="12"/>
                  <a:pt x="682" y="0"/>
                </a:cubicBezTo>
                <a:cubicBezTo>
                  <a:pt x="754" y="6"/>
                  <a:pt x="824" y="143"/>
                  <a:pt x="886" y="184"/>
                </a:cubicBezTo>
                <a:cubicBezTo>
                  <a:pt x="930" y="250"/>
                  <a:pt x="1095" y="377"/>
                  <a:pt x="1166" y="412"/>
                </a:cubicBezTo>
                <a:cubicBezTo>
                  <a:pt x="1203" y="430"/>
                  <a:pt x="1279" y="466"/>
                  <a:pt x="1322" y="468"/>
                </a:cubicBezTo>
                <a:cubicBezTo>
                  <a:pt x="1388" y="472"/>
                  <a:pt x="1468" y="494"/>
                  <a:pt x="1534" y="496"/>
                </a:cubicBezTo>
                <a:cubicBezTo>
                  <a:pt x="1685" y="515"/>
                  <a:pt x="1761" y="459"/>
                  <a:pt x="1910" y="456"/>
                </a:cubicBezTo>
                <a:cubicBezTo>
                  <a:pt x="1994" y="435"/>
                  <a:pt x="2036" y="405"/>
                  <a:pt x="2114" y="408"/>
                </a:cubicBezTo>
                <a:cubicBezTo>
                  <a:pt x="2174" y="413"/>
                  <a:pt x="2136" y="395"/>
                  <a:pt x="2194" y="388"/>
                </a:cubicBezTo>
                <a:cubicBezTo>
                  <a:pt x="2208" y="386"/>
                  <a:pt x="2356" y="326"/>
                  <a:pt x="2370" y="324"/>
                </a:cubicBezTo>
                <a:cubicBezTo>
                  <a:pt x="2388" y="322"/>
                  <a:pt x="2566" y="148"/>
                  <a:pt x="2566" y="148"/>
                </a:cubicBezTo>
              </a:path>
            </a:pathLst>
          </a:custGeom>
          <a:noFill/>
          <a:ln w="93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677960" y="2235240"/>
            <a:ext cx="4265640" cy="1938240"/>
          </a:xfrm>
          <a:custGeom>
            <a:avLst/>
            <a:gdLst/>
            <a:ahLst/>
            <a:rect l="l" t="t" r="r" b="b"/>
            <a:pathLst>
              <a:path w="2534" h="984">
                <a:moveTo>
                  <a:pt x="0" y="984"/>
                </a:moveTo>
                <a:cubicBezTo>
                  <a:pt x="101" y="948"/>
                  <a:pt x="265" y="961"/>
                  <a:pt x="354" y="958"/>
                </a:cubicBezTo>
                <a:cubicBezTo>
                  <a:pt x="392" y="945"/>
                  <a:pt x="371" y="957"/>
                  <a:pt x="414" y="915"/>
                </a:cubicBezTo>
                <a:cubicBezTo>
                  <a:pt x="420" y="910"/>
                  <a:pt x="432" y="898"/>
                  <a:pt x="432" y="898"/>
                </a:cubicBezTo>
                <a:cubicBezTo>
                  <a:pt x="436" y="892"/>
                  <a:pt x="454" y="818"/>
                  <a:pt x="462" y="789"/>
                </a:cubicBezTo>
                <a:cubicBezTo>
                  <a:pt x="470" y="761"/>
                  <a:pt x="469" y="758"/>
                  <a:pt x="478" y="726"/>
                </a:cubicBezTo>
                <a:cubicBezTo>
                  <a:pt x="487" y="695"/>
                  <a:pt x="502" y="645"/>
                  <a:pt x="514" y="600"/>
                </a:cubicBezTo>
                <a:cubicBezTo>
                  <a:pt x="526" y="556"/>
                  <a:pt x="536" y="519"/>
                  <a:pt x="550" y="463"/>
                </a:cubicBezTo>
                <a:cubicBezTo>
                  <a:pt x="562" y="406"/>
                  <a:pt x="575" y="280"/>
                  <a:pt x="598" y="268"/>
                </a:cubicBezTo>
                <a:cubicBezTo>
                  <a:pt x="626" y="208"/>
                  <a:pt x="634" y="205"/>
                  <a:pt x="682" y="188"/>
                </a:cubicBezTo>
                <a:cubicBezTo>
                  <a:pt x="754" y="197"/>
                  <a:pt x="840" y="322"/>
                  <a:pt x="902" y="380"/>
                </a:cubicBezTo>
                <a:cubicBezTo>
                  <a:pt x="974" y="468"/>
                  <a:pt x="1059" y="474"/>
                  <a:pt x="1130" y="524"/>
                </a:cubicBezTo>
                <a:cubicBezTo>
                  <a:pt x="1167" y="550"/>
                  <a:pt x="1239" y="541"/>
                  <a:pt x="1282" y="544"/>
                </a:cubicBezTo>
                <a:cubicBezTo>
                  <a:pt x="1348" y="550"/>
                  <a:pt x="1386" y="496"/>
                  <a:pt x="1598" y="392"/>
                </a:cubicBezTo>
                <a:cubicBezTo>
                  <a:pt x="2310" y="140"/>
                  <a:pt x="1702" y="352"/>
                  <a:pt x="1842" y="304"/>
                </a:cubicBezTo>
                <a:cubicBezTo>
                  <a:pt x="1926" y="274"/>
                  <a:pt x="2006" y="248"/>
                  <a:pt x="2090" y="224"/>
                </a:cubicBezTo>
                <a:cubicBezTo>
                  <a:pt x="2134" y="204"/>
                  <a:pt x="2076" y="215"/>
                  <a:pt x="2134" y="204"/>
                </a:cubicBezTo>
                <a:cubicBezTo>
                  <a:pt x="2148" y="202"/>
                  <a:pt x="2276" y="151"/>
                  <a:pt x="2290" y="148"/>
                </a:cubicBezTo>
                <a:cubicBezTo>
                  <a:pt x="2308" y="145"/>
                  <a:pt x="2534" y="0"/>
                  <a:pt x="2534" y="0"/>
                </a:cubicBezTo>
              </a:path>
            </a:pathLst>
          </a:custGeom>
          <a:noFill/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501880" y="3760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5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033640" y="4465800"/>
            <a:ext cx="4060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272400" y="44496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  <a:ea typeface="Arial"/>
              </a:rPr>
              <a:t>séjour en al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468120" y="46195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rot="16200000">
            <a:off x="117360" y="325368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signes de maladap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74920" y="31305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cc"/>
                </a:solidFill>
                <a:latin typeface="Verdana"/>
                <a:ea typeface="Arial"/>
              </a:rPr>
              <a:t>6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55800" y="2239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  <a:ea typeface="Arial"/>
              </a:rPr>
              <a:t>8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ffet à moyen et long terme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43480" y="431640"/>
            <a:ext cx="3241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93200" y="824040"/>
            <a:ext cx="57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variations temporelles des signes de mal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" y="530712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5000 m : limite de la vie permanente possible (espèce huma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hysiologie respirato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772080" y="431640"/>
            <a:ext cx="21747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4960" y="1395360"/>
            <a:ext cx="57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sultats différents selon les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érique latine : hauts plateaux andins (3500-4000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sie : hauts plateaux tibétains (3500-4000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frique : hauts plateaux ethiopiens (3500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819080" y="43419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tudes : en général, populations and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8160" y="928800"/>
            <a:ext cx="756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aractéristiques de l’air et de l’eau en relation avec la respirati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ir et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1438200"/>
            <a:ext cx="8173800" cy="32749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    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milieu aquatique        milieu a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ncentration en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l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7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2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densité (kg.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viscosité (cP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oefficient de diffusion D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O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 (cm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. s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2,5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5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,98 10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haleur spécifique (cal. 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.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°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  <a:ea typeface="Arial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)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000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litre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kg de milieu par litre 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143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0,00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760" y="3314880"/>
            <a:ext cx="8559720" cy="279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6880" y="4916520"/>
            <a:ext cx="785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échanges thermiques sont plus importants dans l’eau que dans l’air : problème de la température corpor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 milieu aérien déshydrate : problème des pertes hyd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interdépendance des fonctions physiolog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97520" y="956160"/>
            <a:ext cx="290556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et PC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ans le s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593640" y="2755800"/>
          <a:ext cx="7381800" cy="1339920"/>
        </p:xfrm>
        <a:graphic>
          <a:graphicData uri="http://schemas.openxmlformats.org/drawingml/2006/table">
            <a:tbl>
              <a:tblPr/>
              <a:tblGrid>
                <a:gridCol w="1811520"/>
                <a:gridCol w="1811160"/>
                <a:gridCol w="1811520"/>
                <a:gridCol w="1947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ltitu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B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O</a:t>
                      </a:r>
                      <a:r>
                        <a:rPr b="0" lang="en-GB" sz="1600" spc="-1" strike="noStrike" baseline="-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CO</a:t>
                      </a:r>
                      <a:r>
                        <a:rPr b="0" lang="en-GB" sz="1600" spc="-1" strike="noStrike" baseline="-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(mm H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2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6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00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4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1" name=""/>
          <p:cNvSpPr/>
          <p:nvPr/>
        </p:nvSpPr>
        <p:spPr>
          <a:xfrm>
            <a:off x="593640" y="1751040"/>
            <a:ext cx="724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pression atmosphérique (PB), P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 artérielle (Pa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) et PC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 artérielle (PaC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) moyennes à La Paz, en fonction de l’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97480" y="4897440"/>
            <a:ext cx="695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iminution des pressions partielles dans le sang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et en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90680" y="1057320"/>
            <a:ext cx="251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ponse à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au C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42040" y="4154400"/>
            <a:ext cx="9180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025960" y="4003560"/>
            <a:ext cx="9072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346720" y="4159080"/>
            <a:ext cx="82440" cy="9540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029200" y="4008600"/>
            <a:ext cx="84240" cy="9504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755880" y="3854520"/>
            <a:ext cx="9216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803760" y="3906720"/>
            <a:ext cx="1268280" cy="150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760920" y="3859200"/>
            <a:ext cx="82440" cy="93600"/>
          </a:xfrm>
          <a:prstGeom prst="rect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80144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43648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070080" y="45975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67956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31460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94964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583600" y="4597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80520" y="4376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280520" y="4073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192680" y="37735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192680" y="3475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192680" y="31734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192680" y="2871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192680" y="25732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192680" y="2271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192680" y="1969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192680" y="1671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158256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18986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221616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253368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285120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3166920" y="4506480"/>
            <a:ext cx="32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348444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80376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4119480" y="4506480"/>
            <a:ext cx="180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4437000" y="4506480"/>
            <a:ext cx="180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475308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50720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5388120" y="4506480"/>
            <a:ext cx="1440" cy="33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5705640" y="4506480"/>
            <a:ext cx="1440" cy="65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582560" y="4506840"/>
            <a:ext cx="41230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525680" y="450684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552680" y="4357800"/>
            <a:ext cx="29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525680" y="4205160"/>
            <a:ext cx="56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552680" y="4057560"/>
            <a:ext cx="29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525680" y="390672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552680" y="3755880"/>
            <a:ext cx="29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25680" y="360504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552680" y="3454560"/>
            <a:ext cx="298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25680" y="3306600"/>
            <a:ext cx="568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52680" y="315612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25680" y="300528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52680" y="285444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25680" y="270360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52680" y="255600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25680" y="2401920"/>
            <a:ext cx="568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52680" y="225432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25680" y="210348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52680" y="1952640"/>
            <a:ext cx="29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525680" y="1801800"/>
            <a:ext cx="568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1582560" y="1784520"/>
            <a:ext cx="1800" cy="27223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98640" y="1952640"/>
            <a:ext cx="317520" cy="603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216160" y="2556000"/>
            <a:ext cx="539640" cy="1199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755800" y="3755880"/>
            <a:ext cx="1047960" cy="150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072040" y="4057560"/>
            <a:ext cx="316080" cy="147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852560" y="1901880"/>
            <a:ext cx="92160" cy="1029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71880" y="2502000"/>
            <a:ext cx="9036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709720" y="3705120"/>
            <a:ext cx="92160" cy="1033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898640" y="3454560"/>
            <a:ext cx="317520" cy="15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216160" y="3454560"/>
            <a:ext cx="539640" cy="452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755800" y="3906720"/>
            <a:ext cx="104796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852560" y="3552840"/>
            <a:ext cx="921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171880" y="3403440"/>
            <a:ext cx="903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09720" y="3854520"/>
            <a:ext cx="92160" cy="1047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898640" y="4057560"/>
            <a:ext cx="317520" cy="18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2216160" y="3906360"/>
            <a:ext cx="539640" cy="15084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857240" y="4008600"/>
            <a:ext cx="82800" cy="9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174760" y="4008600"/>
            <a:ext cx="84240" cy="9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14760" y="3859200"/>
            <a:ext cx="82440" cy="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0280" y="2371680"/>
            <a:ext cx="38124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643200" y="2317680"/>
            <a:ext cx="93600" cy="10476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500280" y="2603520"/>
            <a:ext cx="381240" cy="3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643200" y="2552760"/>
            <a:ext cx="9360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500280" y="2838600"/>
            <a:ext cx="381240" cy="144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649680" y="2792520"/>
            <a:ext cx="81000" cy="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587680" y="4782960"/>
            <a:ext cx="193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Verdana"/>
                <a:ea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rot="16200000">
            <a:off x="-166320" y="29988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57840" y="210996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niveau de la 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061880" y="236376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altitude (3600 m)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963240" y="259092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natif altitude (3600 m)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vec polyglobulie path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84080" y="52308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yperventilation moins marquée que chez les sujets acclimat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aible réponse ventilatoire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2568600" y="1719360"/>
            <a:ext cx="539640" cy="185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031840" y="3220920"/>
            <a:ext cx="540000" cy="352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114720" y="3287880"/>
            <a:ext cx="539640" cy="28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368360" y="1592280"/>
            <a:ext cx="4452840" cy="1990800"/>
          </a:xfrm>
          <a:custGeom>
            <a:avLst/>
            <a:gdLst/>
            <a:ahLst/>
            <a:rect l="l" t="t" r="r" b="b"/>
            <a:pathLst>
              <a:path w="2769" h="1254">
                <a:moveTo>
                  <a:pt x="0" y="0"/>
                </a:moveTo>
                <a:lnTo>
                  <a:pt x="64" y="0"/>
                </a:lnTo>
                <a:lnTo>
                  <a:pt x="64" y="1248"/>
                </a:lnTo>
                <a:lnTo>
                  <a:pt x="2768" y="1248"/>
                </a:lnTo>
                <a:lnTo>
                  <a:pt x="2769" y="1254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2562120" y="3575160"/>
            <a:ext cx="3270240" cy="128520"/>
            <a:chOff x="2562120" y="3575160"/>
            <a:chExt cx="3270240" cy="128520"/>
          </a:xfrm>
        </p:grpSpPr>
        <p:sp>
          <p:nvSpPr>
            <p:cNvPr id="2073" name=""/>
            <p:cNvSpPr/>
            <p:nvPr/>
          </p:nvSpPr>
          <p:spPr>
            <a:xfrm>
              <a:off x="2562120" y="358308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64080" y="358020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746600" y="357516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832360" y="357876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"/>
          <p:cNvSpPr/>
          <p:nvPr/>
        </p:nvSpPr>
        <p:spPr>
          <a:xfrm flipH="1">
            <a:off x="1349280" y="207972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1355400" y="257508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944640" y="14414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944640" y="1911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944640" y="2406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944640" y="2901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1342800" y="307008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342800" y="357192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983240" y="397656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débit respiratoire au repos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rot="16200000">
            <a:off x="-277920" y="237168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90680" y="1057320"/>
            <a:ext cx="251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ponse à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au C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478880" y="3706920"/>
            <a:ext cx="44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1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2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3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  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535640" y="22035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41640" y="2195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it ventilatoire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"/>
          <p:cNvSpPr/>
          <p:nvPr/>
        </p:nvSpPr>
        <p:spPr>
          <a:xfrm>
            <a:off x="2568600" y="1719360"/>
            <a:ext cx="539640" cy="185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031840" y="3220920"/>
            <a:ext cx="540000" cy="352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114720" y="3287880"/>
            <a:ext cx="539640" cy="28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368360" y="1592280"/>
            <a:ext cx="4452840" cy="1990800"/>
          </a:xfrm>
          <a:custGeom>
            <a:avLst/>
            <a:gdLst/>
            <a:ahLst/>
            <a:rect l="l" t="t" r="r" b="b"/>
            <a:pathLst>
              <a:path w="2769" h="1254">
                <a:moveTo>
                  <a:pt x="0" y="0"/>
                </a:moveTo>
                <a:lnTo>
                  <a:pt x="64" y="0"/>
                </a:lnTo>
                <a:lnTo>
                  <a:pt x="64" y="1248"/>
                </a:lnTo>
                <a:lnTo>
                  <a:pt x="2768" y="1248"/>
                </a:lnTo>
                <a:lnTo>
                  <a:pt x="2769" y="1254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2562120" y="3575160"/>
            <a:ext cx="3270240" cy="128520"/>
            <a:chOff x="2562120" y="3575160"/>
            <a:chExt cx="3270240" cy="128520"/>
          </a:xfrm>
        </p:grpSpPr>
        <p:sp>
          <p:nvSpPr>
            <p:cNvPr id="2099" name=""/>
            <p:cNvSpPr/>
            <p:nvPr/>
          </p:nvSpPr>
          <p:spPr>
            <a:xfrm>
              <a:off x="2562120" y="358308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664080" y="358020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746600" y="357516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832360" y="3578760"/>
              <a:ext cx="0" cy="1206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3" name=""/>
          <p:cNvSpPr/>
          <p:nvPr/>
        </p:nvSpPr>
        <p:spPr>
          <a:xfrm flipH="1">
            <a:off x="1366560" y="419904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1373040" y="469440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2576520" y="5681520"/>
            <a:ext cx="3270240" cy="128880"/>
            <a:chOff x="2576520" y="5681520"/>
            <a:chExt cx="3270240" cy="128880"/>
          </a:xfrm>
        </p:grpSpPr>
        <p:sp>
          <p:nvSpPr>
            <p:cNvPr id="2106" name=""/>
            <p:cNvSpPr/>
            <p:nvPr/>
          </p:nvSpPr>
          <p:spPr>
            <a:xfrm>
              <a:off x="2576520" y="5689440"/>
              <a:ext cx="0" cy="120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678480" y="5686560"/>
              <a:ext cx="0" cy="120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761000" y="5681520"/>
              <a:ext cx="0" cy="120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846760" y="5685120"/>
              <a:ext cx="0" cy="1209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0" name=""/>
          <p:cNvSpPr/>
          <p:nvPr/>
        </p:nvSpPr>
        <p:spPr>
          <a:xfrm>
            <a:off x="3678120" y="5008680"/>
            <a:ext cx="540000" cy="677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214880" y="5338800"/>
            <a:ext cx="539640" cy="357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751280" y="5576760"/>
            <a:ext cx="540000" cy="109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132000" y="5122800"/>
            <a:ext cx="540000" cy="573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576520" y="5342040"/>
            <a:ext cx="552600" cy="353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30400" y="5303880"/>
            <a:ext cx="53964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84280" y="5618160"/>
            <a:ext cx="539640" cy="7776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9520" y="3710160"/>
            <a:ext cx="4452840" cy="1990440"/>
          </a:xfrm>
          <a:custGeom>
            <a:avLst/>
            <a:gdLst/>
            <a:ahLst/>
            <a:rect l="l" t="t" r="r" b="b"/>
            <a:pathLst>
              <a:path w="2769" h="1254">
                <a:moveTo>
                  <a:pt x="0" y="0"/>
                </a:moveTo>
                <a:lnTo>
                  <a:pt x="64" y="0"/>
                </a:lnTo>
                <a:lnTo>
                  <a:pt x="64" y="1248"/>
                </a:lnTo>
                <a:lnTo>
                  <a:pt x="2768" y="1248"/>
                </a:lnTo>
                <a:lnTo>
                  <a:pt x="2769" y="1254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478880" y="5776920"/>
            <a:ext cx="44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1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2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30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       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962280" y="3560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962280" y="4030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962280" y="45259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962280" y="5021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1360440" y="518940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H="1">
            <a:off x="1360440" y="569124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1349280" y="2079720"/>
            <a:ext cx="1144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1355400" y="257508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944640" y="14414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944640" y="1911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944640" y="2406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944640" y="2901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1342800" y="307008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H="1">
            <a:off x="1342800" y="3571920"/>
            <a:ext cx="11412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983240" y="617364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débit respiratoire au repos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rot="16200000">
            <a:off x="-277920" y="237168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rot="16200000">
            <a:off x="-265320" y="464184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535640" y="22035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559760" y="41972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</a:rPr>
              <a:t>Tibé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754240" y="41893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it ventilatoire éle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741640" y="2195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it ventilatoire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0680" y="1057320"/>
            <a:ext cx="251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ponse à l’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au C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/>
          <p:nvPr/>
        </p:nvSpPr>
        <p:spPr>
          <a:xfrm>
            <a:off x="786960" y="1804320"/>
            <a:ext cx="57920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normal, niveau de la mer :40 à 4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normal, habitants de La Paz : jusqu’à 5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olyglobulie pathologique (polycythémie) : jusqu’à 8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olyglobulie pathologique d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82040" y="10573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ématoc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84080" y="52308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lyglobulie « normale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cas de polyglobulie path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35200" y="4019400"/>
            <a:ext cx="45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oncentration d’hémoglobine (g/100 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79160" y="10573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ncentration en 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535640" y="22035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740200" y="2182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684080" y="37321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        15        20        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146480" y="3521160"/>
            <a:ext cx="0" cy="90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084320" y="140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084320" y="2055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084320" y="2722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204920" y="3344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63760" y="1573200"/>
            <a:ext cx="2684520" cy="2042640"/>
            <a:chOff x="1463760" y="1573200"/>
            <a:chExt cx="2684520" cy="2042640"/>
          </a:xfrm>
        </p:grpSpPr>
        <p:sp>
          <p:nvSpPr>
            <p:cNvPr id="2164" name=""/>
            <p:cNvSpPr/>
            <p:nvPr/>
          </p:nvSpPr>
          <p:spPr>
            <a:xfrm>
              <a:off x="242568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467000" y="2874600"/>
              <a:ext cx="903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468440" y="223344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63760" y="157608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555920" y="3519360"/>
              <a:ext cx="0" cy="90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8320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14684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111480" y="2558880"/>
              <a:ext cx="173160" cy="964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34000" y="2107800"/>
              <a:ext cx="172800" cy="1415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62280" y="1930320"/>
              <a:ext cx="173160" cy="1593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590920" y="2742840"/>
              <a:ext cx="173160" cy="78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270240" y="2787480"/>
              <a:ext cx="173160" cy="736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448080" y="3282840"/>
              <a:ext cx="173160" cy="24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95840" y="3304800"/>
              <a:ext cx="173160" cy="218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613320" y="3126960"/>
              <a:ext cx="173160" cy="396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425680" y="3016080"/>
              <a:ext cx="173160" cy="507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54320" y="3428640"/>
              <a:ext cx="173160" cy="95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559160" y="1573200"/>
              <a:ext cx="2589120" cy="1952280"/>
            </a:xfrm>
            <a:custGeom>
              <a:avLst/>
              <a:gdLst/>
              <a:ahLst/>
              <a:rect l="l" t="t" r="r" b="b"/>
              <a:pathLst>
                <a:path w="2727" h="1230">
                  <a:moveTo>
                    <a:pt x="0" y="0"/>
                  </a:moveTo>
                  <a:lnTo>
                    <a:pt x="0" y="1230"/>
                  </a:lnTo>
                  <a:lnTo>
                    <a:pt x="2727" y="123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2" name=""/>
          <p:cNvSpPr/>
          <p:nvPr/>
        </p:nvSpPr>
        <p:spPr>
          <a:xfrm rot="16200000">
            <a:off x="-203400" y="2385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rot="16200000">
            <a:off x="-201600" y="482292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835200" y="62676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oncentration d’hémoglobine (g/100 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79160" y="10573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ncentration en 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535640" y="22035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740200" y="2182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42568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1467000" y="527796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1468440" y="4637160"/>
            <a:ext cx="9036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463760" y="397944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555920" y="5923080"/>
            <a:ext cx="0" cy="90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8284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14648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432160" y="4095720"/>
            <a:ext cx="172800" cy="1828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260440" y="4384800"/>
            <a:ext cx="173160" cy="1542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9080" y="4295880"/>
            <a:ext cx="173160" cy="1631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917720" y="5603760"/>
            <a:ext cx="173160" cy="324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603520" y="5064120"/>
            <a:ext cx="173160" cy="863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774880" y="5388120"/>
            <a:ext cx="173160" cy="539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940120" y="5816520"/>
            <a:ext cx="172800" cy="111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11480" y="5753160"/>
            <a:ext cx="173160" cy="174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684080" y="597996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        15        20        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084320" y="3809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084320" y="4464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084320" y="5130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1467000" y="592560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204920" y="5753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558800" y="3976560"/>
            <a:ext cx="2589480" cy="1952640"/>
          </a:xfrm>
          <a:custGeom>
            <a:avLst/>
            <a:gdLst/>
            <a:ahLst/>
            <a:rect l="l" t="t" r="r" b="b"/>
            <a:pathLst>
              <a:path w="2727" h="1230">
                <a:moveTo>
                  <a:pt x="0" y="0"/>
                </a:moveTo>
                <a:lnTo>
                  <a:pt x="0" y="1230"/>
                </a:lnTo>
                <a:lnTo>
                  <a:pt x="2727" y="1230"/>
                </a:ln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46480" y="3521160"/>
            <a:ext cx="0" cy="90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084320" y="140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084320" y="2055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084320" y="2722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204920" y="3344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1463760" y="1573200"/>
            <a:ext cx="2684520" cy="2042640"/>
            <a:chOff x="1463760" y="1573200"/>
            <a:chExt cx="2684520" cy="2042640"/>
          </a:xfrm>
        </p:grpSpPr>
        <p:sp>
          <p:nvSpPr>
            <p:cNvPr id="2219" name=""/>
            <p:cNvSpPr/>
            <p:nvPr/>
          </p:nvSpPr>
          <p:spPr>
            <a:xfrm>
              <a:off x="242568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67000" y="2874600"/>
              <a:ext cx="903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8440" y="223344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3760" y="157608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555920" y="3519360"/>
              <a:ext cx="0" cy="90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28320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84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111480" y="2558880"/>
              <a:ext cx="173160" cy="964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934000" y="2107800"/>
              <a:ext cx="172800" cy="1415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62280" y="1930320"/>
              <a:ext cx="173160" cy="1593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590920" y="2742840"/>
              <a:ext cx="173160" cy="78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270240" y="2787480"/>
              <a:ext cx="173160" cy="736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448080" y="3282840"/>
              <a:ext cx="173160" cy="24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795840" y="3304800"/>
              <a:ext cx="173160" cy="218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613320" y="3126960"/>
              <a:ext cx="173160" cy="396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425680" y="3016080"/>
              <a:ext cx="173160" cy="507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254320" y="3428640"/>
              <a:ext cx="173160" cy="95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59160" y="1573200"/>
              <a:ext cx="2589120" cy="1952280"/>
            </a:xfrm>
            <a:custGeom>
              <a:avLst/>
              <a:gdLst/>
              <a:ahLst/>
              <a:rect l="l" t="t" r="r" b="b"/>
              <a:pathLst>
                <a:path w="2727" h="1230">
                  <a:moveTo>
                    <a:pt x="0" y="0"/>
                  </a:moveTo>
                  <a:lnTo>
                    <a:pt x="0" y="1230"/>
                  </a:lnTo>
                  <a:lnTo>
                    <a:pt x="2727" y="123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7" name=""/>
          <p:cNvSpPr/>
          <p:nvPr/>
        </p:nvSpPr>
        <p:spPr>
          <a:xfrm>
            <a:off x="4559760" y="41972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</a:rPr>
              <a:t>Tibé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753520" y="41767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rot="16200000">
            <a:off x="-203400" y="2385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rot="16200000">
            <a:off x="-201600" y="482292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35200" y="6267600"/>
            <a:ext cx="42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oncentration d’hémoglobine (g/10 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79160" y="10573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ncentration en 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535640" y="220356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An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740200" y="2182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42568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1467000" y="527796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1468440" y="4637160"/>
            <a:ext cx="9036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1463760" y="397944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555920" y="5923080"/>
            <a:ext cx="0" cy="90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8284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146480" y="5929200"/>
            <a:ext cx="0" cy="907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432160" y="4095720"/>
            <a:ext cx="172800" cy="1828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260440" y="4384800"/>
            <a:ext cx="173160" cy="1542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089080" y="4295880"/>
            <a:ext cx="173160" cy="1631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917720" y="5603760"/>
            <a:ext cx="173160" cy="324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603520" y="5064120"/>
            <a:ext cx="173160" cy="863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774880" y="5388120"/>
            <a:ext cx="173160" cy="539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940120" y="5816520"/>
            <a:ext cx="172800" cy="111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111480" y="5753160"/>
            <a:ext cx="173160" cy="174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84080" y="597996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        15        20        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084320" y="3809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084320" y="4464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084320" y="5130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1467000" y="5925600"/>
            <a:ext cx="90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204920" y="5753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558800" y="3976560"/>
            <a:ext cx="2589480" cy="1952640"/>
          </a:xfrm>
          <a:custGeom>
            <a:avLst/>
            <a:gdLst/>
            <a:ahLst/>
            <a:rect l="l" t="t" r="r" b="b"/>
            <a:pathLst>
              <a:path w="2727" h="1230">
                <a:moveTo>
                  <a:pt x="0" y="0"/>
                </a:moveTo>
                <a:lnTo>
                  <a:pt x="0" y="1230"/>
                </a:lnTo>
                <a:lnTo>
                  <a:pt x="2727" y="1230"/>
                </a:ln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146480" y="3521160"/>
            <a:ext cx="0" cy="903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084320" y="140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084320" y="2055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084320" y="27226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204920" y="3344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1463760" y="1573200"/>
            <a:ext cx="2684520" cy="2042640"/>
            <a:chOff x="1463760" y="1573200"/>
            <a:chExt cx="2684520" cy="2042640"/>
          </a:xfrm>
        </p:grpSpPr>
        <p:sp>
          <p:nvSpPr>
            <p:cNvPr id="2276" name=""/>
            <p:cNvSpPr/>
            <p:nvPr/>
          </p:nvSpPr>
          <p:spPr>
            <a:xfrm>
              <a:off x="242568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67000" y="2874600"/>
              <a:ext cx="903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68440" y="223344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63760" y="1576080"/>
              <a:ext cx="907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555920" y="3519360"/>
              <a:ext cx="0" cy="90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28320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46840" y="3525480"/>
              <a:ext cx="0" cy="90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111480" y="2558880"/>
              <a:ext cx="173160" cy="964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934000" y="2107800"/>
              <a:ext cx="172800" cy="1415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762280" y="1930320"/>
              <a:ext cx="173160" cy="1593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590920" y="2742840"/>
              <a:ext cx="173160" cy="78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270240" y="2787480"/>
              <a:ext cx="173160" cy="736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448080" y="3282840"/>
              <a:ext cx="173160" cy="24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95840" y="3304800"/>
              <a:ext cx="173160" cy="218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613320" y="3126960"/>
              <a:ext cx="173160" cy="396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425680" y="3016080"/>
              <a:ext cx="173160" cy="507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254320" y="3428640"/>
              <a:ext cx="173160" cy="95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59160" y="1573200"/>
              <a:ext cx="2589120" cy="1952280"/>
            </a:xfrm>
            <a:custGeom>
              <a:avLst/>
              <a:gdLst/>
              <a:ahLst/>
              <a:rect l="l" t="t" r="r" b="b"/>
              <a:pathLst>
                <a:path w="2727" h="1230">
                  <a:moveTo>
                    <a:pt x="0" y="0"/>
                  </a:moveTo>
                  <a:lnTo>
                    <a:pt x="0" y="1230"/>
                  </a:lnTo>
                  <a:lnTo>
                    <a:pt x="2727" y="123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4560120" y="4197240"/>
            <a:ext cx="117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80"/>
                </a:solidFill>
                <a:latin typeface="Verdana"/>
              </a:rPr>
              <a:t>Tibé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Verdana"/>
              </a:rPr>
              <a:t>Éthiopi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753520" y="417672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rot="16200000">
            <a:off x="-203400" y="2385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% populat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753520" y="4672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olycyth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451240" y="3984480"/>
            <a:ext cx="0" cy="1933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érythropoïè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772080" y="431640"/>
            <a:ext cx="2962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2" name="" descr=""/>
          <p:cNvPicPr/>
          <p:nvPr/>
        </p:nvPicPr>
        <p:blipFill>
          <a:blip r:embed="rId1"/>
          <a:stretch/>
        </p:blipFill>
        <p:spPr>
          <a:xfrm>
            <a:off x="9360" y="6026040"/>
            <a:ext cx="9126720" cy="831960"/>
          </a:xfrm>
          <a:prstGeom prst="rect">
            <a:avLst/>
          </a:prstGeom>
          <a:ln w="0">
            <a:noFill/>
          </a:ln>
        </p:spPr>
      </p:pic>
      <p:sp>
        <p:nvSpPr>
          <p:cNvPr id="2303" name=""/>
          <p:cNvSpPr/>
          <p:nvPr/>
        </p:nvSpPr>
        <p:spPr>
          <a:xfrm>
            <a:off x="179280" y="6588000"/>
            <a:ext cx="4392720" cy="1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ff"/>
                </a:solidFill>
                <a:latin typeface="Times New Roman"/>
              </a:rPr>
              <a:t>Copyright ©2002 by the National Academy of Sci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4" name="" descr=""/>
          <p:cNvPicPr/>
          <p:nvPr/>
        </p:nvPicPr>
        <p:blipFill>
          <a:blip r:embed="rId2"/>
          <a:stretch/>
        </p:blipFill>
        <p:spPr>
          <a:xfrm>
            <a:off x="378000" y="1450800"/>
            <a:ext cx="5395680" cy="3942000"/>
          </a:xfrm>
          <a:prstGeom prst="rect">
            <a:avLst/>
          </a:prstGeom>
          <a:ln w="0">
            <a:noFill/>
          </a:ln>
        </p:spPr>
      </p:pic>
      <p:sp>
        <p:nvSpPr>
          <p:cNvPr id="2305" name=""/>
          <p:cNvSpPr/>
          <p:nvPr/>
        </p:nvSpPr>
        <p:spPr>
          <a:xfrm>
            <a:off x="277200" y="9349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% de saturation en oxygène de l’hémoglobine artér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921280" y="1965240"/>
            <a:ext cx="24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mbaras :  95,3 ± 0,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leveland : 96,7 ± 0,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932080" y="30700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émoglobin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501360" y="5994360"/>
            <a:ext cx="56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NAS |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ecember 24, 2002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| vol. 99 | no. 26 |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17215-17218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diffusion alvéolo-capil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772080" y="431640"/>
            <a:ext cx="1780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2" name=""/>
          <p:cNvGraphicFramePr/>
          <p:nvPr/>
        </p:nvGraphicFramePr>
        <p:xfrm>
          <a:off x="797040" y="2809800"/>
          <a:ext cx="5848200" cy="1005120"/>
        </p:xfrm>
        <a:graphic>
          <a:graphicData uri="http://schemas.openxmlformats.org/drawingml/2006/table">
            <a:tbl>
              <a:tblPr/>
              <a:tblGrid>
                <a:gridCol w="1949040"/>
                <a:gridCol w="1949760"/>
                <a:gridCol w="194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i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arç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niveau de la 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,7 ± 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7,1 ± 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a P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3,1 ± 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4,2 ± 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3" name=""/>
          <p:cNvSpPr/>
          <p:nvPr/>
        </p:nvSpPr>
        <p:spPr>
          <a:xfrm>
            <a:off x="622440" y="1687680"/>
            <a:ext cx="76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iffusion alvéolo-capillaire (DL</a:t>
            </a:r>
            <a:r>
              <a:rPr b="0" lang="fr-FR" sz="1600" spc="-1" strike="noStrike" baseline="30000">
                <a:solidFill>
                  <a:srgbClr val="990000"/>
                </a:solidFill>
                <a:latin typeface="Verdana"/>
                <a:ea typeface="Arial"/>
              </a:rPr>
              <a:t>CO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, ml/min/mmHg) corrigées en fonction de la concentration en hémoglobine chez les enfants au niveau de la mer et en altitude (la Pa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55480" y="4570560"/>
            <a:ext cx="53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ugmentation de la diffusion alvéolo-capill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68160" y="928800"/>
            <a:ext cx="756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aractéristiques de l’air et de l’eau en relation avec la respiration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l’air et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31640"/>
            <a:ext cx="4003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500120"/>
            <a:ext cx="7854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 captation d’oxygène à partir de l’air est moins « coûteuse » qu’à partir de l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vantage adaptatif d’une respiration aérienne, y compris pour des animaux à vie aqu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igine du poumon : « Poissons »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u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essie nat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rganes homo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 poumon dérive-t-il de la vessie natatoi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olume pulmon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772080" y="431640"/>
            <a:ext cx="2089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109960" y="2166840"/>
            <a:ext cx="214200" cy="243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529000" y="2092320"/>
            <a:ext cx="214200" cy="250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760840" y="2500200"/>
            <a:ext cx="215640" cy="2102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290760" y="2720880"/>
            <a:ext cx="214560" cy="18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500280" y="2571840"/>
            <a:ext cx="214560" cy="203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720960" y="2759040"/>
            <a:ext cx="217800" cy="18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941640" y="2905200"/>
            <a:ext cx="216000" cy="1697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357800" y="3313080"/>
            <a:ext cx="215640" cy="128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578480" y="3129120"/>
            <a:ext cx="217440" cy="14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788000" y="3241800"/>
            <a:ext cx="21744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019840" y="3537000"/>
            <a:ext cx="217440" cy="10652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424480" y="3979800"/>
            <a:ext cx="216000" cy="62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634000" y="3943440"/>
            <a:ext cx="2160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843520" y="3905280"/>
            <a:ext cx="216000" cy="69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075360" y="4129200"/>
            <a:ext cx="217440" cy="473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461600" y="44845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461600" y="3892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461600" y="3300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461600" y="27082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461600" y="2116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682640" y="4606920"/>
            <a:ext cx="637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12880" y="4309920"/>
            <a:ext cx="334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682640" y="401472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712880" y="371808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82640" y="342252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712880" y="31240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1682640" y="2828880"/>
            <a:ext cx="6372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712880" y="25336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682640" y="223668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712880" y="194004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1746360" y="1949400"/>
            <a:ext cx="1440" cy="26575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200680" y="14731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365280" y="198288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485960" y="26193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51920" y="3300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88160" y="46022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b c  d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a b c  d    a b c  d     a b c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336280" y="126684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, b, c : nés à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nés à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419160" y="2114640"/>
            <a:ext cx="1476000" cy="106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: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b : 420 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 : 420 m J +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rot="16200000">
            <a:off x="109800" y="283212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olum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319480" y="2054160"/>
            <a:ext cx="214200" cy="254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862280" y="4605480"/>
            <a:ext cx="52909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69680" y="5035680"/>
            <a:ext cx="596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pulmonaire totale (C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vitale (CV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capacité résiduelle fonctionnelle (CRF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volume résiduel (V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mesurés chez des personnes nées en haute et basse al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volume pulmon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772080" y="431640"/>
            <a:ext cx="2089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109960" y="2166840"/>
            <a:ext cx="214200" cy="243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529000" y="2092320"/>
            <a:ext cx="214200" cy="250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760840" y="2500200"/>
            <a:ext cx="215640" cy="2102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90760" y="2720880"/>
            <a:ext cx="214560" cy="188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00280" y="2571840"/>
            <a:ext cx="214560" cy="203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720960" y="2759040"/>
            <a:ext cx="217800" cy="18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941640" y="2905200"/>
            <a:ext cx="216000" cy="1697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357800" y="3313080"/>
            <a:ext cx="215640" cy="128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578480" y="3129120"/>
            <a:ext cx="217440" cy="14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788000" y="3241800"/>
            <a:ext cx="21744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9840" y="3537000"/>
            <a:ext cx="217440" cy="10652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424480" y="3979800"/>
            <a:ext cx="216000" cy="62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634000" y="3943440"/>
            <a:ext cx="2160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843520" y="3905280"/>
            <a:ext cx="216000" cy="69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075360" y="4129200"/>
            <a:ext cx="217440" cy="47304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461600" y="44845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461600" y="3892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461600" y="3300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461600" y="27082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461600" y="2116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682640" y="4606920"/>
            <a:ext cx="637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712880" y="4309920"/>
            <a:ext cx="334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682640" y="401472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712880" y="371808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682640" y="342252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712880" y="31240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682640" y="2828880"/>
            <a:ext cx="6372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712880" y="2533680"/>
            <a:ext cx="334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682640" y="2236680"/>
            <a:ext cx="637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712880" y="1940040"/>
            <a:ext cx="33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746360" y="1949400"/>
            <a:ext cx="1440" cy="26575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200680" y="14731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365280" y="198288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4485960" y="26193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551920" y="3300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288160" y="46022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b c  d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a b c  d    a b c  d     a b c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336280" y="126684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, b, c : nés à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nés à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419160" y="2114640"/>
            <a:ext cx="1476000" cy="106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a : 36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b : 420 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 : 420 m J +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d : 42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rot="16200000">
            <a:off x="109800" y="283212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olume 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319480" y="2054160"/>
            <a:ext cx="214200" cy="254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862280" y="4605480"/>
            <a:ext cx="52909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55480" y="515448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pulations andin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ugmentation irréversible des volumes pulmon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772080" y="431640"/>
            <a:ext cx="3016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81040" y="1535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court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moyen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des n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variables selon les popul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physiologiques/physiopathologiques » : réversibles (ajust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développementales » : irréversibles, mais non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génétiques » : héréditaires (adaptations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enso strictu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80240" y="95580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fférents types de réponses à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772080" y="431640"/>
            <a:ext cx="3016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81040" y="1535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court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moyen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des n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ariables selon les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physiologiques/physiopathologiques » : réversibles (ajust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développementales » : irréversibles, mais non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génétiques » : héréditaires (adaptations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enso strictu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80240" y="95580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fférents types de réponses à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914400" y="2133720"/>
            <a:ext cx="4025880" cy="7239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70360" y="5103720"/>
            <a:ext cx="46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explica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début de réponses génétiqu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variabilités aléatoires ? (effet Sewall Wr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441000" y="1343160"/>
            <a:ext cx="331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ltitudes : trois profils distinc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09680" y="1833480"/>
            <a:ext cx="873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IO</a:t>
            </a:r>
            <a:r>
              <a:rPr b="0" lang="fr-FR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% niveau de la mer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   Érythrocytose      « hypoxémie » artérielle </a:t>
            </a:r>
            <a:br>
              <a:rPr sz="1600"/>
            </a:b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Niveau de la mer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É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hiopien (3500 m)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64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–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Tibétain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(3500-4000 m)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Andin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(3500-4000 m)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95720" y="3425760"/>
            <a:ext cx="6672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Éthiopiens : pas d’hypoxémie ni d’hyperglobu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xplications possible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ffinité plus importante de l’hémoglobine pour l’oxygè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émoglobine génétiquement distincte : 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modulation de l’affinité pas le 2,3 D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meilleure diffusion alvéolo-capil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t l’homm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303000" y="787320"/>
            <a:ext cx="56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NAS |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ecember 24, 2002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| vol. 99 | no. 26 |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17215-17218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"/>
          <p:cNvSpPr/>
          <p:nvPr/>
        </p:nvSpPr>
        <p:spPr>
          <a:xfrm>
            <a:off x="415800" y="824040"/>
            <a:ext cx="48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ignification adapt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38480" y="1343160"/>
            <a:ext cx="729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ltitudes : trois profils distinct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daptation / ajusteme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un des profils fonctionnent-ils mieux que les autr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ifférences génétiques :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ues à la pression de séle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ues à la dérive génétique d’échantillonag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données paléoanthropolog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euplement du plateau tibétain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fr-FR" sz="1600" spc="-1" strike="noStrike" baseline="30000">
                <a:solidFill>
                  <a:srgbClr val="990000"/>
                </a:solidFill>
                <a:latin typeface="Arial"/>
              </a:rPr>
              <a:t>er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peuplement : -25000 ans (archéolo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fr-FR" sz="1600" spc="-1" strike="noStrike" baseline="30000">
                <a:solidFill>
                  <a:srgbClr val="990000"/>
                </a:solidFill>
                <a:latin typeface="Arial"/>
              </a:rPr>
              <a:t>e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peuplement : -23000 à -22000 ans (archéolo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3e peuplement : -6000 ans (analyse génétiques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peuplement du plateau andi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1er peuplement : -11000 ans (archéolo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2e peuplement : -3500 ans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(archéolog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t l’homm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235080" y="99828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.Beall CM, Song K, Elston RC, Goldstein MC. </a:t>
            </a:r>
            <a:r>
              <a:rPr b="1" lang="en-GB" sz="1800" spc="-1" strike="noStrike">
                <a:solidFill>
                  <a:srgbClr val="a50021"/>
                </a:solidFill>
                <a:latin typeface="Comic Sans MS"/>
              </a:rPr>
              <a:t>Higher offspring survival among Tibetan women with high oxygen saturation genotypes residing at 4,000.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a50021"/>
                </a:solidFill>
                <a:latin typeface="Comic Sans MS"/>
              </a:rPr>
              <a:t>Proc Natl Acad Sci U S A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. 2004;101:14300-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42520" y="2416320"/>
            <a:ext cx="77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Comic Sans MS"/>
              </a:rPr>
              <a:t>14 villages at 3,800–4,200 m in the Tibet Autonomous Region of Ch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938160" y="3111480"/>
            <a:ext cx="724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Comic Sans MS"/>
              </a:rPr>
              <a:t>variations interindividuelles dans le % de saturation de l’oxygèn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Comic Sans MS"/>
              </a:rPr>
              <a:t>origine génétique (caractère autosomal dominant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Comic Sans MS"/>
              </a:rPr>
              <a:t>avantage reproducti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28600" y="4830840"/>
            <a:ext cx="85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i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I should premise that I use the term Struggle for Existence in a large and metaphorical sense, including dependence of one being on another, and including (which is more important) nor only the life of the individual, but success in leaving progeny”.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(« The Origin of species, chap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t l’homm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747720" y="966960"/>
            <a:ext cx="7648560" cy="4924080"/>
          </a:xfrm>
          <a:prstGeom prst="rect">
            <a:avLst/>
          </a:prstGeom>
          <a:ln w="0">
            <a:noFill/>
          </a:ln>
        </p:spPr>
      </p:pic>
      <p:sp>
        <p:nvSpPr>
          <p:cNvPr id="2437" name=""/>
          <p:cNvSpPr/>
          <p:nvPr/>
        </p:nvSpPr>
        <p:spPr>
          <a:xfrm>
            <a:off x="5332680" y="6019920"/>
            <a:ext cx="32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PNAS |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, 2004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| vol. 101 |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14300-4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et l’homme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85760" y="206280"/>
            <a:ext cx="8753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2259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populations vivant en 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772080" y="431640"/>
            <a:ext cx="3016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1040" y="1535040"/>
            <a:ext cx="81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court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à moyen te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réponses des n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variables selon les popul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physiologiques/physiopathologiques » : réversibles (ajust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alyse fonctionn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développementales » : irréversibles, mais non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génétiques » : héréditaires (adaptations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enso strictu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B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comportem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gén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ultur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80240" y="95580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fférents types de réponses à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nimaux adaptés à l’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transport de l’oxygène dans le sang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581280" y="431640"/>
            <a:ext cx="879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47840" y="43498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07260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92328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77900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630040" y="43498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452640" y="4349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095560" y="38070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997640" y="33004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997640" y="27957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997640" y="2290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997640" y="17845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899720" y="12794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2322360" y="4133520"/>
            <a:ext cx="32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274968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3176640" y="4133520"/>
            <a:ext cx="14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360360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403056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45464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488304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5310360" y="4133880"/>
            <a:ext cx="144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5737320" y="4133520"/>
            <a:ext cx="144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6161040" y="4133880"/>
            <a:ext cx="1800" cy="30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6588000" y="4133520"/>
            <a:ext cx="1800" cy="60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322360" y="4133880"/>
            <a:ext cx="42814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290680" y="413388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260440" y="3881520"/>
            <a:ext cx="61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290680" y="3627360"/>
            <a:ext cx="3168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60440" y="337644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90680" y="312264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60440" y="287172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290680" y="2617920"/>
            <a:ext cx="3168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60440" y="236520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290680" y="2112840"/>
            <a:ext cx="3168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260440" y="1860480"/>
            <a:ext cx="6192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290680" y="1606680"/>
            <a:ext cx="31680" cy="2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260440" y="1355760"/>
            <a:ext cx="6192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2322360" y="1353960"/>
            <a:ext cx="3240" cy="27799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9680" y="1406520"/>
            <a:ext cx="3838320" cy="2293920"/>
          </a:xfrm>
          <a:custGeom>
            <a:avLst/>
            <a:gdLst/>
            <a:ahLst/>
            <a:rect l="l" t="t" r="r" b="b"/>
            <a:pathLst>
              <a:path w="6046" h="3614">
                <a:moveTo>
                  <a:pt x="0" y="3614"/>
                </a:moveTo>
                <a:lnTo>
                  <a:pt x="335" y="3130"/>
                </a:lnTo>
                <a:lnTo>
                  <a:pt x="671" y="2511"/>
                </a:lnTo>
                <a:lnTo>
                  <a:pt x="1007" y="1909"/>
                </a:lnTo>
                <a:lnTo>
                  <a:pt x="1343" y="1412"/>
                </a:lnTo>
                <a:lnTo>
                  <a:pt x="1679" y="1035"/>
                </a:lnTo>
                <a:lnTo>
                  <a:pt x="2015" y="760"/>
                </a:lnTo>
                <a:lnTo>
                  <a:pt x="2350" y="563"/>
                </a:lnTo>
                <a:lnTo>
                  <a:pt x="2686" y="419"/>
                </a:lnTo>
                <a:lnTo>
                  <a:pt x="3024" y="313"/>
                </a:lnTo>
                <a:lnTo>
                  <a:pt x="3359" y="235"/>
                </a:lnTo>
                <a:lnTo>
                  <a:pt x="3695" y="176"/>
                </a:lnTo>
                <a:lnTo>
                  <a:pt x="4031" y="130"/>
                </a:lnTo>
                <a:lnTo>
                  <a:pt x="4367" y="95"/>
                </a:lnTo>
                <a:lnTo>
                  <a:pt x="4703" y="67"/>
                </a:lnTo>
                <a:lnTo>
                  <a:pt x="5039" y="45"/>
                </a:lnTo>
                <a:lnTo>
                  <a:pt x="5374" y="26"/>
                </a:lnTo>
                <a:lnTo>
                  <a:pt x="5710" y="12"/>
                </a:lnTo>
                <a:lnTo>
                  <a:pt x="6046" y="0"/>
                </a:lnTo>
              </a:path>
            </a:pathLst>
          </a:custGeom>
          <a:solidFill>
            <a:srgbClr val="ffcc99"/>
          </a:solidFill>
          <a:ln w="1260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749680" y="1444680"/>
            <a:ext cx="2133360" cy="2155680"/>
          </a:xfrm>
          <a:custGeom>
            <a:avLst/>
            <a:gdLst/>
            <a:ahLst/>
            <a:rect l="l" t="t" r="r" b="b"/>
            <a:pathLst>
              <a:path w="3359" h="3394">
                <a:moveTo>
                  <a:pt x="0" y="3394"/>
                </a:moveTo>
                <a:lnTo>
                  <a:pt x="335" y="2656"/>
                </a:lnTo>
                <a:lnTo>
                  <a:pt x="671" y="1847"/>
                </a:lnTo>
                <a:lnTo>
                  <a:pt x="1007" y="1204"/>
                </a:lnTo>
                <a:lnTo>
                  <a:pt x="1343" y="767"/>
                </a:lnTo>
                <a:lnTo>
                  <a:pt x="1679" y="483"/>
                </a:lnTo>
                <a:lnTo>
                  <a:pt x="2015" y="300"/>
                </a:lnTo>
                <a:lnTo>
                  <a:pt x="2350" y="178"/>
                </a:lnTo>
                <a:lnTo>
                  <a:pt x="2686" y="97"/>
                </a:lnTo>
                <a:lnTo>
                  <a:pt x="3024" y="40"/>
                </a:lnTo>
                <a:lnTo>
                  <a:pt x="335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749680" y="1527120"/>
            <a:ext cx="3838320" cy="2246400"/>
          </a:xfrm>
          <a:custGeom>
            <a:avLst/>
            <a:gdLst/>
            <a:ahLst/>
            <a:rect l="l" t="t" r="r" b="b"/>
            <a:pathLst>
              <a:path w="6046" h="3542">
                <a:moveTo>
                  <a:pt x="0" y="3542"/>
                </a:moveTo>
                <a:lnTo>
                  <a:pt x="335" y="3282"/>
                </a:lnTo>
                <a:lnTo>
                  <a:pt x="671" y="2921"/>
                </a:lnTo>
                <a:lnTo>
                  <a:pt x="1007" y="2511"/>
                </a:lnTo>
                <a:lnTo>
                  <a:pt x="1343" y="2098"/>
                </a:lnTo>
                <a:lnTo>
                  <a:pt x="1679" y="1720"/>
                </a:lnTo>
                <a:lnTo>
                  <a:pt x="2015" y="1390"/>
                </a:lnTo>
                <a:lnTo>
                  <a:pt x="2350" y="1115"/>
                </a:lnTo>
                <a:lnTo>
                  <a:pt x="2686" y="887"/>
                </a:lnTo>
                <a:lnTo>
                  <a:pt x="3024" y="702"/>
                </a:lnTo>
                <a:lnTo>
                  <a:pt x="3359" y="551"/>
                </a:lnTo>
                <a:lnTo>
                  <a:pt x="3695" y="429"/>
                </a:lnTo>
                <a:lnTo>
                  <a:pt x="4031" y="329"/>
                </a:lnTo>
                <a:lnTo>
                  <a:pt x="4367" y="246"/>
                </a:lnTo>
                <a:lnTo>
                  <a:pt x="4703" y="177"/>
                </a:lnTo>
                <a:lnTo>
                  <a:pt x="5039" y="121"/>
                </a:lnTo>
                <a:lnTo>
                  <a:pt x="5374" y="73"/>
                </a:lnTo>
                <a:lnTo>
                  <a:pt x="5710" y="33"/>
                </a:lnTo>
                <a:lnTo>
                  <a:pt x="6046" y="0"/>
                </a:lnTo>
              </a:path>
            </a:pathLst>
          </a:custGeom>
          <a:solidFill>
            <a:srgbClr val="ffffff"/>
          </a:solidFill>
          <a:ln w="1260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749680" y="1415880"/>
            <a:ext cx="2133360" cy="2071800"/>
          </a:xfrm>
          <a:custGeom>
            <a:avLst/>
            <a:gdLst/>
            <a:ahLst/>
            <a:rect l="l" t="t" r="r" b="b"/>
            <a:pathLst>
              <a:path w="3359" h="3264">
                <a:moveTo>
                  <a:pt x="0" y="3264"/>
                </a:moveTo>
                <a:lnTo>
                  <a:pt x="335" y="2360"/>
                </a:lnTo>
                <a:lnTo>
                  <a:pt x="671" y="1515"/>
                </a:lnTo>
                <a:lnTo>
                  <a:pt x="1007" y="932"/>
                </a:lnTo>
                <a:lnTo>
                  <a:pt x="1343" y="571"/>
                </a:lnTo>
                <a:lnTo>
                  <a:pt x="1679" y="352"/>
                </a:lnTo>
                <a:lnTo>
                  <a:pt x="2015" y="215"/>
                </a:lnTo>
                <a:lnTo>
                  <a:pt x="2350" y="128"/>
                </a:lnTo>
                <a:lnTo>
                  <a:pt x="2686" y="69"/>
                </a:lnTo>
                <a:lnTo>
                  <a:pt x="3024" y="29"/>
                </a:lnTo>
                <a:lnTo>
                  <a:pt x="3359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rot="16200000">
            <a:off x="1045080" y="2390040"/>
            <a:ext cx="13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saturation (%)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838680" y="3773520"/>
            <a:ext cx="1031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PO</a:t>
            </a:r>
            <a:r>
              <a:rPr b="0" lang="fr-FR" sz="1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mmH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410560" y="18032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vigo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024000" y="1324080"/>
            <a:ext cx="5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813040" y="2155680"/>
            <a:ext cx="239760" cy="376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384720" y="1676520"/>
            <a:ext cx="171360" cy="307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926240" y="24084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autres Mammif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 flipV="1">
            <a:off x="4070160" y="2155680"/>
            <a:ext cx="787320" cy="457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95800" y="8110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courbe de saturation de l’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9" name=""/>
          <p:cNvGraphicFramePr/>
          <p:nvPr/>
        </p:nvGraphicFramePr>
        <p:xfrm>
          <a:off x="2589120" y="4622760"/>
          <a:ext cx="3825720" cy="1004760"/>
        </p:xfrm>
        <a:graphic>
          <a:graphicData uri="http://schemas.openxmlformats.org/drawingml/2006/table">
            <a:tbl>
              <a:tblPr/>
              <a:tblGrid>
                <a:gridCol w="2205000"/>
                <a:gridCol w="16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p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50 (Tor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vigog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autres esp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0 –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0" name=""/>
          <p:cNvSpPr/>
          <p:nvPr/>
        </p:nvSpPr>
        <p:spPr>
          <a:xfrm>
            <a:off x="932400" y="5764320"/>
            <a:ext cx="4350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placement de la courbe vers la ga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 d’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u niveau des poum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454160" y="798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une brève histoire des Vertéb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4360" y="431640"/>
            <a:ext cx="26827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1080" y="640080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échelle géologique (en million d’anné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2200" y="3195720"/>
            <a:ext cx="466560" cy="1031760"/>
          </a:xfrm>
          <a:custGeom>
            <a:avLst/>
            <a:gdLst/>
            <a:ahLst/>
            <a:rect l="l" t="t" r="r" b="b"/>
            <a:pathLst>
              <a:path w="272" h="248">
                <a:moveTo>
                  <a:pt x="0" y="248"/>
                </a:move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1320" y="4954680"/>
            <a:ext cx="74138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3160" y="812880"/>
            <a:ext cx="0" cy="558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01160" y="812880"/>
            <a:ext cx="0" cy="558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3520" y="812880"/>
            <a:ext cx="0" cy="501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7600" y="5869080"/>
            <a:ext cx="62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505                438      408             360                   286                      208           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60847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paléozoï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92520" y="61102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ézozoï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4000" y="12240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Oise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4595760"/>
            <a:ext cx="70164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97360" y="812880"/>
            <a:ext cx="0" cy="5016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6560" y="42829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Placode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4221000"/>
            <a:ext cx="56610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17320" y="39211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hondrichty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54560" y="3081240"/>
            <a:ext cx="5014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4520" y="812880"/>
            <a:ext cx="0" cy="5016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7600" y="812880"/>
            <a:ext cx="0" cy="5016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67040" y="81288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81600" y="812880"/>
            <a:ext cx="0" cy="5016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0160" y="4795920"/>
            <a:ext cx="71737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8720" y="3827520"/>
            <a:ext cx="5645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36560" y="4479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Agnat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1320" y="3417840"/>
            <a:ext cx="5632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2600" y="34923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Actinoptéryg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760" y="495468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0120" y="612144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5538600" y="52012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t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064920" y="54536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juras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7233480" y="53449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crétac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64200" y="812880"/>
            <a:ext cx="0" cy="501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9480" y="812880"/>
            <a:ext cx="0" cy="558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39040" y="4954680"/>
            <a:ext cx="204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734400" y="54262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camb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546200" y="54802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ordovic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363040" y="53222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silu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2952360" y="542844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dévo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771000" y="5549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carbonif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815720" y="5400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ntique Olive"/>
              </a:rPr>
              <a:t>perm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5977080"/>
            <a:ext cx="436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5983200"/>
            <a:ext cx="436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2520" y="5999040"/>
            <a:ext cx="351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9600" y="30862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Sarcoptérygi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8520" y="3416400"/>
            <a:ext cx="164880" cy="415800"/>
          </a:xfrm>
          <a:custGeom>
            <a:avLst/>
            <a:gdLst/>
            <a:ahLst/>
            <a:rect l="l" t="t" r="r" b="b"/>
            <a:pathLst>
              <a:path w="96" h="280">
                <a:moveTo>
                  <a:pt x="72" y="0"/>
                </a:moveTo>
                <a:lnTo>
                  <a:pt x="0" y="0"/>
                </a:lnTo>
                <a:lnTo>
                  <a:pt x="0" y="280"/>
                </a:lnTo>
                <a:lnTo>
                  <a:pt x="96" y="26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8880" y="3606840"/>
            <a:ext cx="303480" cy="603360"/>
          </a:xfrm>
          <a:custGeom>
            <a:avLst/>
            <a:gdLst/>
            <a:ahLst/>
            <a:rect l="l" t="t" r="r" b="b"/>
            <a:pathLst>
              <a:path w="176" h="464">
                <a:moveTo>
                  <a:pt x="104" y="0"/>
                </a:moveTo>
                <a:lnTo>
                  <a:pt x="0" y="0"/>
                </a:lnTo>
                <a:lnTo>
                  <a:pt x="0" y="464"/>
                </a:lnTo>
                <a:lnTo>
                  <a:pt x="176" y="46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5600" y="3997440"/>
            <a:ext cx="674640" cy="587160"/>
          </a:xfrm>
          <a:custGeom>
            <a:avLst/>
            <a:gdLst/>
            <a:ahLst/>
            <a:rect l="l" t="t" r="r" b="b"/>
            <a:pathLst>
              <a:path w="392" h="496">
                <a:moveTo>
                  <a:pt x="136" y="0"/>
                </a:moveTo>
                <a:lnTo>
                  <a:pt x="0" y="0"/>
                </a:lnTo>
                <a:lnTo>
                  <a:pt x="0" y="496"/>
                </a:lnTo>
                <a:lnTo>
                  <a:pt x="392" y="49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55600" y="4235400"/>
            <a:ext cx="1170000" cy="571680"/>
          </a:xfrm>
          <a:custGeom>
            <a:avLst/>
            <a:gdLst/>
            <a:ahLst/>
            <a:rect l="l" t="t" r="r" b="b"/>
            <a:pathLst>
              <a:path w="680" h="408">
                <a:moveTo>
                  <a:pt x="680" y="0"/>
                </a:moveTo>
                <a:lnTo>
                  <a:pt x="0" y="0"/>
                </a:lnTo>
                <a:lnTo>
                  <a:pt x="0" y="408"/>
                </a:lnTo>
                <a:lnTo>
                  <a:pt x="160" y="40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31760" y="446724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6600" y="2795760"/>
            <a:ext cx="4395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51240" y="2641680"/>
            <a:ext cx="218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4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Tétrapodes terres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10240" y="223344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08680" y="2101680"/>
            <a:ext cx="1483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Lissamphibi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529000"/>
            <a:ext cx="4921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7760" y="2355840"/>
            <a:ext cx="1218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4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Amni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72160" y="180504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9680" y="110952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20160" y="973080"/>
            <a:ext cx="1186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 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Squa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33960" y="159552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1520" y="1459080"/>
            <a:ext cx="117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 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Chéloni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16080" y="2946240"/>
            <a:ext cx="137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4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Tétrap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26760" y="1658880"/>
            <a:ext cx="126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Mammif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41920" y="202392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4240" y="1887480"/>
            <a:ext cx="127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ers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Crocodili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9160" y="1376280"/>
            <a:ext cx="3063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120" y="787320"/>
            <a:ext cx="821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"/>
          <p:cNvSpPr/>
          <p:nvPr/>
        </p:nvSpPr>
        <p:spPr>
          <a:xfrm>
            <a:off x="593640" y="8110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éryth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73560" y="1332000"/>
            <a:ext cx="34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hématoc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mas : 23-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caractéristiques des hém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6226200" y="431316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30-35 g/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213080" y="431316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39-46 g/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49240" y="431316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CHCM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226200" y="3978360"/>
            <a:ext cx="19033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25-30 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13080" y="3978360"/>
            <a:ext cx="2013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9-12 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849240" y="3978360"/>
            <a:ext cx="33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HCM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226200" y="364320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60-80 µm</a:t>
            </a:r>
            <a:r>
              <a:rPr b="0" lang="nl-NL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213080" y="364320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22-29 µm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49240" y="364320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6226200" y="3308400"/>
            <a:ext cx="19033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5-10 10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213080" y="3308400"/>
            <a:ext cx="2013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10 – 17 10</a:t>
            </a:r>
            <a:r>
              <a:rPr b="0" lang="en-GB" sz="1600" spc="-1" strike="noStrike" baseline="30000">
                <a:solidFill>
                  <a:srgbClr val="990000"/>
                </a:solidFill>
                <a:latin typeface="Verdana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49240" y="3308400"/>
            <a:ext cx="33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226200" y="2973240"/>
            <a:ext cx="1903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cir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213080" y="2973240"/>
            <a:ext cx="2013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ellipsoï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240" y="2973240"/>
            <a:ext cx="3363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Verdana"/>
                <a:ea typeface="Times New Roman"/>
              </a:rPr>
              <a:t>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226200" y="2638440"/>
            <a:ext cx="190332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utr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3080" y="2638440"/>
            <a:ext cx="201312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49240" y="2638440"/>
            <a:ext cx="3363840" cy="334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ractéristiques des héma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849240" y="297324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213080" y="2651040"/>
            <a:ext cx="0" cy="20271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226200" y="2638440"/>
            <a:ext cx="0" cy="20397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49240" y="330840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849240" y="364320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49240" y="397836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849240" y="4313160"/>
            <a:ext cx="728028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49240" y="2638440"/>
            <a:ext cx="7280280" cy="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849240" y="2638440"/>
            <a:ext cx="0" cy="207792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8129520" y="2638440"/>
            <a:ext cx="0" cy="207792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849240" y="4703760"/>
            <a:ext cx="7280280" cy="0"/>
          </a:xfrm>
          <a:prstGeom prst="line">
            <a:avLst/>
          </a:prstGeom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860400" y="5200560"/>
            <a:ext cx="725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*HCM : hémoglobine corpusculaire moyenne : concentration moyenne en hémoglobine par hém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</a:rPr>
              <a:t>**CHCM : concentration en hémoglobine corpusculaire moyenne (calculé par rapport à l’hématocr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nimaux adaptés à l’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transport de l’oxygène dans le sang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581280" y="431640"/>
            <a:ext cx="879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454160" y="798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nimaux adaptés à l’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581280" y="431640"/>
            <a:ext cx="23529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1" name=""/>
          <p:cNvGraphicFramePr/>
          <p:nvPr/>
        </p:nvGraphicFramePr>
        <p:xfrm>
          <a:off x="1155600" y="2093760"/>
          <a:ext cx="7024680" cy="2602080"/>
        </p:xfrm>
        <a:graphic>
          <a:graphicData uri="http://schemas.openxmlformats.org/drawingml/2006/table">
            <a:tbl>
              <a:tblPr/>
              <a:tblGrid>
                <a:gridCol w="2820960"/>
                <a:gridCol w="4203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sion artériel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ystolique/diastolique (moyen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aute latitu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(La Raya : 4200 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20/9 (14)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basse altitu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(Lond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13/6 (10) mm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2" name=""/>
          <p:cNvSpPr/>
          <p:nvPr/>
        </p:nvSpPr>
        <p:spPr>
          <a:xfrm>
            <a:off x="1273680" y="1357560"/>
            <a:ext cx="59155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pression artérielle pulmonaire mesurée chez des l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91480" y="8110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pression artérielle pulmonaire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078560" y="482436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’hypertension artérielle pulmonaire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7454160" y="798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nimaux adaptés à l’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581280" y="431640"/>
            <a:ext cx="23529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79960" y="8161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"/>
              </a:rPr>
              <a:t>volumes cardia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022040" y="5672160"/>
            <a:ext cx="68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 de plaine : altitud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imaux d’altitude : altitud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pas d’hypertrophie cardiaqu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065840" y="849600"/>
            <a:ext cx="18997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rapport VGS/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647720" y="3359160"/>
            <a:ext cx="390600" cy="174924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816280" y="3463920"/>
            <a:ext cx="388800" cy="164448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86280" y="3359160"/>
            <a:ext cx="387360" cy="174924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176800" y="3363840"/>
            <a:ext cx="388800" cy="174780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036880" y="2957400"/>
            <a:ext cx="388800" cy="215424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205080" y="2678040"/>
            <a:ext cx="390600" cy="243360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373640" y="2565360"/>
            <a:ext cx="387360" cy="254628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564160" y="3246480"/>
            <a:ext cx="390600" cy="186516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345360" y="3363840"/>
            <a:ext cx="388800" cy="174780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004760" y="49878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004760" y="44308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004760" y="3867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004760" y="33066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004760" y="27446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357200" y="483084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324080" y="4549680"/>
            <a:ext cx="6336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357200" y="426888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324080" y="3987720"/>
            <a:ext cx="63360" cy="32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57200" y="3708360"/>
            <a:ext cx="3024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324080" y="342576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357200" y="314640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324080" y="2863800"/>
            <a:ext cx="63360" cy="1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357200" y="2584440"/>
            <a:ext cx="30240" cy="1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V="1">
            <a:off x="1387440" y="2593800"/>
            <a:ext cx="1800" cy="25178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1312560" y="5111640"/>
            <a:ext cx="555444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142360" y="5248440"/>
            <a:ext cx="48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cobaye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lapin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chien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  lama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    visca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rot="16200000">
            <a:off x="279000" y="37616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VD/V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27880" y="2075040"/>
            <a:ext cx="390600" cy="35388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6535800" y="2619360"/>
            <a:ext cx="390600" cy="353880"/>
          </a:xfrm>
          <a:prstGeom prst="rect">
            <a:avLst/>
          </a:prstGeom>
          <a:solidFill>
            <a:srgbClr val="6699ff"/>
          </a:solidFill>
          <a:ln w="64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991920" y="20113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basse la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6996240" y="257976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Verdana"/>
                <a:ea typeface="Arial"/>
              </a:rPr>
              <a:t>haute la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504720" y="133992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</a:rPr>
              <a:t>rapport du poids du ventricule droit sur le poids du ventricule gauche et du septum (VD/VGS) chez différents animaux de basse et haute altit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454160" y="798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7835040" y="798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897200" y="3060000"/>
            <a:ext cx="1807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4400" y="912960"/>
            <a:ext cx="5854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daptations spécifiques des oiseaux à l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20560" y="1323720"/>
            <a:ext cx="851868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urbe de dissociation de l’oxy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modification de la P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Oie à tête barrée :  P50 = 10 mm 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onne tolérance à l’alca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lcalose </a:t>
            </a:r>
            <a:r>
              <a:rPr b="0" lang="en-GB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(effet Bohr) = déplacement de la courbe de dissociation vers la ga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ébit sanguin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ébit sanguin cérébral normal lors d’hypocap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440000" y="4659480"/>
            <a:ext cx="65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iseaux : meilleure tolérance à l’altitude que les Mammif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iseaux de pl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iseaux d’al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é-adaptation des oiseaux à une bonne tolérance à l’altitu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nimaux adaptés à l’altitud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581280" y="431640"/>
            <a:ext cx="4003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854360" y="431640"/>
            <a:ext cx="4867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684000" y="131724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réponse / d’adaptation /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84000" y="91836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réponse / d’adaptation /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44520" y="1779480"/>
            <a:ext cx="592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ponses « physiologiques » (ajustements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versibles (court terme/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ponses « développementales »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rréversibles, mais non héréditaires (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846000" y="133200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ltitude = conditions « non standard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84000" y="91836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réponse / d’adaptation /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244520" y="1779480"/>
            <a:ext cx="592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ponses « physiologiques » (ajustements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versibles (court terme/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ponses « développementales »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rréversibles, mais non héréditaires (long te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daptées/ non adaptées/ hypere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846000" y="133200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ltitude = conditions « non standard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254240" y="4202280"/>
            <a:ext cx="681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éponses « génétiques » : hérédi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daptation / histoire évolu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ex : Camélid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variations alé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mit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intes extérie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traintes intérieures : « choix adaptatif » préex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(Oiseaux / Mammifè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805680" y="385920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ltitude = conditions « standard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/>
          <p:nvPr/>
        </p:nvSpPr>
        <p:spPr>
          <a:xfrm>
            <a:off x="473040" y="2887560"/>
            <a:ext cx="78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« The result is that the phenotype is often a patchwork of features that were specifically selected for a particular function (or as the answer to a particular selection pressure) and others are the by-product of the phenotype as a whole and are simply tolerated by selection 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E. Mayr, The Growth of biological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ffets de l’altitu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400480" y="431640"/>
            <a:ext cx="43210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684000" y="131724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notion de réponse / d’adaptation /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respir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une brève histoire des Vertébr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4360" y="431640"/>
            <a:ext cx="26827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1520" y="1687680"/>
            <a:ext cx="51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poumon : position ventrale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Bothriolepis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(Placoderme)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(Denison, 1941)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040" y="617868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échelle géologique (en million d’anné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35240" y="384660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Pois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4035600"/>
            <a:ext cx="432000" cy="1031760"/>
          </a:xfrm>
          <a:custGeom>
            <a:avLst/>
            <a:gdLst/>
            <a:ahLst/>
            <a:rect l="l" t="t" r="r" b="b"/>
            <a:pathLst>
              <a:path w="272" h="248">
                <a:moveTo>
                  <a:pt x="0" y="248"/>
                </a:move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34440" y="5118120"/>
            <a:ext cx="615960" cy="0"/>
          </a:xfrm>
          <a:prstGeom prst="line">
            <a:avLst/>
          </a:prstGeom>
          <a:ln w="7632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30320" y="5113440"/>
            <a:ext cx="582480" cy="0"/>
          </a:xfrm>
          <a:prstGeom prst="line">
            <a:avLst/>
          </a:prstGeom>
          <a:ln cap="sq"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87680" y="5113440"/>
            <a:ext cx="841320" cy="0"/>
          </a:xfrm>
          <a:prstGeom prst="line">
            <a:avLst/>
          </a:prstGeom>
          <a:ln cap="sq" w="76320">
            <a:solidFill>
              <a:srgbClr val="ffbc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02080" y="5111640"/>
            <a:ext cx="388800" cy="0"/>
          </a:xfrm>
          <a:prstGeom prst="line">
            <a:avLst/>
          </a:prstGeom>
          <a:ln cap="sq" w="76320">
            <a:solidFill>
              <a:srgbClr val="ffb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3960" y="5111640"/>
            <a:ext cx="647640" cy="0"/>
          </a:xfrm>
          <a:prstGeom prst="line">
            <a:avLst/>
          </a:prstGeom>
          <a:ln cap="sq" w="76320">
            <a:solidFill>
              <a:srgbClr val="ffa2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9080" y="5118120"/>
            <a:ext cx="826920" cy="0"/>
          </a:xfrm>
          <a:prstGeom prst="line">
            <a:avLst/>
          </a:prstGeom>
          <a:ln cap="sq" w="76320">
            <a:solidFill>
              <a:srgbClr val="00be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78200" y="5111640"/>
            <a:ext cx="957240" cy="0"/>
          </a:xfrm>
          <a:prstGeom prst="line">
            <a:avLst/>
          </a:prstGeom>
          <a:ln cap="sq" w="76320">
            <a:solidFill>
              <a:srgbClr val="ff8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2800" y="5118120"/>
            <a:ext cx="428400" cy="0"/>
          </a:xfrm>
          <a:prstGeom prst="line">
            <a:avLst/>
          </a:prstGeom>
          <a:ln cap="sq" w="76320">
            <a:solidFill>
              <a:srgbClr val="00e0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7360" y="5111640"/>
            <a:ext cx="557280" cy="0"/>
          </a:xfrm>
          <a:prstGeom prst="line">
            <a:avLst/>
          </a:prstGeom>
          <a:ln cap="sq" w="76320">
            <a:solidFill>
              <a:srgbClr val="ec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7440" y="5083200"/>
            <a:ext cx="0" cy="29844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5400" y="5076720"/>
            <a:ext cx="0" cy="86040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50960" y="5079960"/>
            <a:ext cx="0" cy="29844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19320" y="5081760"/>
            <a:ext cx="0" cy="29844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8600" y="5076720"/>
            <a:ext cx="0" cy="29844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62440" y="5079960"/>
            <a:ext cx="0" cy="29844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84880" y="5079960"/>
            <a:ext cx="0" cy="847800"/>
          </a:xfrm>
          <a:prstGeom prst="line">
            <a:avLst/>
          </a:prstGeom>
          <a:ln cap="sq" w="12600">
            <a:solidFill>
              <a:srgbClr val="009c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0520" y="5118120"/>
            <a:ext cx="1022400" cy="0"/>
          </a:xfrm>
          <a:prstGeom prst="line">
            <a:avLst/>
          </a:prstGeom>
          <a:ln cap="sq" w="76320">
            <a:solidFill>
              <a:srgbClr val="009c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1160" y="5095800"/>
            <a:ext cx="0" cy="298440"/>
          </a:xfrm>
          <a:prstGeom prst="line">
            <a:avLst/>
          </a:prstGeom>
          <a:ln cap="sq" w="12600">
            <a:solidFill>
              <a:srgbClr val="009c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23160" y="5079960"/>
            <a:ext cx="0" cy="822240"/>
          </a:xfrm>
          <a:prstGeom prst="line">
            <a:avLst/>
          </a:prstGeom>
          <a:ln cap="sq" w="12600">
            <a:solidFill>
              <a:srgbClr val="009c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27680" y="5089680"/>
            <a:ext cx="0" cy="298440"/>
          </a:xfrm>
          <a:prstGeom prst="line">
            <a:avLst/>
          </a:prstGeom>
          <a:ln cap="sq" w="12600">
            <a:solidFill>
              <a:srgbClr val="009c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35760" y="5118120"/>
            <a:ext cx="671760" cy="0"/>
          </a:xfrm>
          <a:prstGeom prst="line">
            <a:avLst/>
          </a:prstGeom>
          <a:ln w="76320">
            <a:solidFill>
              <a:srgbClr val="c1834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9880" y="5348160"/>
            <a:ext cx="57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505               438     408          360                   286                    208        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8520" y="56116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rché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3440" y="562140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paléozoï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4560" y="562140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ézozoï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68080" y="561672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Cénozoï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" y="5875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4720" y="5869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48920" y="58784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24320"/>
            <a:ext cx="431640" cy="730440"/>
          </a:xfrm>
          <a:custGeom>
            <a:avLst/>
            <a:gdLst/>
            <a:ahLst/>
            <a:rect l="l" t="t" r="r" b="b"/>
            <a:pathLst>
              <a:path w="272" h="248">
                <a:moveTo>
                  <a:pt x="0" y="248"/>
                </a:move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cap="sq" w="12600">
            <a:solidFill>
              <a:srgbClr val="0000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68200" y="416088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étrap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3160" y="4330800"/>
            <a:ext cx="431640" cy="711000"/>
          </a:xfrm>
          <a:custGeom>
            <a:avLst/>
            <a:gdLst/>
            <a:ahLst/>
            <a:rect l="l" t="t" r="r" b="b"/>
            <a:pathLst>
              <a:path w="272" h="248">
                <a:moveTo>
                  <a:pt x="0" y="248"/>
                </a:move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cap="sq" w="12600">
            <a:solidFill>
              <a:srgbClr val="0000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1360" y="414180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Mammif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66040" y="4711680"/>
            <a:ext cx="431640" cy="343080"/>
          </a:xfrm>
          <a:custGeom>
            <a:avLst/>
            <a:gdLst/>
            <a:ahLst/>
            <a:rect l="l" t="t" r="r" b="b"/>
            <a:pathLst>
              <a:path w="272" h="248">
                <a:moveTo>
                  <a:pt x="0" y="248"/>
                </a:move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cap="sq" w="12600">
            <a:solidFill>
              <a:srgbClr val="0000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5120" y="45259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Oi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4240" y="3632040"/>
            <a:ext cx="647640" cy="0"/>
          </a:xfrm>
          <a:prstGeom prst="line">
            <a:avLst/>
          </a:prstGeom>
          <a:ln cap="sq" w="7632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2738520"/>
            <a:ext cx="0" cy="236520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13480" y="36050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Placode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54240" y="3349800"/>
            <a:ext cx="5453280" cy="0"/>
          </a:xfrm>
          <a:prstGeom prst="line">
            <a:avLst/>
          </a:prstGeom>
          <a:ln cap="sq" w="7632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9480" y="350676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Dipneus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0040" y="2635200"/>
            <a:ext cx="2157480" cy="0"/>
          </a:xfrm>
          <a:prstGeom prst="line">
            <a:avLst/>
          </a:prstGeom>
          <a:ln cap="sq" w="7632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84880" y="2593800"/>
            <a:ext cx="0" cy="2584800"/>
          </a:xfrm>
          <a:prstGeom prst="line">
            <a:avLst/>
          </a:prstGeom>
          <a:ln w="12600">
            <a:solidFill>
              <a:srgbClr val="009c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56320" y="26240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Téléosté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26080" y="3019320"/>
            <a:ext cx="2881440" cy="0"/>
          </a:xfrm>
          <a:prstGeom prst="line">
            <a:avLst/>
          </a:prstGeom>
          <a:ln cap="sq" w="7632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2720" y="30020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Holosté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798480"/>
            <a:ext cx="3718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ppareil respiratoire aérien (A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8-04-09T19:09:46Z</dcterms:modified>
  <cp:revision>1163</cp:revision>
  <dc:subject/>
  <dc:title>Présentation PowerPoint</dc:title>
</cp:coreProperties>
</file>