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55480" y="179856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a contraction musculaire et le mouvement</a:t>
            </a:r>
            <a:r>
              <a:rPr b="1" i="1" lang="fr-FR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17600" y="3433680"/>
            <a:ext cx="78184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boratoire de Physiologie Cellulaire Respiratoire INSERM U 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Victor Segalen Bordeau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      site d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7520" y="0"/>
          <a:ext cx="1533600" cy="15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0"/>
                    <a:ext cx="15336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1000" y="596880"/>
            <a:ext cx="71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itstream Vera Sans"/>
              </a:rPr>
              <a:t>UE physiologie animale</a:t>
            </a:r>
            <a:r>
              <a:rPr b="0" lang="fr-FR" sz="2400" spc="-1" strike="noStrike">
                <a:solidFill>
                  <a:srgbClr val="8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lassification anatomo-histolog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90520" y="2627280"/>
            <a:ext cx="1862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stri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6080" y="4011480"/>
            <a:ext cx="18223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l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280" y="2832120"/>
            <a:ext cx="406080" cy="139716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22760" y="2489040"/>
            <a:ext cx="1260360" cy="82584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35160" y="2832120"/>
            <a:ext cx="1600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23720" y="2284560"/>
            <a:ext cx="26877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quelet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35960" y="3097080"/>
            <a:ext cx="26694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cardiaque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"/>
          <p:cNvSpPr/>
          <p:nvPr/>
        </p:nvSpPr>
        <p:spPr>
          <a:xfrm>
            <a:off x="405360" y="1365120"/>
            <a:ext cx="396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3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384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1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279396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>
            <a:off x="43308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52452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 flipH="1" rot="5400000">
            <a:off x="6400080" y="3377880"/>
            <a:ext cx="266400" cy="381240"/>
          </a:xfrm>
          <a:custGeom>
            <a:avLst/>
            <a:gdLst>
              <a:gd name="textAreaLeft" fmla="*/ 12960 w 266400"/>
              <a:gd name="textAreaRight" fmla="*/ 253440 w 26640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99">
                <a:moveTo>
                  <a:pt x="3600" y="0"/>
                </a:moveTo>
                <a:arcTo wR="3600" hR="3600" stAng="16200000" swAng="-5400000"/>
                <a:lnTo>
                  <a:pt x="0" y="27299"/>
                </a:lnTo>
                <a:arcTo wR="3600" hR="3600" stAng="10800000" swAng="-5400000"/>
                <a:lnTo>
                  <a:pt x="18000" y="308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 rot="16200000">
            <a:off x="1854000" y="344124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flipV="1">
            <a:off x="895320" y="224748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895320" y="1795320"/>
            <a:ext cx="1033560" cy="882720"/>
          </a:xfrm>
          <a:custGeom>
            <a:avLst/>
            <a:gdLst/>
            <a:ahLst/>
            <a:rect l="l" t="t" r="r" b="b"/>
            <a:pathLst>
              <a:path w="651" h="556">
                <a:moveTo>
                  <a:pt x="0" y="551"/>
                </a:moveTo>
                <a:cubicBezTo>
                  <a:pt x="13" y="551"/>
                  <a:pt x="58" y="556"/>
                  <a:pt x="78" y="551"/>
                </a:cubicBezTo>
                <a:cubicBezTo>
                  <a:pt x="99" y="545"/>
                  <a:pt x="108" y="533"/>
                  <a:pt x="124" y="517"/>
                </a:cubicBezTo>
                <a:cubicBezTo>
                  <a:pt x="141" y="500"/>
                  <a:pt x="158" y="527"/>
                  <a:pt x="177" y="453"/>
                </a:cubicBezTo>
                <a:cubicBezTo>
                  <a:pt x="195" y="378"/>
                  <a:pt x="225" y="136"/>
                  <a:pt x="236" y="68"/>
                </a:cubicBezTo>
                <a:cubicBezTo>
                  <a:pt x="248" y="0"/>
                  <a:pt x="238" y="25"/>
                  <a:pt x="248" y="44"/>
                </a:cubicBezTo>
                <a:cubicBezTo>
                  <a:pt x="258" y="63"/>
                  <a:pt x="277" y="125"/>
                  <a:pt x="298" y="184"/>
                </a:cubicBezTo>
                <a:cubicBezTo>
                  <a:pt x="319" y="243"/>
                  <a:pt x="354" y="353"/>
                  <a:pt x="373" y="400"/>
                </a:cubicBezTo>
                <a:cubicBezTo>
                  <a:pt x="392" y="447"/>
                  <a:pt x="400" y="449"/>
                  <a:pt x="412" y="469"/>
                </a:cubicBezTo>
                <a:cubicBezTo>
                  <a:pt x="424" y="489"/>
                  <a:pt x="432" y="509"/>
                  <a:pt x="442" y="520"/>
                </a:cubicBezTo>
                <a:cubicBezTo>
                  <a:pt x="452" y="531"/>
                  <a:pt x="465" y="534"/>
                  <a:pt x="475" y="538"/>
                </a:cubicBezTo>
                <a:cubicBezTo>
                  <a:pt x="485" y="542"/>
                  <a:pt x="493" y="542"/>
                  <a:pt x="502" y="544"/>
                </a:cubicBezTo>
                <a:cubicBezTo>
                  <a:pt x="511" y="546"/>
                  <a:pt x="520" y="552"/>
                  <a:pt x="532" y="553"/>
                </a:cubicBezTo>
                <a:cubicBezTo>
                  <a:pt x="544" y="554"/>
                  <a:pt x="558" y="553"/>
                  <a:pt x="577" y="553"/>
                </a:cubicBezTo>
                <a:cubicBezTo>
                  <a:pt x="597" y="553"/>
                  <a:pt x="636" y="552"/>
                  <a:pt x="651" y="5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>
            <a:off x="518760" y="2371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1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426960" y="1365120"/>
            <a:ext cx="532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entrée de 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dans la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4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445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2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279396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43308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>
            <a:off x="52452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 flipH="1" rot="5400000">
            <a:off x="6400080" y="3377880"/>
            <a:ext cx="266400" cy="381240"/>
          </a:xfrm>
          <a:custGeom>
            <a:avLst/>
            <a:gdLst>
              <a:gd name="textAreaLeft" fmla="*/ 12960 w 266400"/>
              <a:gd name="textAreaRight" fmla="*/ 253440 w 26640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99">
                <a:moveTo>
                  <a:pt x="3600" y="0"/>
                </a:moveTo>
                <a:arcTo wR="3600" hR="3600" stAng="16200000" swAng="-5400000"/>
                <a:lnTo>
                  <a:pt x="0" y="27299"/>
                </a:lnTo>
                <a:arcTo wR="3600" hR="3600" stAng="10800000" swAng="-5400000"/>
                <a:lnTo>
                  <a:pt x="18000" y="308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 rot="16200000">
            <a:off x="1854000" y="344124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 flipH="1">
            <a:off x="2666880" y="2768760"/>
            <a:ext cx="1296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 flipH="1">
            <a:off x="4190760" y="2755800"/>
            <a:ext cx="126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 flipH="1">
            <a:off x="5651280" y="2781360"/>
            <a:ext cx="126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1434960" y="335268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1409760" y="45720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 flipH="1">
            <a:off x="6578280" y="380988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 flipH="1">
            <a:off x="6641640" y="461016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3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4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6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8" name=""/>
          <p:cNvSpPr/>
          <p:nvPr/>
        </p:nvSpPr>
        <p:spPr>
          <a:xfrm>
            <a:off x="426960" y="1365120"/>
            <a:ext cx="532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entrée de 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dans la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uverture des 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9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510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7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 rot="16200000">
            <a:off x="1854000" y="344124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1599120" y="5813280"/>
            <a:ext cx="57740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uscle squelettique : couplage direct des RRy aux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uscle cardiaque : RRy activés par l’élévation de la 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 flipV="1">
            <a:off x="293364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9" name=""/>
          <p:cNvSpPr/>
          <p:nvPr/>
        </p:nvSpPr>
        <p:spPr>
          <a:xfrm flipV="1">
            <a:off x="447048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0" name=""/>
          <p:cNvSpPr/>
          <p:nvPr/>
        </p:nvSpPr>
        <p:spPr>
          <a:xfrm flipV="1">
            <a:off x="537228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279396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>
            <a:off x="433080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524520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6324480" y="356868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 flipH="1" rot="5400000">
            <a:off x="6400080" y="337788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426960" y="1365120"/>
            <a:ext cx="532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entrée de 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dans la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uverture des 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ibération de calcium du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solidFill>
            <a:srgbClr val="fff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2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573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0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1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2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3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4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5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6" name=""/>
          <p:cNvSpPr/>
          <p:nvPr/>
        </p:nvSpPr>
        <p:spPr>
          <a:xfrm rot="16200000">
            <a:off x="1854000" y="344124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7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 flipV="1">
            <a:off x="293364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 flipV="1">
            <a:off x="447048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 flipV="1">
            <a:off x="5372280" y="31496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279396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>
            <a:off x="433080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>
            <a:off x="5245200" y="323856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>
            <a:off x="6324480" y="356868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 flipH="1" rot="5400000">
            <a:off x="6400080" y="337788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1" name=""/>
          <p:cNvSpPr/>
          <p:nvPr/>
        </p:nvSpPr>
        <p:spPr>
          <a:xfrm>
            <a:off x="1092240" y="2895480"/>
            <a:ext cx="6413400" cy="2768760"/>
          </a:xfrm>
          <a:prstGeom prst="rect">
            <a:avLst/>
          </a:prstGeom>
          <a:solidFill>
            <a:srgbClr val="fff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426960" y="1365120"/>
            <a:ext cx="5324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potentiel d’action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ouverture des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entrée de 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dans la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uverture des 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ibération de calcium du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4" name=""/>
          <p:cNvGrpSpPr/>
          <p:nvPr/>
        </p:nvGrpSpPr>
        <p:grpSpPr>
          <a:xfrm>
            <a:off x="2736720" y="4033800"/>
            <a:ext cx="2990880" cy="1404720"/>
            <a:chOff x="2736720" y="4033800"/>
            <a:chExt cx="2990880" cy="1404720"/>
          </a:xfrm>
        </p:grpSpPr>
        <p:sp>
          <p:nvSpPr>
            <p:cNvPr id="8635" name=""/>
            <p:cNvSpPr/>
            <p:nvPr/>
          </p:nvSpPr>
          <p:spPr>
            <a:xfrm>
              <a:off x="2739600" y="4060440"/>
              <a:ext cx="0" cy="13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4220280" y="4060440"/>
              <a:ext cx="0" cy="13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3387960" y="408744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2736720" y="40604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2816640" y="419472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3387960" y="432828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2736720" y="4355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2816640" y="446256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3387960" y="460980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2736720" y="4583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2816640" y="474408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3387960" y="487800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2736720" y="4851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2816640" y="501228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3387960" y="515952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2736720" y="5186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2816640" y="5293080"/>
              <a:ext cx="135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3387960" y="5427360"/>
              <a:ext cx="8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2736720" y="5400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4217040" y="40604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4217040" y="4328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4217040" y="460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4217040" y="4878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4217040" y="5159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4217040" y="54273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5727600" y="4033800"/>
              <a:ext cx="0" cy="13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4895280" y="403380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4895280" y="430164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4895280" y="458316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4895280" y="485100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4895280" y="513252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4895280" y="5400720"/>
              <a:ext cx="8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4306320" y="419472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4306320" y="446256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4306320" y="474408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4306320" y="501228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4306320" y="5293080"/>
              <a:ext cx="135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2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3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4" name=""/>
          <p:cNvSpPr/>
          <p:nvPr/>
        </p:nvSpPr>
        <p:spPr>
          <a:xfrm>
            <a:off x="2540160" y="2882880"/>
            <a:ext cx="26640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5" name=""/>
          <p:cNvSpPr/>
          <p:nvPr/>
        </p:nvSpPr>
        <p:spPr>
          <a:xfrm>
            <a:off x="4064040" y="28828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6" name=""/>
          <p:cNvSpPr/>
          <p:nvPr/>
        </p:nvSpPr>
        <p:spPr>
          <a:xfrm>
            <a:off x="5524560" y="2895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7" name=""/>
          <p:cNvSpPr/>
          <p:nvPr/>
        </p:nvSpPr>
        <p:spPr>
          <a:xfrm rot="16200000">
            <a:off x="1536480" y="31870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 rot="16200000">
            <a:off x="1511280" y="438120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flipH="1" rot="5400000">
            <a:off x="6743520" y="363168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 flipH="1" rot="5400000">
            <a:off x="6806880" y="44190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>
            <a:off x="2793960" y="31878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4330800" y="31878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5245200" y="318780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 flipH="1" rot="5400000">
            <a:off x="6400080" y="3377880"/>
            <a:ext cx="26640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 rot="16200000">
            <a:off x="1854000" y="3441240"/>
            <a:ext cx="266760" cy="380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325080" y="758880"/>
            <a:ext cx="217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cardi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4089240" y="431640"/>
            <a:ext cx="1008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180000" y="206280"/>
            <a:ext cx="8668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uscle cardiaque &amp;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558360" y="2054160"/>
            <a:ext cx="7058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jonctions serrées : transmission du PA de cellule à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libération du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du R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s de couplage direct VOC-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activation des RRy par l’élévation initiale d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due aux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neurohormonale de l’intensité de la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4089240" y="431640"/>
            <a:ext cx="1008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180000" y="206280"/>
            <a:ext cx="8668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uscle cardiaque &amp;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333000" y="758880"/>
            <a:ext cx="15692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335160" y="1401840"/>
            <a:ext cx="8410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muscle mono-unitaire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jonctions serrées : transmission du PA de cellule à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muscle pluri-uni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dépolarisation mais pas de potentiel d’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>
            <a:off x="369360" y="3116160"/>
            <a:ext cx="8546040" cy="2284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couplage électroméca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dépolarisation membranaire (avec ou sans 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ouverture des canaux calciques sensibles au pot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ouverture des VOC et des 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couplage pharmacoméca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activation d’un récepteur membra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réaction enzymatique et production de messagers intercell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libération d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du RS et/ou influx d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extracell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1459800" y="5978520"/>
            <a:ext cx="58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neurohormonale de l’intensité de la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350280" y="3255840"/>
            <a:ext cx="69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965160" y="38988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977760" y="37846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3610080" y="40752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3098880" y="4076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3838680" y="41544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3695760" y="454644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1230480" y="4568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lassification fonc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90520" y="2475000"/>
            <a:ext cx="33800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squelettiqu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ystème nerveux moteur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6080" y="3871800"/>
            <a:ext cx="34146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dans organes cr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ystème nerveux auto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39200" y="4621320"/>
            <a:ext cx="27104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liss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280" y="2832120"/>
            <a:ext cx="406080" cy="139716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48240" y="3289320"/>
            <a:ext cx="406440" cy="154944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10160" y="4216320"/>
            <a:ext cx="8506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35960" y="3097080"/>
            <a:ext cx="26694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cardiaque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0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1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3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4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5" name=""/>
          <p:cNvSpPr/>
          <p:nvPr/>
        </p:nvSpPr>
        <p:spPr>
          <a:xfrm>
            <a:off x="350280" y="3255840"/>
            <a:ext cx="69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6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7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8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9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0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1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2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>
            <a:off x="965160" y="38988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>
            <a:off x="977760" y="37846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3610080" y="40752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>
            <a:off x="3098880" y="4076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3838680" y="41544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>
            <a:off x="3695760" y="454644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>
            <a:off x="4673520" y="3860640"/>
            <a:ext cx="1973520" cy="3812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4686480" y="37720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>
            <a:off x="7318440" y="406224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6603840" y="406404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7547040" y="4141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1230480" y="4568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5445360" y="45687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7404120" y="434808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>
            <a:off x="350280" y="3255840"/>
            <a:ext cx="69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352080" y="483084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aux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et longueur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965160" y="38988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977760" y="37846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3610080" y="40752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3098880" y="4076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>
            <a:off x="3838680" y="41544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>
            <a:off x="3695760" y="454644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>
            <a:off x="4673520" y="3860640"/>
            <a:ext cx="1973520" cy="3812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>
            <a:off x="4686480" y="37720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7318440" y="406224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6603840" y="406404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>
            <a:off x="7547040" y="4141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1230480" y="4568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5445360" y="45687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>
            <a:off x="7404120" y="434808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>
            <a:off x="965160" y="5295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977760" y="5181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3610080" y="5472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3098880" y="547380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3838680" y="555156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4102200" y="63882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1230480" y="5965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3597120" y="582768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6" name=""/>
          <p:cNvSpPr/>
          <p:nvPr/>
        </p:nvSpPr>
        <p:spPr>
          <a:xfrm>
            <a:off x="3645000" y="5867280"/>
            <a:ext cx="609480" cy="54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"/>
          <p:cNvSpPr/>
          <p:nvPr/>
        </p:nvSpPr>
        <p:spPr>
          <a:xfrm>
            <a:off x="3517920" y="431640"/>
            <a:ext cx="1579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9" name=""/>
          <p:cNvSpPr/>
          <p:nvPr/>
        </p:nvSpPr>
        <p:spPr>
          <a:xfrm>
            <a:off x="177840" y="206280"/>
            <a:ext cx="8766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0" name=""/>
          <p:cNvSpPr/>
          <p:nvPr/>
        </p:nvSpPr>
        <p:spPr>
          <a:xfrm>
            <a:off x="327600" y="758880"/>
            <a:ext cx="3974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1" name=""/>
          <p:cNvSpPr/>
          <p:nvPr/>
        </p:nvSpPr>
        <p:spPr>
          <a:xfrm>
            <a:off x="351720" y="1401840"/>
            <a:ext cx="72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métr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longueur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2" name=""/>
          <p:cNvSpPr/>
          <p:nvPr/>
        </p:nvSpPr>
        <p:spPr>
          <a:xfrm>
            <a:off x="965160" y="2082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3" name=""/>
          <p:cNvSpPr/>
          <p:nvPr/>
        </p:nvSpPr>
        <p:spPr>
          <a:xfrm>
            <a:off x="350280" y="3255840"/>
            <a:ext cx="69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is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4" name=""/>
          <p:cNvSpPr/>
          <p:nvPr/>
        </p:nvSpPr>
        <p:spPr>
          <a:xfrm>
            <a:off x="352080" y="483084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traction auxotonique :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contraction qui s’effectue à charge et longueur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5" name=""/>
          <p:cNvSpPr/>
          <p:nvPr/>
        </p:nvSpPr>
        <p:spPr>
          <a:xfrm>
            <a:off x="977760" y="1968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6" name=""/>
          <p:cNvSpPr/>
          <p:nvPr/>
        </p:nvSpPr>
        <p:spPr>
          <a:xfrm>
            <a:off x="3610080" y="2259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7" name=""/>
          <p:cNvSpPr/>
          <p:nvPr/>
        </p:nvSpPr>
        <p:spPr>
          <a:xfrm>
            <a:off x="3098880" y="22604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8" name=""/>
          <p:cNvSpPr/>
          <p:nvPr/>
        </p:nvSpPr>
        <p:spPr>
          <a:xfrm>
            <a:off x="3838680" y="23385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9" name=""/>
          <p:cNvSpPr/>
          <p:nvPr/>
        </p:nvSpPr>
        <p:spPr>
          <a:xfrm>
            <a:off x="3695760" y="27306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4673520" y="20700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4686480" y="1955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7318440" y="22464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6807240" y="2247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7547040" y="23256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7213680" y="2717640"/>
            <a:ext cx="66024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1230480" y="2752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5445360" y="2752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965160" y="389880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977760" y="37846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3610080" y="4075200"/>
            <a:ext cx="2286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3098880" y="4076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3838680" y="41544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>
            <a:off x="3695760" y="454644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4673520" y="3860640"/>
            <a:ext cx="1973520" cy="38124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4686480" y="37720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7318440" y="406224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6603840" y="406404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7547040" y="4141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1230480" y="4568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5445360" y="45687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>
            <a:off x="7404120" y="434808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965160" y="5295960"/>
            <a:ext cx="216396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977760" y="51814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3610080" y="54720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3098880" y="547380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3838680" y="555156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4102200" y="6388200"/>
            <a:ext cx="266760" cy="29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>
            <a:off x="4673520" y="5257800"/>
            <a:ext cx="1973520" cy="38088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>
            <a:off x="4686480" y="5168880"/>
            <a:ext cx="0" cy="59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7318440" y="5459400"/>
            <a:ext cx="2286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>
            <a:off x="6603840" y="546084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>
            <a:off x="7547040" y="55389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1230480" y="5965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5445360" y="596592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t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>
            <a:off x="3597120" y="582768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>
            <a:off x="3645000" y="5867280"/>
            <a:ext cx="609480" cy="54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7975440" y="6006960"/>
            <a:ext cx="26676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7254720" y="581508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7308360" y="5876640"/>
            <a:ext cx="807840" cy="1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81440" y="206280"/>
            <a:ext cx="8605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longueur-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1903320" y="1308240"/>
            <a:ext cx="4962600" cy="3344760"/>
          </a:xfrm>
          <a:custGeom>
            <a:avLst/>
            <a:gdLst/>
            <a:ahLst/>
            <a:rect l="l" t="t" r="r" b="b"/>
            <a:pathLst>
              <a:path w="1422" h="918">
                <a:moveTo>
                  <a:pt x="0" y="0"/>
                </a:moveTo>
                <a:lnTo>
                  <a:pt x="0" y="918"/>
                </a:lnTo>
                <a:lnTo>
                  <a:pt x="1422" y="9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>
            <a:off x="3419640" y="1860480"/>
            <a:ext cx="1930320" cy="2792520"/>
          </a:xfrm>
          <a:custGeom>
            <a:avLst/>
            <a:gdLst/>
            <a:ahLst/>
            <a:rect l="l" t="t" r="r" b="b"/>
            <a:pathLst>
              <a:path w="810" h="1172">
                <a:moveTo>
                  <a:pt x="0" y="476"/>
                </a:moveTo>
                <a:cubicBezTo>
                  <a:pt x="47" y="416"/>
                  <a:pt x="153" y="0"/>
                  <a:pt x="288" y="116"/>
                </a:cubicBezTo>
                <a:cubicBezTo>
                  <a:pt x="423" y="232"/>
                  <a:pt x="701" y="952"/>
                  <a:pt x="810" y="117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400536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3776760" y="1479600"/>
            <a:ext cx="1758960" cy="3173400"/>
          </a:xfrm>
          <a:custGeom>
            <a:avLst/>
            <a:gdLst/>
            <a:ahLst/>
            <a:rect l="l" t="t" r="r" b="b"/>
            <a:pathLst>
              <a:path w="798" h="1332">
                <a:moveTo>
                  <a:pt x="0" y="1332"/>
                </a:moveTo>
                <a:cubicBezTo>
                  <a:pt x="188" y="1170"/>
                  <a:pt x="377" y="1008"/>
                  <a:pt x="510" y="786"/>
                </a:cubicBezTo>
                <a:cubicBezTo>
                  <a:pt x="643" y="564"/>
                  <a:pt x="720" y="282"/>
                  <a:pt x="79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3433680" y="1522440"/>
            <a:ext cx="2102040" cy="1471680"/>
          </a:xfrm>
          <a:custGeom>
            <a:avLst/>
            <a:gdLst/>
            <a:ahLst/>
            <a:rect l="l" t="t" r="r" b="b"/>
            <a:pathLst>
              <a:path w="882" h="618">
                <a:moveTo>
                  <a:pt x="0" y="618"/>
                </a:moveTo>
                <a:cubicBezTo>
                  <a:pt x="22" y="568"/>
                  <a:pt x="87" y="390"/>
                  <a:pt x="132" y="318"/>
                </a:cubicBezTo>
                <a:cubicBezTo>
                  <a:pt x="177" y="246"/>
                  <a:pt x="215" y="175"/>
                  <a:pt x="270" y="186"/>
                </a:cubicBezTo>
                <a:cubicBezTo>
                  <a:pt x="325" y="197"/>
                  <a:pt x="401" y="345"/>
                  <a:pt x="462" y="384"/>
                </a:cubicBezTo>
                <a:cubicBezTo>
                  <a:pt x="523" y="423"/>
                  <a:pt x="566" y="484"/>
                  <a:pt x="636" y="420"/>
                </a:cubicBezTo>
                <a:cubicBezTo>
                  <a:pt x="706" y="356"/>
                  <a:pt x="831" y="88"/>
                  <a:pt x="8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3760560" y="469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>
            <a:off x="2510640" y="5140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ongueur du faisceau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 rot="16200000">
            <a:off x="448200" y="272808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so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5441040" y="229716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pas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 flipH="1">
            <a:off x="5221080" y="25653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 flipH="1">
            <a:off x="5049720" y="4010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4" name=""/>
          <p:cNvSpPr/>
          <p:nvPr/>
        </p:nvSpPr>
        <p:spPr>
          <a:xfrm>
            <a:off x="5630400" y="375444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tension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5" name=""/>
          <p:cNvSpPr/>
          <p:nvPr/>
        </p:nvSpPr>
        <p:spPr>
          <a:xfrm flipH="1">
            <a:off x="5249880" y="2079720"/>
            <a:ext cx="52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5731560" y="179712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Arial"/>
              </a:rPr>
              <a:t>tension 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7" name=""/>
          <p:cNvSpPr/>
          <p:nvPr/>
        </p:nvSpPr>
        <p:spPr>
          <a:xfrm>
            <a:off x="1196280" y="5703840"/>
            <a:ext cx="678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L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Arial"/>
                <a:ea typeface="Arial"/>
              </a:rPr>
              <a:t>0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 : longueur du muscle pour lequel la tension générée est max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9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0" name=""/>
          <p:cNvSpPr/>
          <p:nvPr/>
        </p:nvSpPr>
        <p:spPr>
          <a:xfrm>
            <a:off x="181440" y="206280"/>
            <a:ext cx="8605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longueur-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1" name=""/>
          <p:cNvSpPr/>
          <p:nvPr/>
        </p:nvSpPr>
        <p:spPr>
          <a:xfrm>
            <a:off x="773280" y="1308240"/>
            <a:ext cx="6092640" cy="3344760"/>
          </a:xfrm>
          <a:custGeom>
            <a:avLst/>
            <a:gdLst/>
            <a:ahLst/>
            <a:rect l="l" t="t" r="r" b="b"/>
            <a:pathLst>
              <a:path w="1422" h="918">
                <a:moveTo>
                  <a:pt x="0" y="0"/>
                </a:moveTo>
                <a:lnTo>
                  <a:pt x="0" y="918"/>
                </a:lnTo>
                <a:lnTo>
                  <a:pt x="1422" y="9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2" name=""/>
          <p:cNvSpPr/>
          <p:nvPr/>
        </p:nvSpPr>
        <p:spPr>
          <a:xfrm>
            <a:off x="3419640" y="1860480"/>
            <a:ext cx="1930320" cy="2792520"/>
          </a:xfrm>
          <a:custGeom>
            <a:avLst/>
            <a:gdLst/>
            <a:ahLst/>
            <a:rect l="l" t="t" r="r" b="b"/>
            <a:pathLst>
              <a:path w="810" h="1172">
                <a:moveTo>
                  <a:pt x="0" y="476"/>
                </a:moveTo>
                <a:cubicBezTo>
                  <a:pt x="47" y="416"/>
                  <a:pt x="153" y="0"/>
                  <a:pt x="288" y="116"/>
                </a:cubicBezTo>
                <a:cubicBezTo>
                  <a:pt x="423" y="232"/>
                  <a:pt x="701" y="952"/>
                  <a:pt x="810" y="117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3" name=""/>
          <p:cNvSpPr/>
          <p:nvPr/>
        </p:nvSpPr>
        <p:spPr>
          <a:xfrm>
            <a:off x="400536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4" name=""/>
          <p:cNvSpPr/>
          <p:nvPr/>
        </p:nvSpPr>
        <p:spPr>
          <a:xfrm>
            <a:off x="3760560" y="469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5" name=""/>
          <p:cNvSpPr/>
          <p:nvPr/>
        </p:nvSpPr>
        <p:spPr>
          <a:xfrm>
            <a:off x="2510640" y="497520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ongueur du faisceau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6" name=""/>
          <p:cNvSpPr/>
          <p:nvPr/>
        </p:nvSpPr>
        <p:spPr>
          <a:xfrm rot="16200000">
            <a:off x="-478440" y="281700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so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 flipH="1">
            <a:off x="5049720" y="4010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5630400" y="375444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tension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>
            <a:off x="1187640" y="5703840"/>
            <a:ext cx="522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les éléments élastiques sont sous 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  <a:ea typeface="Arial"/>
              </a:rPr>
              <a:t>toutes les têtes de myosine peuvent se lier à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0" name=""/>
          <p:cNvGrpSpPr/>
          <p:nvPr/>
        </p:nvGrpSpPr>
        <p:grpSpPr>
          <a:xfrm>
            <a:off x="2616120" y="1706400"/>
            <a:ext cx="2949480" cy="304560"/>
            <a:chOff x="2616120" y="1706400"/>
            <a:chExt cx="2949480" cy="304560"/>
          </a:xfrm>
        </p:grpSpPr>
        <p:sp>
          <p:nvSpPr>
            <p:cNvPr id="8921" name=""/>
            <p:cNvSpPr/>
            <p:nvPr/>
          </p:nvSpPr>
          <p:spPr>
            <a:xfrm>
              <a:off x="3124080" y="1706400"/>
              <a:ext cx="0" cy="30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5124240" y="1726920"/>
              <a:ext cx="0" cy="28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2616120" y="1793520"/>
              <a:ext cx="1270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5438520" y="1807920"/>
              <a:ext cx="1270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2692440" y="1854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5108400" y="185868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3133440" y="1945800"/>
              <a:ext cx="662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4375080" y="1942920"/>
              <a:ext cx="71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4363920" y="177768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3139920" y="1771200"/>
              <a:ext cx="638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1" name=""/>
            <p:cNvGrpSpPr/>
            <p:nvPr/>
          </p:nvGrpSpPr>
          <p:grpSpPr>
            <a:xfrm>
              <a:off x="3404520" y="1775520"/>
              <a:ext cx="1364760" cy="84240"/>
              <a:chOff x="3404520" y="1775520"/>
              <a:chExt cx="1364760" cy="84240"/>
            </a:xfrm>
          </p:grpSpPr>
          <p:grpSp>
            <p:nvGrpSpPr>
              <p:cNvPr id="8932" name=""/>
              <p:cNvGrpSpPr/>
              <p:nvPr/>
            </p:nvGrpSpPr>
            <p:grpSpPr>
              <a:xfrm>
                <a:off x="3745800" y="1782000"/>
                <a:ext cx="367200" cy="77760"/>
                <a:chOff x="3745800" y="1782000"/>
                <a:chExt cx="367200" cy="77760"/>
              </a:xfrm>
            </p:grpSpPr>
            <p:sp>
              <p:nvSpPr>
                <p:cNvPr id="8933" name=""/>
                <p:cNvSpPr/>
                <p:nvPr/>
              </p:nvSpPr>
              <p:spPr>
                <a:xfrm flipH="1">
                  <a:off x="3762360" y="181872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4" name=""/>
                <p:cNvSpPr/>
                <p:nvPr/>
              </p:nvSpPr>
              <p:spPr>
                <a:xfrm flipH="1" rot="19929600">
                  <a:off x="3755520" y="17838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5" name=""/>
              <p:cNvGrpSpPr/>
              <p:nvPr/>
            </p:nvGrpSpPr>
            <p:grpSpPr>
              <a:xfrm>
                <a:off x="4038480" y="1782000"/>
                <a:ext cx="367200" cy="77760"/>
                <a:chOff x="4038480" y="1782000"/>
                <a:chExt cx="367200" cy="77760"/>
              </a:xfrm>
            </p:grpSpPr>
            <p:sp>
              <p:nvSpPr>
                <p:cNvPr id="8936" name=""/>
                <p:cNvSpPr/>
                <p:nvPr/>
              </p:nvSpPr>
              <p:spPr>
                <a:xfrm>
                  <a:off x="4038480" y="181872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7" name=""/>
                <p:cNvSpPr/>
                <p:nvPr/>
              </p:nvSpPr>
              <p:spPr>
                <a:xfrm rot="1670400">
                  <a:off x="4374360" y="17838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8" name=""/>
              <p:cNvGrpSpPr/>
              <p:nvPr/>
            </p:nvGrpSpPr>
            <p:grpSpPr>
              <a:xfrm>
                <a:off x="4160880" y="1782000"/>
                <a:ext cx="368640" cy="77760"/>
                <a:chOff x="4160880" y="1782000"/>
                <a:chExt cx="368640" cy="77760"/>
              </a:xfrm>
            </p:grpSpPr>
            <p:sp>
              <p:nvSpPr>
                <p:cNvPr id="8939" name=""/>
                <p:cNvSpPr/>
                <p:nvPr/>
              </p:nvSpPr>
              <p:spPr>
                <a:xfrm>
                  <a:off x="4160880" y="1818720"/>
                  <a:ext cx="35208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0" name=""/>
                <p:cNvSpPr/>
                <p:nvPr/>
              </p:nvSpPr>
              <p:spPr>
                <a:xfrm rot="1670400">
                  <a:off x="4498200" y="17838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1" name=""/>
              <p:cNvGrpSpPr/>
              <p:nvPr/>
            </p:nvGrpSpPr>
            <p:grpSpPr>
              <a:xfrm>
                <a:off x="4276440" y="1780200"/>
                <a:ext cx="367560" cy="78480"/>
                <a:chOff x="4276440" y="1780200"/>
                <a:chExt cx="367560" cy="78480"/>
              </a:xfrm>
            </p:grpSpPr>
            <p:sp>
              <p:nvSpPr>
                <p:cNvPr id="8942" name=""/>
                <p:cNvSpPr/>
                <p:nvPr/>
              </p:nvSpPr>
              <p:spPr>
                <a:xfrm>
                  <a:off x="4276440" y="1817280"/>
                  <a:ext cx="35100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3" name=""/>
                <p:cNvSpPr/>
                <p:nvPr/>
              </p:nvSpPr>
              <p:spPr>
                <a:xfrm rot="1670400">
                  <a:off x="4612680" y="17820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4" name=""/>
              <p:cNvGrpSpPr/>
              <p:nvPr/>
            </p:nvGrpSpPr>
            <p:grpSpPr>
              <a:xfrm>
                <a:off x="3645360" y="1780200"/>
                <a:ext cx="369000" cy="78480"/>
                <a:chOff x="3645360" y="1780200"/>
                <a:chExt cx="369000" cy="78480"/>
              </a:xfrm>
            </p:grpSpPr>
            <p:sp>
              <p:nvSpPr>
                <p:cNvPr id="8945" name=""/>
                <p:cNvSpPr/>
                <p:nvPr/>
              </p:nvSpPr>
              <p:spPr>
                <a:xfrm flipH="1">
                  <a:off x="3661560" y="1817280"/>
                  <a:ext cx="35244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6" name=""/>
                <p:cNvSpPr/>
                <p:nvPr/>
              </p:nvSpPr>
              <p:spPr>
                <a:xfrm flipH="1" rot="19929600">
                  <a:off x="3655080" y="17820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7" name=""/>
              <p:cNvGrpSpPr/>
              <p:nvPr/>
            </p:nvGrpSpPr>
            <p:grpSpPr>
              <a:xfrm>
                <a:off x="3536280" y="1778760"/>
                <a:ext cx="367200" cy="77760"/>
                <a:chOff x="3536280" y="1778760"/>
                <a:chExt cx="367200" cy="77760"/>
              </a:xfrm>
            </p:grpSpPr>
            <p:sp>
              <p:nvSpPr>
                <p:cNvPr id="8948" name=""/>
                <p:cNvSpPr/>
                <p:nvPr/>
              </p:nvSpPr>
              <p:spPr>
                <a:xfrm flipH="1">
                  <a:off x="3552840" y="181548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9" name=""/>
                <p:cNvSpPr/>
                <p:nvPr/>
              </p:nvSpPr>
              <p:spPr>
                <a:xfrm flipH="1" rot="19929600">
                  <a:off x="3546000" y="178056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0" name=""/>
              <p:cNvGrpSpPr/>
              <p:nvPr/>
            </p:nvGrpSpPr>
            <p:grpSpPr>
              <a:xfrm>
                <a:off x="4402080" y="1782000"/>
                <a:ext cx="367200" cy="77760"/>
                <a:chOff x="4402080" y="1782000"/>
                <a:chExt cx="367200" cy="77760"/>
              </a:xfrm>
            </p:grpSpPr>
            <p:sp>
              <p:nvSpPr>
                <p:cNvPr id="8951" name=""/>
                <p:cNvSpPr/>
                <p:nvPr/>
              </p:nvSpPr>
              <p:spPr>
                <a:xfrm>
                  <a:off x="4402080" y="181872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2" name=""/>
                <p:cNvSpPr/>
                <p:nvPr/>
              </p:nvSpPr>
              <p:spPr>
                <a:xfrm rot="1670400">
                  <a:off x="4737960" y="17838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3" name=""/>
              <p:cNvGrpSpPr/>
              <p:nvPr/>
            </p:nvGrpSpPr>
            <p:grpSpPr>
              <a:xfrm>
                <a:off x="3404520" y="1775520"/>
                <a:ext cx="367200" cy="78480"/>
                <a:chOff x="3404520" y="1775520"/>
                <a:chExt cx="367200" cy="78480"/>
              </a:xfrm>
            </p:grpSpPr>
            <p:sp>
              <p:nvSpPr>
                <p:cNvPr id="8954" name=""/>
                <p:cNvSpPr/>
                <p:nvPr/>
              </p:nvSpPr>
              <p:spPr>
                <a:xfrm flipH="1">
                  <a:off x="3421080" y="1812600"/>
                  <a:ext cx="35064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5" name=""/>
                <p:cNvSpPr/>
                <p:nvPr/>
              </p:nvSpPr>
              <p:spPr>
                <a:xfrm flipH="1" rot="19929600">
                  <a:off x="3414240" y="17773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56" name=""/>
            <p:cNvGrpSpPr/>
            <p:nvPr/>
          </p:nvGrpSpPr>
          <p:grpSpPr>
            <a:xfrm>
              <a:off x="3411000" y="1855440"/>
              <a:ext cx="1364760" cy="84240"/>
              <a:chOff x="3411000" y="1855440"/>
              <a:chExt cx="1364760" cy="84240"/>
            </a:xfrm>
          </p:grpSpPr>
          <p:grpSp>
            <p:nvGrpSpPr>
              <p:cNvPr id="8957" name=""/>
              <p:cNvGrpSpPr/>
              <p:nvPr/>
            </p:nvGrpSpPr>
            <p:grpSpPr>
              <a:xfrm>
                <a:off x="3752280" y="1855440"/>
                <a:ext cx="367200" cy="77760"/>
                <a:chOff x="3752280" y="1855440"/>
                <a:chExt cx="367200" cy="77760"/>
              </a:xfrm>
            </p:grpSpPr>
            <p:sp>
              <p:nvSpPr>
                <p:cNvPr id="8958" name=""/>
                <p:cNvSpPr/>
                <p:nvPr/>
              </p:nvSpPr>
              <p:spPr>
                <a:xfrm flipH="1" flipV="1">
                  <a:off x="3768840" y="185544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9" name=""/>
                <p:cNvSpPr/>
                <p:nvPr/>
              </p:nvSpPr>
              <p:spPr>
                <a:xfrm flipH="1" flipV="1" rot="1670400">
                  <a:off x="3762000" y="18817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0" name=""/>
              <p:cNvGrpSpPr/>
              <p:nvPr/>
            </p:nvGrpSpPr>
            <p:grpSpPr>
              <a:xfrm>
                <a:off x="4044960" y="1855440"/>
                <a:ext cx="367200" cy="77760"/>
                <a:chOff x="4044960" y="1855440"/>
                <a:chExt cx="367200" cy="77760"/>
              </a:xfrm>
            </p:grpSpPr>
            <p:sp>
              <p:nvSpPr>
                <p:cNvPr id="8961" name=""/>
                <p:cNvSpPr/>
                <p:nvPr/>
              </p:nvSpPr>
              <p:spPr>
                <a:xfrm flipV="1">
                  <a:off x="4044960" y="185544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2" name=""/>
                <p:cNvSpPr/>
                <p:nvPr/>
              </p:nvSpPr>
              <p:spPr>
                <a:xfrm flipV="1" rot="19929600">
                  <a:off x="4380840" y="18817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3" name=""/>
              <p:cNvGrpSpPr/>
              <p:nvPr/>
            </p:nvGrpSpPr>
            <p:grpSpPr>
              <a:xfrm>
                <a:off x="4167360" y="1855440"/>
                <a:ext cx="368640" cy="77760"/>
                <a:chOff x="4167360" y="1855440"/>
                <a:chExt cx="368640" cy="77760"/>
              </a:xfrm>
            </p:grpSpPr>
            <p:sp>
              <p:nvSpPr>
                <p:cNvPr id="8964" name=""/>
                <p:cNvSpPr/>
                <p:nvPr/>
              </p:nvSpPr>
              <p:spPr>
                <a:xfrm flipV="1">
                  <a:off x="4167360" y="1855440"/>
                  <a:ext cx="35208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5" name=""/>
                <p:cNvSpPr/>
                <p:nvPr/>
              </p:nvSpPr>
              <p:spPr>
                <a:xfrm flipV="1" rot="19929600">
                  <a:off x="4504680" y="18817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6" name=""/>
              <p:cNvGrpSpPr/>
              <p:nvPr/>
            </p:nvGrpSpPr>
            <p:grpSpPr>
              <a:xfrm>
                <a:off x="4282920" y="1856520"/>
                <a:ext cx="367560" cy="78480"/>
                <a:chOff x="4282920" y="1856520"/>
                <a:chExt cx="367560" cy="78480"/>
              </a:xfrm>
            </p:grpSpPr>
            <p:sp>
              <p:nvSpPr>
                <p:cNvPr id="8967" name=""/>
                <p:cNvSpPr/>
                <p:nvPr/>
              </p:nvSpPr>
              <p:spPr>
                <a:xfrm flipV="1">
                  <a:off x="4282920" y="1856160"/>
                  <a:ext cx="35100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8" name=""/>
                <p:cNvSpPr/>
                <p:nvPr/>
              </p:nvSpPr>
              <p:spPr>
                <a:xfrm flipV="1" rot="19929600">
                  <a:off x="4619160" y="18835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9" name=""/>
              <p:cNvGrpSpPr/>
              <p:nvPr/>
            </p:nvGrpSpPr>
            <p:grpSpPr>
              <a:xfrm>
                <a:off x="3651840" y="1856520"/>
                <a:ext cx="369000" cy="78480"/>
                <a:chOff x="3651840" y="1856520"/>
                <a:chExt cx="369000" cy="78480"/>
              </a:xfrm>
            </p:grpSpPr>
            <p:sp>
              <p:nvSpPr>
                <p:cNvPr id="8970" name=""/>
                <p:cNvSpPr/>
                <p:nvPr/>
              </p:nvSpPr>
              <p:spPr>
                <a:xfrm flipH="1" flipV="1">
                  <a:off x="3668040" y="1856160"/>
                  <a:ext cx="35244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1" name=""/>
                <p:cNvSpPr/>
                <p:nvPr/>
              </p:nvSpPr>
              <p:spPr>
                <a:xfrm flipH="1" flipV="1" rot="1670400">
                  <a:off x="3661560" y="18835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2" name=""/>
              <p:cNvGrpSpPr/>
              <p:nvPr/>
            </p:nvGrpSpPr>
            <p:grpSpPr>
              <a:xfrm>
                <a:off x="3542760" y="1858680"/>
                <a:ext cx="367200" cy="77760"/>
                <a:chOff x="3542760" y="1858680"/>
                <a:chExt cx="367200" cy="77760"/>
              </a:xfrm>
            </p:grpSpPr>
            <p:sp>
              <p:nvSpPr>
                <p:cNvPr id="8973" name=""/>
                <p:cNvSpPr/>
                <p:nvPr/>
              </p:nvSpPr>
              <p:spPr>
                <a:xfrm flipH="1" flipV="1">
                  <a:off x="3559320" y="185868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4" name=""/>
                <p:cNvSpPr/>
                <p:nvPr/>
              </p:nvSpPr>
              <p:spPr>
                <a:xfrm flipH="1" flipV="1" rot="1670400">
                  <a:off x="3552480" y="188496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5" name=""/>
              <p:cNvGrpSpPr/>
              <p:nvPr/>
            </p:nvGrpSpPr>
            <p:grpSpPr>
              <a:xfrm>
                <a:off x="4408560" y="1855440"/>
                <a:ext cx="367200" cy="77760"/>
                <a:chOff x="4408560" y="1855440"/>
                <a:chExt cx="367200" cy="77760"/>
              </a:xfrm>
            </p:grpSpPr>
            <p:sp>
              <p:nvSpPr>
                <p:cNvPr id="8976" name=""/>
                <p:cNvSpPr/>
                <p:nvPr/>
              </p:nvSpPr>
              <p:spPr>
                <a:xfrm flipV="1">
                  <a:off x="4408560" y="1855440"/>
                  <a:ext cx="350640" cy="410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7" name=""/>
                <p:cNvSpPr/>
                <p:nvPr/>
              </p:nvSpPr>
              <p:spPr>
                <a:xfrm flipV="1" rot="19929600">
                  <a:off x="4744440" y="188172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8" name=""/>
              <p:cNvGrpSpPr/>
              <p:nvPr/>
            </p:nvGrpSpPr>
            <p:grpSpPr>
              <a:xfrm>
                <a:off x="3411000" y="1861200"/>
                <a:ext cx="367200" cy="78480"/>
                <a:chOff x="3411000" y="1861200"/>
                <a:chExt cx="367200" cy="78480"/>
              </a:xfrm>
            </p:grpSpPr>
            <p:sp>
              <p:nvSpPr>
                <p:cNvPr id="8979" name=""/>
                <p:cNvSpPr/>
                <p:nvPr/>
              </p:nvSpPr>
              <p:spPr>
                <a:xfrm flipH="1" flipV="1">
                  <a:off x="3427560" y="1860840"/>
                  <a:ext cx="350640" cy="4140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0" name=""/>
                <p:cNvSpPr/>
                <p:nvPr/>
              </p:nvSpPr>
              <p:spPr>
                <a:xfrm flipH="1" flipV="1" rot="1670400">
                  <a:off x="3420720" y="1888200"/>
                  <a:ext cx="20880" cy="49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81" name=""/>
          <p:cNvSpPr/>
          <p:nvPr/>
        </p:nvSpPr>
        <p:spPr>
          <a:xfrm>
            <a:off x="793080" y="873000"/>
            <a:ext cx="6784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: longueur du muscle pour lequel la tension générée est max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181440" y="206280"/>
            <a:ext cx="8605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longueur-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773280" y="1308240"/>
            <a:ext cx="6092640" cy="3344760"/>
          </a:xfrm>
          <a:custGeom>
            <a:avLst/>
            <a:gdLst/>
            <a:ahLst/>
            <a:rect l="l" t="t" r="r" b="b"/>
            <a:pathLst>
              <a:path w="1422" h="918">
                <a:moveTo>
                  <a:pt x="0" y="0"/>
                </a:moveTo>
                <a:lnTo>
                  <a:pt x="0" y="918"/>
                </a:lnTo>
                <a:lnTo>
                  <a:pt x="1422" y="9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>
            <a:off x="3419640" y="1860480"/>
            <a:ext cx="1930320" cy="2792520"/>
          </a:xfrm>
          <a:custGeom>
            <a:avLst/>
            <a:gdLst/>
            <a:ahLst/>
            <a:rect l="l" t="t" r="r" b="b"/>
            <a:pathLst>
              <a:path w="810" h="1172">
                <a:moveTo>
                  <a:pt x="0" y="476"/>
                </a:moveTo>
                <a:cubicBezTo>
                  <a:pt x="47" y="416"/>
                  <a:pt x="153" y="0"/>
                  <a:pt x="288" y="116"/>
                </a:cubicBezTo>
                <a:cubicBezTo>
                  <a:pt x="423" y="232"/>
                  <a:pt x="701" y="952"/>
                  <a:pt x="810" y="117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>
            <a:off x="400536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3760560" y="469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>
            <a:off x="2510640" y="5140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ongueur du faisceau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 rot="16200000">
            <a:off x="-478440" y="281700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so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 flipH="1">
            <a:off x="5049720" y="4010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>
            <a:off x="5630400" y="375444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tension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>
            <a:off x="1185480" y="5703840"/>
            <a:ext cx="49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les éléments élastiques ne sont pas sous 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2349360" y="3040200"/>
            <a:ext cx="0" cy="303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3981600" y="3060720"/>
            <a:ext cx="0" cy="284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1841400" y="3127320"/>
            <a:ext cx="1270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4308480" y="3141720"/>
            <a:ext cx="1270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>
            <a:off x="2359080" y="327960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>
            <a:off x="3232080" y="3276720"/>
            <a:ext cx="7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3220920" y="31114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>
            <a:off x="2365200" y="3105000"/>
            <a:ext cx="63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2" name=""/>
          <p:cNvGrpSpPr/>
          <p:nvPr/>
        </p:nvGrpSpPr>
        <p:grpSpPr>
          <a:xfrm>
            <a:off x="2477520" y="3109320"/>
            <a:ext cx="1364760" cy="84240"/>
            <a:chOff x="2477520" y="3109320"/>
            <a:chExt cx="1364760" cy="84240"/>
          </a:xfrm>
        </p:grpSpPr>
        <p:grpSp>
          <p:nvGrpSpPr>
            <p:cNvPr id="9003" name=""/>
            <p:cNvGrpSpPr/>
            <p:nvPr/>
          </p:nvGrpSpPr>
          <p:grpSpPr>
            <a:xfrm>
              <a:off x="2818800" y="3115800"/>
              <a:ext cx="367200" cy="77760"/>
              <a:chOff x="2818800" y="3115800"/>
              <a:chExt cx="367200" cy="77760"/>
            </a:xfrm>
          </p:grpSpPr>
          <p:sp>
            <p:nvSpPr>
              <p:cNvPr id="9004" name=""/>
              <p:cNvSpPr/>
              <p:nvPr/>
            </p:nvSpPr>
            <p:spPr>
              <a:xfrm flipH="1">
                <a:off x="2835360" y="3152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 flipH="1" rot="19929600">
                <a:off x="2828520" y="3117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6" name=""/>
            <p:cNvGrpSpPr/>
            <p:nvPr/>
          </p:nvGrpSpPr>
          <p:grpSpPr>
            <a:xfrm>
              <a:off x="3111480" y="3115800"/>
              <a:ext cx="367200" cy="77760"/>
              <a:chOff x="3111480" y="3115800"/>
              <a:chExt cx="367200" cy="77760"/>
            </a:xfrm>
          </p:grpSpPr>
          <p:sp>
            <p:nvSpPr>
              <p:cNvPr id="9007" name=""/>
              <p:cNvSpPr/>
              <p:nvPr/>
            </p:nvSpPr>
            <p:spPr>
              <a:xfrm>
                <a:off x="3111480" y="3152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 rot="1670400">
                <a:off x="3447360" y="3117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9" name=""/>
            <p:cNvGrpSpPr/>
            <p:nvPr/>
          </p:nvGrpSpPr>
          <p:grpSpPr>
            <a:xfrm>
              <a:off x="3233880" y="3115800"/>
              <a:ext cx="368640" cy="77760"/>
              <a:chOff x="3233880" y="3115800"/>
              <a:chExt cx="368640" cy="77760"/>
            </a:xfrm>
          </p:grpSpPr>
          <p:sp>
            <p:nvSpPr>
              <p:cNvPr id="9010" name=""/>
              <p:cNvSpPr/>
              <p:nvPr/>
            </p:nvSpPr>
            <p:spPr>
              <a:xfrm>
                <a:off x="3233880" y="315252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 rot="1670400">
                <a:off x="3571200" y="3117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2" name=""/>
            <p:cNvGrpSpPr/>
            <p:nvPr/>
          </p:nvGrpSpPr>
          <p:grpSpPr>
            <a:xfrm>
              <a:off x="3349440" y="3114000"/>
              <a:ext cx="367560" cy="78480"/>
              <a:chOff x="3349440" y="3114000"/>
              <a:chExt cx="367560" cy="78480"/>
            </a:xfrm>
          </p:grpSpPr>
          <p:sp>
            <p:nvSpPr>
              <p:cNvPr id="9013" name=""/>
              <p:cNvSpPr/>
              <p:nvPr/>
            </p:nvSpPr>
            <p:spPr>
              <a:xfrm>
                <a:off x="3349440" y="315108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 rot="1670400">
                <a:off x="3685680" y="3115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5" name=""/>
            <p:cNvGrpSpPr/>
            <p:nvPr/>
          </p:nvGrpSpPr>
          <p:grpSpPr>
            <a:xfrm>
              <a:off x="2718360" y="3114000"/>
              <a:ext cx="369000" cy="78480"/>
              <a:chOff x="2718360" y="3114000"/>
              <a:chExt cx="369000" cy="78480"/>
            </a:xfrm>
          </p:grpSpPr>
          <p:sp>
            <p:nvSpPr>
              <p:cNvPr id="9016" name=""/>
              <p:cNvSpPr/>
              <p:nvPr/>
            </p:nvSpPr>
            <p:spPr>
              <a:xfrm flipH="1">
                <a:off x="2734560" y="315108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 flipH="1" rot="19929600">
                <a:off x="2728080" y="3115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8" name=""/>
            <p:cNvGrpSpPr/>
            <p:nvPr/>
          </p:nvGrpSpPr>
          <p:grpSpPr>
            <a:xfrm>
              <a:off x="2609280" y="3112560"/>
              <a:ext cx="367200" cy="77760"/>
              <a:chOff x="2609280" y="3112560"/>
              <a:chExt cx="367200" cy="77760"/>
            </a:xfrm>
          </p:grpSpPr>
          <p:sp>
            <p:nvSpPr>
              <p:cNvPr id="9019" name=""/>
              <p:cNvSpPr/>
              <p:nvPr/>
            </p:nvSpPr>
            <p:spPr>
              <a:xfrm flipH="1">
                <a:off x="2625840" y="314928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 flipH="1" rot="19929600">
                <a:off x="2619000" y="311436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1" name=""/>
            <p:cNvGrpSpPr/>
            <p:nvPr/>
          </p:nvGrpSpPr>
          <p:grpSpPr>
            <a:xfrm>
              <a:off x="3475080" y="3115800"/>
              <a:ext cx="367200" cy="77760"/>
              <a:chOff x="3475080" y="3115800"/>
              <a:chExt cx="367200" cy="77760"/>
            </a:xfrm>
          </p:grpSpPr>
          <p:sp>
            <p:nvSpPr>
              <p:cNvPr id="9022" name=""/>
              <p:cNvSpPr/>
              <p:nvPr/>
            </p:nvSpPr>
            <p:spPr>
              <a:xfrm>
                <a:off x="3475080" y="3152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 rot="1670400">
                <a:off x="3810960" y="3117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4" name=""/>
            <p:cNvGrpSpPr/>
            <p:nvPr/>
          </p:nvGrpSpPr>
          <p:grpSpPr>
            <a:xfrm>
              <a:off x="2477520" y="3109320"/>
              <a:ext cx="367200" cy="78480"/>
              <a:chOff x="2477520" y="3109320"/>
              <a:chExt cx="367200" cy="78480"/>
            </a:xfrm>
          </p:grpSpPr>
          <p:sp>
            <p:nvSpPr>
              <p:cNvPr id="9025" name=""/>
              <p:cNvSpPr/>
              <p:nvPr/>
            </p:nvSpPr>
            <p:spPr>
              <a:xfrm flipH="1">
                <a:off x="2494080" y="314640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 flipH="1" rot="19929600">
                <a:off x="2487240" y="31111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27" name=""/>
          <p:cNvGrpSpPr/>
          <p:nvPr/>
        </p:nvGrpSpPr>
        <p:grpSpPr>
          <a:xfrm>
            <a:off x="2484000" y="3189240"/>
            <a:ext cx="1364760" cy="84240"/>
            <a:chOff x="2484000" y="3189240"/>
            <a:chExt cx="1364760" cy="84240"/>
          </a:xfrm>
        </p:grpSpPr>
        <p:grpSp>
          <p:nvGrpSpPr>
            <p:cNvPr id="9028" name=""/>
            <p:cNvGrpSpPr/>
            <p:nvPr/>
          </p:nvGrpSpPr>
          <p:grpSpPr>
            <a:xfrm>
              <a:off x="2825280" y="3189240"/>
              <a:ext cx="367200" cy="77760"/>
              <a:chOff x="2825280" y="3189240"/>
              <a:chExt cx="367200" cy="77760"/>
            </a:xfrm>
          </p:grpSpPr>
          <p:sp>
            <p:nvSpPr>
              <p:cNvPr id="9029" name=""/>
              <p:cNvSpPr/>
              <p:nvPr/>
            </p:nvSpPr>
            <p:spPr>
              <a:xfrm flipH="1" flipV="1">
                <a:off x="2841840" y="3189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 flipH="1" flipV="1" rot="1670400">
                <a:off x="2835000" y="3215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1" name=""/>
            <p:cNvGrpSpPr/>
            <p:nvPr/>
          </p:nvGrpSpPr>
          <p:grpSpPr>
            <a:xfrm>
              <a:off x="3117960" y="3189240"/>
              <a:ext cx="367200" cy="77760"/>
              <a:chOff x="3117960" y="3189240"/>
              <a:chExt cx="367200" cy="77760"/>
            </a:xfrm>
          </p:grpSpPr>
          <p:sp>
            <p:nvSpPr>
              <p:cNvPr id="9032" name=""/>
              <p:cNvSpPr/>
              <p:nvPr/>
            </p:nvSpPr>
            <p:spPr>
              <a:xfrm flipV="1">
                <a:off x="3117960" y="3189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 flipV="1" rot="19929600">
                <a:off x="3453840" y="3215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4" name=""/>
            <p:cNvGrpSpPr/>
            <p:nvPr/>
          </p:nvGrpSpPr>
          <p:grpSpPr>
            <a:xfrm>
              <a:off x="3240360" y="3189240"/>
              <a:ext cx="368640" cy="77760"/>
              <a:chOff x="3240360" y="3189240"/>
              <a:chExt cx="368640" cy="77760"/>
            </a:xfrm>
          </p:grpSpPr>
          <p:sp>
            <p:nvSpPr>
              <p:cNvPr id="9035" name=""/>
              <p:cNvSpPr/>
              <p:nvPr/>
            </p:nvSpPr>
            <p:spPr>
              <a:xfrm flipV="1">
                <a:off x="3240360" y="318924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 flipV="1" rot="19929600">
                <a:off x="3577680" y="3215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7" name=""/>
            <p:cNvGrpSpPr/>
            <p:nvPr/>
          </p:nvGrpSpPr>
          <p:grpSpPr>
            <a:xfrm>
              <a:off x="3355920" y="3190320"/>
              <a:ext cx="367560" cy="78480"/>
              <a:chOff x="3355920" y="3190320"/>
              <a:chExt cx="367560" cy="78480"/>
            </a:xfrm>
          </p:grpSpPr>
          <p:sp>
            <p:nvSpPr>
              <p:cNvPr id="9038" name=""/>
              <p:cNvSpPr/>
              <p:nvPr/>
            </p:nvSpPr>
            <p:spPr>
              <a:xfrm flipV="1">
                <a:off x="3355920" y="318996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 flipV="1" rot="19929600">
                <a:off x="3692160" y="32173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0" name=""/>
            <p:cNvGrpSpPr/>
            <p:nvPr/>
          </p:nvGrpSpPr>
          <p:grpSpPr>
            <a:xfrm>
              <a:off x="2724840" y="3190320"/>
              <a:ext cx="369000" cy="78480"/>
              <a:chOff x="2724840" y="3190320"/>
              <a:chExt cx="369000" cy="78480"/>
            </a:xfrm>
          </p:grpSpPr>
          <p:sp>
            <p:nvSpPr>
              <p:cNvPr id="9041" name=""/>
              <p:cNvSpPr/>
              <p:nvPr/>
            </p:nvSpPr>
            <p:spPr>
              <a:xfrm flipH="1" flipV="1">
                <a:off x="2741040" y="318996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 flipH="1" flipV="1" rot="1670400">
                <a:off x="2734560" y="32173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3" name=""/>
            <p:cNvGrpSpPr/>
            <p:nvPr/>
          </p:nvGrpSpPr>
          <p:grpSpPr>
            <a:xfrm>
              <a:off x="2615760" y="3192480"/>
              <a:ext cx="367200" cy="77760"/>
              <a:chOff x="2615760" y="3192480"/>
              <a:chExt cx="367200" cy="77760"/>
            </a:xfrm>
          </p:grpSpPr>
          <p:sp>
            <p:nvSpPr>
              <p:cNvPr id="9044" name=""/>
              <p:cNvSpPr/>
              <p:nvPr/>
            </p:nvSpPr>
            <p:spPr>
              <a:xfrm flipH="1" flipV="1">
                <a:off x="2632320" y="319248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 flipH="1" flipV="1" rot="1670400">
                <a:off x="2625480" y="321876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6" name=""/>
            <p:cNvGrpSpPr/>
            <p:nvPr/>
          </p:nvGrpSpPr>
          <p:grpSpPr>
            <a:xfrm>
              <a:off x="3481560" y="3189240"/>
              <a:ext cx="367200" cy="77760"/>
              <a:chOff x="3481560" y="3189240"/>
              <a:chExt cx="367200" cy="77760"/>
            </a:xfrm>
          </p:grpSpPr>
          <p:sp>
            <p:nvSpPr>
              <p:cNvPr id="9047" name=""/>
              <p:cNvSpPr/>
              <p:nvPr/>
            </p:nvSpPr>
            <p:spPr>
              <a:xfrm flipV="1">
                <a:off x="3481560" y="3189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 flipV="1" rot="19929600">
                <a:off x="3817440" y="3215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9" name=""/>
            <p:cNvGrpSpPr/>
            <p:nvPr/>
          </p:nvGrpSpPr>
          <p:grpSpPr>
            <a:xfrm>
              <a:off x="2484000" y="3195000"/>
              <a:ext cx="367200" cy="78480"/>
              <a:chOff x="2484000" y="3195000"/>
              <a:chExt cx="367200" cy="78480"/>
            </a:xfrm>
          </p:grpSpPr>
          <p:sp>
            <p:nvSpPr>
              <p:cNvPr id="9050" name=""/>
              <p:cNvSpPr/>
              <p:nvPr/>
            </p:nvSpPr>
            <p:spPr>
              <a:xfrm flipH="1" flipV="1">
                <a:off x="2500560" y="319464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 flipH="1" flipV="1" rot="1670400">
                <a:off x="2493720" y="32220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2" name=""/>
          <p:cNvSpPr/>
          <p:nvPr/>
        </p:nvSpPr>
        <p:spPr>
          <a:xfrm>
            <a:off x="3987720" y="3200400"/>
            <a:ext cx="368280" cy="88920"/>
          </a:xfrm>
          <a:custGeom>
            <a:avLst/>
            <a:gdLst/>
            <a:ahLst/>
            <a:rect l="l" t="t" r="r" b="b"/>
            <a:pathLst>
              <a:path w="232" h="56">
                <a:moveTo>
                  <a:pt x="0" y="0"/>
                </a:moveTo>
                <a:cubicBezTo>
                  <a:pt x="28" y="20"/>
                  <a:pt x="56" y="40"/>
                  <a:pt x="80" y="48"/>
                </a:cubicBezTo>
                <a:cubicBezTo>
                  <a:pt x="104" y="56"/>
                  <a:pt x="119" y="55"/>
                  <a:pt x="144" y="48"/>
                </a:cubicBezTo>
                <a:cubicBezTo>
                  <a:pt x="169" y="41"/>
                  <a:pt x="200" y="24"/>
                  <a:pt x="232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>
            <a:off x="1943280" y="3187800"/>
            <a:ext cx="368280" cy="88920"/>
          </a:xfrm>
          <a:custGeom>
            <a:avLst/>
            <a:gdLst/>
            <a:ahLst/>
            <a:rect l="l" t="t" r="r" b="b"/>
            <a:pathLst>
              <a:path w="232" h="56">
                <a:moveTo>
                  <a:pt x="0" y="0"/>
                </a:moveTo>
                <a:cubicBezTo>
                  <a:pt x="28" y="20"/>
                  <a:pt x="56" y="40"/>
                  <a:pt x="80" y="48"/>
                </a:cubicBezTo>
                <a:cubicBezTo>
                  <a:pt x="104" y="56"/>
                  <a:pt x="119" y="55"/>
                  <a:pt x="144" y="48"/>
                </a:cubicBezTo>
                <a:cubicBezTo>
                  <a:pt x="169" y="41"/>
                  <a:pt x="200" y="24"/>
                  <a:pt x="232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>
            <a:off x="780480" y="873000"/>
            <a:ext cx="72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 &lt; L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181440" y="206280"/>
            <a:ext cx="8605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longueur-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773280" y="1308240"/>
            <a:ext cx="6092640" cy="3344760"/>
          </a:xfrm>
          <a:custGeom>
            <a:avLst/>
            <a:gdLst/>
            <a:ahLst/>
            <a:rect l="l" t="t" r="r" b="b"/>
            <a:pathLst>
              <a:path w="1422" h="918">
                <a:moveTo>
                  <a:pt x="0" y="0"/>
                </a:moveTo>
                <a:lnTo>
                  <a:pt x="0" y="918"/>
                </a:lnTo>
                <a:lnTo>
                  <a:pt x="1422" y="9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419640" y="1860480"/>
            <a:ext cx="1930320" cy="2792520"/>
          </a:xfrm>
          <a:custGeom>
            <a:avLst/>
            <a:gdLst/>
            <a:ahLst/>
            <a:rect l="l" t="t" r="r" b="b"/>
            <a:pathLst>
              <a:path w="810" h="1172">
                <a:moveTo>
                  <a:pt x="0" y="476"/>
                </a:moveTo>
                <a:cubicBezTo>
                  <a:pt x="47" y="416"/>
                  <a:pt x="153" y="0"/>
                  <a:pt x="288" y="116"/>
                </a:cubicBezTo>
                <a:cubicBezTo>
                  <a:pt x="423" y="232"/>
                  <a:pt x="701" y="952"/>
                  <a:pt x="810" y="1172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400536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>
            <a:off x="3760560" y="46972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2510640" y="5140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ongueur du faisceau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 rot="16200000">
            <a:off x="-478440" y="281700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somé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 flipH="1">
            <a:off x="5049720" y="401004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5630400" y="375444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tension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3822840" y="3408480"/>
            <a:ext cx="0" cy="303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6203880" y="3429000"/>
            <a:ext cx="0" cy="284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3314880" y="3495600"/>
            <a:ext cx="1267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>
            <a:off x="6518160" y="3510000"/>
            <a:ext cx="1270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3390840" y="35560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6188040" y="35607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3832200" y="364824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5454720" y="3645000"/>
            <a:ext cx="71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5443560" y="347976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3838680" y="3473280"/>
            <a:ext cx="63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6" name=""/>
          <p:cNvGrpSpPr/>
          <p:nvPr/>
        </p:nvGrpSpPr>
        <p:grpSpPr>
          <a:xfrm>
            <a:off x="4280760" y="3477600"/>
            <a:ext cx="1364760" cy="84240"/>
            <a:chOff x="4280760" y="3477600"/>
            <a:chExt cx="1364760" cy="84240"/>
          </a:xfrm>
        </p:grpSpPr>
        <p:grpSp>
          <p:nvGrpSpPr>
            <p:cNvPr id="9077" name=""/>
            <p:cNvGrpSpPr/>
            <p:nvPr/>
          </p:nvGrpSpPr>
          <p:grpSpPr>
            <a:xfrm>
              <a:off x="4622040" y="3484080"/>
              <a:ext cx="367200" cy="77760"/>
              <a:chOff x="4622040" y="3484080"/>
              <a:chExt cx="367200" cy="77760"/>
            </a:xfrm>
          </p:grpSpPr>
          <p:sp>
            <p:nvSpPr>
              <p:cNvPr id="9078" name=""/>
              <p:cNvSpPr/>
              <p:nvPr/>
            </p:nvSpPr>
            <p:spPr>
              <a:xfrm flipH="1">
                <a:off x="4638600" y="3520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 flipH="1" rot="19929600">
                <a:off x="4631760" y="3485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0" name=""/>
            <p:cNvGrpSpPr/>
            <p:nvPr/>
          </p:nvGrpSpPr>
          <p:grpSpPr>
            <a:xfrm>
              <a:off x="4914720" y="3484080"/>
              <a:ext cx="367200" cy="77760"/>
              <a:chOff x="4914720" y="3484080"/>
              <a:chExt cx="367200" cy="77760"/>
            </a:xfrm>
          </p:grpSpPr>
          <p:sp>
            <p:nvSpPr>
              <p:cNvPr id="9081" name=""/>
              <p:cNvSpPr/>
              <p:nvPr/>
            </p:nvSpPr>
            <p:spPr>
              <a:xfrm>
                <a:off x="4914720" y="3520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 rot="1670400">
                <a:off x="5250600" y="3485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3" name=""/>
            <p:cNvGrpSpPr/>
            <p:nvPr/>
          </p:nvGrpSpPr>
          <p:grpSpPr>
            <a:xfrm>
              <a:off x="5037120" y="3484080"/>
              <a:ext cx="368640" cy="77760"/>
              <a:chOff x="5037120" y="3484080"/>
              <a:chExt cx="368640" cy="77760"/>
            </a:xfrm>
          </p:grpSpPr>
          <p:sp>
            <p:nvSpPr>
              <p:cNvPr id="9084" name=""/>
              <p:cNvSpPr/>
              <p:nvPr/>
            </p:nvSpPr>
            <p:spPr>
              <a:xfrm>
                <a:off x="5037120" y="352080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 rot="1670400">
                <a:off x="5374440" y="3485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6" name=""/>
            <p:cNvGrpSpPr/>
            <p:nvPr/>
          </p:nvGrpSpPr>
          <p:grpSpPr>
            <a:xfrm>
              <a:off x="5152680" y="3482280"/>
              <a:ext cx="367560" cy="78480"/>
              <a:chOff x="5152680" y="3482280"/>
              <a:chExt cx="367560" cy="78480"/>
            </a:xfrm>
          </p:grpSpPr>
          <p:sp>
            <p:nvSpPr>
              <p:cNvPr id="9087" name=""/>
              <p:cNvSpPr/>
              <p:nvPr/>
            </p:nvSpPr>
            <p:spPr>
              <a:xfrm>
                <a:off x="5152680" y="351936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 rot="1670400">
                <a:off x="5488920" y="34840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9" name=""/>
            <p:cNvGrpSpPr/>
            <p:nvPr/>
          </p:nvGrpSpPr>
          <p:grpSpPr>
            <a:xfrm>
              <a:off x="4521600" y="3482280"/>
              <a:ext cx="369000" cy="78480"/>
              <a:chOff x="4521600" y="3482280"/>
              <a:chExt cx="369000" cy="78480"/>
            </a:xfrm>
          </p:grpSpPr>
          <p:sp>
            <p:nvSpPr>
              <p:cNvPr id="9090" name=""/>
              <p:cNvSpPr/>
              <p:nvPr/>
            </p:nvSpPr>
            <p:spPr>
              <a:xfrm flipH="1">
                <a:off x="4537800" y="351936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 flipH="1" rot="19929600">
                <a:off x="4531320" y="34840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2" name=""/>
            <p:cNvGrpSpPr/>
            <p:nvPr/>
          </p:nvGrpSpPr>
          <p:grpSpPr>
            <a:xfrm>
              <a:off x="4412520" y="3480840"/>
              <a:ext cx="367200" cy="77760"/>
              <a:chOff x="4412520" y="3480840"/>
              <a:chExt cx="367200" cy="77760"/>
            </a:xfrm>
          </p:grpSpPr>
          <p:sp>
            <p:nvSpPr>
              <p:cNvPr id="9093" name=""/>
              <p:cNvSpPr/>
              <p:nvPr/>
            </p:nvSpPr>
            <p:spPr>
              <a:xfrm flipH="1">
                <a:off x="4429080" y="351756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 flipH="1" rot="19929600">
                <a:off x="4422240" y="348264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5" name=""/>
            <p:cNvGrpSpPr/>
            <p:nvPr/>
          </p:nvGrpSpPr>
          <p:grpSpPr>
            <a:xfrm>
              <a:off x="5278320" y="3484080"/>
              <a:ext cx="367200" cy="77760"/>
              <a:chOff x="5278320" y="3484080"/>
              <a:chExt cx="367200" cy="77760"/>
            </a:xfrm>
          </p:grpSpPr>
          <p:sp>
            <p:nvSpPr>
              <p:cNvPr id="9096" name=""/>
              <p:cNvSpPr/>
              <p:nvPr/>
            </p:nvSpPr>
            <p:spPr>
              <a:xfrm>
                <a:off x="5278320" y="3520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 rot="1670400">
                <a:off x="5614200" y="3485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8" name=""/>
            <p:cNvGrpSpPr/>
            <p:nvPr/>
          </p:nvGrpSpPr>
          <p:grpSpPr>
            <a:xfrm>
              <a:off x="4280760" y="3477600"/>
              <a:ext cx="367200" cy="78480"/>
              <a:chOff x="4280760" y="3477600"/>
              <a:chExt cx="367200" cy="78480"/>
            </a:xfrm>
          </p:grpSpPr>
          <p:sp>
            <p:nvSpPr>
              <p:cNvPr id="9099" name=""/>
              <p:cNvSpPr/>
              <p:nvPr/>
            </p:nvSpPr>
            <p:spPr>
              <a:xfrm flipH="1">
                <a:off x="4297320" y="351468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 flipH="1" rot="19929600">
                <a:off x="4290480" y="34794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01" name=""/>
          <p:cNvGrpSpPr/>
          <p:nvPr/>
        </p:nvGrpSpPr>
        <p:grpSpPr>
          <a:xfrm>
            <a:off x="4287240" y="3557520"/>
            <a:ext cx="1364760" cy="84240"/>
            <a:chOff x="4287240" y="3557520"/>
            <a:chExt cx="1364760" cy="84240"/>
          </a:xfrm>
        </p:grpSpPr>
        <p:grpSp>
          <p:nvGrpSpPr>
            <p:cNvPr id="9102" name=""/>
            <p:cNvGrpSpPr/>
            <p:nvPr/>
          </p:nvGrpSpPr>
          <p:grpSpPr>
            <a:xfrm>
              <a:off x="4628520" y="3557520"/>
              <a:ext cx="367200" cy="77760"/>
              <a:chOff x="4628520" y="3557520"/>
              <a:chExt cx="367200" cy="77760"/>
            </a:xfrm>
          </p:grpSpPr>
          <p:sp>
            <p:nvSpPr>
              <p:cNvPr id="9103" name=""/>
              <p:cNvSpPr/>
              <p:nvPr/>
            </p:nvSpPr>
            <p:spPr>
              <a:xfrm flipH="1" flipV="1">
                <a:off x="4645080" y="3557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 flipH="1" flipV="1" rot="1670400">
                <a:off x="4638240" y="3583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5" name=""/>
            <p:cNvGrpSpPr/>
            <p:nvPr/>
          </p:nvGrpSpPr>
          <p:grpSpPr>
            <a:xfrm>
              <a:off x="4921200" y="3557520"/>
              <a:ext cx="367200" cy="77760"/>
              <a:chOff x="4921200" y="3557520"/>
              <a:chExt cx="367200" cy="77760"/>
            </a:xfrm>
          </p:grpSpPr>
          <p:sp>
            <p:nvSpPr>
              <p:cNvPr id="9106" name=""/>
              <p:cNvSpPr/>
              <p:nvPr/>
            </p:nvSpPr>
            <p:spPr>
              <a:xfrm flipV="1">
                <a:off x="4921200" y="3557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 flipV="1" rot="19929600">
                <a:off x="5257080" y="3583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8" name=""/>
            <p:cNvGrpSpPr/>
            <p:nvPr/>
          </p:nvGrpSpPr>
          <p:grpSpPr>
            <a:xfrm>
              <a:off x="5043600" y="3557520"/>
              <a:ext cx="368640" cy="77760"/>
              <a:chOff x="5043600" y="3557520"/>
              <a:chExt cx="368640" cy="77760"/>
            </a:xfrm>
          </p:grpSpPr>
          <p:sp>
            <p:nvSpPr>
              <p:cNvPr id="9109" name=""/>
              <p:cNvSpPr/>
              <p:nvPr/>
            </p:nvSpPr>
            <p:spPr>
              <a:xfrm flipV="1">
                <a:off x="5043600" y="355752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 flipV="1" rot="19929600">
                <a:off x="5380920" y="3583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1" name=""/>
            <p:cNvGrpSpPr/>
            <p:nvPr/>
          </p:nvGrpSpPr>
          <p:grpSpPr>
            <a:xfrm>
              <a:off x="5159160" y="3558600"/>
              <a:ext cx="367560" cy="78480"/>
              <a:chOff x="5159160" y="3558600"/>
              <a:chExt cx="367560" cy="78480"/>
            </a:xfrm>
          </p:grpSpPr>
          <p:sp>
            <p:nvSpPr>
              <p:cNvPr id="9112" name=""/>
              <p:cNvSpPr/>
              <p:nvPr/>
            </p:nvSpPr>
            <p:spPr>
              <a:xfrm flipV="1">
                <a:off x="5159160" y="355824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 flipV="1" rot="19929600">
                <a:off x="5495400" y="3585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4" name=""/>
            <p:cNvGrpSpPr/>
            <p:nvPr/>
          </p:nvGrpSpPr>
          <p:grpSpPr>
            <a:xfrm>
              <a:off x="4528080" y="3558600"/>
              <a:ext cx="369000" cy="78480"/>
              <a:chOff x="4528080" y="3558600"/>
              <a:chExt cx="369000" cy="78480"/>
            </a:xfrm>
          </p:grpSpPr>
          <p:sp>
            <p:nvSpPr>
              <p:cNvPr id="9115" name=""/>
              <p:cNvSpPr/>
              <p:nvPr/>
            </p:nvSpPr>
            <p:spPr>
              <a:xfrm flipH="1" flipV="1">
                <a:off x="4544280" y="355824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 flipH="1" flipV="1" rot="1670400">
                <a:off x="4537800" y="35856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7" name=""/>
            <p:cNvGrpSpPr/>
            <p:nvPr/>
          </p:nvGrpSpPr>
          <p:grpSpPr>
            <a:xfrm>
              <a:off x="4419000" y="3560760"/>
              <a:ext cx="367200" cy="77760"/>
              <a:chOff x="4419000" y="3560760"/>
              <a:chExt cx="367200" cy="77760"/>
            </a:xfrm>
          </p:grpSpPr>
          <p:sp>
            <p:nvSpPr>
              <p:cNvPr id="9118" name=""/>
              <p:cNvSpPr/>
              <p:nvPr/>
            </p:nvSpPr>
            <p:spPr>
              <a:xfrm flipH="1" flipV="1">
                <a:off x="4435560" y="356076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 flipH="1" flipV="1" rot="1670400">
                <a:off x="4428720" y="358704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0" name=""/>
            <p:cNvGrpSpPr/>
            <p:nvPr/>
          </p:nvGrpSpPr>
          <p:grpSpPr>
            <a:xfrm>
              <a:off x="5284800" y="3557520"/>
              <a:ext cx="367200" cy="77760"/>
              <a:chOff x="5284800" y="3557520"/>
              <a:chExt cx="367200" cy="77760"/>
            </a:xfrm>
          </p:grpSpPr>
          <p:sp>
            <p:nvSpPr>
              <p:cNvPr id="9121" name=""/>
              <p:cNvSpPr/>
              <p:nvPr/>
            </p:nvSpPr>
            <p:spPr>
              <a:xfrm flipV="1">
                <a:off x="5284800" y="355752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 flipV="1" rot="19929600">
                <a:off x="5620680" y="35838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3" name=""/>
            <p:cNvGrpSpPr/>
            <p:nvPr/>
          </p:nvGrpSpPr>
          <p:grpSpPr>
            <a:xfrm>
              <a:off x="4287240" y="3563280"/>
              <a:ext cx="367200" cy="78480"/>
              <a:chOff x="4287240" y="3563280"/>
              <a:chExt cx="367200" cy="78480"/>
            </a:xfrm>
          </p:grpSpPr>
          <p:sp>
            <p:nvSpPr>
              <p:cNvPr id="9124" name=""/>
              <p:cNvSpPr/>
              <p:nvPr/>
            </p:nvSpPr>
            <p:spPr>
              <a:xfrm flipH="1" flipV="1">
                <a:off x="4303800" y="356292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 flipH="1" flipV="1" rot="1670400">
                <a:off x="4296960" y="35902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26" name=""/>
          <p:cNvSpPr/>
          <p:nvPr/>
        </p:nvSpPr>
        <p:spPr>
          <a:xfrm>
            <a:off x="4114800" y="4335480"/>
            <a:ext cx="0" cy="303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>
            <a:off x="7016760" y="4356000"/>
            <a:ext cx="0" cy="28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3606840" y="4422600"/>
            <a:ext cx="1270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7331040" y="4437000"/>
            <a:ext cx="1270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683160" y="4483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7000920" y="44877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>
            <a:off x="4124160" y="4575240"/>
            <a:ext cx="66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6267600" y="4572000"/>
            <a:ext cx="71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6256440" y="440676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4130640" y="4400640"/>
            <a:ext cx="63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6" name=""/>
          <p:cNvGrpSpPr/>
          <p:nvPr/>
        </p:nvGrpSpPr>
        <p:grpSpPr>
          <a:xfrm>
            <a:off x="4865040" y="4404600"/>
            <a:ext cx="1364760" cy="84240"/>
            <a:chOff x="4865040" y="4404600"/>
            <a:chExt cx="1364760" cy="84240"/>
          </a:xfrm>
        </p:grpSpPr>
        <p:grpSp>
          <p:nvGrpSpPr>
            <p:cNvPr id="9137" name=""/>
            <p:cNvGrpSpPr/>
            <p:nvPr/>
          </p:nvGrpSpPr>
          <p:grpSpPr>
            <a:xfrm>
              <a:off x="5206320" y="4411080"/>
              <a:ext cx="367200" cy="77760"/>
              <a:chOff x="5206320" y="4411080"/>
              <a:chExt cx="367200" cy="77760"/>
            </a:xfrm>
          </p:grpSpPr>
          <p:sp>
            <p:nvSpPr>
              <p:cNvPr id="9138" name=""/>
              <p:cNvSpPr/>
              <p:nvPr/>
            </p:nvSpPr>
            <p:spPr>
              <a:xfrm flipH="1">
                <a:off x="5222880" y="4447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 flipH="1" rot="19929600">
                <a:off x="5216040" y="4412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0" name=""/>
            <p:cNvGrpSpPr/>
            <p:nvPr/>
          </p:nvGrpSpPr>
          <p:grpSpPr>
            <a:xfrm>
              <a:off x="5499000" y="4411080"/>
              <a:ext cx="367200" cy="77760"/>
              <a:chOff x="5499000" y="4411080"/>
              <a:chExt cx="367200" cy="77760"/>
            </a:xfrm>
          </p:grpSpPr>
          <p:sp>
            <p:nvSpPr>
              <p:cNvPr id="9141" name=""/>
              <p:cNvSpPr/>
              <p:nvPr/>
            </p:nvSpPr>
            <p:spPr>
              <a:xfrm>
                <a:off x="5499000" y="4447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 rot="1670400">
                <a:off x="5834880" y="4412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3" name=""/>
            <p:cNvGrpSpPr/>
            <p:nvPr/>
          </p:nvGrpSpPr>
          <p:grpSpPr>
            <a:xfrm>
              <a:off x="5621400" y="4411080"/>
              <a:ext cx="368640" cy="77760"/>
              <a:chOff x="5621400" y="4411080"/>
              <a:chExt cx="368640" cy="77760"/>
            </a:xfrm>
          </p:grpSpPr>
          <p:sp>
            <p:nvSpPr>
              <p:cNvPr id="9144" name=""/>
              <p:cNvSpPr/>
              <p:nvPr/>
            </p:nvSpPr>
            <p:spPr>
              <a:xfrm>
                <a:off x="5621400" y="444780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 rot="1670400">
                <a:off x="5958720" y="4412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6" name=""/>
            <p:cNvGrpSpPr/>
            <p:nvPr/>
          </p:nvGrpSpPr>
          <p:grpSpPr>
            <a:xfrm>
              <a:off x="5736960" y="4409280"/>
              <a:ext cx="367560" cy="78480"/>
              <a:chOff x="5736960" y="4409280"/>
              <a:chExt cx="367560" cy="78480"/>
            </a:xfrm>
          </p:grpSpPr>
          <p:sp>
            <p:nvSpPr>
              <p:cNvPr id="9147" name=""/>
              <p:cNvSpPr/>
              <p:nvPr/>
            </p:nvSpPr>
            <p:spPr>
              <a:xfrm>
                <a:off x="5736960" y="444636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 rot="1670400">
                <a:off x="6073200" y="44110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9" name=""/>
            <p:cNvGrpSpPr/>
            <p:nvPr/>
          </p:nvGrpSpPr>
          <p:grpSpPr>
            <a:xfrm>
              <a:off x="5105880" y="4409280"/>
              <a:ext cx="369000" cy="78480"/>
              <a:chOff x="5105880" y="4409280"/>
              <a:chExt cx="369000" cy="78480"/>
            </a:xfrm>
          </p:grpSpPr>
          <p:sp>
            <p:nvSpPr>
              <p:cNvPr id="9150" name=""/>
              <p:cNvSpPr/>
              <p:nvPr/>
            </p:nvSpPr>
            <p:spPr>
              <a:xfrm flipH="1">
                <a:off x="5122080" y="444636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 flipH="1" rot="19929600">
                <a:off x="5115600" y="44110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2" name=""/>
            <p:cNvGrpSpPr/>
            <p:nvPr/>
          </p:nvGrpSpPr>
          <p:grpSpPr>
            <a:xfrm>
              <a:off x="4996800" y="4407840"/>
              <a:ext cx="367200" cy="77760"/>
              <a:chOff x="4996800" y="4407840"/>
              <a:chExt cx="367200" cy="77760"/>
            </a:xfrm>
          </p:grpSpPr>
          <p:sp>
            <p:nvSpPr>
              <p:cNvPr id="9153" name=""/>
              <p:cNvSpPr/>
              <p:nvPr/>
            </p:nvSpPr>
            <p:spPr>
              <a:xfrm flipH="1">
                <a:off x="5013360" y="444456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 flipH="1" rot="19929600">
                <a:off x="5006520" y="440964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5" name=""/>
            <p:cNvGrpSpPr/>
            <p:nvPr/>
          </p:nvGrpSpPr>
          <p:grpSpPr>
            <a:xfrm>
              <a:off x="5862600" y="4411080"/>
              <a:ext cx="367200" cy="77760"/>
              <a:chOff x="5862600" y="4411080"/>
              <a:chExt cx="367200" cy="77760"/>
            </a:xfrm>
          </p:grpSpPr>
          <p:sp>
            <p:nvSpPr>
              <p:cNvPr id="9156" name=""/>
              <p:cNvSpPr/>
              <p:nvPr/>
            </p:nvSpPr>
            <p:spPr>
              <a:xfrm>
                <a:off x="5862600" y="444780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 rot="1670400">
                <a:off x="6198480" y="441288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8" name=""/>
            <p:cNvGrpSpPr/>
            <p:nvPr/>
          </p:nvGrpSpPr>
          <p:grpSpPr>
            <a:xfrm>
              <a:off x="4865040" y="4404600"/>
              <a:ext cx="367200" cy="78480"/>
              <a:chOff x="4865040" y="4404600"/>
              <a:chExt cx="367200" cy="78480"/>
            </a:xfrm>
          </p:grpSpPr>
          <p:sp>
            <p:nvSpPr>
              <p:cNvPr id="9159" name=""/>
              <p:cNvSpPr/>
              <p:nvPr/>
            </p:nvSpPr>
            <p:spPr>
              <a:xfrm flipH="1">
                <a:off x="4881600" y="444168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 flipH="1" rot="19929600">
                <a:off x="4874760" y="44064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1" name=""/>
          <p:cNvGrpSpPr/>
          <p:nvPr/>
        </p:nvGrpSpPr>
        <p:grpSpPr>
          <a:xfrm>
            <a:off x="4871520" y="4485240"/>
            <a:ext cx="1364760" cy="84240"/>
            <a:chOff x="4871520" y="4485240"/>
            <a:chExt cx="1364760" cy="84240"/>
          </a:xfrm>
        </p:grpSpPr>
        <p:grpSp>
          <p:nvGrpSpPr>
            <p:cNvPr id="9162" name=""/>
            <p:cNvGrpSpPr/>
            <p:nvPr/>
          </p:nvGrpSpPr>
          <p:grpSpPr>
            <a:xfrm>
              <a:off x="5212800" y="4485240"/>
              <a:ext cx="367200" cy="77760"/>
              <a:chOff x="5212800" y="4485240"/>
              <a:chExt cx="367200" cy="77760"/>
            </a:xfrm>
          </p:grpSpPr>
          <p:sp>
            <p:nvSpPr>
              <p:cNvPr id="9163" name=""/>
              <p:cNvSpPr/>
              <p:nvPr/>
            </p:nvSpPr>
            <p:spPr>
              <a:xfrm flipH="1" flipV="1">
                <a:off x="5229360" y="4485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 flipH="1" flipV="1" rot="1670400">
                <a:off x="5222520" y="4511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5" name=""/>
            <p:cNvGrpSpPr/>
            <p:nvPr/>
          </p:nvGrpSpPr>
          <p:grpSpPr>
            <a:xfrm>
              <a:off x="5505480" y="4485240"/>
              <a:ext cx="367200" cy="77760"/>
              <a:chOff x="5505480" y="4485240"/>
              <a:chExt cx="367200" cy="77760"/>
            </a:xfrm>
          </p:grpSpPr>
          <p:sp>
            <p:nvSpPr>
              <p:cNvPr id="9166" name=""/>
              <p:cNvSpPr/>
              <p:nvPr/>
            </p:nvSpPr>
            <p:spPr>
              <a:xfrm flipV="1">
                <a:off x="5505480" y="4485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 flipV="1" rot="19929600">
                <a:off x="5841360" y="4511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8" name=""/>
            <p:cNvGrpSpPr/>
            <p:nvPr/>
          </p:nvGrpSpPr>
          <p:grpSpPr>
            <a:xfrm>
              <a:off x="5627880" y="4485240"/>
              <a:ext cx="368640" cy="77760"/>
              <a:chOff x="5627880" y="4485240"/>
              <a:chExt cx="368640" cy="77760"/>
            </a:xfrm>
          </p:grpSpPr>
          <p:sp>
            <p:nvSpPr>
              <p:cNvPr id="9169" name=""/>
              <p:cNvSpPr/>
              <p:nvPr/>
            </p:nvSpPr>
            <p:spPr>
              <a:xfrm flipV="1">
                <a:off x="5627880" y="4485240"/>
                <a:ext cx="35208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0" name=""/>
              <p:cNvSpPr/>
              <p:nvPr/>
            </p:nvSpPr>
            <p:spPr>
              <a:xfrm flipV="1" rot="19929600">
                <a:off x="5965200" y="4511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1" name=""/>
            <p:cNvGrpSpPr/>
            <p:nvPr/>
          </p:nvGrpSpPr>
          <p:grpSpPr>
            <a:xfrm>
              <a:off x="5743440" y="4486320"/>
              <a:ext cx="367560" cy="78480"/>
              <a:chOff x="5743440" y="4486320"/>
              <a:chExt cx="367560" cy="78480"/>
            </a:xfrm>
          </p:grpSpPr>
          <p:sp>
            <p:nvSpPr>
              <p:cNvPr id="9172" name=""/>
              <p:cNvSpPr/>
              <p:nvPr/>
            </p:nvSpPr>
            <p:spPr>
              <a:xfrm flipV="1">
                <a:off x="5743440" y="4485960"/>
                <a:ext cx="35100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 flipV="1" rot="19929600">
                <a:off x="6079680" y="45133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4" name=""/>
            <p:cNvGrpSpPr/>
            <p:nvPr/>
          </p:nvGrpSpPr>
          <p:grpSpPr>
            <a:xfrm>
              <a:off x="5112360" y="4486320"/>
              <a:ext cx="369000" cy="78480"/>
              <a:chOff x="5112360" y="4486320"/>
              <a:chExt cx="369000" cy="78480"/>
            </a:xfrm>
          </p:grpSpPr>
          <p:sp>
            <p:nvSpPr>
              <p:cNvPr id="9175" name=""/>
              <p:cNvSpPr/>
              <p:nvPr/>
            </p:nvSpPr>
            <p:spPr>
              <a:xfrm flipH="1" flipV="1">
                <a:off x="5128560" y="4485960"/>
                <a:ext cx="3524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 flipH="1" flipV="1" rot="1670400">
                <a:off x="5122080" y="45133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7" name=""/>
            <p:cNvGrpSpPr/>
            <p:nvPr/>
          </p:nvGrpSpPr>
          <p:grpSpPr>
            <a:xfrm>
              <a:off x="5003280" y="4488480"/>
              <a:ext cx="367200" cy="77760"/>
              <a:chOff x="5003280" y="4488480"/>
              <a:chExt cx="367200" cy="77760"/>
            </a:xfrm>
          </p:grpSpPr>
          <p:sp>
            <p:nvSpPr>
              <p:cNvPr id="9178" name=""/>
              <p:cNvSpPr/>
              <p:nvPr/>
            </p:nvSpPr>
            <p:spPr>
              <a:xfrm flipH="1" flipV="1">
                <a:off x="5019840" y="448848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9" name=""/>
              <p:cNvSpPr/>
              <p:nvPr/>
            </p:nvSpPr>
            <p:spPr>
              <a:xfrm flipH="1" flipV="1" rot="1670400">
                <a:off x="5013000" y="451476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0" name=""/>
            <p:cNvGrpSpPr/>
            <p:nvPr/>
          </p:nvGrpSpPr>
          <p:grpSpPr>
            <a:xfrm>
              <a:off x="5869080" y="4485240"/>
              <a:ext cx="367200" cy="77760"/>
              <a:chOff x="5869080" y="4485240"/>
              <a:chExt cx="367200" cy="77760"/>
            </a:xfrm>
          </p:grpSpPr>
          <p:sp>
            <p:nvSpPr>
              <p:cNvPr id="9181" name=""/>
              <p:cNvSpPr/>
              <p:nvPr/>
            </p:nvSpPr>
            <p:spPr>
              <a:xfrm flipV="1">
                <a:off x="5869080" y="4485240"/>
                <a:ext cx="350640" cy="4104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2" name=""/>
              <p:cNvSpPr/>
              <p:nvPr/>
            </p:nvSpPr>
            <p:spPr>
              <a:xfrm flipV="1" rot="19929600">
                <a:off x="6204960" y="451152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3" name=""/>
            <p:cNvGrpSpPr/>
            <p:nvPr/>
          </p:nvGrpSpPr>
          <p:grpSpPr>
            <a:xfrm>
              <a:off x="4871520" y="4491000"/>
              <a:ext cx="367200" cy="78480"/>
              <a:chOff x="4871520" y="4491000"/>
              <a:chExt cx="367200" cy="78480"/>
            </a:xfrm>
          </p:grpSpPr>
          <p:sp>
            <p:nvSpPr>
              <p:cNvPr id="9184" name=""/>
              <p:cNvSpPr/>
              <p:nvPr/>
            </p:nvSpPr>
            <p:spPr>
              <a:xfrm flipH="1" flipV="1">
                <a:off x="4888080" y="4490640"/>
                <a:ext cx="350640" cy="4140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 flipH="1" flipV="1" rot="1670400">
                <a:off x="4881240" y="4518000"/>
                <a:ext cx="2088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86" name=""/>
          <p:cNvSpPr/>
          <p:nvPr/>
        </p:nvSpPr>
        <p:spPr>
          <a:xfrm>
            <a:off x="1188720" y="5703840"/>
            <a:ext cx="59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toutes les têtes de myosine ne peuvent pas se lier à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>
            <a:off x="780480" y="873000"/>
            <a:ext cx="72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 &gt; L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5338800" y="4653000"/>
            <a:ext cx="0" cy="1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5172120" y="4748040"/>
            <a:ext cx="133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 = 150 % 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3517920" y="431640"/>
            <a:ext cx="245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1555920" y="1955880"/>
            <a:ext cx="1440" cy="29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1555920" y="4022640"/>
            <a:ext cx="3087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1555920" y="2079720"/>
            <a:ext cx="2927160" cy="2752560"/>
          </a:xfrm>
          <a:custGeom>
            <a:avLst/>
            <a:gdLst/>
            <a:ahLst/>
            <a:rect l="l" t="t" r="r" b="b"/>
            <a:pathLst>
              <a:path w="1844" h="1734">
                <a:moveTo>
                  <a:pt x="0" y="0"/>
                </a:moveTo>
                <a:cubicBezTo>
                  <a:pt x="24" y="105"/>
                  <a:pt x="65" y="454"/>
                  <a:pt x="144" y="630"/>
                </a:cubicBezTo>
                <a:cubicBezTo>
                  <a:pt x="223" y="806"/>
                  <a:pt x="344" y="959"/>
                  <a:pt x="474" y="1056"/>
                </a:cubicBezTo>
                <a:cubicBezTo>
                  <a:pt x="604" y="1153"/>
                  <a:pt x="776" y="1181"/>
                  <a:pt x="924" y="1212"/>
                </a:cubicBezTo>
                <a:cubicBezTo>
                  <a:pt x="1072" y="1243"/>
                  <a:pt x="1222" y="1224"/>
                  <a:pt x="1362" y="1242"/>
                </a:cubicBezTo>
                <a:cubicBezTo>
                  <a:pt x="1502" y="1260"/>
                  <a:pt x="1684" y="1238"/>
                  <a:pt x="1764" y="1320"/>
                </a:cubicBezTo>
                <a:cubicBezTo>
                  <a:pt x="1844" y="1402"/>
                  <a:pt x="1826" y="1648"/>
                  <a:pt x="1842" y="173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 flipH="1">
            <a:off x="1432080" y="2098800"/>
            <a:ext cx="13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1036080" y="1882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 rot="16200000">
            <a:off x="-413280" y="288144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1173240" y="3825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2491560" y="404496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nit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542880" y="974880"/>
            <a:ext cx="83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e raccourcissement V dépend de la tension passive exercée sur le musc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1768680" y="1927080"/>
            <a:ext cx="6028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= la vitesse maximale de raccourcissement (tension nul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>
            <a:off x="1101600" y="5229360"/>
            <a:ext cx="64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 : dépend du nombre de sarcomères en sé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 exprimée par longueur de demi-sarcom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174600" y="206280"/>
            <a:ext cx="8625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tension-vitesse de raccourcis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3517920" y="431640"/>
            <a:ext cx="245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1555920" y="1955880"/>
            <a:ext cx="1440" cy="29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1555920" y="4022640"/>
            <a:ext cx="3087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1555920" y="2079720"/>
            <a:ext cx="2927160" cy="2752560"/>
          </a:xfrm>
          <a:custGeom>
            <a:avLst/>
            <a:gdLst/>
            <a:ahLst/>
            <a:rect l="l" t="t" r="r" b="b"/>
            <a:pathLst>
              <a:path w="1844" h="1734">
                <a:moveTo>
                  <a:pt x="0" y="0"/>
                </a:moveTo>
                <a:cubicBezTo>
                  <a:pt x="24" y="105"/>
                  <a:pt x="65" y="454"/>
                  <a:pt x="144" y="630"/>
                </a:cubicBezTo>
                <a:cubicBezTo>
                  <a:pt x="223" y="806"/>
                  <a:pt x="344" y="959"/>
                  <a:pt x="474" y="1056"/>
                </a:cubicBezTo>
                <a:cubicBezTo>
                  <a:pt x="604" y="1153"/>
                  <a:pt x="776" y="1181"/>
                  <a:pt x="924" y="1212"/>
                </a:cubicBezTo>
                <a:cubicBezTo>
                  <a:pt x="1072" y="1243"/>
                  <a:pt x="1222" y="1224"/>
                  <a:pt x="1362" y="1242"/>
                </a:cubicBezTo>
                <a:cubicBezTo>
                  <a:pt x="1502" y="1260"/>
                  <a:pt x="1684" y="1238"/>
                  <a:pt x="1764" y="1320"/>
                </a:cubicBezTo>
                <a:cubicBezTo>
                  <a:pt x="1844" y="1402"/>
                  <a:pt x="1826" y="1648"/>
                  <a:pt x="1842" y="173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 flipH="1">
            <a:off x="1432080" y="2098800"/>
            <a:ext cx="13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0" name=""/>
          <p:cNvSpPr/>
          <p:nvPr/>
        </p:nvSpPr>
        <p:spPr>
          <a:xfrm>
            <a:off x="1036080" y="1882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1" name=""/>
          <p:cNvSpPr/>
          <p:nvPr/>
        </p:nvSpPr>
        <p:spPr>
          <a:xfrm rot="16200000">
            <a:off x="-413280" y="288144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1173240" y="3825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3" name=""/>
          <p:cNvSpPr/>
          <p:nvPr/>
        </p:nvSpPr>
        <p:spPr>
          <a:xfrm>
            <a:off x="2491560" y="404496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nit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4" name=""/>
          <p:cNvSpPr/>
          <p:nvPr/>
        </p:nvSpPr>
        <p:spPr>
          <a:xfrm>
            <a:off x="542880" y="974880"/>
            <a:ext cx="83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e raccourcissement V dépend de la tension passive exercée sur le 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’hydrolyse de l’ATP     dépend de la tension passive exercée sur le 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5" name=""/>
          <p:cNvSpPr/>
          <p:nvPr/>
        </p:nvSpPr>
        <p:spPr>
          <a:xfrm>
            <a:off x="1768680" y="1927080"/>
            <a:ext cx="6028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= la vitesse maximale de raccourcissement (tension nul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6" name=""/>
          <p:cNvSpPr/>
          <p:nvPr/>
        </p:nvSpPr>
        <p:spPr>
          <a:xfrm>
            <a:off x="2183400" y="2422440"/>
            <a:ext cx="652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taux de formation maximal de ponts actomyo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force développée faible (peu de ponts actomyosiques simultané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7" name=""/>
          <p:cNvSpPr/>
          <p:nvPr/>
        </p:nvSpPr>
        <p:spPr>
          <a:xfrm>
            <a:off x="1101600" y="5229360"/>
            <a:ext cx="64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 : dépend du nombre de sarcomères en sé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 exprimée par longueur de demi-sarcom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8" name=""/>
          <p:cNvSpPr/>
          <p:nvPr/>
        </p:nvSpPr>
        <p:spPr>
          <a:xfrm>
            <a:off x="174600" y="206280"/>
            <a:ext cx="8625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tension-vitesse de raccourcis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0" name=""/>
          <p:cNvSpPr/>
          <p:nvPr/>
        </p:nvSpPr>
        <p:spPr>
          <a:xfrm>
            <a:off x="3517920" y="431640"/>
            <a:ext cx="245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>
            <a:off x="174600" y="206280"/>
            <a:ext cx="86252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relation tension-vitesse de raccourcis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2" name=""/>
          <p:cNvSpPr/>
          <p:nvPr/>
        </p:nvSpPr>
        <p:spPr>
          <a:xfrm>
            <a:off x="1555920" y="1955880"/>
            <a:ext cx="1440" cy="2952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555920" y="4022640"/>
            <a:ext cx="3087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1555920" y="2079720"/>
            <a:ext cx="2927160" cy="2752560"/>
          </a:xfrm>
          <a:custGeom>
            <a:avLst/>
            <a:gdLst/>
            <a:ahLst/>
            <a:rect l="l" t="t" r="r" b="b"/>
            <a:pathLst>
              <a:path w="1844" h="1734">
                <a:moveTo>
                  <a:pt x="0" y="0"/>
                </a:moveTo>
                <a:cubicBezTo>
                  <a:pt x="24" y="105"/>
                  <a:pt x="65" y="454"/>
                  <a:pt x="144" y="630"/>
                </a:cubicBezTo>
                <a:cubicBezTo>
                  <a:pt x="223" y="806"/>
                  <a:pt x="344" y="959"/>
                  <a:pt x="474" y="1056"/>
                </a:cubicBezTo>
                <a:cubicBezTo>
                  <a:pt x="604" y="1153"/>
                  <a:pt x="776" y="1181"/>
                  <a:pt x="924" y="1212"/>
                </a:cubicBezTo>
                <a:cubicBezTo>
                  <a:pt x="1072" y="1243"/>
                  <a:pt x="1222" y="1224"/>
                  <a:pt x="1362" y="1242"/>
                </a:cubicBezTo>
                <a:cubicBezTo>
                  <a:pt x="1502" y="1260"/>
                  <a:pt x="1684" y="1238"/>
                  <a:pt x="1764" y="1320"/>
                </a:cubicBezTo>
                <a:cubicBezTo>
                  <a:pt x="1844" y="1402"/>
                  <a:pt x="1826" y="1648"/>
                  <a:pt x="1842" y="173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 flipH="1">
            <a:off x="1432080" y="2098800"/>
            <a:ext cx="13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>
            <a:off x="1036080" y="1882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 rot="16200000">
            <a:off x="-413280" y="288144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1173240" y="3825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>
            <a:off x="2491560" y="404496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init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>
            <a:off x="542880" y="974880"/>
            <a:ext cx="83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e raccourcissement V dépend de la tension passive exercée sur le musc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>
            <a:off x="3174840" y="3365640"/>
            <a:ext cx="0" cy="163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 flipH="1">
            <a:off x="1574640" y="502920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>
            <a:off x="3225960" y="5029200"/>
            <a:ext cx="163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>
            <a:off x="1470960" y="524196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sion active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sion pas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3249000" y="520380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sion active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tension pas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2120760" y="2793960"/>
            <a:ext cx="508320" cy="685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2412720" y="2448000"/>
            <a:ext cx="629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iminution de la vitesse de formation des ponts actomyo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augmentation de la force (nombreux ponts simultané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>
            <a:off x="4770360" y="3476520"/>
            <a:ext cx="432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nsion passive &gt; 1,6 tension active max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rupture des ponts actomyo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>
            <a:off x="4356000" y="3670200"/>
            <a:ext cx="470160" cy="241560"/>
          </a:xfrm>
          <a:custGeom>
            <a:avLst/>
            <a:gdLst/>
            <a:ahLst/>
            <a:rect l="l" t="t" r="r" b="b"/>
            <a:pathLst>
              <a:path w="296" h="152">
                <a:moveTo>
                  <a:pt x="0" y="152"/>
                </a:moveTo>
                <a:lnTo>
                  <a:pt x="0" y="0"/>
                </a:lnTo>
                <a:lnTo>
                  <a:pt x="296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968400"/>
            <a:ext cx="34221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ibre musculaire squelet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2120" y="1474920"/>
            <a:ext cx="802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fibres musculaires striées squelettiques : grandes cellules plurinuclé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Ø 0,01 à 0,1 mm 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L : très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97240" y="1893960"/>
            <a:ext cx="6315120" cy="460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570040"/>
            <a:ext cx="1905120" cy="1381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59400" y="2340000"/>
            <a:ext cx="1439640" cy="87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180000" y="206280"/>
            <a:ext cx="8477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force, travail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 rot="16200000">
            <a:off x="-748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 rot="16200000">
            <a:off x="16390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 rot="16200000">
            <a:off x="2083680" y="22597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 rot="16200000">
            <a:off x="80100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 rot="16200000">
            <a:off x="788400" y="435528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85104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171468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2577960" y="133020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577960" y="348948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1714680" y="558000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>
            <a:off x="838080" y="3484440"/>
            <a:ext cx="355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838080" y="3772080"/>
            <a:ext cx="346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019160" y="34923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1714680" y="582948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1895400" y="554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256536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274644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299736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317808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850680" y="890640"/>
            <a:ext cx="22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 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3870360" y="1635120"/>
            <a:ext cx="4983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roportionnelle à la densité de ponts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densité des filaments contractiles par surface de section musculaire = consta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la longueur d'un sarcomère = constante (2,5 µ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roportionnelle à l'aire de section d'un 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39,3 à 49 N/c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force a = force b = ½ forc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muscle rétracteur de la mou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sarcomère = 25 µ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Arial"/>
              </a:rPr>
              <a:t>force maximale générée =100 N/cm</a:t>
            </a:r>
            <a:r>
              <a:rPr b="1" i="1" lang="fr-FR" sz="16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3954600" y="738360"/>
            <a:ext cx="38383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orc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180000" y="206280"/>
            <a:ext cx="8477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force, travail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 rot="16200000">
            <a:off x="-748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9" name=""/>
          <p:cNvSpPr/>
          <p:nvPr/>
        </p:nvSpPr>
        <p:spPr>
          <a:xfrm rot="16200000">
            <a:off x="16390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0" name=""/>
          <p:cNvSpPr/>
          <p:nvPr/>
        </p:nvSpPr>
        <p:spPr>
          <a:xfrm rot="16200000">
            <a:off x="2083680" y="22597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 rot="16200000">
            <a:off x="80100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 rot="16200000">
            <a:off x="788400" y="435528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85104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171468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2577960" y="133020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>
            <a:off x="2577960" y="348948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>
            <a:off x="1714680" y="558000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838080" y="348444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>
            <a:off x="838080" y="3772080"/>
            <a:ext cx="346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1019160" y="34923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1714680" y="582948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1895400" y="554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>
            <a:off x="256536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274644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299736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6" name=""/>
          <p:cNvSpPr/>
          <p:nvPr/>
        </p:nvSpPr>
        <p:spPr>
          <a:xfrm>
            <a:off x="317808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7" name=""/>
          <p:cNvSpPr/>
          <p:nvPr/>
        </p:nvSpPr>
        <p:spPr>
          <a:xfrm>
            <a:off x="850680" y="890640"/>
            <a:ext cx="22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 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3870360" y="1635120"/>
            <a:ext cx="4983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travail = force x distance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e dé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travail a = ½ travail b = ½ travail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travail maximal : généré pour une force équivalent à 40 % de la forece maxi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(si la force augmente, le raccourcissement dimin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9" name=""/>
          <p:cNvSpPr/>
          <p:nvPr/>
        </p:nvSpPr>
        <p:spPr>
          <a:xfrm>
            <a:off x="3954600" y="738360"/>
            <a:ext cx="38383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ravail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0" name=""/>
          <p:cNvSpPr/>
          <p:nvPr/>
        </p:nvSpPr>
        <p:spPr>
          <a:xfrm rot="16200000">
            <a:off x="24912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1" name=""/>
          <p:cNvSpPr/>
          <p:nvPr/>
        </p:nvSpPr>
        <p:spPr>
          <a:xfrm>
            <a:off x="838080" y="287496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2" name=""/>
          <p:cNvSpPr/>
          <p:nvPr/>
        </p:nvSpPr>
        <p:spPr>
          <a:xfrm>
            <a:off x="838080" y="3162240"/>
            <a:ext cx="34632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3" name=""/>
          <p:cNvSpPr/>
          <p:nvPr/>
        </p:nvSpPr>
        <p:spPr>
          <a:xfrm>
            <a:off x="1019160" y="28828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4" name=""/>
          <p:cNvSpPr/>
          <p:nvPr/>
        </p:nvSpPr>
        <p:spPr>
          <a:xfrm>
            <a:off x="2552760" y="349740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5" name=""/>
          <p:cNvSpPr/>
          <p:nvPr/>
        </p:nvSpPr>
        <p:spPr>
          <a:xfrm rot="16200000">
            <a:off x="196344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2552760" y="287496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2552760" y="3162240"/>
            <a:ext cx="345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2733840" y="28954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2997360" y="3484440"/>
            <a:ext cx="355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 rot="16200000">
            <a:off x="240804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2997360" y="2874960"/>
            <a:ext cx="355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2997360" y="3162240"/>
            <a:ext cx="345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3178080" y="28828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 rot="16200000">
            <a:off x="1125360" y="194580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>
            <a:off x="1714680" y="4994280"/>
            <a:ext cx="355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 rot="16200000">
            <a:off x="1125360" y="346032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1714680" y="4384800"/>
            <a:ext cx="355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1714680" y="4672080"/>
            <a:ext cx="34596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>
            <a:off x="1895400" y="4392720"/>
            <a:ext cx="0" cy="393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635040" y="31622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2425680" y="31669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1562040" y="465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3517920" y="431640"/>
            <a:ext cx="2443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5" name=""/>
          <p:cNvSpPr/>
          <p:nvPr/>
        </p:nvSpPr>
        <p:spPr>
          <a:xfrm>
            <a:off x="180000" y="206280"/>
            <a:ext cx="8477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biophysique de la 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force, travail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6" name=""/>
          <p:cNvSpPr/>
          <p:nvPr/>
        </p:nvSpPr>
        <p:spPr>
          <a:xfrm rot="16200000">
            <a:off x="-7488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 rot="16200000">
            <a:off x="788400" y="2247120"/>
            <a:ext cx="216360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8" name=""/>
          <p:cNvSpPr/>
          <p:nvPr/>
        </p:nvSpPr>
        <p:spPr>
          <a:xfrm>
            <a:off x="851040" y="1325520"/>
            <a:ext cx="35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9" name=""/>
          <p:cNvSpPr/>
          <p:nvPr/>
        </p:nvSpPr>
        <p:spPr>
          <a:xfrm>
            <a:off x="838080" y="348444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0" name=""/>
          <p:cNvSpPr/>
          <p:nvPr/>
        </p:nvSpPr>
        <p:spPr>
          <a:xfrm>
            <a:off x="838080" y="3772080"/>
            <a:ext cx="346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1" name=""/>
          <p:cNvSpPr/>
          <p:nvPr/>
        </p:nvSpPr>
        <p:spPr>
          <a:xfrm>
            <a:off x="1019160" y="34923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2" name=""/>
          <p:cNvSpPr/>
          <p:nvPr/>
        </p:nvSpPr>
        <p:spPr>
          <a:xfrm>
            <a:off x="1714680" y="3759120"/>
            <a:ext cx="345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3" name=""/>
          <p:cNvSpPr/>
          <p:nvPr/>
        </p:nvSpPr>
        <p:spPr>
          <a:xfrm>
            <a:off x="1895400" y="34797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4" name=""/>
          <p:cNvSpPr/>
          <p:nvPr/>
        </p:nvSpPr>
        <p:spPr>
          <a:xfrm>
            <a:off x="849600" y="89064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5" name=""/>
          <p:cNvSpPr/>
          <p:nvPr/>
        </p:nvSpPr>
        <p:spPr>
          <a:xfrm>
            <a:off x="3870360" y="1635120"/>
            <a:ext cx="49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uissan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= force x vitesse de raccourc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uissan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= travail / 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6" name=""/>
          <p:cNvSpPr/>
          <p:nvPr/>
        </p:nvSpPr>
        <p:spPr>
          <a:xfrm>
            <a:off x="3954600" y="738360"/>
            <a:ext cx="4752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uissanc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7" name=""/>
          <p:cNvSpPr/>
          <p:nvPr/>
        </p:nvSpPr>
        <p:spPr>
          <a:xfrm rot="16200000">
            <a:off x="24912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838080" y="287496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>
            <a:off x="838080" y="3162240"/>
            <a:ext cx="34632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>
            <a:off x="1019160" y="28828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1701720" y="349740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 rot="16200000">
            <a:off x="1112760" y="1950480"/>
            <a:ext cx="1514520" cy="31752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1701720" y="2874960"/>
            <a:ext cx="3556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1701720" y="3162240"/>
            <a:ext cx="34632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1882800" y="2895480"/>
            <a:ext cx="0" cy="39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635040" y="31622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1701720" y="1325520"/>
            <a:ext cx="355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4335480" y="49579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5533920" y="49579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6734160" y="49579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>
            <a:off x="2952360" y="48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295236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2952360" y="4002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>
            <a:off x="2952360" y="360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>
            <a:off x="2952360" y="3198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2952360" y="279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2952360" y="2395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 flipV="1">
            <a:off x="3805200" y="4873320"/>
            <a:ext cx="180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4405320" y="487332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 flipV="1">
            <a:off x="5005440" y="487332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 flipV="1">
            <a:off x="5607000" y="4873320"/>
            <a:ext cx="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 flipV="1">
            <a:off x="6207120" y="4873320"/>
            <a:ext cx="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 flipV="1">
            <a:off x="6807240" y="4873320"/>
            <a:ext cx="14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205080" y="4873680"/>
            <a:ext cx="3613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>
            <a:off x="3152880" y="487836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179880" y="4675320"/>
            <a:ext cx="2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152880" y="4473720"/>
            <a:ext cx="522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3179880" y="4273560"/>
            <a:ext cx="2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3152880" y="4073400"/>
            <a:ext cx="5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179880" y="3870360"/>
            <a:ext cx="2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3152880" y="3670200"/>
            <a:ext cx="5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3179880" y="3468600"/>
            <a:ext cx="25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3152880" y="326880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>
            <a:off x="3179880" y="3067200"/>
            <a:ext cx="2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3152880" y="286704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3179880" y="2666880"/>
            <a:ext cx="25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3152880" y="2465280"/>
            <a:ext cx="5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 flipV="1">
            <a:off x="3205080" y="2460600"/>
            <a:ext cx="180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3205080" y="2465280"/>
            <a:ext cx="3602160" cy="2376720"/>
          </a:xfrm>
          <a:custGeom>
            <a:avLst/>
            <a:gdLst/>
            <a:ahLst/>
            <a:rect l="l" t="t" r="r" b="b"/>
            <a:pathLst>
              <a:path w="6995" h="4162">
                <a:moveTo>
                  <a:pt x="0" y="0"/>
                </a:moveTo>
                <a:lnTo>
                  <a:pt x="39" y="80"/>
                </a:lnTo>
                <a:lnTo>
                  <a:pt x="77" y="160"/>
                </a:lnTo>
                <a:lnTo>
                  <a:pt x="116" y="238"/>
                </a:lnTo>
                <a:lnTo>
                  <a:pt x="154" y="318"/>
                </a:lnTo>
                <a:lnTo>
                  <a:pt x="193" y="396"/>
                </a:lnTo>
                <a:lnTo>
                  <a:pt x="231" y="476"/>
                </a:lnTo>
                <a:lnTo>
                  <a:pt x="270" y="554"/>
                </a:lnTo>
                <a:lnTo>
                  <a:pt x="308" y="633"/>
                </a:lnTo>
                <a:lnTo>
                  <a:pt x="346" y="710"/>
                </a:lnTo>
                <a:lnTo>
                  <a:pt x="385" y="787"/>
                </a:lnTo>
                <a:lnTo>
                  <a:pt x="423" y="864"/>
                </a:lnTo>
                <a:lnTo>
                  <a:pt x="462" y="939"/>
                </a:lnTo>
                <a:lnTo>
                  <a:pt x="500" y="1014"/>
                </a:lnTo>
                <a:lnTo>
                  <a:pt x="539" y="1088"/>
                </a:lnTo>
                <a:lnTo>
                  <a:pt x="577" y="1162"/>
                </a:lnTo>
                <a:lnTo>
                  <a:pt x="616" y="1236"/>
                </a:lnTo>
                <a:lnTo>
                  <a:pt x="654" y="1307"/>
                </a:lnTo>
                <a:lnTo>
                  <a:pt x="693" y="1378"/>
                </a:lnTo>
                <a:lnTo>
                  <a:pt x="731" y="1449"/>
                </a:lnTo>
                <a:lnTo>
                  <a:pt x="769" y="1517"/>
                </a:lnTo>
                <a:lnTo>
                  <a:pt x="808" y="1585"/>
                </a:lnTo>
                <a:lnTo>
                  <a:pt x="846" y="1652"/>
                </a:lnTo>
                <a:lnTo>
                  <a:pt x="885" y="1719"/>
                </a:lnTo>
                <a:lnTo>
                  <a:pt x="923" y="1782"/>
                </a:lnTo>
                <a:lnTo>
                  <a:pt x="962" y="1844"/>
                </a:lnTo>
                <a:lnTo>
                  <a:pt x="1000" y="1906"/>
                </a:lnTo>
                <a:lnTo>
                  <a:pt x="1039" y="1966"/>
                </a:lnTo>
                <a:lnTo>
                  <a:pt x="1077" y="2025"/>
                </a:lnTo>
                <a:lnTo>
                  <a:pt x="1116" y="2081"/>
                </a:lnTo>
                <a:lnTo>
                  <a:pt x="1154" y="2137"/>
                </a:lnTo>
                <a:lnTo>
                  <a:pt x="1166" y="2153"/>
                </a:lnTo>
                <a:lnTo>
                  <a:pt x="1204" y="2207"/>
                </a:lnTo>
                <a:lnTo>
                  <a:pt x="1243" y="2258"/>
                </a:lnTo>
                <a:lnTo>
                  <a:pt x="1281" y="2307"/>
                </a:lnTo>
                <a:lnTo>
                  <a:pt x="1320" y="2356"/>
                </a:lnTo>
                <a:lnTo>
                  <a:pt x="1358" y="2402"/>
                </a:lnTo>
                <a:lnTo>
                  <a:pt x="1397" y="2448"/>
                </a:lnTo>
                <a:lnTo>
                  <a:pt x="1435" y="2491"/>
                </a:lnTo>
                <a:lnTo>
                  <a:pt x="1473" y="2533"/>
                </a:lnTo>
                <a:lnTo>
                  <a:pt x="1512" y="2575"/>
                </a:lnTo>
                <a:lnTo>
                  <a:pt x="1550" y="2615"/>
                </a:lnTo>
                <a:lnTo>
                  <a:pt x="1589" y="2653"/>
                </a:lnTo>
                <a:lnTo>
                  <a:pt x="1627" y="2690"/>
                </a:lnTo>
                <a:lnTo>
                  <a:pt x="1666" y="2726"/>
                </a:lnTo>
                <a:lnTo>
                  <a:pt x="1704" y="2761"/>
                </a:lnTo>
                <a:lnTo>
                  <a:pt x="1743" y="2795"/>
                </a:lnTo>
                <a:lnTo>
                  <a:pt x="1781" y="2828"/>
                </a:lnTo>
                <a:lnTo>
                  <a:pt x="1820" y="2859"/>
                </a:lnTo>
                <a:lnTo>
                  <a:pt x="1858" y="2890"/>
                </a:lnTo>
                <a:lnTo>
                  <a:pt x="1896" y="2919"/>
                </a:lnTo>
                <a:lnTo>
                  <a:pt x="1935" y="2949"/>
                </a:lnTo>
                <a:lnTo>
                  <a:pt x="1973" y="2977"/>
                </a:lnTo>
                <a:lnTo>
                  <a:pt x="2012" y="3005"/>
                </a:lnTo>
                <a:lnTo>
                  <a:pt x="2050" y="3032"/>
                </a:lnTo>
                <a:lnTo>
                  <a:pt x="2089" y="3057"/>
                </a:lnTo>
                <a:lnTo>
                  <a:pt x="2127" y="3082"/>
                </a:lnTo>
                <a:lnTo>
                  <a:pt x="2166" y="3107"/>
                </a:lnTo>
                <a:lnTo>
                  <a:pt x="2204" y="3131"/>
                </a:lnTo>
                <a:lnTo>
                  <a:pt x="2243" y="3155"/>
                </a:lnTo>
                <a:lnTo>
                  <a:pt x="2281" y="3178"/>
                </a:lnTo>
                <a:lnTo>
                  <a:pt x="2320" y="3201"/>
                </a:lnTo>
                <a:lnTo>
                  <a:pt x="2331" y="3208"/>
                </a:lnTo>
                <a:lnTo>
                  <a:pt x="2370" y="3230"/>
                </a:lnTo>
                <a:lnTo>
                  <a:pt x="2408" y="3252"/>
                </a:lnTo>
                <a:lnTo>
                  <a:pt x="2447" y="3273"/>
                </a:lnTo>
                <a:lnTo>
                  <a:pt x="2485" y="3295"/>
                </a:lnTo>
                <a:lnTo>
                  <a:pt x="2524" y="3316"/>
                </a:lnTo>
                <a:lnTo>
                  <a:pt x="2562" y="3335"/>
                </a:lnTo>
                <a:lnTo>
                  <a:pt x="2601" y="3356"/>
                </a:lnTo>
                <a:lnTo>
                  <a:pt x="2639" y="3375"/>
                </a:lnTo>
                <a:lnTo>
                  <a:pt x="2677" y="3394"/>
                </a:lnTo>
                <a:lnTo>
                  <a:pt x="2716" y="3413"/>
                </a:lnTo>
                <a:lnTo>
                  <a:pt x="2754" y="3431"/>
                </a:lnTo>
                <a:lnTo>
                  <a:pt x="2793" y="3450"/>
                </a:lnTo>
                <a:lnTo>
                  <a:pt x="2831" y="3468"/>
                </a:lnTo>
                <a:lnTo>
                  <a:pt x="2870" y="3486"/>
                </a:lnTo>
                <a:lnTo>
                  <a:pt x="2908" y="3502"/>
                </a:lnTo>
                <a:lnTo>
                  <a:pt x="2947" y="3520"/>
                </a:lnTo>
                <a:lnTo>
                  <a:pt x="2985" y="3536"/>
                </a:lnTo>
                <a:lnTo>
                  <a:pt x="3024" y="3553"/>
                </a:lnTo>
                <a:lnTo>
                  <a:pt x="3062" y="3567"/>
                </a:lnTo>
                <a:lnTo>
                  <a:pt x="3100" y="3584"/>
                </a:lnTo>
                <a:lnTo>
                  <a:pt x="3139" y="3598"/>
                </a:lnTo>
                <a:lnTo>
                  <a:pt x="3177" y="3613"/>
                </a:lnTo>
                <a:lnTo>
                  <a:pt x="3216" y="3628"/>
                </a:lnTo>
                <a:lnTo>
                  <a:pt x="3254" y="3641"/>
                </a:lnTo>
                <a:lnTo>
                  <a:pt x="3293" y="3656"/>
                </a:lnTo>
                <a:lnTo>
                  <a:pt x="3331" y="3669"/>
                </a:lnTo>
                <a:lnTo>
                  <a:pt x="3370" y="3683"/>
                </a:lnTo>
                <a:lnTo>
                  <a:pt x="3408" y="3696"/>
                </a:lnTo>
                <a:lnTo>
                  <a:pt x="3447" y="3708"/>
                </a:lnTo>
                <a:lnTo>
                  <a:pt x="3485" y="3720"/>
                </a:lnTo>
                <a:lnTo>
                  <a:pt x="3497" y="3724"/>
                </a:lnTo>
                <a:lnTo>
                  <a:pt x="3535" y="3736"/>
                </a:lnTo>
                <a:lnTo>
                  <a:pt x="3574" y="3748"/>
                </a:lnTo>
                <a:lnTo>
                  <a:pt x="3612" y="3758"/>
                </a:lnTo>
                <a:lnTo>
                  <a:pt x="3651" y="3770"/>
                </a:lnTo>
                <a:lnTo>
                  <a:pt x="3689" y="3780"/>
                </a:lnTo>
                <a:lnTo>
                  <a:pt x="3728" y="3791"/>
                </a:lnTo>
                <a:lnTo>
                  <a:pt x="3766" y="3801"/>
                </a:lnTo>
                <a:lnTo>
                  <a:pt x="3804" y="3811"/>
                </a:lnTo>
                <a:lnTo>
                  <a:pt x="3843" y="3820"/>
                </a:lnTo>
                <a:lnTo>
                  <a:pt x="3881" y="3831"/>
                </a:lnTo>
                <a:lnTo>
                  <a:pt x="3920" y="3839"/>
                </a:lnTo>
                <a:lnTo>
                  <a:pt x="3958" y="3848"/>
                </a:lnTo>
                <a:lnTo>
                  <a:pt x="3997" y="3857"/>
                </a:lnTo>
                <a:lnTo>
                  <a:pt x="4035" y="3865"/>
                </a:lnTo>
                <a:lnTo>
                  <a:pt x="4074" y="3873"/>
                </a:lnTo>
                <a:lnTo>
                  <a:pt x="4112" y="3881"/>
                </a:lnTo>
                <a:lnTo>
                  <a:pt x="4151" y="3890"/>
                </a:lnTo>
                <a:lnTo>
                  <a:pt x="4189" y="3897"/>
                </a:lnTo>
                <a:lnTo>
                  <a:pt x="4227" y="3905"/>
                </a:lnTo>
                <a:lnTo>
                  <a:pt x="4266" y="3912"/>
                </a:lnTo>
                <a:lnTo>
                  <a:pt x="4304" y="3919"/>
                </a:lnTo>
                <a:lnTo>
                  <a:pt x="4343" y="3925"/>
                </a:lnTo>
                <a:lnTo>
                  <a:pt x="4381" y="3933"/>
                </a:lnTo>
                <a:lnTo>
                  <a:pt x="4420" y="3939"/>
                </a:lnTo>
                <a:lnTo>
                  <a:pt x="4458" y="3944"/>
                </a:lnTo>
                <a:lnTo>
                  <a:pt x="4497" y="3952"/>
                </a:lnTo>
                <a:lnTo>
                  <a:pt x="4535" y="3958"/>
                </a:lnTo>
                <a:lnTo>
                  <a:pt x="4574" y="3964"/>
                </a:lnTo>
                <a:lnTo>
                  <a:pt x="4612" y="3970"/>
                </a:lnTo>
                <a:lnTo>
                  <a:pt x="4650" y="3976"/>
                </a:lnTo>
                <a:lnTo>
                  <a:pt x="4664" y="3977"/>
                </a:lnTo>
                <a:lnTo>
                  <a:pt x="4702" y="3983"/>
                </a:lnTo>
                <a:lnTo>
                  <a:pt x="4741" y="3987"/>
                </a:lnTo>
                <a:lnTo>
                  <a:pt x="4779" y="3993"/>
                </a:lnTo>
                <a:lnTo>
                  <a:pt x="4818" y="3999"/>
                </a:lnTo>
                <a:lnTo>
                  <a:pt x="4856" y="4004"/>
                </a:lnTo>
                <a:lnTo>
                  <a:pt x="4895" y="4010"/>
                </a:lnTo>
                <a:lnTo>
                  <a:pt x="4933" y="4014"/>
                </a:lnTo>
                <a:lnTo>
                  <a:pt x="4971" y="4018"/>
                </a:lnTo>
                <a:lnTo>
                  <a:pt x="5010" y="4023"/>
                </a:lnTo>
                <a:lnTo>
                  <a:pt x="5048" y="4027"/>
                </a:lnTo>
                <a:lnTo>
                  <a:pt x="5087" y="4032"/>
                </a:lnTo>
                <a:lnTo>
                  <a:pt x="5125" y="4036"/>
                </a:lnTo>
                <a:lnTo>
                  <a:pt x="5164" y="4041"/>
                </a:lnTo>
                <a:lnTo>
                  <a:pt x="5202" y="4045"/>
                </a:lnTo>
                <a:lnTo>
                  <a:pt x="5241" y="4049"/>
                </a:lnTo>
                <a:lnTo>
                  <a:pt x="5279" y="4054"/>
                </a:lnTo>
                <a:lnTo>
                  <a:pt x="5318" y="4057"/>
                </a:lnTo>
                <a:lnTo>
                  <a:pt x="5356" y="4061"/>
                </a:lnTo>
                <a:lnTo>
                  <a:pt x="5394" y="4064"/>
                </a:lnTo>
                <a:lnTo>
                  <a:pt x="5433" y="4069"/>
                </a:lnTo>
                <a:lnTo>
                  <a:pt x="5471" y="4072"/>
                </a:lnTo>
                <a:lnTo>
                  <a:pt x="5510" y="4076"/>
                </a:lnTo>
                <a:lnTo>
                  <a:pt x="5548" y="4079"/>
                </a:lnTo>
                <a:lnTo>
                  <a:pt x="5587" y="4082"/>
                </a:lnTo>
                <a:lnTo>
                  <a:pt x="5625" y="4085"/>
                </a:lnTo>
                <a:lnTo>
                  <a:pt x="5664" y="4088"/>
                </a:lnTo>
                <a:lnTo>
                  <a:pt x="5702" y="4092"/>
                </a:lnTo>
                <a:lnTo>
                  <a:pt x="5741" y="4095"/>
                </a:lnTo>
                <a:lnTo>
                  <a:pt x="5779" y="4098"/>
                </a:lnTo>
                <a:lnTo>
                  <a:pt x="5817" y="4100"/>
                </a:lnTo>
                <a:lnTo>
                  <a:pt x="5829" y="4101"/>
                </a:lnTo>
                <a:lnTo>
                  <a:pt x="5868" y="4104"/>
                </a:lnTo>
                <a:lnTo>
                  <a:pt x="5906" y="4107"/>
                </a:lnTo>
                <a:lnTo>
                  <a:pt x="5945" y="4109"/>
                </a:lnTo>
                <a:lnTo>
                  <a:pt x="5983" y="4112"/>
                </a:lnTo>
                <a:lnTo>
                  <a:pt x="6022" y="4115"/>
                </a:lnTo>
                <a:lnTo>
                  <a:pt x="6060" y="4116"/>
                </a:lnTo>
                <a:lnTo>
                  <a:pt x="6098" y="4119"/>
                </a:lnTo>
                <a:lnTo>
                  <a:pt x="6137" y="4120"/>
                </a:lnTo>
                <a:lnTo>
                  <a:pt x="6175" y="4123"/>
                </a:lnTo>
                <a:lnTo>
                  <a:pt x="6214" y="4125"/>
                </a:lnTo>
                <a:lnTo>
                  <a:pt x="6252" y="4128"/>
                </a:lnTo>
                <a:lnTo>
                  <a:pt x="6291" y="4129"/>
                </a:lnTo>
                <a:lnTo>
                  <a:pt x="6329" y="4132"/>
                </a:lnTo>
                <a:lnTo>
                  <a:pt x="6368" y="4134"/>
                </a:lnTo>
                <a:lnTo>
                  <a:pt x="6406" y="4135"/>
                </a:lnTo>
                <a:lnTo>
                  <a:pt x="6445" y="4137"/>
                </a:lnTo>
                <a:lnTo>
                  <a:pt x="6483" y="4140"/>
                </a:lnTo>
                <a:lnTo>
                  <a:pt x="6521" y="4141"/>
                </a:lnTo>
                <a:lnTo>
                  <a:pt x="6560" y="4143"/>
                </a:lnTo>
                <a:lnTo>
                  <a:pt x="6598" y="4144"/>
                </a:lnTo>
                <a:lnTo>
                  <a:pt x="6637" y="4147"/>
                </a:lnTo>
                <a:lnTo>
                  <a:pt x="6675" y="4149"/>
                </a:lnTo>
                <a:lnTo>
                  <a:pt x="6714" y="4150"/>
                </a:lnTo>
                <a:lnTo>
                  <a:pt x="6752" y="4152"/>
                </a:lnTo>
                <a:lnTo>
                  <a:pt x="6791" y="4153"/>
                </a:lnTo>
                <a:lnTo>
                  <a:pt x="6829" y="4154"/>
                </a:lnTo>
                <a:lnTo>
                  <a:pt x="6868" y="4156"/>
                </a:lnTo>
                <a:lnTo>
                  <a:pt x="6906" y="4157"/>
                </a:lnTo>
                <a:lnTo>
                  <a:pt x="6944" y="4160"/>
                </a:lnTo>
                <a:lnTo>
                  <a:pt x="6983" y="4162"/>
                </a:lnTo>
                <a:lnTo>
                  <a:pt x="6995" y="416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3205080" y="3468600"/>
            <a:ext cx="3602160" cy="1387440"/>
          </a:xfrm>
          <a:custGeom>
            <a:avLst/>
            <a:gdLst/>
            <a:ahLst/>
            <a:rect l="l" t="t" r="r" b="b"/>
            <a:pathLst>
              <a:path w="6995" h="2428">
                <a:moveTo>
                  <a:pt x="0" y="0"/>
                </a:moveTo>
                <a:lnTo>
                  <a:pt x="39" y="46"/>
                </a:lnTo>
                <a:lnTo>
                  <a:pt x="77" y="94"/>
                </a:lnTo>
                <a:lnTo>
                  <a:pt x="116" y="139"/>
                </a:lnTo>
                <a:lnTo>
                  <a:pt x="154" y="185"/>
                </a:lnTo>
                <a:lnTo>
                  <a:pt x="193" y="233"/>
                </a:lnTo>
                <a:lnTo>
                  <a:pt x="231" y="278"/>
                </a:lnTo>
                <a:lnTo>
                  <a:pt x="270" y="323"/>
                </a:lnTo>
                <a:lnTo>
                  <a:pt x="308" y="369"/>
                </a:lnTo>
                <a:lnTo>
                  <a:pt x="346" y="415"/>
                </a:lnTo>
                <a:lnTo>
                  <a:pt x="385" y="459"/>
                </a:lnTo>
                <a:lnTo>
                  <a:pt x="423" y="503"/>
                </a:lnTo>
                <a:lnTo>
                  <a:pt x="462" y="548"/>
                </a:lnTo>
                <a:lnTo>
                  <a:pt x="500" y="592"/>
                </a:lnTo>
                <a:lnTo>
                  <a:pt x="539" y="635"/>
                </a:lnTo>
                <a:lnTo>
                  <a:pt x="577" y="678"/>
                </a:lnTo>
                <a:lnTo>
                  <a:pt x="616" y="721"/>
                </a:lnTo>
                <a:lnTo>
                  <a:pt x="654" y="764"/>
                </a:lnTo>
                <a:lnTo>
                  <a:pt x="693" y="805"/>
                </a:lnTo>
                <a:lnTo>
                  <a:pt x="731" y="845"/>
                </a:lnTo>
                <a:lnTo>
                  <a:pt x="769" y="885"/>
                </a:lnTo>
                <a:lnTo>
                  <a:pt x="808" y="925"/>
                </a:lnTo>
                <a:lnTo>
                  <a:pt x="846" y="963"/>
                </a:lnTo>
                <a:lnTo>
                  <a:pt x="885" y="1002"/>
                </a:lnTo>
                <a:lnTo>
                  <a:pt x="923" y="1040"/>
                </a:lnTo>
                <a:lnTo>
                  <a:pt x="962" y="1076"/>
                </a:lnTo>
                <a:lnTo>
                  <a:pt x="1000" y="1113"/>
                </a:lnTo>
                <a:lnTo>
                  <a:pt x="1039" y="1147"/>
                </a:lnTo>
                <a:lnTo>
                  <a:pt x="1077" y="1181"/>
                </a:lnTo>
                <a:lnTo>
                  <a:pt x="1116" y="1215"/>
                </a:lnTo>
                <a:lnTo>
                  <a:pt x="1154" y="1246"/>
                </a:lnTo>
                <a:lnTo>
                  <a:pt x="1166" y="1256"/>
                </a:lnTo>
                <a:lnTo>
                  <a:pt x="1204" y="1287"/>
                </a:lnTo>
                <a:lnTo>
                  <a:pt x="1243" y="1317"/>
                </a:lnTo>
                <a:lnTo>
                  <a:pt x="1281" y="1346"/>
                </a:lnTo>
                <a:lnTo>
                  <a:pt x="1320" y="1374"/>
                </a:lnTo>
                <a:lnTo>
                  <a:pt x="1358" y="1401"/>
                </a:lnTo>
                <a:lnTo>
                  <a:pt x="1397" y="1428"/>
                </a:lnTo>
                <a:lnTo>
                  <a:pt x="1435" y="1453"/>
                </a:lnTo>
                <a:lnTo>
                  <a:pt x="1473" y="1478"/>
                </a:lnTo>
                <a:lnTo>
                  <a:pt x="1512" y="1502"/>
                </a:lnTo>
                <a:lnTo>
                  <a:pt x="1550" y="1525"/>
                </a:lnTo>
                <a:lnTo>
                  <a:pt x="1589" y="1548"/>
                </a:lnTo>
                <a:lnTo>
                  <a:pt x="1627" y="1570"/>
                </a:lnTo>
                <a:lnTo>
                  <a:pt x="1666" y="1590"/>
                </a:lnTo>
                <a:lnTo>
                  <a:pt x="1704" y="1611"/>
                </a:lnTo>
                <a:lnTo>
                  <a:pt x="1743" y="1630"/>
                </a:lnTo>
                <a:lnTo>
                  <a:pt x="1781" y="1650"/>
                </a:lnTo>
                <a:lnTo>
                  <a:pt x="1820" y="1667"/>
                </a:lnTo>
                <a:lnTo>
                  <a:pt x="1858" y="1687"/>
                </a:lnTo>
                <a:lnTo>
                  <a:pt x="1896" y="1703"/>
                </a:lnTo>
                <a:lnTo>
                  <a:pt x="1935" y="1721"/>
                </a:lnTo>
                <a:lnTo>
                  <a:pt x="1973" y="1737"/>
                </a:lnTo>
                <a:lnTo>
                  <a:pt x="2012" y="1753"/>
                </a:lnTo>
                <a:lnTo>
                  <a:pt x="2050" y="1768"/>
                </a:lnTo>
                <a:lnTo>
                  <a:pt x="2089" y="1784"/>
                </a:lnTo>
                <a:lnTo>
                  <a:pt x="2127" y="1799"/>
                </a:lnTo>
                <a:lnTo>
                  <a:pt x="2166" y="1812"/>
                </a:lnTo>
                <a:lnTo>
                  <a:pt x="2204" y="1827"/>
                </a:lnTo>
                <a:lnTo>
                  <a:pt x="2243" y="1840"/>
                </a:lnTo>
                <a:lnTo>
                  <a:pt x="2281" y="1854"/>
                </a:lnTo>
                <a:lnTo>
                  <a:pt x="2320" y="1867"/>
                </a:lnTo>
                <a:lnTo>
                  <a:pt x="2331" y="1871"/>
                </a:lnTo>
                <a:lnTo>
                  <a:pt x="2370" y="1885"/>
                </a:lnTo>
                <a:lnTo>
                  <a:pt x="2408" y="1897"/>
                </a:lnTo>
                <a:lnTo>
                  <a:pt x="2447" y="1910"/>
                </a:lnTo>
                <a:lnTo>
                  <a:pt x="2485" y="1922"/>
                </a:lnTo>
                <a:lnTo>
                  <a:pt x="2524" y="1934"/>
                </a:lnTo>
                <a:lnTo>
                  <a:pt x="2562" y="1945"/>
                </a:lnTo>
                <a:lnTo>
                  <a:pt x="2601" y="1957"/>
                </a:lnTo>
                <a:lnTo>
                  <a:pt x="2639" y="1969"/>
                </a:lnTo>
                <a:lnTo>
                  <a:pt x="2677" y="1981"/>
                </a:lnTo>
                <a:lnTo>
                  <a:pt x="2716" y="1991"/>
                </a:lnTo>
                <a:lnTo>
                  <a:pt x="2754" y="2002"/>
                </a:lnTo>
                <a:lnTo>
                  <a:pt x="2793" y="2013"/>
                </a:lnTo>
                <a:lnTo>
                  <a:pt x="2831" y="2024"/>
                </a:lnTo>
                <a:lnTo>
                  <a:pt x="2870" y="2034"/>
                </a:lnTo>
                <a:lnTo>
                  <a:pt x="2908" y="2043"/>
                </a:lnTo>
                <a:lnTo>
                  <a:pt x="2947" y="2053"/>
                </a:lnTo>
                <a:lnTo>
                  <a:pt x="2985" y="2064"/>
                </a:lnTo>
                <a:lnTo>
                  <a:pt x="3024" y="2073"/>
                </a:lnTo>
                <a:lnTo>
                  <a:pt x="3062" y="2081"/>
                </a:lnTo>
                <a:lnTo>
                  <a:pt x="3100" y="2090"/>
                </a:lnTo>
                <a:lnTo>
                  <a:pt x="3139" y="2099"/>
                </a:lnTo>
                <a:lnTo>
                  <a:pt x="3177" y="2108"/>
                </a:lnTo>
                <a:lnTo>
                  <a:pt x="3216" y="2117"/>
                </a:lnTo>
                <a:lnTo>
                  <a:pt x="3254" y="2126"/>
                </a:lnTo>
                <a:lnTo>
                  <a:pt x="3293" y="2133"/>
                </a:lnTo>
                <a:lnTo>
                  <a:pt x="3331" y="2141"/>
                </a:lnTo>
                <a:lnTo>
                  <a:pt x="3370" y="2149"/>
                </a:lnTo>
                <a:lnTo>
                  <a:pt x="3408" y="2157"/>
                </a:lnTo>
                <a:lnTo>
                  <a:pt x="3447" y="2164"/>
                </a:lnTo>
                <a:lnTo>
                  <a:pt x="3485" y="2172"/>
                </a:lnTo>
                <a:lnTo>
                  <a:pt x="3497" y="2173"/>
                </a:lnTo>
                <a:lnTo>
                  <a:pt x="3535" y="2181"/>
                </a:lnTo>
                <a:lnTo>
                  <a:pt x="3574" y="2186"/>
                </a:lnTo>
                <a:lnTo>
                  <a:pt x="3612" y="2194"/>
                </a:lnTo>
                <a:lnTo>
                  <a:pt x="3651" y="2200"/>
                </a:lnTo>
                <a:lnTo>
                  <a:pt x="3689" y="2206"/>
                </a:lnTo>
                <a:lnTo>
                  <a:pt x="3728" y="2212"/>
                </a:lnTo>
                <a:lnTo>
                  <a:pt x="3766" y="2218"/>
                </a:lnTo>
                <a:lnTo>
                  <a:pt x="3804" y="2223"/>
                </a:lnTo>
                <a:lnTo>
                  <a:pt x="3843" y="2229"/>
                </a:lnTo>
                <a:lnTo>
                  <a:pt x="3881" y="2235"/>
                </a:lnTo>
                <a:lnTo>
                  <a:pt x="3920" y="2241"/>
                </a:lnTo>
                <a:lnTo>
                  <a:pt x="3958" y="2246"/>
                </a:lnTo>
                <a:lnTo>
                  <a:pt x="3997" y="2252"/>
                </a:lnTo>
                <a:lnTo>
                  <a:pt x="4035" y="2256"/>
                </a:lnTo>
                <a:lnTo>
                  <a:pt x="4074" y="2260"/>
                </a:lnTo>
                <a:lnTo>
                  <a:pt x="4112" y="2265"/>
                </a:lnTo>
                <a:lnTo>
                  <a:pt x="4151" y="2269"/>
                </a:lnTo>
                <a:lnTo>
                  <a:pt x="4189" y="2274"/>
                </a:lnTo>
                <a:lnTo>
                  <a:pt x="4227" y="2278"/>
                </a:lnTo>
                <a:lnTo>
                  <a:pt x="4266" y="2283"/>
                </a:lnTo>
                <a:lnTo>
                  <a:pt x="4304" y="2287"/>
                </a:lnTo>
                <a:lnTo>
                  <a:pt x="4343" y="2291"/>
                </a:lnTo>
                <a:lnTo>
                  <a:pt x="4381" y="2294"/>
                </a:lnTo>
                <a:lnTo>
                  <a:pt x="4420" y="2299"/>
                </a:lnTo>
                <a:lnTo>
                  <a:pt x="4458" y="2302"/>
                </a:lnTo>
                <a:lnTo>
                  <a:pt x="4497" y="2306"/>
                </a:lnTo>
                <a:lnTo>
                  <a:pt x="4535" y="2309"/>
                </a:lnTo>
                <a:lnTo>
                  <a:pt x="4574" y="2314"/>
                </a:lnTo>
                <a:lnTo>
                  <a:pt x="4612" y="2317"/>
                </a:lnTo>
                <a:lnTo>
                  <a:pt x="4650" y="2320"/>
                </a:lnTo>
                <a:lnTo>
                  <a:pt x="4664" y="2321"/>
                </a:lnTo>
                <a:lnTo>
                  <a:pt x="4702" y="2324"/>
                </a:lnTo>
                <a:lnTo>
                  <a:pt x="4741" y="2327"/>
                </a:lnTo>
                <a:lnTo>
                  <a:pt x="4779" y="2330"/>
                </a:lnTo>
                <a:lnTo>
                  <a:pt x="4818" y="2333"/>
                </a:lnTo>
                <a:lnTo>
                  <a:pt x="4856" y="2336"/>
                </a:lnTo>
                <a:lnTo>
                  <a:pt x="4895" y="2339"/>
                </a:lnTo>
                <a:lnTo>
                  <a:pt x="4933" y="2342"/>
                </a:lnTo>
                <a:lnTo>
                  <a:pt x="4971" y="2345"/>
                </a:lnTo>
                <a:lnTo>
                  <a:pt x="5010" y="2348"/>
                </a:lnTo>
                <a:lnTo>
                  <a:pt x="5048" y="2351"/>
                </a:lnTo>
                <a:lnTo>
                  <a:pt x="5087" y="2354"/>
                </a:lnTo>
                <a:lnTo>
                  <a:pt x="5125" y="2355"/>
                </a:lnTo>
                <a:lnTo>
                  <a:pt x="5164" y="2358"/>
                </a:lnTo>
                <a:lnTo>
                  <a:pt x="5202" y="2361"/>
                </a:lnTo>
                <a:lnTo>
                  <a:pt x="5241" y="2362"/>
                </a:lnTo>
                <a:lnTo>
                  <a:pt x="5279" y="2365"/>
                </a:lnTo>
                <a:lnTo>
                  <a:pt x="5318" y="2367"/>
                </a:lnTo>
                <a:lnTo>
                  <a:pt x="5356" y="2370"/>
                </a:lnTo>
                <a:lnTo>
                  <a:pt x="5394" y="2371"/>
                </a:lnTo>
                <a:lnTo>
                  <a:pt x="5433" y="2373"/>
                </a:lnTo>
                <a:lnTo>
                  <a:pt x="5471" y="2376"/>
                </a:lnTo>
                <a:lnTo>
                  <a:pt x="5510" y="2377"/>
                </a:lnTo>
                <a:lnTo>
                  <a:pt x="5548" y="2379"/>
                </a:lnTo>
                <a:lnTo>
                  <a:pt x="5587" y="2382"/>
                </a:lnTo>
                <a:lnTo>
                  <a:pt x="5625" y="2383"/>
                </a:lnTo>
                <a:lnTo>
                  <a:pt x="5664" y="2385"/>
                </a:lnTo>
                <a:lnTo>
                  <a:pt x="5702" y="2386"/>
                </a:lnTo>
                <a:lnTo>
                  <a:pt x="5741" y="2388"/>
                </a:lnTo>
                <a:lnTo>
                  <a:pt x="5779" y="2391"/>
                </a:lnTo>
                <a:lnTo>
                  <a:pt x="5817" y="2392"/>
                </a:lnTo>
                <a:lnTo>
                  <a:pt x="5829" y="2392"/>
                </a:lnTo>
                <a:lnTo>
                  <a:pt x="5868" y="2394"/>
                </a:lnTo>
                <a:lnTo>
                  <a:pt x="5906" y="2395"/>
                </a:lnTo>
                <a:lnTo>
                  <a:pt x="5945" y="2396"/>
                </a:lnTo>
                <a:lnTo>
                  <a:pt x="5983" y="2398"/>
                </a:lnTo>
                <a:lnTo>
                  <a:pt x="6022" y="2399"/>
                </a:lnTo>
                <a:lnTo>
                  <a:pt x="6060" y="2401"/>
                </a:lnTo>
                <a:lnTo>
                  <a:pt x="6098" y="2402"/>
                </a:lnTo>
                <a:lnTo>
                  <a:pt x="6137" y="2404"/>
                </a:lnTo>
                <a:lnTo>
                  <a:pt x="6175" y="2405"/>
                </a:lnTo>
                <a:lnTo>
                  <a:pt x="6214" y="2405"/>
                </a:lnTo>
                <a:lnTo>
                  <a:pt x="6252" y="2407"/>
                </a:lnTo>
                <a:lnTo>
                  <a:pt x="6291" y="2408"/>
                </a:lnTo>
                <a:lnTo>
                  <a:pt x="6329" y="2410"/>
                </a:lnTo>
                <a:lnTo>
                  <a:pt x="6368" y="2411"/>
                </a:lnTo>
                <a:lnTo>
                  <a:pt x="6406" y="2411"/>
                </a:lnTo>
                <a:lnTo>
                  <a:pt x="6445" y="2413"/>
                </a:lnTo>
                <a:lnTo>
                  <a:pt x="6483" y="2414"/>
                </a:lnTo>
                <a:lnTo>
                  <a:pt x="6521" y="2416"/>
                </a:lnTo>
                <a:lnTo>
                  <a:pt x="6560" y="2416"/>
                </a:lnTo>
                <a:lnTo>
                  <a:pt x="6598" y="2417"/>
                </a:lnTo>
                <a:lnTo>
                  <a:pt x="6637" y="2419"/>
                </a:lnTo>
                <a:lnTo>
                  <a:pt x="6675" y="2419"/>
                </a:lnTo>
                <a:lnTo>
                  <a:pt x="6714" y="2420"/>
                </a:lnTo>
                <a:lnTo>
                  <a:pt x="6752" y="2422"/>
                </a:lnTo>
                <a:lnTo>
                  <a:pt x="6791" y="2423"/>
                </a:lnTo>
                <a:lnTo>
                  <a:pt x="6829" y="2423"/>
                </a:lnTo>
                <a:lnTo>
                  <a:pt x="6868" y="2425"/>
                </a:lnTo>
                <a:lnTo>
                  <a:pt x="6906" y="2425"/>
                </a:lnTo>
                <a:lnTo>
                  <a:pt x="6944" y="2426"/>
                </a:lnTo>
                <a:lnTo>
                  <a:pt x="6983" y="2428"/>
                </a:lnTo>
                <a:lnTo>
                  <a:pt x="6995" y="242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4101840" y="528804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tension (N.m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4108680" y="2957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4946760" y="392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 rot="16200000">
            <a:off x="891000" y="3610080"/>
            <a:ext cx="359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 (L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.sec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3727440" y="3156120"/>
            <a:ext cx="38592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 flipH="1">
            <a:off x="4532040" y="4151160"/>
            <a:ext cx="43812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4884120" y="3006720"/>
            <a:ext cx="296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uissance a = puissanc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>
            <a:off x="1905120" y="431640"/>
            <a:ext cx="3268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178920" y="206280"/>
            <a:ext cx="8354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sport et muscl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es types de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169920" y="839880"/>
            <a:ext cx="6581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ibres lentes, fibres rapid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2" name=""/>
          <p:cNvSpPr/>
          <p:nvPr/>
        </p:nvSpPr>
        <p:spPr>
          <a:xfrm>
            <a:off x="2330640" y="4894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3" name=""/>
          <p:cNvSpPr/>
          <p:nvPr/>
        </p:nvSpPr>
        <p:spPr>
          <a:xfrm>
            <a:off x="3662640" y="4894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2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4996080" y="48942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5" name=""/>
          <p:cNvSpPr/>
          <p:nvPr/>
        </p:nvSpPr>
        <p:spPr>
          <a:xfrm>
            <a:off x="867960" y="4737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6" name=""/>
          <p:cNvSpPr/>
          <p:nvPr/>
        </p:nvSpPr>
        <p:spPr>
          <a:xfrm>
            <a:off x="867960" y="4280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7" name=""/>
          <p:cNvSpPr/>
          <p:nvPr/>
        </p:nvSpPr>
        <p:spPr>
          <a:xfrm>
            <a:off x="867960" y="3832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8" name=""/>
          <p:cNvSpPr/>
          <p:nvPr/>
        </p:nvSpPr>
        <p:spPr>
          <a:xfrm>
            <a:off x="867960" y="3387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9" name=""/>
          <p:cNvSpPr/>
          <p:nvPr/>
        </p:nvSpPr>
        <p:spPr>
          <a:xfrm>
            <a:off x="867960" y="2940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0" name=""/>
          <p:cNvSpPr/>
          <p:nvPr/>
        </p:nvSpPr>
        <p:spPr>
          <a:xfrm>
            <a:off x="867960" y="249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1" name=""/>
          <p:cNvSpPr/>
          <p:nvPr/>
        </p:nvSpPr>
        <p:spPr>
          <a:xfrm>
            <a:off x="867960" y="2046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2" name=""/>
          <p:cNvSpPr/>
          <p:nvPr/>
        </p:nvSpPr>
        <p:spPr>
          <a:xfrm flipV="1">
            <a:off x="1744560" y="4800240"/>
            <a:ext cx="18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3" name=""/>
          <p:cNvSpPr/>
          <p:nvPr/>
        </p:nvSpPr>
        <p:spPr>
          <a:xfrm flipV="1">
            <a:off x="2411280" y="4800240"/>
            <a:ext cx="18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4" name=""/>
          <p:cNvSpPr/>
          <p:nvPr/>
        </p:nvSpPr>
        <p:spPr>
          <a:xfrm flipV="1">
            <a:off x="3078000" y="4800240"/>
            <a:ext cx="18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 flipV="1">
            <a:off x="3746520" y="480024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 flipV="1">
            <a:off x="4411800" y="4800240"/>
            <a:ext cx="14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 flipV="1">
            <a:off x="5078520" y="4800240"/>
            <a:ext cx="14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>
            <a:off x="1077840" y="4800600"/>
            <a:ext cx="401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>
            <a:off x="1019160" y="4805280"/>
            <a:ext cx="586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1049400" y="4579920"/>
            <a:ext cx="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1019160" y="4356000"/>
            <a:ext cx="586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1049400" y="4133880"/>
            <a:ext cx="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>
            <a:off x="1019160" y="3911760"/>
            <a:ext cx="58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049400" y="3686040"/>
            <a:ext cx="2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1019160" y="3463920"/>
            <a:ext cx="58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1049400" y="3240000"/>
            <a:ext cx="2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>
            <a:off x="1019160" y="3017880"/>
            <a:ext cx="58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1049400" y="2792520"/>
            <a:ext cx="28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>
            <a:off x="1019160" y="2570040"/>
            <a:ext cx="58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1049400" y="2347920"/>
            <a:ext cx="2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1019160" y="2124000"/>
            <a:ext cx="58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 flipV="1">
            <a:off x="1077840" y="2119320"/>
            <a:ext cx="180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>
            <a:off x="1077840" y="2124000"/>
            <a:ext cx="4000680" cy="2641680"/>
          </a:xfrm>
          <a:custGeom>
            <a:avLst/>
            <a:gdLst/>
            <a:ahLst/>
            <a:rect l="l" t="t" r="r" b="b"/>
            <a:pathLst>
              <a:path w="6995" h="4162">
                <a:moveTo>
                  <a:pt x="0" y="0"/>
                </a:moveTo>
                <a:lnTo>
                  <a:pt x="39" y="80"/>
                </a:lnTo>
                <a:lnTo>
                  <a:pt x="77" y="160"/>
                </a:lnTo>
                <a:lnTo>
                  <a:pt x="116" y="238"/>
                </a:lnTo>
                <a:lnTo>
                  <a:pt x="154" y="318"/>
                </a:lnTo>
                <a:lnTo>
                  <a:pt x="193" y="396"/>
                </a:lnTo>
                <a:lnTo>
                  <a:pt x="231" y="476"/>
                </a:lnTo>
                <a:lnTo>
                  <a:pt x="270" y="554"/>
                </a:lnTo>
                <a:lnTo>
                  <a:pt x="308" y="633"/>
                </a:lnTo>
                <a:lnTo>
                  <a:pt x="346" y="710"/>
                </a:lnTo>
                <a:lnTo>
                  <a:pt x="385" y="787"/>
                </a:lnTo>
                <a:lnTo>
                  <a:pt x="423" y="864"/>
                </a:lnTo>
                <a:lnTo>
                  <a:pt x="462" y="939"/>
                </a:lnTo>
                <a:lnTo>
                  <a:pt x="500" y="1014"/>
                </a:lnTo>
                <a:lnTo>
                  <a:pt x="539" y="1088"/>
                </a:lnTo>
                <a:lnTo>
                  <a:pt x="577" y="1162"/>
                </a:lnTo>
                <a:lnTo>
                  <a:pt x="616" y="1236"/>
                </a:lnTo>
                <a:lnTo>
                  <a:pt x="654" y="1307"/>
                </a:lnTo>
                <a:lnTo>
                  <a:pt x="693" y="1378"/>
                </a:lnTo>
                <a:lnTo>
                  <a:pt x="731" y="1449"/>
                </a:lnTo>
                <a:lnTo>
                  <a:pt x="769" y="1517"/>
                </a:lnTo>
                <a:lnTo>
                  <a:pt x="808" y="1585"/>
                </a:lnTo>
                <a:lnTo>
                  <a:pt x="846" y="1652"/>
                </a:lnTo>
                <a:lnTo>
                  <a:pt x="885" y="1719"/>
                </a:lnTo>
                <a:lnTo>
                  <a:pt x="923" y="1782"/>
                </a:lnTo>
                <a:lnTo>
                  <a:pt x="962" y="1844"/>
                </a:lnTo>
                <a:lnTo>
                  <a:pt x="1000" y="1906"/>
                </a:lnTo>
                <a:lnTo>
                  <a:pt x="1039" y="1966"/>
                </a:lnTo>
                <a:lnTo>
                  <a:pt x="1077" y="2025"/>
                </a:lnTo>
                <a:lnTo>
                  <a:pt x="1116" y="2081"/>
                </a:lnTo>
                <a:lnTo>
                  <a:pt x="1154" y="2137"/>
                </a:lnTo>
                <a:lnTo>
                  <a:pt x="1166" y="2153"/>
                </a:lnTo>
                <a:lnTo>
                  <a:pt x="1204" y="2207"/>
                </a:lnTo>
                <a:lnTo>
                  <a:pt x="1243" y="2258"/>
                </a:lnTo>
                <a:lnTo>
                  <a:pt x="1281" y="2307"/>
                </a:lnTo>
                <a:lnTo>
                  <a:pt x="1320" y="2356"/>
                </a:lnTo>
                <a:lnTo>
                  <a:pt x="1358" y="2402"/>
                </a:lnTo>
                <a:lnTo>
                  <a:pt x="1397" y="2448"/>
                </a:lnTo>
                <a:lnTo>
                  <a:pt x="1435" y="2491"/>
                </a:lnTo>
                <a:lnTo>
                  <a:pt x="1473" y="2533"/>
                </a:lnTo>
                <a:lnTo>
                  <a:pt x="1512" y="2575"/>
                </a:lnTo>
                <a:lnTo>
                  <a:pt x="1550" y="2615"/>
                </a:lnTo>
                <a:lnTo>
                  <a:pt x="1589" y="2653"/>
                </a:lnTo>
                <a:lnTo>
                  <a:pt x="1627" y="2690"/>
                </a:lnTo>
                <a:lnTo>
                  <a:pt x="1666" y="2726"/>
                </a:lnTo>
                <a:lnTo>
                  <a:pt x="1704" y="2761"/>
                </a:lnTo>
                <a:lnTo>
                  <a:pt x="1743" y="2795"/>
                </a:lnTo>
                <a:lnTo>
                  <a:pt x="1781" y="2828"/>
                </a:lnTo>
                <a:lnTo>
                  <a:pt x="1820" y="2859"/>
                </a:lnTo>
                <a:lnTo>
                  <a:pt x="1858" y="2890"/>
                </a:lnTo>
                <a:lnTo>
                  <a:pt x="1896" y="2919"/>
                </a:lnTo>
                <a:lnTo>
                  <a:pt x="1935" y="2949"/>
                </a:lnTo>
                <a:lnTo>
                  <a:pt x="1973" y="2977"/>
                </a:lnTo>
                <a:lnTo>
                  <a:pt x="2012" y="3005"/>
                </a:lnTo>
                <a:lnTo>
                  <a:pt x="2050" y="3032"/>
                </a:lnTo>
                <a:lnTo>
                  <a:pt x="2089" y="3057"/>
                </a:lnTo>
                <a:lnTo>
                  <a:pt x="2127" y="3082"/>
                </a:lnTo>
                <a:lnTo>
                  <a:pt x="2166" y="3107"/>
                </a:lnTo>
                <a:lnTo>
                  <a:pt x="2204" y="3131"/>
                </a:lnTo>
                <a:lnTo>
                  <a:pt x="2243" y="3155"/>
                </a:lnTo>
                <a:lnTo>
                  <a:pt x="2281" y="3178"/>
                </a:lnTo>
                <a:lnTo>
                  <a:pt x="2320" y="3201"/>
                </a:lnTo>
                <a:lnTo>
                  <a:pt x="2331" y="3208"/>
                </a:lnTo>
                <a:lnTo>
                  <a:pt x="2370" y="3230"/>
                </a:lnTo>
                <a:lnTo>
                  <a:pt x="2408" y="3252"/>
                </a:lnTo>
                <a:lnTo>
                  <a:pt x="2447" y="3273"/>
                </a:lnTo>
                <a:lnTo>
                  <a:pt x="2485" y="3295"/>
                </a:lnTo>
                <a:lnTo>
                  <a:pt x="2524" y="3316"/>
                </a:lnTo>
                <a:lnTo>
                  <a:pt x="2562" y="3335"/>
                </a:lnTo>
                <a:lnTo>
                  <a:pt x="2601" y="3356"/>
                </a:lnTo>
                <a:lnTo>
                  <a:pt x="2639" y="3375"/>
                </a:lnTo>
                <a:lnTo>
                  <a:pt x="2677" y="3394"/>
                </a:lnTo>
                <a:lnTo>
                  <a:pt x="2716" y="3413"/>
                </a:lnTo>
                <a:lnTo>
                  <a:pt x="2754" y="3431"/>
                </a:lnTo>
                <a:lnTo>
                  <a:pt x="2793" y="3450"/>
                </a:lnTo>
                <a:lnTo>
                  <a:pt x="2831" y="3468"/>
                </a:lnTo>
                <a:lnTo>
                  <a:pt x="2870" y="3486"/>
                </a:lnTo>
                <a:lnTo>
                  <a:pt x="2908" y="3502"/>
                </a:lnTo>
                <a:lnTo>
                  <a:pt x="2947" y="3520"/>
                </a:lnTo>
                <a:lnTo>
                  <a:pt x="2985" y="3536"/>
                </a:lnTo>
                <a:lnTo>
                  <a:pt x="3024" y="3553"/>
                </a:lnTo>
                <a:lnTo>
                  <a:pt x="3062" y="3567"/>
                </a:lnTo>
                <a:lnTo>
                  <a:pt x="3100" y="3584"/>
                </a:lnTo>
                <a:lnTo>
                  <a:pt x="3139" y="3598"/>
                </a:lnTo>
                <a:lnTo>
                  <a:pt x="3177" y="3613"/>
                </a:lnTo>
                <a:lnTo>
                  <a:pt x="3216" y="3628"/>
                </a:lnTo>
                <a:lnTo>
                  <a:pt x="3254" y="3641"/>
                </a:lnTo>
                <a:lnTo>
                  <a:pt x="3293" y="3656"/>
                </a:lnTo>
                <a:lnTo>
                  <a:pt x="3331" y="3669"/>
                </a:lnTo>
                <a:lnTo>
                  <a:pt x="3370" y="3683"/>
                </a:lnTo>
                <a:lnTo>
                  <a:pt x="3408" y="3696"/>
                </a:lnTo>
                <a:lnTo>
                  <a:pt x="3447" y="3708"/>
                </a:lnTo>
                <a:lnTo>
                  <a:pt x="3485" y="3720"/>
                </a:lnTo>
                <a:lnTo>
                  <a:pt x="3497" y="3724"/>
                </a:lnTo>
                <a:lnTo>
                  <a:pt x="3535" y="3736"/>
                </a:lnTo>
                <a:lnTo>
                  <a:pt x="3574" y="3748"/>
                </a:lnTo>
                <a:lnTo>
                  <a:pt x="3612" y="3758"/>
                </a:lnTo>
                <a:lnTo>
                  <a:pt x="3651" y="3770"/>
                </a:lnTo>
                <a:lnTo>
                  <a:pt x="3689" y="3780"/>
                </a:lnTo>
                <a:lnTo>
                  <a:pt x="3728" y="3791"/>
                </a:lnTo>
                <a:lnTo>
                  <a:pt x="3766" y="3801"/>
                </a:lnTo>
                <a:lnTo>
                  <a:pt x="3804" y="3811"/>
                </a:lnTo>
                <a:lnTo>
                  <a:pt x="3843" y="3820"/>
                </a:lnTo>
                <a:lnTo>
                  <a:pt x="3881" y="3831"/>
                </a:lnTo>
                <a:lnTo>
                  <a:pt x="3920" y="3839"/>
                </a:lnTo>
                <a:lnTo>
                  <a:pt x="3958" y="3848"/>
                </a:lnTo>
                <a:lnTo>
                  <a:pt x="3997" y="3857"/>
                </a:lnTo>
                <a:lnTo>
                  <a:pt x="4035" y="3865"/>
                </a:lnTo>
                <a:lnTo>
                  <a:pt x="4074" y="3873"/>
                </a:lnTo>
                <a:lnTo>
                  <a:pt x="4112" y="3881"/>
                </a:lnTo>
                <a:lnTo>
                  <a:pt x="4151" y="3890"/>
                </a:lnTo>
                <a:lnTo>
                  <a:pt x="4189" y="3897"/>
                </a:lnTo>
                <a:lnTo>
                  <a:pt x="4227" y="3905"/>
                </a:lnTo>
                <a:lnTo>
                  <a:pt x="4266" y="3912"/>
                </a:lnTo>
                <a:lnTo>
                  <a:pt x="4304" y="3919"/>
                </a:lnTo>
                <a:lnTo>
                  <a:pt x="4343" y="3925"/>
                </a:lnTo>
                <a:lnTo>
                  <a:pt x="4381" y="3933"/>
                </a:lnTo>
                <a:lnTo>
                  <a:pt x="4420" y="3939"/>
                </a:lnTo>
                <a:lnTo>
                  <a:pt x="4458" y="3944"/>
                </a:lnTo>
                <a:lnTo>
                  <a:pt x="4497" y="3952"/>
                </a:lnTo>
                <a:lnTo>
                  <a:pt x="4535" y="3958"/>
                </a:lnTo>
                <a:lnTo>
                  <a:pt x="4574" y="3964"/>
                </a:lnTo>
                <a:lnTo>
                  <a:pt x="4612" y="3970"/>
                </a:lnTo>
                <a:lnTo>
                  <a:pt x="4650" y="3976"/>
                </a:lnTo>
                <a:lnTo>
                  <a:pt x="4664" y="3977"/>
                </a:lnTo>
                <a:lnTo>
                  <a:pt x="4702" y="3983"/>
                </a:lnTo>
                <a:lnTo>
                  <a:pt x="4741" y="3987"/>
                </a:lnTo>
                <a:lnTo>
                  <a:pt x="4779" y="3993"/>
                </a:lnTo>
                <a:lnTo>
                  <a:pt x="4818" y="3999"/>
                </a:lnTo>
                <a:lnTo>
                  <a:pt x="4856" y="4004"/>
                </a:lnTo>
                <a:lnTo>
                  <a:pt x="4895" y="4010"/>
                </a:lnTo>
                <a:lnTo>
                  <a:pt x="4933" y="4014"/>
                </a:lnTo>
                <a:lnTo>
                  <a:pt x="4971" y="4018"/>
                </a:lnTo>
                <a:lnTo>
                  <a:pt x="5010" y="4023"/>
                </a:lnTo>
                <a:lnTo>
                  <a:pt x="5048" y="4027"/>
                </a:lnTo>
                <a:lnTo>
                  <a:pt x="5087" y="4032"/>
                </a:lnTo>
                <a:lnTo>
                  <a:pt x="5125" y="4036"/>
                </a:lnTo>
                <a:lnTo>
                  <a:pt x="5164" y="4041"/>
                </a:lnTo>
                <a:lnTo>
                  <a:pt x="5202" y="4045"/>
                </a:lnTo>
                <a:lnTo>
                  <a:pt x="5241" y="4049"/>
                </a:lnTo>
                <a:lnTo>
                  <a:pt x="5279" y="4054"/>
                </a:lnTo>
                <a:lnTo>
                  <a:pt x="5318" y="4057"/>
                </a:lnTo>
                <a:lnTo>
                  <a:pt x="5356" y="4061"/>
                </a:lnTo>
                <a:lnTo>
                  <a:pt x="5394" y="4064"/>
                </a:lnTo>
                <a:lnTo>
                  <a:pt x="5433" y="4069"/>
                </a:lnTo>
                <a:lnTo>
                  <a:pt x="5471" y="4072"/>
                </a:lnTo>
                <a:lnTo>
                  <a:pt x="5510" y="4076"/>
                </a:lnTo>
                <a:lnTo>
                  <a:pt x="5548" y="4079"/>
                </a:lnTo>
                <a:lnTo>
                  <a:pt x="5587" y="4082"/>
                </a:lnTo>
                <a:lnTo>
                  <a:pt x="5625" y="4085"/>
                </a:lnTo>
                <a:lnTo>
                  <a:pt x="5664" y="4088"/>
                </a:lnTo>
                <a:lnTo>
                  <a:pt x="5702" y="4092"/>
                </a:lnTo>
                <a:lnTo>
                  <a:pt x="5741" y="4095"/>
                </a:lnTo>
                <a:lnTo>
                  <a:pt x="5779" y="4098"/>
                </a:lnTo>
                <a:lnTo>
                  <a:pt x="5817" y="4100"/>
                </a:lnTo>
                <a:lnTo>
                  <a:pt x="5829" y="4101"/>
                </a:lnTo>
                <a:lnTo>
                  <a:pt x="5868" y="4104"/>
                </a:lnTo>
                <a:lnTo>
                  <a:pt x="5906" y="4107"/>
                </a:lnTo>
                <a:lnTo>
                  <a:pt x="5945" y="4109"/>
                </a:lnTo>
                <a:lnTo>
                  <a:pt x="5983" y="4112"/>
                </a:lnTo>
                <a:lnTo>
                  <a:pt x="6022" y="4115"/>
                </a:lnTo>
                <a:lnTo>
                  <a:pt x="6060" y="4116"/>
                </a:lnTo>
                <a:lnTo>
                  <a:pt x="6098" y="4119"/>
                </a:lnTo>
                <a:lnTo>
                  <a:pt x="6137" y="4120"/>
                </a:lnTo>
                <a:lnTo>
                  <a:pt x="6175" y="4123"/>
                </a:lnTo>
                <a:lnTo>
                  <a:pt x="6214" y="4125"/>
                </a:lnTo>
                <a:lnTo>
                  <a:pt x="6252" y="4128"/>
                </a:lnTo>
                <a:lnTo>
                  <a:pt x="6291" y="4129"/>
                </a:lnTo>
                <a:lnTo>
                  <a:pt x="6329" y="4132"/>
                </a:lnTo>
                <a:lnTo>
                  <a:pt x="6368" y="4134"/>
                </a:lnTo>
                <a:lnTo>
                  <a:pt x="6406" y="4135"/>
                </a:lnTo>
                <a:lnTo>
                  <a:pt x="6445" y="4137"/>
                </a:lnTo>
                <a:lnTo>
                  <a:pt x="6483" y="4140"/>
                </a:lnTo>
                <a:lnTo>
                  <a:pt x="6521" y="4141"/>
                </a:lnTo>
                <a:lnTo>
                  <a:pt x="6560" y="4143"/>
                </a:lnTo>
                <a:lnTo>
                  <a:pt x="6598" y="4144"/>
                </a:lnTo>
                <a:lnTo>
                  <a:pt x="6637" y="4147"/>
                </a:lnTo>
                <a:lnTo>
                  <a:pt x="6675" y="4149"/>
                </a:lnTo>
                <a:lnTo>
                  <a:pt x="6714" y="4150"/>
                </a:lnTo>
                <a:lnTo>
                  <a:pt x="6752" y="4152"/>
                </a:lnTo>
                <a:lnTo>
                  <a:pt x="6791" y="4153"/>
                </a:lnTo>
                <a:lnTo>
                  <a:pt x="6829" y="4154"/>
                </a:lnTo>
                <a:lnTo>
                  <a:pt x="6868" y="4156"/>
                </a:lnTo>
                <a:lnTo>
                  <a:pt x="6906" y="4157"/>
                </a:lnTo>
                <a:lnTo>
                  <a:pt x="6944" y="4160"/>
                </a:lnTo>
                <a:lnTo>
                  <a:pt x="6983" y="4162"/>
                </a:lnTo>
                <a:lnTo>
                  <a:pt x="6995" y="4162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1077840" y="3240000"/>
            <a:ext cx="4000680" cy="1541520"/>
          </a:xfrm>
          <a:custGeom>
            <a:avLst/>
            <a:gdLst/>
            <a:ahLst/>
            <a:rect l="l" t="t" r="r" b="b"/>
            <a:pathLst>
              <a:path w="6995" h="2428">
                <a:moveTo>
                  <a:pt x="0" y="0"/>
                </a:moveTo>
                <a:lnTo>
                  <a:pt x="39" y="46"/>
                </a:lnTo>
                <a:lnTo>
                  <a:pt x="77" y="94"/>
                </a:lnTo>
                <a:lnTo>
                  <a:pt x="116" y="139"/>
                </a:lnTo>
                <a:lnTo>
                  <a:pt x="154" y="185"/>
                </a:lnTo>
                <a:lnTo>
                  <a:pt x="193" y="233"/>
                </a:lnTo>
                <a:lnTo>
                  <a:pt x="231" y="278"/>
                </a:lnTo>
                <a:lnTo>
                  <a:pt x="270" y="323"/>
                </a:lnTo>
                <a:lnTo>
                  <a:pt x="308" y="369"/>
                </a:lnTo>
                <a:lnTo>
                  <a:pt x="346" y="415"/>
                </a:lnTo>
                <a:lnTo>
                  <a:pt x="385" y="459"/>
                </a:lnTo>
                <a:lnTo>
                  <a:pt x="423" y="503"/>
                </a:lnTo>
                <a:lnTo>
                  <a:pt x="462" y="548"/>
                </a:lnTo>
                <a:lnTo>
                  <a:pt x="500" y="592"/>
                </a:lnTo>
                <a:lnTo>
                  <a:pt x="539" y="635"/>
                </a:lnTo>
                <a:lnTo>
                  <a:pt x="577" y="678"/>
                </a:lnTo>
                <a:lnTo>
                  <a:pt x="616" y="721"/>
                </a:lnTo>
                <a:lnTo>
                  <a:pt x="654" y="764"/>
                </a:lnTo>
                <a:lnTo>
                  <a:pt x="693" y="805"/>
                </a:lnTo>
                <a:lnTo>
                  <a:pt x="731" y="845"/>
                </a:lnTo>
                <a:lnTo>
                  <a:pt x="769" y="885"/>
                </a:lnTo>
                <a:lnTo>
                  <a:pt x="808" y="925"/>
                </a:lnTo>
                <a:lnTo>
                  <a:pt x="846" y="963"/>
                </a:lnTo>
                <a:lnTo>
                  <a:pt x="885" y="1002"/>
                </a:lnTo>
                <a:lnTo>
                  <a:pt x="923" y="1040"/>
                </a:lnTo>
                <a:lnTo>
                  <a:pt x="962" y="1076"/>
                </a:lnTo>
                <a:lnTo>
                  <a:pt x="1000" y="1113"/>
                </a:lnTo>
                <a:lnTo>
                  <a:pt x="1039" y="1147"/>
                </a:lnTo>
                <a:lnTo>
                  <a:pt x="1077" y="1181"/>
                </a:lnTo>
                <a:lnTo>
                  <a:pt x="1116" y="1215"/>
                </a:lnTo>
                <a:lnTo>
                  <a:pt x="1154" y="1246"/>
                </a:lnTo>
                <a:lnTo>
                  <a:pt x="1166" y="1256"/>
                </a:lnTo>
                <a:lnTo>
                  <a:pt x="1204" y="1287"/>
                </a:lnTo>
                <a:lnTo>
                  <a:pt x="1243" y="1317"/>
                </a:lnTo>
                <a:lnTo>
                  <a:pt x="1281" y="1346"/>
                </a:lnTo>
                <a:lnTo>
                  <a:pt x="1320" y="1374"/>
                </a:lnTo>
                <a:lnTo>
                  <a:pt x="1358" y="1401"/>
                </a:lnTo>
                <a:lnTo>
                  <a:pt x="1397" y="1428"/>
                </a:lnTo>
                <a:lnTo>
                  <a:pt x="1435" y="1453"/>
                </a:lnTo>
                <a:lnTo>
                  <a:pt x="1473" y="1478"/>
                </a:lnTo>
                <a:lnTo>
                  <a:pt x="1512" y="1502"/>
                </a:lnTo>
                <a:lnTo>
                  <a:pt x="1550" y="1525"/>
                </a:lnTo>
                <a:lnTo>
                  <a:pt x="1589" y="1548"/>
                </a:lnTo>
                <a:lnTo>
                  <a:pt x="1627" y="1570"/>
                </a:lnTo>
                <a:lnTo>
                  <a:pt x="1666" y="1590"/>
                </a:lnTo>
                <a:lnTo>
                  <a:pt x="1704" y="1611"/>
                </a:lnTo>
                <a:lnTo>
                  <a:pt x="1743" y="1630"/>
                </a:lnTo>
                <a:lnTo>
                  <a:pt x="1781" y="1650"/>
                </a:lnTo>
                <a:lnTo>
                  <a:pt x="1820" y="1667"/>
                </a:lnTo>
                <a:lnTo>
                  <a:pt x="1858" y="1687"/>
                </a:lnTo>
                <a:lnTo>
                  <a:pt x="1896" y="1703"/>
                </a:lnTo>
                <a:lnTo>
                  <a:pt x="1935" y="1721"/>
                </a:lnTo>
                <a:lnTo>
                  <a:pt x="1973" y="1737"/>
                </a:lnTo>
                <a:lnTo>
                  <a:pt x="2012" y="1753"/>
                </a:lnTo>
                <a:lnTo>
                  <a:pt x="2050" y="1768"/>
                </a:lnTo>
                <a:lnTo>
                  <a:pt x="2089" y="1784"/>
                </a:lnTo>
                <a:lnTo>
                  <a:pt x="2127" y="1799"/>
                </a:lnTo>
                <a:lnTo>
                  <a:pt x="2166" y="1812"/>
                </a:lnTo>
                <a:lnTo>
                  <a:pt x="2204" y="1827"/>
                </a:lnTo>
                <a:lnTo>
                  <a:pt x="2243" y="1840"/>
                </a:lnTo>
                <a:lnTo>
                  <a:pt x="2281" y="1854"/>
                </a:lnTo>
                <a:lnTo>
                  <a:pt x="2320" y="1867"/>
                </a:lnTo>
                <a:lnTo>
                  <a:pt x="2331" y="1871"/>
                </a:lnTo>
                <a:lnTo>
                  <a:pt x="2370" y="1885"/>
                </a:lnTo>
                <a:lnTo>
                  <a:pt x="2408" y="1897"/>
                </a:lnTo>
                <a:lnTo>
                  <a:pt x="2447" y="1910"/>
                </a:lnTo>
                <a:lnTo>
                  <a:pt x="2485" y="1922"/>
                </a:lnTo>
                <a:lnTo>
                  <a:pt x="2524" y="1934"/>
                </a:lnTo>
                <a:lnTo>
                  <a:pt x="2562" y="1945"/>
                </a:lnTo>
                <a:lnTo>
                  <a:pt x="2601" y="1957"/>
                </a:lnTo>
                <a:lnTo>
                  <a:pt x="2639" y="1969"/>
                </a:lnTo>
                <a:lnTo>
                  <a:pt x="2677" y="1981"/>
                </a:lnTo>
                <a:lnTo>
                  <a:pt x="2716" y="1991"/>
                </a:lnTo>
                <a:lnTo>
                  <a:pt x="2754" y="2002"/>
                </a:lnTo>
                <a:lnTo>
                  <a:pt x="2793" y="2013"/>
                </a:lnTo>
                <a:lnTo>
                  <a:pt x="2831" y="2024"/>
                </a:lnTo>
                <a:lnTo>
                  <a:pt x="2870" y="2034"/>
                </a:lnTo>
                <a:lnTo>
                  <a:pt x="2908" y="2043"/>
                </a:lnTo>
                <a:lnTo>
                  <a:pt x="2947" y="2053"/>
                </a:lnTo>
                <a:lnTo>
                  <a:pt x="2985" y="2064"/>
                </a:lnTo>
                <a:lnTo>
                  <a:pt x="3024" y="2073"/>
                </a:lnTo>
                <a:lnTo>
                  <a:pt x="3062" y="2081"/>
                </a:lnTo>
                <a:lnTo>
                  <a:pt x="3100" y="2090"/>
                </a:lnTo>
                <a:lnTo>
                  <a:pt x="3139" y="2099"/>
                </a:lnTo>
                <a:lnTo>
                  <a:pt x="3177" y="2108"/>
                </a:lnTo>
                <a:lnTo>
                  <a:pt x="3216" y="2117"/>
                </a:lnTo>
                <a:lnTo>
                  <a:pt x="3254" y="2126"/>
                </a:lnTo>
                <a:lnTo>
                  <a:pt x="3293" y="2133"/>
                </a:lnTo>
                <a:lnTo>
                  <a:pt x="3331" y="2141"/>
                </a:lnTo>
                <a:lnTo>
                  <a:pt x="3370" y="2149"/>
                </a:lnTo>
                <a:lnTo>
                  <a:pt x="3408" y="2157"/>
                </a:lnTo>
                <a:lnTo>
                  <a:pt x="3447" y="2164"/>
                </a:lnTo>
                <a:lnTo>
                  <a:pt x="3485" y="2172"/>
                </a:lnTo>
                <a:lnTo>
                  <a:pt x="3497" y="2173"/>
                </a:lnTo>
                <a:lnTo>
                  <a:pt x="3535" y="2181"/>
                </a:lnTo>
                <a:lnTo>
                  <a:pt x="3574" y="2186"/>
                </a:lnTo>
                <a:lnTo>
                  <a:pt x="3612" y="2194"/>
                </a:lnTo>
                <a:lnTo>
                  <a:pt x="3651" y="2200"/>
                </a:lnTo>
                <a:lnTo>
                  <a:pt x="3689" y="2206"/>
                </a:lnTo>
                <a:lnTo>
                  <a:pt x="3728" y="2212"/>
                </a:lnTo>
                <a:lnTo>
                  <a:pt x="3766" y="2218"/>
                </a:lnTo>
                <a:lnTo>
                  <a:pt x="3804" y="2223"/>
                </a:lnTo>
                <a:lnTo>
                  <a:pt x="3843" y="2229"/>
                </a:lnTo>
                <a:lnTo>
                  <a:pt x="3881" y="2235"/>
                </a:lnTo>
                <a:lnTo>
                  <a:pt x="3920" y="2241"/>
                </a:lnTo>
                <a:lnTo>
                  <a:pt x="3958" y="2246"/>
                </a:lnTo>
                <a:lnTo>
                  <a:pt x="3997" y="2252"/>
                </a:lnTo>
                <a:lnTo>
                  <a:pt x="4035" y="2256"/>
                </a:lnTo>
                <a:lnTo>
                  <a:pt x="4074" y="2260"/>
                </a:lnTo>
                <a:lnTo>
                  <a:pt x="4112" y="2265"/>
                </a:lnTo>
                <a:lnTo>
                  <a:pt x="4151" y="2269"/>
                </a:lnTo>
                <a:lnTo>
                  <a:pt x="4189" y="2274"/>
                </a:lnTo>
                <a:lnTo>
                  <a:pt x="4227" y="2278"/>
                </a:lnTo>
                <a:lnTo>
                  <a:pt x="4266" y="2283"/>
                </a:lnTo>
                <a:lnTo>
                  <a:pt x="4304" y="2287"/>
                </a:lnTo>
                <a:lnTo>
                  <a:pt x="4343" y="2291"/>
                </a:lnTo>
                <a:lnTo>
                  <a:pt x="4381" y="2294"/>
                </a:lnTo>
                <a:lnTo>
                  <a:pt x="4420" y="2299"/>
                </a:lnTo>
                <a:lnTo>
                  <a:pt x="4458" y="2302"/>
                </a:lnTo>
                <a:lnTo>
                  <a:pt x="4497" y="2306"/>
                </a:lnTo>
                <a:lnTo>
                  <a:pt x="4535" y="2309"/>
                </a:lnTo>
                <a:lnTo>
                  <a:pt x="4574" y="2314"/>
                </a:lnTo>
                <a:lnTo>
                  <a:pt x="4612" y="2317"/>
                </a:lnTo>
                <a:lnTo>
                  <a:pt x="4650" y="2320"/>
                </a:lnTo>
                <a:lnTo>
                  <a:pt x="4664" y="2321"/>
                </a:lnTo>
                <a:lnTo>
                  <a:pt x="4702" y="2324"/>
                </a:lnTo>
                <a:lnTo>
                  <a:pt x="4741" y="2327"/>
                </a:lnTo>
                <a:lnTo>
                  <a:pt x="4779" y="2330"/>
                </a:lnTo>
                <a:lnTo>
                  <a:pt x="4818" y="2333"/>
                </a:lnTo>
                <a:lnTo>
                  <a:pt x="4856" y="2336"/>
                </a:lnTo>
                <a:lnTo>
                  <a:pt x="4895" y="2339"/>
                </a:lnTo>
                <a:lnTo>
                  <a:pt x="4933" y="2342"/>
                </a:lnTo>
                <a:lnTo>
                  <a:pt x="4971" y="2345"/>
                </a:lnTo>
                <a:lnTo>
                  <a:pt x="5010" y="2348"/>
                </a:lnTo>
                <a:lnTo>
                  <a:pt x="5048" y="2351"/>
                </a:lnTo>
                <a:lnTo>
                  <a:pt x="5087" y="2354"/>
                </a:lnTo>
                <a:lnTo>
                  <a:pt x="5125" y="2355"/>
                </a:lnTo>
                <a:lnTo>
                  <a:pt x="5164" y="2358"/>
                </a:lnTo>
                <a:lnTo>
                  <a:pt x="5202" y="2361"/>
                </a:lnTo>
                <a:lnTo>
                  <a:pt x="5241" y="2362"/>
                </a:lnTo>
                <a:lnTo>
                  <a:pt x="5279" y="2365"/>
                </a:lnTo>
                <a:lnTo>
                  <a:pt x="5318" y="2367"/>
                </a:lnTo>
                <a:lnTo>
                  <a:pt x="5356" y="2370"/>
                </a:lnTo>
                <a:lnTo>
                  <a:pt x="5394" y="2371"/>
                </a:lnTo>
                <a:lnTo>
                  <a:pt x="5433" y="2373"/>
                </a:lnTo>
                <a:lnTo>
                  <a:pt x="5471" y="2376"/>
                </a:lnTo>
                <a:lnTo>
                  <a:pt x="5510" y="2377"/>
                </a:lnTo>
                <a:lnTo>
                  <a:pt x="5548" y="2379"/>
                </a:lnTo>
                <a:lnTo>
                  <a:pt x="5587" y="2382"/>
                </a:lnTo>
                <a:lnTo>
                  <a:pt x="5625" y="2383"/>
                </a:lnTo>
                <a:lnTo>
                  <a:pt x="5664" y="2385"/>
                </a:lnTo>
                <a:lnTo>
                  <a:pt x="5702" y="2386"/>
                </a:lnTo>
                <a:lnTo>
                  <a:pt x="5741" y="2388"/>
                </a:lnTo>
                <a:lnTo>
                  <a:pt x="5779" y="2391"/>
                </a:lnTo>
                <a:lnTo>
                  <a:pt x="5817" y="2392"/>
                </a:lnTo>
                <a:lnTo>
                  <a:pt x="5829" y="2392"/>
                </a:lnTo>
                <a:lnTo>
                  <a:pt x="5868" y="2394"/>
                </a:lnTo>
                <a:lnTo>
                  <a:pt x="5906" y="2395"/>
                </a:lnTo>
                <a:lnTo>
                  <a:pt x="5945" y="2396"/>
                </a:lnTo>
                <a:lnTo>
                  <a:pt x="5983" y="2398"/>
                </a:lnTo>
                <a:lnTo>
                  <a:pt x="6022" y="2399"/>
                </a:lnTo>
                <a:lnTo>
                  <a:pt x="6060" y="2401"/>
                </a:lnTo>
                <a:lnTo>
                  <a:pt x="6098" y="2402"/>
                </a:lnTo>
                <a:lnTo>
                  <a:pt x="6137" y="2404"/>
                </a:lnTo>
                <a:lnTo>
                  <a:pt x="6175" y="2405"/>
                </a:lnTo>
                <a:lnTo>
                  <a:pt x="6214" y="2405"/>
                </a:lnTo>
                <a:lnTo>
                  <a:pt x="6252" y="2407"/>
                </a:lnTo>
                <a:lnTo>
                  <a:pt x="6291" y="2408"/>
                </a:lnTo>
                <a:lnTo>
                  <a:pt x="6329" y="2410"/>
                </a:lnTo>
                <a:lnTo>
                  <a:pt x="6368" y="2411"/>
                </a:lnTo>
                <a:lnTo>
                  <a:pt x="6406" y="2411"/>
                </a:lnTo>
                <a:lnTo>
                  <a:pt x="6445" y="2413"/>
                </a:lnTo>
                <a:lnTo>
                  <a:pt x="6483" y="2414"/>
                </a:lnTo>
                <a:lnTo>
                  <a:pt x="6521" y="2416"/>
                </a:lnTo>
                <a:lnTo>
                  <a:pt x="6560" y="2416"/>
                </a:lnTo>
                <a:lnTo>
                  <a:pt x="6598" y="2417"/>
                </a:lnTo>
                <a:lnTo>
                  <a:pt x="6637" y="2419"/>
                </a:lnTo>
                <a:lnTo>
                  <a:pt x="6675" y="2419"/>
                </a:lnTo>
                <a:lnTo>
                  <a:pt x="6714" y="2420"/>
                </a:lnTo>
                <a:lnTo>
                  <a:pt x="6752" y="2422"/>
                </a:lnTo>
                <a:lnTo>
                  <a:pt x="6791" y="2423"/>
                </a:lnTo>
                <a:lnTo>
                  <a:pt x="6829" y="2423"/>
                </a:lnTo>
                <a:lnTo>
                  <a:pt x="6868" y="2425"/>
                </a:lnTo>
                <a:lnTo>
                  <a:pt x="6906" y="2425"/>
                </a:lnTo>
                <a:lnTo>
                  <a:pt x="6944" y="2426"/>
                </a:lnTo>
                <a:lnTo>
                  <a:pt x="6983" y="2428"/>
                </a:lnTo>
                <a:lnTo>
                  <a:pt x="6995" y="242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1077840" y="4686480"/>
            <a:ext cx="4000680" cy="88560"/>
          </a:xfrm>
          <a:custGeom>
            <a:avLst/>
            <a:gdLst/>
            <a:ahLst/>
            <a:rect l="l" t="t" r="r" b="b"/>
            <a:pathLst>
              <a:path w="6995" h="141">
                <a:moveTo>
                  <a:pt x="0" y="0"/>
                </a:moveTo>
                <a:lnTo>
                  <a:pt x="39" y="5"/>
                </a:lnTo>
                <a:lnTo>
                  <a:pt x="77" y="9"/>
                </a:lnTo>
                <a:lnTo>
                  <a:pt x="116" y="13"/>
                </a:lnTo>
                <a:lnTo>
                  <a:pt x="154" y="18"/>
                </a:lnTo>
                <a:lnTo>
                  <a:pt x="193" y="22"/>
                </a:lnTo>
                <a:lnTo>
                  <a:pt x="231" y="27"/>
                </a:lnTo>
                <a:lnTo>
                  <a:pt x="270" y="31"/>
                </a:lnTo>
                <a:lnTo>
                  <a:pt x="308" y="36"/>
                </a:lnTo>
                <a:lnTo>
                  <a:pt x="346" y="40"/>
                </a:lnTo>
                <a:lnTo>
                  <a:pt x="385" y="44"/>
                </a:lnTo>
                <a:lnTo>
                  <a:pt x="423" y="49"/>
                </a:lnTo>
                <a:lnTo>
                  <a:pt x="462" y="53"/>
                </a:lnTo>
                <a:lnTo>
                  <a:pt x="500" y="58"/>
                </a:lnTo>
                <a:lnTo>
                  <a:pt x="539" y="61"/>
                </a:lnTo>
                <a:lnTo>
                  <a:pt x="577" y="65"/>
                </a:lnTo>
                <a:lnTo>
                  <a:pt x="616" y="70"/>
                </a:lnTo>
                <a:lnTo>
                  <a:pt x="654" y="73"/>
                </a:lnTo>
                <a:lnTo>
                  <a:pt x="693" y="77"/>
                </a:lnTo>
                <a:lnTo>
                  <a:pt x="731" y="80"/>
                </a:lnTo>
                <a:lnTo>
                  <a:pt x="769" y="84"/>
                </a:lnTo>
                <a:lnTo>
                  <a:pt x="808" y="87"/>
                </a:lnTo>
                <a:lnTo>
                  <a:pt x="846" y="90"/>
                </a:lnTo>
                <a:lnTo>
                  <a:pt x="885" y="95"/>
                </a:lnTo>
                <a:lnTo>
                  <a:pt x="923" y="98"/>
                </a:lnTo>
                <a:lnTo>
                  <a:pt x="962" y="101"/>
                </a:lnTo>
                <a:lnTo>
                  <a:pt x="1000" y="104"/>
                </a:lnTo>
                <a:lnTo>
                  <a:pt x="1039" y="107"/>
                </a:lnTo>
                <a:lnTo>
                  <a:pt x="1077" y="108"/>
                </a:lnTo>
                <a:lnTo>
                  <a:pt x="1116" y="111"/>
                </a:lnTo>
                <a:lnTo>
                  <a:pt x="1154" y="114"/>
                </a:lnTo>
                <a:lnTo>
                  <a:pt x="1166" y="114"/>
                </a:lnTo>
                <a:lnTo>
                  <a:pt x="1204" y="115"/>
                </a:lnTo>
                <a:lnTo>
                  <a:pt x="1243" y="118"/>
                </a:lnTo>
                <a:lnTo>
                  <a:pt x="1281" y="120"/>
                </a:lnTo>
                <a:lnTo>
                  <a:pt x="1320" y="121"/>
                </a:lnTo>
                <a:lnTo>
                  <a:pt x="1358" y="123"/>
                </a:lnTo>
                <a:lnTo>
                  <a:pt x="1397" y="124"/>
                </a:lnTo>
                <a:lnTo>
                  <a:pt x="1435" y="126"/>
                </a:lnTo>
                <a:lnTo>
                  <a:pt x="1473" y="127"/>
                </a:lnTo>
                <a:lnTo>
                  <a:pt x="1512" y="129"/>
                </a:lnTo>
                <a:lnTo>
                  <a:pt x="1550" y="129"/>
                </a:lnTo>
                <a:lnTo>
                  <a:pt x="1589" y="130"/>
                </a:lnTo>
                <a:lnTo>
                  <a:pt x="1627" y="132"/>
                </a:lnTo>
                <a:lnTo>
                  <a:pt x="1666" y="132"/>
                </a:lnTo>
                <a:lnTo>
                  <a:pt x="1704" y="133"/>
                </a:lnTo>
                <a:lnTo>
                  <a:pt x="1743" y="133"/>
                </a:lnTo>
                <a:lnTo>
                  <a:pt x="1781" y="133"/>
                </a:lnTo>
                <a:lnTo>
                  <a:pt x="1820" y="135"/>
                </a:lnTo>
                <a:lnTo>
                  <a:pt x="1858" y="135"/>
                </a:lnTo>
                <a:lnTo>
                  <a:pt x="1896" y="135"/>
                </a:lnTo>
                <a:lnTo>
                  <a:pt x="1935" y="135"/>
                </a:lnTo>
                <a:lnTo>
                  <a:pt x="1973" y="135"/>
                </a:lnTo>
                <a:lnTo>
                  <a:pt x="2012" y="135"/>
                </a:lnTo>
                <a:lnTo>
                  <a:pt x="2050" y="136"/>
                </a:lnTo>
                <a:lnTo>
                  <a:pt x="2089" y="136"/>
                </a:lnTo>
                <a:lnTo>
                  <a:pt x="2127" y="136"/>
                </a:lnTo>
                <a:lnTo>
                  <a:pt x="2166" y="136"/>
                </a:lnTo>
                <a:lnTo>
                  <a:pt x="2204" y="136"/>
                </a:lnTo>
                <a:lnTo>
                  <a:pt x="2243" y="136"/>
                </a:lnTo>
                <a:lnTo>
                  <a:pt x="2281" y="136"/>
                </a:lnTo>
                <a:lnTo>
                  <a:pt x="2320" y="136"/>
                </a:lnTo>
                <a:lnTo>
                  <a:pt x="2331" y="136"/>
                </a:lnTo>
                <a:lnTo>
                  <a:pt x="2370" y="136"/>
                </a:lnTo>
                <a:lnTo>
                  <a:pt x="2408" y="136"/>
                </a:lnTo>
                <a:lnTo>
                  <a:pt x="2447" y="136"/>
                </a:lnTo>
                <a:lnTo>
                  <a:pt x="2485" y="136"/>
                </a:lnTo>
                <a:lnTo>
                  <a:pt x="2524" y="136"/>
                </a:lnTo>
                <a:lnTo>
                  <a:pt x="2562" y="136"/>
                </a:lnTo>
                <a:lnTo>
                  <a:pt x="2601" y="138"/>
                </a:lnTo>
                <a:lnTo>
                  <a:pt x="2639" y="138"/>
                </a:lnTo>
                <a:lnTo>
                  <a:pt x="2677" y="138"/>
                </a:lnTo>
                <a:lnTo>
                  <a:pt x="2716" y="138"/>
                </a:lnTo>
                <a:lnTo>
                  <a:pt x="2754" y="138"/>
                </a:lnTo>
                <a:lnTo>
                  <a:pt x="2793" y="138"/>
                </a:lnTo>
                <a:lnTo>
                  <a:pt x="2831" y="138"/>
                </a:lnTo>
                <a:lnTo>
                  <a:pt x="2870" y="138"/>
                </a:lnTo>
                <a:lnTo>
                  <a:pt x="2908" y="138"/>
                </a:lnTo>
                <a:lnTo>
                  <a:pt x="2947" y="139"/>
                </a:lnTo>
                <a:lnTo>
                  <a:pt x="2985" y="139"/>
                </a:lnTo>
                <a:lnTo>
                  <a:pt x="3024" y="139"/>
                </a:lnTo>
                <a:lnTo>
                  <a:pt x="3062" y="139"/>
                </a:lnTo>
                <a:lnTo>
                  <a:pt x="3100" y="139"/>
                </a:lnTo>
                <a:lnTo>
                  <a:pt x="3139" y="139"/>
                </a:lnTo>
                <a:lnTo>
                  <a:pt x="3177" y="139"/>
                </a:lnTo>
                <a:lnTo>
                  <a:pt x="3216" y="139"/>
                </a:lnTo>
                <a:lnTo>
                  <a:pt x="3254" y="139"/>
                </a:lnTo>
                <a:lnTo>
                  <a:pt x="3293" y="141"/>
                </a:lnTo>
                <a:lnTo>
                  <a:pt x="3331" y="141"/>
                </a:lnTo>
                <a:lnTo>
                  <a:pt x="3370" y="141"/>
                </a:lnTo>
                <a:lnTo>
                  <a:pt x="3408" y="141"/>
                </a:lnTo>
                <a:lnTo>
                  <a:pt x="3447" y="141"/>
                </a:lnTo>
                <a:lnTo>
                  <a:pt x="3485" y="141"/>
                </a:lnTo>
                <a:lnTo>
                  <a:pt x="3497" y="141"/>
                </a:lnTo>
                <a:lnTo>
                  <a:pt x="3535" y="141"/>
                </a:lnTo>
                <a:lnTo>
                  <a:pt x="3574" y="141"/>
                </a:lnTo>
                <a:lnTo>
                  <a:pt x="3612" y="141"/>
                </a:lnTo>
                <a:lnTo>
                  <a:pt x="3651" y="141"/>
                </a:lnTo>
                <a:lnTo>
                  <a:pt x="3689" y="141"/>
                </a:lnTo>
                <a:lnTo>
                  <a:pt x="3728" y="141"/>
                </a:lnTo>
                <a:lnTo>
                  <a:pt x="3766" y="141"/>
                </a:lnTo>
                <a:lnTo>
                  <a:pt x="3804" y="141"/>
                </a:lnTo>
                <a:lnTo>
                  <a:pt x="3843" y="141"/>
                </a:lnTo>
                <a:lnTo>
                  <a:pt x="3881" y="141"/>
                </a:lnTo>
                <a:lnTo>
                  <a:pt x="3920" y="141"/>
                </a:lnTo>
                <a:lnTo>
                  <a:pt x="3958" y="141"/>
                </a:lnTo>
                <a:lnTo>
                  <a:pt x="3997" y="141"/>
                </a:lnTo>
                <a:lnTo>
                  <a:pt x="4035" y="141"/>
                </a:lnTo>
                <a:lnTo>
                  <a:pt x="4074" y="141"/>
                </a:lnTo>
                <a:lnTo>
                  <a:pt x="4112" y="141"/>
                </a:lnTo>
                <a:lnTo>
                  <a:pt x="4151" y="141"/>
                </a:lnTo>
                <a:lnTo>
                  <a:pt x="4189" y="141"/>
                </a:lnTo>
                <a:lnTo>
                  <a:pt x="4227" y="141"/>
                </a:lnTo>
                <a:lnTo>
                  <a:pt x="4266" y="141"/>
                </a:lnTo>
                <a:lnTo>
                  <a:pt x="4304" y="141"/>
                </a:lnTo>
                <a:lnTo>
                  <a:pt x="4343" y="141"/>
                </a:lnTo>
                <a:lnTo>
                  <a:pt x="4381" y="141"/>
                </a:lnTo>
                <a:lnTo>
                  <a:pt x="4420" y="141"/>
                </a:lnTo>
                <a:lnTo>
                  <a:pt x="4458" y="141"/>
                </a:lnTo>
                <a:lnTo>
                  <a:pt x="4497" y="141"/>
                </a:lnTo>
                <a:lnTo>
                  <a:pt x="4535" y="141"/>
                </a:lnTo>
                <a:lnTo>
                  <a:pt x="4574" y="141"/>
                </a:lnTo>
                <a:lnTo>
                  <a:pt x="4612" y="141"/>
                </a:lnTo>
                <a:lnTo>
                  <a:pt x="4650" y="141"/>
                </a:lnTo>
                <a:lnTo>
                  <a:pt x="4664" y="141"/>
                </a:lnTo>
                <a:lnTo>
                  <a:pt x="4702" y="141"/>
                </a:lnTo>
                <a:lnTo>
                  <a:pt x="4741" y="141"/>
                </a:lnTo>
                <a:lnTo>
                  <a:pt x="4779" y="141"/>
                </a:lnTo>
                <a:lnTo>
                  <a:pt x="4818" y="141"/>
                </a:lnTo>
                <a:lnTo>
                  <a:pt x="4856" y="141"/>
                </a:lnTo>
                <a:lnTo>
                  <a:pt x="4895" y="141"/>
                </a:lnTo>
                <a:lnTo>
                  <a:pt x="4933" y="141"/>
                </a:lnTo>
                <a:lnTo>
                  <a:pt x="4971" y="141"/>
                </a:lnTo>
                <a:lnTo>
                  <a:pt x="5010" y="141"/>
                </a:lnTo>
                <a:lnTo>
                  <a:pt x="5048" y="141"/>
                </a:lnTo>
                <a:lnTo>
                  <a:pt x="5087" y="141"/>
                </a:lnTo>
                <a:lnTo>
                  <a:pt x="5125" y="141"/>
                </a:lnTo>
                <a:lnTo>
                  <a:pt x="5164" y="141"/>
                </a:lnTo>
                <a:lnTo>
                  <a:pt x="5202" y="141"/>
                </a:lnTo>
                <a:lnTo>
                  <a:pt x="5241" y="141"/>
                </a:lnTo>
                <a:lnTo>
                  <a:pt x="5279" y="141"/>
                </a:lnTo>
                <a:lnTo>
                  <a:pt x="5318" y="141"/>
                </a:lnTo>
                <a:lnTo>
                  <a:pt x="5356" y="141"/>
                </a:lnTo>
                <a:lnTo>
                  <a:pt x="5394" y="141"/>
                </a:lnTo>
                <a:lnTo>
                  <a:pt x="5433" y="141"/>
                </a:lnTo>
                <a:lnTo>
                  <a:pt x="5471" y="141"/>
                </a:lnTo>
                <a:lnTo>
                  <a:pt x="5510" y="141"/>
                </a:lnTo>
                <a:lnTo>
                  <a:pt x="5548" y="141"/>
                </a:lnTo>
                <a:lnTo>
                  <a:pt x="5587" y="141"/>
                </a:lnTo>
                <a:lnTo>
                  <a:pt x="5625" y="141"/>
                </a:lnTo>
                <a:lnTo>
                  <a:pt x="5664" y="141"/>
                </a:lnTo>
                <a:lnTo>
                  <a:pt x="5702" y="141"/>
                </a:lnTo>
                <a:lnTo>
                  <a:pt x="5741" y="141"/>
                </a:lnTo>
                <a:lnTo>
                  <a:pt x="5779" y="141"/>
                </a:lnTo>
                <a:lnTo>
                  <a:pt x="5817" y="141"/>
                </a:lnTo>
                <a:lnTo>
                  <a:pt x="5829" y="141"/>
                </a:lnTo>
                <a:lnTo>
                  <a:pt x="5868" y="141"/>
                </a:lnTo>
                <a:lnTo>
                  <a:pt x="5906" y="141"/>
                </a:lnTo>
                <a:lnTo>
                  <a:pt x="5945" y="141"/>
                </a:lnTo>
                <a:lnTo>
                  <a:pt x="5983" y="141"/>
                </a:lnTo>
                <a:lnTo>
                  <a:pt x="6022" y="141"/>
                </a:lnTo>
                <a:lnTo>
                  <a:pt x="6060" y="141"/>
                </a:lnTo>
                <a:lnTo>
                  <a:pt x="6098" y="141"/>
                </a:lnTo>
                <a:lnTo>
                  <a:pt x="6137" y="141"/>
                </a:lnTo>
                <a:lnTo>
                  <a:pt x="6175" y="141"/>
                </a:lnTo>
                <a:lnTo>
                  <a:pt x="6214" y="141"/>
                </a:lnTo>
                <a:lnTo>
                  <a:pt x="6252" y="141"/>
                </a:lnTo>
                <a:lnTo>
                  <a:pt x="6291" y="141"/>
                </a:lnTo>
                <a:lnTo>
                  <a:pt x="6329" y="141"/>
                </a:lnTo>
                <a:lnTo>
                  <a:pt x="6368" y="141"/>
                </a:lnTo>
                <a:lnTo>
                  <a:pt x="6406" y="141"/>
                </a:lnTo>
                <a:lnTo>
                  <a:pt x="6445" y="141"/>
                </a:lnTo>
                <a:lnTo>
                  <a:pt x="6483" y="141"/>
                </a:lnTo>
                <a:lnTo>
                  <a:pt x="6521" y="141"/>
                </a:lnTo>
                <a:lnTo>
                  <a:pt x="6560" y="141"/>
                </a:lnTo>
                <a:lnTo>
                  <a:pt x="6598" y="141"/>
                </a:lnTo>
                <a:lnTo>
                  <a:pt x="6637" y="141"/>
                </a:lnTo>
                <a:lnTo>
                  <a:pt x="6675" y="141"/>
                </a:lnTo>
                <a:lnTo>
                  <a:pt x="6714" y="141"/>
                </a:lnTo>
                <a:lnTo>
                  <a:pt x="6752" y="141"/>
                </a:lnTo>
                <a:lnTo>
                  <a:pt x="6791" y="141"/>
                </a:lnTo>
                <a:lnTo>
                  <a:pt x="6829" y="141"/>
                </a:lnTo>
                <a:lnTo>
                  <a:pt x="6868" y="141"/>
                </a:lnTo>
                <a:lnTo>
                  <a:pt x="6906" y="141"/>
                </a:lnTo>
                <a:lnTo>
                  <a:pt x="6944" y="141"/>
                </a:lnTo>
                <a:lnTo>
                  <a:pt x="6983" y="141"/>
                </a:lnTo>
                <a:lnTo>
                  <a:pt x="6995" y="141"/>
                </a:lnTo>
              </a:path>
            </a:pathLst>
          </a:custGeom>
          <a:noFill/>
          <a:ln w="19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1958040" y="526716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tension (N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1499040" y="2579760"/>
            <a:ext cx="1689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quelettique rap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2753640" y="3684600"/>
            <a:ext cx="1482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quelettique 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1317240" y="41702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80"/>
                </a:solidFill>
                <a:latin typeface="Arial"/>
                <a:ea typeface="Arial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 rot="16200000">
            <a:off x="-959400" y="3253680"/>
            <a:ext cx="318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vitesse de raccourcissement (L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.sec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 flipH="1">
            <a:off x="1657440" y="2892600"/>
            <a:ext cx="42840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H="1">
            <a:off x="2552400" y="3997440"/>
            <a:ext cx="4856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1638360" y="4483080"/>
            <a:ext cx="0" cy="266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1956240" y="1482840"/>
            <a:ext cx="70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vitesse de contraction : cinétique de l’activité ATPas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/>
          <p:cNvSpPr/>
          <p:nvPr/>
        </p:nvSpPr>
        <p:spPr>
          <a:xfrm>
            <a:off x="3705120" y="1965240"/>
            <a:ext cx="5278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homme : 3 types de fibres musculaires squelet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3 isoformes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I : fibres l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IIa et IIx : fibres rapides (IIx &gt; I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905120" y="431640"/>
            <a:ext cx="3268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178920" y="206280"/>
            <a:ext cx="8354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sport et muscl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es types de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169920" y="839880"/>
            <a:ext cx="6581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ibres lentes, fibres rapid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415800" y="1558800"/>
            <a:ext cx="805824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facteurs géné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plasticité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entraînement : IIx 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IIa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+ hypertrophie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exercice intensif : I 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IIa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innervation : paralysie 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disparition des fibres l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âge : fibres rapides </a:t>
            </a:r>
            <a:r>
              <a:rPr b="1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 fibres l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701640" y="4670280"/>
            <a:ext cx="7032600" cy="8240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fibres (µm</a:t>
            </a:r>
            <a:r>
              <a:rPr b="0" lang="fr-FR" sz="16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/fibre)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IIa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I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marathoniens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                4800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4500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4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printers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5000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7300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5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968400"/>
            <a:ext cx="34221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ibre musculaire squelet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2120" y="147492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l’organisation en sarcom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97240" y="1893960"/>
            <a:ext cx="6315120" cy="4608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570040"/>
            <a:ext cx="1905120" cy="1381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0480" y="1878120"/>
            <a:ext cx="6413400" cy="463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59400" y="2340000"/>
            <a:ext cx="1439640" cy="87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30320" y="1455840"/>
            <a:ext cx="7135920" cy="5262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8200" y="968400"/>
            <a:ext cx="3310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30320" y="1455840"/>
            <a:ext cx="7135920" cy="5262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028880" y="1459080"/>
            <a:ext cx="7226280" cy="5259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3386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454040" y="3989520"/>
            <a:ext cx="4516560" cy="979200"/>
            <a:chOff x="1454040" y="3989520"/>
            <a:chExt cx="4516560" cy="979200"/>
          </a:xfrm>
        </p:grpSpPr>
        <p:sp>
          <p:nvSpPr>
            <p:cNvPr id="146" name=""/>
            <p:cNvSpPr/>
            <p:nvPr/>
          </p:nvSpPr>
          <p:spPr>
            <a:xfrm>
              <a:off x="1456920" y="3989520"/>
              <a:ext cx="0" cy="97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13760" y="3989520"/>
              <a:ext cx="0" cy="97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70600" y="3989520"/>
              <a:ext cx="0" cy="97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74600" y="398952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4040" y="398952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12680" y="408456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74600" y="41796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54040" y="41796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12680" y="42750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74600" y="437976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54040" y="43797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12680" y="447516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4600" y="45702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54040" y="45702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12680" y="46656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74600" y="477036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54040" y="47703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12680" y="48654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4600" y="49608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54040" y="49608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31440" y="398952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10520" y="398952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9520" y="408456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31440" y="41796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10520" y="41796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69520" y="42750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31440" y="437976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0520" y="43797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69520" y="447516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31440" y="45702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0520" y="45702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9520" y="46656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31440" y="477036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10520" y="477036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69520" y="4865400"/>
              <a:ext cx="136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31440" y="4960800"/>
              <a:ext cx="83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10520" y="4960800"/>
              <a:ext cx="8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728880" y="5292720"/>
            <a:ext cx="2256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56200" y="221940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11600" y="508320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6120" y="53704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disqu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25760" y="4778280"/>
            <a:ext cx="0" cy="3812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11920" y="515772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filament 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2280" y="305928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filament ép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7080" y="3825720"/>
            <a:ext cx="593640" cy="104760"/>
          </a:xfrm>
          <a:custGeom>
            <a:avLst/>
            <a:gdLst/>
            <a:ahLst/>
            <a:rect l="l" t="t" r="r" b="b"/>
            <a:pathLst>
              <a:path w="396" h="66">
                <a:moveTo>
                  <a:pt x="0" y="66"/>
                </a:moveTo>
                <a:lnTo>
                  <a:pt x="0" y="0"/>
                </a:lnTo>
                <a:lnTo>
                  <a:pt x="396" y="0"/>
                </a:lnTo>
                <a:lnTo>
                  <a:pt x="396" y="60"/>
                </a:ln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187880" y="5016600"/>
            <a:ext cx="1347840" cy="133200"/>
          </a:xfrm>
          <a:custGeom>
            <a:avLst/>
            <a:gdLst/>
            <a:ahLst/>
            <a:rect l="l" t="t" r="r" b="b"/>
            <a:pathLst>
              <a:path w="396" h="66">
                <a:moveTo>
                  <a:pt x="0" y="66"/>
                </a:moveTo>
                <a:lnTo>
                  <a:pt x="0" y="0"/>
                </a:lnTo>
                <a:lnTo>
                  <a:pt x="396" y="0"/>
                </a:lnTo>
                <a:lnTo>
                  <a:pt x="396" y="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9600" y="3835440"/>
            <a:ext cx="898560" cy="114120"/>
          </a:xfrm>
          <a:custGeom>
            <a:avLst/>
            <a:gdLst/>
            <a:ahLst/>
            <a:rect l="l" t="t" r="r" b="b"/>
            <a:pathLst>
              <a:path w="396" h="66">
                <a:moveTo>
                  <a:pt x="0" y="66"/>
                </a:moveTo>
                <a:lnTo>
                  <a:pt x="0" y="0"/>
                </a:lnTo>
                <a:lnTo>
                  <a:pt x="396" y="0"/>
                </a:lnTo>
                <a:lnTo>
                  <a:pt x="396" y="60"/>
                </a:lnTo>
              </a:path>
            </a:pathLst>
          </a:cu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8720" y="4929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00360" y="3382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65360" y="3422520"/>
            <a:ext cx="0" cy="60336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14840" y="5032440"/>
            <a:ext cx="0" cy="38088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14840" y="2828880"/>
            <a:ext cx="2247840" cy="0"/>
          </a:xfrm>
          <a:prstGeom prst="line">
            <a:avLst/>
          </a:prstGeom>
          <a:ln w="19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200" y="968400"/>
            <a:ext cx="3310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489640" y="2935440"/>
            <a:ext cx="3270240" cy="2411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28880" y="5292720"/>
            <a:ext cx="2256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11600" y="508320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200" y="968400"/>
            <a:ext cx="3310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886280" y="1158840"/>
            <a:ext cx="3210120" cy="979560"/>
            <a:chOff x="4886280" y="1158840"/>
            <a:chExt cx="3210120" cy="979560"/>
          </a:xfrm>
        </p:grpSpPr>
        <p:sp>
          <p:nvSpPr>
            <p:cNvPr id="207" name=""/>
            <p:cNvSpPr/>
            <p:nvPr/>
          </p:nvSpPr>
          <p:spPr>
            <a:xfrm>
              <a:off x="4888440" y="115884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92240" y="115884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96400" y="115884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6080" y="11588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86280" y="11588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12080" y="125424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6080" y="13492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86280" y="13492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12080" y="14446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96080" y="15494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86280" y="15494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12080" y="164484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96080" y="17398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86280" y="17398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12080" y="18352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96080" y="19400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86280" y="19400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12080" y="20350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6080" y="21304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86280" y="21304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9880" y="11588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90080" y="11588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16240" y="125424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99880" y="13492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90080" y="13492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16240" y="14446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9880" y="15494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90080" y="15494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6240" y="164484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99880" y="17398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90080" y="17398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16240" y="18352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99880" y="194004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90080" y="194004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16240" y="203508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9880" y="21304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90080" y="213048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6400" y="2417760"/>
            <a:ext cx="4438800" cy="3648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0960" y="61815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upe transver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11360" y="5495760"/>
            <a:ext cx="20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upe longitudi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5320" y="968400"/>
            <a:ext cx="5036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 : la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2120" y="147492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raccourcissement du sarcomère sans raccourcissement des 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955960" y="2417760"/>
            <a:ext cx="4784760" cy="979560"/>
            <a:chOff x="2955960" y="2417760"/>
            <a:chExt cx="4784760" cy="979560"/>
          </a:xfrm>
        </p:grpSpPr>
        <p:sp>
          <p:nvSpPr>
            <p:cNvPr id="253" name=""/>
            <p:cNvSpPr/>
            <p:nvPr/>
          </p:nvSpPr>
          <p:spPr>
            <a:xfrm>
              <a:off x="2959200" y="241776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49960" y="241776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40720" y="241776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61120" y="24177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55960" y="24177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41960" y="25131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61120" y="26082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55960" y="26082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41960" y="270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61120" y="28083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55960" y="28083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41960" y="29037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1120" y="29988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55960" y="29988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41960" y="30942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1120" y="31989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55960" y="31989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41960" y="32940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61120" y="33894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5960" y="33894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1880" y="24177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46720" y="24177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32720" y="25131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51880" y="26082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46720" y="26082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32720" y="270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1880" y="28083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46720" y="28083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2720" y="29037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1880" y="29988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46720" y="29988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32720" y="30942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1880" y="31989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46720" y="31989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2720" y="32940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1880" y="33894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46720" y="33894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778200" y="4478400"/>
            <a:ext cx="3193920" cy="998640"/>
            <a:chOff x="3778200" y="4478400"/>
            <a:chExt cx="3193920" cy="998640"/>
          </a:xfrm>
        </p:grpSpPr>
        <p:sp>
          <p:nvSpPr>
            <p:cNvPr id="291" name=""/>
            <p:cNvSpPr/>
            <p:nvPr/>
          </p:nvSpPr>
          <p:spPr>
            <a:xfrm>
              <a:off x="3781440" y="449748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62560" y="449748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73720" y="45165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78200" y="44974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3880" y="45928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73720" y="468792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78200" y="47070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63880" y="47833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73720" y="488808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8200" y="48690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63880" y="49834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73720" y="507852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8200" y="505944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63880" y="517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73720" y="527868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78200" y="52977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63880" y="53737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73720" y="546912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78200" y="545004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59320" y="44974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59320" y="46879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59320" y="48880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59320" y="50785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59320" y="527868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59320" y="54691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72120" y="447840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83280" y="447840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83280" y="466884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83280" y="486900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3280" y="505944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83280" y="525960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83280" y="545004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54720" y="45928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54720" y="4783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54720" y="49834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4720" y="51739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54720" y="53737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971800" y="3441600"/>
            <a:ext cx="77472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984720" y="3467160"/>
            <a:ext cx="723960" cy="965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2760" y="27320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relâ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880" y="47386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contrac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6560" y="5775480"/>
            <a:ext cx="81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 : glissement des filaments fins et épais les uns sur les au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5320" y="968400"/>
            <a:ext cx="50360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u sarcomère : la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76440" y="431640"/>
            <a:ext cx="1820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5400" y="206280"/>
            <a:ext cx="8287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appareil contractile : le muscle strié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2120" y="147492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raccourcissement du sarcomère sans raccourcissement des 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2760" y="27320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relâch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880" y="473868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contrac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013200" y="4506840"/>
            <a:ext cx="3406680" cy="2160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014640" y="2048040"/>
            <a:ext cx="4524480" cy="2276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413400" y="1930320"/>
            <a:ext cx="16639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1440" y="968400"/>
            <a:ext cx="20613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4480" y="2536920"/>
            <a:ext cx="16020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92720" y="3137040"/>
            <a:ext cx="16020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59080" y="3146400"/>
            <a:ext cx="16056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59280" y="3013200"/>
            <a:ext cx="16056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54600" y="2536920"/>
            <a:ext cx="160560" cy="160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54240" y="286056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92200" y="258444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35280" y="253692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78040" y="3127320"/>
            <a:ext cx="16056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49640" y="323208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4640" y="283212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68800" y="287964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97400" y="312732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68760" y="260352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97160" y="262260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11720" y="284148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35520" y="303228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02240" y="273672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68800" y="267984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2800" y="272736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26160" y="2994120"/>
            <a:ext cx="16020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92640" y="3032280"/>
            <a:ext cx="160560" cy="16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930320" y="5521320"/>
            <a:ext cx="447516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346480" y="4456080"/>
            <a:ext cx="1239840" cy="52560"/>
          </a:xfrm>
          <a:custGeom>
            <a:avLst/>
            <a:gdLst/>
            <a:ahLst/>
            <a:rect l="l" t="t" r="r" b="b"/>
            <a:pathLst>
              <a:path w="500" h="1">
                <a:moveTo>
                  <a:pt x="0" y="0"/>
                </a:moveTo>
                <a:cubicBezTo>
                  <a:pt x="0" y="0"/>
                  <a:pt x="250" y="0"/>
                  <a:pt x="500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524480" y="4116240"/>
            <a:ext cx="1239840" cy="52560"/>
          </a:xfrm>
          <a:custGeom>
            <a:avLst/>
            <a:gdLst/>
            <a:ahLst/>
            <a:rect l="l" t="t" r="r" b="b"/>
            <a:pathLst>
              <a:path w="500" h="1">
                <a:moveTo>
                  <a:pt x="0" y="0"/>
                </a:moveTo>
                <a:cubicBezTo>
                  <a:pt x="0" y="0"/>
                  <a:pt x="250" y="0"/>
                  <a:pt x="500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209680" y="4182480"/>
            <a:ext cx="1239840" cy="52200"/>
          </a:xfrm>
          <a:custGeom>
            <a:avLst/>
            <a:gdLst/>
            <a:ahLst/>
            <a:rect l="l" t="t" r="r" b="b"/>
            <a:pathLst>
              <a:path w="500" h="1">
                <a:moveTo>
                  <a:pt x="0" y="0"/>
                </a:moveTo>
                <a:cubicBezTo>
                  <a:pt x="0" y="0"/>
                  <a:pt x="250" y="0"/>
                  <a:pt x="500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30680" y="3279600"/>
            <a:ext cx="160200" cy="16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880" y="1419120"/>
            <a:ext cx="75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principaux composants présents dans les filaments f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ct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monomères d’actine (PM = 43 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8760" y="3565440"/>
            <a:ext cx="81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ropomyos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molécule composée de deux chaînes polypeptid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8760" y="4786200"/>
            <a:ext cx="73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nébul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protéine du cytosquel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5040" y="206280"/>
            <a:ext cx="79405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contraction musculai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89320" y="431640"/>
            <a:ext cx="4270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1328760"/>
            <a:ext cx="80564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a cellul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’organisation du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le couplage excitation-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biophysique du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exemple : sport et 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1440" y="968400"/>
            <a:ext cx="20613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5200" y="1609560"/>
            <a:ext cx="8683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onomères d'act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s'organisent en un filament à deux brins autour de la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nébu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ropomyos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se fixe dans le sillon cent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haque molécule de tropomyosine s'étend sur environ 7 monomères d'acti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32640" y="379656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966000" y="383796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286760" y="3917160"/>
            <a:ext cx="32040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17880" y="394344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72000" y="4040280"/>
            <a:ext cx="320400" cy="31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1240" y="4011480"/>
            <a:ext cx="32076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378160" y="3850560"/>
            <a:ext cx="3189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697120" y="3930480"/>
            <a:ext cx="320760" cy="322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62240" y="406548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95600" y="414504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720" y="4040280"/>
            <a:ext cx="31752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659480" y="3825000"/>
            <a:ext cx="317160" cy="3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6640" y="3904560"/>
            <a:ext cx="320760" cy="322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97400" y="3973680"/>
            <a:ext cx="320760" cy="31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1520" y="4065480"/>
            <a:ext cx="3222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86680" y="414504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0040" y="414504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30760" y="4040280"/>
            <a:ext cx="32076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953400" y="4106880"/>
            <a:ext cx="32040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73800" y="4027320"/>
            <a:ext cx="32076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72080" y="4078440"/>
            <a:ext cx="320760" cy="320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2560" y="3963960"/>
            <a:ext cx="7137360" cy="212760"/>
          </a:xfrm>
          <a:custGeom>
            <a:avLst/>
            <a:gdLst/>
            <a:ahLst/>
            <a:rect l="l" t="t" r="r" b="b"/>
            <a:pathLst>
              <a:path w="3210" h="96">
                <a:moveTo>
                  <a:pt x="0" y="28"/>
                </a:moveTo>
                <a:cubicBezTo>
                  <a:pt x="113" y="37"/>
                  <a:pt x="494" y="86"/>
                  <a:pt x="678" y="82"/>
                </a:cubicBezTo>
                <a:cubicBezTo>
                  <a:pt x="862" y="78"/>
                  <a:pt x="977" y="8"/>
                  <a:pt x="1104" y="4"/>
                </a:cubicBezTo>
                <a:cubicBezTo>
                  <a:pt x="1231" y="0"/>
                  <a:pt x="1350" y="45"/>
                  <a:pt x="1440" y="58"/>
                </a:cubicBezTo>
                <a:cubicBezTo>
                  <a:pt x="1530" y="71"/>
                  <a:pt x="1532" y="89"/>
                  <a:pt x="1644" y="82"/>
                </a:cubicBezTo>
                <a:cubicBezTo>
                  <a:pt x="1756" y="75"/>
                  <a:pt x="1952" y="11"/>
                  <a:pt x="2112" y="13"/>
                </a:cubicBezTo>
                <a:cubicBezTo>
                  <a:pt x="2272" y="15"/>
                  <a:pt x="2448" y="92"/>
                  <a:pt x="2604" y="94"/>
                </a:cubicBezTo>
                <a:cubicBezTo>
                  <a:pt x="2760" y="96"/>
                  <a:pt x="2947" y="39"/>
                  <a:pt x="3048" y="28"/>
                </a:cubicBezTo>
                <a:cubicBezTo>
                  <a:pt x="3149" y="17"/>
                  <a:pt x="3181" y="28"/>
                  <a:pt x="3210" y="28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92840" y="3998880"/>
            <a:ext cx="31752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38720" y="4119480"/>
            <a:ext cx="32076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05360" y="4119480"/>
            <a:ext cx="32040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28960" y="4145040"/>
            <a:ext cx="320400" cy="320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06880"/>
            <a:ext cx="32220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84520" y="4027320"/>
            <a:ext cx="32076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1360" y="3973680"/>
            <a:ext cx="317520" cy="31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044800" y="3812400"/>
            <a:ext cx="317520" cy="319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08120" y="3851280"/>
            <a:ext cx="2509920" cy="446040"/>
          </a:xfrm>
          <a:custGeom>
            <a:avLst/>
            <a:gdLst/>
            <a:ahLst/>
            <a:rect l="l" t="t" r="r" b="b"/>
            <a:pathLst>
              <a:path w="790" h="140">
                <a:moveTo>
                  <a:pt x="0" y="140"/>
                </a:moveTo>
                <a:cubicBezTo>
                  <a:pt x="17" y="138"/>
                  <a:pt x="40" y="137"/>
                  <a:pt x="108" y="128"/>
                </a:cubicBezTo>
                <a:cubicBezTo>
                  <a:pt x="176" y="119"/>
                  <a:pt x="324" y="100"/>
                  <a:pt x="408" y="86"/>
                </a:cubicBezTo>
                <a:cubicBezTo>
                  <a:pt x="492" y="72"/>
                  <a:pt x="547" y="55"/>
                  <a:pt x="611" y="41"/>
                </a:cubicBezTo>
                <a:cubicBezTo>
                  <a:pt x="675" y="27"/>
                  <a:pt x="753" y="8"/>
                  <a:pt x="790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057320" y="391716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378080" y="3892680"/>
            <a:ext cx="317520" cy="318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711440" y="3812400"/>
            <a:ext cx="317520" cy="319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66920" y="3800520"/>
            <a:ext cx="2800440" cy="344520"/>
          </a:xfrm>
          <a:custGeom>
            <a:avLst/>
            <a:gdLst/>
            <a:ahLst/>
            <a:rect l="l" t="t" r="r" b="b"/>
            <a:pathLst>
              <a:path w="882" h="108">
                <a:moveTo>
                  <a:pt x="0" y="102"/>
                </a:moveTo>
                <a:cubicBezTo>
                  <a:pt x="33" y="101"/>
                  <a:pt x="111" y="108"/>
                  <a:pt x="198" y="102"/>
                </a:cubicBezTo>
                <a:cubicBezTo>
                  <a:pt x="285" y="96"/>
                  <a:pt x="464" y="71"/>
                  <a:pt x="521" y="64"/>
                </a:cubicBezTo>
                <a:cubicBezTo>
                  <a:pt x="578" y="57"/>
                  <a:pt x="510" y="65"/>
                  <a:pt x="540" y="60"/>
                </a:cubicBezTo>
                <a:cubicBezTo>
                  <a:pt x="570" y="55"/>
                  <a:pt x="647" y="46"/>
                  <a:pt x="704" y="36"/>
                </a:cubicBezTo>
                <a:cubicBezTo>
                  <a:pt x="761" y="26"/>
                  <a:pt x="845" y="8"/>
                  <a:pt x="882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38640" y="3892680"/>
            <a:ext cx="320400" cy="318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992400" y="3783960"/>
            <a:ext cx="320760" cy="322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325760" y="3783960"/>
            <a:ext cx="317520" cy="322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659040" y="3863160"/>
            <a:ext cx="320760" cy="322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72000" y="3886200"/>
            <a:ext cx="2370240" cy="369720"/>
          </a:xfrm>
          <a:custGeom>
            <a:avLst/>
            <a:gdLst/>
            <a:ahLst/>
            <a:rect l="l" t="t" r="r" b="b"/>
            <a:pathLst>
              <a:path w="746" h="116">
                <a:moveTo>
                  <a:pt x="0" y="111"/>
                </a:moveTo>
                <a:cubicBezTo>
                  <a:pt x="15" y="112"/>
                  <a:pt x="29" y="116"/>
                  <a:pt x="90" y="111"/>
                </a:cubicBezTo>
                <a:cubicBezTo>
                  <a:pt x="151" y="106"/>
                  <a:pt x="286" y="94"/>
                  <a:pt x="366" y="81"/>
                </a:cubicBezTo>
                <a:cubicBezTo>
                  <a:pt x="446" y="68"/>
                  <a:pt x="505" y="49"/>
                  <a:pt x="568" y="36"/>
                </a:cubicBezTo>
                <a:cubicBezTo>
                  <a:pt x="631" y="23"/>
                  <a:pt x="709" y="8"/>
                  <a:pt x="746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299280" y="3796560"/>
            <a:ext cx="3207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964120" y="3876120"/>
            <a:ext cx="32256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643720" y="3904560"/>
            <a:ext cx="320400" cy="32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33240" y="498960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filament fin de muscle strié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310360" y="3972960"/>
            <a:ext cx="320400" cy="31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005280" y="3960720"/>
            <a:ext cx="320400" cy="317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23960" y="3985560"/>
            <a:ext cx="320760" cy="320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1440" y="968400"/>
            <a:ext cx="20613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4880" y="1609560"/>
            <a:ext cx="833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strié :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troponine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= 3 sous-unités C, T e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otéine régulatrice sur le filament 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02440" y="2809800"/>
            <a:ext cx="11952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tropo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433240" y="498960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filament fin de muscle strié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36400" y="3638520"/>
            <a:ext cx="7550280" cy="827280"/>
            <a:chOff x="536400" y="3638520"/>
            <a:chExt cx="7550280" cy="827280"/>
          </a:xfrm>
        </p:grpSpPr>
        <p:sp>
          <p:nvSpPr>
            <p:cNvPr id="437" name=""/>
            <p:cNvSpPr/>
            <p:nvPr/>
          </p:nvSpPr>
          <p:spPr>
            <a:xfrm flipV="1">
              <a:off x="6632640" y="379656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966000" y="383796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286760" y="3917160"/>
              <a:ext cx="32040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17880" y="394344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2000" y="4040280"/>
              <a:ext cx="320400" cy="317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51240" y="4011480"/>
              <a:ext cx="32076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378160" y="3850560"/>
              <a:ext cx="3189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697120" y="3930480"/>
              <a:ext cx="320760" cy="322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62240" y="406548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95600" y="414504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44720" y="4040280"/>
              <a:ext cx="31752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659480" y="3825000"/>
              <a:ext cx="317160" cy="319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976640" y="3904560"/>
              <a:ext cx="320760" cy="322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97400" y="3973680"/>
              <a:ext cx="320760" cy="317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1520" y="4065480"/>
              <a:ext cx="3222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86680" y="414504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0040" y="414504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30760" y="4040280"/>
              <a:ext cx="32076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53400" y="4106880"/>
              <a:ext cx="32040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73800" y="4027320"/>
              <a:ext cx="32076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72080" y="4078440"/>
              <a:ext cx="320760" cy="320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2560" y="3963960"/>
              <a:ext cx="7137360" cy="212760"/>
            </a:xfrm>
            <a:custGeom>
              <a:avLst/>
              <a:gdLst/>
              <a:ahLst/>
              <a:rect l="l" t="t" r="r" b="b"/>
              <a:pathLst>
                <a:path w="3210" h="96">
                  <a:moveTo>
                    <a:pt x="0" y="28"/>
                  </a:moveTo>
                  <a:cubicBezTo>
                    <a:pt x="113" y="37"/>
                    <a:pt x="494" y="86"/>
                    <a:pt x="678" y="82"/>
                  </a:cubicBezTo>
                  <a:cubicBezTo>
                    <a:pt x="862" y="78"/>
                    <a:pt x="977" y="8"/>
                    <a:pt x="1104" y="4"/>
                  </a:cubicBezTo>
                  <a:cubicBezTo>
                    <a:pt x="1231" y="0"/>
                    <a:pt x="1350" y="45"/>
                    <a:pt x="1440" y="58"/>
                  </a:cubicBezTo>
                  <a:cubicBezTo>
                    <a:pt x="1530" y="71"/>
                    <a:pt x="1532" y="89"/>
                    <a:pt x="1644" y="82"/>
                  </a:cubicBezTo>
                  <a:cubicBezTo>
                    <a:pt x="1756" y="75"/>
                    <a:pt x="1952" y="11"/>
                    <a:pt x="2112" y="13"/>
                  </a:cubicBezTo>
                  <a:cubicBezTo>
                    <a:pt x="2272" y="15"/>
                    <a:pt x="2448" y="92"/>
                    <a:pt x="2604" y="94"/>
                  </a:cubicBezTo>
                  <a:cubicBezTo>
                    <a:pt x="2760" y="96"/>
                    <a:pt x="2947" y="39"/>
                    <a:pt x="3048" y="28"/>
                  </a:cubicBezTo>
                  <a:cubicBezTo>
                    <a:pt x="3149" y="17"/>
                    <a:pt x="3181" y="28"/>
                    <a:pt x="3210" y="2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92840" y="3998880"/>
              <a:ext cx="31752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38720" y="4119480"/>
              <a:ext cx="32076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05360" y="4119480"/>
              <a:ext cx="32040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28960" y="4145040"/>
              <a:ext cx="320400" cy="32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2320" y="4106880"/>
              <a:ext cx="32220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84520" y="4027320"/>
              <a:ext cx="32076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1360" y="3973680"/>
              <a:ext cx="317520" cy="317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044800" y="3812400"/>
              <a:ext cx="317520" cy="31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8120" y="3851280"/>
              <a:ext cx="2509920" cy="446040"/>
            </a:xfrm>
            <a:custGeom>
              <a:avLst/>
              <a:gdLst/>
              <a:ahLst/>
              <a:rect l="l" t="t" r="r" b="b"/>
              <a:pathLst>
                <a:path w="790" h="140">
                  <a:moveTo>
                    <a:pt x="0" y="140"/>
                  </a:moveTo>
                  <a:cubicBezTo>
                    <a:pt x="17" y="138"/>
                    <a:pt x="40" y="137"/>
                    <a:pt x="108" y="128"/>
                  </a:cubicBezTo>
                  <a:cubicBezTo>
                    <a:pt x="176" y="119"/>
                    <a:pt x="324" y="100"/>
                    <a:pt x="408" y="86"/>
                  </a:cubicBezTo>
                  <a:cubicBezTo>
                    <a:pt x="492" y="72"/>
                    <a:pt x="547" y="55"/>
                    <a:pt x="611" y="41"/>
                  </a:cubicBezTo>
                  <a:cubicBezTo>
                    <a:pt x="675" y="27"/>
                    <a:pt x="753" y="8"/>
                    <a:pt x="790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057320" y="391716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378080" y="3892680"/>
              <a:ext cx="317520" cy="318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1711440" y="3812400"/>
              <a:ext cx="317520" cy="319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6920" y="3800520"/>
              <a:ext cx="2800440" cy="344520"/>
            </a:xfrm>
            <a:custGeom>
              <a:avLst/>
              <a:gdLst/>
              <a:ahLst/>
              <a:rect l="l" t="t" r="r" b="b"/>
              <a:pathLst>
                <a:path w="882" h="108">
                  <a:moveTo>
                    <a:pt x="0" y="102"/>
                  </a:moveTo>
                  <a:cubicBezTo>
                    <a:pt x="33" y="101"/>
                    <a:pt x="111" y="108"/>
                    <a:pt x="198" y="102"/>
                  </a:cubicBezTo>
                  <a:cubicBezTo>
                    <a:pt x="285" y="96"/>
                    <a:pt x="464" y="71"/>
                    <a:pt x="521" y="64"/>
                  </a:cubicBezTo>
                  <a:cubicBezTo>
                    <a:pt x="578" y="57"/>
                    <a:pt x="510" y="65"/>
                    <a:pt x="540" y="60"/>
                  </a:cubicBezTo>
                  <a:cubicBezTo>
                    <a:pt x="570" y="55"/>
                    <a:pt x="647" y="46"/>
                    <a:pt x="704" y="36"/>
                  </a:cubicBezTo>
                  <a:cubicBezTo>
                    <a:pt x="761" y="26"/>
                    <a:pt x="845" y="8"/>
                    <a:pt x="882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338640" y="3892680"/>
              <a:ext cx="320400" cy="318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992400" y="3783960"/>
              <a:ext cx="320760" cy="322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4325760" y="3783960"/>
              <a:ext cx="317520" cy="322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659040" y="3863160"/>
              <a:ext cx="320760" cy="322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72000" y="3886200"/>
              <a:ext cx="2370240" cy="369720"/>
            </a:xfrm>
            <a:custGeom>
              <a:avLst/>
              <a:gdLst/>
              <a:ahLst/>
              <a:rect l="l" t="t" r="r" b="b"/>
              <a:pathLst>
                <a:path w="746" h="116">
                  <a:moveTo>
                    <a:pt x="0" y="111"/>
                  </a:moveTo>
                  <a:cubicBezTo>
                    <a:pt x="15" y="112"/>
                    <a:pt x="29" y="116"/>
                    <a:pt x="90" y="111"/>
                  </a:cubicBezTo>
                  <a:cubicBezTo>
                    <a:pt x="151" y="106"/>
                    <a:pt x="286" y="94"/>
                    <a:pt x="366" y="81"/>
                  </a:cubicBezTo>
                  <a:cubicBezTo>
                    <a:pt x="446" y="68"/>
                    <a:pt x="505" y="49"/>
                    <a:pt x="568" y="36"/>
                  </a:cubicBezTo>
                  <a:cubicBezTo>
                    <a:pt x="631" y="23"/>
                    <a:pt x="709" y="8"/>
                    <a:pt x="746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6299280" y="3796560"/>
              <a:ext cx="3207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964120" y="3876120"/>
              <a:ext cx="32256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643720" y="3904560"/>
              <a:ext cx="320400" cy="322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13120" y="3638520"/>
              <a:ext cx="625320" cy="27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64200" y="3638520"/>
              <a:ext cx="628560" cy="27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6400" y="3651120"/>
              <a:ext cx="625680" cy="27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1360" y="3651120"/>
              <a:ext cx="625320" cy="279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310360" y="3972960"/>
              <a:ext cx="320400" cy="31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005280" y="3960720"/>
              <a:ext cx="320400" cy="3175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23960" y="3985560"/>
              <a:ext cx="320760" cy="320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 flipH="1">
            <a:off x="5605200" y="3191040"/>
            <a:ext cx="533160" cy="4572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359480" y="3171960"/>
            <a:ext cx="266760" cy="4381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1840" y="5584680"/>
            <a:ext cx="86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La troponine n'est pas présente dans l'appareil contractile de la cellule musculaire l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61080" y="968400"/>
            <a:ext cx="22748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ép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4880" y="1444680"/>
            <a:ext cx="54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yosine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molécule constituée de 6 poly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01640" y="3422160"/>
            <a:ext cx="3729240" cy="932760"/>
            <a:chOff x="701640" y="3422160"/>
            <a:chExt cx="3729240" cy="932760"/>
          </a:xfrm>
        </p:grpSpPr>
        <p:grpSp>
          <p:nvGrpSpPr>
            <p:cNvPr id="496" name=""/>
            <p:cNvGrpSpPr/>
            <p:nvPr/>
          </p:nvGrpSpPr>
          <p:grpSpPr>
            <a:xfrm>
              <a:off x="701640" y="3805200"/>
              <a:ext cx="3729240" cy="549720"/>
              <a:chOff x="701640" y="3805200"/>
              <a:chExt cx="3729240" cy="549720"/>
            </a:xfrm>
          </p:grpSpPr>
          <p:sp>
            <p:nvSpPr>
              <p:cNvPr id="497" name=""/>
              <p:cNvSpPr/>
              <p:nvPr/>
            </p:nvSpPr>
            <p:spPr>
              <a:xfrm flipV="1" rot="20520000">
                <a:off x="4120560" y="3943080"/>
                <a:ext cx="257400" cy="38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1640" y="3805200"/>
                <a:ext cx="3467160" cy="183960"/>
              </a:xfrm>
              <a:custGeom>
                <a:avLst/>
                <a:gdLst/>
                <a:ahLst/>
                <a:rect l="l" t="t" r="r" b="b"/>
                <a:pathLst>
                  <a:path w="2184" h="194">
                    <a:moveTo>
                      <a:pt x="0" y="187"/>
                    </a:moveTo>
                    <a:cubicBezTo>
                      <a:pt x="84" y="96"/>
                      <a:pt x="168" y="6"/>
                      <a:pt x="264" y="7"/>
                    </a:cubicBezTo>
                    <a:cubicBezTo>
                      <a:pt x="360" y="8"/>
                      <a:pt x="473" y="194"/>
                      <a:pt x="576" y="193"/>
                    </a:cubicBezTo>
                    <a:cubicBezTo>
                      <a:pt x="679" y="192"/>
                      <a:pt x="790" y="2"/>
                      <a:pt x="882" y="1"/>
                    </a:cubicBezTo>
                    <a:cubicBezTo>
                      <a:pt x="974" y="0"/>
                      <a:pt x="1040" y="186"/>
                      <a:pt x="1128" y="187"/>
                    </a:cubicBezTo>
                    <a:cubicBezTo>
                      <a:pt x="1216" y="188"/>
                      <a:pt x="1320" y="7"/>
                      <a:pt x="1410" y="7"/>
                    </a:cubicBezTo>
                    <a:cubicBezTo>
                      <a:pt x="1500" y="7"/>
                      <a:pt x="1582" y="188"/>
                      <a:pt x="1668" y="187"/>
                    </a:cubicBezTo>
                    <a:cubicBezTo>
                      <a:pt x="1754" y="186"/>
                      <a:pt x="1840" y="1"/>
                      <a:pt x="1926" y="1"/>
                    </a:cubicBezTo>
                    <a:cubicBezTo>
                      <a:pt x="2012" y="1"/>
                      <a:pt x="2098" y="94"/>
                      <a:pt x="2184" y="18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01640" y="3422160"/>
              <a:ext cx="3729240" cy="549720"/>
              <a:chOff x="701640" y="3422160"/>
              <a:chExt cx="3729240" cy="549720"/>
            </a:xfrm>
          </p:grpSpPr>
          <p:sp>
            <p:nvSpPr>
              <p:cNvPr id="500" name=""/>
              <p:cNvSpPr/>
              <p:nvPr/>
            </p:nvSpPr>
            <p:spPr>
              <a:xfrm rot="1080000">
                <a:off x="4120560" y="3452400"/>
                <a:ext cx="257400" cy="38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701640" y="3787560"/>
                <a:ext cx="3467160" cy="183960"/>
              </a:xfrm>
              <a:custGeom>
                <a:avLst/>
                <a:gdLst/>
                <a:ahLst/>
                <a:rect l="l" t="t" r="r" b="b"/>
                <a:pathLst>
                  <a:path w="2184" h="194">
                    <a:moveTo>
                      <a:pt x="0" y="187"/>
                    </a:moveTo>
                    <a:cubicBezTo>
                      <a:pt x="84" y="96"/>
                      <a:pt x="168" y="6"/>
                      <a:pt x="264" y="7"/>
                    </a:cubicBezTo>
                    <a:cubicBezTo>
                      <a:pt x="360" y="8"/>
                      <a:pt x="473" y="194"/>
                      <a:pt x="576" y="193"/>
                    </a:cubicBezTo>
                    <a:cubicBezTo>
                      <a:pt x="679" y="192"/>
                      <a:pt x="790" y="2"/>
                      <a:pt x="882" y="1"/>
                    </a:cubicBezTo>
                    <a:cubicBezTo>
                      <a:pt x="974" y="0"/>
                      <a:pt x="1040" y="186"/>
                      <a:pt x="1128" y="187"/>
                    </a:cubicBezTo>
                    <a:cubicBezTo>
                      <a:pt x="1216" y="188"/>
                      <a:pt x="1320" y="7"/>
                      <a:pt x="1410" y="7"/>
                    </a:cubicBezTo>
                    <a:cubicBezTo>
                      <a:pt x="1500" y="7"/>
                      <a:pt x="1582" y="188"/>
                      <a:pt x="1668" y="187"/>
                    </a:cubicBezTo>
                    <a:cubicBezTo>
                      <a:pt x="1754" y="186"/>
                      <a:pt x="1840" y="1"/>
                      <a:pt x="1926" y="1"/>
                    </a:cubicBezTo>
                    <a:cubicBezTo>
                      <a:pt x="2012" y="1"/>
                      <a:pt x="2098" y="94"/>
                      <a:pt x="2184" y="18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rot="19192200">
              <a:off x="4095360" y="3686040"/>
              <a:ext cx="171360" cy="12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 rot="2407800">
              <a:off x="4101480" y="3952800"/>
              <a:ext cx="171720" cy="12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10040" y="3765240"/>
              <a:ext cx="108000" cy="101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16160" y="3892320"/>
              <a:ext cx="108000" cy="101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305240" y="1728360"/>
            <a:ext cx="3729240" cy="549720"/>
            <a:chOff x="4305240" y="1728360"/>
            <a:chExt cx="3729240" cy="549720"/>
          </a:xfrm>
        </p:grpSpPr>
        <p:sp>
          <p:nvSpPr>
            <p:cNvPr id="507" name=""/>
            <p:cNvSpPr/>
            <p:nvPr/>
          </p:nvSpPr>
          <p:spPr>
            <a:xfrm rot="1080000">
              <a:off x="7724160" y="1758600"/>
              <a:ext cx="25740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305240" y="2093400"/>
              <a:ext cx="3467160" cy="183960"/>
            </a:xfrm>
            <a:custGeom>
              <a:avLst/>
              <a:gdLst/>
              <a:ahLst/>
              <a:rect l="l" t="t" r="r" b="b"/>
              <a:pathLst>
                <a:path w="2184" h="194">
                  <a:moveTo>
                    <a:pt x="0" y="187"/>
                  </a:moveTo>
                  <a:cubicBezTo>
                    <a:pt x="84" y="96"/>
                    <a:pt x="168" y="6"/>
                    <a:pt x="264" y="7"/>
                  </a:cubicBezTo>
                  <a:cubicBezTo>
                    <a:pt x="360" y="8"/>
                    <a:pt x="473" y="194"/>
                    <a:pt x="576" y="193"/>
                  </a:cubicBezTo>
                  <a:cubicBezTo>
                    <a:pt x="679" y="192"/>
                    <a:pt x="790" y="2"/>
                    <a:pt x="882" y="1"/>
                  </a:cubicBezTo>
                  <a:cubicBezTo>
                    <a:pt x="974" y="0"/>
                    <a:pt x="1040" y="186"/>
                    <a:pt x="1128" y="187"/>
                  </a:cubicBezTo>
                  <a:cubicBezTo>
                    <a:pt x="1216" y="188"/>
                    <a:pt x="1320" y="7"/>
                    <a:pt x="1410" y="7"/>
                  </a:cubicBezTo>
                  <a:cubicBezTo>
                    <a:pt x="1500" y="7"/>
                    <a:pt x="1582" y="188"/>
                    <a:pt x="1668" y="187"/>
                  </a:cubicBezTo>
                  <a:cubicBezTo>
                    <a:pt x="1754" y="186"/>
                    <a:pt x="1840" y="1"/>
                    <a:pt x="1926" y="1"/>
                  </a:cubicBezTo>
                  <a:cubicBezTo>
                    <a:pt x="2012" y="1"/>
                    <a:pt x="2098" y="94"/>
                    <a:pt x="21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 rot="19192200">
            <a:off x="7438680" y="3425760"/>
            <a:ext cx="171360" cy="123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58120" y="3724200"/>
            <a:ext cx="10800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19192200">
            <a:off x="7733880" y="3406680"/>
            <a:ext cx="171360" cy="123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753320" y="3724200"/>
            <a:ext cx="108000" cy="1015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286160" y="2342880"/>
            <a:ext cx="3729240" cy="549720"/>
            <a:chOff x="4286160" y="2342880"/>
            <a:chExt cx="3729240" cy="549720"/>
          </a:xfrm>
        </p:grpSpPr>
        <p:sp>
          <p:nvSpPr>
            <p:cNvPr id="514" name=""/>
            <p:cNvSpPr/>
            <p:nvPr/>
          </p:nvSpPr>
          <p:spPr>
            <a:xfrm rot="1080000">
              <a:off x="7705080" y="2373120"/>
              <a:ext cx="25740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4286160" y="2707920"/>
              <a:ext cx="3467160" cy="183960"/>
            </a:xfrm>
            <a:custGeom>
              <a:avLst/>
              <a:gdLst/>
              <a:ahLst/>
              <a:rect l="l" t="t" r="r" b="b"/>
              <a:pathLst>
                <a:path w="2184" h="194">
                  <a:moveTo>
                    <a:pt x="0" y="187"/>
                  </a:moveTo>
                  <a:cubicBezTo>
                    <a:pt x="84" y="96"/>
                    <a:pt x="168" y="6"/>
                    <a:pt x="264" y="7"/>
                  </a:cubicBezTo>
                  <a:cubicBezTo>
                    <a:pt x="360" y="8"/>
                    <a:pt x="473" y="194"/>
                    <a:pt x="576" y="193"/>
                  </a:cubicBezTo>
                  <a:cubicBezTo>
                    <a:pt x="679" y="192"/>
                    <a:pt x="790" y="2"/>
                    <a:pt x="882" y="1"/>
                  </a:cubicBezTo>
                  <a:cubicBezTo>
                    <a:pt x="974" y="0"/>
                    <a:pt x="1040" y="186"/>
                    <a:pt x="1128" y="187"/>
                  </a:cubicBezTo>
                  <a:cubicBezTo>
                    <a:pt x="1216" y="188"/>
                    <a:pt x="1320" y="7"/>
                    <a:pt x="1410" y="7"/>
                  </a:cubicBezTo>
                  <a:cubicBezTo>
                    <a:pt x="1500" y="7"/>
                    <a:pt x="1582" y="188"/>
                    <a:pt x="1668" y="187"/>
                  </a:cubicBezTo>
                  <a:cubicBezTo>
                    <a:pt x="1754" y="186"/>
                    <a:pt x="1840" y="1"/>
                    <a:pt x="1926" y="1"/>
                  </a:cubicBezTo>
                  <a:cubicBezTo>
                    <a:pt x="2012" y="1"/>
                    <a:pt x="2098" y="94"/>
                    <a:pt x="21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711360" y="4502160"/>
            <a:ext cx="2489040" cy="0"/>
          </a:xfrm>
          <a:prstGeom prst="line">
            <a:avLst/>
          </a:prstGeom>
          <a:ln w="19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5600" y="4502160"/>
            <a:ext cx="371160" cy="0"/>
          </a:xfrm>
          <a:prstGeom prst="line">
            <a:avLst/>
          </a:prstGeom>
          <a:ln w="19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19480" y="4502160"/>
            <a:ext cx="797040" cy="0"/>
          </a:xfrm>
          <a:prstGeom prst="line">
            <a:avLst/>
          </a:prstGeom>
          <a:ln w="19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41280" y="4549680"/>
            <a:ext cx="328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queue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  cou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tê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70440" y="22590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2 chaînes lour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45240" y="33638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4 chaînes lég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 rot="481200">
            <a:off x="4014360" y="5388120"/>
            <a:ext cx="284400" cy="541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100400" y="5387400"/>
            <a:ext cx="284400" cy="54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3789360" y="5154120"/>
            <a:ext cx="447840" cy="2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622680" y="5042880"/>
            <a:ext cx="158760" cy="158760"/>
          </a:xfrm>
          <a:custGeom>
            <a:avLst/>
            <a:gdLst/>
            <a:ahLst/>
            <a:rect l="l" t="t" r="r" b="b"/>
            <a:pathLst>
              <a:path w="63" h="67">
                <a:moveTo>
                  <a:pt x="63" y="20"/>
                </a:moveTo>
                <a:cubicBezTo>
                  <a:pt x="52" y="10"/>
                  <a:pt x="41" y="0"/>
                  <a:pt x="39" y="5"/>
                </a:cubicBezTo>
                <a:cubicBezTo>
                  <a:pt x="37" y="10"/>
                  <a:pt x="51" y="48"/>
                  <a:pt x="48" y="50"/>
                </a:cubicBezTo>
                <a:cubicBezTo>
                  <a:pt x="45" y="52"/>
                  <a:pt x="22" y="15"/>
                  <a:pt x="18" y="17"/>
                </a:cubicBezTo>
                <a:cubicBezTo>
                  <a:pt x="14" y="19"/>
                  <a:pt x="27" y="57"/>
                  <a:pt x="24" y="62"/>
                </a:cubicBezTo>
                <a:cubicBezTo>
                  <a:pt x="21" y="67"/>
                  <a:pt x="10" y="57"/>
                  <a:pt x="0" y="4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3269880" y="4905360"/>
            <a:ext cx="35388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26840" y="4905360"/>
            <a:ext cx="254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1080" y="968400"/>
            <a:ext cx="22748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ilaments ép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22280" y="1495440"/>
            <a:ext cx="833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filament épais :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formé par l’association de plusieurs molécules de myos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20 à 400 selon les musc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933560" y="2190240"/>
            <a:ext cx="2087280" cy="665640"/>
            <a:chOff x="1933560" y="2190240"/>
            <a:chExt cx="2087280" cy="665640"/>
          </a:xfrm>
        </p:grpSpPr>
        <p:sp>
          <p:nvSpPr>
            <p:cNvPr id="534" name=""/>
            <p:cNvSpPr/>
            <p:nvPr/>
          </p:nvSpPr>
          <p:spPr>
            <a:xfrm flipH="1" rot="481200">
              <a:off x="1985040" y="2200320"/>
              <a:ext cx="169560" cy="347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1933200" y="2200320"/>
              <a:ext cx="169560" cy="34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21760" y="2540520"/>
              <a:ext cx="268920" cy="15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295000" y="2665440"/>
              <a:ext cx="95760" cy="101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89320" y="2732400"/>
              <a:ext cx="21240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98840" y="2855880"/>
              <a:ext cx="142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749760" y="1996560"/>
            <a:ext cx="2087280" cy="665640"/>
            <a:chOff x="3749760" y="1996560"/>
            <a:chExt cx="2087280" cy="665640"/>
          </a:xfrm>
        </p:grpSpPr>
        <p:sp>
          <p:nvSpPr>
            <p:cNvPr id="541" name=""/>
            <p:cNvSpPr/>
            <p:nvPr/>
          </p:nvSpPr>
          <p:spPr>
            <a:xfrm rot="21118800">
              <a:off x="5615280" y="2006640"/>
              <a:ext cx="169560" cy="346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67480" y="2006640"/>
              <a:ext cx="169560" cy="34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479920" y="2346840"/>
              <a:ext cx="268920" cy="15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79840" y="2471760"/>
              <a:ext cx="95760" cy="101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168880" y="2538720"/>
              <a:ext cx="21240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749760" y="2662200"/>
              <a:ext cx="142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981680" y="3126960"/>
            <a:ext cx="2086920" cy="665640"/>
            <a:chOff x="4981680" y="3126960"/>
            <a:chExt cx="2086920" cy="665640"/>
          </a:xfrm>
        </p:grpSpPr>
        <p:sp>
          <p:nvSpPr>
            <p:cNvPr id="548" name=""/>
            <p:cNvSpPr/>
            <p:nvPr/>
          </p:nvSpPr>
          <p:spPr>
            <a:xfrm flipV="1" rot="481200">
              <a:off x="6847200" y="3434760"/>
              <a:ext cx="169560" cy="347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899040" y="3435480"/>
              <a:ext cx="169560" cy="34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6711480" y="3287160"/>
              <a:ext cx="268920" cy="15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611760" y="3215880"/>
              <a:ext cx="95760" cy="101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400440" y="3127320"/>
              <a:ext cx="21240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981680" y="3126960"/>
              <a:ext cx="142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232280" y="4169880"/>
            <a:ext cx="5694480" cy="784440"/>
            <a:chOff x="1232280" y="4169880"/>
            <a:chExt cx="5694480" cy="784440"/>
          </a:xfrm>
        </p:grpSpPr>
        <p:grpSp>
          <p:nvGrpSpPr>
            <p:cNvPr id="555" name=""/>
            <p:cNvGrpSpPr/>
            <p:nvPr/>
          </p:nvGrpSpPr>
          <p:grpSpPr>
            <a:xfrm>
              <a:off x="2148840" y="4169880"/>
              <a:ext cx="1950480" cy="280440"/>
              <a:chOff x="2148840" y="4169880"/>
              <a:chExt cx="1950480" cy="28044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2217960" y="43070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rot="19929600">
                <a:off x="2181960" y="41860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701160" y="4205880"/>
              <a:ext cx="1950480" cy="280440"/>
              <a:chOff x="3701160" y="4205880"/>
              <a:chExt cx="1950480" cy="280440"/>
            </a:xfrm>
          </p:grpSpPr>
          <p:sp>
            <p:nvSpPr>
              <p:cNvPr id="559" name=""/>
              <p:cNvSpPr/>
              <p:nvPr/>
            </p:nvSpPr>
            <p:spPr>
              <a:xfrm>
                <a:off x="3701160" y="43430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670400">
                <a:off x="5505840" y="42220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2450160" y="4673880"/>
              <a:ext cx="1950480" cy="280440"/>
              <a:chOff x="2450160" y="4673880"/>
              <a:chExt cx="1950480" cy="280440"/>
            </a:xfrm>
          </p:grpSpPr>
          <p:sp>
            <p:nvSpPr>
              <p:cNvPr id="562" name=""/>
              <p:cNvSpPr/>
              <p:nvPr/>
            </p:nvSpPr>
            <p:spPr>
              <a:xfrm flipH="1" flipV="1">
                <a:off x="2519280" y="467388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 rot="1670400">
                <a:off x="2483280" y="47667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4159080" y="4630320"/>
              <a:ext cx="1950480" cy="280440"/>
              <a:chOff x="4159080" y="4630320"/>
              <a:chExt cx="1950480" cy="280440"/>
            </a:xfrm>
          </p:grpSpPr>
          <p:sp>
            <p:nvSpPr>
              <p:cNvPr id="565" name=""/>
              <p:cNvSpPr/>
              <p:nvPr/>
            </p:nvSpPr>
            <p:spPr>
              <a:xfrm flipV="1">
                <a:off x="4159080" y="46303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 rot="19929600">
                <a:off x="5964120" y="472320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019960" y="4616640"/>
              <a:ext cx="1950480" cy="280440"/>
              <a:chOff x="2019960" y="4616640"/>
              <a:chExt cx="1950480" cy="280440"/>
            </a:xfrm>
          </p:grpSpPr>
          <p:sp>
            <p:nvSpPr>
              <p:cNvPr id="568" name=""/>
              <p:cNvSpPr/>
              <p:nvPr/>
            </p:nvSpPr>
            <p:spPr>
              <a:xfrm flipH="1" flipV="1">
                <a:off x="2089080" y="46166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 rot="1670400">
                <a:off x="2053080" y="470952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359960" y="4234680"/>
              <a:ext cx="1950480" cy="280440"/>
              <a:chOff x="4359960" y="4234680"/>
              <a:chExt cx="1950480" cy="280440"/>
            </a:xfrm>
          </p:grpSpPr>
          <p:sp>
            <p:nvSpPr>
              <p:cNvPr id="571" name=""/>
              <p:cNvSpPr/>
              <p:nvPr/>
            </p:nvSpPr>
            <p:spPr>
              <a:xfrm>
                <a:off x="4359960" y="43718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670400">
                <a:off x="6164640" y="42508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976280" y="4262760"/>
              <a:ext cx="1950480" cy="280440"/>
              <a:chOff x="4976280" y="4262760"/>
              <a:chExt cx="1950480" cy="280440"/>
            </a:xfrm>
          </p:grpSpPr>
          <p:sp>
            <p:nvSpPr>
              <p:cNvPr id="574" name=""/>
              <p:cNvSpPr/>
              <p:nvPr/>
            </p:nvSpPr>
            <p:spPr>
              <a:xfrm>
                <a:off x="4976280" y="43999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670400">
                <a:off x="6780960" y="42789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4646520" y="4587840"/>
              <a:ext cx="1950480" cy="280440"/>
              <a:chOff x="4646520" y="4587840"/>
              <a:chExt cx="1950480" cy="280440"/>
            </a:xfrm>
          </p:grpSpPr>
          <p:sp>
            <p:nvSpPr>
              <p:cNvPr id="577" name=""/>
              <p:cNvSpPr/>
              <p:nvPr/>
            </p:nvSpPr>
            <p:spPr>
              <a:xfrm flipV="1">
                <a:off x="4646520" y="45878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 rot="19929600">
                <a:off x="6451560" y="468072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1618920" y="4198320"/>
              <a:ext cx="1950480" cy="280440"/>
              <a:chOff x="1618920" y="4198320"/>
              <a:chExt cx="1950480" cy="280440"/>
            </a:xfrm>
          </p:grpSpPr>
          <p:sp>
            <p:nvSpPr>
              <p:cNvPr id="580" name=""/>
              <p:cNvSpPr/>
              <p:nvPr/>
            </p:nvSpPr>
            <p:spPr>
              <a:xfrm flipH="1">
                <a:off x="1688040" y="433548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rot="19929600">
                <a:off x="1652040" y="421452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532520" y="4559040"/>
              <a:ext cx="1950480" cy="280440"/>
              <a:chOff x="1532520" y="4559040"/>
              <a:chExt cx="1950480" cy="280440"/>
            </a:xfrm>
          </p:grpSpPr>
          <p:sp>
            <p:nvSpPr>
              <p:cNvPr id="583" name=""/>
              <p:cNvSpPr/>
              <p:nvPr/>
            </p:nvSpPr>
            <p:spPr>
              <a:xfrm flipH="1" flipV="1">
                <a:off x="1601640" y="45590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1670400">
                <a:off x="1565640" y="465192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232280" y="4241880"/>
              <a:ext cx="1950480" cy="280440"/>
              <a:chOff x="1232280" y="4241880"/>
              <a:chExt cx="1950480" cy="280440"/>
            </a:xfrm>
          </p:grpSpPr>
          <p:sp>
            <p:nvSpPr>
              <p:cNvPr id="586" name=""/>
              <p:cNvSpPr/>
              <p:nvPr/>
            </p:nvSpPr>
            <p:spPr>
              <a:xfrm flipH="1">
                <a:off x="1301400" y="437904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 rot="19929600">
                <a:off x="1265400" y="42580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>
            <a:off x="4079880" y="3340080"/>
            <a:ext cx="0" cy="8892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3520" y="968400"/>
            <a:ext cx="57873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organisation des myofilaments dans le sarcom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" y="206280"/>
            <a:ext cx="769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myo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1360" y="5599080"/>
            <a:ext cx="81439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haînes légères : responsables de l'activité ATPasiq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e cette activité ATPasique dépend la vitesse du cycle de contraction ainsi que la consommation d'A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600560" y="3033360"/>
            <a:ext cx="5694480" cy="784080"/>
            <a:chOff x="1600560" y="3033360"/>
            <a:chExt cx="5694480" cy="784080"/>
          </a:xfrm>
        </p:grpSpPr>
        <p:grpSp>
          <p:nvGrpSpPr>
            <p:cNvPr id="595" name=""/>
            <p:cNvGrpSpPr/>
            <p:nvPr/>
          </p:nvGrpSpPr>
          <p:grpSpPr>
            <a:xfrm>
              <a:off x="2517120" y="3033360"/>
              <a:ext cx="1950480" cy="280440"/>
              <a:chOff x="2517120" y="3033360"/>
              <a:chExt cx="1950480" cy="280440"/>
            </a:xfrm>
          </p:grpSpPr>
          <p:sp>
            <p:nvSpPr>
              <p:cNvPr id="596" name=""/>
              <p:cNvSpPr/>
              <p:nvPr/>
            </p:nvSpPr>
            <p:spPr>
              <a:xfrm flipH="1">
                <a:off x="2586240" y="31705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rot="19929600">
                <a:off x="2550240" y="30495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4069440" y="3069360"/>
              <a:ext cx="1950480" cy="280440"/>
              <a:chOff x="4069440" y="3069360"/>
              <a:chExt cx="1950480" cy="280440"/>
            </a:xfrm>
          </p:grpSpPr>
          <p:sp>
            <p:nvSpPr>
              <p:cNvPr id="599" name=""/>
              <p:cNvSpPr/>
              <p:nvPr/>
            </p:nvSpPr>
            <p:spPr>
              <a:xfrm>
                <a:off x="4069440" y="32065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670400">
                <a:off x="5874120" y="30855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818440" y="3537000"/>
              <a:ext cx="1950480" cy="280440"/>
              <a:chOff x="2818440" y="3537000"/>
              <a:chExt cx="1950480" cy="280440"/>
            </a:xfrm>
          </p:grpSpPr>
          <p:sp>
            <p:nvSpPr>
              <p:cNvPr id="602" name=""/>
              <p:cNvSpPr/>
              <p:nvPr/>
            </p:nvSpPr>
            <p:spPr>
              <a:xfrm flipH="1" flipV="1">
                <a:off x="2887560" y="353700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 rot="1670400">
                <a:off x="2851560" y="36298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527360" y="3493800"/>
              <a:ext cx="1950480" cy="280440"/>
              <a:chOff x="4527360" y="3493800"/>
              <a:chExt cx="1950480" cy="280440"/>
            </a:xfrm>
          </p:grpSpPr>
          <p:sp>
            <p:nvSpPr>
              <p:cNvPr id="605" name=""/>
              <p:cNvSpPr/>
              <p:nvPr/>
            </p:nvSpPr>
            <p:spPr>
              <a:xfrm flipV="1">
                <a:off x="4527360" y="349380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 rot="19929600">
                <a:off x="6332400" y="358668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388240" y="3479760"/>
              <a:ext cx="1950480" cy="280440"/>
              <a:chOff x="2388240" y="3479760"/>
              <a:chExt cx="1950480" cy="280440"/>
            </a:xfrm>
          </p:grpSpPr>
          <p:sp>
            <p:nvSpPr>
              <p:cNvPr id="608" name=""/>
              <p:cNvSpPr/>
              <p:nvPr/>
            </p:nvSpPr>
            <p:spPr>
              <a:xfrm flipH="1" flipV="1">
                <a:off x="2457360" y="347976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1670400">
                <a:off x="2421360" y="357264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728240" y="3098160"/>
              <a:ext cx="1950480" cy="280440"/>
              <a:chOff x="4728240" y="3098160"/>
              <a:chExt cx="1950480" cy="280440"/>
            </a:xfrm>
          </p:grpSpPr>
          <p:sp>
            <p:nvSpPr>
              <p:cNvPr id="611" name=""/>
              <p:cNvSpPr/>
              <p:nvPr/>
            </p:nvSpPr>
            <p:spPr>
              <a:xfrm>
                <a:off x="4728240" y="32353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670400">
                <a:off x="6532920" y="311436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5344560" y="3126240"/>
              <a:ext cx="1950480" cy="280440"/>
              <a:chOff x="5344560" y="3126240"/>
              <a:chExt cx="1950480" cy="280440"/>
            </a:xfrm>
          </p:grpSpPr>
          <p:sp>
            <p:nvSpPr>
              <p:cNvPr id="614" name=""/>
              <p:cNvSpPr/>
              <p:nvPr/>
            </p:nvSpPr>
            <p:spPr>
              <a:xfrm>
                <a:off x="5344560" y="326340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670400">
                <a:off x="7149240" y="314244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014800" y="3450960"/>
              <a:ext cx="1950480" cy="280440"/>
              <a:chOff x="5014800" y="3450960"/>
              <a:chExt cx="1950480" cy="2804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5014800" y="345096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 rot="19929600">
                <a:off x="6819840" y="354384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987200" y="3061800"/>
              <a:ext cx="1950480" cy="280440"/>
              <a:chOff x="1987200" y="3061800"/>
              <a:chExt cx="1950480" cy="280440"/>
            </a:xfrm>
          </p:grpSpPr>
          <p:sp>
            <p:nvSpPr>
              <p:cNvPr id="620" name=""/>
              <p:cNvSpPr/>
              <p:nvPr/>
            </p:nvSpPr>
            <p:spPr>
              <a:xfrm flipH="1">
                <a:off x="2056320" y="319896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rot="19929600">
                <a:off x="2020320" y="307800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900800" y="3422520"/>
              <a:ext cx="1950480" cy="280440"/>
              <a:chOff x="1900800" y="3422520"/>
              <a:chExt cx="1950480" cy="280440"/>
            </a:xfrm>
          </p:grpSpPr>
          <p:sp>
            <p:nvSpPr>
              <p:cNvPr id="623" name=""/>
              <p:cNvSpPr/>
              <p:nvPr/>
            </p:nvSpPr>
            <p:spPr>
              <a:xfrm flipH="1" flipV="1">
                <a:off x="1969920" y="342252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670400">
                <a:off x="1933920" y="351540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1600560" y="3105000"/>
              <a:ext cx="1950480" cy="280440"/>
              <a:chOff x="1600560" y="3105000"/>
              <a:chExt cx="1950480" cy="280440"/>
            </a:xfrm>
          </p:grpSpPr>
          <p:sp>
            <p:nvSpPr>
              <p:cNvPr id="626" name=""/>
              <p:cNvSpPr/>
              <p:nvPr/>
            </p:nvSpPr>
            <p:spPr>
              <a:xfrm flipH="1">
                <a:off x="1669680" y="3242160"/>
                <a:ext cx="1881360" cy="143280"/>
              </a:xfrm>
              <a:custGeom>
                <a:avLst/>
                <a:gdLst/>
                <a:ahLst/>
                <a:rect l="l" t="t" r="r" b="b"/>
                <a:pathLst>
                  <a:path w="788" h="60">
                    <a:moveTo>
                      <a:pt x="0" y="60"/>
                    </a:moveTo>
                    <a:lnTo>
                      <a:pt x="684" y="60"/>
                    </a:lnTo>
                    <a:lnTo>
                      <a:pt x="7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rot="19929600">
                <a:off x="1633680" y="3121200"/>
                <a:ext cx="11196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5122800" y="2652840"/>
            <a:ext cx="3527280" cy="204480"/>
            <a:chOff x="5122800" y="2652840"/>
            <a:chExt cx="3527280" cy="204480"/>
          </a:xfrm>
        </p:grpSpPr>
        <p:sp>
          <p:nvSpPr>
            <p:cNvPr id="629" name=""/>
            <p:cNvSpPr/>
            <p:nvPr/>
          </p:nvSpPr>
          <p:spPr>
            <a:xfrm>
              <a:off x="8350200" y="273852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32640" y="27288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512200" y="270828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53080" y="270108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15080" y="2679840"/>
              <a:ext cx="79560" cy="77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535880" y="26852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94320" y="272556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73880" y="27050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041960" y="267192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124760" y="26528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962760" y="267984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59520" y="273204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939080" y="271152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8018280" y="269568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8180280" y="267192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8264520" y="26528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8346960" y="265284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01080" y="267984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8429400" y="266148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508960" y="2682000"/>
              <a:ext cx="79200" cy="78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862760" y="266868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6873840" y="2724120"/>
              <a:ext cx="1770120" cy="52560"/>
            </a:xfrm>
            <a:custGeom>
              <a:avLst/>
              <a:gdLst/>
              <a:ahLst/>
              <a:rect l="l" t="t" r="r" b="b"/>
              <a:pathLst>
                <a:path w="3210" h="96">
                  <a:moveTo>
                    <a:pt x="0" y="28"/>
                  </a:moveTo>
                  <a:cubicBezTo>
                    <a:pt x="113" y="37"/>
                    <a:pt x="494" y="86"/>
                    <a:pt x="678" y="82"/>
                  </a:cubicBezTo>
                  <a:cubicBezTo>
                    <a:pt x="862" y="78"/>
                    <a:pt x="977" y="8"/>
                    <a:pt x="1104" y="4"/>
                  </a:cubicBezTo>
                  <a:cubicBezTo>
                    <a:pt x="1231" y="0"/>
                    <a:pt x="1350" y="45"/>
                    <a:pt x="1440" y="58"/>
                  </a:cubicBezTo>
                  <a:cubicBezTo>
                    <a:pt x="1530" y="71"/>
                    <a:pt x="1532" y="89"/>
                    <a:pt x="1644" y="82"/>
                  </a:cubicBezTo>
                  <a:cubicBezTo>
                    <a:pt x="1756" y="75"/>
                    <a:pt x="1952" y="11"/>
                    <a:pt x="2112" y="13"/>
                  </a:cubicBezTo>
                  <a:cubicBezTo>
                    <a:pt x="2272" y="15"/>
                    <a:pt x="2448" y="92"/>
                    <a:pt x="2604" y="94"/>
                  </a:cubicBezTo>
                  <a:cubicBezTo>
                    <a:pt x="2760" y="96"/>
                    <a:pt x="2947" y="39"/>
                    <a:pt x="3048" y="28"/>
                  </a:cubicBezTo>
                  <a:cubicBezTo>
                    <a:pt x="3149" y="17"/>
                    <a:pt x="3181" y="28"/>
                    <a:pt x="3210" y="2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942320" y="268848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7780320" y="26582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697880" y="26582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207200" y="26528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7289640" y="2661480"/>
              <a:ext cx="810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370640" y="2682000"/>
              <a:ext cx="79560" cy="78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880320" y="269568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11880" y="2735280"/>
              <a:ext cx="777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880320" y="2693160"/>
              <a:ext cx="622080" cy="111240"/>
            </a:xfrm>
            <a:custGeom>
              <a:avLst/>
              <a:gdLst/>
              <a:ahLst/>
              <a:rect l="l" t="t" r="r" b="b"/>
              <a:pathLst>
                <a:path w="790" h="140">
                  <a:moveTo>
                    <a:pt x="0" y="140"/>
                  </a:moveTo>
                  <a:cubicBezTo>
                    <a:pt x="17" y="138"/>
                    <a:pt x="40" y="137"/>
                    <a:pt x="108" y="128"/>
                  </a:cubicBezTo>
                  <a:cubicBezTo>
                    <a:pt x="176" y="119"/>
                    <a:pt x="324" y="100"/>
                    <a:pt x="408" y="86"/>
                  </a:cubicBezTo>
                  <a:cubicBezTo>
                    <a:pt x="492" y="72"/>
                    <a:pt x="547" y="55"/>
                    <a:pt x="611" y="41"/>
                  </a:cubicBezTo>
                  <a:cubicBezTo>
                    <a:pt x="675" y="27"/>
                    <a:pt x="753" y="8"/>
                    <a:pt x="790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66000" y="270828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45200" y="2716200"/>
              <a:ext cx="79560" cy="77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29440" y="2735280"/>
              <a:ext cx="777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7489800" y="2732040"/>
              <a:ext cx="695160" cy="85680"/>
            </a:xfrm>
            <a:custGeom>
              <a:avLst/>
              <a:gdLst/>
              <a:ahLst/>
              <a:rect l="l" t="t" r="r" b="b"/>
              <a:pathLst>
                <a:path w="882" h="108">
                  <a:moveTo>
                    <a:pt x="0" y="102"/>
                  </a:moveTo>
                  <a:cubicBezTo>
                    <a:pt x="33" y="101"/>
                    <a:pt x="111" y="108"/>
                    <a:pt x="198" y="102"/>
                  </a:cubicBezTo>
                  <a:cubicBezTo>
                    <a:pt x="285" y="96"/>
                    <a:pt x="464" y="71"/>
                    <a:pt x="521" y="64"/>
                  </a:cubicBezTo>
                  <a:cubicBezTo>
                    <a:pt x="578" y="57"/>
                    <a:pt x="510" y="65"/>
                    <a:pt x="540" y="60"/>
                  </a:cubicBezTo>
                  <a:cubicBezTo>
                    <a:pt x="570" y="55"/>
                    <a:pt x="647" y="46"/>
                    <a:pt x="704" y="36"/>
                  </a:cubicBezTo>
                  <a:cubicBezTo>
                    <a:pt x="761" y="26"/>
                    <a:pt x="845" y="8"/>
                    <a:pt x="882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32640" y="271620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694640" y="274176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777080" y="274176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11840" y="272268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8061120" y="2705040"/>
              <a:ext cx="588960" cy="90720"/>
            </a:xfrm>
            <a:custGeom>
              <a:avLst/>
              <a:gdLst/>
              <a:ahLst/>
              <a:rect l="l" t="t" r="r" b="b"/>
              <a:pathLst>
                <a:path w="746" h="116">
                  <a:moveTo>
                    <a:pt x="0" y="111"/>
                  </a:moveTo>
                  <a:cubicBezTo>
                    <a:pt x="15" y="112"/>
                    <a:pt x="29" y="116"/>
                    <a:pt x="90" y="111"/>
                  </a:cubicBezTo>
                  <a:cubicBezTo>
                    <a:pt x="151" y="106"/>
                    <a:pt x="286" y="94"/>
                    <a:pt x="366" y="81"/>
                  </a:cubicBezTo>
                  <a:cubicBezTo>
                    <a:pt x="446" y="68"/>
                    <a:pt x="505" y="49"/>
                    <a:pt x="568" y="36"/>
                  </a:cubicBezTo>
                  <a:cubicBezTo>
                    <a:pt x="631" y="23"/>
                    <a:pt x="709" y="8"/>
                    <a:pt x="746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267760" y="273852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3520" y="2719440"/>
              <a:ext cx="810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03960" y="271152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7426080" y="2786760"/>
              <a:ext cx="155880" cy="70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985160" y="2786760"/>
              <a:ext cx="155520" cy="70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6837120" y="2784600"/>
              <a:ext cx="15588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021520" y="269568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50200" y="269892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83200" y="269244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5122800" y="2652840"/>
              <a:ext cx="1872720" cy="204480"/>
              <a:chOff x="5122800" y="2652840"/>
              <a:chExt cx="1872720" cy="204480"/>
            </a:xfrm>
          </p:grpSpPr>
          <p:sp>
            <p:nvSpPr>
              <p:cNvPr id="679" name=""/>
              <p:cNvSpPr/>
              <p:nvPr/>
            </p:nvSpPr>
            <p:spPr>
              <a:xfrm>
                <a:off x="6635160" y="27388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17960" y="27288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797520" y="270900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5738400" y="27018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5900760" y="26794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5821200" y="268596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79640" y="272556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58840" y="270504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327640" y="26722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5410080" y="265284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248800" y="26794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45560" y="273276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224400" y="271224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6303960" y="269604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466320" y="267228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6549480" y="265284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631920" y="265284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6386760" y="26794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714720" y="266292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6794280" y="268272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6148800" y="26694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5158800" y="2724120"/>
                <a:ext cx="177084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228360" y="268884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066000" y="265896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5983200" y="265896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5492880" y="265284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5575680" y="266292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655600" y="268272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5166000" y="269604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96840" y="273564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5165280" y="2693880"/>
                <a:ext cx="62244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52040" y="27090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331600" y="271584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14040" y="273564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775120" y="273168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17960" y="271584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79960" y="274212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62760" y="274212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97520" y="272232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6347160" y="2704680"/>
                <a:ext cx="58788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52360" y="27388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469200" y="271908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90000" y="27122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5712480" y="2788200"/>
                <a:ext cx="15480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6270840" y="278820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22800" y="278532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40720" y="2785320"/>
                <a:ext cx="15480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307200" y="269604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735160" y="269928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69240" y="269208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5148360" y="3998880"/>
            <a:ext cx="3527280" cy="204840"/>
            <a:chOff x="5148360" y="3998880"/>
            <a:chExt cx="3527280" cy="204840"/>
          </a:xfrm>
        </p:grpSpPr>
        <p:sp>
          <p:nvSpPr>
            <p:cNvPr id="730" name=""/>
            <p:cNvSpPr/>
            <p:nvPr/>
          </p:nvSpPr>
          <p:spPr>
            <a:xfrm flipV="1">
              <a:off x="8375400" y="403776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8458200" y="404820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8537400" y="40680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78640" y="407520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40640" y="4098960"/>
              <a:ext cx="79200" cy="77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61080" y="409104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19880" y="40514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7399080" y="407196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067520" y="41054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49960" y="41241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87960" y="4098960"/>
              <a:ext cx="7956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7885080" y="404496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7964280" y="40647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43840" y="408132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205840" y="410544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89720" y="41241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72520" y="41241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126280" y="4098960"/>
              <a:ext cx="7956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54960" y="411480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34160" y="4095720"/>
              <a:ext cx="7956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88320" y="410832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99040" y="4079880"/>
              <a:ext cx="1770120" cy="52560"/>
            </a:xfrm>
            <a:custGeom>
              <a:avLst/>
              <a:gdLst/>
              <a:ahLst/>
              <a:rect l="l" t="t" r="r" b="b"/>
              <a:pathLst>
                <a:path w="3210" h="96">
                  <a:moveTo>
                    <a:pt x="0" y="28"/>
                  </a:moveTo>
                  <a:cubicBezTo>
                    <a:pt x="113" y="37"/>
                    <a:pt x="494" y="86"/>
                    <a:pt x="678" y="82"/>
                  </a:cubicBezTo>
                  <a:cubicBezTo>
                    <a:pt x="862" y="78"/>
                    <a:pt x="977" y="8"/>
                    <a:pt x="1104" y="4"/>
                  </a:cubicBezTo>
                  <a:cubicBezTo>
                    <a:pt x="1231" y="0"/>
                    <a:pt x="1350" y="45"/>
                    <a:pt x="1440" y="58"/>
                  </a:cubicBezTo>
                  <a:cubicBezTo>
                    <a:pt x="1530" y="71"/>
                    <a:pt x="1532" y="89"/>
                    <a:pt x="1644" y="82"/>
                  </a:cubicBezTo>
                  <a:cubicBezTo>
                    <a:pt x="1756" y="75"/>
                    <a:pt x="1952" y="11"/>
                    <a:pt x="2112" y="13"/>
                  </a:cubicBezTo>
                  <a:cubicBezTo>
                    <a:pt x="2272" y="15"/>
                    <a:pt x="2448" y="92"/>
                    <a:pt x="2604" y="94"/>
                  </a:cubicBezTo>
                  <a:cubicBezTo>
                    <a:pt x="2760" y="96"/>
                    <a:pt x="2947" y="39"/>
                    <a:pt x="3048" y="28"/>
                  </a:cubicBezTo>
                  <a:cubicBezTo>
                    <a:pt x="3149" y="17"/>
                    <a:pt x="3181" y="28"/>
                    <a:pt x="3210" y="2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67520" y="40878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805520" y="411804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23080" y="411804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32400" y="41241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15200" y="411480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96200" y="409572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905520" y="408132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237440" y="4041000"/>
              <a:ext cx="777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05520" y="4051440"/>
              <a:ext cx="622440" cy="110880"/>
            </a:xfrm>
            <a:custGeom>
              <a:avLst/>
              <a:gdLst/>
              <a:ahLst/>
              <a:rect l="l" t="t" r="r" b="b"/>
              <a:pathLst>
                <a:path w="790" h="140">
                  <a:moveTo>
                    <a:pt x="0" y="140"/>
                  </a:moveTo>
                  <a:cubicBezTo>
                    <a:pt x="17" y="138"/>
                    <a:pt x="40" y="137"/>
                    <a:pt x="108" y="128"/>
                  </a:cubicBezTo>
                  <a:cubicBezTo>
                    <a:pt x="176" y="119"/>
                    <a:pt x="324" y="100"/>
                    <a:pt x="408" y="86"/>
                  </a:cubicBezTo>
                  <a:cubicBezTo>
                    <a:pt x="492" y="72"/>
                    <a:pt x="547" y="55"/>
                    <a:pt x="611" y="41"/>
                  </a:cubicBezTo>
                  <a:cubicBezTo>
                    <a:pt x="675" y="27"/>
                    <a:pt x="753" y="8"/>
                    <a:pt x="790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6991200" y="40680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070760" y="4061520"/>
              <a:ext cx="79200" cy="78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7154640" y="4041000"/>
              <a:ext cx="777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15000" y="4038480"/>
              <a:ext cx="695520" cy="85680"/>
            </a:xfrm>
            <a:custGeom>
              <a:avLst/>
              <a:gdLst/>
              <a:ahLst/>
              <a:rect l="l" t="t" r="r" b="b"/>
              <a:pathLst>
                <a:path w="882" h="108">
                  <a:moveTo>
                    <a:pt x="0" y="102"/>
                  </a:moveTo>
                  <a:cubicBezTo>
                    <a:pt x="33" y="101"/>
                    <a:pt x="111" y="108"/>
                    <a:pt x="198" y="102"/>
                  </a:cubicBezTo>
                  <a:cubicBezTo>
                    <a:pt x="285" y="96"/>
                    <a:pt x="464" y="71"/>
                    <a:pt x="521" y="64"/>
                  </a:cubicBezTo>
                  <a:cubicBezTo>
                    <a:pt x="578" y="57"/>
                    <a:pt x="510" y="65"/>
                    <a:pt x="540" y="60"/>
                  </a:cubicBezTo>
                  <a:cubicBezTo>
                    <a:pt x="570" y="55"/>
                    <a:pt x="647" y="46"/>
                    <a:pt x="704" y="36"/>
                  </a:cubicBezTo>
                  <a:cubicBezTo>
                    <a:pt x="761" y="26"/>
                    <a:pt x="845" y="8"/>
                    <a:pt x="882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557840" y="4061520"/>
              <a:ext cx="79560" cy="78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719840" y="403560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802640" y="403560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637400" y="405360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086680" y="4060800"/>
              <a:ext cx="588960" cy="90360"/>
            </a:xfrm>
            <a:custGeom>
              <a:avLst/>
              <a:gdLst/>
              <a:ahLst/>
              <a:rect l="l" t="t" r="r" b="b"/>
              <a:pathLst>
                <a:path w="746" h="116">
                  <a:moveTo>
                    <a:pt x="0" y="111"/>
                  </a:moveTo>
                  <a:cubicBezTo>
                    <a:pt x="15" y="112"/>
                    <a:pt x="29" y="116"/>
                    <a:pt x="90" y="111"/>
                  </a:cubicBezTo>
                  <a:cubicBezTo>
                    <a:pt x="151" y="106"/>
                    <a:pt x="286" y="94"/>
                    <a:pt x="366" y="81"/>
                  </a:cubicBezTo>
                  <a:cubicBezTo>
                    <a:pt x="446" y="68"/>
                    <a:pt x="505" y="49"/>
                    <a:pt x="568" y="36"/>
                  </a:cubicBezTo>
                  <a:cubicBezTo>
                    <a:pt x="631" y="23"/>
                    <a:pt x="709" y="8"/>
                    <a:pt x="746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8292960" y="403776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208720" y="4056840"/>
              <a:ext cx="810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129520" y="406476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51640" y="399888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010360" y="399888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62680" y="400212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8047080" y="408060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475400" y="407844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908760" y="408384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661080" y="403776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743520" y="404820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823080" y="406800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63960" y="4075200"/>
              <a:ext cx="7956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25960" y="4098960"/>
              <a:ext cx="79560" cy="77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46760" y="40910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605560" y="40514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684760" y="407196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52840" y="410544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35640" y="41241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273640" y="409896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6170400" y="404496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6249960" y="40647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29160" y="408132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91160" y="410544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75400" y="41241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7840" y="412416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11960" y="409896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740280" y="411480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19840" y="4095720"/>
              <a:ext cx="7920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73640" y="410832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84720" y="4079880"/>
              <a:ext cx="1770120" cy="52560"/>
            </a:xfrm>
            <a:custGeom>
              <a:avLst/>
              <a:gdLst/>
              <a:ahLst/>
              <a:rect l="l" t="t" r="r" b="b"/>
              <a:pathLst>
                <a:path w="3210" h="96">
                  <a:moveTo>
                    <a:pt x="0" y="28"/>
                  </a:moveTo>
                  <a:cubicBezTo>
                    <a:pt x="113" y="37"/>
                    <a:pt x="494" y="86"/>
                    <a:pt x="678" y="82"/>
                  </a:cubicBezTo>
                  <a:cubicBezTo>
                    <a:pt x="862" y="78"/>
                    <a:pt x="977" y="8"/>
                    <a:pt x="1104" y="4"/>
                  </a:cubicBezTo>
                  <a:cubicBezTo>
                    <a:pt x="1231" y="0"/>
                    <a:pt x="1350" y="45"/>
                    <a:pt x="1440" y="58"/>
                  </a:cubicBezTo>
                  <a:cubicBezTo>
                    <a:pt x="1530" y="71"/>
                    <a:pt x="1532" y="89"/>
                    <a:pt x="1644" y="82"/>
                  </a:cubicBezTo>
                  <a:cubicBezTo>
                    <a:pt x="1756" y="75"/>
                    <a:pt x="1952" y="11"/>
                    <a:pt x="2112" y="13"/>
                  </a:cubicBezTo>
                  <a:cubicBezTo>
                    <a:pt x="2272" y="15"/>
                    <a:pt x="2448" y="92"/>
                    <a:pt x="2604" y="94"/>
                  </a:cubicBezTo>
                  <a:cubicBezTo>
                    <a:pt x="2760" y="96"/>
                    <a:pt x="2947" y="39"/>
                    <a:pt x="3048" y="28"/>
                  </a:cubicBezTo>
                  <a:cubicBezTo>
                    <a:pt x="3149" y="17"/>
                    <a:pt x="3181" y="28"/>
                    <a:pt x="3210" y="2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253200" y="408780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91200" y="41180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08760" y="4118040"/>
              <a:ext cx="79200" cy="79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18080" y="412416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00520" y="4114800"/>
              <a:ext cx="810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681520" y="4095720"/>
              <a:ext cx="79560" cy="77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91200" y="4081320"/>
              <a:ext cx="7920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522760" y="4041000"/>
              <a:ext cx="777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91200" y="4051440"/>
              <a:ext cx="622080" cy="110880"/>
            </a:xfrm>
            <a:custGeom>
              <a:avLst/>
              <a:gdLst/>
              <a:ahLst/>
              <a:rect l="l" t="t" r="r" b="b"/>
              <a:pathLst>
                <a:path w="790" h="140">
                  <a:moveTo>
                    <a:pt x="0" y="140"/>
                  </a:moveTo>
                  <a:cubicBezTo>
                    <a:pt x="17" y="138"/>
                    <a:pt x="40" y="137"/>
                    <a:pt x="108" y="128"/>
                  </a:cubicBezTo>
                  <a:cubicBezTo>
                    <a:pt x="176" y="119"/>
                    <a:pt x="324" y="100"/>
                    <a:pt x="408" y="86"/>
                  </a:cubicBezTo>
                  <a:cubicBezTo>
                    <a:pt x="492" y="72"/>
                    <a:pt x="547" y="55"/>
                    <a:pt x="611" y="41"/>
                  </a:cubicBezTo>
                  <a:cubicBezTo>
                    <a:pt x="675" y="27"/>
                    <a:pt x="753" y="8"/>
                    <a:pt x="790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5276880" y="406800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356080" y="4061520"/>
              <a:ext cx="79560" cy="78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5440320" y="4041000"/>
              <a:ext cx="777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00680" y="4038480"/>
              <a:ext cx="695160" cy="85680"/>
            </a:xfrm>
            <a:custGeom>
              <a:avLst/>
              <a:gdLst/>
              <a:ahLst/>
              <a:rect l="l" t="t" r="r" b="b"/>
              <a:pathLst>
                <a:path w="882" h="108">
                  <a:moveTo>
                    <a:pt x="0" y="102"/>
                  </a:moveTo>
                  <a:cubicBezTo>
                    <a:pt x="33" y="101"/>
                    <a:pt x="111" y="108"/>
                    <a:pt x="198" y="102"/>
                  </a:cubicBezTo>
                  <a:cubicBezTo>
                    <a:pt x="285" y="96"/>
                    <a:pt x="464" y="71"/>
                    <a:pt x="521" y="64"/>
                  </a:cubicBezTo>
                  <a:cubicBezTo>
                    <a:pt x="578" y="57"/>
                    <a:pt x="510" y="65"/>
                    <a:pt x="540" y="60"/>
                  </a:cubicBezTo>
                  <a:cubicBezTo>
                    <a:pt x="570" y="55"/>
                    <a:pt x="647" y="46"/>
                    <a:pt x="704" y="36"/>
                  </a:cubicBezTo>
                  <a:cubicBezTo>
                    <a:pt x="761" y="26"/>
                    <a:pt x="845" y="8"/>
                    <a:pt x="882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5843520" y="4061520"/>
              <a:ext cx="79200" cy="78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005520" y="403560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087960" y="4035600"/>
              <a:ext cx="7956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5922720" y="4053600"/>
              <a:ext cx="79560" cy="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72000" y="4060800"/>
              <a:ext cx="588960" cy="90360"/>
            </a:xfrm>
            <a:custGeom>
              <a:avLst/>
              <a:gdLst/>
              <a:ahLst/>
              <a:rect l="l" t="t" r="r" b="b"/>
              <a:pathLst>
                <a:path w="746" h="116">
                  <a:moveTo>
                    <a:pt x="0" y="111"/>
                  </a:moveTo>
                  <a:cubicBezTo>
                    <a:pt x="15" y="112"/>
                    <a:pt x="29" y="116"/>
                    <a:pt x="90" y="111"/>
                  </a:cubicBezTo>
                  <a:cubicBezTo>
                    <a:pt x="151" y="106"/>
                    <a:pt x="286" y="94"/>
                    <a:pt x="366" y="81"/>
                  </a:cubicBezTo>
                  <a:cubicBezTo>
                    <a:pt x="446" y="68"/>
                    <a:pt x="505" y="49"/>
                    <a:pt x="568" y="36"/>
                  </a:cubicBezTo>
                  <a:cubicBezTo>
                    <a:pt x="631" y="23"/>
                    <a:pt x="709" y="8"/>
                    <a:pt x="746" y="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578640" y="4037760"/>
              <a:ext cx="792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494400" y="4056840"/>
              <a:ext cx="8100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414840" y="406476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737320" y="399888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96040" y="399888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8360" y="400212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865920" y="4002120"/>
              <a:ext cx="155520" cy="6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6332400" y="408060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5761080" y="4078440"/>
              <a:ext cx="79200" cy="79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5194080" y="4083840"/>
              <a:ext cx="79560" cy="79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525600" y="3998880"/>
            <a:ext cx="3587760" cy="204480"/>
            <a:chOff x="525600" y="3998880"/>
            <a:chExt cx="3587760" cy="204480"/>
          </a:xfrm>
        </p:grpSpPr>
        <p:grpSp>
          <p:nvGrpSpPr>
            <p:cNvPr id="830" name=""/>
            <p:cNvGrpSpPr/>
            <p:nvPr/>
          </p:nvGrpSpPr>
          <p:grpSpPr>
            <a:xfrm>
              <a:off x="2239560" y="3998880"/>
              <a:ext cx="1873800" cy="204480"/>
              <a:chOff x="2239560" y="3998880"/>
              <a:chExt cx="1873800" cy="204480"/>
            </a:xfrm>
          </p:grpSpPr>
          <p:sp>
            <p:nvSpPr>
              <p:cNvPr id="831" name=""/>
              <p:cNvSpPr/>
              <p:nvPr/>
            </p:nvSpPr>
            <p:spPr>
              <a:xfrm flipV="1">
                <a:off x="3752640" y="40374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3835440" y="40474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3915000" y="406728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855160" y="40744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017520" y="409824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937960" y="40910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2696400" y="405072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2775600" y="407124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444400" y="410472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52720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65560" y="409824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3262680" y="404424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3341520" y="406404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421080" y="40816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83440" y="410472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6660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4940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503880" y="409824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832200" y="411480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911760" y="409500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65920" y="41076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275560" y="4079520"/>
                <a:ext cx="177156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45480" y="408816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83120" y="41180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100320" y="411804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61000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692440" y="411480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772720" y="409500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282760" y="40816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2613960" y="40413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282040" y="4051440"/>
                <a:ext cx="62280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2368800" y="40672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2448360" y="40611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2531160" y="40413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92240" y="403884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2935080" y="406116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3097080" y="40341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3179880" y="403416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3014280" y="40539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464280" y="4060080"/>
                <a:ext cx="58824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3669840" y="40374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3586680" y="405720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3507120" y="40640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829240" y="399888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387960" y="399888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39560" y="40017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58200" y="40017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3424320" y="40816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2852280" y="407844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2286000" y="408492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525600" y="3998880"/>
              <a:ext cx="1873800" cy="204480"/>
              <a:chOff x="525600" y="3998880"/>
              <a:chExt cx="1873800" cy="204480"/>
            </a:xfrm>
          </p:grpSpPr>
          <p:sp>
            <p:nvSpPr>
              <p:cNvPr id="882" name=""/>
              <p:cNvSpPr/>
              <p:nvPr/>
            </p:nvSpPr>
            <p:spPr>
              <a:xfrm flipV="1">
                <a:off x="2038680" y="40374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121480" y="40474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2201040" y="406728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141200" y="40744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303560" y="409824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224000" y="40910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982440" y="405072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1061640" y="407124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30440" y="410472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324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1600" y="409824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1548720" y="404424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1627560" y="406404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707120" y="40816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869480" y="410472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95264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03544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789920" y="409824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118240" y="411480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197800" y="409500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551960" y="41076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61600" y="4079520"/>
                <a:ext cx="177156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631520" y="408816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69160" y="41180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386360" y="411804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96040" y="412416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978480" y="411480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058760" y="409500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8800" y="40816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V="1">
                <a:off x="900000" y="40413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68080" y="4051440"/>
                <a:ext cx="62280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654840" y="406728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734400" y="40611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817200" y="404136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178280" y="403884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221120" y="406116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383120" y="40341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1465920" y="403416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1300320" y="40539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750320" y="4060080"/>
                <a:ext cx="58824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1955880" y="403740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1872720" y="405720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1793160" y="40640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115280" y="399888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674000" y="399888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25600" y="40017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244240" y="40017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1710360" y="40816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1138320" y="407844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572040" y="408492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2" name=""/>
          <p:cNvGrpSpPr/>
          <p:nvPr/>
        </p:nvGrpSpPr>
        <p:grpSpPr>
          <a:xfrm>
            <a:off x="561960" y="2639880"/>
            <a:ext cx="3587760" cy="204480"/>
            <a:chOff x="561960" y="2639880"/>
            <a:chExt cx="3587760" cy="204480"/>
          </a:xfrm>
        </p:grpSpPr>
        <p:grpSp>
          <p:nvGrpSpPr>
            <p:cNvPr id="933" name=""/>
            <p:cNvGrpSpPr/>
            <p:nvPr/>
          </p:nvGrpSpPr>
          <p:grpSpPr>
            <a:xfrm>
              <a:off x="2275920" y="2639880"/>
              <a:ext cx="1873800" cy="204480"/>
              <a:chOff x="2275920" y="2639880"/>
              <a:chExt cx="1873800" cy="204480"/>
            </a:xfrm>
          </p:grpSpPr>
          <p:sp>
            <p:nvSpPr>
              <p:cNvPr id="934" name=""/>
              <p:cNvSpPr/>
              <p:nvPr/>
            </p:nvSpPr>
            <p:spPr>
              <a:xfrm>
                <a:off x="3789000" y="272592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871800" y="27158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951360" y="26960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2891520" y="26888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3053880" y="266652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2974320" y="26730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732760" y="271260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811960" y="269208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2480760" y="265932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6356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2401920" y="266652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99040" y="271980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77880" y="269928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3457440" y="26830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3619800" y="265932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370296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378576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3540240" y="266652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3868560" y="264996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3948120" y="266976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3302280" y="26564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2311920" y="2711160"/>
                <a:ext cx="177156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3381840" y="267588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3219480" y="26460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3136680" y="264600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264636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2728800" y="264996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2809080" y="266976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2319120" y="26830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650320" y="27226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318400" y="2680920"/>
                <a:ext cx="62280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405160" y="26960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484720" y="27028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567520" y="27226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2928600" y="271872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971440" y="270288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133440" y="27291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216240" y="272916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50640" y="27093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3500640" y="2691720"/>
                <a:ext cx="58824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706200" y="272592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623040" y="270612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543480" y="269928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65600" y="277524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3424320" y="277524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2275920" y="27723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3994560" y="27723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460680" y="26830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888640" y="268632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322360" y="267912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61960" y="2639880"/>
              <a:ext cx="1873800" cy="204480"/>
              <a:chOff x="561960" y="2639880"/>
              <a:chExt cx="1873800" cy="204480"/>
            </a:xfrm>
          </p:grpSpPr>
          <p:sp>
            <p:nvSpPr>
              <p:cNvPr id="985" name=""/>
              <p:cNvSpPr/>
              <p:nvPr/>
            </p:nvSpPr>
            <p:spPr>
              <a:xfrm>
                <a:off x="2075040" y="272592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157840" y="27158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237400" y="269604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1177560" y="26888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1339920" y="266652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260360" y="26730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018800" y="2712600"/>
                <a:ext cx="7884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098000" y="2692080"/>
                <a:ext cx="79560" cy="79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766800" y="265932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4960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687960" y="266652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585080" y="2719800"/>
                <a:ext cx="7848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663920" y="269928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1743480" y="268308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1905840" y="2659320"/>
                <a:ext cx="7992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198900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207180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1826280" y="266652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2154600" y="264996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2234160" y="266976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1588320" y="265644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597960" y="2711160"/>
                <a:ext cx="1771560" cy="5256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1667880" y="2675880"/>
                <a:ext cx="7848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1505520" y="264600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422720" y="2646000"/>
                <a:ext cx="7920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932400" y="2639880"/>
                <a:ext cx="79200" cy="79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014840" y="2649960"/>
                <a:ext cx="7992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1095120" y="2669760"/>
                <a:ext cx="7956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605160" y="2683080"/>
                <a:ext cx="7848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936360" y="27226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604440" y="2680920"/>
                <a:ext cx="622800" cy="11052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91200" y="269604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70760" y="27028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53560" y="2722680"/>
                <a:ext cx="78480" cy="78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1214640" y="2718720"/>
                <a:ext cx="694800" cy="8532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257480" y="2702880"/>
                <a:ext cx="79200" cy="78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419480" y="27291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502280" y="2729160"/>
                <a:ext cx="7848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336680" y="2709360"/>
                <a:ext cx="79560" cy="79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1786680" y="2691720"/>
                <a:ext cx="588240" cy="9144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992240" y="2725920"/>
                <a:ext cx="7956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09080" y="2706120"/>
                <a:ext cx="7992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829520" y="2699280"/>
                <a:ext cx="79200" cy="79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1151640" y="277524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1710360" y="2775240"/>
                <a:ext cx="15588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561960" y="27723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2280600" y="2772360"/>
                <a:ext cx="155160" cy="69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46720" y="2683080"/>
                <a:ext cx="79200" cy="78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174680" y="2686320"/>
                <a:ext cx="79200" cy="78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08400" y="2679120"/>
                <a:ext cx="79560" cy="7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5" name=""/>
          <p:cNvSpPr/>
          <p:nvPr/>
        </p:nvSpPr>
        <p:spPr>
          <a:xfrm>
            <a:off x="561960" y="2451240"/>
            <a:ext cx="0" cy="2019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639280" y="2451240"/>
            <a:ext cx="0" cy="2019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2964600" y="2933640"/>
            <a:ext cx="476280" cy="276480"/>
            <a:chOff x="2964600" y="2933640"/>
            <a:chExt cx="476280" cy="276480"/>
          </a:xfrm>
        </p:grpSpPr>
        <p:sp>
          <p:nvSpPr>
            <p:cNvPr id="1038" name=""/>
            <p:cNvSpPr/>
            <p:nvPr/>
          </p:nvSpPr>
          <p:spPr>
            <a:xfrm>
              <a:off x="3003120" y="2938320"/>
              <a:ext cx="380880" cy="26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64600" y="2933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fr-FR" sz="1200" spc="-1" strike="noStrike" baseline="30000">
                  <a:solidFill>
                    <a:srgbClr val="ffffff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966600" y="3406680"/>
            <a:ext cx="478080" cy="276480"/>
            <a:chOff x="966600" y="3406680"/>
            <a:chExt cx="478080" cy="276480"/>
          </a:xfrm>
        </p:grpSpPr>
        <p:sp>
          <p:nvSpPr>
            <p:cNvPr id="1041" name=""/>
            <p:cNvSpPr/>
            <p:nvPr/>
          </p:nvSpPr>
          <p:spPr>
            <a:xfrm>
              <a:off x="966600" y="3406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013040" y="3411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7507080" y="3139920"/>
            <a:ext cx="478080" cy="276480"/>
            <a:chOff x="7507080" y="3139920"/>
            <a:chExt cx="478080" cy="276480"/>
          </a:xfrm>
        </p:grpSpPr>
        <p:sp>
          <p:nvSpPr>
            <p:cNvPr id="1044" name=""/>
            <p:cNvSpPr/>
            <p:nvPr/>
          </p:nvSpPr>
          <p:spPr>
            <a:xfrm>
              <a:off x="7507080" y="313992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553520" y="314496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5995800" y="2946240"/>
            <a:ext cx="478080" cy="276480"/>
            <a:chOff x="5995800" y="2946240"/>
            <a:chExt cx="478080" cy="276480"/>
          </a:xfrm>
        </p:grpSpPr>
        <p:sp>
          <p:nvSpPr>
            <p:cNvPr id="1047" name=""/>
            <p:cNvSpPr/>
            <p:nvPr/>
          </p:nvSpPr>
          <p:spPr>
            <a:xfrm>
              <a:off x="5995800" y="294624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42240" y="295128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202560" y="3648240"/>
            <a:ext cx="476280" cy="276480"/>
            <a:chOff x="3202560" y="3648240"/>
            <a:chExt cx="476280" cy="276480"/>
          </a:xfrm>
        </p:grpSpPr>
        <p:sp>
          <p:nvSpPr>
            <p:cNvPr id="1050" name=""/>
            <p:cNvSpPr/>
            <p:nvPr/>
          </p:nvSpPr>
          <p:spPr>
            <a:xfrm>
              <a:off x="3241440" y="3652560"/>
              <a:ext cx="381240" cy="26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02560" y="36482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fr-FR" sz="1200" spc="-1" strike="noStrike" baseline="30000">
                  <a:solidFill>
                    <a:srgbClr val="ffffff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7107840" y="3562200"/>
            <a:ext cx="476280" cy="276480"/>
            <a:chOff x="7107840" y="3562200"/>
            <a:chExt cx="476280" cy="276480"/>
          </a:xfrm>
        </p:grpSpPr>
        <p:sp>
          <p:nvSpPr>
            <p:cNvPr id="1053" name=""/>
            <p:cNvSpPr/>
            <p:nvPr/>
          </p:nvSpPr>
          <p:spPr>
            <a:xfrm>
              <a:off x="7146720" y="3566880"/>
              <a:ext cx="381240" cy="26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07840" y="356220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r>
                <a:rPr b="1" lang="fr-FR" sz="1200" spc="-1" strike="noStrike" baseline="30000">
                  <a:solidFill>
                    <a:srgbClr val="ffffff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7040" y="5521320"/>
            <a:ext cx="819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perméabilisation de la membrane plasmique : le milieu intracellulaire équivaut au milieu extracell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7000" y="3801960"/>
            <a:ext cx="2444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 flipV="1">
            <a:off x="3246480" y="840240"/>
            <a:ext cx="1771200" cy="294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4180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052440" y="1409760"/>
            <a:ext cx="7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 flipV="1">
            <a:off x="3246480" y="840240"/>
            <a:ext cx="1771200" cy="294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4180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52440" y="1409760"/>
            <a:ext cx="7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Qu’est-ce qu’un musc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000" y="1434960"/>
            <a:ext cx="7986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= tissu capable de générer une force et de la transmet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génération de la forc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enzymatique : conversion de l'énergie chimique en énergie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ppareil contractile : système de conversion chimio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NB : il existe des systèmes de transduction chimiomécanique dans des cellules non musculaires, mais sans transmission de la for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orce générée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ouvements intracellul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déformations de la cell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battements de c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720" y="206280"/>
            <a:ext cx="7790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qu’est-ce qu’un musc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16200000">
            <a:off x="602928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903640" y="460224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8504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3246480" y="840240"/>
            <a:ext cx="1771200" cy="294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24180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2440" y="1409760"/>
            <a:ext cx="7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rot="16200000">
            <a:off x="602928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03640" y="460224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48504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1536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48520" y="14349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486560" y="2309760"/>
            <a:ext cx="10303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93680" y="206280"/>
            <a:ext cx="8457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et de l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925560" y="1992240"/>
            <a:ext cx="3573360" cy="215424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16200000">
            <a:off x="175572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 flipV="1">
            <a:off x="3246480" y="840240"/>
            <a:ext cx="1771200" cy="294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1226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00000">
            <a:off x="71280" y="2706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16856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21148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4180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052440" y="1409760"/>
            <a:ext cx="7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92700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7040" y="5521320"/>
            <a:ext cx="81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traction d’une fibre musculaire perméab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3320" y="206280"/>
            <a:ext cx="7145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927760" y="4378320"/>
            <a:ext cx="801720" cy="85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65960" y="5019840"/>
            <a:ext cx="799920" cy="85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010200" y="46148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548400" y="525456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396120" y="4173480"/>
            <a:ext cx="276120" cy="2383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6237360" y="438948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07640" y="417816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20251200">
            <a:off x="5362200" y="3069720"/>
            <a:ext cx="641520" cy="10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206960" y="32083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280200" y="3484440"/>
            <a:ext cx="615960" cy="676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473520" y="3660840"/>
            <a:ext cx="2890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05720" y="4083120"/>
            <a:ext cx="290520" cy="318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667560" y="4397400"/>
            <a:ext cx="250920" cy="276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684480" y="4078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671880" y="4370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4974840" y="982440"/>
            <a:ext cx="2963880" cy="1590840"/>
            <a:chOff x="4974840" y="982440"/>
            <a:chExt cx="2963880" cy="1590840"/>
          </a:xfrm>
        </p:grpSpPr>
        <p:sp>
          <p:nvSpPr>
            <p:cNvPr id="1193" name=""/>
            <p:cNvSpPr/>
            <p:nvPr/>
          </p:nvSpPr>
          <p:spPr>
            <a:xfrm flipV="1" rot="481200">
              <a:off x="6811560" y="1523520"/>
              <a:ext cx="298440" cy="60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902280" y="1523160"/>
              <a:ext cx="298800" cy="60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 flipV="1">
              <a:off x="6575400" y="1262160"/>
              <a:ext cx="4716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6399360" y="1135800"/>
              <a:ext cx="168120" cy="17964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6029280" y="982440"/>
              <a:ext cx="3729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4974840" y="982800"/>
              <a:ext cx="10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5003640" y="2284920"/>
              <a:ext cx="2935080" cy="288360"/>
              <a:chOff x="5003640" y="2284920"/>
              <a:chExt cx="2935080" cy="288360"/>
            </a:xfrm>
          </p:grpSpPr>
          <p:sp>
            <p:nvSpPr>
              <p:cNvPr id="1200" name=""/>
              <p:cNvSpPr/>
              <p:nvPr/>
            </p:nvSpPr>
            <p:spPr>
              <a:xfrm flipV="1">
                <a:off x="7522920" y="2289240"/>
                <a:ext cx="13752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7665120" y="2306880"/>
                <a:ext cx="13788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7803360" y="234036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986080" y="2351880"/>
                <a:ext cx="13752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263640" y="2394000"/>
                <a:ext cx="137520" cy="132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27920" y="238032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5715000" y="231372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5850360" y="234684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281560" y="2402640"/>
                <a:ext cx="137520" cy="1378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2376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146200" y="2394000"/>
                <a:ext cx="135360" cy="132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6685560" y="2302560"/>
                <a:ext cx="13284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6818760" y="233604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956640" y="236448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234560" y="2402640"/>
                <a:ext cx="137520" cy="1378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376400" y="2437920"/>
                <a:ext cx="13752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1860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098840" y="2394000"/>
                <a:ext cx="135360" cy="132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660800" y="242064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796160" y="238716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689880" y="24094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825240" y="237600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547680" y="2427120"/>
                <a:ext cx="13788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05480" y="2427120"/>
                <a:ext cx="13752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56560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707800" y="242064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43160" y="238716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03640" y="236448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V="1">
                <a:off x="5572440" y="22960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V="1">
                <a:off x="5152680" y="234036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5288040" y="2331360"/>
                <a:ext cx="135360" cy="133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5430240" y="22960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6123600" y="2331360"/>
                <a:ext cx="135360" cy="133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6401160" y="2284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6543000" y="2284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6258960" y="2318040"/>
                <a:ext cx="135360" cy="1371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7382880" y="228924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7241040" y="23248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7103520" y="2336040"/>
                <a:ext cx="13752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6960960" y="2364480"/>
                <a:ext cx="13788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V="1">
                <a:off x="5981400" y="235800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5010480" y="2368800"/>
                <a:ext cx="135360" cy="1378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V="1">
              <a:off x="6927840" y="2252520"/>
              <a:ext cx="227160" cy="100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7412400" y="3860640"/>
            <a:ext cx="144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n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3 sous-unité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65040" y="4367160"/>
            <a:ext cx="47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masquage du site de fixation de la 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as de formation de pont actomyo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as d’activité ATPasique de la 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71760" y="349092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b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69360" y="968400"/>
            <a:ext cx="3350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3320" y="206280"/>
            <a:ext cx="7145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27760" y="4378320"/>
            <a:ext cx="801720" cy="85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465960" y="5019840"/>
            <a:ext cx="799920" cy="85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010200" y="46148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548400" y="525456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396120" y="4173480"/>
            <a:ext cx="276120" cy="2383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6237360" y="438948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07640" y="417816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20251200">
            <a:off x="5362200" y="3069720"/>
            <a:ext cx="641520" cy="10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206960" y="32083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280200" y="3484440"/>
            <a:ext cx="615960" cy="676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473520" y="3660840"/>
            <a:ext cx="2890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4083120"/>
            <a:ext cx="290520" cy="318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667560" y="4397400"/>
            <a:ext cx="250920" cy="276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684480" y="4078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671880" y="4370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4974840" y="982440"/>
            <a:ext cx="2963880" cy="1590840"/>
            <a:chOff x="4974840" y="982440"/>
            <a:chExt cx="2963880" cy="1590840"/>
          </a:xfrm>
        </p:grpSpPr>
        <p:sp>
          <p:nvSpPr>
            <p:cNvPr id="1266" name=""/>
            <p:cNvSpPr/>
            <p:nvPr/>
          </p:nvSpPr>
          <p:spPr>
            <a:xfrm flipV="1" rot="481200">
              <a:off x="6811560" y="1523520"/>
              <a:ext cx="298440" cy="606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6902280" y="1523160"/>
              <a:ext cx="298800" cy="60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6575400" y="1262160"/>
              <a:ext cx="4716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6399360" y="1135800"/>
              <a:ext cx="168120" cy="17964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6029280" y="982440"/>
              <a:ext cx="3729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974840" y="982800"/>
              <a:ext cx="10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5003640" y="2284920"/>
              <a:ext cx="2935080" cy="288360"/>
              <a:chOff x="5003640" y="2284920"/>
              <a:chExt cx="2935080" cy="288360"/>
            </a:xfrm>
          </p:grpSpPr>
          <p:sp>
            <p:nvSpPr>
              <p:cNvPr id="1273" name=""/>
              <p:cNvSpPr/>
              <p:nvPr/>
            </p:nvSpPr>
            <p:spPr>
              <a:xfrm flipV="1">
                <a:off x="7522920" y="2289240"/>
                <a:ext cx="13752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7665120" y="2306880"/>
                <a:ext cx="13788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7803360" y="234036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86080" y="2351880"/>
                <a:ext cx="13752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63640" y="2394000"/>
                <a:ext cx="137520" cy="132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127920" y="238032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5715000" y="231372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5850360" y="234684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281560" y="2402640"/>
                <a:ext cx="137520" cy="1378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2376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146200" y="2394000"/>
                <a:ext cx="135360" cy="132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6685560" y="2302560"/>
                <a:ext cx="13284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818760" y="233604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956640" y="236448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34560" y="2402640"/>
                <a:ext cx="137520" cy="1378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376400" y="2437920"/>
                <a:ext cx="13752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51860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098840" y="2394000"/>
                <a:ext cx="135360" cy="132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660800" y="242064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796160" y="238716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89880" y="24094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825240" y="237600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47680" y="2427120"/>
                <a:ext cx="13788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05480" y="2427120"/>
                <a:ext cx="13752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565600" y="2437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07800" y="242064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843160" y="2387160"/>
                <a:ext cx="13788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03640" y="236448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5572440" y="22960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5152680" y="234036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5288040" y="2331360"/>
                <a:ext cx="135360" cy="133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5430240" y="22960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6123600" y="2331360"/>
                <a:ext cx="135360" cy="133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6401160" y="2284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6543000" y="228492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6258960" y="2318040"/>
                <a:ext cx="135360" cy="1371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7382880" y="2289240"/>
                <a:ext cx="135360" cy="137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7241040" y="2324880"/>
                <a:ext cx="13536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7103520" y="2336040"/>
                <a:ext cx="13752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6960960" y="2364480"/>
                <a:ext cx="137880" cy="13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5981400" y="2358000"/>
                <a:ext cx="135360" cy="135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V="1">
                <a:off x="5010480" y="2368800"/>
                <a:ext cx="135360" cy="1378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5" name=""/>
            <p:cNvSpPr/>
            <p:nvPr/>
          </p:nvSpPr>
          <p:spPr>
            <a:xfrm flipV="1">
              <a:off x="6927840" y="2252520"/>
              <a:ext cx="227160" cy="100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671760" y="3490920"/>
            <a:ext cx="19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69360" y="968400"/>
            <a:ext cx="3350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65920" y="39844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969240" y="4084560"/>
            <a:ext cx="11088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880320" y="4384800"/>
            <a:ext cx="11088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83280" y="4255920"/>
            <a:ext cx="111240" cy="11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149960" y="2251080"/>
            <a:ext cx="3996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769160" y="37036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42080" y="41608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997760" y="46688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442280" y="2098800"/>
            <a:ext cx="3960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378560" y="1971720"/>
            <a:ext cx="3996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75120" y="4367160"/>
            <a:ext cx="37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fixation du Ca</a:t>
            </a:r>
            <a:r>
              <a:rPr b="0" lang="fr-FR" sz="18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sur la troponin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3320" y="206280"/>
            <a:ext cx="7145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927760" y="4378320"/>
            <a:ext cx="801720" cy="85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65960" y="5019840"/>
            <a:ext cx="799920" cy="85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10200" y="46148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48400" y="525456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6237360" y="438948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607640" y="417816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rot="20251200">
            <a:off x="5362200" y="3069720"/>
            <a:ext cx="641520" cy="10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206960" y="320832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048440" y="4260960"/>
            <a:ext cx="290520" cy="318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014600" y="4281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71880" y="4370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 rot="481200">
            <a:off x="6811560" y="1523520"/>
            <a:ext cx="298440" cy="606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02280" y="1523160"/>
            <a:ext cx="298800" cy="60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 flipV="1">
            <a:off x="6575400" y="1262160"/>
            <a:ext cx="471600" cy="27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6399360" y="1135800"/>
            <a:ext cx="168120" cy="179640"/>
          </a:xfrm>
          <a:custGeom>
            <a:avLst/>
            <a:gdLst/>
            <a:ahLst/>
            <a:rect l="l" t="t" r="r" b="b"/>
            <a:pathLst>
              <a:path w="63" h="67">
                <a:moveTo>
                  <a:pt x="63" y="20"/>
                </a:moveTo>
                <a:cubicBezTo>
                  <a:pt x="52" y="10"/>
                  <a:pt x="41" y="0"/>
                  <a:pt x="39" y="5"/>
                </a:cubicBezTo>
                <a:cubicBezTo>
                  <a:pt x="37" y="10"/>
                  <a:pt x="51" y="48"/>
                  <a:pt x="48" y="50"/>
                </a:cubicBezTo>
                <a:cubicBezTo>
                  <a:pt x="45" y="52"/>
                  <a:pt x="22" y="15"/>
                  <a:pt x="18" y="17"/>
                </a:cubicBezTo>
                <a:cubicBezTo>
                  <a:pt x="14" y="19"/>
                  <a:pt x="27" y="57"/>
                  <a:pt x="24" y="62"/>
                </a:cubicBezTo>
                <a:cubicBezTo>
                  <a:pt x="21" y="67"/>
                  <a:pt x="10" y="57"/>
                  <a:pt x="0" y="4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 flipV="1">
            <a:off x="6029280" y="982440"/>
            <a:ext cx="37296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4974840" y="98280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5003640" y="2284920"/>
            <a:ext cx="2935080" cy="288360"/>
            <a:chOff x="5003640" y="2284920"/>
            <a:chExt cx="2935080" cy="288360"/>
          </a:xfrm>
        </p:grpSpPr>
        <p:sp>
          <p:nvSpPr>
            <p:cNvPr id="1350" name=""/>
            <p:cNvSpPr/>
            <p:nvPr/>
          </p:nvSpPr>
          <p:spPr>
            <a:xfrm flipV="1">
              <a:off x="7522920" y="2289240"/>
              <a:ext cx="13752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665120" y="2306880"/>
              <a:ext cx="13788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7803360" y="234036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986080" y="2351880"/>
              <a:ext cx="13752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63640" y="2394000"/>
              <a:ext cx="137520" cy="132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127920" y="238032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5715000" y="231372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5850360" y="234684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281560" y="2402640"/>
              <a:ext cx="137520" cy="137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2376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146200" y="2394000"/>
              <a:ext cx="135360" cy="132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6685560" y="2302560"/>
              <a:ext cx="13284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6818760" y="233604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956640" y="236448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234560" y="2402640"/>
              <a:ext cx="137520" cy="137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76400" y="2437920"/>
              <a:ext cx="13752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51860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098840" y="2394000"/>
              <a:ext cx="135360" cy="132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660800" y="242064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796160" y="238716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89880" y="24094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825240" y="237600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547680" y="2427120"/>
              <a:ext cx="13788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405480" y="2427120"/>
              <a:ext cx="13752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56560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707800" y="242064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43160" y="238716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03640" y="236448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5572440" y="22960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5152680" y="234036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5288040" y="2331360"/>
              <a:ext cx="13536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5430240" y="22960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6123600" y="2331360"/>
              <a:ext cx="135360" cy="133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6401160" y="2284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6543000" y="2284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6258960" y="2318040"/>
              <a:ext cx="135360" cy="137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7382880" y="228924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7241040" y="23248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7103520" y="2336040"/>
              <a:ext cx="13752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6960960" y="2364480"/>
              <a:ext cx="13788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5981400" y="235800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010480" y="2368800"/>
              <a:ext cx="135360" cy="1378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2" name=""/>
          <p:cNvSpPr/>
          <p:nvPr/>
        </p:nvSpPr>
        <p:spPr>
          <a:xfrm flipV="1">
            <a:off x="6991200" y="2455920"/>
            <a:ext cx="227160" cy="100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69360" y="968400"/>
            <a:ext cx="3350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635880" y="4375080"/>
            <a:ext cx="276120" cy="2383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6234120" y="439092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196040" y="416232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324560" y="426240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210440" y="45626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338960" y="443376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585120" y="3700440"/>
            <a:ext cx="615960" cy="676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727680" y="3876840"/>
            <a:ext cx="2890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896160" y="4537080"/>
            <a:ext cx="250920" cy="276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1760" y="3490920"/>
            <a:ext cx="19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769160" y="37036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642080" y="41608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997760" y="46688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442280" y="2098800"/>
            <a:ext cx="3960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378560" y="1971720"/>
            <a:ext cx="3996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149960" y="2543040"/>
            <a:ext cx="3996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65760" y="4367160"/>
            <a:ext cx="499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fixation du Ca</a:t>
            </a:r>
            <a:r>
              <a:rPr b="0" lang="fr-FR" sz="18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sur la troponin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placement de la troponine (T, C &amp;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placement de la tropo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masquage du site de fixation de la 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476440" y="431640"/>
            <a:ext cx="3471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93320" y="206280"/>
            <a:ext cx="7145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927760" y="4378320"/>
            <a:ext cx="801720" cy="857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65960" y="5019840"/>
            <a:ext cx="799920" cy="857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10200" y="46148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548400" y="525456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237360" y="438948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607640" y="417816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opo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rot="20251200">
            <a:off x="5895720" y="3375000"/>
            <a:ext cx="641160" cy="10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613400" y="35654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yos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048440" y="4260960"/>
            <a:ext cx="290520" cy="318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014600" y="4281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71880" y="4370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 rot="481200">
            <a:off x="6811560" y="1764360"/>
            <a:ext cx="298440" cy="606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6902280" y="1765440"/>
            <a:ext cx="298800" cy="606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 flipV="1">
            <a:off x="6575400" y="1503360"/>
            <a:ext cx="471600" cy="27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399360" y="1378080"/>
            <a:ext cx="168120" cy="179280"/>
          </a:xfrm>
          <a:custGeom>
            <a:avLst/>
            <a:gdLst/>
            <a:ahLst/>
            <a:rect l="l" t="t" r="r" b="b"/>
            <a:pathLst>
              <a:path w="63" h="67">
                <a:moveTo>
                  <a:pt x="63" y="20"/>
                </a:moveTo>
                <a:cubicBezTo>
                  <a:pt x="52" y="10"/>
                  <a:pt x="41" y="0"/>
                  <a:pt x="39" y="5"/>
                </a:cubicBezTo>
                <a:cubicBezTo>
                  <a:pt x="37" y="10"/>
                  <a:pt x="51" y="48"/>
                  <a:pt x="48" y="50"/>
                </a:cubicBezTo>
                <a:cubicBezTo>
                  <a:pt x="45" y="52"/>
                  <a:pt x="22" y="15"/>
                  <a:pt x="18" y="17"/>
                </a:cubicBezTo>
                <a:cubicBezTo>
                  <a:pt x="14" y="19"/>
                  <a:pt x="27" y="57"/>
                  <a:pt x="24" y="62"/>
                </a:cubicBezTo>
                <a:cubicBezTo>
                  <a:pt x="21" y="67"/>
                  <a:pt x="10" y="57"/>
                  <a:pt x="0" y="4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 flipV="1">
            <a:off x="6029280" y="1224000"/>
            <a:ext cx="3729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4974840" y="122400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5003640" y="2284920"/>
            <a:ext cx="2935080" cy="288360"/>
            <a:chOff x="5003640" y="2284920"/>
            <a:chExt cx="2935080" cy="288360"/>
          </a:xfrm>
        </p:grpSpPr>
        <p:sp>
          <p:nvSpPr>
            <p:cNvPr id="1432" name=""/>
            <p:cNvSpPr/>
            <p:nvPr/>
          </p:nvSpPr>
          <p:spPr>
            <a:xfrm flipV="1">
              <a:off x="7522920" y="2289240"/>
              <a:ext cx="13752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7665120" y="2306880"/>
              <a:ext cx="13788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7803360" y="234036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86080" y="2351880"/>
              <a:ext cx="13752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263640" y="2394000"/>
              <a:ext cx="137520" cy="132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127920" y="238032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5715000" y="231372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5850360" y="234684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281560" y="2402640"/>
              <a:ext cx="137520" cy="137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42376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46200" y="2394000"/>
              <a:ext cx="135360" cy="132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6685560" y="2302560"/>
              <a:ext cx="13284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818760" y="233604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956640" y="236448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34560" y="2402640"/>
              <a:ext cx="137520" cy="137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376400" y="2437920"/>
              <a:ext cx="13752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51860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98840" y="2394000"/>
              <a:ext cx="135360" cy="132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660800" y="242064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96160" y="238716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89880" y="24094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825240" y="237600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547680" y="2427120"/>
              <a:ext cx="13788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405480" y="2427120"/>
              <a:ext cx="13752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565600" y="2437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07800" y="242064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3160" y="2387160"/>
              <a:ext cx="13788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003640" y="236448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5572440" y="22960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5152680" y="234036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288040" y="2331360"/>
              <a:ext cx="13536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5430240" y="22960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6123600" y="2331360"/>
              <a:ext cx="135360" cy="133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6401160" y="2284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543000" y="228492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6258960" y="2318040"/>
              <a:ext cx="135360" cy="137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7382880" y="2289240"/>
              <a:ext cx="135360" cy="137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7241040" y="2324880"/>
              <a:ext cx="13536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7103520" y="2336040"/>
              <a:ext cx="13752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6960960" y="2364480"/>
              <a:ext cx="137880" cy="135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981400" y="2358000"/>
              <a:ext cx="135360" cy="135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5010480" y="2368800"/>
              <a:ext cx="135360" cy="1378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 flipV="1">
            <a:off x="6991200" y="2455920"/>
            <a:ext cx="227160" cy="100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9360" y="968400"/>
            <a:ext cx="3350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65760" y="4367160"/>
            <a:ext cx="499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fixation du Ca</a:t>
            </a:r>
            <a:r>
              <a:rPr b="0" lang="fr-FR" sz="18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sur la troponin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placement de la troponine (T, C &amp;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placement de la tropo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démasquage du site de fixation de la myo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635880" y="4375080"/>
            <a:ext cx="276120" cy="2383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6234120" y="4390920"/>
            <a:ext cx="158760" cy="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196040" y="416232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324560" y="426240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10440" y="45626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338960" y="443376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585120" y="3700440"/>
            <a:ext cx="615960" cy="676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727680" y="3876840"/>
            <a:ext cx="2890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896160" y="4537080"/>
            <a:ext cx="250920" cy="276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71760" y="3490920"/>
            <a:ext cx="19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769160" y="37036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642080" y="416088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997760" y="4668840"/>
            <a:ext cx="1112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442280" y="2098800"/>
            <a:ext cx="3960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378560" y="1971720"/>
            <a:ext cx="3996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149960" y="2543040"/>
            <a:ext cx="3996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71480" y="2752560"/>
            <a:ext cx="4486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ormation du pont actomyos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7365960" y="1930320"/>
            <a:ext cx="0" cy="264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2346480" y="2896920"/>
            <a:ext cx="5227920" cy="1665000"/>
            <a:chOff x="2346480" y="2896920"/>
            <a:chExt cx="5227920" cy="1665000"/>
          </a:xfrm>
        </p:grpSpPr>
        <p:sp>
          <p:nvSpPr>
            <p:cNvPr id="1499" name=""/>
            <p:cNvSpPr/>
            <p:nvPr/>
          </p:nvSpPr>
          <p:spPr>
            <a:xfrm rot="21118800">
              <a:off x="7020000" y="2922120"/>
              <a:ext cx="425160" cy="867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149240" y="2922480"/>
              <a:ext cx="425160" cy="86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6680880" y="3773880"/>
              <a:ext cx="67392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429600" y="4086360"/>
              <a:ext cx="239760" cy="254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5900760" y="4253760"/>
              <a:ext cx="53208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2346480" y="4561920"/>
              <a:ext cx="356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4437000" y="2290680"/>
            <a:ext cx="4191840" cy="412560"/>
            <a:chOff x="4437000" y="2290680"/>
            <a:chExt cx="4191840" cy="412560"/>
          </a:xfrm>
        </p:grpSpPr>
        <p:sp>
          <p:nvSpPr>
            <p:cNvPr id="1506" name=""/>
            <p:cNvSpPr/>
            <p:nvPr/>
          </p:nvSpPr>
          <p:spPr>
            <a:xfrm>
              <a:off x="8035200" y="2500200"/>
              <a:ext cx="19620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238240" y="2475000"/>
              <a:ext cx="1969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435520" y="242748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839920" y="2411640"/>
              <a:ext cx="19620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6236280" y="2357640"/>
              <a:ext cx="196200" cy="190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6042960" y="237348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452920" y="24685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646240" y="242100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4834080" y="2338200"/>
              <a:ext cx="196200" cy="197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03676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4640400" y="2357640"/>
              <a:ext cx="193320" cy="190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39280" y="2484360"/>
              <a:ext cx="1897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029360" y="243684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7226640" y="239580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7623000" y="2338200"/>
              <a:ext cx="196200" cy="197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7826040" y="2290680"/>
              <a:ext cx="19620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802908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7429680" y="2357640"/>
              <a:ext cx="193320" cy="190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8231760" y="23158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8425440" y="236340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6845040" y="2331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7038720" y="237924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6642360" y="2306520"/>
              <a:ext cx="1969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6439320" y="2306520"/>
              <a:ext cx="19620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523980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5442840" y="23158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5636160" y="236340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4437000" y="239580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249160" y="2493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49760" y="242748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843440" y="2446200"/>
              <a:ext cx="193320" cy="190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046120" y="2493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036480" y="2446200"/>
              <a:ext cx="193320" cy="190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432840" y="25095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635880" y="25095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230160" y="2459160"/>
              <a:ext cx="193320" cy="196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835400" y="250020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632360" y="245268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435800" y="2436840"/>
              <a:ext cx="19620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232400" y="2395800"/>
              <a:ext cx="1969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33440" y="24051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446720" y="2385720"/>
              <a:ext cx="193320" cy="197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7184880" y="2604960"/>
            <a:ext cx="324000" cy="142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7440120" y="3406680"/>
            <a:ext cx="622800" cy="565560"/>
            <a:chOff x="7440120" y="3406680"/>
            <a:chExt cx="622800" cy="565560"/>
          </a:xfrm>
        </p:grpSpPr>
        <p:sp>
          <p:nvSpPr>
            <p:cNvPr id="1550" name=""/>
            <p:cNvSpPr/>
            <p:nvPr/>
          </p:nvSpPr>
          <p:spPr>
            <a:xfrm>
              <a:off x="7520040" y="342252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572240" y="340668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451640" y="368604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440120" y="36957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228600" y="219240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pont actomyosique, y compris en présence d'AT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298680" y="4722840"/>
            <a:ext cx="542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DP et Pi fixés à la tête de myosine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angle de 90° (conformation pour laquelle l'énergie libre est minim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557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9" name=""/>
          <p:cNvSpPr/>
          <p:nvPr/>
        </p:nvSpPr>
        <p:spPr>
          <a:xfrm>
            <a:off x="237960" y="3286080"/>
            <a:ext cx="415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sine = forte affinité pour l'ADP et le phosphate inorganique (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23920" y="849240"/>
            <a:ext cx="516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b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asquage du site de fixation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2346480" y="1644480"/>
            <a:ext cx="6282000" cy="2917440"/>
            <a:chOff x="2346480" y="1644480"/>
            <a:chExt cx="6282000" cy="2917440"/>
          </a:xfrm>
        </p:grpSpPr>
        <p:grpSp>
          <p:nvGrpSpPr>
            <p:cNvPr id="1567" name=""/>
            <p:cNvGrpSpPr/>
            <p:nvPr/>
          </p:nvGrpSpPr>
          <p:grpSpPr>
            <a:xfrm>
              <a:off x="2346480" y="2896920"/>
              <a:ext cx="5227920" cy="1665000"/>
              <a:chOff x="2346480" y="2896920"/>
              <a:chExt cx="5227920" cy="1665000"/>
            </a:xfrm>
          </p:grpSpPr>
          <p:sp>
            <p:nvSpPr>
              <p:cNvPr id="1568" name=""/>
              <p:cNvSpPr/>
              <p:nvPr/>
            </p:nvSpPr>
            <p:spPr>
              <a:xfrm rot="21118800">
                <a:off x="7020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149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6680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429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5900760" y="4253760"/>
                <a:ext cx="53208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2346480" y="4561920"/>
                <a:ext cx="356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4437000" y="2290680"/>
              <a:ext cx="4191480" cy="412560"/>
              <a:chOff x="4437000" y="2290680"/>
              <a:chExt cx="4191480" cy="412560"/>
            </a:xfrm>
          </p:grpSpPr>
          <p:sp>
            <p:nvSpPr>
              <p:cNvPr id="1575" name=""/>
              <p:cNvSpPr/>
              <p:nvPr/>
            </p:nvSpPr>
            <p:spPr>
              <a:xfrm>
                <a:off x="8035200" y="250020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8237880" y="2475000"/>
                <a:ext cx="1969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8435160" y="24274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V="1">
                <a:off x="5839920" y="241164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6236280" y="2357640"/>
                <a:ext cx="196200" cy="190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6042600" y="23734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452920" y="24685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646240" y="24210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4834080" y="233820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503676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4640400" y="235764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839280" y="2484360"/>
                <a:ext cx="1897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029360" y="243684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7226280" y="239580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7622640" y="233820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V="1">
                <a:off x="7825680" y="2290680"/>
                <a:ext cx="19620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802872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7429320" y="235764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8231400" y="2315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8425080" y="236340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6845040" y="2331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7038720" y="237924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6642000" y="230652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6439320" y="230652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V="1">
                <a:off x="523980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5442840" y="2315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5636160" y="236340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4437000" y="239580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49160" y="2493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649760" y="24274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843440" y="2446200"/>
                <a:ext cx="193320" cy="190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046120" y="2493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036120" y="2446200"/>
                <a:ext cx="193320" cy="19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432840" y="25095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635520" y="25095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229800" y="2459160"/>
                <a:ext cx="193320" cy="196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835040" y="250020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632000" y="24526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435800" y="243684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232040" y="239580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833440" y="24051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446720" y="2385720"/>
                <a:ext cx="193320" cy="197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>
              <a:off x="7184880" y="260496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547040" y="198756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607080" y="180972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394400" y="221616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92880" y="1644480"/>
              <a:ext cx="788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76880" y="200016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394400" y="268596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4" name=""/>
            <p:cNvGrpSpPr/>
            <p:nvPr/>
          </p:nvGrpSpPr>
          <p:grpSpPr>
            <a:xfrm>
              <a:off x="7439760" y="3406680"/>
              <a:ext cx="622440" cy="565560"/>
              <a:chOff x="7439760" y="3406680"/>
              <a:chExt cx="622440" cy="565560"/>
            </a:xfrm>
          </p:grpSpPr>
          <p:sp>
            <p:nvSpPr>
              <p:cNvPr id="1625" name=""/>
              <p:cNvSpPr/>
              <p:nvPr/>
            </p:nvSpPr>
            <p:spPr>
              <a:xfrm>
                <a:off x="7519680" y="3422520"/>
                <a:ext cx="54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571880" y="3406680"/>
                <a:ext cx="41868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51280" y="3686040"/>
                <a:ext cx="28548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43976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9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630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2" name=""/>
          <p:cNvSpPr/>
          <p:nvPr/>
        </p:nvSpPr>
        <p:spPr>
          <a:xfrm>
            <a:off x="237960" y="3286080"/>
            <a:ext cx="41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28600" y="2192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-212040" y="849240"/>
            <a:ext cx="435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fixation du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sur la troponin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640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2346480" y="2076480"/>
            <a:ext cx="6297840" cy="2485440"/>
            <a:chOff x="2346480" y="2076480"/>
            <a:chExt cx="6297840" cy="2485440"/>
          </a:xfrm>
        </p:grpSpPr>
        <p:grpSp>
          <p:nvGrpSpPr>
            <p:cNvPr id="1643" name=""/>
            <p:cNvGrpSpPr/>
            <p:nvPr/>
          </p:nvGrpSpPr>
          <p:grpSpPr>
            <a:xfrm>
              <a:off x="4451400" y="2304720"/>
              <a:ext cx="4192920" cy="412200"/>
              <a:chOff x="4451400" y="2304720"/>
              <a:chExt cx="4192920" cy="412200"/>
            </a:xfrm>
          </p:grpSpPr>
          <p:sp>
            <p:nvSpPr>
              <p:cNvPr id="1644" name=""/>
              <p:cNvSpPr/>
              <p:nvPr/>
            </p:nvSpPr>
            <p:spPr>
              <a:xfrm>
                <a:off x="805068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825372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845100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5854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6251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6057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467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66100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484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5051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465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85440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04448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724176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763812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784116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804420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744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824724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844092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686016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705384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665712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6454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25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545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565092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4451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263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664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857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060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051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447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65064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244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85052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64748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451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247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84820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461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>
              <a:off x="7248600" y="2343240"/>
              <a:ext cx="32328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547040" y="207648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51680" y="215280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651360" y="293364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94400" y="23050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2346480" y="2896920"/>
              <a:ext cx="5227920" cy="1665000"/>
              <a:chOff x="2346480" y="2896920"/>
              <a:chExt cx="5227920" cy="1665000"/>
            </a:xfrm>
          </p:grpSpPr>
          <p:sp>
            <p:nvSpPr>
              <p:cNvPr id="1692" name=""/>
              <p:cNvSpPr/>
              <p:nvPr/>
            </p:nvSpPr>
            <p:spPr>
              <a:xfrm rot="21118800">
                <a:off x="7020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149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6680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429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5900760" y="4253760"/>
                <a:ext cx="53208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2346480" y="4561920"/>
                <a:ext cx="356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7439760" y="3406680"/>
              <a:ext cx="622440" cy="565560"/>
              <a:chOff x="7439760" y="3406680"/>
              <a:chExt cx="622440" cy="565560"/>
            </a:xfrm>
          </p:grpSpPr>
          <p:sp>
            <p:nvSpPr>
              <p:cNvPr id="1699" name=""/>
              <p:cNvSpPr/>
              <p:nvPr/>
            </p:nvSpPr>
            <p:spPr>
              <a:xfrm>
                <a:off x="7519680" y="3422520"/>
                <a:ext cx="54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571880" y="3406680"/>
                <a:ext cx="41868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451280" y="3686040"/>
                <a:ext cx="28548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43976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3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37960" y="3286080"/>
            <a:ext cx="41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-225720" y="849240"/>
            <a:ext cx="38397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fixé sur la troponin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éplacement de la tropo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28600" y="219240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émasquage du site de fi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712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2358720" y="2076480"/>
            <a:ext cx="6285960" cy="2158200"/>
            <a:chOff x="2358720" y="2076480"/>
            <a:chExt cx="6285960" cy="2158200"/>
          </a:xfrm>
        </p:grpSpPr>
        <p:grpSp>
          <p:nvGrpSpPr>
            <p:cNvPr id="1715" name=""/>
            <p:cNvGrpSpPr/>
            <p:nvPr/>
          </p:nvGrpSpPr>
          <p:grpSpPr>
            <a:xfrm>
              <a:off x="7440120" y="3089160"/>
              <a:ext cx="622800" cy="565560"/>
              <a:chOff x="7440120" y="3089160"/>
              <a:chExt cx="622800" cy="565560"/>
            </a:xfrm>
          </p:grpSpPr>
          <p:sp>
            <p:nvSpPr>
              <p:cNvPr id="1716" name=""/>
              <p:cNvSpPr/>
              <p:nvPr/>
            </p:nvSpPr>
            <p:spPr>
              <a:xfrm>
                <a:off x="7520040" y="310500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572240" y="308916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451640" y="336852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440120" y="33782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4451400" y="2304720"/>
              <a:ext cx="4193280" cy="412200"/>
              <a:chOff x="4451400" y="2304720"/>
              <a:chExt cx="4193280" cy="412200"/>
            </a:xfrm>
          </p:grpSpPr>
          <p:sp>
            <p:nvSpPr>
              <p:cNvPr id="1721" name=""/>
              <p:cNvSpPr/>
              <p:nvPr/>
            </p:nvSpPr>
            <p:spPr>
              <a:xfrm>
                <a:off x="8051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8254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451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5854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6251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V="1">
                <a:off x="6057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467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661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484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051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465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854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044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7242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763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7841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804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744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824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8441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6860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7054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657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6454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525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545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5651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>
                <a:off x="4451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263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664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857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060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051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447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651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244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850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647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451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247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848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461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3" name=""/>
            <p:cNvSpPr/>
            <p:nvPr/>
          </p:nvSpPr>
          <p:spPr>
            <a:xfrm>
              <a:off x="7248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4" name=""/>
            <p:cNvGrpSpPr/>
            <p:nvPr/>
          </p:nvGrpSpPr>
          <p:grpSpPr>
            <a:xfrm>
              <a:off x="2358720" y="2568240"/>
              <a:ext cx="5231880" cy="1666440"/>
              <a:chOff x="2358720" y="2568240"/>
              <a:chExt cx="5231880" cy="1666440"/>
            </a:xfrm>
          </p:grpSpPr>
          <p:sp>
            <p:nvSpPr>
              <p:cNvPr id="1765" name=""/>
              <p:cNvSpPr/>
              <p:nvPr/>
            </p:nvSpPr>
            <p:spPr>
              <a:xfrm rot="21118800">
                <a:off x="7035120" y="2593440"/>
                <a:ext cx="425520" cy="867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165080" y="2593800"/>
                <a:ext cx="425520" cy="86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6695640" y="3446280"/>
                <a:ext cx="674280" cy="38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444720" y="37587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5915160" y="3926520"/>
                <a:ext cx="532440" cy="30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2358720" y="4234680"/>
                <a:ext cx="356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7547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51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651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394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5" name=""/>
          <p:cNvSpPr/>
          <p:nvPr/>
        </p:nvSpPr>
        <p:spPr>
          <a:xfrm>
            <a:off x="228600" y="2192400"/>
            <a:ext cx="396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émasquage du site de fi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formation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37960" y="3286080"/>
            <a:ext cx="41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" y="1432080"/>
            <a:ext cx="7986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= tissu capable de générer une force et de la transmet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génération de la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enzymatique : conversion de l'énergie chimique en énergie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ppareil contractile : système de conversion chimio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ransmission de la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du muscle (niveaux cellulaire et tissulair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transmission de la force musculaire génér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raccourcissement du muscle ou opposition à son allongement.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Qu’est-ce qu’un musc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720" y="206280"/>
            <a:ext cx="77904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qu’est-ce qu’un musc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784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nt actomyosique for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2358720" y="2076480"/>
            <a:ext cx="6285960" cy="2158200"/>
            <a:chOff x="2358720" y="2076480"/>
            <a:chExt cx="6285960" cy="2158200"/>
          </a:xfrm>
        </p:grpSpPr>
        <p:grpSp>
          <p:nvGrpSpPr>
            <p:cNvPr id="1789" name=""/>
            <p:cNvGrpSpPr/>
            <p:nvPr/>
          </p:nvGrpSpPr>
          <p:grpSpPr>
            <a:xfrm>
              <a:off x="4451400" y="2304720"/>
              <a:ext cx="4193280" cy="412200"/>
              <a:chOff x="4451400" y="2304720"/>
              <a:chExt cx="4193280" cy="412200"/>
            </a:xfrm>
          </p:grpSpPr>
          <p:sp>
            <p:nvSpPr>
              <p:cNvPr id="1790" name=""/>
              <p:cNvSpPr/>
              <p:nvPr/>
            </p:nvSpPr>
            <p:spPr>
              <a:xfrm>
                <a:off x="8051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8254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8451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5854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6251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6057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467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661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484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5051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465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854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044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7242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7638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7841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804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7444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824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8441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6860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7054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6657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6454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5254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5457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5651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4451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63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664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857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60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051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447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651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244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50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647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451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247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848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61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>
              <a:off x="7248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3" name=""/>
            <p:cNvGrpSpPr/>
            <p:nvPr/>
          </p:nvGrpSpPr>
          <p:grpSpPr>
            <a:xfrm>
              <a:off x="2358720" y="2568240"/>
              <a:ext cx="5231880" cy="1666440"/>
              <a:chOff x="2358720" y="2568240"/>
              <a:chExt cx="5231880" cy="1666440"/>
            </a:xfrm>
          </p:grpSpPr>
          <p:sp>
            <p:nvSpPr>
              <p:cNvPr id="1834" name=""/>
              <p:cNvSpPr/>
              <p:nvPr/>
            </p:nvSpPr>
            <p:spPr>
              <a:xfrm rot="21118800">
                <a:off x="7035120" y="2593440"/>
                <a:ext cx="425520" cy="867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165080" y="2593800"/>
                <a:ext cx="425520" cy="86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6695640" y="3446280"/>
                <a:ext cx="674280" cy="38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444720" y="37587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5915160" y="3926520"/>
                <a:ext cx="532440" cy="30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2358720" y="4234680"/>
                <a:ext cx="356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7547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051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51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394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850160" y="324468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902360" y="322884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603920" y="380052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592400" y="380988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'ADP et Pi se détachent de la tête de myosine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faible affinité quand myosine fixée sur act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8065800" y="3838680"/>
            <a:ext cx="478080" cy="276480"/>
            <a:chOff x="8065800" y="3838680"/>
            <a:chExt cx="478080" cy="276480"/>
          </a:xfrm>
        </p:grpSpPr>
        <p:sp>
          <p:nvSpPr>
            <p:cNvPr id="1855" name=""/>
            <p:cNvSpPr/>
            <p:nvPr/>
          </p:nvSpPr>
          <p:spPr>
            <a:xfrm>
              <a:off x="8065800" y="38386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112240" y="3843720"/>
              <a:ext cx="380880" cy="26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'ADP et Pi détach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5904720" y="3281040"/>
            <a:ext cx="1346400" cy="959040"/>
            <a:chOff x="5904720" y="3281040"/>
            <a:chExt cx="1346400" cy="959040"/>
          </a:xfrm>
        </p:grpSpPr>
        <p:sp>
          <p:nvSpPr>
            <p:cNvPr id="1860" name=""/>
            <p:cNvSpPr/>
            <p:nvPr/>
          </p:nvSpPr>
          <p:spPr>
            <a:xfrm flipH="1">
              <a:off x="6630840" y="3281040"/>
              <a:ext cx="62028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rot="21178200">
              <a:off x="6387480" y="3687120"/>
              <a:ext cx="240840" cy="25416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5904720" y="3869640"/>
              <a:ext cx="491400" cy="3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3" name=""/>
          <p:cNvSpPr/>
          <p:nvPr/>
        </p:nvSpPr>
        <p:spPr>
          <a:xfrm flipH="1">
            <a:off x="2352600" y="4249800"/>
            <a:ext cx="35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3797280" y="2090880"/>
            <a:ext cx="4193280" cy="1355760"/>
            <a:chOff x="3797280" y="2090880"/>
            <a:chExt cx="4193280" cy="1355760"/>
          </a:xfrm>
        </p:grpSpPr>
        <p:grpSp>
          <p:nvGrpSpPr>
            <p:cNvPr id="1865" name=""/>
            <p:cNvGrpSpPr/>
            <p:nvPr/>
          </p:nvGrpSpPr>
          <p:grpSpPr>
            <a:xfrm>
              <a:off x="3797280" y="2318760"/>
              <a:ext cx="4193280" cy="412560"/>
              <a:chOff x="3797280" y="2318760"/>
              <a:chExt cx="4193280" cy="412560"/>
            </a:xfrm>
          </p:grpSpPr>
          <p:sp>
            <p:nvSpPr>
              <p:cNvPr id="1866" name=""/>
              <p:cNvSpPr/>
              <p:nvPr/>
            </p:nvSpPr>
            <p:spPr>
              <a:xfrm>
                <a:off x="7396920" y="252828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599960" y="2503080"/>
                <a:ext cx="1969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797240" y="245556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5200560" y="243972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5597280" y="2385720"/>
                <a:ext cx="196200" cy="190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5403600" y="240156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813560" y="24966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007240" y="24490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4194360" y="236628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439740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V="1">
                <a:off x="4000680" y="238572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200640" y="2512440"/>
                <a:ext cx="1897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390720" y="246492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6588000" y="2423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6984360" y="236628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7187400" y="2318760"/>
                <a:ext cx="19620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739044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6790680" y="238572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V="1">
                <a:off x="7593480" y="23439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7787160" y="239148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206400" y="2359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V="1">
                <a:off x="6400080" y="24073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V="1">
                <a:off x="6003360" y="233460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5800320" y="233460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460044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4803480" y="23439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4997160" y="239148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3797280" y="2423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609800" y="2521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010040" y="245556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203720" y="2474280"/>
                <a:ext cx="193320" cy="190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406760" y="2521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397120" y="2474280"/>
                <a:ext cx="193320" cy="19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793840" y="25376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996880" y="25376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590800" y="2487240"/>
                <a:ext cx="193320" cy="196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196760" y="25282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993720" y="248076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797160" y="246492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93400" y="242388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194440" y="24332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807000" y="2413800"/>
                <a:ext cx="193320" cy="197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8" name=""/>
            <p:cNvSpPr/>
            <p:nvPr/>
          </p:nvSpPr>
          <p:spPr>
            <a:xfrm>
              <a:off x="6593760" y="235692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rot="18858000">
              <a:off x="6681240" y="2558520"/>
              <a:ext cx="425160" cy="866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rot="18989400">
              <a:off x="6778080" y="2525040"/>
              <a:ext cx="425160" cy="86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892560" y="2090880"/>
              <a:ext cx="7884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397200" y="2166840"/>
              <a:ext cx="7884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96880" y="294732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39920" y="231876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1495440" y="5091120"/>
            <a:ext cx="724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bsence d'ADP et de P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otation de la tête de myosine angle de 45° 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énergie minim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déplacement du filament d'actine par rapport au filament de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298680" y="4722840"/>
            <a:ext cx="54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5248080" y="2184480"/>
            <a:ext cx="6570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209560" y="18381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1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063800" y="6029280"/>
            <a:ext cx="78120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diminution de l'énergie libre du complexe actomyo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génération d'une force contrac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nt actomyosique for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689440" y="1625760"/>
            <a:ext cx="2197440" cy="21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fixation de l’ATP sur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forte affinit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nt actomyosique for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2352600" y="2090880"/>
            <a:ext cx="5637600" cy="2158920"/>
            <a:chOff x="2352600" y="2090880"/>
            <a:chExt cx="5637600" cy="2158920"/>
          </a:xfrm>
        </p:grpSpPr>
        <p:grpSp>
          <p:nvGrpSpPr>
            <p:cNvPr id="1932" name=""/>
            <p:cNvGrpSpPr/>
            <p:nvPr/>
          </p:nvGrpSpPr>
          <p:grpSpPr>
            <a:xfrm>
              <a:off x="5904720" y="3281040"/>
              <a:ext cx="1346040" cy="959040"/>
              <a:chOff x="5904720" y="3281040"/>
              <a:chExt cx="1346040" cy="959040"/>
            </a:xfrm>
          </p:grpSpPr>
          <p:sp>
            <p:nvSpPr>
              <p:cNvPr id="1933" name=""/>
              <p:cNvSpPr/>
              <p:nvPr/>
            </p:nvSpPr>
            <p:spPr>
              <a:xfrm flipH="1">
                <a:off x="6630480" y="328104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21178200">
                <a:off x="6387480" y="368712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>
                <a:off x="5904720" y="386964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 flipH="1">
              <a:off x="2352600" y="424980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7" name=""/>
            <p:cNvGrpSpPr/>
            <p:nvPr/>
          </p:nvGrpSpPr>
          <p:grpSpPr>
            <a:xfrm>
              <a:off x="3797280" y="2090880"/>
              <a:ext cx="4192920" cy="1355760"/>
              <a:chOff x="3797280" y="2090880"/>
              <a:chExt cx="4192920" cy="1355760"/>
            </a:xfrm>
          </p:grpSpPr>
          <p:grpSp>
            <p:nvGrpSpPr>
              <p:cNvPr id="1938" name=""/>
              <p:cNvGrpSpPr/>
              <p:nvPr/>
            </p:nvGrpSpPr>
            <p:grpSpPr>
              <a:xfrm>
                <a:off x="3797280" y="2318760"/>
                <a:ext cx="4192920" cy="412560"/>
                <a:chOff x="3797280" y="2318760"/>
                <a:chExt cx="4192920" cy="412560"/>
              </a:xfrm>
            </p:grpSpPr>
            <p:sp>
              <p:nvSpPr>
                <p:cNvPr id="1939" name=""/>
                <p:cNvSpPr/>
                <p:nvPr/>
              </p:nvSpPr>
              <p:spPr>
                <a:xfrm>
                  <a:off x="7396560" y="252828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599600" y="2503080"/>
                  <a:ext cx="1969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779688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V="1">
                  <a:off x="5200560" y="243972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V="1">
                  <a:off x="5597280" y="2385720"/>
                  <a:ext cx="196200" cy="190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V="1">
                  <a:off x="5403600" y="24015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813560" y="24966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5006880" y="244908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V="1">
                  <a:off x="419436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flipV="1">
                  <a:off x="439740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 flipV="1">
                  <a:off x="40006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200280" y="2512440"/>
                  <a:ext cx="1897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6390360" y="246492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flipV="1">
                  <a:off x="658764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V="1">
                  <a:off x="698400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V="1">
                  <a:off x="7187040" y="2318760"/>
                  <a:ext cx="19620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V="1">
                  <a:off x="739008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 flipV="1">
                  <a:off x="67906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V="1">
                  <a:off x="759312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V="1">
                  <a:off x="77868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flipV="1">
                  <a:off x="6206040" y="2359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V="1">
                  <a:off x="6399720" y="240732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V="1">
                  <a:off x="6003000" y="233460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V="1">
                  <a:off x="5800320" y="233460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V="1">
                  <a:off x="460044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V="1">
                  <a:off x="480348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V="1">
                  <a:off x="49968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V="1">
                  <a:off x="379728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60980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01004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203720" y="2474280"/>
                  <a:ext cx="193320" cy="190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40676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5397120" y="2474280"/>
                  <a:ext cx="193320" cy="190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579384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599652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5590800" y="2487240"/>
                  <a:ext cx="193320" cy="19656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7196400" y="252828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993360" y="24807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797160" y="246492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6593400" y="242388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5194080" y="24332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807000" y="2413800"/>
                  <a:ext cx="193320" cy="197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1" name=""/>
              <p:cNvSpPr/>
              <p:nvPr/>
            </p:nvSpPr>
            <p:spPr>
              <a:xfrm>
                <a:off x="6593400" y="2356920"/>
                <a:ext cx="323640" cy="142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8858000">
                <a:off x="6681240" y="2558520"/>
                <a:ext cx="425160" cy="866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18989400">
                <a:off x="6777720" y="2525040"/>
                <a:ext cx="425160" cy="86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892200" y="209088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397200" y="216684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996880" y="2947320"/>
                <a:ext cx="7956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739560" y="2318760"/>
                <a:ext cx="78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8" name=""/>
            <p:cNvGrpSpPr/>
            <p:nvPr/>
          </p:nvGrpSpPr>
          <p:grpSpPr>
            <a:xfrm>
              <a:off x="7327800" y="3017880"/>
              <a:ext cx="533160" cy="372960"/>
              <a:chOff x="7327800" y="3017880"/>
              <a:chExt cx="533160" cy="372960"/>
            </a:xfrm>
          </p:grpSpPr>
          <p:sp>
            <p:nvSpPr>
              <p:cNvPr id="1989" name=""/>
              <p:cNvSpPr/>
              <p:nvPr/>
            </p:nvSpPr>
            <p:spPr>
              <a:xfrm>
                <a:off x="7372080" y="307512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27800" y="3017880"/>
                <a:ext cx="533160" cy="37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hydrolyse de l’ATP en ADP +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activité ATPasique de la myos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28600" y="2192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2352600" y="2090880"/>
            <a:ext cx="5637600" cy="2158920"/>
            <a:chOff x="2352600" y="2090880"/>
            <a:chExt cx="5637600" cy="2158920"/>
          </a:xfrm>
        </p:grpSpPr>
        <p:grpSp>
          <p:nvGrpSpPr>
            <p:cNvPr id="2000" name=""/>
            <p:cNvGrpSpPr/>
            <p:nvPr/>
          </p:nvGrpSpPr>
          <p:grpSpPr>
            <a:xfrm>
              <a:off x="5904720" y="3281040"/>
              <a:ext cx="1346040" cy="959040"/>
              <a:chOff x="5904720" y="3281040"/>
              <a:chExt cx="1346040" cy="959040"/>
            </a:xfrm>
          </p:grpSpPr>
          <p:sp>
            <p:nvSpPr>
              <p:cNvPr id="2001" name=""/>
              <p:cNvSpPr/>
              <p:nvPr/>
            </p:nvSpPr>
            <p:spPr>
              <a:xfrm flipH="1">
                <a:off x="6630480" y="328104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21178200">
                <a:off x="6387480" y="368712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>
                <a:off x="5904720" y="386964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4" name=""/>
            <p:cNvSpPr/>
            <p:nvPr/>
          </p:nvSpPr>
          <p:spPr>
            <a:xfrm flipH="1">
              <a:off x="2352600" y="424980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5" name=""/>
            <p:cNvGrpSpPr/>
            <p:nvPr/>
          </p:nvGrpSpPr>
          <p:grpSpPr>
            <a:xfrm>
              <a:off x="3797280" y="2090880"/>
              <a:ext cx="4192920" cy="1355760"/>
              <a:chOff x="3797280" y="2090880"/>
              <a:chExt cx="4192920" cy="1355760"/>
            </a:xfrm>
          </p:grpSpPr>
          <p:grpSp>
            <p:nvGrpSpPr>
              <p:cNvPr id="2006" name=""/>
              <p:cNvGrpSpPr/>
              <p:nvPr/>
            </p:nvGrpSpPr>
            <p:grpSpPr>
              <a:xfrm>
                <a:off x="3797280" y="2318760"/>
                <a:ext cx="4192920" cy="412560"/>
                <a:chOff x="3797280" y="2318760"/>
                <a:chExt cx="4192920" cy="41256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7396560" y="252828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7599600" y="2503080"/>
                  <a:ext cx="1969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79688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V="1">
                  <a:off x="5200560" y="243972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V="1">
                  <a:off x="5597280" y="2385720"/>
                  <a:ext cx="196200" cy="190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 flipV="1">
                  <a:off x="5403600" y="24015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13560" y="24966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06880" y="244908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flipV="1">
                  <a:off x="419436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 flipV="1">
                  <a:off x="439740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flipV="1">
                  <a:off x="40006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200280" y="2512440"/>
                  <a:ext cx="1897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390360" y="246492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flipV="1">
                  <a:off x="658764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V="1">
                  <a:off x="698400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V="1">
                  <a:off x="7187040" y="2318760"/>
                  <a:ext cx="19620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V="1">
                  <a:off x="739008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V="1">
                  <a:off x="67906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flipV="1">
                  <a:off x="759312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V="1">
                  <a:off x="77868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V="1">
                  <a:off x="6206040" y="2359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V="1">
                  <a:off x="6399720" y="240732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V="1">
                  <a:off x="6003000" y="233460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V="1">
                  <a:off x="5800320" y="233460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flipV="1">
                  <a:off x="460044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flipV="1">
                  <a:off x="480348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V="1">
                  <a:off x="49968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 flipV="1">
                  <a:off x="379728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60980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01004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203720" y="2474280"/>
                  <a:ext cx="193320" cy="190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40676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5397120" y="2474280"/>
                  <a:ext cx="193320" cy="190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579384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599652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5590800" y="2487240"/>
                  <a:ext cx="193320" cy="19656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7196400" y="252828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993360" y="24807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797160" y="246492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593400" y="242388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5194080" y="24332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3807000" y="2413800"/>
                  <a:ext cx="193320" cy="197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9" name=""/>
              <p:cNvSpPr/>
              <p:nvPr/>
            </p:nvSpPr>
            <p:spPr>
              <a:xfrm>
                <a:off x="6593400" y="2356920"/>
                <a:ext cx="323640" cy="142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rot="18858000">
                <a:off x="6681240" y="2558520"/>
                <a:ext cx="425160" cy="866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rot="18989400">
                <a:off x="6777720" y="2525040"/>
                <a:ext cx="425160" cy="86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892200" y="209088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397200" y="216684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996880" y="2947320"/>
                <a:ext cx="7956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739560" y="2318760"/>
                <a:ext cx="78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7211160" y="2975040"/>
              <a:ext cx="622800" cy="565560"/>
              <a:chOff x="7211160" y="2975040"/>
              <a:chExt cx="622800" cy="565560"/>
            </a:xfrm>
          </p:grpSpPr>
          <p:sp>
            <p:nvSpPr>
              <p:cNvPr id="2057" name=""/>
              <p:cNvSpPr/>
              <p:nvPr/>
            </p:nvSpPr>
            <p:spPr>
              <a:xfrm>
                <a:off x="7291080" y="299088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343280" y="297504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222680" y="325440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211160" y="32641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ésence d’ADP +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298680" y="4722840"/>
            <a:ext cx="54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4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upture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2352600" y="2090880"/>
            <a:ext cx="5637960" cy="2463480"/>
            <a:chOff x="2352600" y="2090880"/>
            <a:chExt cx="5637960" cy="2463480"/>
          </a:xfrm>
        </p:grpSpPr>
        <p:grpSp>
          <p:nvGrpSpPr>
            <p:cNvPr id="2070" name=""/>
            <p:cNvGrpSpPr/>
            <p:nvPr/>
          </p:nvGrpSpPr>
          <p:grpSpPr>
            <a:xfrm>
              <a:off x="5904720" y="3585960"/>
              <a:ext cx="1346040" cy="959040"/>
              <a:chOff x="5904720" y="3585960"/>
              <a:chExt cx="1346040" cy="959040"/>
            </a:xfrm>
          </p:grpSpPr>
          <p:sp>
            <p:nvSpPr>
              <p:cNvPr id="2071" name=""/>
              <p:cNvSpPr/>
              <p:nvPr/>
            </p:nvSpPr>
            <p:spPr>
              <a:xfrm flipH="1">
                <a:off x="6630480" y="358596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21178200">
                <a:off x="6387480" y="399204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>
                <a:off x="5904720" y="417456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4" name=""/>
            <p:cNvSpPr/>
            <p:nvPr/>
          </p:nvSpPr>
          <p:spPr>
            <a:xfrm flipH="1">
              <a:off x="2352600" y="455436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5" name=""/>
            <p:cNvGrpSpPr/>
            <p:nvPr/>
          </p:nvGrpSpPr>
          <p:grpSpPr>
            <a:xfrm>
              <a:off x="3797280" y="2319120"/>
              <a:ext cx="4193280" cy="412200"/>
              <a:chOff x="3797280" y="2319120"/>
              <a:chExt cx="4193280" cy="412200"/>
            </a:xfrm>
          </p:grpSpPr>
          <p:sp>
            <p:nvSpPr>
              <p:cNvPr id="2076" name=""/>
              <p:cNvSpPr/>
              <p:nvPr/>
            </p:nvSpPr>
            <p:spPr>
              <a:xfrm>
                <a:off x="7396920" y="25286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599960" y="25034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7972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200560" y="24393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5597280" y="23853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5403600" y="24012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813560" y="249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007240" y="244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41943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439740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40006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200640" y="25128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390720" y="24652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658800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69843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7187400" y="23187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73904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67906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75934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778716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6206400" y="235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6400080" y="240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V="1">
                <a:off x="6003360" y="233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5800320" y="23342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46004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48034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499716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379728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60980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0100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203720" y="24746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40676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397120" y="24746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79384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99688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590800" y="24876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196760" y="25286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993720" y="24811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797160" y="24652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593400" y="242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194440" y="243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807000" y="24141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8" name=""/>
            <p:cNvSpPr/>
            <p:nvPr/>
          </p:nvSpPr>
          <p:spPr>
            <a:xfrm>
              <a:off x="6594120" y="2357280"/>
              <a:ext cx="32400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18858000">
              <a:off x="6681600" y="2863440"/>
              <a:ext cx="425520" cy="866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18989400">
              <a:off x="6778080" y="2817720"/>
              <a:ext cx="425520" cy="86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892560" y="20908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397560" y="216684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997240" y="325296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740280" y="23194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5" name=""/>
            <p:cNvGrpSpPr/>
            <p:nvPr/>
          </p:nvGrpSpPr>
          <p:grpSpPr>
            <a:xfrm>
              <a:off x="7211160" y="3279600"/>
              <a:ext cx="622800" cy="565560"/>
              <a:chOff x="7211160" y="3279600"/>
              <a:chExt cx="622800" cy="565560"/>
            </a:xfrm>
          </p:grpSpPr>
          <p:sp>
            <p:nvSpPr>
              <p:cNvPr id="2126" name=""/>
              <p:cNvSpPr/>
              <p:nvPr/>
            </p:nvSpPr>
            <p:spPr>
              <a:xfrm>
                <a:off x="7291080" y="329544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343280" y="327960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222680" y="355896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211160" y="35686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33360" y="5707080"/>
            <a:ext cx="571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37960" y="3286080"/>
            <a:ext cx="47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tivité enzymatique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ésence d’ADP +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298680" y="4722840"/>
            <a:ext cx="542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gle de la tête de myosine avec l’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ngle de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(conformation d’énergie libre minim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28600" y="219240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upture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-228600" y="849240"/>
            <a:ext cx="295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roponine déplac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8" name=""/>
          <p:cNvGrpSpPr/>
          <p:nvPr/>
        </p:nvGrpSpPr>
        <p:grpSpPr>
          <a:xfrm>
            <a:off x="2359080" y="2090880"/>
            <a:ext cx="5715720" cy="2471040"/>
            <a:chOff x="2359080" y="2090880"/>
            <a:chExt cx="5715720" cy="2471040"/>
          </a:xfrm>
        </p:grpSpPr>
        <p:grpSp>
          <p:nvGrpSpPr>
            <p:cNvPr id="2139" name=""/>
            <p:cNvGrpSpPr/>
            <p:nvPr/>
          </p:nvGrpSpPr>
          <p:grpSpPr>
            <a:xfrm>
              <a:off x="2359080" y="2896920"/>
              <a:ext cx="5227920" cy="1665000"/>
              <a:chOff x="2359080" y="2896920"/>
              <a:chExt cx="5227920" cy="1665000"/>
            </a:xfrm>
          </p:grpSpPr>
          <p:sp>
            <p:nvSpPr>
              <p:cNvPr id="2140" name=""/>
              <p:cNvSpPr/>
              <p:nvPr/>
            </p:nvSpPr>
            <p:spPr>
              <a:xfrm rot="21118800">
                <a:off x="70326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1618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66934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4422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H="1">
                <a:off x="5913360" y="4253760"/>
                <a:ext cx="53208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2359080" y="4561920"/>
                <a:ext cx="3561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7452360" y="3406680"/>
              <a:ext cx="622440" cy="565560"/>
              <a:chOff x="7452360" y="3406680"/>
              <a:chExt cx="622440" cy="565560"/>
            </a:xfrm>
          </p:grpSpPr>
          <p:sp>
            <p:nvSpPr>
              <p:cNvPr id="2147" name=""/>
              <p:cNvSpPr/>
              <p:nvPr/>
            </p:nvSpPr>
            <p:spPr>
              <a:xfrm>
                <a:off x="7532280" y="3422520"/>
                <a:ext cx="54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584480" y="3406680"/>
                <a:ext cx="41868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463880" y="3686040"/>
                <a:ext cx="28548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45236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1" name=""/>
            <p:cNvGrpSpPr/>
            <p:nvPr/>
          </p:nvGrpSpPr>
          <p:grpSpPr>
            <a:xfrm>
              <a:off x="3797280" y="2319120"/>
              <a:ext cx="4192920" cy="412200"/>
              <a:chOff x="3797280" y="2319120"/>
              <a:chExt cx="4192920" cy="412200"/>
            </a:xfrm>
          </p:grpSpPr>
          <p:sp>
            <p:nvSpPr>
              <p:cNvPr id="2152" name=""/>
              <p:cNvSpPr/>
              <p:nvPr/>
            </p:nvSpPr>
            <p:spPr>
              <a:xfrm>
                <a:off x="7396560" y="25286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599600" y="25034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79688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5200560" y="24393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5597280" y="23853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5403600" y="24012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4813560" y="249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006880" y="244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41943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439740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40006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200280" y="25128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390360" y="24652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58764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698400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7187040" y="23187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739008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67906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759312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778680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206040" y="235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6399720" y="240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6003000" y="233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5800320" y="23342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V="1">
                <a:off x="46004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48034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499680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379728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60980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0100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203720" y="24746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40676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397120" y="24746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79384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99652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590800" y="24876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196400" y="25286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993360" y="24811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797160" y="24652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593400" y="242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194080" y="243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807000" y="24141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4" name=""/>
            <p:cNvSpPr/>
            <p:nvPr/>
          </p:nvSpPr>
          <p:spPr>
            <a:xfrm>
              <a:off x="6594120" y="235728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892560" y="20908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397560" y="216684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740280" y="2319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8" name=""/>
          <p:cNvGrpSpPr/>
          <p:nvPr/>
        </p:nvGrpSpPr>
        <p:grpSpPr>
          <a:xfrm>
            <a:off x="1418760" y="2896920"/>
            <a:ext cx="5228640" cy="1665000"/>
            <a:chOff x="1418760" y="2896920"/>
            <a:chExt cx="5228640" cy="1665000"/>
          </a:xfrm>
        </p:grpSpPr>
        <p:sp>
          <p:nvSpPr>
            <p:cNvPr id="2199" name=""/>
            <p:cNvSpPr/>
            <p:nvPr/>
          </p:nvSpPr>
          <p:spPr>
            <a:xfrm rot="21118800">
              <a:off x="6093000" y="2922120"/>
              <a:ext cx="425160" cy="867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222240" y="2922480"/>
              <a:ext cx="425160" cy="86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5753880" y="3773880"/>
              <a:ext cx="67392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502600" y="4086360"/>
              <a:ext cx="239760" cy="2545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4973400" y="4253760"/>
              <a:ext cx="5324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1418760" y="4561920"/>
              <a:ext cx="356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5" name=""/>
          <p:cNvGrpSpPr/>
          <p:nvPr/>
        </p:nvGrpSpPr>
        <p:grpSpPr>
          <a:xfrm>
            <a:off x="3510000" y="2290680"/>
            <a:ext cx="4191840" cy="412560"/>
            <a:chOff x="3510000" y="2290680"/>
            <a:chExt cx="4191840" cy="412560"/>
          </a:xfrm>
        </p:grpSpPr>
        <p:sp>
          <p:nvSpPr>
            <p:cNvPr id="2206" name=""/>
            <p:cNvSpPr/>
            <p:nvPr/>
          </p:nvSpPr>
          <p:spPr>
            <a:xfrm>
              <a:off x="7108200" y="2500200"/>
              <a:ext cx="19620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311240" y="2475000"/>
              <a:ext cx="1969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508520" y="242748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4912920" y="2411640"/>
              <a:ext cx="19620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5309280" y="2357640"/>
              <a:ext cx="196200" cy="190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5115960" y="237348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525920" y="24685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719240" y="242100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3907080" y="2338200"/>
              <a:ext cx="196200" cy="197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410976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3713400" y="2357640"/>
              <a:ext cx="193320" cy="190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12280" y="2484360"/>
              <a:ext cx="1897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102360" y="243684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6299640" y="239580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6696000" y="2338200"/>
              <a:ext cx="196200" cy="197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6899040" y="2290680"/>
              <a:ext cx="19620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710208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6502680" y="2357640"/>
              <a:ext cx="193320" cy="190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7304760" y="23158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7498440" y="236340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5918040" y="2331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6111720" y="237924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5715360" y="2306520"/>
              <a:ext cx="1969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5512320" y="2306520"/>
              <a:ext cx="19620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4312800" y="22906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4515840" y="231588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4709160" y="2363400"/>
              <a:ext cx="1969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510000" y="239580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322160" y="2493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722760" y="242748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916440" y="2446200"/>
              <a:ext cx="193320" cy="190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19120" y="249372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109480" y="2446200"/>
              <a:ext cx="193320" cy="190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505840" y="25095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708880" y="25095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303160" y="2459160"/>
              <a:ext cx="193320" cy="196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908400" y="2500200"/>
              <a:ext cx="193320" cy="196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360" y="2452680"/>
              <a:ext cx="1933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508800" y="2436840"/>
              <a:ext cx="19620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305400" y="2395800"/>
              <a:ext cx="196920" cy="193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906440" y="2405160"/>
              <a:ext cx="193320" cy="193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19720" y="2385720"/>
              <a:ext cx="193320" cy="197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8" name=""/>
          <p:cNvSpPr/>
          <p:nvPr/>
        </p:nvSpPr>
        <p:spPr>
          <a:xfrm>
            <a:off x="6257880" y="2604960"/>
            <a:ext cx="324000" cy="142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6513120" y="3406680"/>
            <a:ext cx="622800" cy="565560"/>
            <a:chOff x="6513120" y="3406680"/>
            <a:chExt cx="622800" cy="565560"/>
          </a:xfrm>
        </p:grpSpPr>
        <p:sp>
          <p:nvSpPr>
            <p:cNvPr id="2250" name=""/>
            <p:cNvSpPr/>
            <p:nvPr/>
          </p:nvSpPr>
          <p:spPr>
            <a:xfrm>
              <a:off x="6593040" y="342252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645240" y="340668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524640" y="368604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513120" y="36957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7" name=""/>
          <p:cNvGrpSpPr/>
          <p:nvPr/>
        </p:nvGrpSpPr>
        <p:grpSpPr>
          <a:xfrm>
            <a:off x="1418760" y="1644480"/>
            <a:ext cx="6283080" cy="2917440"/>
            <a:chOff x="1418760" y="1644480"/>
            <a:chExt cx="6283080" cy="2917440"/>
          </a:xfrm>
        </p:grpSpPr>
        <p:grpSp>
          <p:nvGrpSpPr>
            <p:cNvPr id="2258" name=""/>
            <p:cNvGrpSpPr/>
            <p:nvPr/>
          </p:nvGrpSpPr>
          <p:grpSpPr>
            <a:xfrm>
              <a:off x="1418760" y="2896920"/>
              <a:ext cx="5228640" cy="1665000"/>
              <a:chOff x="1418760" y="2896920"/>
              <a:chExt cx="5228640" cy="1665000"/>
            </a:xfrm>
          </p:grpSpPr>
          <p:sp>
            <p:nvSpPr>
              <p:cNvPr id="2259" name=""/>
              <p:cNvSpPr/>
              <p:nvPr/>
            </p:nvSpPr>
            <p:spPr>
              <a:xfrm rot="21118800">
                <a:off x="6093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222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H="1">
                <a:off x="5753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502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H="1">
                <a:off x="4973400" y="4253760"/>
                <a:ext cx="53244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>
                <a:off x="1418760" y="4561920"/>
                <a:ext cx="356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3510000" y="2290680"/>
              <a:ext cx="4191840" cy="412560"/>
              <a:chOff x="3510000" y="2290680"/>
              <a:chExt cx="4191840" cy="412560"/>
            </a:xfrm>
          </p:grpSpPr>
          <p:sp>
            <p:nvSpPr>
              <p:cNvPr id="2266" name=""/>
              <p:cNvSpPr/>
              <p:nvPr/>
            </p:nvSpPr>
            <p:spPr>
              <a:xfrm>
                <a:off x="7108200" y="250020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311240" y="2475000"/>
                <a:ext cx="1969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508520" y="24274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4912920" y="241164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5309280" y="2357640"/>
                <a:ext cx="196200" cy="190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5115960" y="23734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525920" y="24685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719240" y="24210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V="1">
                <a:off x="3907080" y="233820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410976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3713400" y="235764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912280" y="2484360"/>
                <a:ext cx="1897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102360" y="243684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6299640" y="239580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6696000" y="233820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6899040" y="2290680"/>
                <a:ext cx="19620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710208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6502680" y="235764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7304760" y="2315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V="1">
                <a:off x="7498440" y="236340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5918040" y="2331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V="1">
                <a:off x="6111720" y="237924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V="1">
                <a:off x="5715360" y="230652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V="1">
                <a:off x="5512320" y="230652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4312800" y="22906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V="1">
                <a:off x="4515840" y="2315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V="1">
                <a:off x="4709160" y="236340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V="1">
                <a:off x="3510000" y="239580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322160" y="2493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722760" y="24274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916440" y="2446200"/>
                <a:ext cx="193320" cy="190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119120" y="24937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109480" y="2446200"/>
                <a:ext cx="193320" cy="19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505840" y="25095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708880" y="25095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303160" y="2459160"/>
                <a:ext cx="193320" cy="196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908400" y="250020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705360" y="24526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08800" y="243684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305400" y="239580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906440" y="24051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519720" y="2385720"/>
                <a:ext cx="193320" cy="197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8" name=""/>
            <p:cNvSpPr/>
            <p:nvPr/>
          </p:nvSpPr>
          <p:spPr>
            <a:xfrm>
              <a:off x="6257880" y="2604960"/>
              <a:ext cx="32400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620040" y="198756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680080" y="180972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467400" y="221616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365880" y="1644480"/>
              <a:ext cx="792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149880" y="200016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467400" y="268596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5" name=""/>
            <p:cNvGrpSpPr/>
            <p:nvPr/>
          </p:nvGrpSpPr>
          <p:grpSpPr>
            <a:xfrm>
              <a:off x="6513120" y="3406680"/>
              <a:ext cx="622800" cy="565560"/>
              <a:chOff x="6513120" y="3406680"/>
              <a:chExt cx="622800" cy="565560"/>
            </a:xfrm>
          </p:grpSpPr>
          <p:sp>
            <p:nvSpPr>
              <p:cNvPr id="2316" name=""/>
              <p:cNvSpPr/>
              <p:nvPr/>
            </p:nvSpPr>
            <p:spPr>
              <a:xfrm>
                <a:off x="6593040" y="342252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645240" y="340668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524640" y="368604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51312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3" name=""/>
          <p:cNvGrpSpPr/>
          <p:nvPr/>
        </p:nvGrpSpPr>
        <p:grpSpPr>
          <a:xfrm>
            <a:off x="1418760" y="2076480"/>
            <a:ext cx="6298920" cy="2485440"/>
            <a:chOff x="1418760" y="2076480"/>
            <a:chExt cx="6298920" cy="2485440"/>
          </a:xfrm>
        </p:grpSpPr>
        <p:grpSp>
          <p:nvGrpSpPr>
            <p:cNvPr id="2324" name=""/>
            <p:cNvGrpSpPr/>
            <p:nvPr/>
          </p:nvGrpSpPr>
          <p:grpSpPr>
            <a:xfrm>
              <a:off x="3524400" y="2304720"/>
              <a:ext cx="4193280" cy="412200"/>
              <a:chOff x="3524400" y="2304720"/>
              <a:chExt cx="4193280" cy="412200"/>
            </a:xfrm>
          </p:grpSpPr>
          <p:sp>
            <p:nvSpPr>
              <p:cNvPr id="2325" name=""/>
              <p:cNvSpPr/>
              <p:nvPr/>
            </p:nvSpPr>
            <p:spPr>
              <a:xfrm>
                <a:off x="7124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7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524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4927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5324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V="1">
                <a:off x="5130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540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734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V="1">
                <a:off x="392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4124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372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927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117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6315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V="1">
                <a:off x="671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V="1">
                <a:off x="6914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V="1">
                <a:off x="711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651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V="1">
                <a:off x="732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V="1">
                <a:off x="751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5933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6127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5730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5527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432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453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V="1">
                <a:off x="472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V="1">
                <a:off x="3524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336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737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930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33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124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520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724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317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923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720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524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320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921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534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7" name=""/>
            <p:cNvSpPr/>
            <p:nvPr/>
          </p:nvSpPr>
          <p:spPr>
            <a:xfrm>
              <a:off x="6321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620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124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724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467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2" name=""/>
            <p:cNvGrpSpPr/>
            <p:nvPr/>
          </p:nvGrpSpPr>
          <p:grpSpPr>
            <a:xfrm>
              <a:off x="1418760" y="2896920"/>
              <a:ext cx="5228640" cy="1665000"/>
              <a:chOff x="1418760" y="2896920"/>
              <a:chExt cx="5228640" cy="1665000"/>
            </a:xfrm>
          </p:grpSpPr>
          <p:sp>
            <p:nvSpPr>
              <p:cNvPr id="2373" name=""/>
              <p:cNvSpPr/>
              <p:nvPr/>
            </p:nvSpPr>
            <p:spPr>
              <a:xfrm rot="21118800">
                <a:off x="6093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222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>
                <a:off x="5753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502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4973400" y="4253760"/>
                <a:ext cx="53244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>
                <a:off x="1418760" y="4561920"/>
                <a:ext cx="356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9" name=""/>
            <p:cNvGrpSpPr/>
            <p:nvPr/>
          </p:nvGrpSpPr>
          <p:grpSpPr>
            <a:xfrm>
              <a:off x="6513120" y="3406680"/>
              <a:ext cx="622800" cy="565560"/>
              <a:chOff x="6513120" y="3406680"/>
              <a:chExt cx="622800" cy="565560"/>
            </a:xfrm>
          </p:grpSpPr>
          <p:sp>
            <p:nvSpPr>
              <p:cNvPr id="2380" name=""/>
              <p:cNvSpPr/>
              <p:nvPr/>
            </p:nvSpPr>
            <p:spPr>
              <a:xfrm>
                <a:off x="6593040" y="342252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645240" y="340668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524640" y="368604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51312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7" name=""/>
          <p:cNvGrpSpPr/>
          <p:nvPr/>
        </p:nvGrpSpPr>
        <p:grpSpPr>
          <a:xfrm>
            <a:off x="1431720" y="2076480"/>
            <a:ext cx="6285960" cy="2158200"/>
            <a:chOff x="1431720" y="2076480"/>
            <a:chExt cx="6285960" cy="2158200"/>
          </a:xfrm>
        </p:grpSpPr>
        <p:grpSp>
          <p:nvGrpSpPr>
            <p:cNvPr id="2388" name=""/>
            <p:cNvGrpSpPr/>
            <p:nvPr/>
          </p:nvGrpSpPr>
          <p:grpSpPr>
            <a:xfrm>
              <a:off x="6513120" y="3089160"/>
              <a:ext cx="622800" cy="565560"/>
              <a:chOff x="6513120" y="3089160"/>
              <a:chExt cx="622800" cy="565560"/>
            </a:xfrm>
          </p:grpSpPr>
          <p:sp>
            <p:nvSpPr>
              <p:cNvPr id="2389" name=""/>
              <p:cNvSpPr/>
              <p:nvPr/>
            </p:nvSpPr>
            <p:spPr>
              <a:xfrm>
                <a:off x="6593040" y="310500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645240" y="308916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524640" y="336852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513120" y="33782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3" name=""/>
            <p:cNvGrpSpPr/>
            <p:nvPr/>
          </p:nvGrpSpPr>
          <p:grpSpPr>
            <a:xfrm>
              <a:off x="3524400" y="2304720"/>
              <a:ext cx="4193280" cy="412200"/>
              <a:chOff x="3524400" y="2304720"/>
              <a:chExt cx="4193280" cy="412200"/>
            </a:xfrm>
          </p:grpSpPr>
          <p:sp>
            <p:nvSpPr>
              <p:cNvPr id="2394" name=""/>
              <p:cNvSpPr/>
              <p:nvPr/>
            </p:nvSpPr>
            <p:spPr>
              <a:xfrm>
                <a:off x="7124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327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524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4927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5324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130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540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734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392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4124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372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927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117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6315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671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6914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711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651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732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751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5933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V="1">
                <a:off x="6127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5730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V="1">
                <a:off x="5527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V="1">
                <a:off x="432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453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472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3524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336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3737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3930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133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520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724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317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923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720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524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320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921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3534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6" name=""/>
            <p:cNvSpPr/>
            <p:nvPr/>
          </p:nvSpPr>
          <p:spPr>
            <a:xfrm>
              <a:off x="6321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7" name=""/>
            <p:cNvGrpSpPr/>
            <p:nvPr/>
          </p:nvGrpSpPr>
          <p:grpSpPr>
            <a:xfrm>
              <a:off x="1431720" y="2568240"/>
              <a:ext cx="5231880" cy="1666440"/>
              <a:chOff x="1431720" y="2568240"/>
              <a:chExt cx="5231880" cy="1666440"/>
            </a:xfrm>
          </p:grpSpPr>
          <p:sp>
            <p:nvSpPr>
              <p:cNvPr id="2438" name=""/>
              <p:cNvSpPr/>
              <p:nvPr/>
            </p:nvSpPr>
            <p:spPr>
              <a:xfrm rot="21118800">
                <a:off x="6108120" y="2593440"/>
                <a:ext cx="425520" cy="867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238080" y="2593800"/>
                <a:ext cx="425520" cy="86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>
                <a:off x="5768640" y="3446280"/>
                <a:ext cx="674280" cy="38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517720" y="37587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>
                <a:off x="4988160" y="3926520"/>
                <a:ext cx="532440" cy="30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>
                <a:off x="1431720" y="4234680"/>
                <a:ext cx="356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4" name=""/>
            <p:cNvSpPr/>
            <p:nvPr/>
          </p:nvSpPr>
          <p:spPr>
            <a:xfrm>
              <a:off x="6620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124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724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467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000" y="1546200"/>
            <a:ext cx="7986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orc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newton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ngueur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ètre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emp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seconde 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itess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hangement de longueur / 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ravail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joule (J) = N.m (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énerg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orce x longueur de dé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uissanc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watt (W) = N.m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travail/temps = force/vit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tension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N/m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force / surface de section transver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variables méc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280" y="431640"/>
            <a:ext cx="4424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440" y="206280"/>
            <a:ext cx="85050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éléments de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1" name=""/>
          <p:cNvGrpSpPr/>
          <p:nvPr/>
        </p:nvGrpSpPr>
        <p:grpSpPr>
          <a:xfrm>
            <a:off x="1431720" y="2076480"/>
            <a:ext cx="6285960" cy="2158200"/>
            <a:chOff x="1431720" y="2076480"/>
            <a:chExt cx="6285960" cy="2158200"/>
          </a:xfrm>
        </p:grpSpPr>
        <p:grpSp>
          <p:nvGrpSpPr>
            <p:cNvPr id="2452" name=""/>
            <p:cNvGrpSpPr/>
            <p:nvPr/>
          </p:nvGrpSpPr>
          <p:grpSpPr>
            <a:xfrm>
              <a:off x="3524400" y="2304720"/>
              <a:ext cx="4193280" cy="412200"/>
              <a:chOff x="3524400" y="2304720"/>
              <a:chExt cx="4193280" cy="412200"/>
            </a:xfrm>
          </p:grpSpPr>
          <p:sp>
            <p:nvSpPr>
              <p:cNvPr id="2453" name=""/>
              <p:cNvSpPr/>
              <p:nvPr/>
            </p:nvSpPr>
            <p:spPr>
              <a:xfrm>
                <a:off x="7124040" y="25142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327080" y="24890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5243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4927680" y="24249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5324400" y="23709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5130720" y="23868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540680" y="248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734360" y="243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392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412452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372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5927760" y="24984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117840" y="24508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631512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6711480" y="23515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6914520" y="23043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11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6517800" y="23709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32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751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5933520" y="23450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6127200" y="23925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5730480" y="231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5527440" y="23198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4327560" y="23043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4530600" y="232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4724280" y="23767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3524400" y="24091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33692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737160" y="24415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930840" y="24602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133880" y="25077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24240" y="24602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52096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724000" y="252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17920" y="24732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923880" y="25142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720840" y="24667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524280" y="24508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20520" y="24098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921560" y="24192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534120" y="23997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5" name=""/>
            <p:cNvSpPr/>
            <p:nvPr/>
          </p:nvSpPr>
          <p:spPr>
            <a:xfrm>
              <a:off x="6321600" y="234324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6" name=""/>
            <p:cNvGrpSpPr/>
            <p:nvPr/>
          </p:nvGrpSpPr>
          <p:grpSpPr>
            <a:xfrm>
              <a:off x="1431720" y="2568240"/>
              <a:ext cx="5231880" cy="1666440"/>
              <a:chOff x="1431720" y="2568240"/>
              <a:chExt cx="5231880" cy="1666440"/>
            </a:xfrm>
          </p:grpSpPr>
          <p:sp>
            <p:nvSpPr>
              <p:cNvPr id="2497" name=""/>
              <p:cNvSpPr/>
              <p:nvPr/>
            </p:nvSpPr>
            <p:spPr>
              <a:xfrm rot="21118800">
                <a:off x="6108120" y="2593440"/>
                <a:ext cx="425520" cy="867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238080" y="2593800"/>
                <a:ext cx="425520" cy="867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768640" y="3446280"/>
                <a:ext cx="674280" cy="38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5517720" y="37587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4988160" y="3926520"/>
                <a:ext cx="532440" cy="30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1431720" y="4234680"/>
                <a:ext cx="356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"/>
            <p:cNvSpPr/>
            <p:nvPr/>
          </p:nvSpPr>
          <p:spPr>
            <a:xfrm>
              <a:off x="6620040" y="207648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124680" y="215280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724360" y="293364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467400" y="23050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23160" y="324468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975360" y="322884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676920" y="380052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665400" y="380988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4" name=""/>
          <p:cNvGrpSpPr/>
          <p:nvPr/>
        </p:nvGrpSpPr>
        <p:grpSpPr>
          <a:xfrm>
            <a:off x="4965120" y="3281040"/>
            <a:ext cx="1346040" cy="959040"/>
            <a:chOff x="4965120" y="3281040"/>
            <a:chExt cx="1346040" cy="959040"/>
          </a:xfrm>
        </p:grpSpPr>
        <p:sp>
          <p:nvSpPr>
            <p:cNvPr id="2515" name=""/>
            <p:cNvSpPr/>
            <p:nvPr/>
          </p:nvSpPr>
          <p:spPr>
            <a:xfrm flipH="1">
              <a:off x="5690880" y="3281040"/>
              <a:ext cx="62028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rot="21178200">
              <a:off x="5447880" y="3687120"/>
              <a:ext cx="240840" cy="25416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H="1">
              <a:off x="4965120" y="3869640"/>
              <a:ext cx="491400" cy="3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8" name=""/>
          <p:cNvSpPr/>
          <p:nvPr/>
        </p:nvSpPr>
        <p:spPr>
          <a:xfrm flipH="1">
            <a:off x="1413000" y="4249800"/>
            <a:ext cx="35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9" name=""/>
          <p:cNvGrpSpPr/>
          <p:nvPr/>
        </p:nvGrpSpPr>
        <p:grpSpPr>
          <a:xfrm>
            <a:off x="2857680" y="2090880"/>
            <a:ext cx="4192920" cy="1355760"/>
            <a:chOff x="2857680" y="2090880"/>
            <a:chExt cx="4192920" cy="1355760"/>
          </a:xfrm>
        </p:grpSpPr>
        <p:grpSp>
          <p:nvGrpSpPr>
            <p:cNvPr id="2520" name=""/>
            <p:cNvGrpSpPr/>
            <p:nvPr/>
          </p:nvGrpSpPr>
          <p:grpSpPr>
            <a:xfrm>
              <a:off x="2857680" y="2318760"/>
              <a:ext cx="4192920" cy="412560"/>
              <a:chOff x="2857680" y="2318760"/>
              <a:chExt cx="4192920" cy="412560"/>
            </a:xfrm>
          </p:grpSpPr>
          <p:sp>
            <p:nvSpPr>
              <p:cNvPr id="2521" name=""/>
              <p:cNvSpPr/>
              <p:nvPr/>
            </p:nvSpPr>
            <p:spPr>
              <a:xfrm>
                <a:off x="6456960" y="252828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660000" y="2503080"/>
                <a:ext cx="1969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857280" y="245556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4260960" y="2439720"/>
                <a:ext cx="19620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4657680" y="2385720"/>
                <a:ext cx="196200" cy="190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4464000" y="240156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873960" y="24966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067280" y="244908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3254760" y="236628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45780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V="1">
                <a:off x="3061080" y="238572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60680" y="2512440"/>
                <a:ext cx="1897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450760" y="246492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648040" y="2423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044400" y="2366280"/>
                <a:ext cx="196200" cy="197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V="1">
                <a:off x="6247440" y="2318760"/>
                <a:ext cx="19620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645048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V="1">
                <a:off x="5851080" y="2385720"/>
                <a:ext cx="193320" cy="190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6653520" y="23439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6847200" y="239148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5266440" y="2359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5460120" y="240732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5063400" y="233460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4860720" y="233460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V="1">
                <a:off x="3660840" y="23187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3863880" y="234396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4057200" y="2391480"/>
                <a:ext cx="1969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V="1">
                <a:off x="2857680" y="242388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670200" y="2521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070440" y="245556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264120" y="2474280"/>
                <a:ext cx="193320" cy="190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467160" y="252180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457520" y="2474280"/>
                <a:ext cx="193320" cy="19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4854240" y="25376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056920" y="25376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4651200" y="2487240"/>
                <a:ext cx="193320" cy="196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256800" y="2528280"/>
                <a:ext cx="193320" cy="196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053760" y="2480760"/>
                <a:ext cx="1933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857560" y="2464920"/>
                <a:ext cx="19620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53800" y="2423880"/>
                <a:ext cx="196920" cy="193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254480" y="2433240"/>
                <a:ext cx="193320" cy="193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2867400" y="2413800"/>
                <a:ext cx="193320" cy="197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3" name=""/>
            <p:cNvSpPr/>
            <p:nvPr/>
          </p:nvSpPr>
          <p:spPr>
            <a:xfrm>
              <a:off x="5653800" y="2356920"/>
              <a:ext cx="32364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rot="18858000">
              <a:off x="5741640" y="2558520"/>
              <a:ext cx="425160" cy="866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rot="18989400">
              <a:off x="5838120" y="2525040"/>
              <a:ext cx="425160" cy="86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952600" y="2090880"/>
              <a:ext cx="7884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57600" y="2166840"/>
              <a:ext cx="7884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057280" y="294732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799960" y="2318760"/>
              <a:ext cx="788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3" name=""/>
          <p:cNvGrpSpPr/>
          <p:nvPr/>
        </p:nvGrpSpPr>
        <p:grpSpPr>
          <a:xfrm>
            <a:off x="1413000" y="2090880"/>
            <a:ext cx="5637600" cy="2158920"/>
            <a:chOff x="1413000" y="2090880"/>
            <a:chExt cx="5637600" cy="2158920"/>
          </a:xfrm>
        </p:grpSpPr>
        <p:grpSp>
          <p:nvGrpSpPr>
            <p:cNvPr id="2574" name=""/>
            <p:cNvGrpSpPr/>
            <p:nvPr/>
          </p:nvGrpSpPr>
          <p:grpSpPr>
            <a:xfrm>
              <a:off x="4965120" y="3281040"/>
              <a:ext cx="1346040" cy="959040"/>
              <a:chOff x="4965120" y="3281040"/>
              <a:chExt cx="1346040" cy="959040"/>
            </a:xfrm>
          </p:grpSpPr>
          <p:sp>
            <p:nvSpPr>
              <p:cNvPr id="2575" name=""/>
              <p:cNvSpPr/>
              <p:nvPr/>
            </p:nvSpPr>
            <p:spPr>
              <a:xfrm flipH="1">
                <a:off x="5690880" y="328104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rot="21178200">
                <a:off x="5447880" y="368712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H="1">
                <a:off x="4965120" y="386964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8" name=""/>
            <p:cNvSpPr/>
            <p:nvPr/>
          </p:nvSpPr>
          <p:spPr>
            <a:xfrm flipH="1">
              <a:off x="1413000" y="424980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9" name=""/>
            <p:cNvGrpSpPr/>
            <p:nvPr/>
          </p:nvGrpSpPr>
          <p:grpSpPr>
            <a:xfrm>
              <a:off x="2857680" y="2090880"/>
              <a:ext cx="4192920" cy="1355760"/>
              <a:chOff x="2857680" y="2090880"/>
              <a:chExt cx="4192920" cy="1355760"/>
            </a:xfrm>
          </p:grpSpPr>
          <p:grpSp>
            <p:nvGrpSpPr>
              <p:cNvPr id="2580" name=""/>
              <p:cNvGrpSpPr/>
              <p:nvPr/>
            </p:nvGrpSpPr>
            <p:grpSpPr>
              <a:xfrm>
                <a:off x="2857680" y="2318760"/>
                <a:ext cx="4192920" cy="412560"/>
                <a:chOff x="2857680" y="2318760"/>
                <a:chExt cx="4192920" cy="412560"/>
              </a:xfrm>
            </p:grpSpPr>
            <p:sp>
              <p:nvSpPr>
                <p:cNvPr id="2581" name=""/>
                <p:cNvSpPr/>
                <p:nvPr/>
              </p:nvSpPr>
              <p:spPr>
                <a:xfrm>
                  <a:off x="6456960" y="252828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660000" y="2503080"/>
                  <a:ext cx="1969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685728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flipV="1">
                  <a:off x="4260960" y="243972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flipV="1">
                  <a:off x="4657680" y="2385720"/>
                  <a:ext cx="196200" cy="190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V="1">
                  <a:off x="4464000" y="24015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3873960" y="24966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4067280" y="244908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325476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V="1">
                  <a:off x="345780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V="1">
                  <a:off x="30610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260680" y="2512440"/>
                  <a:ext cx="1897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5450760" y="246492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V="1">
                  <a:off x="564804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V="1">
                  <a:off x="604440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V="1">
                  <a:off x="6247440" y="2318760"/>
                  <a:ext cx="19620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645048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V="1">
                  <a:off x="58510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65352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V="1">
                  <a:off x="68472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V="1">
                  <a:off x="5266440" y="2359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V="1">
                  <a:off x="5460120" y="240732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V="1">
                  <a:off x="5063400" y="233460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V="1">
                  <a:off x="4860720" y="233460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V="1">
                  <a:off x="366084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flipV="1">
                  <a:off x="386388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40572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V="1">
                  <a:off x="285768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367020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307044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3264120" y="2474280"/>
                  <a:ext cx="193320" cy="190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346716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4457520" y="2474280"/>
                  <a:ext cx="193320" cy="190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485424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505692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4651200" y="2487240"/>
                  <a:ext cx="193320" cy="19656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256800" y="252828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053760" y="24807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5857560" y="246492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5653800" y="242388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4254480" y="24332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2867400" y="2413800"/>
                  <a:ext cx="193320" cy="197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3" name=""/>
              <p:cNvSpPr/>
              <p:nvPr/>
            </p:nvSpPr>
            <p:spPr>
              <a:xfrm>
                <a:off x="5653800" y="2356920"/>
                <a:ext cx="323640" cy="142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rot="18858000">
                <a:off x="5741640" y="2558520"/>
                <a:ext cx="425160" cy="866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rot="18989400">
                <a:off x="5838120" y="2525040"/>
                <a:ext cx="425160" cy="86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952600" y="209088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5457600" y="216684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057280" y="2947320"/>
                <a:ext cx="7956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799960" y="2318760"/>
                <a:ext cx="78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0" name=""/>
            <p:cNvGrpSpPr/>
            <p:nvPr/>
          </p:nvGrpSpPr>
          <p:grpSpPr>
            <a:xfrm>
              <a:off x="6388200" y="3017880"/>
              <a:ext cx="533160" cy="372960"/>
              <a:chOff x="6388200" y="3017880"/>
              <a:chExt cx="533160" cy="372960"/>
            </a:xfrm>
          </p:grpSpPr>
          <p:sp>
            <p:nvSpPr>
              <p:cNvPr id="2631" name=""/>
              <p:cNvSpPr/>
              <p:nvPr/>
            </p:nvSpPr>
            <p:spPr>
              <a:xfrm>
                <a:off x="6432480" y="3075120"/>
                <a:ext cx="47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388200" y="3017880"/>
                <a:ext cx="533160" cy="37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6" name=""/>
          <p:cNvGrpSpPr/>
          <p:nvPr/>
        </p:nvGrpSpPr>
        <p:grpSpPr>
          <a:xfrm>
            <a:off x="1413000" y="2090880"/>
            <a:ext cx="5637600" cy="2158920"/>
            <a:chOff x="1413000" y="2090880"/>
            <a:chExt cx="5637600" cy="2158920"/>
          </a:xfrm>
        </p:grpSpPr>
        <p:grpSp>
          <p:nvGrpSpPr>
            <p:cNvPr id="2637" name=""/>
            <p:cNvGrpSpPr/>
            <p:nvPr/>
          </p:nvGrpSpPr>
          <p:grpSpPr>
            <a:xfrm>
              <a:off x="4965120" y="3281040"/>
              <a:ext cx="1346040" cy="959040"/>
              <a:chOff x="4965120" y="3281040"/>
              <a:chExt cx="1346040" cy="959040"/>
            </a:xfrm>
          </p:grpSpPr>
          <p:sp>
            <p:nvSpPr>
              <p:cNvPr id="2638" name=""/>
              <p:cNvSpPr/>
              <p:nvPr/>
            </p:nvSpPr>
            <p:spPr>
              <a:xfrm flipH="1">
                <a:off x="5690880" y="3281040"/>
                <a:ext cx="620280" cy="46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rot="21178200">
                <a:off x="5447880" y="3687120"/>
                <a:ext cx="240840" cy="25416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H="1">
                <a:off x="4965120" y="3869640"/>
                <a:ext cx="491400" cy="37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1" name=""/>
            <p:cNvSpPr/>
            <p:nvPr/>
          </p:nvSpPr>
          <p:spPr>
            <a:xfrm flipH="1">
              <a:off x="1413000" y="4249800"/>
              <a:ext cx="356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2" name=""/>
            <p:cNvGrpSpPr/>
            <p:nvPr/>
          </p:nvGrpSpPr>
          <p:grpSpPr>
            <a:xfrm>
              <a:off x="2857680" y="2090880"/>
              <a:ext cx="4192920" cy="1355760"/>
              <a:chOff x="2857680" y="2090880"/>
              <a:chExt cx="4192920" cy="1355760"/>
            </a:xfrm>
          </p:grpSpPr>
          <p:grpSp>
            <p:nvGrpSpPr>
              <p:cNvPr id="2643" name=""/>
              <p:cNvGrpSpPr/>
              <p:nvPr/>
            </p:nvGrpSpPr>
            <p:grpSpPr>
              <a:xfrm>
                <a:off x="2857680" y="2318760"/>
                <a:ext cx="4192920" cy="412560"/>
                <a:chOff x="2857680" y="2318760"/>
                <a:chExt cx="4192920" cy="41256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456960" y="252828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660000" y="2503080"/>
                  <a:ext cx="1969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85728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V="1">
                  <a:off x="4260960" y="2439720"/>
                  <a:ext cx="19620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V="1">
                  <a:off x="4657680" y="2385720"/>
                  <a:ext cx="196200" cy="190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flipV="1">
                  <a:off x="4464000" y="24015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3873960" y="24966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4067280" y="244908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flipV="1">
                  <a:off x="325476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V="1">
                  <a:off x="345780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flipV="1">
                  <a:off x="30610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5260680" y="2512440"/>
                  <a:ext cx="1897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5450760" y="246492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flipV="1">
                  <a:off x="564804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V="1">
                  <a:off x="6044400" y="2366280"/>
                  <a:ext cx="196200" cy="197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V="1">
                  <a:off x="6247440" y="2318760"/>
                  <a:ext cx="19620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V="1">
                  <a:off x="645048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V="1">
                  <a:off x="5851080" y="2385720"/>
                  <a:ext cx="193320" cy="190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V="1">
                  <a:off x="665352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V="1">
                  <a:off x="68472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V="1">
                  <a:off x="5266440" y="2359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V="1">
                  <a:off x="5460120" y="240732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flipV="1">
                  <a:off x="5063400" y="233460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V="1">
                  <a:off x="4860720" y="233460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V="1">
                  <a:off x="3660840" y="23187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V="1">
                  <a:off x="3863880" y="234396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V="1">
                  <a:off x="4057200" y="2391480"/>
                  <a:ext cx="1969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flipV="1">
                  <a:off x="2857680" y="242388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367020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3070440" y="245556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3264120" y="2474280"/>
                  <a:ext cx="193320" cy="190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3467160" y="252180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4457520" y="2474280"/>
                  <a:ext cx="193320" cy="190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485424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5056920" y="25376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4651200" y="2487240"/>
                  <a:ext cx="193320" cy="19656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256800" y="2528280"/>
                  <a:ext cx="193320" cy="1965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053760" y="2480760"/>
                  <a:ext cx="1933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5857560" y="2464920"/>
                  <a:ext cx="19620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5653800" y="2423880"/>
                  <a:ext cx="196920" cy="1936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4254480" y="2433240"/>
                  <a:ext cx="193320" cy="1936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2867400" y="2413800"/>
                  <a:ext cx="193320" cy="197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6" name=""/>
              <p:cNvSpPr/>
              <p:nvPr/>
            </p:nvSpPr>
            <p:spPr>
              <a:xfrm>
                <a:off x="5653800" y="2356920"/>
                <a:ext cx="323640" cy="1429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rot="18858000">
                <a:off x="5741640" y="2558520"/>
                <a:ext cx="425160" cy="866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rot="18989400">
                <a:off x="5838120" y="2525040"/>
                <a:ext cx="425160" cy="86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952600" y="209088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457600" y="2166840"/>
                <a:ext cx="78840" cy="6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057280" y="2947320"/>
                <a:ext cx="7956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799960" y="2318760"/>
                <a:ext cx="78840" cy="6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3" name=""/>
            <p:cNvGrpSpPr/>
            <p:nvPr/>
          </p:nvGrpSpPr>
          <p:grpSpPr>
            <a:xfrm>
              <a:off x="6271560" y="2975040"/>
              <a:ext cx="622800" cy="565560"/>
              <a:chOff x="6271560" y="2975040"/>
              <a:chExt cx="622800" cy="565560"/>
            </a:xfrm>
          </p:grpSpPr>
          <p:sp>
            <p:nvSpPr>
              <p:cNvPr id="2694" name=""/>
              <p:cNvSpPr/>
              <p:nvPr/>
            </p:nvSpPr>
            <p:spPr>
              <a:xfrm>
                <a:off x="6351480" y="299088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403680" y="297504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283080" y="325440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271560" y="32641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1" name=""/>
          <p:cNvGrpSpPr/>
          <p:nvPr/>
        </p:nvGrpSpPr>
        <p:grpSpPr>
          <a:xfrm>
            <a:off x="4965120" y="3585960"/>
            <a:ext cx="1346040" cy="959040"/>
            <a:chOff x="4965120" y="3585960"/>
            <a:chExt cx="1346040" cy="959040"/>
          </a:xfrm>
        </p:grpSpPr>
        <p:sp>
          <p:nvSpPr>
            <p:cNvPr id="2702" name=""/>
            <p:cNvSpPr/>
            <p:nvPr/>
          </p:nvSpPr>
          <p:spPr>
            <a:xfrm flipH="1">
              <a:off x="5690880" y="3585960"/>
              <a:ext cx="62028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rot="21178200">
              <a:off x="5447880" y="3992040"/>
              <a:ext cx="240840" cy="25416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4965120" y="4174560"/>
              <a:ext cx="491400" cy="3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5" name=""/>
          <p:cNvSpPr/>
          <p:nvPr/>
        </p:nvSpPr>
        <p:spPr>
          <a:xfrm flipH="1">
            <a:off x="1413000" y="4554360"/>
            <a:ext cx="35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2857680" y="2319120"/>
            <a:ext cx="4193280" cy="412200"/>
            <a:chOff x="2857680" y="2319120"/>
            <a:chExt cx="4193280" cy="412200"/>
          </a:xfrm>
        </p:grpSpPr>
        <p:sp>
          <p:nvSpPr>
            <p:cNvPr id="2707" name=""/>
            <p:cNvSpPr/>
            <p:nvPr/>
          </p:nvSpPr>
          <p:spPr>
            <a:xfrm>
              <a:off x="6457320" y="2528640"/>
              <a:ext cx="19620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660360" y="2503440"/>
              <a:ext cx="19692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857640" y="2455920"/>
              <a:ext cx="19332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4260960" y="2439360"/>
              <a:ext cx="19620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4657680" y="2385360"/>
              <a:ext cx="196200" cy="1897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4464000" y="240120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873960" y="249696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67640" y="244944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V="1">
              <a:off x="3254760" y="2365920"/>
              <a:ext cx="196200" cy="196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3457800" y="231876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3061080" y="2385360"/>
              <a:ext cx="193320" cy="189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261040" y="2512800"/>
              <a:ext cx="1897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51120" y="2465280"/>
              <a:ext cx="1969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5648400" y="242352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6044760" y="2365920"/>
              <a:ext cx="196200" cy="196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6247800" y="2318760"/>
              <a:ext cx="19620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6450840" y="231876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5851080" y="2385360"/>
              <a:ext cx="193320" cy="189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V="1">
              <a:off x="6653880" y="23436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V="1">
              <a:off x="6847560" y="2391120"/>
              <a:ext cx="1969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5266800" y="235944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V="1">
              <a:off x="5460480" y="240696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5063760" y="2334240"/>
              <a:ext cx="1969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V="1">
              <a:off x="4860720" y="2334240"/>
              <a:ext cx="19620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3660840" y="231876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V="1">
              <a:off x="3863880" y="23436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4057560" y="2391120"/>
              <a:ext cx="1969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V="1">
              <a:off x="2857680" y="242352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670200" y="252216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070440" y="2455920"/>
              <a:ext cx="19332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264120" y="2474640"/>
              <a:ext cx="193320" cy="190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467160" y="252216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457520" y="2474640"/>
              <a:ext cx="193320" cy="190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854240" y="25380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057280" y="25380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651200" y="2487600"/>
              <a:ext cx="193320" cy="196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257160" y="2528640"/>
              <a:ext cx="193320" cy="196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054120" y="2481120"/>
              <a:ext cx="1933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857560" y="2465280"/>
              <a:ext cx="19620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53800" y="2424240"/>
              <a:ext cx="196920" cy="193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254840" y="2433600"/>
              <a:ext cx="193320" cy="19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867400" y="2414160"/>
              <a:ext cx="193320" cy="196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9" name=""/>
          <p:cNvSpPr/>
          <p:nvPr/>
        </p:nvSpPr>
        <p:spPr>
          <a:xfrm>
            <a:off x="5654520" y="2357280"/>
            <a:ext cx="324000" cy="142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rot="18858000">
            <a:off x="5742000" y="2863440"/>
            <a:ext cx="425520" cy="866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rot="18989400">
            <a:off x="5838480" y="2817720"/>
            <a:ext cx="425520" cy="86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952960" y="2090880"/>
            <a:ext cx="795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457960" y="2166840"/>
            <a:ext cx="792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5057640" y="3252960"/>
            <a:ext cx="795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5800680" y="2319480"/>
            <a:ext cx="795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6" name=""/>
          <p:cNvGrpSpPr/>
          <p:nvPr/>
        </p:nvGrpSpPr>
        <p:grpSpPr>
          <a:xfrm>
            <a:off x="6271560" y="3279600"/>
            <a:ext cx="622800" cy="565560"/>
            <a:chOff x="6271560" y="3279600"/>
            <a:chExt cx="622800" cy="565560"/>
          </a:xfrm>
        </p:grpSpPr>
        <p:sp>
          <p:nvSpPr>
            <p:cNvPr id="2757" name=""/>
            <p:cNvSpPr/>
            <p:nvPr/>
          </p:nvSpPr>
          <p:spPr>
            <a:xfrm>
              <a:off x="6351480" y="3295440"/>
              <a:ext cx="54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403680" y="3279600"/>
              <a:ext cx="419040" cy="29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283080" y="3558960"/>
              <a:ext cx="285840" cy="2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271560" y="356868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4" name=""/>
          <p:cNvGrpSpPr/>
          <p:nvPr/>
        </p:nvGrpSpPr>
        <p:grpSpPr>
          <a:xfrm>
            <a:off x="1418760" y="2090880"/>
            <a:ext cx="5717160" cy="2471040"/>
            <a:chOff x="1418760" y="2090880"/>
            <a:chExt cx="5717160" cy="2471040"/>
          </a:xfrm>
        </p:grpSpPr>
        <p:grpSp>
          <p:nvGrpSpPr>
            <p:cNvPr id="2765" name=""/>
            <p:cNvGrpSpPr/>
            <p:nvPr/>
          </p:nvGrpSpPr>
          <p:grpSpPr>
            <a:xfrm>
              <a:off x="1418760" y="2896920"/>
              <a:ext cx="5228640" cy="1665000"/>
              <a:chOff x="1418760" y="2896920"/>
              <a:chExt cx="5228640" cy="1665000"/>
            </a:xfrm>
          </p:grpSpPr>
          <p:sp>
            <p:nvSpPr>
              <p:cNvPr id="2766" name=""/>
              <p:cNvSpPr/>
              <p:nvPr/>
            </p:nvSpPr>
            <p:spPr>
              <a:xfrm rot="21118800">
                <a:off x="6093000" y="2922120"/>
                <a:ext cx="425160" cy="867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222240" y="2922480"/>
                <a:ext cx="425160" cy="86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flipH="1">
                <a:off x="5753880" y="3773880"/>
                <a:ext cx="673920" cy="38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502600" y="4086360"/>
                <a:ext cx="239760" cy="25452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3" y="20"/>
                    </a:moveTo>
                    <a:cubicBezTo>
                      <a:pt x="52" y="10"/>
                      <a:pt x="41" y="0"/>
                      <a:pt x="39" y="5"/>
                    </a:cubicBezTo>
                    <a:cubicBezTo>
                      <a:pt x="37" y="10"/>
                      <a:pt x="51" y="48"/>
                      <a:pt x="48" y="50"/>
                    </a:cubicBezTo>
                    <a:cubicBezTo>
                      <a:pt x="45" y="52"/>
                      <a:pt x="22" y="15"/>
                      <a:pt x="18" y="17"/>
                    </a:cubicBezTo>
                    <a:cubicBezTo>
                      <a:pt x="14" y="19"/>
                      <a:pt x="27" y="57"/>
                      <a:pt x="24" y="62"/>
                    </a:cubicBezTo>
                    <a:cubicBezTo>
                      <a:pt x="21" y="67"/>
                      <a:pt x="10" y="57"/>
                      <a:pt x="0" y="4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H="1">
                <a:off x="4973400" y="4253760"/>
                <a:ext cx="532440" cy="30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H="1">
                <a:off x="1418760" y="4561920"/>
                <a:ext cx="356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2" name=""/>
            <p:cNvGrpSpPr/>
            <p:nvPr/>
          </p:nvGrpSpPr>
          <p:grpSpPr>
            <a:xfrm>
              <a:off x="6513120" y="3406680"/>
              <a:ext cx="622800" cy="565560"/>
              <a:chOff x="6513120" y="3406680"/>
              <a:chExt cx="622800" cy="565560"/>
            </a:xfrm>
          </p:grpSpPr>
          <p:sp>
            <p:nvSpPr>
              <p:cNvPr id="2773" name=""/>
              <p:cNvSpPr/>
              <p:nvPr/>
            </p:nvSpPr>
            <p:spPr>
              <a:xfrm>
                <a:off x="6593040" y="3422520"/>
                <a:ext cx="54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645240" y="3406680"/>
                <a:ext cx="419040" cy="29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524640" y="3686040"/>
                <a:ext cx="28584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513120" y="36957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7" name=""/>
            <p:cNvGrpSpPr/>
            <p:nvPr/>
          </p:nvGrpSpPr>
          <p:grpSpPr>
            <a:xfrm>
              <a:off x="2857680" y="2319120"/>
              <a:ext cx="4193280" cy="412200"/>
              <a:chOff x="2857680" y="2319120"/>
              <a:chExt cx="4193280" cy="412200"/>
            </a:xfrm>
          </p:grpSpPr>
          <p:sp>
            <p:nvSpPr>
              <p:cNvPr id="2778" name=""/>
              <p:cNvSpPr/>
              <p:nvPr/>
            </p:nvSpPr>
            <p:spPr>
              <a:xfrm>
                <a:off x="6457320" y="252864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660360" y="2503440"/>
                <a:ext cx="1969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8576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V="1">
                <a:off x="4260960" y="2439360"/>
                <a:ext cx="19620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V="1">
                <a:off x="4657680" y="2385360"/>
                <a:ext cx="196200" cy="189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4464000" y="240120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873960" y="249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4067640" y="244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V="1">
                <a:off x="32547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V="1">
                <a:off x="345780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V="1">
                <a:off x="30610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261040" y="2512800"/>
                <a:ext cx="1897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51120" y="246528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V="1">
                <a:off x="564840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6044760" y="2365920"/>
                <a:ext cx="196200" cy="196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V="1">
                <a:off x="6247800" y="2318760"/>
                <a:ext cx="19620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V="1">
                <a:off x="64508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5851080" y="2385360"/>
                <a:ext cx="193320" cy="1897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66538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V="1">
                <a:off x="684756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5266800" y="235944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V="1">
                <a:off x="5460480" y="24069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V="1">
                <a:off x="5063760" y="233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4860720" y="233424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V="1">
                <a:off x="3660840" y="231876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3863880" y="234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4057560" y="2391120"/>
                <a:ext cx="1969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2857680" y="242352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367020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3070440" y="245592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3264120" y="2474640"/>
                <a:ext cx="193320" cy="190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3467160" y="252216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457520" y="2474640"/>
                <a:ext cx="193320" cy="190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85424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057280" y="25380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651200" y="2487600"/>
                <a:ext cx="193320" cy="196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6257160" y="2528640"/>
                <a:ext cx="193320" cy="196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054120" y="2481120"/>
                <a:ext cx="1933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857560" y="2465280"/>
                <a:ext cx="19620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653800" y="2424240"/>
                <a:ext cx="196920" cy="193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254840" y="2433600"/>
                <a:ext cx="193320" cy="1933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867400" y="2414160"/>
                <a:ext cx="193320" cy="196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0" name=""/>
            <p:cNvSpPr/>
            <p:nvPr/>
          </p:nvSpPr>
          <p:spPr>
            <a:xfrm>
              <a:off x="5654520" y="2357280"/>
              <a:ext cx="324000" cy="142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952960" y="20908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457960" y="2166840"/>
              <a:ext cx="792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800680" y="2319480"/>
              <a:ext cx="79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rot="16200000">
            <a:off x="602928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903640" y="460224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648504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751536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148520" y="14349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7486560" y="2309760"/>
            <a:ext cx="10303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0" name=""/>
          <p:cNvGrpSpPr/>
          <p:nvPr/>
        </p:nvGrpSpPr>
        <p:grpSpPr>
          <a:xfrm>
            <a:off x="320760" y="840600"/>
            <a:ext cx="4696920" cy="4443840"/>
            <a:chOff x="320760" y="840600"/>
            <a:chExt cx="4696920" cy="4443840"/>
          </a:xfrm>
        </p:grpSpPr>
        <p:sp>
          <p:nvSpPr>
            <p:cNvPr id="2841" name=""/>
            <p:cNvSpPr/>
            <p:nvPr/>
          </p:nvSpPr>
          <p:spPr>
            <a:xfrm>
              <a:off x="925560" y="1992240"/>
              <a:ext cx="3573360" cy="2154240"/>
            </a:xfrm>
            <a:custGeom>
              <a:avLst/>
              <a:gdLst/>
              <a:ahLst/>
              <a:rect l="l" t="t" r="r" b="b"/>
              <a:pathLst>
                <a:path w="1218" h="1008">
                  <a:moveTo>
                    <a:pt x="0" y="0"/>
                  </a:moveTo>
                  <a:lnTo>
                    <a:pt x="0" y="1008"/>
                  </a:lnTo>
                  <a:lnTo>
                    <a:pt x="1218" y="10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6200000">
              <a:off x="1755720" y="2764080"/>
              <a:ext cx="2974320" cy="20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H="1" flipV="1">
              <a:off x="3246480" y="840240"/>
              <a:ext cx="1771200" cy="294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122640" y="429588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emps (mi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6200000">
              <a:off x="71280" y="270612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168560" y="43052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211480" y="43052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241800" y="185256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052440" y="1409760"/>
              <a:ext cx="7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0 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927000" y="3801960"/>
              <a:ext cx="1282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67560" y="828720"/>
            <a:ext cx="5906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et de l’ATP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: interprétation molé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078200" y="185112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 + 0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484960" y="183816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 + 0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199120" y="1992240"/>
            <a:ext cx="3573360" cy="215280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 rot="16200000">
            <a:off x="6029280" y="2764080"/>
            <a:ext cx="2974320" cy="20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345440" y="4295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903640" y="460224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+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146200" y="4659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544212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6485040" y="430524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7515360" y="18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7148520" y="14349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7486560" y="2309760"/>
            <a:ext cx="10303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1858680" y="4659480"/>
            <a:ext cx="12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 + 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860040" y="4659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0" name=""/>
          <p:cNvGrpSpPr/>
          <p:nvPr/>
        </p:nvGrpSpPr>
        <p:grpSpPr>
          <a:xfrm>
            <a:off x="320760" y="840600"/>
            <a:ext cx="4696920" cy="4443840"/>
            <a:chOff x="320760" y="840600"/>
            <a:chExt cx="4696920" cy="4443840"/>
          </a:xfrm>
        </p:grpSpPr>
        <p:sp>
          <p:nvSpPr>
            <p:cNvPr id="2871" name=""/>
            <p:cNvSpPr/>
            <p:nvPr/>
          </p:nvSpPr>
          <p:spPr>
            <a:xfrm>
              <a:off x="925560" y="1992240"/>
              <a:ext cx="3573360" cy="2154240"/>
            </a:xfrm>
            <a:custGeom>
              <a:avLst/>
              <a:gdLst/>
              <a:ahLst/>
              <a:rect l="l" t="t" r="r" b="b"/>
              <a:pathLst>
                <a:path w="1218" h="1008">
                  <a:moveTo>
                    <a:pt x="0" y="0"/>
                  </a:moveTo>
                  <a:lnTo>
                    <a:pt x="0" y="1008"/>
                  </a:lnTo>
                  <a:lnTo>
                    <a:pt x="1218" y="10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rot="16200000">
              <a:off x="1755720" y="2764080"/>
              <a:ext cx="2974320" cy="20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H="1" flipV="1">
              <a:off x="3246480" y="840240"/>
              <a:ext cx="1771200" cy="294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122640" y="429588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emps (mi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 rot="16200000">
              <a:off x="71280" y="270612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168560" y="43052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211480" y="43052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241800" y="185256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052440" y="1409760"/>
              <a:ext cx="7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0 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927000" y="3801960"/>
              <a:ext cx="1282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1" name=""/>
          <p:cNvSpPr/>
          <p:nvPr/>
        </p:nvSpPr>
        <p:spPr>
          <a:xfrm>
            <a:off x="5207040" y="3801960"/>
            <a:ext cx="12826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176040" y="206280"/>
            <a:ext cx="83142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formation cyclique des ponts actomyo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66760" y="1371600"/>
            <a:ext cx="4508280" cy="3632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078200" y="185112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 + 0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993960" y="5267160"/>
            <a:ext cx="29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as de ponts actomyo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1298520" y="2379240"/>
            <a:ext cx="3142440" cy="1136520"/>
            <a:chOff x="1298520" y="2379240"/>
            <a:chExt cx="3142440" cy="1136520"/>
          </a:xfrm>
        </p:grpSpPr>
        <p:grpSp>
          <p:nvGrpSpPr>
            <p:cNvPr id="2888" name=""/>
            <p:cNvGrpSpPr/>
            <p:nvPr/>
          </p:nvGrpSpPr>
          <p:grpSpPr>
            <a:xfrm>
              <a:off x="1298520" y="2379240"/>
              <a:ext cx="3142440" cy="1136520"/>
              <a:chOff x="1298520" y="2379240"/>
              <a:chExt cx="3142440" cy="1136520"/>
            </a:xfrm>
          </p:grpSpPr>
          <p:grpSp>
            <p:nvGrpSpPr>
              <p:cNvPr id="2889" name=""/>
              <p:cNvGrpSpPr/>
              <p:nvPr/>
            </p:nvGrpSpPr>
            <p:grpSpPr>
              <a:xfrm>
                <a:off x="1298520" y="2682720"/>
                <a:ext cx="2615760" cy="833040"/>
                <a:chOff x="1298520" y="2682720"/>
                <a:chExt cx="2615760" cy="833040"/>
              </a:xfrm>
            </p:grpSpPr>
            <p:sp>
              <p:nvSpPr>
                <p:cNvPr id="2890" name=""/>
                <p:cNvSpPr/>
                <p:nvPr/>
              </p:nvSpPr>
              <p:spPr>
                <a:xfrm rot="21118800">
                  <a:off x="3636720" y="2695320"/>
                  <a:ext cx="212760" cy="433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3701520" y="2695680"/>
                  <a:ext cx="212760" cy="433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flipH="1">
                  <a:off x="3467160" y="3121560"/>
                  <a:ext cx="336960" cy="19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3341520" y="3277800"/>
                  <a:ext cx="119880" cy="127080"/>
                </a:xfrm>
                <a:custGeom>
                  <a:avLst/>
                  <a:gdLst/>
                  <a:ahLst/>
                  <a:rect l="l" t="t" r="r" b="b"/>
                  <a:pathLst>
                    <a:path w="63" h="67">
                      <a:moveTo>
                        <a:pt x="63" y="20"/>
                      </a:moveTo>
                      <a:cubicBezTo>
                        <a:pt x="52" y="10"/>
                        <a:pt x="41" y="0"/>
                        <a:pt x="39" y="5"/>
                      </a:cubicBezTo>
                      <a:cubicBezTo>
                        <a:pt x="37" y="10"/>
                        <a:pt x="51" y="48"/>
                        <a:pt x="48" y="50"/>
                      </a:cubicBezTo>
                      <a:cubicBezTo>
                        <a:pt x="45" y="52"/>
                        <a:pt x="22" y="15"/>
                        <a:pt x="18" y="17"/>
                      </a:cubicBezTo>
                      <a:cubicBezTo>
                        <a:pt x="14" y="19"/>
                        <a:pt x="27" y="57"/>
                        <a:pt x="24" y="62"/>
                      </a:cubicBezTo>
                      <a:cubicBezTo>
                        <a:pt x="21" y="67"/>
                        <a:pt x="10" y="57"/>
                        <a:pt x="0" y="4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flipH="1">
                  <a:off x="3076560" y="3361680"/>
                  <a:ext cx="266040" cy="154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H="1">
                  <a:off x="1298520" y="3515760"/>
                  <a:ext cx="1782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6" name=""/>
              <p:cNvGrpSpPr/>
              <p:nvPr/>
            </p:nvGrpSpPr>
            <p:grpSpPr>
              <a:xfrm>
                <a:off x="3864600" y="2874960"/>
                <a:ext cx="494640" cy="276480"/>
                <a:chOff x="3864600" y="2874960"/>
                <a:chExt cx="494640" cy="276480"/>
              </a:xfrm>
            </p:grpSpPr>
            <p:sp>
              <p:nvSpPr>
                <p:cNvPr id="2897" name=""/>
                <p:cNvSpPr/>
                <p:nvPr/>
              </p:nvSpPr>
              <p:spPr>
                <a:xfrm>
                  <a:off x="3864600" y="2874960"/>
                  <a:ext cx="494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AD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3911400" y="2880000"/>
                  <a:ext cx="380520" cy="266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9" name=""/>
              <p:cNvGrpSpPr/>
              <p:nvPr/>
            </p:nvGrpSpPr>
            <p:grpSpPr>
              <a:xfrm>
                <a:off x="3763080" y="3049560"/>
                <a:ext cx="308880" cy="276480"/>
                <a:chOff x="3763080" y="3049560"/>
                <a:chExt cx="308880" cy="276480"/>
              </a:xfrm>
            </p:grpSpPr>
            <p:sp>
              <p:nvSpPr>
                <p:cNvPr id="2900" name=""/>
                <p:cNvSpPr/>
                <p:nvPr/>
              </p:nvSpPr>
              <p:spPr>
                <a:xfrm>
                  <a:off x="3806280" y="3089160"/>
                  <a:ext cx="199440" cy="2001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3763080" y="3049560"/>
                  <a:ext cx="308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P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2" name=""/>
              <p:cNvGrpSpPr/>
              <p:nvPr/>
            </p:nvGrpSpPr>
            <p:grpSpPr>
              <a:xfrm>
                <a:off x="2344320" y="2379240"/>
                <a:ext cx="2096640" cy="206640"/>
                <a:chOff x="2344320" y="2379240"/>
                <a:chExt cx="2096640" cy="206640"/>
              </a:xfrm>
            </p:grpSpPr>
            <p:sp>
              <p:nvSpPr>
                <p:cNvPr id="2903" name=""/>
                <p:cNvSpPr/>
                <p:nvPr/>
              </p:nvSpPr>
              <p:spPr>
                <a:xfrm>
                  <a:off x="4144320" y="2484360"/>
                  <a:ext cx="9792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4245840" y="2471760"/>
                  <a:ext cx="9828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4344480" y="2448000"/>
                  <a:ext cx="9648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V="1">
                  <a:off x="3045960" y="2439360"/>
                  <a:ext cx="9792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V="1">
                  <a:off x="3244320" y="2413080"/>
                  <a:ext cx="97920" cy="950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V="1">
                  <a:off x="3147480" y="242028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2852280" y="246852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2949120" y="244476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flipV="1">
                  <a:off x="2542680" y="2403360"/>
                  <a:ext cx="97920" cy="986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V="1">
                  <a:off x="2644200" y="23788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flipV="1">
                  <a:off x="2445840" y="2413080"/>
                  <a:ext cx="96480" cy="950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3546000" y="2476440"/>
                  <a:ext cx="946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3641040" y="2452680"/>
                  <a:ext cx="982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flipV="1">
                  <a:off x="3739680" y="24314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V="1">
                  <a:off x="3938040" y="2403360"/>
                  <a:ext cx="97920" cy="986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V="1">
                  <a:off x="4039560" y="2378880"/>
                  <a:ext cx="9792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flipV="1">
                  <a:off x="4141080" y="23788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flipV="1">
                  <a:off x="3841200" y="2413080"/>
                  <a:ext cx="96480" cy="950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V="1">
                  <a:off x="4242600" y="23914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flipV="1">
                  <a:off x="4339440" y="2415240"/>
                  <a:ext cx="982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flipV="1">
                  <a:off x="3548880" y="239940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V="1">
                  <a:off x="3645720" y="242316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V="1">
                  <a:off x="3447360" y="2386800"/>
                  <a:ext cx="982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 flipV="1">
                  <a:off x="3345840" y="2386800"/>
                  <a:ext cx="9792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V="1">
                  <a:off x="2745720" y="23788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V="1">
                  <a:off x="2847240" y="239148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 flipV="1">
                  <a:off x="2944080" y="2415240"/>
                  <a:ext cx="982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V="1">
                  <a:off x="2344320" y="24314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2750400" y="248112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2450520" y="2448000"/>
                  <a:ext cx="9648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2547360" y="2457360"/>
                  <a:ext cx="96480" cy="954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2648880" y="248112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3144240" y="2457360"/>
                  <a:ext cx="96480" cy="954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3342600" y="24890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3444120" y="24890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3241080" y="2463840"/>
                  <a:ext cx="96480" cy="982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4044240" y="2484360"/>
                  <a:ext cx="96480" cy="98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3942720" y="2460600"/>
                  <a:ext cx="964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3844440" y="2452680"/>
                  <a:ext cx="9792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3742560" y="2432160"/>
                  <a:ext cx="98280" cy="96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3042720" y="2436840"/>
                  <a:ext cx="96480" cy="96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2349000" y="2427120"/>
                  <a:ext cx="96480" cy="986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5" name=""/>
            <p:cNvSpPr/>
            <p:nvPr/>
          </p:nvSpPr>
          <p:spPr>
            <a:xfrm>
              <a:off x="3705120" y="2532240"/>
              <a:ext cx="162000" cy="71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>
            <a:off x="4863960" y="1447920"/>
            <a:ext cx="4038840" cy="3632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5484960" y="183816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 + 0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325480" y="526896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onts actomyosiques verrouill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9" name=""/>
          <p:cNvGrpSpPr/>
          <p:nvPr/>
        </p:nvGrpSpPr>
        <p:grpSpPr>
          <a:xfrm>
            <a:off x="7439760" y="2878200"/>
            <a:ext cx="673560" cy="479520"/>
            <a:chOff x="7439760" y="2878200"/>
            <a:chExt cx="673560" cy="479520"/>
          </a:xfrm>
        </p:grpSpPr>
        <p:sp>
          <p:nvSpPr>
            <p:cNvPr id="2950" name=""/>
            <p:cNvSpPr/>
            <p:nvPr/>
          </p:nvSpPr>
          <p:spPr>
            <a:xfrm flipH="1">
              <a:off x="7803000" y="2878200"/>
              <a:ext cx="31032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21178200">
              <a:off x="7681680" y="3080880"/>
              <a:ext cx="120600" cy="12708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63" y="20"/>
                  </a:moveTo>
                  <a:cubicBezTo>
                    <a:pt x="52" y="10"/>
                    <a:pt x="41" y="0"/>
                    <a:pt x="39" y="5"/>
                  </a:cubicBezTo>
                  <a:cubicBezTo>
                    <a:pt x="37" y="10"/>
                    <a:pt x="51" y="48"/>
                    <a:pt x="48" y="50"/>
                  </a:cubicBezTo>
                  <a:cubicBezTo>
                    <a:pt x="45" y="52"/>
                    <a:pt x="22" y="15"/>
                    <a:pt x="18" y="17"/>
                  </a:cubicBezTo>
                  <a:cubicBezTo>
                    <a:pt x="14" y="19"/>
                    <a:pt x="27" y="57"/>
                    <a:pt x="24" y="62"/>
                  </a:cubicBezTo>
                  <a:cubicBezTo>
                    <a:pt x="21" y="67"/>
                    <a:pt x="10" y="57"/>
                    <a:pt x="0" y="4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H="1">
              <a:off x="7439760" y="3172320"/>
              <a:ext cx="246240" cy="1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3" name=""/>
          <p:cNvSpPr/>
          <p:nvPr/>
        </p:nvSpPr>
        <p:spPr>
          <a:xfrm flipH="1">
            <a:off x="5664240" y="336240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4" name=""/>
          <p:cNvGrpSpPr/>
          <p:nvPr/>
        </p:nvGrpSpPr>
        <p:grpSpPr>
          <a:xfrm>
            <a:off x="6386400" y="2282760"/>
            <a:ext cx="2097360" cy="678240"/>
            <a:chOff x="6386400" y="2282760"/>
            <a:chExt cx="2097360" cy="678240"/>
          </a:xfrm>
        </p:grpSpPr>
        <p:grpSp>
          <p:nvGrpSpPr>
            <p:cNvPr id="2955" name=""/>
            <p:cNvGrpSpPr/>
            <p:nvPr/>
          </p:nvGrpSpPr>
          <p:grpSpPr>
            <a:xfrm>
              <a:off x="6386400" y="2396520"/>
              <a:ext cx="2097360" cy="206640"/>
              <a:chOff x="6386400" y="2396520"/>
              <a:chExt cx="2097360" cy="206640"/>
            </a:xfrm>
          </p:grpSpPr>
          <p:sp>
            <p:nvSpPr>
              <p:cNvPr id="2956" name=""/>
              <p:cNvSpPr/>
              <p:nvPr/>
            </p:nvSpPr>
            <p:spPr>
              <a:xfrm>
                <a:off x="8186760" y="2501640"/>
                <a:ext cx="9828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288280" y="2489040"/>
                <a:ext cx="9864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8386920" y="2465280"/>
                <a:ext cx="9684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7088400" y="2456640"/>
                <a:ext cx="9828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7286760" y="2430360"/>
                <a:ext cx="98280" cy="95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V="1">
                <a:off x="7189920" y="243756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894720" y="248580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991560" y="246204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6585120" y="2420640"/>
                <a:ext cx="98280" cy="986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6686640" y="23961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6488280" y="2430360"/>
                <a:ext cx="96840" cy="950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588440" y="2493720"/>
                <a:ext cx="950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683480" y="2469960"/>
                <a:ext cx="986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7782120" y="24487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7980480" y="2420640"/>
                <a:ext cx="98280" cy="986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8082000" y="2396160"/>
                <a:ext cx="9828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8183520" y="23961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7883640" y="2430360"/>
                <a:ext cx="96840" cy="950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8285040" y="24087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8381880" y="2432520"/>
                <a:ext cx="986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7591320" y="241668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7688160" y="244044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7489800" y="2404080"/>
                <a:ext cx="986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7388280" y="2404080"/>
                <a:ext cx="9828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6788160" y="23961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6889680" y="240876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6986520" y="2432520"/>
                <a:ext cx="986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6386400" y="24487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792840" y="249840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492960" y="2465280"/>
                <a:ext cx="9684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589800" y="2474640"/>
                <a:ext cx="96840" cy="95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691320" y="249840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186680" y="2474640"/>
                <a:ext cx="96840" cy="954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385040" y="25063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486560" y="25063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283520" y="2481120"/>
                <a:ext cx="96840" cy="982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8086680" y="2501640"/>
                <a:ext cx="96840" cy="98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985160" y="2477880"/>
                <a:ext cx="968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886880" y="2469960"/>
                <a:ext cx="9828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785000" y="2449440"/>
                <a:ext cx="98640" cy="96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085160" y="2454120"/>
                <a:ext cx="96840" cy="96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391440" y="2444400"/>
                <a:ext cx="96840" cy="98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8" name=""/>
            <p:cNvSpPr/>
            <p:nvPr/>
          </p:nvSpPr>
          <p:spPr>
            <a:xfrm>
              <a:off x="7785000" y="2415960"/>
              <a:ext cx="162000" cy="71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rot="18858000">
              <a:off x="7828560" y="2516400"/>
              <a:ext cx="212760" cy="433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rot="18989400">
              <a:off x="7877160" y="2499840"/>
              <a:ext cx="212760" cy="433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934400" y="2282760"/>
              <a:ext cx="396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686720" y="2320920"/>
              <a:ext cx="396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486560" y="2711160"/>
              <a:ext cx="39960" cy="33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858080" y="2396880"/>
              <a:ext cx="39600" cy="33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5" name=""/>
          <p:cNvSpPr/>
          <p:nvPr/>
        </p:nvSpPr>
        <p:spPr>
          <a:xfrm>
            <a:off x="367560" y="828720"/>
            <a:ext cx="59065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en-GB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et de l’ATP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: interprétation molé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180720" y="206280"/>
            <a:ext cx="5725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sources d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544320" y="115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673200" y="1490760"/>
            <a:ext cx="765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produite par l’hydrolyse  de l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mécanique = travail : contraction musculaire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2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thermique = chaleur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7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s d’ATP faibles dans la cellule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180720" y="206280"/>
            <a:ext cx="5725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sources d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544320" y="115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673200" y="1490760"/>
            <a:ext cx="765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produite par l’hydrolyse  de l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mécanique = travail : contraction musculaire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2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thermique = chaleur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7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s d’ATP faibles dans la cellule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46840" y="286236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hosphocréa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1819080" y="371628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hosphocréatine + ADP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créatine +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82920" y="3235320"/>
            <a:ext cx="58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 énergétique d’utilisation rapide : produc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916920" y="4276800"/>
            <a:ext cx="738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NB : chez les Invertébrés, pas de phosphocréatine mais de l’arginine-phosph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8000" y="1711440"/>
            <a:ext cx="798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ritères pos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interne de la cellule muscu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du tissu muscu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ntrôle de l'activité musculaire par le système nerveux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2476440" y="431640"/>
            <a:ext cx="9702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180720" y="206280"/>
            <a:ext cx="5725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a cellule musculair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sources d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44320" y="115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673200" y="1490760"/>
            <a:ext cx="765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produite par l’hydrolyse  de l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mécanique = travail : contraction musculaire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2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énergie thermique = chaleur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7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s d’ATP faibles dans la cellule 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546840" y="286236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hosphocréa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819080" y="371628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hosphocréatine + ADP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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 créatine +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682920" y="3235320"/>
            <a:ext cx="58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 énergétique d’utilisation rapide : produc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528480" y="475452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glycogène, acides g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916920" y="4276800"/>
            <a:ext cx="738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NB : chez les Invertébrés, pas de phosphocréatine mais de l’arginine-phosph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579960" y="5187960"/>
            <a:ext cx="709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éserve énergétique d’utilisation lente : catabolisme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oduc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180800" y="5673600"/>
            <a:ext cx="729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étabolisme aérobie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triés : présence de myoglobine (O</a:t>
            </a:r>
            <a:r>
              <a:rPr b="1" i="1" lang="fr-FR" sz="16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2</a:t>
            </a: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étabolisme anaérobie : production d’acide lac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323280" y="11286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yo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3713040" y="1231920"/>
            <a:ext cx="3658680" cy="1039680"/>
            <a:chOff x="3713040" y="1231920"/>
            <a:chExt cx="3658680" cy="1039680"/>
          </a:xfrm>
        </p:grpSpPr>
        <p:grpSp>
          <p:nvGrpSpPr>
            <p:cNvPr id="3037" name=""/>
            <p:cNvGrpSpPr/>
            <p:nvPr/>
          </p:nvGrpSpPr>
          <p:grpSpPr>
            <a:xfrm>
              <a:off x="4185720" y="1512360"/>
              <a:ext cx="2577240" cy="534960"/>
              <a:chOff x="4185720" y="1512360"/>
              <a:chExt cx="2577240" cy="534960"/>
            </a:xfrm>
          </p:grpSpPr>
          <p:grpSp>
            <p:nvGrpSpPr>
              <p:cNvPr id="3038" name=""/>
              <p:cNvGrpSpPr/>
              <p:nvPr/>
            </p:nvGrpSpPr>
            <p:grpSpPr>
              <a:xfrm>
                <a:off x="4597200" y="1512360"/>
                <a:ext cx="885960" cy="189720"/>
                <a:chOff x="4597200" y="1512360"/>
                <a:chExt cx="885960" cy="189720"/>
              </a:xfrm>
            </p:grpSpPr>
            <p:sp>
              <p:nvSpPr>
                <p:cNvPr id="3039" name=""/>
                <p:cNvSpPr/>
                <p:nvPr/>
              </p:nvSpPr>
              <p:spPr>
                <a:xfrm flipH="1">
                  <a:off x="4637880" y="16016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flipH="1" rot="19929600">
                  <a:off x="4622040" y="15170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1" name=""/>
              <p:cNvGrpSpPr/>
              <p:nvPr/>
            </p:nvGrpSpPr>
            <p:grpSpPr>
              <a:xfrm>
                <a:off x="5304240" y="1537560"/>
                <a:ext cx="885960" cy="189360"/>
                <a:chOff x="5304240" y="1537560"/>
                <a:chExt cx="885960" cy="189360"/>
              </a:xfrm>
            </p:grpSpPr>
            <p:sp>
              <p:nvSpPr>
                <p:cNvPr id="3042" name=""/>
                <p:cNvSpPr/>
                <p:nvPr/>
              </p:nvSpPr>
              <p:spPr>
                <a:xfrm>
                  <a:off x="5304240" y="162684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rot="1670400">
                  <a:off x="6114960" y="15422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4" name=""/>
              <p:cNvGrpSpPr/>
              <p:nvPr/>
            </p:nvGrpSpPr>
            <p:grpSpPr>
              <a:xfrm>
                <a:off x="4732560" y="1857600"/>
                <a:ext cx="885960" cy="189720"/>
                <a:chOff x="4732560" y="1857600"/>
                <a:chExt cx="885960" cy="189720"/>
              </a:xfrm>
            </p:grpSpPr>
            <p:sp>
              <p:nvSpPr>
                <p:cNvPr id="3045" name=""/>
                <p:cNvSpPr/>
                <p:nvPr/>
              </p:nvSpPr>
              <p:spPr>
                <a:xfrm flipH="1" flipV="1">
                  <a:off x="4773240" y="18572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H="1" flipV="1" rot="1670400">
                  <a:off x="4757400" y="192312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7" name=""/>
              <p:cNvGrpSpPr/>
              <p:nvPr/>
            </p:nvGrpSpPr>
            <p:grpSpPr>
              <a:xfrm>
                <a:off x="5509800" y="1828080"/>
                <a:ext cx="885960" cy="189360"/>
                <a:chOff x="5509800" y="1828080"/>
                <a:chExt cx="885960" cy="189360"/>
              </a:xfrm>
            </p:grpSpPr>
            <p:sp>
              <p:nvSpPr>
                <p:cNvPr id="3048" name=""/>
                <p:cNvSpPr/>
                <p:nvPr/>
              </p:nvSpPr>
              <p:spPr>
                <a:xfrm flipV="1">
                  <a:off x="5509800" y="18280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V="1" rot="19929600">
                  <a:off x="6320520" y="189252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0" name=""/>
              <p:cNvGrpSpPr/>
              <p:nvPr/>
            </p:nvGrpSpPr>
            <p:grpSpPr>
              <a:xfrm>
                <a:off x="4539240" y="1817640"/>
                <a:ext cx="885960" cy="189720"/>
                <a:chOff x="4539240" y="1817640"/>
                <a:chExt cx="885960" cy="189720"/>
              </a:xfrm>
            </p:grpSpPr>
            <p:sp>
              <p:nvSpPr>
                <p:cNvPr id="3051" name=""/>
                <p:cNvSpPr/>
                <p:nvPr/>
              </p:nvSpPr>
              <p:spPr>
                <a:xfrm flipH="1" flipV="1">
                  <a:off x="4579920" y="181728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H="1" flipV="1" rot="1670400">
                  <a:off x="4564080" y="188316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3" name=""/>
              <p:cNvGrpSpPr/>
              <p:nvPr/>
            </p:nvGrpSpPr>
            <p:grpSpPr>
              <a:xfrm>
                <a:off x="5600160" y="1557720"/>
                <a:ext cx="885960" cy="189360"/>
                <a:chOff x="5600160" y="1557720"/>
                <a:chExt cx="885960" cy="189360"/>
              </a:xfrm>
            </p:grpSpPr>
            <p:sp>
              <p:nvSpPr>
                <p:cNvPr id="3054" name=""/>
                <p:cNvSpPr/>
                <p:nvPr/>
              </p:nvSpPr>
              <p:spPr>
                <a:xfrm>
                  <a:off x="5600160" y="164700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rot="1670400">
                  <a:off x="6410880" y="156240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6" name=""/>
              <p:cNvGrpSpPr/>
              <p:nvPr/>
            </p:nvGrpSpPr>
            <p:grpSpPr>
              <a:xfrm>
                <a:off x="5877000" y="1577160"/>
                <a:ext cx="885960" cy="189720"/>
                <a:chOff x="5877000" y="1577160"/>
                <a:chExt cx="885960" cy="189720"/>
              </a:xfrm>
            </p:grpSpPr>
            <p:sp>
              <p:nvSpPr>
                <p:cNvPr id="3057" name=""/>
                <p:cNvSpPr/>
                <p:nvPr/>
              </p:nvSpPr>
              <p:spPr>
                <a:xfrm>
                  <a:off x="5877000" y="1666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 rot="1670400">
                  <a:off x="6687720" y="1581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9" name=""/>
              <p:cNvGrpSpPr/>
              <p:nvPr/>
            </p:nvGrpSpPr>
            <p:grpSpPr>
              <a:xfrm>
                <a:off x="5728680" y="1797480"/>
                <a:ext cx="885960" cy="189720"/>
                <a:chOff x="5728680" y="1797480"/>
                <a:chExt cx="885960" cy="189720"/>
              </a:xfrm>
            </p:grpSpPr>
            <p:sp>
              <p:nvSpPr>
                <p:cNvPr id="3060" name=""/>
                <p:cNvSpPr/>
                <p:nvPr/>
              </p:nvSpPr>
              <p:spPr>
                <a:xfrm flipV="1">
                  <a:off x="5728680" y="179712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 flipV="1" rot="19929600">
                  <a:off x="6539400" y="18622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2" name=""/>
              <p:cNvGrpSpPr/>
              <p:nvPr/>
            </p:nvGrpSpPr>
            <p:grpSpPr>
              <a:xfrm>
                <a:off x="4359240" y="1532160"/>
                <a:ext cx="885960" cy="189720"/>
                <a:chOff x="4359240" y="1532160"/>
                <a:chExt cx="885960" cy="189720"/>
              </a:xfrm>
            </p:grpSpPr>
            <p:sp>
              <p:nvSpPr>
                <p:cNvPr id="3063" name=""/>
                <p:cNvSpPr/>
                <p:nvPr/>
              </p:nvSpPr>
              <p:spPr>
                <a:xfrm flipH="1">
                  <a:off x="4399920" y="1621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 flipH="1" rot="19929600">
                  <a:off x="4384080" y="1536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5" name=""/>
              <p:cNvGrpSpPr/>
              <p:nvPr/>
            </p:nvGrpSpPr>
            <p:grpSpPr>
              <a:xfrm>
                <a:off x="4320360" y="1777320"/>
                <a:ext cx="885960" cy="189720"/>
                <a:chOff x="4320360" y="1777320"/>
                <a:chExt cx="885960" cy="189720"/>
              </a:xfrm>
            </p:grpSpPr>
            <p:sp>
              <p:nvSpPr>
                <p:cNvPr id="3066" name=""/>
                <p:cNvSpPr/>
                <p:nvPr/>
              </p:nvSpPr>
              <p:spPr>
                <a:xfrm flipH="1" flipV="1">
                  <a:off x="4361040" y="177696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 flipH="1" flipV="1" rot="1670400">
                  <a:off x="4345200" y="184284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8" name=""/>
              <p:cNvGrpSpPr/>
              <p:nvPr/>
            </p:nvGrpSpPr>
            <p:grpSpPr>
              <a:xfrm>
                <a:off x="4185720" y="1562400"/>
                <a:ext cx="885960" cy="189360"/>
                <a:chOff x="4185720" y="1562400"/>
                <a:chExt cx="885960" cy="189360"/>
              </a:xfrm>
            </p:grpSpPr>
            <p:sp>
              <p:nvSpPr>
                <p:cNvPr id="3069" name=""/>
                <p:cNvSpPr/>
                <p:nvPr/>
              </p:nvSpPr>
              <p:spPr>
                <a:xfrm flipH="1">
                  <a:off x="4226400" y="16516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 flipH="1" rot="19929600">
                  <a:off x="4210560" y="15670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1" name=""/>
            <p:cNvGrpSpPr/>
            <p:nvPr/>
          </p:nvGrpSpPr>
          <p:grpSpPr>
            <a:xfrm>
              <a:off x="5777280" y="1372680"/>
              <a:ext cx="1583640" cy="143280"/>
              <a:chOff x="5777280" y="1372680"/>
              <a:chExt cx="1583640" cy="143280"/>
            </a:xfrm>
          </p:grpSpPr>
          <p:sp>
            <p:nvSpPr>
              <p:cNvPr id="3072" name=""/>
              <p:cNvSpPr/>
              <p:nvPr/>
            </p:nvSpPr>
            <p:spPr>
              <a:xfrm>
                <a:off x="722664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263720" y="1425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29936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6823800" y="14068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V="1">
                <a:off x="6896520" y="139068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6860880" y="139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752520" y="14234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788160" y="14090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6639120" y="1386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667620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V="1">
                <a:off x="66034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006320" y="14281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041960" y="1413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7077600" y="14025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V="1">
                <a:off x="7150320" y="13860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718812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V="1">
                <a:off x="7225200" y="13726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V="1">
                <a:off x="71146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7262280" y="13791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7297920" y="13928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7007760" y="13834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V="1">
                <a:off x="6563520" y="1422360"/>
                <a:ext cx="79488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V="1">
                <a:off x="7043400" y="13978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V="1">
                <a:off x="697068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693360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671328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6750360" y="137916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V="1">
                <a:off x="6786720" y="13928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V="1">
                <a:off x="6566400" y="14025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71544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6566400" y="1401120"/>
                <a:ext cx="279360" cy="7776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60492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640560" y="1416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67836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6840360" y="1428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859440" y="1416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93216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96924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895080" y="14212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7096680" y="1409040"/>
                <a:ext cx="264240" cy="6336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18956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151760" y="141912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116120" y="1413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681156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706284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6546960" y="1464120"/>
                <a:ext cx="6984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079040" y="140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822360" y="1404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567840" y="14004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1" name=""/>
              <p:cNvGrpSpPr/>
              <p:nvPr/>
            </p:nvGrpSpPr>
            <p:grpSpPr>
              <a:xfrm>
                <a:off x="5777280" y="1372680"/>
                <a:ext cx="840960" cy="143280"/>
                <a:chOff x="5777280" y="1372680"/>
                <a:chExt cx="840960" cy="143280"/>
              </a:xfrm>
            </p:grpSpPr>
            <p:sp>
              <p:nvSpPr>
                <p:cNvPr id="3122" name=""/>
                <p:cNvSpPr/>
                <p:nvPr/>
              </p:nvSpPr>
              <p:spPr>
                <a:xfrm>
                  <a:off x="645624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493680" y="14259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652932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flipV="1">
                  <a:off x="6053760" y="14068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flipV="1">
                  <a:off x="6126480" y="139104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 flipV="1">
                  <a:off x="6090840" y="139608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5982480" y="14238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6017760" y="14101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 flipV="1">
                  <a:off x="586908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 flipV="1">
                  <a:off x="590616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 flipV="1">
                  <a:off x="5833800" y="13910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236640" y="14288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271920" y="14144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 flipV="1">
                  <a:off x="6307560" y="140328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V="1">
                  <a:off x="638064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 flipV="1">
                  <a:off x="641772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V="1">
                  <a:off x="645480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V="1">
                  <a:off x="6344640" y="13910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V="1">
                  <a:off x="649224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V="1">
                  <a:off x="652788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 flipV="1">
                  <a:off x="6238080" y="13842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V="1">
                  <a:off x="5793480" y="1423080"/>
                  <a:ext cx="79524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V="1">
                  <a:off x="6273720" y="139824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 flipV="1">
                  <a:off x="620064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 flipV="1">
                  <a:off x="616356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 flipV="1">
                  <a:off x="594324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 flipV="1">
                  <a:off x="598068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 flipV="1">
                  <a:off x="601632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 flipV="1">
                  <a:off x="5796720" y="140328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594504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flipV="1">
                  <a:off x="5796360" y="1401480"/>
                  <a:ext cx="27936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583524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5870880" y="14173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590796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 flipV="1">
                  <a:off x="6070320" y="1428120"/>
                  <a:ext cx="31176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089400" y="14173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162120" y="143532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199200" y="143532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6125040" y="14216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 flipV="1">
                  <a:off x="6327000" y="14090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641916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381720" y="1419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6346080" y="14144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 flipV="1">
                  <a:off x="6041880" y="14677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flipV="1">
                  <a:off x="6292800" y="146772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 flipV="1">
                  <a:off x="577728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flipV="1">
                  <a:off x="654876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6309000" y="140328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6052320" y="14054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5798160" y="14004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2" name=""/>
            <p:cNvGrpSpPr/>
            <p:nvPr/>
          </p:nvGrpSpPr>
          <p:grpSpPr>
            <a:xfrm>
              <a:off x="5788440" y="2039400"/>
              <a:ext cx="1583280" cy="142920"/>
              <a:chOff x="5788440" y="2039400"/>
              <a:chExt cx="1583280" cy="142920"/>
            </a:xfrm>
          </p:grpSpPr>
          <p:sp>
            <p:nvSpPr>
              <p:cNvPr id="3173" name=""/>
              <p:cNvSpPr/>
              <p:nvPr/>
            </p:nvSpPr>
            <p:spPr>
              <a:xfrm flipV="1">
                <a:off x="723744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7274520" y="20736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731016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834600" y="20926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907320" y="210924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871680" y="2103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676332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6798960" y="20905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649920" y="2113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8700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6142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7017120" y="20714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7052760" y="2085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08840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16112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19892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2360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1254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273080" y="21204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30872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018560" y="211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57432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054200" y="21013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98148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94440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72408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76116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79752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57720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flipV="1">
                <a:off x="672624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577200" y="2076120"/>
                <a:ext cx="27936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661572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V="1">
                <a:off x="6651360" y="208296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V="1">
                <a:off x="668916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85080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V="1">
                <a:off x="6870240" y="208296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flipV="1">
                <a:off x="694296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flipV="1">
                <a:off x="698004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flipV="1">
                <a:off x="6905880" y="2077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0748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flipV="1">
                <a:off x="720036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V="1">
                <a:off x="716256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V="1">
                <a:off x="7126920" y="2085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82236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0732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55812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V="1">
                <a:off x="7089840" y="2097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flipV="1">
                <a:off x="6833160" y="2094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flipV="1">
                <a:off x="6578640" y="20991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V="1">
                <a:off x="646740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flipV="1">
                <a:off x="6504480" y="2073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flipV="1">
                <a:off x="654012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064560" y="20926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137280" y="210924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102000" y="2103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flipV="1">
                <a:off x="599364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flipV="1">
                <a:off x="6029280" y="20905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880240" y="2113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91732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8446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V="1">
                <a:off x="6247080" y="20714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6283080" y="2085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31836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39108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642888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646596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3558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503040" y="21204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653868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248520" y="2115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80464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284520" y="21013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621144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617472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9544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99112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602784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80752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 flipV="1">
                <a:off x="595620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807520" y="2076120"/>
                <a:ext cx="27900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V="1">
                <a:off x="584604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 flipV="1">
                <a:off x="5881680" y="2082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V="1">
                <a:off x="591948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08112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V="1">
                <a:off x="6100560" y="2082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V="1">
                <a:off x="617328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 flipV="1">
                <a:off x="621000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V="1">
                <a:off x="6135840" y="2077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633780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V="1">
                <a:off x="643032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V="1">
                <a:off x="639252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6356880" y="2085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526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630360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78844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55956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V="1">
                <a:off x="6319800" y="2097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V="1">
                <a:off x="6063480" y="2094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 flipV="1">
                <a:off x="5808960" y="20991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2" name=""/>
            <p:cNvGrpSpPr/>
            <p:nvPr/>
          </p:nvGrpSpPr>
          <p:grpSpPr>
            <a:xfrm>
              <a:off x="3713040" y="2039400"/>
              <a:ext cx="1611000" cy="143280"/>
              <a:chOff x="3713040" y="2039400"/>
              <a:chExt cx="1611000" cy="143280"/>
            </a:xfrm>
          </p:grpSpPr>
          <p:grpSp>
            <p:nvGrpSpPr>
              <p:cNvPr id="3273" name=""/>
              <p:cNvGrpSpPr/>
              <p:nvPr/>
            </p:nvGrpSpPr>
            <p:grpSpPr>
              <a:xfrm>
                <a:off x="4482720" y="2039400"/>
                <a:ext cx="841320" cy="143280"/>
                <a:chOff x="4482720" y="2039400"/>
                <a:chExt cx="841320" cy="143280"/>
              </a:xfrm>
            </p:grpSpPr>
            <p:sp>
              <p:nvSpPr>
                <p:cNvPr id="3274" name=""/>
                <p:cNvSpPr/>
                <p:nvPr/>
              </p:nvSpPr>
              <p:spPr>
                <a:xfrm flipV="1">
                  <a:off x="516204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 flipV="1">
                  <a:off x="519912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V="1">
                  <a:off x="523512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475920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483192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479628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V="1">
                  <a:off x="468792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 flipV="1">
                  <a:off x="472356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457452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4611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453924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 flipV="1">
                  <a:off x="494208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 flipV="1">
                  <a:off x="497736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501336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508608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51235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5160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505044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519768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523368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494352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449892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497916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490644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48693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46490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468612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472212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450216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 flipV="1">
                  <a:off x="465084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450180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 flipV="1">
                  <a:off x="454068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 flipV="1">
                  <a:off x="457632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 flipV="1">
                  <a:off x="461340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477576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 flipV="1">
                  <a:off x="479484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 flipV="1">
                  <a:off x="486792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 flipV="1">
                  <a:off x="490500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 flipV="1">
                  <a:off x="483048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503280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 flipV="1">
                  <a:off x="51249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 flipV="1">
                  <a:off x="508752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 flipV="1">
                  <a:off x="505188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474732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499824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448272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525456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 flipV="1">
                  <a:off x="501480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 flipV="1">
                  <a:off x="475776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 flipV="1">
                  <a:off x="450360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4" name=""/>
              <p:cNvGrpSpPr/>
              <p:nvPr/>
            </p:nvGrpSpPr>
            <p:grpSpPr>
              <a:xfrm>
                <a:off x="3713040" y="2039400"/>
                <a:ext cx="841320" cy="143280"/>
                <a:chOff x="3713040" y="2039400"/>
                <a:chExt cx="841320" cy="143280"/>
              </a:xfrm>
            </p:grpSpPr>
            <p:sp>
              <p:nvSpPr>
                <p:cNvPr id="3325" name=""/>
                <p:cNvSpPr/>
                <p:nvPr/>
              </p:nvSpPr>
              <p:spPr>
                <a:xfrm flipV="1">
                  <a:off x="43923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 flipV="1">
                  <a:off x="442944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 flipV="1">
                  <a:off x="446544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398952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406224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402660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 flipV="1">
                  <a:off x="391824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 flipV="1">
                  <a:off x="395388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380484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>
                  <a:off x="3841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376956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 flipV="1">
                  <a:off x="417240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 flipV="1">
                  <a:off x="420768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424368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431640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43538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4390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428076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442800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446400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417384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372924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420948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41367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409968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387936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391644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395244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373248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 flipV="1">
                  <a:off x="388116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373212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 flipV="1">
                  <a:off x="377100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 flipV="1">
                  <a:off x="380664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 flipV="1">
                  <a:off x="384372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400608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 flipV="1">
                  <a:off x="402516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 flipV="1">
                  <a:off x="409824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 flipV="1">
                  <a:off x="413532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 flipV="1">
                  <a:off x="406080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426312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 flipV="1">
                  <a:off x="435528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 flipV="1">
                  <a:off x="431784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 flipV="1">
                  <a:off x="428220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397764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422856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371304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448488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 flipV="1">
                  <a:off x="424512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 flipV="1">
                  <a:off x="398808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 flipV="1">
                  <a:off x="373392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75" name=""/>
            <p:cNvGrpSpPr/>
            <p:nvPr/>
          </p:nvGrpSpPr>
          <p:grpSpPr>
            <a:xfrm>
              <a:off x="3729240" y="1364040"/>
              <a:ext cx="1611000" cy="143280"/>
              <a:chOff x="3729240" y="1364040"/>
              <a:chExt cx="1611000" cy="143280"/>
            </a:xfrm>
          </p:grpSpPr>
          <p:grpSp>
            <p:nvGrpSpPr>
              <p:cNvPr id="3376" name=""/>
              <p:cNvGrpSpPr/>
              <p:nvPr/>
            </p:nvGrpSpPr>
            <p:grpSpPr>
              <a:xfrm>
                <a:off x="4498920" y="1364040"/>
                <a:ext cx="841320" cy="143280"/>
                <a:chOff x="4498920" y="1364040"/>
                <a:chExt cx="841320" cy="143280"/>
              </a:xfrm>
            </p:grpSpPr>
            <p:sp>
              <p:nvSpPr>
                <p:cNvPr id="3377" name=""/>
                <p:cNvSpPr/>
                <p:nvPr/>
              </p:nvSpPr>
              <p:spPr>
                <a:xfrm>
                  <a:off x="517824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521532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525132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 flipV="1">
                  <a:off x="477540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 flipV="1">
                  <a:off x="484812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 flipV="1">
                  <a:off x="481248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470412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473976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 flipV="1">
                  <a:off x="459072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 flipV="1">
                  <a:off x="4627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 flipV="1">
                  <a:off x="455544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95828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499356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 flipV="1">
                  <a:off x="502956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 flipV="1">
                  <a:off x="510228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V="1">
                  <a:off x="51397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 flipV="1">
                  <a:off x="5176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 flipV="1">
                  <a:off x="506664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 flipV="1">
                  <a:off x="521388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 flipV="1">
                  <a:off x="524988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V="1">
                  <a:off x="495972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 flipV="1">
                  <a:off x="451512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 flipV="1">
                  <a:off x="499536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 flipV="1">
                  <a:off x="492264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 flipV="1">
                  <a:off x="48855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 flipV="1">
                  <a:off x="46652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 flipV="1">
                  <a:off x="470232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 flipV="1">
                  <a:off x="473832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 flipV="1">
                  <a:off x="451836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466704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 flipV="1">
                  <a:off x="451800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455688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459252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462960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 flipV="1">
                  <a:off x="479196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481104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488412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492120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484668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 flipV="1">
                  <a:off x="504900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51411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510372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506808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V="1">
                  <a:off x="476352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 flipV="1">
                  <a:off x="501444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 flipV="1">
                  <a:off x="449892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 flipV="1">
                  <a:off x="527076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503100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477396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451980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7" name=""/>
              <p:cNvGrpSpPr/>
              <p:nvPr/>
            </p:nvGrpSpPr>
            <p:grpSpPr>
              <a:xfrm>
                <a:off x="3729240" y="1364040"/>
                <a:ext cx="841320" cy="143280"/>
                <a:chOff x="3729240" y="1364040"/>
                <a:chExt cx="841320" cy="143280"/>
              </a:xfrm>
            </p:grpSpPr>
            <p:sp>
              <p:nvSpPr>
                <p:cNvPr id="3428" name=""/>
                <p:cNvSpPr/>
                <p:nvPr/>
              </p:nvSpPr>
              <p:spPr>
                <a:xfrm>
                  <a:off x="44085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444564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448164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 flipV="1">
                  <a:off x="400572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 flipV="1">
                  <a:off x="407844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V="1">
                  <a:off x="404280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393444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397008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 flipV="1">
                  <a:off x="382104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 flipV="1">
                  <a:off x="3858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 flipV="1">
                  <a:off x="378576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418860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422388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 flipV="1">
                  <a:off x="425988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 flipV="1">
                  <a:off x="433260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V="1">
                  <a:off x="43700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V="1">
                  <a:off x="4407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 flipV="1">
                  <a:off x="429696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 flipV="1">
                  <a:off x="444420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 flipV="1">
                  <a:off x="448020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419004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V="1">
                  <a:off x="374544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 flipV="1">
                  <a:off x="422568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 flipV="1">
                  <a:off x="41529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 flipV="1">
                  <a:off x="411588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 flipV="1">
                  <a:off x="389556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 flipV="1">
                  <a:off x="393264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 flipV="1">
                  <a:off x="396864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 flipV="1">
                  <a:off x="374868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389736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 flipV="1">
                  <a:off x="374832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378720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382284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385992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 flipV="1">
                  <a:off x="402228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404136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411444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415152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407700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 flipV="1">
                  <a:off x="427932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437148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433404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429840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V="1">
                  <a:off x="399384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 flipV="1">
                  <a:off x="424476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 flipV="1">
                  <a:off x="372924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 flipV="1">
                  <a:off x="450108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426132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400428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375012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78" name=""/>
            <p:cNvSpPr/>
            <p:nvPr/>
          </p:nvSpPr>
          <p:spPr>
            <a:xfrm>
              <a:off x="3729240" y="1276200"/>
              <a:ext cx="0" cy="9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356240" y="1231920"/>
              <a:ext cx="0" cy="101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0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323280" y="11286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yo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323280" y="2352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arcom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6" name=""/>
          <p:cNvGrpSpPr/>
          <p:nvPr/>
        </p:nvGrpSpPr>
        <p:grpSpPr>
          <a:xfrm>
            <a:off x="3713040" y="1231920"/>
            <a:ext cx="3658680" cy="1039680"/>
            <a:chOff x="3713040" y="1231920"/>
            <a:chExt cx="3658680" cy="1039680"/>
          </a:xfrm>
        </p:grpSpPr>
        <p:grpSp>
          <p:nvGrpSpPr>
            <p:cNvPr id="3487" name=""/>
            <p:cNvGrpSpPr/>
            <p:nvPr/>
          </p:nvGrpSpPr>
          <p:grpSpPr>
            <a:xfrm>
              <a:off x="4185720" y="1512360"/>
              <a:ext cx="2577240" cy="534960"/>
              <a:chOff x="4185720" y="1512360"/>
              <a:chExt cx="2577240" cy="534960"/>
            </a:xfrm>
          </p:grpSpPr>
          <p:grpSp>
            <p:nvGrpSpPr>
              <p:cNvPr id="3488" name=""/>
              <p:cNvGrpSpPr/>
              <p:nvPr/>
            </p:nvGrpSpPr>
            <p:grpSpPr>
              <a:xfrm>
                <a:off x="4597200" y="1512360"/>
                <a:ext cx="885960" cy="189720"/>
                <a:chOff x="4597200" y="1512360"/>
                <a:chExt cx="885960" cy="189720"/>
              </a:xfrm>
            </p:grpSpPr>
            <p:sp>
              <p:nvSpPr>
                <p:cNvPr id="3489" name=""/>
                <p:cNvSpPr/>
                <p:nvPr/>
              </p:nvSpPr>
              <p:spPr>
                <a:xfrm flipH="1">
                  <a:off x="4637880" y="16016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 flipH="1" rot="19929600">
                  <a:off x="4622040" y="15170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1" name=""/>
              <p:cNvGrpSpPr/>
              <p:nvPr/>
            </p:nvGrpSpPr>
            <p:grpSpPr>
              <a:xfrm>
                <a:off x="5304240" y="1537560"/>
                <a:ext cx="885960" cy="189360"/>
                <a:chOff x="5304240" y="1537560"/>
                <a:chExt cx="885960" cy="189360"/>
              </a:xfrm>
            </p:grpSpPr>
            <p:sp>
              <p:nvSpPr>
                <p:cNvPr id="3492" name=""/>
                <p:cNvSpPr/>
                <p:nvPr/>
              </p:nvSpPr>
              <p:spPr>
                <a:xfrm>
                  <a:off x="5304240" y="162684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 rot="1670400">
                  <a:off x="6114960" y="15422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4" name=""/>
              <p:cNvGrpSpPr/>
              <p:nvPr/>
            </p:nvGrpSpPr>
            <p:grpSpPr>
              <a:xfrm>
                <a:off x="4732560" y="1857600"/>
                <a:ext cx="885960" cy="189720"/>
                <a:chOff x="4732560" y="1857600"/>
                <a:chExt cx="885960" cy="189720"/>
              </a:xfrm>
            </p:grpSpPr>
            <p:sp>
              <p:nvSpPr>
                <p:cNvPr id="3495" name=""/>
                <p:cNvSpPr/>
                <p:nvPr/>
              </p:nvSpPr>
              <p:spPr>
                <a:xfrm flipH="1" flipV="1">
                  <a:off x="4773240" y="18572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 flipH="1" flipV="1" rot="1670400">
                  <a:off x="4757400" y="192312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7" name=""/>
              <p:cNvGrpSpPr/>
              <p:nvPr/>
            </p:nvGrpSpPr>
            <p:grpSpPr>
              <a:xfrm>
                <a:off x="5509800" y="1828080"/>
                <a:ext cx="885960" cy="189360"/>
                <a:chOff x="5509800" y="1828080"/>
                <a:chExt cx="885960" cy="189360"/>
              </a:xfrm>
            </p:grpSpPr>
            <p:sp>
              <p:nvSpPr>
                <p:cNvPr id="3498" name=""/>
                <p:cNvSpPr/>
                <p:nvPr/>
              </p:nvSpPr>
              <p:spPr>
                <a:xfrm flipV="1">
                  <a:off x="5509800" y="18280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 flipV="1" rot="19929600">
                  <a:off x="6320520" y="189252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0" name=""/>
              <p:cNvGrpSpPr/>
              <p:nvPr/>
            </p:nvGrpSpPr>
            <p:grpSpPr>
              <a:xfrm>
                <a:off x="4539240" y="1817640"/>
                <a:ext cx="885960" cy="189720"/>
                <a:chOff x="4539240" y="1817640"/>
                <a:chExt cx="885960" cy="189720"/>
              </a:xfrm>
            </p:grpSpPr>
            <p:sp>
              <p:nvSpPr>
                <p:cNvPr id="3501" name=""/>
                <p:cNvSpPr/>
                <p:nvPr/>
              </p:nvSpPr>
              <p:spPr>
                <a:xfrm flipH="1" flipV="1">
                  <a:off x="4579920" y="181728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 flipH="1" flipV="1" rot="1670400">
                  <a:off x="4564080" y="188316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3" name=""/>
              <p:cNvGrpSpPr/>
              <p:nvPr/>
            </p:nvGrpSpPr>
            <p:grpSpPr>
              <a:xfrm>
                <a:off x="5600160" y="1557720"/>
                <a:ext cx="885960" cy="189360"/>
                <a:chOff x="5600160" y="1557720"/>
                <a:chExt cx="885960" cy="189360"/>
              </a:xfrm>
            </p:grpSpPr>
            <p:sp>
              <p:nvSpPr>
                <p:cNvPr id="3504" name=""/>
                <p:cNvSpPr/>
                <p:nvPr/>
              </p:nvSpPr>
              <p:spPr>
                <a:xfrm>
                  <a:off x="5600160" y="164700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 rot="1670400">
                  <a:off x="6410880" y="156240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6" name=""/>
              <p:cNvGrpSpPr/>
              <p:nvPr/>
            </p:nvGrpSpPr>
            <p:grpSpPr>
              <a:xfrm>
                <a:off x="5877000" y="1577160"/>
                <a:ext cx="885960" cy="189720"/>
                <a:chOff x="5877000" y="1577160"/>
                <a:chExt cx="885960" cy="189720"/>
              </a:xfrm>
            </p:grpSpPr>
            <p:sp>
              <p:nvSpPr>
                <p:cNvPr id="3507" name=""/>
                <p:cNvSpPr/>
                <p:nvPr/>
              </p:nvSpPr>
              <p:spPr>
                <a:xfrm>
                  <a:off x="5877000" y="1666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 rot="1670400">
                  <a:off x="6687720" y="1581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9" name=""/>
              <p:cNvGrpSpPr/>
              <p:nvPr/>
            </p:nvGrpSpPr>
            <p:grpSpPr>
              <a:xfrm>
                <a:off x="5728680" y="1797480"/>
                <a:ext cx="885960" cy="189720"/>
                <a:chOff x="5728680" y="1797480"/>
                <a:chExt cx="885960" cy="189720"/>
              </a:xfrm>
            </p:grpSpPr>
            <p:sp>
              <p:nvSpPr>
                <p:cNvPr id="3510" name=""/>
                <p:cNvSpPr/>
                <p:nvPr/>
              </p:nvSpPr>
              <p:spPr>
                <a:xfrm flipV="1">
                  <a:off x="5728680" y="179712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 flipV="1" rot="19929600">
                  <a:off x="6539400" y="18622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2" name=""/>
              <p:cNvGrpSpPr/>
              <p:nvPr/>
            </p:nvGrpSpPr>
            <p:grpSpPr>
              <a:xfrm>
                <a:off x="4359240" y="1532160"/>
                <a:ext cx="885960" cy="189720"/>
                <a:chOff x="4359240" y="1532160"/>
                <a:chExt cx="885960" cy="189720"/>
              </a:xfrm>
            </p:grpSpPr>
            <p:sp>
              <p:nvSpPr>
                <p:cNvPr id="3513" name=""/>
                <p:cNvSpPr/>
                <p:nvPr/>
              </p:nvSpPr>
              <p:spPr>
                <a:xfrm flipH="1">
                  <a:off x="4399920" y="1621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 flipH="1" rot="19929600">
                  <a:off x="4384080" y="1536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5" name=""/>
              <p:cNvGrpSpPr/>
              <p:nvPr/>
            </p:nvGrpSpPr>
            <p:grpSpPr>
              <a:xfrm>
                <a:off x="4320360" y="1777320"/>
                <a:ext cx="885960" cy="189720"/>
                <a:chOff x="4320360" y="1777320"/>
                <a:chExt cx="885960" cy="189720"/>
              </a:xfrm>
            </p:grpSpPr>
            <p:sp>
              <p:nvSpPr>
                <p:cNvPr id="3516" name=""/>
                <p:cNvSpPr/>
                <p:nvPr/>
              </p:nvSpPr>
              <p:spPr>
                <a:xfrm flipH="1" flipV="1">
                  <a:off x="4361040" y="177696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 flipH="1" flipV="1" rot="1670400">
                  <a:off x="4345200" y="184284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8" name=""/>
              <p:cNvGrpSpPr/>
              <p:nvPr/>
            </p:nvGrpSpPr>
            <p:grpSpPr>
              <a:xfrm>
                <a:off x="4185720" y="1562400"/>
                <a:ext cx="885960" cy="189360"/>
                <a:chOff x="4185720" y="1562400"/>
                <a:chExt cx="885960" cy="189360"/>
              </a:xfrm>
            </p:grpSpPr>
            <p:sp>
              <p:nvSpPr>
                <p:cNvPr id="3519" name=""/>
                <p:cNvSpPr/>
                <p:nvPr/>
              </p:nvSpPr>
              <p:spPr>
                <a:xfrm flipH="1">
                  <a:off x="4226400" y="16516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 flipH="1" rot="19929600">
                  <a:off x="4210560" y="15670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1" name=""/>
            <p:cNvGrpSpPr/>
            <p:nvPr/>
          </p:nvGrpSpPr>
          <p:grpSpPr>
            <a:xfrm>
              <a:off x="5777280" y="1372680"/>
              <a:ext cx="1583640" cy="143280"/>
              <a:chOff x="5777280" y="1372680"/>
              <a:chExt cx="1583640" cy="143280"/>
            </a:xfrm>
          </p:grpSpPr>
          <p:sp>
            <p:nvSpPr>
              <p:cNvPr id="3522" name=""/>
              <p:cNvSpPr/>
              <p:nvPr/>
            </p:nvSpPr>
            <p:spPr>
              <a:xfrm>
                <a:off x="722664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263720" y="1425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29936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flipV="1">
                <a:off x="6823800" y="14068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flipV="1">
                <a:off x="6896520" y="139068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flipV="1">
                <a:off x="6860880" y="139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752520" y="14234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6788160" y="14090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 flipV="1">
                <a:off x="6639120" y="1386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 flipV="1">
                <a:off x="667620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 flipV="1">
                <a:off x="66034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006320" y="14281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041960" y="1413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flipV="1">
                <a:off x="7077600" y="14025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flipV="1">
                <a:off x="7150320" y="13860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 flipV="1">
                <a:off x="718812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 flipV="1">
                <a:off x="7225200" y="13726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 flipV="1">
                <a:off x="71146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flipV="1">
                <a:off x="7262280" y="13791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 flipV="1">
                <a:off x="7297920" y="13928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 flipV="1">
                <a:off x="7007760" y="13834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V="1">
                <a:off x="6563520" y="1422360"/>
                <a:ext cx="79488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 flipV="1">
                <a:off x="7043400" y="13978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 flipV="1">
                <a:off x="697068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V="1">
                <a:off x="693360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flipV="1">
                <a:off x="671328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flipV="1">
                <a:off x="6750360" y="137916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V="1">
                <a:off x="6786720" y="13928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 flipV="1">
                <a:off x="6566400" y="14025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671544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 flipV="1">
                <a:off x="6566400" y="1401120"/>
                <a:ext cx="279360" cy="7776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60492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6640560" y="1416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67836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 flipV="1">
                <a:off x="6840360" y="1428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859440" y="1416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3216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96924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6895080" y="14212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 flipV="1">
                <a:off x="7096680" y="1409040"/>
                <a:ext cx="264240" cy="6336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18956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151760" y="141912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116120" y="1413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 flipV="1">
                <a:off x="681156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 flipV="1">
                <a:off x="706284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 flipV="1">
                <a:off x="6546960" y="1464120"/>
                <a:ext cx="6984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079040" y="140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6822360" y="1404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567840" y="14004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1" name=""/>
              <p:cNvGrpSpPr/>
              <p:nvPr/>
            </p:nvGrpSpPr>
            <p:grpSpPr>
              <a:xfrm>
                <a:off x="5777280" y="1372680"/>
                <a:ext cx="840960" cy="143280"/>
                <a:chOff x="5777280" y="1372680"/>
                <a:chExt cx="840960" cy="143280"/>
              </a:xfrm>
            </p:grpSpPr>
            <p:sp>
              <p:nvSpPr>
                <p:cNvPr id="3572" name=""/>
                <p:cNvSpPr/>
                <p:nvPr/>
              </p:nvSpPr>
              <p:spPr>
                <a:xfrm>
                  <a:off x="645624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6493680" y="14259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>
                  <a:off x="652932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 flipV="1">
                  <a:off x="6053760" y="14068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 flipV="1">
                  <a:off x="6126480" y="139104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 flipV="1">
                  <a:off x="6090840" y="139608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5982480" y="14238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6017760" y="14101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 flipV="1">
                  <a:off x="586908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 flipV="1">
                  <a:off x="590616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 flipV="1">
                  <a:off x="5833800" y="13910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6236640" y="14288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6271920" y="14144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 flipV="1">
                  <a:off x="6307560" y="140328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 flipV="1">
                  <a:off x="638064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 flipV="1">
                  <a:off x="641772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 flipV="1">
                  <a:off x="645480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 flipV="1">
                  <a:off x="6344640" y="13910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 flipV="1">
                  <a:off x="649224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 flipV="1">
                  <a:off x="652788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 flipV="1">
                  <a:off x="6238080" y="13842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 flipV="1">
                  <a:off x="5793480" y="1423080"/>
                  <a:ext cx="79524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 flipV="1">
                  <a:off x="6273720" y="139824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 flipV="1">
                  <a:off x="620064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 flipV="1">
                  <a:off x="616356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 flipV="1">
                  <a:off x="594324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 flipV="1">
                  <a:off x="598068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 flipV="1">
                  <a:off x="601632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 flipV="1">
                  <a:off x="5796720" y="140328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594504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 flipV="1">
                  <a:off x="5796360" y="1401480"/>
                  <a:ext cx="27936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583524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5870880" y="14173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>
                  <a:off x="590796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 flipV="1">
                  <a:off x="6070320" y="1428120"/>
                  <a:ext cx="31176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6089400" y="14173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6162120" y="143532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6199200" y="143532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6125040" y="14216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 flipV="1">
                  <a:off x="6327000" y="14090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641916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6381720" y="1419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6346080" y="14144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 flipV="1">
                  <a:off x="6041880" y="14677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 flipV="1">
                  <a:off x="6292800" y="146772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 flipV="1">
                  <a:off x="577728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 flipV="1">
                  <a:off x="654876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6309000" y="140328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6052320" y="14054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5798160" y="14004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2" name=""/>
            <p:cNvGrpSpPr/>
            <p:nvPr/>
          </p:nvGrpSpPr>
          <p:grpSpPr>
            <a:xfrm>
              <a:off x="5788440" y="2039400"/>
              <a:ext cx="1583280" cy="142920"/>
              <a:chOff x="5788440" y="2039400"/>
              <a:chExt cx="1583280" cy="142920"/>
            </a:xfrm>
          </p:grpSpPr>
          <p:sp>
            <p:nvSpPr>
              <p:cNvPr id="3623" name=""/>
              <p:cNvSpPr/>
              <p:nvPr/>
            </p:nvSpPr>
            <p:spPr>
              <a:xfrm flipV="1">
                <a:off x="723744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V="1">
                <a:off x="7274520" y="20736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V="1">
                <a:off x="731016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6834600" y="20926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6907320" y="210924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6871680" y="2103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V="1">
                <a:off x="676332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V="1">
                <a:off x="6798960" y="20905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6649920" y="2113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68700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6142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V="1">
                <a:off x="7017120" y="20714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V="1">
                <a:off x="7052760" y="2085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08840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16112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19892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2360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1254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273080" y="21204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30872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018560" y="211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57432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054200" y="21013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698148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694440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672408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676116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679752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57720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 flipV="1">
                <a:off x="672624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577200" y="2076120"/>
                <a:ext cx="27936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V="1">
                <a:off x="661572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6651360" y="208296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V="1">
                <a:off x="668916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85080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V="1">
                <a:off x="6870240" y="208296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694296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698004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V="1">
                <a:off x="6905880" y="2077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10748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V="1">
                <a:off x="720036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V="1">
                <a:off x="716256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V="1">
                <a:off x="7126920" y="2085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682236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0732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655812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V="1">
                <a:off x="7089840" y="2097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V="1">
                <a:off x="6833160" y="2094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V="1">
                <a:off x="6578640" y="20991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V="1">
                <a:off x="646740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V="1">
                <a:off x="6504480" y="2073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V="1">
                <a:off x="654012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064560" y="20926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137280" y="210924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102000" y="2103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V="1">
                <a:off x="599364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6029280" y="20905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5880240" y="2113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91732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8446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6247080" y="20714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V="1">
                <a:off x="6283080" y="2085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31836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639108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642888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6596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3558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503040" y="21204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53868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6248520" y="2115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580464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284520" y="21013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21144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17472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9544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99112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02784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80752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V="1">
                <a:off x="595620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5807520" y="2076120"/>
                <a:ext cx="27900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 flipV="1">
                <a:off x="584604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V="1">
                <a:off x="5881680" y="2082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91948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08112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6100560" y="2082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17328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621000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6135840" y="2077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33780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V="1">
                <a:off x="643032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V="1">
                <a:off x="639252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V="1">
                <a:off x="6356880" y="2085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0526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30360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78844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55956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6319800" y="2097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6063480" y="2094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V="1">
                <a:off x="5808960" y="20991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2" name=""/>
            <p:cNvGrpSpPr/>
            <p:nvPr/>
          </p:nvGrpSpPr>
          <p:grpSpPr>
            <a:xfrm>
              <a:off x="3713040" y="2039400"/>
              <a:ext cx="1611000" cy="143280"/>
              <a:chOff x="3713040" y="2039400"/>
              <a:chExt cx="1611000" cy="143280"/>
            </a:xfrm>
          </p:grpSpPr>
          <p:grpSp>
            <p:nvGrpSpPr>
              <p:cNvPr id="3723" name=""/>
              <p:cNvGrpSpPr/>
              <p:nvPr/>
            </p:nvGrpSpPr>
            <p:grpSpPr>
              <a:xfrm>
                <a:off x="4482720" y="2039400"/>
                <a:ext cx="841320" cy="143280"/>
                <a:chOff x="4482720" y="2039400"/>
                <a:chExt cx="841320" cy="143280"/>
              </a:xfrm>
            </p:grpSpPr>
            <p:sp>
              <p:nvSpPr>
                <p:cNvPr id="3724" name=""/>
                <p:cNvSpPr/>
                <p:nvPr/>
              </p:nvSpPr>
              <p:spPr>
                <a:xfrm flipV="1">
                  <a:off x="516204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 flipV="1">
                  <a:off x="519912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 flipV="1">
                  <a:off x="523512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475920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483192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479628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 flipV="1">
                  <a:off x="468792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 flipV="1">
                  <a:off x="472356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457452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4611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453924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 flipV="1">
                  <a:off x="494208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 flipV="1">
                  <a:off x="497736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501336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508608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51235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5160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505044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519768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523368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494352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449892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497916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490644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48693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46490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468612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472212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450216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 flipV="1">
                  <a:off x="465084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450180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 flipV="1">
                  <a:off x="454068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 flipV="1">
                  <a:off x="457632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 flipV="1">
                  <a:off x="461340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477576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 flipV="1">
                  <a:off x="479484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 flipV="1">
                  <a:off x="486792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 flipV="1">
                  <a:off x="490500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 flipV="1">
                  <a:off x="483048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503280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 flipV="1">
                  <a:off x="51249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 flipV="1">
                  <a:off x="508752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 flipV="1">
                  <a:off x="505188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474732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499824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448272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525456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 flipV="1">
                  <a:off x="501480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 flipV="1">
                  <a:off x="475776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 flipV="1">
                  <a:off x="450360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4" name=""/>
              <p:cNvGrpSpPr/>
              <p:nvPr/>
            </p:nvGrpSpPr>
            <p:grpSpPr>
              <a:xfrm>
                <a:off x="3713040" y="2039400"/>
                <a:ext cx="841320" cy="143280"/>
                <a:chOff x="3713040" y="2039400"/>
                <a:chExt cx="841320" cy="143280"/>
              </a:xfrm>
            </p:grpSpPr>
            <p:sp>
              <p:nvSpPr>
                <p:cNvPr id="3775" name=""/>
                <p:cNvSpPr/>
                <p:nvPr/>
              </p:nvSpPr>
              <p:spPr>
                <a:xfrm flipV="1">
                  <a:off x="43923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 flipV="1">
                  <a:off x="442944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 flipV="1">
                  <a:off x="446544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>
                  <a:off x="398952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406224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402660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"/>
                <p:cNvSpPr/>
                <p:nvPr/>
              </p:nvSpPr>
              <p:spPr>
                <a:xfrm flipV="1">
                  <a:off x="391824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 flipV="1">
                  <a:off x="395388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3" name=""/>
                <p:cNvSpPr/>
                <p:nvPr/>
              </p:nvSpPr>
              <p:spPr>
                <a:xfrm>
                  <a:off x="380484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"/>
                <p:cNvSpPr/>
                <p:nvPr/>
              </p:nvSpPr>
              <p:spPr>
                <a:xfrm>
                  <a:off x="3841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>
                  <a:off x="376956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 flipV="1">
                  <a:off x="417240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 flipV="1">
                  <a:off x="420768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424368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431640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43538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4390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428076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442800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446400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417384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>
                  <a:off x="372924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420948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41367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>
                  <a:off x="409968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>
                  <a:off x="387936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"/>
                <p:cNvSpPr/>
                <p:nvPr/>
              </p:nvSpPr>
              <p:spPr>
                <a:xfrm>
                  <a:off x="391644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>
                  <a:off x="395244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>
                  <a:off x="373248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 flipV="1">
                  <a:off x="388116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>
                  <a:off x="373212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 flipV="1">
                  <a:off x="377100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 flipV="1">
                  <a:off x="380664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 flipV="1">
                  <a:off x="384372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400608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 flipV="1">
                  <a:off x="402516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 flipV="1">
                  <a:off x="409824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 flipV="1">
                  <a:off x="413532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 flipV="1">
                  <a:off x="406080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>
                  <a:off x="426312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 flipV="1">
                  <a:off x="435528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 flipV="1">
                  <a:off x="431784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 flipV="1">
                  <a:off x="428220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397764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422856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371304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448488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 flipV="1">
                  <a:off x="424512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 flipV="1">
                  <a:off x="398808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 flipV="1">
                  <a:off x="373392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5" name=""/>
            <p:cNvGrpSpPr/>
            <p:nvPr/>
          </p:nvGrpSpPr>
          <p:grpSpPr>
            <a:xfrm>
              <a:off x="3729240" y="1364040"/>
              <a:ext cx="1611000" cy="143280"/>
              <a:chOff x="3729240" y="1364040"/>
              <a:chExt cx="1611000" cy="143280"/>
            </a:xfrm>
          </p:grpSpPr>
          <p:grpSp>
            <p:nvGrpSpPr>
              <p:cNvPr id="3826" name=""/>
              <p:cNvGrpSpPr/>
              <p:nvPr/>
            </p:nvGrpSpPr>
            <p:grpSpPr>
              <a:xfrm>
                <a:off x="4498920" y="1364040"/>
                <a:ext cx="841320" cy="143280"/>
                <a:chOff x="4498920" y="1364040"/>
                <a:chExt cx="841320" cy="143280"/>
              </a:xfrm>
            </p:grpSpPr>
            <p:sp>
              <p:nvSpPr>
                <p:cNvPr id="3827" name=""/>
                <p:cNvSpPr/>
                <p:nvPr/>
              </p:nvSpPr>
              <p:spPr>
                <a:xfrm>
                  <a:off x="517824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521532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525132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 flipV="1">
                  <a:off x="477540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V="1">
                  <a:off x="484812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 flipV="1">
                  <a:off x="481248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>
                  <a:off x="470412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>
                  <a:off x="473976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 flipV="1">
                  <a:off x="459072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 flipV="1">
                  <a:off x="4627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 flipV="1">
                  <a:off x="455544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495828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>
                  <a:off x="499356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 flipV="1">
                  <a:off x="502956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 flipV="1">
                  <a:off x="510228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 flipV="1">
                  <a:off x="51397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 flipV="1">
                  <a:off x="5176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 flipV="1">
                  <a:off x="506664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 flipV="1">
                  <a:off x="521388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 flipV="1">
                  <a:off x="524988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 flipV="1">
                  <a:off x="495972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 flipV="1">
                  <a:off x="451512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 flipV="1">
                  <a:off x="499536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 flipV="1">
                  <a:off x="492264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 flipV="1">
                  <a:off x="48855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 flipV="1">
                  <a:off x="46652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 flipV="1">
                  <a:off x="470232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 flipV="1">
                  <a:off x="473832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 flipV="1">
                  <a:off x="451836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>
                  <a:off x="466704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 flipV="1">
                  <a:off x="451800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>
                  <a:off x="455688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459252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>
                  <a:off x="462960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 flipV="1">
                  <a:off x="479196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481104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"/>
                <p:cNvSpPr/>
                <p:nvPr/>
              </p:nvSpPr>
              <p:spPr>
                <a:xfrm>
                  <a:off x="488412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>
                  <a:off x="492120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>
                  <a:off x="484668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 flipV="1">
                  <a:off x="504900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51411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510372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>
                  <a:off x="506808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 flipV="1">
                  <a:off x="476352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 flipV="1">
                  <a:off x="501444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 flipV="1">
                  <a:off x="449892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 flipV="1">
                  <a:off x="527076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503100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477396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451980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7" name=""/>
              <p:cNvGrpSpPr/>
              <p:nvPr/>
            </p:nvGrpSpPr>
            <p:grpSpPr>
              <a:xfrm>
                <a:off x="3729240" y="1364040"/>
                <a:ext cx="841320" cy="143280"/>
                <a:chOff x="3729240" y="1364040"/>
                <a:chExt cx="841320" cy="143280"/>
              </a:xfrm>
            </p:grpSpPr>
            <p:sp>
              <p:nvSpPr>
                <p:cNvPr id="3878" name=""/>
                <p:cNvSpPr/>
                <p:nvPr/>
              </p:nvSpPr>
              <p:spPr>
                <a:xfrm>
                  <a:off x="44085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444564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448164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 flipV="1">
                  <a:off x="400572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 flipV="1">
                  <a:off x="407844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 flipV="1">
                  <a:off x="404280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393444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397008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 flipV="1">
                  <a:off x="382104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V="1">
                  <a:off x="3858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 flipV="1">
                  <a:off x="378576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418860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422388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 flipV="1">
                  <a:off x="425988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 flipV="1">
                  <a:off x="433260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 flipV="1">
                  <a:off x="43700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 flipV="1">
                  <a:off x="4407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 flipV="1">
                  <a:off x="429696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 flipV="1">
                  <a:off x="444420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 flipV="1">
                  <a:off x="448020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 flipV="1">
                  <a:off x="419004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 flipV="1">
                  <a:off x="374544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V="1">
                  <a:off x="422568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V="1">
                  <a:off x="41529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 flipV="1">
                  <a:off x="411588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 flipV="1">
                  <a:off x="389556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 flipV="1">
                  <a:off x="393264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 flipV="1">
                  <a:off x="396864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 flipV="1">
                  <a:off x="374868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389736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 flipV="1">
                  <a:off x="374832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378720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382284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385992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 flipV="1">
                  <a:off x="402228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404136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411444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415152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407700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 flipV="1">
                  <a:off x="427932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437148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433404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429840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 flipV="1">
                  <a:off x="399384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 flipV="1">
                  <a:off x="424476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 flipV="1">
                  <a:off x="372924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 flipV="1">
                  <a:off x="450108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426132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400428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375012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8" name=""/>
            <p:cNvSpPr/>
            <p:nvPr/>
          </p:nvSpPr>
          <p:spPr>
            <a:xfrm>
              <a:off x="3729240" y="1276200"/>
              <a:ext cx="0" cy="9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356240" y="1231920"/>
              <a:ext cx="0" cy="101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30" name="" descr=""/>
          <p:cNvPicPr/>
          <p:nvPr/>
        </p:nvPicPr>
        <p:blipFill>
          <a:blip r:embed="rId1"/>
          <a:stretch/>
        </p:blipFill>
        <p:spPr>
          <a:xfrm>
            <a:off x="3216240" y="2532240"/>
            <a:ext cx="4654440" cy="1558800"/>
          </a:xfrm>
          <a:prstGeom prst="rect">
            <a:avLst/>
          </a:prstGeom>
          <a:ln w="0">
            <a:noFill/>
          </a:ln>
        </p:spPr>
      </p:pic>
      <p:sp>
        <p:nvSpPr>
          <p:cNvPr id="3931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323280" y="11286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yofila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323280" y="2352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arcom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324360" y="4253040"/>
            <a:ext cx="2142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ibr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arcomères en sé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itochond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réticul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arcoplas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8" name=""/>
          <p:cNvGrpSpPr/>
          <p:nvPr/>
        </p:nvGrpSpPr>
        <p:grpSpPr>
          <a:xfrm>
            <a:off x="3713040" y="1231920"/>
            <a:ext cx="3658680" cy="1039680"/>
            <a:chOff x="3713040" y="1231920"/>
            <a:chExt cx="3658680" cy="1039680"/>
          </a:xfrm>
        </p:grpSpPr>
        <p:grpSp>
          <p:nvGrpSpPr>
            <p:cNvPr id="3939" name=""/>
            <p:cNvGrpSpPr/>
            <p:nvPr/>
          </p:nvGrpSpPr>
          <p:grpSpPr>
            <a:xfrm>
              <a:off x="4185720" y="1512360"/>
              <a:ext cx="2577240" cy="534960"/>
              <a:chOff x="4185720" y="1512360"/>
              <a:chExt cx="2577240" cy="534960"/>
            </a:xfrm>
          </p:grpSpPr>
          <p:grpSp>
            <p:nvGrpSpPr>
              <p:cNvPr id="3940" name=""/>
              <p:cNvGrpSpPr/>
              <p:nvPr/>
            </p:nvGrpSpPr>
            <p:grpSpPr>
              <a:xfrm>
                <a:off x="4597200" y="1512360"/>
                <a:ext cx="885960" cy="189720"/>
                <a:chOff x="4597200" y="1512360"/>
                <a:chExt cx="885960" cy="189720"/>
              </a:xfrm>
            </p:grpSpPr>
            <p:sp>
              <p:nvSpPr>
                <p:cNvPr id="3941" name=""/>
                <p:cNvSpPr/>
                <p:nvPr/>
              </p:nvSpPr>
              <p:spPr>
                <a:xfrm flipH="1">
                  <a:off x="4637880" y="16016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 flipH="1" rot="19929600">
                  <a:off x="4622040" y="15170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3" name=""/>
              <p:cNvGrpSpPr/>
              <p:nvPr/>
            </p:nvGrpSpPr>
            <p:grpSpPr>
              <a:xfrm>
                <a:off x="5304240" y="1537560"/>
                <a:ext cx="885960" cy="189360"/>
                <a:chOff x="5304240" y="1537560"/>
                <a:chExt cx="885960" cy="189360"/>
              </a:xfrm>
            </p:grpSpPr>
            <p:sp>
              <p:nvSpPr>
                <p:cNvPr id="3944" name=""/>
                <p:cNvSpPr/>
                <p:nvPr/>
              </p:nvSpPr>
              <p:spPr>
                <a:xfrm>
                  <a:off x="5304240" y="162684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rot="1670400">
                  <a:off x="6114960" y="15422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6" name=""/>
              <p:cNvGrpSpPr/>
              <p:nvPr/>
            </p:nvGrpSpPr>
            <p:grpSpPr>
              <a:xfrm>
                <a:off x="4732560" y="1857600"/>
                <a:ext cx="885960" cy="189720"/>
                <a:chOff x="4732560" y="1857600"/>
                <a:chExt cx="885960" cy="189720"/>
              </a:xfrm>
            </p:grpSpPr>
            <p:sp>
              <p:nvSpPr>
                <p:cNvPr id="3947" name=""/>
                <p:cNvSpPr/>
                <p:nvPr/>
              </p:nvSpPr>
              <p:spPr>
                <a:xfrm flipH="1" flipV="1">
                  <a:off x="4773240" y="18572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flipH="1" flipV="1" rot="1670400">
                  <a:off x="4757400" y="192312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9" name=""/>
              <p:cNvGrpSpPr/>
              <p:nvPr/>
            </p:nvGrpSpPr>
            <p:grpSpPr>
              <a:xfrm>
                <a:off x="5509800" y="1828080"/>
                <a:ext cx="885960" cy="189360"/>
                <a:chOff x="5509800" y="1828080"/>
                <a:chExt cx="885960" cy="189360"/>
              </a:xfrm>
            </p:grpSpPr>
            <p:sp>
              <p:nvSpPr>
                <p:cNvPr id="3950" name=""/>
                <p:cNvSpPr/>
                <p:nvPr/>
              </p:nvSpPr>
              <p:spPr>
                <a:xfrm flipV="1">
                  <a:off x="5509800" y="18280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flipV="1" rot="19929600">
                  <a:off x="6320520" y="189252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2" name=""/>
              <p:cNvGrpSpPr/>
              <p:nvPr/>
            </p:nvGrpSpPr>
            <p:grpSpPr>
              <a:xfrm>
                <a:off x="4539240" y="1817640"/>
                <a:ext cx="885960" cy="189720"/>
                <a:chOff x="4539240" y="1817640"/>
                <a:chExt cx="885960" cy="189720"/>
              </a:xfrm>
            </p:grpSpPr>
            <p:sp>
              <p:nvSpPr>
                <p:cNvPr id="3953" name=""/>
                <p:cNvSpPr/>
                <p:nvPr/>
              </p:nvSpPr>
              <p:spPr>
                <a:xfrm flipH="1" flipV="1">
                  <a:off x="4579920" y="181728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 flipH="1" flipV="1" rot="1670400">
                  <a:off x="4564080" y="188316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5" name=""/>
              <p:cNvGrpSpPr/>
              <p:nvPr/>
            </p:nvGrpSpPr>
            <p:grpSpPr>
              <a:xfrm>
                <a:off x="5600160" y="1557720"/>
                <a:ext cx="885960" cy="189360"/>
                <a:chOff x="5600160" y="1557720"/>
                <a:chExt cx="885960" cy="189360"/>
              </a:xfrm>
            </p:grpSpPr>
            <p:sp>
              <p:nvSpPr>
                <p:cNvPr id="3956" name=""/>
                <p:cNvSpPr/>
                <p:nvPr/>
              </p:nvSpPr>
              <p:spPr>
                <a:xfrm>
                  <a:off x="5600160" y="164700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 rot="1670400">
                  <a:off x="6410880" y="156240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8" name=""/>
              <p:cNvGrpSpPr/>
              <p:nvPr/>
            </p:nvGrpSpPr>
            <p:grpSpPr>
              <a:xfrm>
                <a:off x="5877000" y="1577160"/>
                <a:ext cx="885960" cy="189720"/>
                <a:chOff x="5877000" y="1577160"/>
                <a:chExt cx="885960" cy="189720"/>
              </a:xfrm>
            </p:grpSpPr>
            <p:sp>
              <p:nvSpPr>
                <p:cNvPr id="3959" name=""/>
                <p:cNvSpPr/>
                <p:nvPr/>
              </p:nvSpPr>
              <p:spPr>
                <a:xfrm>
                  <a:off x="5877000" y="1666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rot="1670400">
                  <a:off x="6687720" y="1581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1" name=""/>
              <p:cNvGrpSpPr/>
              <p:nvPr/>
            </p:nvGrpSpPr>
            <p:grpSpPr>
              <a:xfrm>
                <a:off x="5728680" y="1797480"/>
                <a:ext cx="885960" cy="189720"/>
                <a:chOff x="5728680" y="1797480"/>
                <a:chExt cx="885960" cy="189720"/>
              </a:xfrm>
            </p:grpSpPr>
            <p:sp>
              <p:nvSpPr>
                <p:cNvPr id="3962" name=""/>
                <p:cNvSpPr/>
                <p:nvPr/>
              </p:nvSpPr>
              <p:spPr>
                <a:xfrm flipV="1">
                  <a:off x="5728680" y="179712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flipV="1" rot="19929600">
                  <a:off x="6539400" y="18622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4" name=""/>
              <p:cNvGrpSpPr/>
              <p:nvPr/>
            </p:nvGrpSpPr>
            <p:grpSpPr>
              <a:xfrm>
                <a:off x="4359240" y="1532160"/>
                <a:ext cx="885960" cy="189720"/>
                <a:chOff x="4359240" y="1532160"/>
                <a:chExt cx="885960" cy="189720"/>
              </a:xfrm>
            </p:grpSpPr>
            <p:sp>
              <p:nvSpPr>
                <p:cNvPr id="3965" name=""/>
                <p:cNvSpPr/>
                <p:nvPr/>
              </p:nvSpPr>
              <p:spPr>
                <a:xfrm flipH="1">
                  <a:off x="4399920" y="162144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 flipH="1" rot="19929600">
                  <a:off x="4384080" y="153684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7" name=""/>
              <p:cNvGrpSpPr/>
              <p:nvPr/>
            </p:nvGrpSpPr>
            <p:grpSpPr>
              <a:xfrm>
                <a:off x="4320360" y="1777320"/>
                <a:ext cx="885960" cy="189720"/>
                <a:chOff x="4320360" y="1777320"/>
                <a:chExt cx="885960" cy="189720"/>
              </a:xfrm>
            </p:grpSpPr>
            <p:sp>
              <p:nvSpPr>
                <p:cNvPr id="3968" name=""/>
                <p:cNvSpPr/>
                <p:nvPr/>
              </p:nvSpPr>
              <p:spPr>
                <a:xfrm flipH="1" flipV="1">
                  <a:off x="4361040" y="1776960"/>
                  <a:ext cx="844920" cy="10044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 flipH="1" flipV="1" rot="1670400">
                  <a:off x="4345200" y="1842840"/>
                  <a:ext cx="50040" cy="119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0" name=""/>
              <p:cNvGrpSpPr/>
              <p:nvPr/>
            </p:nvGrpSpPr>
            <p:grpSpPr>
              <a:xfrm>
                <a:off x="4185720" y="1562400"/>
                <a:ext cx="885960" cy="189360"/>
                <a:chOff x="4185720" y="1562400"/>
                <a:chExt cx="885960" cy="189360"/>
              </a:xfrm>
            </p:grpSpPr>
            <p:sp>
              <p:nvSpPr>
                <p:cNvPr id="3971" name=""/>
                <p:cNvSpPr/>
                <p:nvPr/>
              </p:nvSpPr>
              <p:spPr>
                <a:xfrm flipH="1">
                  <a:off x="4226400" y="1651680"/>
                  <a:ext cx="844920" cy="100080"/>
                </a:xfrm>
                <a:custGeom>
                  <a:avLst/>
                  <a:gdLst/>
                  <a:ahLst/>
                  <a:rect l="l" t="t" r="r" b="b"/>
                  <a:pathLst>
                    <a:path w="788" h="60">
                      <a:moveTo>
                        <a:pt x="0" y="60"/>
                      </a:moveTo>
                      <a:lnTo>
                        <a:pt x="684" y="60"/>
                      </a:lnTo>
                      <a:lnTo>
                        <a:pt x="7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 flipH="1" rot="19929600">
                  <a:off x="4210560" y="1567080"/>
                  <a:ext cx="50040" cy="119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73" name=""/>
            <p:cNvGrpSpPr/>
            <p:nvPr/>
          </p:nvGrpSpPr>
          <p:grpSpPr>
            <a:xfrm>
              <a:off x="5777280" y="1372680"/>
              <a:ext cx="1583640" cy="143280"/>
              <a:chOff x="5777280" y="1372680"/>
              <a:chExt cx="1583640" cy="143280"/>
            </a:xfrm>
          </p:grpSpPr>
          <p:sp>
            <p:nvSpPr>
              <p:cNvPr id="3974" name=""/>
              <p:cNvSpPr/>
              <p:nvPr/>
            </p:nvSpPr>
            <p:spPr>
              <a:xfrm>
                <a:off x="722664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263720" y="1425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29936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823800" y="14068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896520" y="139068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860880" y="139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6752520" y="14234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6788160" y="14090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6639120" y="1386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667620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66034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006320" y="14281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041960" y="1413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077600" y="14025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7150320" y="13860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718812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7225200" y="13726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7114680" y="13906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7262280" y="13791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7297920" y="13928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7007760" y="13834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6563520" y="1422360"/>
                <a:ext cx="79488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 flipV="1">
                <a:off x="7043400" y="13978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 flipV="1">
                <a:off x="697068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6933600" y="13766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 flipV="1">
                <a:off x="6713280" y="13726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V="1">
                <a:off x="6750360" y="137916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 flipV="1">
                <a:off x="6786720" y="13928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 flipV="1">
                <a:off x="6566400" y="14025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671544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 flipV="1">
                <a:off x="6566400" y="1401120"/>
                <a:ext cx="279360" cy="7776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604920" y="14112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640560" y="1416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6678360" y="1430280"/>
                <a:ext cx="3492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 flipV="1">
                <a:off x="6840360" y="1428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859440" y="1416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693216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6969240" y="14346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895080" y="14212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 flipV="1">
                <a:off x="7096680" y="1409040"/>
                <a:ext cx="264240" cy="6336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189560" y="14324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151760" y="141912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116120" y="1413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 flipV="1">
                <a:off x="681156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 flipV="1">
                <a:off x="7062840" y="1466640"/>
                <a:ext cx="69840" cy="489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 flipV="1">
                <a:off x="6546960" y="1464120"/>
                <a:ext cx="6984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079040" y="140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822360" y="14047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567840" y="14004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3" name=""/>
              <p:cNvGrpSpPr/>
              <p:nvPr/>
            </p:nvGrpSpPr>
            <p:grpSpPr>
              <a:xfrm>
                <a:off x="5777280" y="1372680"/>
                <a:ext cx="840960" cy="143280"/>
                <a:chOff x="5777280" y="1372680"/>
                <a:chExt cx="840960" cy="143280"/>
              </a:xfrm>
            </p:grpSpPr>
            <p:sp>
              <p:nvSpPr>
                <p:cNvPr id="4024" name=""/>
                <p:cNvSpPr/>
                <p:nvPr/>
              </p:nvSpPr>
              <p:spPr>
                <a:xfrm>
                  <a:off x="645624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6493680" y="14259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652932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 flipV="1">
                  <a:off x="6053760" y="14068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 flipV="1">
                  <a:off x="6126480" y="139104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V="1">
                  <a:off x="6090840" y="139608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5982480" y="14238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>
                  <a:off x="6017760" y="14101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V="1">
                  <a:off x="586908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 flipV="1">
                  <a:off x="590616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 flipV="1">
                  <a:off x="5833800" y="13910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>
                  <a:off x="6236640" y="142884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>
                  <a:off x="6271920" y="14144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 flipV="1">
                  <a:off x="6307560" y="140328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V="1">
                  <a:off x="6380640" y="138672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 flipV="1">
                  <a:off x="641772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 flipV="1">
                  <a:off x="645480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V="1">
                  <a:off x="6344640" y="13910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 flipV="1">
                  <a:off x="649224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 flipV="1">
                  <a:off x="652788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V="1">
                  <a:off x="6238080" y="13842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 flipV="1">
                  <a:off x="5793480" y="1423080"/>
                  <a:ext cx="79524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 flipV="1">
                  <a:off x="6273720" y="139824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V="1">
                  <a:off x="620064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 flipV="1">
                  <a:off x="6163560" y="13773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 flipV="1">
                  <a:off x="5943240" y="13726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 flipV="1">
                  <a:off x="5980680" y="13795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 flipV="1">
                  <a:off x="6016320" y="13932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 flipV="1">
                  <a:off x="5796720" y="140328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594504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 flipV="1">
                  <a:off x="5796360" y="1401480"/>
                  <a:ext cx="27936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>
                  <a:off x="5835240" y="14122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"/>
                <p:cNvSpPr/>
                <p:nvPr/>
              </p:nvSpPr>
              <p:spPr>
                <a:xfrm>
                  <a:off x="5870880" y="14173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5907960" y="14310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 flipV="1">
                  <a:off x="6070320" y="1428120"/>
                  <a:ext cx="31176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>
                  <a:off x="6089400" y="14173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>
                  <a:off x="6162120" y="143532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>
                  <a:off x="6199200" y="143532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6125040" y="142164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 flipV="1">
                  <a:off x="6327000" y="14090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4" name=""/>
                <p:cNvSpPr/>
                <p:nvPr/>
              </p:nvSpPr>
              <p:spPr>
                <a:xfrm>
                  <a:off x="6419160" y="14331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6381720" y="1419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6346080" y="14144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 flipV="1">
                  <a:off x="6041880" y="14677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 flipV="1">
                  <a:off x="6292800" y="146772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 flipV="1">
                  <a:off x="577728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 flipV="1">
                  <a:off x="6548760" y="1465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>
                  <a:off x="6309000" y="140328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>
                  <a:off x="6052320" y="140544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5798160" y="140040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4" name=""/>
            <p:cNvGrpSpPr/>
            <p:nvPr/>
          </p:nvGrpSpPr>
          <p:grpSpPr>
            <a:xfrm>
              <a:off x="5788440" y="2039400"/>
              <a:ext cx="1583280" cy="142920"/>
              <a:chOff x="5788440" y="2039400"/>
              <a:chExt cx="1583280" cy="142920"/>
            </a:xfrm>
          </p:grpSpPr>
          <p:sp>
            <p:nvSpPr>
              <p:cNvPr id="4075" name=""/>
              <p:cNvSpPr/>
              <p:nvPr/>
            </p:nvSpPr>
            <p:spPr>
              <a:xfrm flipV="1">
                <a:off x="723744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 flipV="1">
                <a:off x="7274520" y="20736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 flipV="1">
                <a:off x="731016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834600" y="209268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907320" y="210924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871680" y="2103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 flipV="1">
                <a:off x="676332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flipV="1">
                <a:off x="6798960" y="20905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649920" y="2113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68700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66142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 flipV="1">
                <a:off x="7017120" y="20714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 flipV="1">
                <a:off x="7052760" y="2085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08840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16112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19892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2360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125480" y="210924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273080" y="21204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30872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018560" y="21157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657432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054200" y="21013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698148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6944400" y="21225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672408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676116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679752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657720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 flipV="1">
                <a:off x="672624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577200" y="2076120"/>
                <a:ext cx="27936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 flipV="1">
                <a:off x="6615720" y="2088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 flipV="1">
                <a:off x="6651360" y="2082960"/>
                <a:ext cx="3528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 flipV="1">
                <a:off x="668916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685080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 flipV="1">
                <a:off x="6870240" y="208296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 flipV="1">
                <a:off x="694296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 flipV="1">
                <a:off x="698004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 flipV="1">
                <a:off x="6905880" y="207792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10748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 flipV="1">
                <a:off x="7200360" y="20671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 flipV="1">
                <a:off x="716256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 flipV="1">
                <a:off x="7126920" y="2085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82236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0732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55812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 flipV="1">
                <a:off x="7089840" y="2097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 flipV="1">
                <a:off x="6833160" y="20948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 flipV="1">
                <a:off x="6578640" y="20991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 flipV="1">
                <a:off x="646740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 flipV="1">
                <a:off x="6504480" y="20736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 flipV="1">
                <a:off x="654012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064560" y="209268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137280" y="210924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102000" y="210384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 flipV="1">
                <a:off x="5993640" y="2076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 flipV="1">
                <a:off x="6029280" y="20905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5880240" y="2113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91732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58446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 flipV="1">
                <a:off x="6247080" y="207144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V="1">
                <a:off x="6283080" y="2085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318360" y="20970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391080" y="211392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42888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6465960" y="212688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6355800" y="210924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6503040" y="212040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6538680" y="210708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6248520" y="211572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804640" y="2095920"/>
                <a:ext cx="794520" cy="36720"/>
              </a:xfrm>
              <a:custGeom>
                <a:avLst/>
                <a:gdLst/>
                <a:ahLst/>
                <a:rect l="l" t="t" r="r" b="b"/>
                <a:pathLst>
                  <a:path w="3210" h="96">
                    <a:moveTo>
                      <a:pt x="0" y="28"/>
                    </a:moveTo>
                    <a:cubicBezTo>
                      <a:pt x="113" y="37"/>
                      <a:pt x="494" y="86"/>
                      <a:pt x="678" y="82"/>
                    </a:cubicBezTo>
                    <a:cubicBezTo>
                      <a:pt x="862" y="78"/>
                      <a:pt x="977" y="8"/>
                      <a:pt x="1104" y="4"/>
                    </a:cubicBezTo>
                    <a:cubicBezTo>
                      <a:pt x="1231" y="0"/>
                      <a:pt x="1350" y="45"/>
                      <a:pt x="1440" y="58"/>
                    </a:cubicBezTo>
                    <a:cubicBezTo>
                      <a:pt x="1530" y="71"/>
                      <a:pt x="1532" y="89"/>
                      <a:pt x="1644" y="82"/>
                    </a:cubicBezTo>
                    <a:cubicBezTo>
                      <a:pt x="1756" y="75"/>
                      <a:pt x="1952" y="11"/>
                      <a:pt x="2112" y="13"/>
                    </a:cubicBezTo>
                    <a:cubicBezTo>
                      <a:pt x="2272" y="15"/>
                      <a:pt x="2448" y="92"/>
                      <a:pt x="2604" y="94"/>
                    </a:cubicBezTo>
                    <a:cubicBezTo>
                      <a:pt x="2760" y="96"/>
                      <a:pt x="2947" y="39"/>
                      <a:pt x="3048" y="28"/>
                    </a:cubicBezTo>
                    <a:cubicBezTo>
                      <a:pt x="3149" y="17"/>
                      <a:pt x="3181" y="28"/>
                      <a:pt x="3210" y="28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6284520" y="21013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621144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174720" y="212256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954400" y="212688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991120" y="2120400"/>
                <a:ext cx="3636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6027840" y="2107080"/>
                <a:ext cx="3564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807520" y="209700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V="1">
                <a:off x="595620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807520" y="2076120"/>
                <a:ext cx="279000" cy="77400"/>
              </a:xfrm>
              <a:custGeom>
                <a:avLst/>
                <a:gdLst/>
                <a:ahLst/>
                <a:rect l="l" t="t" r="r" b="b"/>
                <a:pathLst>
                  <a:path w="790" h="140">
                    <a:moveTo>
                      <a:pt x="0" y="140"/>
                    </a:moveTo>
                    <a:cubicBezTo>
                      <a:pt x="17" y="138"/>
                      <a:pt x="40" y="137"/>
                      <a:pt x="108" y="128"/>
                    </a:cubicBezTo>
                    <a:cubicBezTo>
                      <a:pt x="176" y="119"/>
                      <a:pt x="324" y="100"/>
                      <a:pt x="408" y="86"/>
                    </a:cubicBezTo>
                    <a:cubicBezTo>
                      <a:pt x="492" y="72"/>
                      <a:pt x="547" y="55"/>
                      <a:pt x="611" y="41"/>
                    </a:cubicBezTo>
                    <a:cubicBezTo>
                      <a:pt x="675" y="27"/>
                      <a:pt x="753" y="8"/>
                      <a:pt x="790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 flipV="1">
                <a:off x="5846040" y="208800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V="1">
                <a:off x="5881680" y="2082960"/>
                <a:ext cx="35640" cy="54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 flipV="1">
                <a:off x="5919480" y="2069280"/>
                <a:ext cx="345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6081120" y="2067120"/>
                <a:ext cx="312120" cy="59760"/>
              </a:xfrm>
              <a:custGeom>
                <a:avLst/>
                <a:gdLst/>
                <a:ahLst/>
                <a:rect l="l" t="t" r="r" b="b"/>
                <a:pathLst>
                  <a:path w="882" h="108">
                    <a:moveTo>
                      <a:pt x="0" y="102"/>
                    </a:moveTo>
                    <a:cubicBezTo>
                      <a:pt x="33" y="101"/>
                      <a:pt x="111" y="108"/>
                      <a:pt x="198" y="102"/>
                    </a:cubicBezTo>
                    <a:cubicBezTo>
                      <a:pt x="285" y="96"/>
                      <a:pt x="464" y="71"/>
                      <a:pt x="521" y="64"/>
                    </a:cubicBezTo>
                    <a:cubicBezTo>
                      <a:pt x="578" y="57"/>
                      <a:pt x="510" y="65"/>
                      <a:pt x="540" y="60"/>
                    </a:cubicBezTo>
                    <a:cubicBezTo>
                      <a:pt x="570" y="55"/>
                      <a:pt x="647" y="46"/>
                      <a:pt x="704" y="36"/>
                    </a:cubicBezTo>
                    <a:cubicBezTo>
                      <a:pt x="761" y="26"/>
                      <a:pt x="845" y="8"/>
                      <a:pt x="882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 flipV="1">
                <a:off x="6100560" y="2082960"/>
                <a:ext cx="35280" cy="543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V="1">
                <a:off x="6173280" y="206496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 flipV="1">
                <a:off x="6210000" y="206496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 flipV="1">
                <a:off x="6135840" y="2077920"/>
                <a:ext cx="3564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6337800" y="2082600"/>
                <a:ext cx="264240" cy="63000"/>
              </a:xfrm>
              <a:custGeom>
                <a:avLst/>
                <a:gdLst/>
                <a:ahLst/>
                <a:rect l="l" t="t" r="r" b="b"/>
                <a:pathLst>
                  <a:path w="746" h="116">
                    <a:moveTo>
                      <a:pt x="0" y="111"/>
                    </a:moveTo>
                    <a:cubicBezTo>
                      <a:pt x="15" y="112"/>
                      <a:pt x="29" y="116"/>
                      <a:pt x="90" y="111"/>
                    </a:cubicBezTo>
                    <a:cubicBezTo>
                      <a:pt x="151" y="106"/>
                      <a:pt x="286" y="94"/>
                      <a:pt x="366" y="81"/>
                    </a:cubicBezTo>
                    <a:cubicBezTo>
                      <a:pt x="446" y="68"/>
                      <a:pt x="505" y="49"/>
                      <a:pt x="568" y="36"/>
                    </a:cubicBezTo>
                    <a:cubicBezTo>
                      <a:pt x="631" y="23"/>
                      <a:pt x="709" y="8"/>
                      <a:pt x="746" y="0"/>
                    </a:cubicBez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V="1">
                <a:off x="6430320" y="2067120"/>
                <a:ext cx="3528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V="1">
                <a:off x="6392520" y="2080440"/>
                <a:ext cx="3636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V="1">
                <a:off x="6356880" y="208584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605268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6303600" y="203940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78844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559560" y="2041560"/>
                <a:ext cx="69480" cy="48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 flipV="1">
                <a:off x="6319800" y="209700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V="1">
                <a:off x="6063480" y="2094840"/>
                <a:ext cx="35280" cy="55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 flipV="1">
                <a:off x="5808960" y="2099160"/>
                <a:ext cx="35640" cy="55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4" name=""/>
            <p:cNvGrpSpPr/>
            <p:nvPr/>
          </p:nvGrpSpPr>
          <p:grpSpPr>
            <a:xfrm>
              <a:off x="3713040" y="2039400"/>
              <a:ext cx="1611000" cy="143280"/>
              <a:chOff x="3713040" y="2039400"/>
              <a:chExt cx="1611000" cy="143280"/>
            </a:xfrm>
          </p:grpSpPr>
          <p:grpSp>
            <p:nvGrpSpPr>
              <p:cNvPr id="4175" name=""/>
              <p:cNvGrpSpPr/>
              <p:nvPr/>
            </p:nvGrpSpPr>
            <p:grpSpPr>
              <a:xfrm>
                <a:off x="4482720" y="2039400"/>
                <a:ext cx="841320" cy="143280"/>
                <a:chOff x="4482720" y="2039400"/>
                <a:chExt cx="841320" cy="143280"/>
              </a:xfrm>
            </p:grpSpPr>
            <p:sp>
              <p:nvSpPr>
                <p:cNvPr id="4176" name=""/>
                <p:cNvSpPr/>
                <p:nvPr/>
              </p:nvSpPr>
              <p:spPr>
                <a:xfrm flipV="1">
                  <a:off x="516204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 flipV="1">
                  <a:off x="519912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 flipV="1">
                  <a:off x="523512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475920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>
                  <a:off x="483192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>
                  <a:off x="479628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 flipV="1">
                  <a:off x="468792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3" name=""/>
                <p:cNvSpPr/>
                <p:nvPr/>
              </p:nvSpPr>
              <p:spPr>
                <a:xfrm flipV="1">
                  <a:off x="472356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4" name=""/>
                <p:cNvSpPr/>
                <p:nvPr/>
              </p:nvSpPr>
              <p:spPr>
                <a:xfrm>
                  <a:off x="457452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>
                  <a:off x="4611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6" name=""/>
                <p:cNvSpPr/>
                <p:nvPr/>
              </p:nvSpPr>
              <p:spPr>
                <a:xfrm>
                  <a:off x="453924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7" name=""/>
                <p:cNvSpPr/>
                <p:nvPr/>
              </p:nvSpPr>
              <p:spPr>
                <a:xfrm flipV="1">
                  <a:off x="494208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 flipV="1">
                  <a:off x="497736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>
                  <a:off x="501336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0" name=""/>
                <p:cNvSpPr/>
                <p:nvPr/>
              </p:nvSpPr>
              <p:spPr>
                <a:xfrm>
                  <a:off x="508608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51235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2" name=""/>
                <p:cNvSpPr/>
                <p:nvPr/>
              </p:nvSpPr>
              <p:spPr>
                <a:xfrm>
                  <a:off x="516060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3" name=""/>
                <p:cNvSpPr/>
                <p:nvPr/>
              </p:nvSpPr>
              <p:spPr>
                <a:xfrm>
                  <a:off x="505044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519768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5" name=""/>
                <p:cNvSpPr/>
                <p:nvPr/>
              </p:nvSpPr>
              <p:spPr>
                <a:xfrm>
                  <a:off x="523368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6" name=""/>
                <p:cNvSpPr/>
                <p:nvPr/>
              </p:nvSpPr>
              <p:spPr>
                <a:xfrm>
                  <a:off x="494352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449892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8" name=""/>
                <p:cNvSpPr/>
                <p:nvPr/>
              </p:nvSpPr>
              <p:spPr>
                <a:xfrm>
                  <a:off x="497916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490644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48693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46490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468612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472212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450216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 flipV="1">
                  <a:off x="465084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450180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 flipV="1">
                  <a:off x="454068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 flipV="1">
                  <a:off x="457632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 flipV="1">
                  <a:off x="461340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>
                  <a:off x="477576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 flipV="1">
                  <a:off x="479484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 flipV="1">
                  <a:off x="486792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 flipV="1">
                  <a:off x="490500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 flipV="1">
                  <a:off x="483048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503280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 flipV="1">
                  <a:off x="51249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7" name=""/>
                <p:cNvSpPr/>
                <p:nvPr/>
              </p:nvSpPr>
              <p:spPr>
                <a:xfrm flipV="1">
                  <a:off x="508752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 flipV="1">
                  <a:off x="505188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>
                  <a:off x="474732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0" name=""/>
                <p:cNvSpPr/>
                <p:nvPr/>
              </p:nvSpPr>
              <p:spPr>
                <a:xfrm>
                  <a:off x="499824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1" name=""/>
                <p:cNvSpPr/>
                <p:nvPr/>
              </p:nvSpPr>
              <p:spPr>
                <a:xfrm>
                  <a:off x="448272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2" name=""/>
                <p:cNvSpPr/>
                <p:nvPr/>
              </p:nvSpPr>
              <p:spPr>
                <a:xfrm>
                  <a:off x="525456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3" name=""/>
                <p:cNvSpPr/>
                <p:nvPr/>
              </p:nvSpPr>
              <p:spPr>
                <a:xfrm flipV="1">
                  <a:off x="501480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4" name=""/>
                <p:cNvSpPr/>
                <p:nvPr/>
              </p:nvSpPr>
              <p:spPr>
                <a:xfrm flipV="1">
                  <a:off x="475776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5" name=""/>
                <p:cNvSpPr/>
                <p:nvPr/>
              </p:nvSpPr>
              <p:spPr>
                <a:xfrm flipV="1">
                  <a:off x="450360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6" name=""/>
              <p:cNvGrpSpPr/>
              <p:nvPr/>
            </p:nvGrpSpPr>
            <p:grpSpPr>
              <a:xfrm>
                <a:off x="3713040" y="2039400"/>
                <a:ext cx="841320" cy="143280"/>
                <a:chOff x="3713040" y="2039400"/>
                <a:chExt cx="841320" cy="143280"/>
              </a:xfrm>
            </p:grpSpPr>
            <p:sp>
              <p:nvSpPr>
                <p:cNvPr id="4227" name=""/>
                <p:cNvSpPr/>
                <p:nvPr/>
              </p:nvSpPr>
              <p:spPr>
                <a:xfrm flipV="1">
                  <a:off x="439236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8" name=""/>
                <p:cNvSpPr/>
                <p:nvPr/>
              </p:nvSpPr>
              <p:spPr>
                <a:xfrm flipV="1">
                  <a:off x="4429440" y="2073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9" name=""/>
                <p:cNvSpPr/>
                <p:nvPr/>
              </p:nvSpPr>
              <p:spPr>
                <a:xfrm flipV="1">
                  <a:off x="446544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0" name=""/>
                <p:cNvSpPr/>
                <p:nvPr/>
              </p:nvSpPr>
              <p:spPr>
                <a:xfrm>
                  <a:off x="3989520" y="2092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1" name=""/>
                <p:cNvSpPr/>
                <p:nvPr/>
              </p:nvSpPr>
              <p:spPr>
                <a:xfrm>
                  <a:off x="4062240" y="210888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>
                  <a:off x="4026600" y="21038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3" name=""/>
                <p:cNvSpPr/>
                <p:nvPr/>
              </p:nvSpPr>
              <p:spPr>
                <a:xfrm flipV="1">
                  <a:off x="3918240" y="207540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4" name=""/>
                <p:cNvSpPr/>
                <p:nvPr/>
              </p:nvSpPr>
              <p:spPr>
                <a:xfrm flipV="1">
                  <a:off x="3953880" y="20890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380484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3841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7" name=""/>
                <p:cNvSpPr/>
                <p:nvPr/>
              </p:nvSpPr>
              <p:spPr>
                <a:xfrm>
                  <a:off x="3769560" y="21088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8" name=""/>
                <p:cNvSpPr/>
                <p:nvPr/>
              </p:nvSpPr>
              <p:spPr>
                <a:xfrm flipV="1">
                  <a:off x="4172400" y="207108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9" name=""/>
                <p:cNvSpPr/>
                <p:nvPr/>
              </p:nvSpPr>
              <p:spPr>
                <a:xfrm flipV="1">
                  <a:off x="4207680" y="20847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0" name=""/>
                <p:cNvSpPr/>
                <p:nvPr/>
              </p:nvSpPr>
              <p:spPr>
                <a:xfrm>
                  <a:off x="4243680" y="209736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>
                  <a:off x="4316400" y="211320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2" name=""/>
                <p:cNvSpPr/>
                <p:nvPr/>
              </p:nvSpPr>
              <p:spPr>
                <a:xfrm>
                  <a:off x="435384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3" name=""/>
                <p:cNvSpPr/>
                <p:nvPr/>
              </p:nvSpPr>
              <p:spPr>
                <a:xfrm>
                  <a:off x="439092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4280760" y="2108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5" name=""/>
                <p:cNvSpPr/>
                <p:nvPr/>
              </p:nvSpPr>
              <p:spPr>
                <a:xfrm>
                  <a:off x="442800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6" name=""/>
                <p:cNvSpPr/>
                <p:nvPr/>
              </p:nvSpPr>
              <p:spPr>
                <a:xfrm>
                  <a:off x="446400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>
                  <a:off x="4173840" y="2115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3729240" y="209556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>
                  <a:off x="4209480" y="210168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>
                  <a:off x="413676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>
                  <a:off x="4099680" y="2122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>
                  <a:off x="3879360" y="21272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>
                  <a:off x="3916440" y="2120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4" name=""/>
                <p:cNvSpPr/>
                <p:nvPr/>
              </p:nvSpPr>
              <p:spPr>
                <a:xfrm>
                  <a:off x="3952440" y="210672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5" name=""/>
                <p:cNvSpPr/>
                <p:nvPr/>
              </p:nvSpPr>
              <p:spPr>
                <a:xfrm>
                  <a:off x="3732480" y="209736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 flipV="1">
                  <a:off x="388116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7" name=""/>
                <p:cNvSpPr/>
                <p:nvPr/>
              </p:nvSpPr>
              <p:spPr>
                <a:xfrm>
                  <a:off x="3732120" y="207612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 flipV="1">
                  <a:off x="3771000" y="20869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 flipV="1">
                  <a:off x="3806640" y="208260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 flipV="1">
                  <a:off x="3843720" y="206892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1" name=""/>
                <p:cNvSpPr/>
                <p:nvPr/>
              </p:nvSpPr>
              <p:spPr>
                <a:xfrm>
                  <a:off x="4006080" y="2067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 flipV="1">
                  <a:off x="4025160" y="20826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 flipV="1">
                  <a:off x="4098240" y="20638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 flipV="1">
                  <a:off x="4135320" y="20638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 flipV="1">
                  <a:off x="4060800" y="207756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>
                  <a:off x="4263120" y="208224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 flipV="1">
                  <a:off x="4355280" y="20660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V="1">
                  <a:off x="4317840" y="20797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 flipV="1">
                  <a:off x="4282200" y="208476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3977640" y="203940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>
                  <a:off x="4228560" y="203940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>
                  <a:off x="371304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>
                  <a:off x="4484880" y="204156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 flipV="1">
                  <a:off x="4245120" y="209736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 flipV="1">
                  <a:off x="3988080" y="20944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 flipV="1">
                  <a:off x="3733920" y="20995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77" name=""/>
            <p:cNvGrpSpPr/>
            <p:nvPr/>
          </p:nvGrpSpPr>
          <p:grpSpPr>
            <a:xfrm>
              <a:off x="3729240" y="1364040"/>
              <a:ext cx="1611000" cy="143280"/>
              <a:chOff x="3729240" y="1364040"/>
              <a:chExt cx="1611000" cy="143280"/>
            </a:xfrm>
          </p:grpSpPr>
          <p:grpSp>
            <p:nvGrpSpPr>
              <p:cNvPr id="4278" name=""/>
              <p:cNvGrpSpPr/>
              <p:nvPr/>
            </p:nvGrpSpPr>
            <p:grpSpPr>
              <a:xfrm>
                <a:off x="4498920" y="1364040"/>
                <a:ext cx="841320" cy="143280"/>
                <a:chOff x="4498920" y="1364040"/>
                <a:chExt cx="841320" cy="143280"/>
              </a:xfrm>
            </p:grpSpPr>
            <p:sp>
              <p:nvSpPr>
                <p:cNvPr id="4279" name=""/>
                <p:cNvSpPr/>
                <p:nvPr/>
              </p:nvSpPr>
              <p:spPr>
                <a:xfrm>
                  <a:off x="517824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521532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>
                  <a:off x="525132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 flipV="1">
                  <a:off x="477540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 flipV="1">
                  <a:off x="484812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 flipV="1">
                  <a:off x="481248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470412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>
                  <a:off x="473976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 flipV="1">
                  <a:off x="459072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 flipV="1">
                  <a:off x="4627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 flipV="1">
                  <a:off x="455544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>
                  <a:off x="495828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499356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 flipV="1">
                  <a:off x="502956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 flipV="1">
                  <a:off x="510228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 flipV="1">
                  <a:off x="51397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 flipV="1">
                  <a:off x="517680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 flipV="1">
                  <a:off x="506664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 flipV="1">
                  <a:off x="521388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 flipV="1">
                  <a:off x="524988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 flipV="1">
                  <a:off x="495972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 flipV="1">
                  <a:off x="451512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 flipV="1">
                  <a:off x="499536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 flipV="1">
                  <a:off x="492264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 flipV="1">
                  <a:off x="48855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 flipV="1">
                  <a:off x="46652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 flipV="1">
                  <a:off x="470232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 flipV="1">
                  <a:off x="473832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 flipV="1">
                  <a:off x="451836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>
                  <a:off x="466704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 flipV="1">
                  <a:off x="451800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>
                  <a:off x="455688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459252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462960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 flipV="1">
                  <a:off x="479196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481104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488412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492120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484668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 flipV="1">
                  <a:off x="504900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51411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510372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>
                  <a:off x="506808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 flipV="1">
                  <a:off x="476352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 flipV="1">
                  <a:off x="501444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4" name=""/>
                <p:cNvSpPr/>
                <p:nvPr/>
              </p:nvSpPr>
              <p:spPr>
                <a:xfrm flipV="1">
                  <a:off x="449892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 flipV="1">
                  <a:off x="527076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503100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477396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451980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9" name=""/>
              <p:cNvGrpSpPr/>
              <p:nvPr/>
            </p:nvGrpSpPr>
            <p:grpSpPr>
              <a:xfrm>
                <a:off x="3729240" y="1364040"/>
                <a:ext cx="841320" cy="143280"/>
                <a:chOff x="3729240" y="1364040"/>
                <a:chExt cx="841320" cy="143280"/>
              </a:xfrm>
            </p:grpSpPr>
            <p:sp>
              <p:nvSpPr>
                <p:cNvPr id="4330" name=""/>
                <p:cNvSpPr/>
                <p:nvPr/>
              </p:nvSpPr>
              <p:spPr>
                <a:xfrm>
                  <a:off x="440856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445640" y="14173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448164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 flipV="1">
                  <a:off x="4005720" y="13982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4" name=""/>
                <p:cNvSpPr/>
                <p:nvPr/>
              </p:nvSpPr>
              <p:spPr>
                <a:xfrm flipV="1">
                  <a:off x="4078440" y="1382400"/>
                  <a:ext cx="3564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5" name=""/>
                <p:cNvSpPr/>
                <p:nvPr/>
              </p:nvSpPr>
              <p:spPr>
                <a:xfrm flipV="1">
                  <a:off x="4042800" y="138744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>
                  <a:off x="3934440" y="1415160"/>
                  <a:ext cx="3528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>
                  <a:off x="3970080" y="140148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 flipV="1">
                  <a:off x="382104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 flipV="1">
                  <a:off x="3858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 flipV="1">
                  <a:off x="3785760" y="13824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1" name=""/>
                <p:cNvSpPr/>
                <p:nvPr/>
              </p:nvSpPr>
              <p:spPr>
                <a:xfrm>
                  <a:off x="4188600" y="1420200"/>
                  <a:ext cx="3528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2" name=""/>
                <p:cNvSpPr/>
                <p:nvPr/>
              </p:nvSpPr>
              <p:spPr>
                <a:xfrm>
                  <a:off x="4223880" y="14058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 flipV="1">
                  <a:off x="4259880" y="1394640"/>
                  <a:ext cx="3564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 flipV="1">
                  <a:off x="4332600" y="137808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 flipV="1">
                  <a:off x="437004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 flipV="1">
                  <a:off x="440712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 flipV="1">
                  <a:off x="4296960" y="13824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8" name=""/>
                <p:cNvSpPr/>
                <p:nvPr/>
              </p:nvSpPr>
              <p:spPr>
                <a:xfrm flipV="1">
                  <a:off x="444420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9" name=""/>
                <p:cNvSpPr/>
                <p:nvPr/>
              </p:nvSpPr>
              <p:spPr>
                <a:xfrm flipV="1">
                  <a:off x="448020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0" name=""/>
                <p:cNvSpPr/>
                <p:nvPr/>
              </p:nvSpPr>
              <p:spPr>
                <a:xfrm flipV="1">
                  <a:off x="4190040" y="13755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"/>
                <p:cNvSpPr/>
                <p:nvPr/>
              </p:nvSpPr>
              <p:spPr>
                <a:xfrm flipV="1">
                  <a:off x="3745440" y="1414440"/>
                  <a:ext cx="795600" cy="36720"/>
                </a:xfrm>
                <a:custGeom>
                  <a:avLst/>
                  <a:gdLst/>
                  <a:ahLst/>
                  <a:rect l="l" t="t" r="r" b="b"/>
                  <a:pathLst>
                    <a:path w="3210" h="96">
                      <a:moveTo>
                        <a:pt x="0" y="28"/>
                      </a:moveTo>
                      <a:cubicBezTo>
                        <a:pt x="113" y="37"/>
                        <a:pt x="494" y="86"/>
                        <a:pt x="678" y="82"/>
                      </a:cubicBezTo>
                      <a:cubicBezTo>
                        <a:pt x="862" y="78"/>
                        <a:pt x="977" y="8"/>
                        <a:pt x="1104" y="4"/>
                      </a:cubicBezTo>
                      <a:cubicBezTo>
                        <a:pt x="1231" y="0"/>
                        <a:pt x="1350" y="45"/>
                        <a:pt x="1440" y="58"/>
                      </a:cubicBezTo>
                      <a:cubicBezTo>
                        <a:pt x="1530" y="71"/>
                        <a:pt x="1532" y="89"/>
                        <a:pt x="1644" y="82"/>
                      </a:cubicBezTo>
                      <a:cubicBezTo>
                        <a:pt x="1756" y="75"/>
                        <a:pt x="1952" y="11"/>
                        <a:pt x="2112" y="13"/>
                      </a:cubicBezTo>
                      <a:cubicBezTo>
                        <a:pt x="2272" y="15"/>
                        <a:pt x="2448" y="92"/>
                        <a:pt x="2604" y="94"/>
                      </a:cubicBezTo>
                      <a:cubicBezTo>
                        <a:pt x="2760" y="96"/>
                        <a:pt x="2947" y="39"/>
                        <a:pt x="3048" y="28"/>
                      </a:cubicBezTo>
                      <a:cubicBezTo>
                        <a:pt x="3149" y="17"/>
                        <a:pt x="3181" y="28"/>
                        <a:pt x="3210" y="28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2" name=""/>
                <p:cNvSpPr/>
                <p:nvPr/>
              </p:nvSpPr>
              <p:spPr>
                <a:xfrm flipV="1">
                  <a:off x="4225680" y="1389600"/>
                  <a:ext cx="3528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3" name=""/>
                <p:cNvSpPr/>
                <p:nvPr/>
              </p:nvSpPr>
              <p:spPr>
                <a:xfrm flipV="1">
                  <a:off x="415296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4" name=""/>
                <p:cNvSpPr/>
                <p:nvPr/>
              </p:nvSpPr>
              <p:spPr>
                <a:xfrm flipV="1">
                  <a:off x="4115880" y="136872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V="1">
                  <a:off x="3895560" y="1364040"/>
                  <a:ext cx="35640" cy="554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V="1">
                  <a:off x="3932640" y="13708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V="1">
                  <a:off x="3968640" y="138456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 flipV="1">
                  <a:off x="3748680" y="1394640"/>
                  <a:ext cx="35280" cy="547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>
                  <a:off x="389736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 flipV="1">
                  <a:off x="3748320" y="1392840"/>
                  <a:ext cx="279720" cy="77400"/>
                </a:xfrm>
                <a:custGeom>
                  <a:avLst/>
                  <a:gdLst/>
                  <a:ahLst/>
                  <a:rect l="l" t="t" r="r" b="b"/>
                  <a:pathLst>
                    <a:path w="790" h="140">
                      <a:moveTo>
                        <a:pt x="0" y="140"/>
                      </a:moveTo>
                      <a:cubicBezTo>
                        <a:pt x="17" y="138"/>
                        <a:pt x="40" y="137"/>
                        <a:pt x="108" y="128"/>
                      </a:cubicBezTo>
                      <a:cubicBezTo>
                        <a:pt x="176" y="119"/>
                        <a:pt x="324" y="100"/>
                        <a:pt x="408" y="86"/>
                      </a:cubicBezTo>
                      <a:cubicBezTo>
                        <a:pt x="492" y="72"/>
                        <a:pt x="547" y="55"/>
                        <a:pt x="611" y="41"/>
                      </a:cubicBezTo>
                      <a:cubicBezTo>
                        <a:pt x="675" y="27"/>
                        <a:pt x="753" y="8"/>
                        <a:pt x="790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>
                  <a:off x="3787200" y="14036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>
                  <a:off x="3822840" y="140868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>
                  <a:off x="3859920" y="1422360"/>
                  <a:ext cx="35280" cy="55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 flipV="1">
                  <a:off x="4022280" y="1419480"/>
                  <a:ext cx="312120" cy="59760"/>
                </a:xfrm>
                <a:custGeom>
                  <a:avLst/>
                  <a:gdLst/>
                  <a:ahLst/>
                  <a:rect l="l" t="t" r="r" b="b"/>
                  <a:pathLst>
                    <a:path w="882" h="108">
                      <a:moveTo>
                        <a:pt x="0" y="102"/>
                      </a:moveTo>
                      <a:cubicBezTo>
                        <a:pt x="33" y="101"/>
                        <a:pt x="111" y="108"/>
                        <a:pt x="198" y="102"/>
                      </a:cubicBezTo>
                      <a:cubicBezTo>
                        <a:pt x="285" y="96"/>
                        <a:pt x="464" y="71"/>
                        <a:pt x="521" y="64"/>
                      </a:cubicBezTo>
                      <a:cubicBezTo>
                        <a:pt x="578" y="57"/>
                        <a:pt x="510" y="65"/>
                        <a:pt x="540" y="60"/>
                      </a:cubicBezTo>
                      <a:cubicBezTo>
                        <a:pt x="570" y="55"/>
                        <a:pt x="647" y="46"/>
                        <a:pt x="704" y="36"/>
                      </a:cubicBezTo>
                      <a:cubicBezTo>
                        <a:pt x="761" y="26"/>
                        <a:pt x="845" y="8"/>
                        <a:pt x="882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>
                  <a:off x="4041360" y="140868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4114440" y="142668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7" name=""/>
                <p:cNvSpPr/>
                <p:nvPr/>
              </p:nvSpPr>
              <p:spPr>
                <a:xfrm>
                  <a:off x="4151520" y="1426680"/>
                  <a:ext cx="3528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4077000" y="1413000"/>
                  <a:ext cx="35640" cy="558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4279320" y="1400400"/>
                  <a:ext cx="263880" cy="64080"/>
                </a:xfrm>
                <a:custGeom>
                  <a:avLst/>
                  <a:gdLst/>
                  <a:ahLst/>
                  <a:rect l="l" t="t" r="r" b="b"/>
                  <a:pathLst>
                    <a:path w="746" h="116">
                      <a:moveTo>
                        <a:pt x="0" y="111"/>
                      </a:moveTo>
                      <a:cubicBezTo>
                        <a:pt x="15" y="112"/>
                        <a:pt x="29" y="116"/>
                        <a:pt x="90" y="111"/>
                      </a:cubicBezTo>
                      <a:cubicBezTo>
                        <a:pt x="151" y="106"/>
                        <a:pt x="286" y="94"/>
                        <a:pt x="366" y="81"/>
                      </a:cubicBezTo>
                      <a:cubicBezTo>
                        <a:pt x="446" y="68"/>
                        <a:pt x="505" y="49"/>
                        <a:pt x="568" y="36"/>
                      </a:cubicBezTo>
                      <a:cubicBezTo>
                        <a:pt x="631" y="23"/>
                        <a:pt x="709" y="8"/>
                        <a:pt x="746" y="0"/>
                      </a:cubicBezTo>
                    </a:path>
                  </a:pathLst>
                </a:custGeom>
                <a:noFill/>
                <a:ln w="3816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4371480" y="142452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4334040" y="141084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4298400" y="1405800"/>
                  <a:ext cx="35640" cy="558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3993840" y="145908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4244760" y="1459080"/>
                  <a:ext cx="6984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372924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V="1">
                  <a:off x="4501080" y="1456920"/>
                  <a:ext cx="69480" cy="48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"/>
                <p:cNvSpPr/>
                <p:nvPr/>
              </p:nvSpPr>
              <p:spPr>
                <a:xfrm>
                  <a:off x="4261320" y="1394640"/>
                  <a:ext cx="35640" cy="54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8" name=""/>
                <p:cNvSpPr/>
                <p:nvPr/>
              </p:nvSpPr>
              <p:spPr>
                <a:xfrm>
                  <a:off x="4004280" y="1396800"/>
                  <a:ext cx="35640" cy="550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9" name=""/>
                <p:cNvSpPr/>
                <p:nvPr/>
              </p:nvSpPr>
              <p:spPr>
                <a:xfrm>
                  <a:off x="3750120" y="1391760"/>
                  <a:ext cx="35640" cy="554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80" name=""/>
            <p:cNvSpPr/>
            <p:nvPr/>
          </p:nvSpPr>
          <p:spPr>
            <a:xfrm>
              <a:off x="3729240" y="1276200"/>
              <a:ext cx="0" cy="9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356240" y="1231920"/>
              <a:ext cx="0" cy="101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2" name="" descr=""/>
          <p:cNvPicPr/>
          <p:nvPr/>
        </p:nvPicPr>
        <p:blipFill>
          <a:blip r:embed="rId1"/>
          <a:stretch/>
        </p:blipFill>
        <p:spPr>
          <a:xfrm>
            <a:off x="3216240" y="2532240"/>
            <a:ext cx="4654440" cy="1558800"/>
          </a:xfrm>
          <a:prstGeom prst="rect">
            <a:avLst/>
          </a:prstGeom>
          <a:ln w="0">
            <a:noFill/>
          </a:ln>
        </p:spPr>
      </p:pic>
      <p:pic>
        <p:nvPicPr>
          <p:cNvPr id="4383" name="" descr=""/>
          <p:cNvPicPr/>
          <p:nvPr/>
        </p:nvPicPr>
        <p:blipFill>
          <a:blip r:embed="rId2"/>
          <a:stretch/>
        </p:blipFill>
        <p:spPr>
          <a:xfrm>
            <a:off x="2611440" y="4405320"/>
            <a:ext cx="5875200" cy="2035080"/>
          </a:xfrm>
          <a:prstGeom prst="rect">
            <a:avLst/>
          </a:prstGeom>
          <a:ln w="0">
            <a:noFill/>
          </a:ln>
        </p:spPr>
      </p:pic>
      <p:sp>
        <p:nvSpPr>
          <p:cNvPr id="4384" name=""/>
          <p:cNvSpPr/>
          <p:nvPr/>
        </p:nvSpPr>
        <p:spPr>
          <a:xfrm>
            <a:off x="2638440" y="4435560"/>
            <a:ext cx="5829120" cy="698400"/>
          </a:xfrm>
          <a:custGeom>
            <a:avLst/>
            <a:gdLst/>
            <a:ahLst/>
            <a:rect l="l" t="t" r="r" b="b"/>
            <a:pathLst>
              <a:path w="3672" h="440">
                <a:moveTo>
                  <a:pt x="0" y="440"/>
                </a:moveTo>
                <a:cubicBezTo>
                  <a:pt x="136" y="379"/>
                  <a:pt x="273" y="318"/>
                  <a:pt x="468" y="260"/>
                </a:cubicBezTo>
                <a:cubicBezTo>
                  <a:pt x="663" y="202"/>
                  <a:pt x="999" y="125"/>
                  <a:pt x="1170" y="92"/>
                </a:cubicBezTo>
                <a:cubicBezTo>
                  <a:pt x="1341" y="59"/>
                  <a:pt x="1386" y="73"/>
                  <a:pt x="1494" y="62"/>
                </a:cubicBezTo>
                <a:cubicBezTo>
                  <a:pt x="1602" y="51"/>
                  <a:pt x="1723" y="35"/>
                  <a:pt x="1818" y="26"/>
                </a:cubicBezTo>
                <a:cubicBezTo>
                  <a:pt x="1913" y="17"/>
                  <a:pt x="1973" y="12"/>
                  <a:pt x="2064" y="8"/>
                </a:cubicBezTo>
                <a:cubicBezTo>
                  <a:pt x="2155" y="4"/>
                  <a:pt x="2278" y="0"/>
                  <a:pt x="2364" y="2"/>
                </a:cubicBezTo>
                <a:cubicBezTo>
                  <a:pt x="2450" y="4"/>
                  <a:pt x="2509" y="15"/>
                  <a:pt x="2580" y="20"/>
                </a:cubicBezTo>
                <a:cubicBezTo>
                  <a:pt x="2651" y="25"/>
                  <a:pt x="2723" y="28"/>
                  <a:pt x="2790" y="32"/>
                </a:cubicBezTo>
                <a:cubicBezTo>
                  <a:pt x="2857" y="36"/>
                  <a:pt x="2906" y="33"/>
                  <a:pt x="2982" y="44"/>
                </a:cubicBezTo>
                <a:cubicBezTo>
                  <a:pt x="3058" y="55"/>
                  <a:pt x="3152" y="85"/>
                  <a:pt x="3246" y="98"/>
                </a:cubicBezTo>
                <a:cubicBezTo>
                  <a:pt x="3340" y="111"/>
                  <a:pt x="3475" y="111"/>
                  <a:pt x="3546" y="122"/>
                </a:cubicBezTo>
                <a:cubicBezTo>
                  <a:pt x="3617" y="133"/>
                  <a:pt x="3648" y="156"/>
                  <a:pt x="3672" y="164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2666880" y="5294160"/>
            <a:ext cx="5772240" cy="906480"/>
          </a:xfrm>
          <a:custGeom>
            <a:avLst/>
            <a:gdLst/>
            <a:ahLst/>
            <a:rect l="l" t="t" r="r" b="b"/>
            <a:pathLst>
              <a:path w="3636" h="571">
                <a:moveTo>
                  <a:pt x="0" y="571"/>
                </a:moveTo>
                <a:cubicBezTo>
                  <a:pt x="127" y="519"/>
                  <a:pt x="254" y="468"/>
                  <a:pt x="420" y="415"/>
                </a:cubicBezTo>
                <a:cubicBezTo>
                  <a:pt x="586" y="362"/>
                  <a:pt x="829" y="300"/>
                  <a:pt x="996" y="253"/>
                </a:cubicBezTo>
                <a:cubicBezTo>
                  <a:pt x="1163" y="206"/>
                  <a:pt x="1222" y="172"/>
                  <a:pt x="1422" y="133"/>
                </a:cubicBezTo>
                <a:cubicBezTo>
                  <a:pt x="1622" y="94"/>
                  <a:pt x="1988" y="38"/>
                  <a:pt x="2196" y="19"/>
                </a:cubicBezTo>
                <a:cubicBezTo>
                  <a:pt x="2404" y="0"/>
                  <a:pt x="2544" y="16"/>
                  <a:pt x="2670" y="19"/>
                </a:cubicBezTo>
                <a:cubicBezTo>
                  <a:pt x="2796" y="22"/>
                  <a:pt x="2859" y="29"/>
                  <a:pt x="2952" y="37"/>
                </a:cubicBezTo>
                <a:cubicBezTo>
                  <a:pt x="3045" y="45"/>
                  <a:pt x="3146" y="56"/>
                  <a:pt x="3228" y="67"/>
                </a:cubicBezTo>
                <a:cubicBezTo>
                  <a:pt x="3310" y="78"/>
                  <a:pt x="3388" y="91"/>
                  <a:pt x="3444" y="103"/>
                </a:cubicBezTo>
                <a:cubicBezTo>
                  <a:pt x="3500" y="115"/>
                  <a:pt x="3532" y="128"/>
                  <a:pt x="3564" y="139"/>
                </a:cubicBezTo>
                <a:cubicBezTo>
                  <a:pt x="3596" y="150"/>
                  <a:pt x="3616" y="159"/>
                  <a:pt x="3636" y="169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547920" y="1444680"/>
            <a:ext cx="2026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 compr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lusieurs fibri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2" name="" descr=""/>
          <p:cNvPicPr/>
          <p:nvPr/>
        </p:nvPicPr>
        <p:blipFill>
          <a:blip r:embed="rId1"/>
          <a:stretch/>
        </p:blipFill>
        <p:spPr>
          <a:xfrm>
            <a:off x="4818240" y="932040"/>
            <a:ext cx="3354120" cy="244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547920" y="1444680"/>
            <a:ext cx="2026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 compr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lusieurs fibri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534960" y="2741760"/>
            <a:ext cx="219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mas de f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s en faisc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tissu conjonc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9" name=""/>
          <p:cNvGrpSpPr/>
          <p:nvPr/>
        </p:nvGrpSpPr>
        <p:grpSpPr>
          <a:xfrm>
            <a:off x="1511280" y="3801960"/>
            <a:ext cx="2134080" cy="712080"/>
            <a:chOff x="1511280" y="3801960"/>
            <a:chExt cx="2134080" cy="712080"/>
          </a:xfrm>
        </p:grpSpPr>
        <p:sp>
          <p:nvSpPr>
            <p:cNvPr id="4400" name=""/>
            <p:cNvSpPr/>
            <p:nvPr/>
          </p:nvSpPr>
          <p:spPr>
            <a:xfrm>
              <a:off x="1511280" y="3801960"/>
              <a:ext cx="279360" cy="596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663560" y="3801960"/>
              <a:ext cx="179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676520" y="4398840"/>
              <a:ext cx="18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263760" y="3803760"/>
              <a:ext cx="381600" cy="71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38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3855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V="1">
              <a:off x="3264480" y="3865320"/>
              <a:ext cx="380160" cy="53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596960" y="385452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697040" y="396396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535040" y="400212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573200" y="416880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673280" y="414504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625760" y="4025880"/>
              <a:ext cx="61920" cy="133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11" name="" descr=""/>
          <p:cNvPicPr/>
          <p:nvPr/>
        </p:nvPicPr>
        <p:blipFill>
          <a:blip r:embed="rId1"/>
          <a:stretch/>
        </p:blipFill>
        <p:spPr>
          <a:xfrm>
            <a:off x="4818240" y="932040"/>
            <a:ext cx="3354120" cy="2447640"/>
          </a:xfrm>
          <a:prstGeom prst="rect">
            <a:avLst/>
          </a:prstGeom>
          <a:ln w="0">
            <a:noFill/>
          </a:ln>
        </p:spPr>
      </p:pic>
      <p:pic>
        <p:nvPicPr>
          <p:cNvPr id="4412" name="" descr=""/>
          <p:cNvPicPr/>
          <p:nvPr/>
        </p:nvPicPr>
        <p:blipFill>
          <a:blip r:embed="rId2"/>
          <a:stretch/>
        </p:blipFill>
        <p:spPr>
          <a:xfrm>
            <a:off x="4842000" y="3548160"/>
            <a:ext cx="3327120" cy="125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2921040" y="431640"/>
            <a:ext cx="301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182880" y="206280"/>
            <a:ext cx="7428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547920" y="1444680"/>
            <a:ext cx="2026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fi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 compr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lusieurs fibri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534960" y="2741760"/>
            <a:ext cx="219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mas de f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s en faisc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tissu conjonc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547560" y="4530600"/>
            <a:ext cx="2343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faisceaux musc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zones d’inse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20400" y="758880"/>
            <a:ext cx="3729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= structure hiérarch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0" name=""/>
          <p:cNvGrpSpPr/>
          <p:nvPr/>
        </p:nvGrpSpPr>
        <p:grpSpPr>
          <a:xfrm>
            <a:off x="1511280" y="3801960"/>
            <a:ext cx="2134080" cy="712080"/>
            <a:chOff x="1511280" y="3801960"/>
            <a:chExt cx="2134080" cy="712080"/>
          </a:xfrm>
        </p:grpSpPr>
        <p:sp>
          <p:nvSpPr>
            <p:cNvPr id="4421" name=""/>
            <p:cNvSpPr/>
            <p:nvPr/>
          </p:nvSpPr>
          <p:spPr>
            <a:xfrm>
              <a:off x="1511280" y="3801960"/>
              <a:ext cx="279360" cy="5968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663560" y="3801960"/>
              <a:ext cx="179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1676520" y="4398840"/>
              <a:ext cx="18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263760" y="3803760"/>
              <a:ext cx="381600" cy="71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38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3855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V="1">
              <a:off x="3264480" y="3865320"/>
              <a:ext cx="380160" cy="53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596960" y="385452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697040" y="396396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1535040" y="400212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1573200" y="416880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673280" y="4145040"/>
              <a:ext cx="69840" cy="150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625760" y="4025880"/>
              <a:ext cx="61920" cy="133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32" name="" descr=""/>
          <p:cNvPicPr/>
          <p:nvPr/>
        </p:nvPicPr>
        <p:blipFill>
          <a:blip r:embed="rId1"/>
          <a:stretch/>
        </p:blipFill>
        <p:spPr>
          <a:xfrm>
            <a:off x="4818240" y="932040"/>
            <a:ext cx="3354120" cy="2447640"/>
          </a:xfrm>
          <a:prstGeom prst="rect">
            <a:avLst/>
          </a:prstGeom>
          <a:ln w="0">
            <a:noFill/>
          </a:ln>
        </p:spPr>
      </p:pic>
      <p:sp>
        <p:nvSpPr>
          <p:cNvPr id="4433" name=""/>
          <p:cNvSpPr/>
          <p:nvPr/>
        </p:nvSpPr>
        <p:spPr>
          <a:xfrm>
            <a:off x="558720" y="5715000"/>
            <a:ext cx="3002040" cy="482760"/>
          </a:xfrm>
          <a:custGeom>
            <a:avLst/>
            <a:gdLst/>
            <a:ahLst/>
            <a:rect l="l" t="t" r="r" b="b"/>
            <a:pathLst>
              <a:path w="4019" h="568">
                <a:moveTo>
                  <a:pt x="48" y="304"/>
                </a:moveTo>
                <a:cubicBezTo>
                  <a:pt x="183" y="298"/>
                  <a:pt x="324" y="289"/>
                  <a:pt x="456" y="256"/>
                </a:cubicBezTo>
                <a:cubicBezTo>
                  <a:pt x="588" y="223"/>
                  <a:pt x="720" y="179"/>
                  <a:pt x="856" y="160"/>
                </a:cubicBezTo>
                <a:cubicBezTo>
                  <a:pt x="997" y="113"/>
                  <a:pt x="1149" y="72"/>
                  <a:pt x="1296" y="56"/>
                </a:cubicBezTo>
                <a:cubicBezTo>
                  <a:pt x="1367" y="38"/>
                  <a:pt x="1388" y="38"/>
                  <a:pt x="1480" y="32"/>
                </a:cubicBezTo>
                <a:cubicBezTo>
                  <a:pt x="1560" y="12"/>
                  <a:pt x="1522" y="20"/>
                  <a:pt x="1592" y="8"/>
                </a:cubicBezTo>
                <a:cubicBezTo>
                  <a:pt x="1732" y="14"/>
                  <a:pt x="1877" y="28"/>
                  <a:pt x="2016" y="0"/>
                </a:cubicBezTo>
                <a:cubicBezTo>
                  <a:pt x="2099" y="3"/>
                  <a:pt x="2181" y="3"/>
                  <a:pt x="2264" y="8"/>
                </a:cubicBezTo>
                <a:cubicBezTo>
                  <a:pt x="2295" y="10"/>
                  <a:pt x="2329" y="27"/>
                  <a:pt x="2360" y="32"/>
                </a:cubicBezTo>
                <a:cubicBezTo>
                  <a:pt x="2455" y="47"/>
                  <a:pt x="2545" y="71"/>
                  <a:pt x="2640" y="80"/>
                </a:cubicBezTo>
                <a:cubicBezTo>
                  <a:pt x="2758" y="104"/>
                  <a:pt x="2855" y="100"/>
                  <a:pt x="2984" y="104"/>
                </a:cubicBezTo>
                <a:cubicBezTo>
                  <a:pt x="3044" y="111"/>
                  <a:pt x="3129" y="118"/>
                  <a:pt x="3184" y="136"/>
                </a:cubicBezTo>
                <a:cubicBezTo>
                  <a:pt x="3252" y="159"/>
                  <a:pt x="3337" y="186"/>
                  <a:pt x="3408" y="200"/>
                </a:cubicBezTo>
                <a:cubicBezTo>
                  <a:pt x="3439" y="206"/>
                  <a:pt x="3474" y="213"/>
                  <a:pt x="3504" y="224"/>
                </a:cubicBezTo>
                <a:cubicBezTo>
                  <a:pt x="3515" y="228"/>
                  <a:pt x="3524" y="237"/>
                  <a:pt x="3536" y="240"/>
                </a:cubicBezTo>
                <a:cubicBezTo>
                  <a:pt x="3628" y="265"/>
                  <a:pt x="3758" y="261"/>
                  <a:pt x="3840" y="264"/>
                </a:cubicBezTo>
                <a:cubicBezTo>
                  <a:pt x="3868" y="273"/>
                  <a:pt x="3902" y="274"/>
                  <a:pt x="3928" y="288"/>
                </a:cubicBezTo>
                <a:cubicBezTo>
                  <a:pt x="3945" y="297"/>
                  <a:pt x="3960" y="309"/>
                  <a:pt x="3976" y="320"/>
                </a:cubicBezTo>
                <a:cubicBezTo>
                  <a:pt x="3984" y="325"/>
                  <a:pt x="4000" y="336"/>
                  <a:pt x="4000" y="336"/>
                </a:cubicBezTo>
                <a:cubicBezTo>
                  <a:pt x="4008" y="359"/>
                  <a:pt x="4019" y="366"/>
                  <a:pt x="3984" y="368"/>
                </a:cubicBezTo>
                <a:cubicBezTo>
                  <a:pt x="3891" y="373"/>
                  <a:pt x="3797" y="373"/>
                  <a:pt x="3704" y="376"/>
                </a:cubicBezTo>
                <a:cubicBezTo>
                  <a:pt x="3632" y="400"/>
                  <a:pt x="3548" y="400"/>
                  <a:pt x="3472" y="408"/>
                </a:cubicBezTo>
                <a:cubicBezTo>
                  <a:pt x="3430" y="422"/>
                  <a:pt x="3387" y="426"/>
                  <a:pt x="3344" y="432"/>
                </a:cubicBezTo>
                <a:cubicBezTo>
                  <a:pt x="3239" y="467"/>
                  <a:pt x="3132" y="479"/>
                  <a:pt x="3024" y="496"/>
                </a:cubicBezTo>
                <a:cubicBezTo>
                  <a:pt x="2968" y="505"/>
                  <a:pt x="2912" y="525"/>
                  <a:pt x="2856" y="536"/>
                </a:cubicBezTo>
                <a:cubicBezTo>
                  <a:pt x="2759" y="555"/>
                  <a:pt x="2659" y="548"/>
                  <a:pt x="2560" y="552"/>
                </a:cubicBezTo>
                <a:cubicBezTo>
                  <a:pt x="2397" y="568"/>
                  <a:pt x="2237" y="561"/>
                  <a:pt x="2072" y="552"/>
                </a:cubicBezTo>
                <a:cubicBezTo>
                  <a:pt x="1933" y="517"/>
                  <a:pt x="2084" y="552"/>
                  <a:pt x="1720" y="552"/>
                </a:cubicBezTo>
                <a:cubicBezTo>
                  <a:pt x="1499" y="552"/>
                  <a:pt x="1277" y="547"/>
                  <a:pt x="1056" y="544"/>
                </a:cubicBezTo>
                <a:cubicBezTo>
                  <a:pt x="969" y="532"/>
                  <a:pt x="892" y="499"/>
                  <a:pt x="808" y="480"/>
                </a:cubicBezTo>
                <a:cubicBezTo>
                  <a:pt x="743" y="466"/>
                  <a:pt x="674" y="463"/>
                  <a:pt x="608" y="456"/>
                </a:cubicBezTo>
                <a:cubicBezTo>
                  <a:pt x="566" y="442"/>
                  <a:pt x="522" y="437"/>
                  <a:pt x="480" y="424"/>
                </a:cubicBezTo>
                <a:cubicBezTo>
                  <a:pt x="432" y="410"/>
                  <a:pt x="378" y="386"/>
                  <a:pt x="328" y="384"/>
                </a:cubicBezTo>
                <a:cubicBezTo>
                  <a:pt x="229" y="379"/>
                  <a:pt x="131" y="379"/>
                  <a:pt x="32" y="376"/>
                </a:cubicBezTo>
                <a:cubicBezTo>
                  <a:pt x="24" y="368"/>
                  <a:pt x="12" y="363"/>
                  <a:pt x="8" y="352"/>
                </a:cubicBezTo>
                <a:cubicBezTo>
                  <a:pt x="0" y="328"/>
                  <a:pt x="36" y="316"/>
                  <a:pt x="48" y="304"/>
                </a:cubicBezTo>
                <a:close/>
              </a:path>
            </a:pathLst>
          </a:cu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4" name="" descr=""/>
          <p:cNvPicPr/>
          <p:nvPr/>
        </p:nvPicPr>
        <p:blipFill>
          <a:blip r:embed="rId2"/>
          <a:stretch/>
        </p:blipFill>
        <p:spPr>
          <a:xfrm>
            <a:off x="4842000" y="3548160"/>
            <a:ext cx="3327120" cy="1252440"/>
          </a:xfrm>
          <a:prstGeom prst="rect">
            <a:avLst/>
          </a:prstGeom>
          <a:ln w="0">
            <a:noFill/>
          </a:ln>
        </p:spPr>
      </p:pic>
      <p:pic>
        <p:nvPicPr>
          <p:cNvPr id="4435" name="" descr=""/>
          <p:cNvPicPr/>
          <p:nvPr/>
        </p:nvPicPr>
        <p:blipFill>
          <a:blip r:embed="rId3"/>
          <a:stretch/>
        </p:blipFill>
        <p:spPr>
          <a:xfrm>
            <a:off x="4842000" y="4935600"/>
            <a:ext cx="3327120" cy="166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2921040" y="431640"/>
            <a:ext cx="2227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178560" y="206280"/>
            <a:ext cx="8454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9" name="" descr=""/>
          <p:cNvPicPr/>
          <p:nvPr/>
        </p:nvPicPr>
        <p:blipFill>
          <a:blip r:embed="rId1"/>
          <a:stretch/>
        </p:blipFill>
        <p:spPr>
          <a:xfrm>
            <a:off x="4970520" y="1582560"/>
            <a:ext cx="3859200" cy="2816280"/>
          </a:xfrm>
          <a:prstGeom prst="rect">
            <a:avLst/>
          </a:prstGeom>
          <a:ln w="0">
            <a:noFill/>
          </a:ln>
        </p:spPr>
      </p:pic>
      <p:sp>
        <p:nvSpPr>
          <p:cNvPr id="4440" name=""/>
          <p:cNvSpPr/>
          <p:nvPr/>
        </p:nvSpPr>
        <p:spPr>
          <a:xfrm>
            <a:off x="647640" y="4398840"/>
            <a:ext cx="469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organisation en sarcom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grandes cellules plurinuclé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: système nerveux moteur (A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haque cellule reçoit une fibre nerv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s de couplage de cellule à 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209600" y="2560680"/>
            <a:ext cx="3089520" cy="523800"/>
          </a:xfrm>
          <a:custGeom>
            <a:avLst/>
            <a:gdLst/>
            <a:ahLst/>
            <a:rect l="l" t="t" r="r" b="b"/>
            <a:pathLst>
              <a:path w="1391" h="236">
                <a:moveTo>
                  <a:pt x="26" y="24"/>
                </a:moveTo>
                <a:cubicBezTo>
                  <a:pt x="107" y="17"/>
                  <a:pt x="83" y="14"/>
                  <a:pt x="140" y="0"/>
                </a:cubicBezTo>
                <a:cubicBezTo>
                  <a:pt x="254" y="3"/>
                  <a:pt x="382" y="5"/>
                  <a:pt x="494" y="42"/>
                </a:cubicBezTo>
                <a:cubicBezTo>
                  <a:pt x="589" y="40"/>
                  <a:pt x="698" y="48"/>
                  <a:pt x="794" y="24"/>
                </a:cubicBezTo>
                <a:cubicBezTo>
                  <a:pt x="969" y="56"/>
                  <a:pt x="929" y="41"/>
                  <a:pt x="1220" y="36"/>
                </a:cubicBezTo>
                <a:cubicBezTo>
                  <a:pt x="1270" y="28"/>
                  <a:pt x="1328" y="15"/>
                  <a:pt x="1376" y="36"/>
                </a:cubicBezTo>
                <a:cubicBezTo>
                  <a:pt x="1391" y="42"/>
                  <a:pt x="1380" y="68"/>
                  <a:pt x="1382" y="84"/>
                </a:cubicBezTo>
                <a:cubicBezTo>
                  <a:pt x="1370" y="128"/>
                  <a:pt x="1375" y="181"/>
                  <a:pt x="1346" y="216"/>
                </a:cubicBezTo>
                <a:cubicBezTo>
                  <a:pt x="1329" y="236"/>
                  <a:pt x="1294" y="220"/>
                  <a:pt x="1268" y="222"/>
                </a:cubicBezTo>
                <a:cubicBezTo>
                  <a:pt x="1228" y="224"/>
                  <a:pt x="1188" y="226"/>
                  <a:pt x="1148" y="228"/>
                </a:cubicBezTo>
                <a:cubicBezTo>
                  <a:pt x="1019" y="224"/>
                  <a:pt x="951" y="226"/>
                  <a:pt x="842" y="204"/>
                </a:cubicBezTo>
                <a:cubicBezTo>
                  <a:pt x="727" y="208"/>
                  <a:pt x="629" y="222"/>
                  <a:pt x="518" y="234"/>
                </a:cubicBezTo>
                <a:cubicBezTo>
                  <a:pt x="363" y="217"/>
                  <a:pt x="259" y="213"/>
                  <a:pt x="80" y="210"/>
                </a:cubicBezTo>
                <a:cubicBezTo>
                  <a:pt x="60" y="206"/>
                  <a:pt x="27" y="217"/>
                  <a:pt x="20" y="198"/>
                </a:cubicBezTo>
                <a:cubicBezTo>
                  <a:pt x="0" y="144"/>
                  <a:pt x="26" y="82"/>
                  <a:pt x="26" y="24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1773360" y="2652840"/>
            <a:ext cx="16020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2187720" y="2719440"/>
            <a:ext cx="1587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2627280" y="2773440"/>
            <a:ext cx="1587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3067200" y="2760840"/>
            <a:ext cx="158760" cy="102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398760" y="2813040"/>
            <a:ext cx="1605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3772080" y="2733840"/>
            <a:ext cx="16020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1209600" y="3173400"/>
            <a:ext cx="3089520" cy="523800"/>
          </a:xfrm>
          <a:custGeom>
            <a:avLst/>
            <a:gdLst/>
            <a:ahLst/>
            <a:rect l="l" t="t" r="r" b="b"/>
            <a:pathLst>
              <a:path w="1391" h="236">
                <a:moveTo>
                  <a:pt x="26" y="24"/>
                </a:moveTo>
                <a:cubicBezTo>
                  <a:pt x="107" y="17"/>
                  <a:pt x="83" y="14"/>
                  <a:pt x="140" y="0"/>
                </a:cubicBezTo>
                <a:cubicBezTo>
                  <a:pt x="254" y="3"/>
                  <a:pt x="382" y="5"/>
                  <a:pt x="494" y="42"/>
                </a:cubicBezTo>
                <a:cubicBezTo>
                  <a:pt x="589" y="40"/>
                  <a:pt x="698" y="48"/>
                  <a:pt x="794" y="24"/>
                </a:cubicBezTo>
                <a:cubicBezTo>
                  <a:pt x="969" y="56"/>
                  <a:pt x="929" y="41"/>
                  <a:pt x="1220" y="36"/>
                </a:cubicBezTo>
                <a:cubicBezTo>
                  <a:pt x="1270" y="28"/>
                  <a:pt x="1328" y="15"/>
                  <a:pt x="1376" y="36"/>
                </a:cubicBezTo>
                <a:cubicBezTo>
                  <a:pt x="1391" y="42"/>
                  <a:pt x="1380" y="68"/>
                  <a:pt x="1382" y="84"/>
                </a:cubicBezTo>
                <a:cubicBezTo>
                  <a:pt x="1370" y="128"/>
                  <a:pt x="1375" y="181"/>
                  <a:pt x="1346" y="216"/>
                </a:cubicBezTo>
                <a:cubicBezTo>
                  <a:pt x="1329" y="236"/>
                  <a:pt x="1294" y="220"/>
                  <a:pt x="1268" y="222"/>
                </a:cubicBezTo>
                <a:cubicBezTo>
                  <a:pt x="1228" y="224"/>
                  <a:pt x="1188" y="226"/>
                  <a:pt x="1148" y="228"/>
                </a:cubicBezTo>
                <a:cubicBezTo>
                  <a:pt x="1019" y="224"/>
                  <a:pt x="951" y="226"/>
                  <a:pt x="842" y="204"/>
                </a:cubicBezTo>
                <a:cubicBezTo>
                  <a:pt x="727" y="208"/>
                  <a:pt x="629" y="222"/>
                  <a:pt x="518" y="234"/>
                </a:cubicBezTo>
                <a:cubicBezTo>
                  <a:pt x="363" y="217"/>
                  <a:pt x="259" y="213"/>
                  <a:pt x="80" y="210"/>
                </a:cubicBezTo>
                <a:cubicBezTo>
                  <a:pt x="60" y="206"/>
                  <a:pt x="27" y="217"/>
                  <a:pt x="20" y="198"/>
                </a:cubicBezTo>
                <a:cubicBezTo>
                  <a:pt x="0" y="144"/>
                  <a:pt x="26" y="82"/>
                  <a:pt x="26" y="24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1773360" y="3267000"/>
            <a:ext cx="160200" cy="103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2187720" y="3333600"/>
            <a:ext cx="158760" cy="103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2627280" y="3386160"/>
            <a:ext cx="1587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3067200" y="3373560"/>
            <a:ext cx="158760" cy="102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3398760" y="3425760"/>
            <a:ext cx="16056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3772080" y="3346560"/>
            <a:ext cx="160200" cy="104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000160" y="2200320"/>
            <a:ext cx="785880" cy="452520"/>
          </a:xfrm>
          <a:custGeom>
            <a:avLst/>
            <a:gdLst/>
            <a:ahLst/>
            <a:rect l="l" t="t" r="r" b="b"/>
            <a:pathLst>
              <a:path w="354" h="204">
                <a:moveTo>
                  <a:pt x="0" y="0"/>
                </a:moveTo>
                <a:cubicBezTo>
                  <a:pt x="42" y="40"/>
                  <a:pt x="85" y="80"/>
                  <a:pt x="144" y="114"/>
                </a:cubicBezTo>
                <a:cubicBezTo>
                  <a:pt x="203" y="148"/>
                  <a:pt x="278" y="176"/>
                  <a:pt x="354" y="2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000160" y="2212920"/>
            <a:ext cx="1440000" cy="1054080"/>
          </a:xfrm>
          <a:custGeom>
            <a:avLst/>
            <a:gdLst/>
            <a:ahLst/>
            <a:rect l="l" t="t" r="r" b="b"/>
            <a:pathLst>
              <a:path w="648" h="474">
                <a:moveTo>
                  <a:pt x="0" y="0"/>
                </a:moveTo>
                <a:cubicBezTo>
                  <a:pt x="65" y="124"/>
                  <a:pt x="130" y="248"/>
                  <a:pt x="198" y="318"/>
                </a:cubicBezTo>
                <a:cubicBezTo>
                  <a:pt x="266" y="388"/>
                  <a:pt x="333" y="394"/>
                  <a:pt x="408" y="420"/>
                </a:cubicBezTo>
                <a:cubicBezTo>
                  <a:pt x="483" y="446"/>
                  <a:pt x="606" y="466"/>
                  <a:pt x="648" y="4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521000" y="1994040"/>
            <a:ext cx="518760" cy="233280"/>
          </a:xfrm>
          <a:custGeom>
            <a:avLst/>
            <a:gdLst/>
            <a:ahLst/>
            <a:rect l="l" t="t" r="r" b="b"/>
            <a:pathLst>
              <a:path w="234" h="105">
                <a:moveTo>
                  <a:pt x="234" y="105"/>
                </a:moveTo>
                <a:cubicBezTo>
                  <a:pt x="190" y="67"/>
                  <a:pt x="147" y="30"/>
                  <a:pt x="108" y="15"/>
                </a:cubicBezTo>
                <a:cubicBezTo>
                  <a:pt x="69" y="0"/>
                  <a:pt x="34" y="7"/>
                  <a:pt x="0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2759040" y="2652840"/>
            <a:ext cx="9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319560" y="3267000"/>
            <a:ext cx="9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 flipH="1">
            <a:off x="2800080" y="2173320"/>
            <a:ext cx="15876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976120" y="187956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laque mot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24360" y="758880"/>
            <a:ext cx="29833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strié squelet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651600" y="4398840"/>
            <a:ext cx="686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organisation en sarcom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s mononuclé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: système nerveux autonome + horm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toutes les cellules ne sont pas innerv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uplage de cellule à cellule : jonctions serrées (« gap junctions 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324000" y="758880"/>
            <a:ext cx="27302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strié cardi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2921040" y="431640"/>
            <a:ext cx="2227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178560" y="206280"/>
            <a:ext cx="8454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816120" y="2386080"/>
            <a:ext cx="3536640" cy="1353960"/>
          </a:xfrm>
          <a:custGeom>
            <a:avLst/>
            <a:gdLst/>
            <a:ahLst/>
            <a:rect l="l" t="t" r="r" b="b"/>
            <a:pathLst>
              <a:path w="1485" h="569">
                <a:moveTo>
                  <a:pt x="66" y="24"/>
                </a:moveTo>
                <a:cubicBezTo>
                  <a:pt x="136" y="21"/>
                  <a:pt x="190" y="27"/>
                  <a:pt x="252" y="6"/>
                </a:cubicBezTo>
                <a:cubicBezTo>
                  <a:pt x="340" y="11"/>
                  <a:pt x="428" y="19"/>
                  <a:pt x="516" y="30"/>
                </a:cubicBezTo>
                <a:cubicBezTo>
                  <a:pt x="602" y="28"/>
                  <a:pt x="688" y="28"/>
                  <a:pt x="774" y="24"/>
                </a:cubicBezTo>
                <a:cubicBezTo>
                  <a:pt x="793" y="23"/>
                  <a:pt x="823" y="12"/>
                  <a:pt x="840" y="6"/>
                </a:cubicBezTo>
                <a:cubicBezTo>
                  <a:pt x="846" y="4"/>
                  <a:pt x="858" y="0"/>
                  <a:pt x="858" y="0"/>
                </a:cubicBezTo>
                <a:cubicBezTo>
                  <a:pt x="973" y="6"/>
                  <a:pt x="1078" y="25"/>
                  <a:pt x="1194" y="30"/>
                </a:cubicBezTo>
                <a:cubicBezTo>
                  <a:pt x="1258" y="46"/>
                  <a:pt x="1339" y="8"/>
                  <a:pt x="1392" y="48"/>
                </a:cubicBezTo>
                <a:cubicBezTo>
                  <a:pt x="1422" y="71"/>
                  <a:pt x="1396" y="124"/>
                  <a:pt x="1398" y="162"/>
                </a:cubicBezTo>
                <a:cubicBezTo>
                  <a:pt x="1300" y="178"/>
                  <a:pt x="1272" y="172"/>
                  <a:pt x="1140" y="168"/>
                </a:cubicBezTo>
                <a:cubicBezTo>
                  <a:pt x="1086" y="170"/>
                  <a:pt x="988" y="138"/>
                  <a:pt x="966" y="204"/>
                </a:cubicBezTo>
                <a:cubicBezTo>
                  <a:pt x="1029" y="208"/>
                  <a:pt x="1097" y="207"/>
                  <a:pt x="1158" y="222"/>
                </a:cubicBezTo>
                <a:cubicBezTo>
                  <a:pt x="1201" y="251"/>
                  <a:pt x="1286" y="243"/>
                  <a:pt x="1332" y="246"/>
                </a:cubicBezTo>
                <a:cubicBezTo>
                  <a:pt x="1346" y="251"/>
                  <a:pt x="1366" y="246"/>
                  <a:pt x="1374" y="258"/>
                </a:cubicBezTo>
                <a:cubicBezTo>
                  <a:pt x="1381" y="268"/>
                  <a:pt x="1377" y="282"/>
                  <a:pt x="1380" y="294"/>
                </a:cubicBezTo>
                <a:cubicBezTo>
                  <a:pt x="1384" y="309"/>
                  <a:pt x="1393" y="322"/>
                  <a:pt x="1398" y="336"/>
                </a:cubicBezTo>
                <a:cubicBezTo>
                  <a:pt x="1394" y="356"/>
                  <a:pt x="1403" y="386"/>
                  <a:pt x="1386" y="396"/>
                </a:cubicBezTo>
                <a:cubicBezTo>
                  <a:pt x="1351" y="417"/>
                  <a:pt x="1306" y="385"/>
                  <a:pt x="1272" y="378"/>
                </a:cubicBezTo>
                <a:cubicBezTo>
                  <a:pt x="1205" y="365"/>
                  <a:pt x="1252" y="373"/>
                  <a:pt x="1128" y="366"/>
                </a:cubicBezTo>
                <a:cubicBezTo>
                  <a:pt x="1077" y="353"/>
                  <a:pt x="972" y="348"/>
                  <a:pt x="972" y="348"/>
                </a:cubicBezTo>
                <a:cubicBezTo>
                  <a:pt x="889" y="307"/>
                  <a:pt x="807" y="273"/>
                  <a:pt x="714" y="264"/>
                </a:cubicBezTo>
                <a:cubicBezTo>
                  <a:pt x="639" y="239"/>
                  <a:pt x="572" y="228"/>
                  <a:pt x="492" y="222"/>
                </a:cubicBezTo>
                <a:cubicBezTo>
                  <a:pt x="460" y="211"/>
                  <a:pt x="433" y="196"/>
                  <a:pt x="402" y="186"/>
                </a:cubicBezTo>
                <a:cubicBezTo>
                  <a:pt x="351" y="199"/>
                  <a:pt x="392" y="203"/>
                  <a:pt x="414" y="210"/>
                </a:cubicBezTo>
                <a:cubicBezTo>
                  <a:pt x="435" y="242"/>
                  <a:pt x="485" y="252"/>
                  <a:pt x="522" y="258"/>
                </a:cubicBezTo>
                <a:cubicBezTo>
                  <a:pt x="541" y="271"/>
                  <a:pt x="588" y="282"/>
                  <a:pt x="588" y="282"/>
                </a:cubicBezTo>
                <a:cubicBezTo>
                  <a:pt x="615" y="309"/>
                  <a:pt x="647" y="309"/>
                  <a:pt x="678" y="330"/>
                </a:cubicBezTo>
                <a:cubicBezTo>
                  <a:pt x="690" y="338"/>
                  <a:pt x="699" y="347"/>
                  <a:pt x="714" y="348"/>
                </a:cubicBezTo>
                <a:cubicBezTo>
                  <a:pt x="748" y="351"/>
                  <a:pt x="782" y="352"/>
                  <a:pt x="816" y="354"/>
                </a:cubicBezTo>
                <a:cubicBezTo>
                  <a:pt x="860" y="365"/>
                  <a:pt x="889" y="373"/>
                  <a:pt x="936" y="378"/>
                </a:cubicBezTo>
                <a:cubicBezTo>
                  <a:pt x="1050" y="406"/>
                  <a:pt x="1010" y="396"/>
                  <a:pt x="1200" y="402"/>
                </a:cubicBezTo>
                <a:cubicBezTo>
                  <a:pt x="1254" y="438"/>
                  <a:pt x="1288" y="422"/>
                  <a:pt x="1368" y="426"/>
                </a:cubicBezTo>
                <a:cubicBezTo>
                  <a:pt x="1393" y="443"/>
                  <a:pt x="1485" y="497"/>
                  <a:pt x="1380" y="540"/>
                </a:cubicBezTo>
                <a:cubicBezTo>
                  <a:pt x="1310" y="569"/>
                  <a:pt x="1228" y="536"/>
                  <a:pt x="1152" y="534"/>
                </a:cubicBezTo>
                <a:cubicBezTo>
                  <a:pt x="880" y="518"/>
                  <a:pt x="1016" y="524"/>
                  <a:pt x="744" y="516"/>
                </a:cubicBezTo>
                <a:cubicBezTo>
                  <a:pt x="639" y="481"/>
                  <a:pt x="536" y="489"/>
                  <a:pt x="420" y="486"/>
                </a:cubicBezTo>
                <a:cubicBezTo>
                  <a:pt x="278" y="468"/>
                  <a:pt x="216" y="466"/>
                  <a:pt x="42" y="462"/>
                </a:cubicBezTo>
                <a:cubicBezTo>
                  <a:pt x="44" y="434"/>
                  <a:pt x="36" y="403"/>
                  <a:pt x="48" y="378"/>
                </a:cubicBezTo>
                <a:cubicBezTo>
                  <a:pt x="53" y="367"/>
                  <a:pt x="72" y="372"/>
                  <a:pt x="84" y="372"/>
                </a:cubicBezTo>
                <a:cubicBezTo>
                  <a:pt x="170" y="368"/>
                  <a:pt x="368" y="364"/>
                  <a:pt x="454" y="362"/>
                </a:cubicBezTo>
                <a:cubicBezTo>
                  <a:pt x="410" y="347"/>
                  <a:pt x="204" y="348"/>
                  <a:pt x="204" y="348"/>
                </a:cubicBezTo>
                <a:cubicBezTo>
                  <a:pt x="150" y="335"/>
                  <a:pt x="97" y="332"/>
                  <a:pt x="42" y="324"/>
                </a:cubicBezTo>
                <a:cubicBezTo>
                  <a:pt x="44" y="304"/>
                  <a:pt x="29" y="270"/>
                  <a:pt x="48" y="264"/>
                </a:cubicBezTo>
                <a:cubicBezTo>
                  <a:pt x="98" y="247"/>
                  <a:pt x="176" y="264"/>
                  <a:pt x="234" y="276"/>
                </a:cubicBezTo>
                <a:cubicBezTo>
                  <a:pt x="264" y="274"/>
                  <a:pt x="441" y="304"/>
                  <a:pt x="470" y="294"/>
                </a:cubicBezTo>
                <a:cubicBezTo>
                  <a:pt x="482" y="290"/>
                  <a:pt x="288" y="258"/>
                  <a:pt x="288" y="258"/>
                </a:cubicBezTo>
                <a:cubicBezTo>
                  <a:pt x="282" y="252"/>
                  <a:pt x="277" y="245"/>
                  <a:pt x="270" y="240"/>
                </a:cubicBezTo>
                <a:cubicBezTo>
                  <a:pt x="265" y="236"/>
                  <a:pt x="257" y="238"/>
                  <a:pt x="252" y="234"/>
                </a:cubicBezTo>
                <a:cubicBezTo>
                  <a:pt x="246" y="229"/>
                  <a:pt x="246" y="221"/>
                  <a:pt x="240" y="216"/>
                </a:cubicBezTo>
                <a:cubicBezTo>
                  <a:pt x="224" y="203"/>
                  <a:pt x="200" y="207"/>
                  <a:pt x="180" y="204"/>
                </a:cubicBezTo>
                <a:cubicBezTo>
                  <a:pt x="131" y="196"/>
                  <a:pt x="101" y="190"/>
                  <a:pt x="48" y="186"/>
                </a:cubicBezTo>
                <a:cubicBezTo>
                  <a:pt x="54" y="20"/>
                  <a:pt x="0" y="24"/>
                  <a:pt x="66" y="24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1373040" y="2529000"/>
            <a:ext cx="17172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2459160" y="267192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102120" y="257184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3787920" y="2585880"/>
            <a:ext cx="171360" cy="11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3645000" y="3057480"/>
            <a:ext cx="171360" cy="11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3430440" y="3414600"/>
            <a:ext cx="171720" cy="1112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216160" y="330048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1959120" y="24433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3216240" y="287172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 flipH="1">
            <a:off x="3144960" y="3309840"/>
            <a:ext cx="9360" cy="3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 flipH="1">
            <a:off x="2487600" y="3205080"/>
            <a:ext cx="936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2687760" y="340056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3530520" y="2457360"/>
            <a:ext cx="0" cy="3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2787480" y="2428920"/>
            <a:ext cx="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/>
          <p:nvPr/>
        </p:nvSpPr>
        <p:spPr>
          <a:xfrm>
            <a:off x="1663560" y="3067200"/>
            <a:ext cx="0" cy="17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1773360" y="3247920"/>
            <a:ext cx="9504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1449360" y="333864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1239840" y="3071880"/>
            <a:ext cx="171360" cy="110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>
            <a:off x="1839960" y="293364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 flipH="1">
            <a:off x="2787120" y="2171880"/>
            <a:ext cx="17172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2873880" y="186372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onction 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0" name="" descr=""/>
          <p:cNvPicPr/>
          <p:nvPr/>
        </p:nvPicPr>
        <p:blipFill>
          <a:blip r:embed="rId6"/>
          <a:stretch/>
        </p:blipFill>
        <p:spPr>
          <a:xfrm>
            <a:off x="5160960" y="858960"/>
            <a:ext cx="3317760" cy="386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"/>
          <p:cNvSpPr/>
          <p:nvPr/>
        </p:nvSpPr>
        <p:spPr>
          <a:xfrm>
            <a:off x="638280" y="4398840"/>
            <a:ext cx="816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s de  sarcom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ellules mononuclé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timulation : système nerveux autonome + horm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uplage de cellule à cellule : jonctions serrées (« gap junctions ») dans certains muscle li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326520" y="758880"/>
            <a:ext cx="15692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2921040" y="431640"/>
            <a:ext cx="2227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178560" y="206280"/>
            <a:ext cx="84549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6" name="" descr=""/>
          <p:cNvPicPr/>
          <p:nvPr/>
        </p:nvPicPr>
        <p:blipFill>
          <a:blip r:embed="rId5"/>
          <a:stretch/>
        </p:blipFill>
        <p:spPr>
          <a:xfrm>
            <a:off x="5014800" y="1708200"/>
            <a:ext cx="3557880" cy="2500200"/>
          </a:xfrm>
          <a:prstGeom prst="rect">
            <a:avLst/>
          </a:prstGeom>
          <a:ln w="0">
            <a:noFill/>
          </a:ln>
        </p:spPr>
      </p:pic>
      <p:grpSp>
        <p:nvGrpSpPr>
          <p:cNvPr id="4497" name=""/>
          <p:cNvGrpSpPr/>
          <p:nvPr/>
        </p:nvGrpSpPr>
        <p:grpSpPr>
          <a:xfrm>
            <a:off x="457200" y="2514600"/>
            <a:ext cx="3988800" cy="1245960"/>
            <a:chOff x="457200" y="2514600"/>
            <a:chExt cx="3988800" cy="1245960"/>
          </a:xfrm>
        </p:grpSpPr>
        <p:grpSp>
          <p:nvGrpSpPr>
            <p:cNvPr id="4498" name=""/>
            <p:cNvGrpSpPr/>
            <p:nvPr/>
          </p:nvGrpSpPr>
          <p:grpSpPr>
            <a:xfrm>
              <a:off x="1401120" y="2857680"/>
              <a:ext cx="1500840" cy="328680"/>
              <a:chOff x="1401120" y="2857680"/>
              <a:chExt cx="1500840" cy="328680"/>
            </a:xfrm>
          </p:grpSpPr>
          <p:sp>
            <p:nvSpPr>
              <p:cNvPr id="4499" name=""/>
              <p:cNvSpPr/>
              <p:nvPr/>
            </p:nvSpPr>
            <p:spPr>
              <a:xfrm>
                <a:off x="1401120" y="2857680"/>
                <a:ext cx="150084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2058480" y="298620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1" name=""/>
            <p:cNvGrpSpPr/>
            <p:nvPr/>
          </p:nvGrpSpPr>
          <p:grpSpPr>
            <a:xfrm>
              <a:off x="2273400" y="2543040"/>
              <a:ext cx="1500840" cy="328680"/>
              <a:chOff x="2273400" y="2543040"/>
              <a:chExt cx="1500840" cy="328680"/>
            </a:xfrm>
          </p:grpSpPr>
          <p:sp>
            <p:nvSpPr>
              <p:cNvPr id="4502" name=""/>
              <p:cNvSpPr/>
              <p:nvPr/>
            </p:nvSpPr>
            <p:spPr>
              <a:xfrm>
                <a:off x="2273400" y="2543040"/>
                <a:ext cx="150084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2930760" y="267156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2945160" y="2886120"/>
              <a:ext cx="1500840" cy="328680"/>
              <a:chOff x="2945160" y="2886120"/>
              <a:chExt cx="1500840" cy="328680"/>
            </a:xfrm>
          </p:grpSpPr>
          <p:sp>
            <p:nvSpPr>
              <p:cNvPr id="4505" name=""/>
              <p:cNvSpPr/>
              <p:nvPr/>
            </p:nvSpPr>
            <p:spPr>
              <a:xfrm>
                <a:off x="2945160" y="2886120"/>
                <a:ext cx="150084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3602520" y="301464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7" name=""/>
            <p:cNvGrpSpPr/>
            <p:nvPr/>
          </p:nvGrpSpPr>
          <p:grpSpPr>
            <a:xfrm>
              <a:off x="729000" y="2514600"/>
              <a:ext cx="1500840" cy="328680"/>
              <a:chOff x="729000" y="2514600"/>
              <a:chExt cx="1500840" cy="328680"/>
            </a:xfrm>
          </p:grpSpPr>
          <p:sp>
            <p:nvSpPr>
              <p:cNvPr id="4508" name=""/>
              <p:cNvSpPr/>
              <p:nvPr/>
            </p:nvSpPr>
            <p:spPr>
              <a:xfrm>
                <a:off x="729000" y="2514600"/>
                <a:ext cx="150084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386360" y="264312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0" name=""/>
            <p:cNvGrpSpPr/>
            <p:nvPr/>
          </p:nvGrpSpPr>
          <p:grpSpPr>
            <a:xfrm>
              <a:off x="457200" y="3157920"/>
              <a:ext cx="1501200" cy="327960"/>
              <a:chOff x="457200" y="3157920"/>
              <a:chExt cx="1501200" cy="327960"/>
            </a:xfrm>
          </p:grpSpPr>
          <p:sp>
            <p:nvSpPr>
              <p:cNvPr id="4511" name=""/>
              <p:cNvSpPr/>
              <p:nvPr/>
            </p:nvSpPr>
            <p:spPr>
              <a:xfrm>
                <a:off x="457200" y="3157920"/>
                <a:ext cx="1501200" cy="3279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114920" y="3286080"/>
                <a:ext cx="171000" cy="1112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3" name=""/>
            <p:cNvGrpSpPr/>
            <p:nvPr/>
          </p:nvGrpSpPr>
          <p:grpSpPr>
            <a:xfrm>
              <a:off x="2015640" y="3200760"/>
              <a:ext cx="1501200" cy="328680"/>
              <a:chOff x="2015640" y="3200760"/>
              <a:chExt cx="1501200" cy="328680"/>
            </a:xfrm>
          </p:grpSpPr>
          <p:sp>
            <p:nvSpPr>
              <p:cNvPr id="4514" name=""/>
              <p:cNvSpPr/>
              <p:nvPr/>
            </p:nvSpPr>
            <p:spPr>
              <a:xfrm>
                <a:off x="2015640" y="3200760"/>
                <a:ext cx="1501200" cy="3286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2673360" y="3329280"/>
                <a:ext cx="17100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6" name=""/>
            <p:cNvSpPr/>
            <p:nvPr/>
          </p:nvSpPr>
          <p:spPr>
            <a:xfrm flipV="1">
              <a:off x="1773000" y="2828520"/>
              <a:ext cx="16128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 flipV="1">
              <a:off x="2277720" y="3190680"/>
              <a:ext cx="16200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flipV="1">
              <a:off x="3231000" y="2876040"/>
              <a:ext cx="16200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686960" y="3171960"/>
              <a:ext cx="15228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2487960" y="2857680"/>
              <a:ext cx="17100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657360" y="3596400"/>
              <a:ext cx="3678840" cy="164160"/>
            </a:xfrm>
            <a:custGeom>
              <a:avLst/>
              <a:gdLst/>
              <a:ahLst/>
              <a:rect l="l" t="t" r="r" b="b"/>
              <a:pathLst>
                <a:path w="1544" h="69">
                  <a:moveTo>
                    <a:pt x="0" y="54"/>
                  </a:moveTo>
                  <a:cubicBezTo>
                    <a:pt x="72" y="40"/>
                    <a:pt x="145" y="27"/>
                    <a:pt x="200" y="26"/>
                  </a:cubicBezTo>
                  <a:cubicBezTo>
                    <a:pt x="255" y="25"/>
                    <a:pt x="275" y="41"/>
                    <a:pt x="328" y="46"/>
                  </a:cubicBezTo>
                  <a:cubicBezTo>
                    <a:pt x="381" y="51"/>
                    <a:pt x="470" y="56"/>
                    <a:pt x="520" y="54"/>
                  </a:cubicBezTo>
                  <a:cubicBezTo>
                    <a:pt x="570" y="52"/>
                    <a:pt x="591" y="37"/>
                    <a:pt x="628" y="34"/>
                  </a:cubicBezTo>
                  <a:cubicBezTo>
                    <a:pt x="665" y="31"/>
                    <a:pt x="695" y="35"/>
                    <a:pt x="740" y="38"/>
                  </a:cubicBezTo>
                  <a:cubicBezTo>
                    <a:pt x="785" y="41"/>
                    <a:pt x="855" y="50"/>
                    <a:pt x="896" y="54"/>
                  </a:cubicBezTo>
                  <a:cubicBezTo>
                    <a:pt x="937" y="58"/>
                    <a:pt x="944" y="69"/>
                    <a:pt x="988" y="62"/>
                  </a:cubicBezTo>
                  <a:cubicBezTo>
                    <a:pt x="1032" y="55"/>
                    <a:pt x="1111" y="24"/>
                    <a:pt x="1160" y="14"/>
                  </a:cubicBezTo>
                  <a:cubicBezTo>
                    <a:pt x="1209" y="4"/>
                    <a:pt x="1251" y="0"/>
                    <a:pt x="1284" y="2"/>
                  </a:cubicBezTo>
                  <a:cubicBezTo>
                    <a:pt x="1317" y="4"/>
                    <a:pt x="1337" y="22"/>
                    <a:pt x="1356" y="26"/>
                  </a:cubicBezTo>
                  <a:cubicBezTo>
                    <a:pt x="1375" y="30"/>
                    <a:pt x="1372" y="29"/>
                    <a:pt x="1396" y="26"/>
                  </a:cubicBezTo>
                  <a:cubicBezTo>
                    <a:pt x="1420" y="23"/>
                    <a:pt x="1475" y="13"/>
                    <a:pt x="1500" y="10"/>
                  </a:cubicBezTo>
                  <a:cubicBezTo>
                    <a:pt x="1525" y="7"/>
                    <a:pt x="1537" y="7"/>
                    <a:pt x="1544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429920" y="3696120"/>
              <a:ext cx="59400" cy="2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1925280" y="3705840"/>
              <a:ext cx="5940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2516040" y="3687120"/>
              <a:ext cx="5976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049920" y="3715560"/>
              <a:ext cx="59400" cy="2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593520" y="3591360"/>
              <a:ext cx="59400" cy="2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7" name=""/>
          <p:cNvSpPr/>
          <p:nvPr/>
        </p:nvSpPr>
        <p:spPr>
          <a:xfrm>
            <a:off x="3204360" y="196848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jonction 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 flipH="1">
            <a:off x="2587680" y="2271600"/>
            <a:ext cx="6732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4266360" y="312732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 flipH="1">
            <a:off x="3917520" y="3343320"/>
            <a:ext cx="41436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interne de la cellule muscul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0520" y="2627280"/>
            <a:ext cx="750888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yofilaments organisés en sarcomèr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triés : muscles squelettiques et cardi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à contraction rapide et de relativement courte d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03480" y="4341960"/>
            <a:ext cx="750888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yofilaments non organisés en sarcomèr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liss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à contraction lente et maintenue ou cycliqu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0280" y="2832120"/>
            <a:ext cx="406080" cy="172728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320760" y="758880"/>
            <a:ext cx="43718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différents types de muscles l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638280" y="1419120"/>
            <a:ext cx="802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les muscles lisses mono-unitaires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toutes les cellules fonctionnent comme une seule un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présence de jonctions de cellule à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transmission d'un potentiel d'action de cellule à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 dit pha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ex : myocytes responsables du péristaltisme intest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les muscle lisses pluri-unitaires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les cellules fonctionnent comme plusieurs unités distinc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potentiel d'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propagation électrique de cellule à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 dite t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ex : les myocytes responsables de la réactivité bronch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655920" y="6029280"/>
            <a:ext cx="72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NB : muscles lisses intermédiaires entre mono-unitaires et pluri-unit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638280" y="1357200"/>
            <a:ext cx="3717720" cy="3922920"/>
            <a:chOff x="638280" y="1357200"/>
            <a:chExt cx="3717720" cy="3922920"/>
          </a:xfrm>
        </p:grpSpPr>
        <p:pic>
          <p:nvPicPr>
            <p:cNvPr id="4541" name="" descr=""/>
            <p:cNvPicPr/>
            <p:nvPr/>
          </p:nvPicPr>
          <p:blipFill>
            <a:blip r:embed="rId1"/>
            <a:stretch/>
          </p:blipFill>
          <p:spPr>
            <a:xfrm>
              <a:off x="638280" y="1357200"/>
              <a:ext cx="2298600" cy="39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2" name=""/>
            <p:cNvSpPr/>
            <p:nvPr/>
          </p:nvSpPr>
          <p:spPr>
            <a:xfrm flipH="1" flipV="1">
              <a:off x="1800720" y="3644640"/>
              <a:ext cx="100548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768400" y="3506760"/>
              <a:ext cx="123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jonction 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H="1">
              <a:off x="1446840" y="1781640"/>
              <a:ext cx="116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665080" y="1631520"/>
              <a:ext cx="130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fila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intermédia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 flipH="1">
              <a:off x="1812240" y="2410200"/>
              <a:ext cx="6282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540160" y="22831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myofila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H="1">
              <a:off x="2006640" y="3050640"/>
              <a:ext cx="38844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503440" y="2900520"/>
              <a:ext cx="18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jonction mécan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H="1">
              <a:off x="2269800" y="4548240"/>
              <a:ext cx="56016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905920" y="43869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rps de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2" name=""/>
          <p:cNvSpPr/>
          <p:nvPr/>
        </p:nvSpPr>
        <p:spPr>
          <a:xfrm>
            <a:off x="326880" y="758880"/>
            <a:ext cx="30960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organisation de la cell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3" name="" descr=""/>
          <p:cNvPicPr/>
          <p:nvPr/>
        </p:nvPicPr>
        <p:blipFill>
          <a:blip r:embed="rId2"/>
          <a:stretch/>
        </p:blipFill>
        <p:spPr>
          <a:xfrm>
            <a:off x="4559400" y="1457280"/>
            <a:ext cx="4157640" cy="3519360"/>
          </a:xfrm>
          <a:prstGeom prst="rect">
            <a:avLst/>
          </a:prstGeom>
          <a:ln w="0">
            <a:noFill/>
          </a:ln>
        </p:spPr>
      </p:pic>
      <p:sp>
        <p:nvSpPr>
          <p:cNvPr id="4554" name=""/>
          <p:cNvSpPr/>
          <p:nvPr/>
        </p:nvSpPr>
        <p:spPr>
          <a:xfrm>
            <a:off x="4879080" y="912960"/>
            <a:ext cx="34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Arial"/>
              </a:rPr>
              <a:t>pas d’organisation en sarcom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651960" y="5330880"/>
            <a:ext cx="756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ellules mononucléées en fusea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tubules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nombreux filaments intermédiaires reliant les corps d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filaments constitués d’actine et de myosine, reliés à des corps de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326520" y="758880"/>
            <a:ext cx="24318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372600" y="1389240"/>
            <a:ext cx="8154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filaments constitués d’actine et de myosine, mais pas de sarcom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s de tropo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formation du pont actomyosique et activité ATPasique de la myosin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nécessite la phosphorylation de la chaîne légère de 20 kDa de la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système enzymatiqu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3817080" y="3222720"/>
            <a:ext cx="214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lmoduline (C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2675880" y="3760920"/>
            <a:ext cx="4465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(kinase de la chaîne légère de la myo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2390760" y="5494320"/>
            <a:ext cx="511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(phosphatase de la chaîne légère de la myo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3362400" y="4867200"/>
            <a:ext cx="80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5349240" y="4888080"/>
            <a:ext cx="1166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-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6232680" y="4930920"/>
            <a:ext cx="244440" cy="244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4292640" y="4938840"/>
            <a:ext cx="10634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 flipH="1">
            <a:off x="4241520" y="5079960"/>
            <a:ext cx="1089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4915080" y="4489560"/>
            <a:ext cx="0" cy="366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 flipV="1">
            <a:off x="4896000" y="5146560"/>
            <a:ext cx="0" cy="3621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323280" y="4844880"/>
            <a:ext cx="31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(chaîne légère de la myo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323640" y="758880"/>
            <a:ext cx="4354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rôle du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3998880" y="1508040"/>
            <a:ext cx="11494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4164120" y="2511360"/>
            <a:ext cx="663120" cy="36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4081680" y="3290760"/>
            <a:ext cx="81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119840" y="5024520"/>
            <a:ext cx="81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2943360" y="4397400"/>
            <a:ext cx="80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4930200" y="4417920"/>
            <a:ext cx="1166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-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5813280" y="4460760"/>
            <a:ext cx="244800" cy="244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3873600" y="4468680"/>
            <a:ext cx="10634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 flipH="1">
            <a:off x="3822480" y="4610160"/>
            <a:ext cx="1089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4495680" y="3701880"/>
            <a:ext cx="0" cy="6843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 flipV="1">
            <a:off x="4476600" y="4676400"/>
            <a:ext cx="0" cy="361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1574640" y="440064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-226440" y="1204920"/>
            <a:ext cx="3785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b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s d’activation de la 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sine déphosphory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4952880" y="4189320"/>
            <a:ext cx="1308240" cy="596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323640" y="758880"/>
            <a:ext cx="4354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rôle du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3998880" y="1508040"/>
            <a:ext cx="11494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4081680" y="3290760"/>
            <a:ext cx="81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c80000"/>
                </a:solidFill>
                <a:latin typeface="Arial"/>
              </a:rPr>
              <a:t>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-214920" y="1204920"/>
            <a:ext cx="372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omplex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-calmodu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ation de la 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3906000" y="2511360"/>
            <a:ext cx="1181160" cy="36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4498920" y="2874960"/>
            <a:ext cx="0" cy="452520"/>
          </a:xfrm>
          <a:prstGeom prst="line">
            <a:avLst/>
          </a:prstGeom>
          <a:ln w="3816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4119840" y="5024520"/>
            <a:ext cx="81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2943360" y="4397400"/>
            <a:ext cx="80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4930200" y="4417920"/>
            <a:ext cx="1166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-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5813280" y="4460760"/>
            <a:ext cx="244800" cy="244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3873600" y="4468680"/>
            <a:ext cx="10634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 flipH="1">
            <a:off x="3822480" y="4610160"/>
            <a:ext cx="1089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4495680" y="3701880"/>
            <a:ext cx="0" cy="6843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 flipV="1">
            <a:off x="4476600" y="4676400"/>
            <a:ext cx="0" cy="361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1574640" y="440064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952880" y="4189320"/>
            <a:ext cx="1308240" cy="596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323640" y="758880"/>
            <a:ext cx="4354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rôle du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3998880" y="1508040"/>
            <a:ext cx="11494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4081680" y="3290760"/>
            <a:ext cx="81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c80000"/>
                </a:solidFill>
                <a:latin typeface="Arial"/>
              </a:rPr>
              <a:t>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4119840" y="5024520"/>
            <a:ext cx="81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2943360" y="4397400"/>
            <a:ext cx="80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4930200" y="4417920"/>
            <a:ext cx="1166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-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5813280" y="4460760"/>
            <a:ext cx="244800" cy="244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3873600" y="4468680"/>
            <a:ext cx="10634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 flipH="1">
            <a:off x="3822480" y="4610160"/>
            <a:ext cx="1089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4495680" y="3701880"/>
            <a:ext cx="0" cy="684360"/>
          </a:xfrm>
          <a:prstGeom prst="line">
            <a:avLst/>
          </a:prstGeom>
          <a:ln w="3816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 flipV="1">
            <a:off x="4476600" y="4676400"/>
            <a:ext cx="0" cy="361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-214920" y="1204920"/>
            <a:ext cx="3727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présence de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omplexe 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  <a:ea typeface="Times New Roman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-calmodu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ation de la 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yosine phosphory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2451240" y="4290840"/>
            <a:ext cx="1307880" cy="597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6652440" y="43909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3906000" y="2511360"/>
            <a:ext cx="1181160" cy="36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4498920" y="2874960"/>
            <a:ext cx="0" cy="452520"/>
          </a:xfrm>
          <a:prstGeom prst="line">
            <a:avLst/>
          </a:prstGeom>
          <a:ln w="38160">
            <a:solidFill>
              <a:srgbClr val="c8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0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4641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3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5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4686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8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0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4731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4734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6" name=""/>
          <p:cNvSpPr/>
          <p:nvPr/>
        </p:nvSpPr>
        <p:spPr>
          <a:xfrm>
            <a:off x="286560" y="1293840"/>
            <a:ext cx="2223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5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4746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8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0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4791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3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5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4836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8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4839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1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2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4843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5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7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4888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0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286560" y="129384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>
            <a:off x="298080" y="1293840"/>
            <a:ext cx="3327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formation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4194000" y="536112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9" name=""/>
          <p:cNvGrpSpPr/>
          <p:nvPr/>
        </p:nvGrpSpPr>
        <p:grpSpPr>
          <a:xfrm>
            <a:off x="4614840" y="5111280"/>
            <a:ext cx="738000" cy="73440"/>
            <a:chOff x="4614840" y="5111280"/>
            <a:chExt cx="738000" cy="73440"/>
          </a:xfrm>
        </p:grpSpPr>
        <p:sp>
          <p:nvSpPr>
            <p:cNvPr id="4900" name=""/>
            <p:cNvSpPr/>
            <p:nvPr/>
          </p:nvSpPr>
          <p:spPr>
            <a:xfrm>
              <a:off x="5248800" y="5148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284440" y="5144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31900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V="1">
              <a:off x="4861800" y="5132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4931640" y="5122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V="1">
              <a:off x="4897800" y="5125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793760" y="5142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827600" y="5134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flipV="1">
              <a:off x="46846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4720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 flipV="1">
              <a:off x="46504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5037840" y="5145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71320" y="5137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 flipV="1">
              <a:off x="51062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 flipV="1">
              <a:off x="51760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 flipV="1">
              <a:off x="5211720" y="5110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flipV="1">
              <a:off x="524736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 flipV="1">
              <a:off x="51418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 flipV="1">
              <a:off x="52833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 flipV="1">
              <a:off x="531720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 flipV="1">
              <a:off x="5038920" y="5118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 flipV="1">
              <a:off x="5073120" y="5126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 flipV="1">
              <a:off x="500328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 flipV="1">
              <a:off x="496764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 flipV="1">
              <a:off x="4756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 flipV="1">
              <a:off x="47919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 flipV="1">
              <a:off x="482616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 flipV="1">
              <a:off x="46148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75776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65228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686120" y="5139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72212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896360" y="5139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4966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002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4930560" y="5141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213520" y="5148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77520" y="5140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42960" y="5137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107320" y="5130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4860720" y="5131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4616280" y="5128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2" name=""/>
          <p:cNvSpPr/>
          <p:nvPr/>
        </p:nvSpPr>
        <p:spPr>
          <a:xfrm>
            <a:off x="4886280" y="534348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 rot="19779000">
            <a:off x="5079600" y="514944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7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4948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0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2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4993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5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7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5038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0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5041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3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4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5045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7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9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5090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2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 rot="5400000">
            <a:off x="4829400" y="3089160"/>
            <a:ext cx="20188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297720" y="1293840"/>
            <a:ext cx="3038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rotation de la tête de myo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4194000" y="536112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1" name=""/>
          <p:cNvGrpSpPr/>
          <p:nvPr/>
        </p:nvGrpSpPr>
        <p:grpSpPr>
          <a:xfrm>
            <a:off x="4614840" y="5111280"/>
            <a:ext cx="738000" cy="73440"/>
            <a:chOff x="4614840" y="5111280"/>
            <a:chExt cx="738000" cy="73440"/>
          </a:xfrm>
        </p:grpSpPr>
        <p:sp>
          <p:nvSpPr>
            <p:cNvPr id="5102" name=""/>
            <p:cNvSpPr/>
            <p:nvPr/>
          </p:nvSpPr>
          <p:spPr>
            <a:xfrm>
              <a:off x="5248800" y="5148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284440" y="5144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31900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 flipV="1">
              <a:off x="4861800" y="5132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 flipV="1">
              <a:off x="4931640" y="5122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 flipV="1">
              <a:off x="4897800" y="5125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793760" y="5142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4827600" y="5134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 flipV="1">
              <a:off x="46846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 flipV="1">
              <a:off x="4720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 flipV="1">
              <a:off x="46504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037840" y="5145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071320" y="5137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V="1">
              <a:off x="51062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 flipV="1">
              <a:off x="51760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 flipV="1">
              <a:off x="5211720" y="5110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 flipV="1">
              <a:off x="524736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 flipV="1">
              <a:off x="51418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52833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 flipV="1">
              <a:off x="531720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 flipV="1">
              <a:off x="5038920" y="5118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 flipV="1">
              <a:off x="5073120" y="5126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500328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 flipV="1">
              <a:off x="496764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 flipV="1">
              <a:off x="4756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47919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 flipV="1">
              <a:off x="482616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 flipV="1">
              <a:off x="46148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475776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465228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4686120" y="5139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472212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4896360" y="5139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4966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002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4930560" y="5141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213520" y="5148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177520" y="5140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142960" y="5137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107320" y="5130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4860720" y="5131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4616280" y="5128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4" name=""/>
          <p:cNvSpPr/>
          <p:nvPr/>
        </p:nvSpPr>
        <p:spPr>
          <a:xfrm>
            <a:off x="4886280" y="534348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 rot="19779000">
            <a:off x="5079600" y="514944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>
            <a:off x="2155680" y="360828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7" name=""/>
          <p:cNvGrpSpPr/>
          <p:nvPr/>
        </p:nvGrpSpPr>
        <p:grpSpPr>
          <a:xfrm>
            <a:off x="2576520" y="3358800"/>
            <a:ext cx="738000" cy="73440"/>
            <a:chOff x="2576520" y="3358800"/>
            <a:chExt cx="738000" cy="73440"/>
          </a:xfrm>
        </p:grpSpPr>
        <p:sp>
          <p:nvSpPr>
            <p:cNvPr id="5148" name=""/>
            <p:cNvSpPr/>
            <p:nvPr/>
          </p:nvSpPr>
          <p:spPr>
            <a:xfrm>
              <a:off x="3210480" y="33962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3246120" y="33915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3280680" y="33832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 flipV="1">
              <a:off x="2823480" y="33796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 flipV="1">
              <a:off x="2893320" y="33703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 flipV="1">
              <a:off x="2859480" y="33728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2755440" y="33904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2789280" y="3382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 flipV="1">
              <a:off x="2646360" y="33667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 flipV="1">
              <a:off x="268200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 flipV="1">
              <a:off x="2612160" y="33703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2999520" y="33933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033000" y="33850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flipV="1">
              <a:off x="3067920" y="337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V="1">
              <a:off x="3137760" y="33667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 flipV="1">
              <a:off x="3173400" y="3358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 flipV="1">
              <a:off x="320904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 flipV="1">
              <a:off x="3103560" y="33703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 flipV="1">
              <a:off x="3245040" y="33627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V="1">
              <a:off x="3278880" y="3371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 flipV="1">
              <a:off x="3000600" y="3365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V="1">
              <a:off x="3034800" y="3373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 flipV="1">
              <a:off x="2964960" y="33609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 flipV="1">
              <a:off x="2929320" y="33609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 flipV="1">
              <a:off x="271800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 flipV="1">
              <a:off x="2753640" y="33627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 flipV="1">
              <a:off x="2787840" y="3371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 flipV="1">
              <a:off x="2576520" y="337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2719440" y="33951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2613960" y="33832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2647800" y="33865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683800" y="33951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858040" y="33865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2927880" y="3398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2963880" y="3398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2892240" y="33890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3175200" y="33962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3139200" y="33876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3104640" y="33850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3069000" y="33775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2822400" y="33793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2577960" y="3375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0" name=""/>
          <p:cNvSpPr/>
          <p:nvPr/>
        </p:nvSpPr>
        <p:spPr>
          <a:xfrm>
            <a:off x="2847960" y="359100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 rot="19779000">
            <a:off x="3041280" y="33969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 flipH="1">
            <a:off x="3133800" y="355284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3157920" y="33735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7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5198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0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2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5243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5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7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5288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0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5291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3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4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5295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7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9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5340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2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 rot="5400000">
            <a:off x="4829400" y="3089160"/>
            <a:ext cx="20188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 rot="10800000">
            <a:off x="2424240" y="2921040"/>
            <a:ext cx="4148640" cy="22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86560" y="1293840"/>
            <a:ext cx="2223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hydrolyse de l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organisation du tissu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90520" y="2627280"/>
            <a:ext cx="750888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insérés sur le squelett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quelettiques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gissent par effet de lev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posture, locomo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3480" y="4341960"/>
            <a:ext cx="750888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dans la paroi d'organes creux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lisses et cardiaque (+ certains muscles striés)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ntrôlent le volume des org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avités cardiaques, intestin, bronches, vaisseaux sanguins...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0280" y="2857680"/>
            <a:ext cx="406080" cy="170172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4194000" y="536112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2" name=""/>
          <p:cNvGrpSpPr/>
          <p:nvPr/>
        </p:nvGrpSpPr>
        <p:grpSpPr>
          <a:xfrm>
            <a:off x="4614840" y="5111280"/>
            <a:ext cx="738000" cy="73440"/>
            <a:chOff x="4614840" y="5111280"/>
            <a:chExt cx="738000" cy="73440"/>
          </a:xfrm>
        </p:grpSpPr>
        <p:sp>
          <p:nvSpPr>
            <p:cNvPr id="5353" name=""/>
            <p:cNvSpPr/>
            <p:nvPr/>
          </p:nvSpPr>
          <p:spPr>
            <a:xfrm>
              <a:off x="5248800" y="5148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284440" y="5144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31900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4861800" y="5132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V="1">
              <a:off x="4931640" y="5122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 flipV="1">
              <a:off x="4897800" y="5125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4793760" y="5142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4827600" y="5134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V="1">
              <a:off x="46846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4720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 flipV="1">
              <a:off x="46504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37840" y="5145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5071320" y="5137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 flipV="1">
              <a:off x="51062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 flipV="1">
              <a:off x="5176080" y="5119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 flipV="1">
              <a:off x="5211720" y="5110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 flipV="1">
              <a:off x="524736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 flipV="1">
              <a:off x="5141880" y="5122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V="1">
              <a:off x="52833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 flipV="1">
              <a:off x="531720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 flipV="1">
              <a:off x="5038920" y="5118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5073120" y="5126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 flipV="1">
              <a:off x="500328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4967640" y="5113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 flipV="1">
              <a:off x="4756320" y="5110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 flipV="1">
              <a:off x="4791960" y="5115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 flipV="1">
              <a:off x="4826160" y="5123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 flipV="1">
              <a:off x="4614840" y="5129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475776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4652280" y="5135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4686120" y="5139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4722120" y="5147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4896360" y="5139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4966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5002200" y="5150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4930560" y="5141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213520" y="5148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177520" y="5140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142960" y="5137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5107320" y="5130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4860720" y="5131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4616280" y="5128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5" name=""/>
          <p:cNvSpPr/>
          <p:nvPr/>
        </p:nvSpPr>
        <p:spPr>
          <a:xfrm>
            <a:off x="4886280" y="534348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 rot="19779000">
            <a:off x="5079600" y="514944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2155680" y="360828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8" name=""/>
          <p:cNvGrpSpPr/>
          <p:nvPr/>
        </p:nvGrpSpPr>
        <p:grpSpPr>
          <a:xfrm>
            <a:off x="2576520" y="3358800"/>
            <a:ext cx="738000" cy="73440"/>
            <a:chOff x="2576520" y="3358800"/>
            <a:chExt cx="738000" cy="73440"/>
          </a:xfrm>
        </p:grpSpPr>
        <p:sp>
          <p:nvSpPr>
            <p:cNvPr id="5399" name=""/>
            <p:cNvSpPr/>
            <p:nvPr/>
          </p:nvSpPr>
          <p:spPr>
            <a:xfrm>
              <a:off x="3210480" y="33962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3246120" y="33915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280680" y="33832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V="1">
              <a:off x="2823480" y="33796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V="1">
              <a:off x="2893320" y="33703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 flipV="1">
              <a:off x="2859480" y="33728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755440" y="33904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789280" y="3382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V="1">
              <a:off x="2646360" y="33667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 flipV="1">
              <a:off x="268200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 flipV="1">
              <a:off x="2612160" y="33703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999520" y="33933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3033000" y="33850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 flipV="1">
              <a:off x="3067920" y="337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3137760" y="33667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V="1">
              <a:off x="3173400" y="3358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 flipV="1">
              <a:off x="320904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3103560" y="33703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3245040" y="33627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V="1">
              <a:off x="3278880" y="3371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V="1">
              <a:off x="3000600" y="3365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V="1">
              <a:off x="3034800" y="3373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2964960" y="33609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 flipV="1">
              <a:off x="2929320" y="33609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 flipV="1">
              <a:off x="2718000" y="33584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V="1">
              <a:off x="2753640" y="33627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2787840" y="3371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 flipV="1">
              <a:off x="2576520" y="337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719440" y="33951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613960" y="33832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647800" y="33865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683800" y="33951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858040" y="33865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927880" y="3398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2963880" y="3398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892240" y="33890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3175200" y="33962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139200" y="33876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104640" y="33850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069000" y="33775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822400" y="33793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577960" y="3375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1" name=""/>
          <p:cNvSpPr/>
          <p:nvPr/>
        </p:nvSpPr>
        <p:spPr>
          <a:xfrm>
            <a:off x="2847960" y="3591000"/>
            <a:ext cx="1810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 rot="19779000">
            <a:off x="3041280" y="33969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 flipH="1">
            <a:off x="3133800" y="355284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3157920" y="33735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8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5449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1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3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5494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6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8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5539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1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5542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4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5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5546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8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0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5591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3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 flipH="1">
            <a:off x="2424240" y="2076480"/>
            <a:ext cx="4148640" cy="22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 rot="5400000">
            <a:off x="4829400" y="3089160"/>
            <a:ext cx="20188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 rot="10800000">
            <a:off x="2424240" y="2921040"/>
            <a:ext cx="4148640" cy="22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296640" y="1293840"/>
            <a:ext cx="3103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rupture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4194000" y="612288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4" name=""/>
          <p:cNvGrpSpPr/>
          <p:nvPr/>
        </p:nvGrpSpPr>
        <p:grpSpPr>
          <a:xfrm>
            <a:off x="4614840" y="5866920"/>
            <a:ext cx="738000" cy="288000"/>
            <a:chOff x="4614840" y="5866920"/>
            <a:chExt cx="738000" cy="288000"/>
          </a:xfrm>
        </p:grpSpPr>
        <p:grpSp>
          <p:nvGrpSpPr>
            <p:cNvPr id="5605" name=""/>
            <p:cNvGrpSpPr/>
            <p:nvPr/>
          </p:nvGrpSpPr>
          <p:grpSpPr>
            <a:xfrm>
              <a:off x="4614840" y="5866920"/>
              <a:ext cx="738000" cy="73440"/>
              <a:chOff x="4614840" y="5866920"/>
              <a:chExt cx="738000" cy="73440"/>
            </a:xfrm>
          </p:grpSpPr>
          <p:sp>
            <p:nvSpPr>
              <p:cNvPr id="5606" name=""/>
              <p:cNvSpPr/>
              <p:nvPr/>
            </p:nvSpPr>
            <p:spPr>
              <a:xfrm>
                <a:off x="5248800" y="59043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5284440" y="58996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5319000" y="5891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 flipV="1">
                <a:off x="4861800" y="5887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 flipV="1">
                <a:off x="4931640" y="58784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 flipV="1">
                <a:off x="4897800" y="5880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4793760" y="58986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4827600" y="5890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 flipV="1">
                <a:off x="4684680" y="587484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 flipV="1">
                <a:off x="4720320" y="58665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 flipV="1">
                <a:off x="4650480" y="58784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5037840" y="590148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5071320" y="5893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 flipV="1">
                <a:off x="5106240" y="5884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 flipV="1">
                <a:off x="5176080" y="587484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 flipV="1">
                <a:off x="5211720" y="58665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 flipV="1">
                <a:off x="5247360" y="58665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 flipV="1">
                <a:off x="5141880" y="58784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 flipV="1">
                <a:off x="5283360" y="5870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 flipV="1">
                <a:off x="5317200" y="58791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V="1">
                <a:off x="5038920" y="5873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 flipV="1">
                <a:off x="5073120" y="5882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flipV="1">
                <a:off x="5003280" y="5869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 flipV="1">
                <a:off x="4967640" y="5869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 flipV="1">
                <a:off x="4756320" y="58665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flipV="1">
                <a:off x="4791960" y="5870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 flipV="1">
                <a:off x="4826160" y="58791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 flipV="1">
                <a:off x="4614840" y="5884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757760" y="59032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652280" y="5891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686120" y="589464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722120" y="59032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896360" y="589464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966200" y="5906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002200" y="5906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4930560" y="589716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213520" y="59043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177520" y="5895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142960" y="58932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107320" y="5885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4860720" y="5887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4616280" y="5883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8" name=""/>
            <p:cNvSpPr/>
            <p:nvPr/>
          </p:nvSpPr>
          <p:spPr>
            <a:xfrm rot="19779000">
              <a:off x="5079960" y="5905080"/>
              <a:ext cx="7452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9" name=""/>
          <p:cNvSpPr/>
          <p:nvPr/>
        </p:nvSpPr>
        <p:spPr>
          <a:xfrm>
            <a:off x="2155680" y="4370400"/>
            <a:ext cx="98136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0" name=""/>
          <p:cNvGrpSpPr/>
          <p:nvPr/>
        </p:nvGrpSpPr>
        <p:grpSpPr>
          <a:xfrm>
            <a:off x="2576520" y="4114440"/>
            <a:ext cx="738000" cy="288000"/>
            <a:chOff x="2576520" y="4114440"/>
            <a:chExt cx="738000" cy="288000"/>
          </a:xfrm>
        </p:grpSpPr>
        <p:grpSp>
          <p:nvGrpSpPr>
            <p:cNvPr id="5651" name=""/>
            <p:cNvGrpSpPr/>
            <p:nvPr/>
          </p:nvGrpSpPr>
          <p:grpSpPr>
            <a:xfrm>
              <a:off x="2576520" y="4114440"/>
              <a:ext cx="738000" cy="73440"/>
              <a:chOff x="2576520" y="4114440"/>
              <a:chExt cx="738000" cy="73440"/>
            </a:xfrm>
          </p:grpSpPr>
          <p:sp>
            <p:nvSpPr>
              <p:cNvPr id="5652" name=""/>
              <p:cNvSpPr/>
              <p:nvPr/>
            </p:nvSpPr>
            <p:spPr>
              <a:xfrm>
                <a:off x="3210480" y="41518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246120" y="41472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3280680" y="41389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 flipV="1">
                <a:off x="2823480" y="41353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 flipV="1">
                <a:off x="2893320" y="41259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 flipV="1">
                <a:off x="2859480" y="4128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2755440" y="4146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2789280" y="41378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 flipV="1">
                <a:off x="2646360" y="41223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 flipV="1">
                <a:off x="2682000" y="411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 flipV="1">
                <a:off x="2612160" y="41259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999520" y="41490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3033000" y="4140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 flipV="1">
                <a:off x="3067920" y="4132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 flipV="1">
                <a:off x="3137760" y="41223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 flipV="1">
                <a:off x="3173400" y="4114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flipV="1">
                <a:off x="3209040" y="411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V="1">
                <a:off x="3103560" y="41259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 flipV="1">
                <a:off x="3245040" y="4118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 flipV="1">
                <a:off x="3278880" y="41266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flipV="1">
                <a:off x="3000600" y="41212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 flipV="1">
                <a:off x="3034800" y="41295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 flipV="1">
                <a:off x="2964960" y="41166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 flipV="1">
                <a:off x="2929320" y="41166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 flipV="1">
                <a:off x="2718000" y="411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 flipV="1">
                <a:off x="2753640" y="4118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 flipV="1">
                <a:off x="2787840" y="41266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flipV="1">
                <a:off x="2576520" y="4132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2719440" y="4150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2613960" y="41389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2647800" y="41421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2683800" y="4150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2858040" y="41421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2927880" y="41536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2963880" y="41536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2892240" y="41446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175200" y="4151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3139200" y="414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3104640" y="41407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3069000" y="41331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2822400" y="4134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2577960" y="41313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4" name=""/>
            <p:cNvSpPr/>
            <p:nvPr/>
          </p:nvSpPr>
          <p:spPr>
            <a:xfrm rot="19779000">
              <a:off x="3041640" y="4152600"/>
              <a:ext cx="7452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5" name=""/>
          <p:cNvSpPr/>
          <p:nvPr/>
        </p:nvSpPr>
        <p:spPr>
          <a:xfrm flipH="1">
            <a:off x="3133800" y="43243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3157920" y="414504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4203720" y="21700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5133960" y="19335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0" name=""/>
          <p:cNvGrpSpPr/>
          <p:nvPr/>
        </p:nvGrpSpPr>
        <p:grpSpPr>
          <a:xfrm>
            <a:off x="4738680" y="1790280"/>
            <a:ext cx="738000" cy="73440"/>
            <a:chOff x="4738680" y="1790280"/>
            <a:chExt cx="738000" cy="73440"/>
          </a:xfrm>
        </p:grpSpPr>
        <p:sp>
          <p:nvSpPr>
            <p:cNvPr id="5701" name=""/>
            <p:cNvSpPr/>
            <p:nvPr/>
          </p:nvSpPr>
          <p:spPr>
            <a:xfrm>
              <a:off x="5372640" y="1827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408280" y="1823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44284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 flipV="1">
              <a:off x="4985640" y="1811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V="1">
              <a:off x="5055480" y="1801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 flipV="1">
              <a:off x="5021640" y="1804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4917600" y="1821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4951440" y="1813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V="1">
              <a:off x="48085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 flipV="1">
              <a:off x="4844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V="1">
              <a:off x="47743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161680" y="1824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195160" y="1816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 flipV="1">
              <a:off x="52300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 flipV="1">
              <a:off x="5299920" y="1798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5335560" y="1789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V="1">
              <a:off x="537120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 flipV="1">
              <a:off x="5265720" y="1801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 flipV="1">
              <a:off x="54072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 flipV="1">
              <a:off x="544104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flipV="1">
              <a:off x="5162760" y="1797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V="1">
              <a:off x="5196960" y="1805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 flipV="1">
              <a:off x="512712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V="1">
              <a:off x="5091480" y="1792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4880160" y="1789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 flipV="1">
              <a:off x="4915800" y="1794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 flipV="1">
              <a:off x="4950000" y="1802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 flipV="1">
              <a:off x="4738680" y="1808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488160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4776120" y="1814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4809960" y="1818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4845960" y="1826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020200" y="1818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090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126040" y="1829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054400" y="1820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337360" y="1827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301360" y="1819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266800" y="1816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231160" y="1809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4984560" y="1810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4740120" y="1807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3" name=""/>
          <p:cNvSpPr/>
          <p:nvPr/>
        </p:nvSpPr>
        <p:spPr>
          <a:xfrm>
            <a:off x="4203720" y="29322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5133960" y="26956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4738680" y="2552400"/>
            <a:ext cx="738000" cy="73440"/>
            <a:chOff x="4738680" y="2552400"/>
            <a:chExt cx="738000" cy="73440"/>
          </a:xfrm>
        </p:grpSpPr>
        <p:sp>
          <p:nvSpPr>
            <p:cNvPr id="5746" name=""/>
            <p:cNvSpPr/>
            <p:nvPr/>
          </p:nvSpPr>
          <p:spPr>
            <a:xfrm>
              <a:off x="5372640" y="25898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408280" y="2585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544284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V="1">
              <a:off x="4985640" y="257328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5055480" y="256392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V="1">
              <a:off x="5021640" y="25664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4917600" y="2584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4951440" y="25758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V="1">
              <a:off x="48085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V="1">
              <a:off x="4844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V="1">
              <a:off x="47743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161680" y="258696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195160" y="257868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V="1">
              <a:off x="52300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V="1">
              <a:off x="5299920" y="256032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5335560" y="25520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V="1">
              <a:off x="537120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5265720" y="256392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V="1">
              <a:off x="54072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V="1">
              <a:off x="544104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V="1">
              <a:off x="5162760" y="25592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5196960" y="2567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V="1">
              <a:off x="512712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V="1">
              <a:off x="5091480" y="2554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V="1">
              <a:off x="4880160" y="2552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V="1">
              <a:off x="4915800" y="25563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V="1">
              <a:off x="4950000" y="25646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V="1">
              <a:off x="4738680" y="2570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488160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4776120" y="257688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4809960" y="258012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4845960" y="25887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020200" y="258012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090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126040" y="25916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054400" y="258264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337360" y="258984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301360" y="2581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266800" y="2578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231160" y="257112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984560" y="2572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4740120" y="25693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8" name=""/>
          <p:cNvSpPr/>
          <p:nvPr/>
        </p:nvSpPr>
        <p:spPr>
          <a:xfrm>
            <a:off x="4562640" y="24670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4876920" y="2171880"/>
            <a:ext cx="1807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5210280" y="2687760"/>
            <a:ext cx="738720" cy="307080"/>
            <a:chOff x="5210280" y="2687760"/>
            <a:chExt cx="738720" cy="307080"/>
          </a:xfrm>
        </p:grpSpPr>
        <p:sp>
          <p:nvSpPr>
            <p:cNvPr id="5791" name=""/>
            <p:cNvSpPr/>
            <p:nvPr/>
          </p:nvSpPr>
          <p:spPr>
            <a:xfrm>
              <a:off x="5214960" y="2687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 flipH="1">
              <a:off x="5210280" y="28670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5207040" y="1916280"/>
            <a:ext cx="738720" cy="307080"/>
            <a:chOff x="5207040" y="1916280"/>
            <a:chExt cx="738720" cy="307080"/>
          </a:xfrm>
        </p:grpSpPr>
        <p:sp>
          <p:nvSpPr>
            <p:cNvPr id="5794" name=""/>
            <p:cNvSpPr/>
            <p:nvPr/>
          </p:nvSpPr>
          <p:spPr>
            <a:xfrm>
              <a:off x="5211720" y="191628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5207040" y="209556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6" name=""/>
          <p:cNvSpPr/>
          <p:nvPr/>
        </p:nvSpPr>
        <p:spPr>
          <a:xfrm>
            <a:off x="5908680" y="360828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7" name=""/>
          <p:cNvGrpSpPr/>
          <p:nvPr/>
        </p:nvGrpSpPr>
        <p:grpSpPr>
          <a:xfrm>
            <a:off x="6443640" y="3314520"/>
            <a:ext cx="738000" cy="73080"/>
            <a:chOff x="6443640" y="3314520"/>
            <a:chExt cx="738000" cy="73080"/>
          </a:xfrm>
        </p:grpSpPr>
        <p:sp>
          <p:nvSpPr>
            <p:cNvPr id="5798" name=""/>
            <p:cNvSpPr/>
            <p:nvPr/>
          </p:nvSpPr>
          <p:spPr>
            <a:xfrm>
              <a:off x="7077600" y="335160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7113240" y="334728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714780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 flipV="1">
              <a:off x="6690600" y="3336120"/>
              <a:ext cx="3456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 flipV="1">
              <a:off x="6760440" y="332568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 flipV="1">
              <a:off x="6726600" y="33285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622560" y="33462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656400" y="33379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 flipV="1">
              <a:off x="65134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flipV="1">
              <a:off x="6549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 flipV="1">
              <a:off x="64792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866640" y="334908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900120" y="334044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 flipV="1">
              <a:off x="69350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 flipV="1">
              <a:off x="7004880" y="3323160"/>
              <a:ext cx="3456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 flipV="1">
              <a:off x="7040520" y="33141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707616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 flipV="1">
              <a:off x="6970680" y="332568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V="1">
              <a:off x="71121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 flipV="1">
              <a:off x="714600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 flipV="1">
              <a:off x="6867720" y="33213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 flipV="1">
              <a:off x="6901920" y="3329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 flipV="1">
              <a:off x="683208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 flipV="1">
              <a:off x="6796440" y="331668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6585120" y="331416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 flipV="1">
              <a:off x="6620760" y="33184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V="1">
              <a:off x="6654960" y="33267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 flipV="1">
              <a:off x="6443640" y="3332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58656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481080" y="33390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514920" y="3342240"/>
              <a:ext cx="3384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550920" y="33505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725160" y="334224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795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831000" y="33534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759360" y="3344400"/>
              <a:ext cx="33840" cy="34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042320" y="335160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7006320" y="3343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971760" y="3340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936120" y="33332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689520" y="33350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445080" y="3331440"/>
              <a:ext cx="33840" cy="3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0" name=""/>
          <p:cNvSpPr/>
          <p:nvPr/>
        </p:nvSpPr>
        <p:spPr>
          <a:xfrm>
            <a:off x="5908680" y="4370400"/>
            <a:ext cx="981000" cy="217440"/>
          </a:xfrm>
          <a:custGeom>
            <a:avLst/>
            <a:gdLst/>
            <a:ahLst/>
            <a:rect l="l" t="t" r="r" b="b"/>
            <a:pathLst>
              <a:path w="618" h="209">
                <a:moveTo>
                  <a:pt x="0" y="209"/>
                </a:moveTo>
                <a:lnTo>
                  <a:pt x="409" y="209"/>
                </a:lnTo>
                <a:lnTo>
                  <a:pt x="61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1" name=""/>
          <p:cNvGrpSpPr/>
          <p:nvPr/>
        </p:nvGrpSpPr>
        <p:grpSpPr>
          <a:xfrm>
            <a:off x="6443640" y="4076280"/>
            <a:ext cx="738000" cy="73440"/>
            <a:chOff x="6443640" y="4076280"/>
            <a:chExt cx="738000" cy="73440"/>
          </a:xfrm>
        </p:grpSpPr>
        <p:sp>
          <p:nvSpPr>
            <p:cNvPr id="5842" name=""/>
            <p:cNvSpPr/>
            <p:nvPr/>
          </p:nvSpPr>
          <p:spPr>
            <a:xfrm>
              <a:off x="7077600" y="411372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113240" y="410904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7147800" y="4100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 flipV="1">
              <a:off x="6690600" y="4097160"/>
              <a:ext cx="3456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 flipV="1">
              <a:off x="6760440" y="4087800"/>
              <a:ext cx="34560" cy="33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 flipV="1">
              <a:off x="6726600" y="40903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622560" y="410796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656400" y="40996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 flipV="1">
              <a:off x="6513480" y="4084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 flipV="1">
              <a:off x="6549120" y="4075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 flipV="1">
              <a:off x="6479280" y="4087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866640" y="4110840"/>
              <a:ext cx="3312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900120" y="410256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 flipV="1">
              <a:off x="6935040" y="4094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V="1">
              <a:off x="7004880" y="4084200"/>
              <a:ext cx="3456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 flipV="1">
              <a:off x="7040520" y="40759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V="1">
              <a:off x="7076160" y="4075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V="1">
              <a:off x="6970680" y="4087800"/>
              <a:ext cx="33840" cy="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V="1">
              <a:off x="7112160" y="4080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V="1">
              <a:off x="7146000" y="4088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6867720" y="408312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V="1">
              <a:off x="6901920" y="409140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V="1">
              <a:off x="6832080" y="4078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V="1">
              <a:off x="6796440" y="407844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6585120" y="40759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V="1">
              <a:off x="6620760" y="408024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 flipV="1">
              <a:off x="6654960" y="4088520"/>
              <a:ext cx="3456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 flipV="1">
              <a:off x="6443640" y="409428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586560" y="4112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481080" y="410076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514920" y="4104000"/>
              <a:ext cx="33840" cy="338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550920" y="411264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725160" y="4104000"/>
              <a:ext cx="33840" cy="33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795000" y="4115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831000" y="411552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759360" y="4106520"/>
              <a:ext cx="33840" cy="3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7042320" y="411372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006320" y="4105080"/>
              <a:ext cx="3384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71760" y="410256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936120" y="4095000"/>
              <a:ext cx="34560" cy="34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689520" y="4096800"/>
              <a:ext cx="33840" cy="34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445080" y="4093200"/>
              <a:ext cx="33840" cy="349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4" name=""/>
          <p:cNvSpPr/>
          <p:nvPr/>
        </p:nvSpPr>
        <p:spPr>
          <a:xfrm>
            <a:off x="6267600" y="390528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6600960" y="3591000"/>
            <a:ext cx="1807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6838920" y="3371760"/>
            <a:ext cx="74520" cy="247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6838920" y="4133880"/>
            <a:ext cx="745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6905160" y="3344760"/>
            <a:ext cx="739800" cy="307080"/>
            <a:chOff x="6905160" y="3344760"/>
            <a:chExt cx="739800" cy="307080"/>
          </a:xfrm>
        </p:grpSpPr>
        <p:sp>
          <p:nvSpPr>
            <p:cNvPr id="5889" name=""/>
            <p:cNvSpPr/>
            <p:nvPr/>
          </p:nvSpPr>
          <p:spPr>
            <a:xfrm>
              <a:off x="6910920" y="33447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H="1">
              <a:off x="6905160" y="35240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1" name=""/>
          <p:cNvGrpSpPr/>
          <p:nvPr/>
        </p:nvGrpSpPr>
        <p:grpSpPr>
          <a:xfrm>
            <a:off x="6905160" y="4097160"/>
            <a:ext cx="739800" cy="307080"/>
            <a:chOff x="6905160" y="4097160"/>
            <a:chExt cx="739800" cy="307080"/>
          </a:xfrm>
        </p:grpSpPr>
        <p:sp>
          <p:nvSpPr>
            <p:cNvPr id="5892" name=""/>
            <p:cNvSpPr/>
            <p:nvPr/>
          </p:nvSpPr>
          <p:spPr>
            <a:xfrm>
              <a:off x="6910920" y="4097160"/>
              <a:ext cx="73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DP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 flipH="1">
              <a:off x="6905160" y="427644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4" name=""/>
          <p:cNvSpPr/>
          <p:nvPr/>
        </p:nvSpPr>
        <p:spPr>
          <a:xfrm>
            <a:off x="4820400" y="2171880"/>
            <a:ext cx="20181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 flipV="1">
            <a:off x="3581640" y="3104640"/>
            <a:ext cx="3276000" cy="308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 rot="10800000">
            <a:off x="2553120" y="3448440"/>
            <a:ext cx="2895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3390840" y="3225960"/>
            <a:ext cx="939960" cy="812520"/>
          </a:xfrm>
          <a:custGeom>
            <a:avLst/>
            <a:gdLst/>
            <a:ahLst/>
            <a:rect l="l" t="t" r="r" b="b"/>
            <a:pathLst>
              <a:path w="592" h="664">
                <a:moveTo>
                  <a:pt x="0" y="664"/>
                </a:moveTo>
                <a:cubicBezTo>
                  <a:pt x="50" y="543"/>
                  <a:pt x="101" y="423"/>
                  <a:pt x="200" y="312"/>
                </a:cubicBezTo>
                <a:cubicBezTo>
                  <a:pt x="299" y="201"/>
                  <a:pt x="445" y="100"/>
                  <a:pt x="5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>
            <a:off x="284400" y="1293840"/>
            <a:ext cx="40334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artiellement dé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si pont actomyosique formé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ycle possible, mais plus 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(ponts « verrouillés 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320400" y="758880"/>
            <a:ext cx="54187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’appareil contractile : les cycles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4060800" y="1460520"/>
            <a:ext cx="194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5" name=""/>
          <p:cNvGrpSpPr/>
          <p:nvPr/>
        </p:nvGrpSpPr>
        <p:grpSpPr>
          <a:xfrm>
            <a:off x="2155680" y="1790280"/>
            <a:ext cx="5489280" cy="4552920"/>
            <a:chOff x="2155680" y="1790280"/>
            <a:chExt cx="5489280" cy="4552920"/>
          </a:xfrm>
        </p:grpSpPr>
        <p:sp>
          <p:nvSpPr>
            <p:cNvPr id="5906" name=""/>
            <p:cNvSpPr/>
            <p:nvPr/>
          </p:nvSpPr>
          <p:spPr>
            <a:xfrm>
              <a:off x="4194000" y="5361120"/>
              <a:ext cx="98136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7" name=""/>
            <p:cNvGrpSpPr/>
            <p:nvPr/>
          </p:nvGrpSpPr>
          <p:grpSpPr>
            <a:xfrm>
              <a:off x="4614840" y="5111280"/>
              <a:ext cx="738000" cy="73440"/>
              <a:chOff x="4614840" y="5111280"/>
              <a:chExt cx="738000" cy="73440"/>
            </a:xfrm>
          </p:grpSpPr>
          <p:sp>
            <p:nvSpPr>
              <p:cNvPr id="5908" name=""/>
              <p:cNvSpPr/>
              <p:nvPr/>
            </p:nvSpPr>
            <p:spPr>
              <a:xfrm>
                <a:off x="5248800" y="514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5284440" y="51440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5319000" y="5135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 flipV="1">
                <a:off x="4861800" y="51321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 flipV="1">
                <a:off x="4931640" y="512280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 flipV="1">
                <a:off x="4897800" y="5125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4793760" y="5142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4827600" y="5134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 flipV="1">
                <a:off x="4684680" y="5119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 flipV="1">
                <a:off x="4720320" y="5110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 flipV="1">
                <a:off x="4650480" y="5122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5037840" y="51458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5071320" y="51375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 flipV="1">
                <a:off x="5106240" y="5129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 flipV="1">
                <a:off x="5176080" y="5119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 flipV="1">
                <a:off x="5211720" y="51109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 flipV="1">
                <a:off x="5247360" y="5110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 flipV="1">
                <a:off x="5141880" y="5122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 flipV="1">
                <a:off x="5283360" y="5115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 flipV="1">
                <a:off x="5317200" y="5123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 flipV="1">
                <a:off x="5038920" y="5118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 flipV="1">
                <a:off x="5073120" y="512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V="1">
                <a:off x="5003280" y="5113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 flipV="1">
                <a:off x="4967640" y="5113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 flipV="1">
                <a:off x="4756320" y="5110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 flipV="1">
                <a:off x="4791960" y="5115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 flipV="1">
                <a:off x="4826160" y="5123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 flipV="1">
                <a:off x="4614840" y="5129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757760" y="514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652280" y="5135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686120" y="513900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722120" y="514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896360" y="513900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966200" y="5150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5002200" y="5150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930560" y="514152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213520" y="51487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5177520" y="5140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142960" y="5137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5107320" y="5130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860720" y="5131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4616280" y="51282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0" name=""/>
            <p:cNvSpPr/>
            <p:nvPr/>
          </p:nvSpPr>
          <p:spPr>
            <a:xfrm>
              <a:off x="4194000" y="6122880"/>
              <a:ext cx="98136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4552920" y="565776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4886280" y="5343480"/>
              <a:ext cx="18108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 rot="19779000">
              <a:off x="5079600" y="5149440"/>
              <a:ext cx="7452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4" name=""/>
            <p:cNvGrpSpPr/>
            <p:nvPr/>
          </p:nvGrpSpPr>
          <p:grpSpPr>
            <a:xfrm>
              <a:off x="4614840" y="5866920"/>
              <a:ext cx="738000" cy="288000"/>
              <a:chOff x="4614840" y="5866920"/>
              <a:chExt cx="738000" cy="288000"/>
            </a:xfrm>
          </p:grpSpPr>
          <p:grpSp>
            <p:nvGrpSpPr>
              <p:cNvPr id="5955" name=""/>
              <p:cNvGrpSpPr/>
              <p:nvPr/>
            </p:nvGrpSpPr>
            <p:grpSpPr>
              <a:xfrm>
                <a:off x="4614840" y="5866920"/>
                <a:ext cx="738000" cy="73440"/>
                <a:chOff x="4614840" y="5866920"/>
                <a:chExt cx="738000" cy="73440"/>
              </a:xfrm>
            </p:grpSpPr>
            <p:sp>
              <p:nvSpPr>
                <p:cNvPr id="5956" name=""/>
                <p:cNvSpPr/>
                <p:nvPr/>
              </p:nvSpPr>
              <p:spPr>
                <a:xfrm>
                  <a:off x="5248800" y="5904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5284440" y="58996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5319000" y="5891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 flipV="1">
                  <a:off x="4861800" y="588780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 flipV="1">
                  <a:off x="4931640" y="587844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 flipV="1">
                  <a:off x="4897800" y="58809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4793760" y="5898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4827600" y="5890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 flipV="1">
                  <a:off x="4684680" y="587484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 flipV="1">
                  <a:off x="4720320" y="58665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 flipV="1">
                  <a:off x="4650480" y="587844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5037840" y="590148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5071320" y="589320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 flipV="1">
                  <a:off x="5106240" y="58849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 flipV="1">
                  <a:off x="5176080" y="587484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 flipV="1">
                  <a:off x="5211720" y="58665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 flipV="1">
                  <a:off x="5247360" y="58665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5141880" y="587844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 flipV="1">
                  <a:off x="5283360" y="58708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 flipV="1">
                  <a:off x="5317200" y="58791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 flipV="1">
                  <a:off x="5038920" y="58737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 flipV="1">
                  <a:off x="5073120" y="588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 flipV="1">
                  <a:off x="5003280" y="58690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 flipV="1">
                  <a:off x="4967640" y="58690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 flipV="1">
                  <a:off x="4756320" y="58665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 flipV="1">
                  <a:off x="4791960" y="58708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 flipV="1">
                  <a:off x="4826160" y="58791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 flipV="1">
                  <a:off x="4614840" y="58849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4757760" y="5903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4652280" y="5891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4686120" y="589464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4722120" y="5903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4896360" y="589464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4966200" y="59061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5002200" y="59061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4930560" y="589716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5213520" y="59043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5177520" y="58957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5142960" y="5893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5107320" y="5885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4860720" y="5887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4616280" y="58838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8" name=""/>
              <p:cNvSpPr/>
              <p:nvPr/>
            </p:nvSpPr>
            <p:spPr>
              <a:xfrm rot="19779000">
                <a:off x="5079960" y="5905080"/>
                <a:ext cx="7452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9" name=""/>
            <p:cNvSpPr/>
            <p:nvPr/>
          </p:nvSpPr>
          <p:spPr>
            <a:xfrm>
              <a:off x="2155680" y="3608280"/>
              <a:ext cx="98136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0" name=""/>
            <p:cNvGrpSpPr/>
            <p:nvPr/>
          </p:nvGrpSpPr>
          <p:grpSpPr>
            <a:xfrm>
              <a:off x="2576520" y="3358800"/>
              <a:ext cx="738000" cy="73440"/>
              <a:chOff x="2576520" y="3358800"/>
              <a:chExt cx="738000" cy="73440"/>
            </a:xfrm>
          </p:grpSpPr>
          <p:sp>
            <p:nvSpPr>
              <p:cNvPr id="6001" name=""/>
              <p:cNvSpPr/>
              <p:nvPr/>
            </p:nvSpPr>
            <p:spPr>
              <a:xfrm>
                <a:off x="3210480" y="3396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3246120" y="33915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280680" y="3383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 flipV="1">
                <a:off x="2823480" y="33796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 flipV="1">
                <a:off x="2893320" y="337032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 flipV="1">
                <a:off x="2859480" y="33728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2755440" y="3390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2789280" y="3382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 flipV="1">
                <a:off x="2646360" y="336672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 flipV="1">
                <a:off x="2682000" y="3358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 flipV="1">
                <a:off x="2612160" y="337032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2999520" y="339336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3033000" y="3385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 flipV="1">
                <a:off x="3067920" y="3376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 flipV="1">
                <a:off x="3137760" y="336672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 flipV="1">
                <a:off x="3173400" y="33584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 flipV="1">
                <a:off x="3209040" y="3358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 flipV="1">
                <a:off x="3103560" y="337032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 flipV="1">
                <a:off x="3245040" y="33627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 flipV="1">
                <a:off x="3278880" y="33710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 flipV="1">
                <a:off x="3000600" y="3365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 flipV="1">
                <a:off x="3034800" y="3373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 flipV="1">
                <a:off x="2964960" y="33609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 flipV="1">
                <a:off x="2929320" y="33609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 flipV="1">
                <a:off x="2718000" y="33584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 flipV="1">
                <a:off x="2753640" y="33627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 flipV="1">
                <a:off x="2787840" y="33710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 flipV="1">
                <a:off x="2576520" y="3376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719440" y="3395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13960" y="3383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47800" y="338652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83800" y="3395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858040" y="338652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927880" y="3398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963880" y="3398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892240" y="338904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3175200" y="33962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3139200" y="33876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3104640" y="3385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3069000" y="3377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822400" y="3379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577960" y="33757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3" name=""/>
            <p:cNvSpPr/>
            <p:nvPr/>
          </p:nvSpPr>
          <p:spPr>
            <a:xfrm>
              <a:off x="2155680" y="4370400"/>
              <a:ext cx="98136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514600" y="390528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847960" y="3591000"/>
              <a:ext cx="18108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 rot="19779000">
              <a:off x="3041280" y="3396960"/>
              <a:ext cx="7452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7" name=""/>
            <p:cNvGrpSpPr/>
            <p:nvPr/>
          </p:nvGrpSpPr>
          <p:grpSpPr>
            <a:xfrm>
              <a:off x="2576520" y="4114440"/>
              <a:ext cx="738000" cy="288000"/>
              <a:chOff x="2576520" y="4114440"/>
              <a:chExt cx="738000" cy="288000"/>
            </a:xfrm>
          </p:grpSpPr>
          <p:grpSp>
            <p:nvGrpSpPr>
              <p:cNvPr id="6048" name=""/>
              <p:cNvGrpSpPr/>
              <p:nvPr/>
            </p:nvGrpSpPr>
            <p:grpSpPr>
              <a:xfrm>
                <a:off x="2576520" y="4114440"/>
                <a:ext cx="738000" cy="73440"/>
                <a:chOff x="2576520" y="4114440"/>
                <a:chExt cx="738000" cy="73440"/>
              </a:xfrm>
            </p:grpSpPr>
            <p:sp>
              <p:nvSpPr>
                <p:cNvPr id="6049" name=""/>
                <p:cNvSpPr/>
                <p:nvPr/>
              </p:nvSpPr>
              <p:spPr>
                <a:xfrm>
                  <a:off x="3210480" y="4151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0" name=""/>
                <p:cNvSpPr/>
                <p:nvPr/>
              </p:nvSpPr>
              <p:spPr>
                <a:xfrm>
                  <a:off x="3246120" y="414720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1" name=""/>
                <p:cNvSpPr/>
                <p:nvPr/>
              </p:nvSpPr>
              <p:spPr>
                <a:xfrm>
                  <a:off x="3280680" y="4138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2" name=""/>
                <p:cNvSpPr/>
                <p:nvPr/>
              </p:nvSpPr>
              <p:spPr>
                <a:xfrm flipV="1">
                  <a:off x="2823480" y="41353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3" name=""/>
                <p:cNvSpPr/>
                <p:nvPr/>
              </p:nvSpPr>
              <p:spPr>
                <a:xfrm flipV="1">
                  <a:off x="2893320" y="412596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4" name=""/>
                <p:cNvSpPr/>
                <p:nvPr/>
              </p:nvSpPr>
              <p:spPr>
                <a:xfrm flipV="1">
                  <a:off x="2859480" y="41284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"/>
                <p:cNvSpPr/>
                <p:nvPr/>
              </p:nvSpPr>
              <p:spPr>
                <a:xfrm>
                  <a:off x="2755440" y="4146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6" name=""/>
                <p:cNvSpPr/>
                <p:nvPr/>
              </p:nvSpPr>
              <p:spPr>
                <a:xfrm>
                  <a:off x="2789280" y="4137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7" name=""/>
                <p:cNvSpPr/>
                <p:nvPr/>
              </p:nvSpPr>
              <p:spPr>
                <a:xfrm flipV="1">
                  <a:off x="2646360" y="412236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"/>
                <p:cNvSpPr/>
                <p:nvPr/>
              </p:nvSpPr>
              <p:spPr>
                <a:xfrm flipV="1">
                  <a:off x="2682000" y="41140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"/>
                <p:cNvSpPr/>
                <p:nvPr/>
              </p:nvSpPr>
              <p:spPr>
                <a:xfrm flipV="1">
                  <a:off x="2612160" y="412596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"/>
                <p:cNvSpPr/>
                <p:nvPr/>
              </p:nvSpPr>
              <p:spPr>
                <a:xfrm>
                  <a:off x="2999520" y="414900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1" name=""/>
                <p:cNvSpPr/>
                <p:nvPr/>
              </p:nvSpPr>
              <p:spPr>
                <a:xfrm>
                  <a:off x="3033000" y="4140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2" name=""/>
                <p:cNvSpPr/>
                <p:nvPr/>
              </p:nvSpPr>
              <p:spPr>
                <a:xfrm flipV="1">
                  <a:off x="3067920" y="4132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3" name=""/>
                <p:cNvSpPr/>
                <p:nvPr/>
              </p:nvSpPr>
              <p:spPr>
                <a:xfrm flipV="1">
                  <a:off x="3137760" y="412236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4" name=""/>
                <p:cNvSpPr/>
                <p:nvPr/>
              </p:nvSpPr>
              <p:spPr>
                <a:xfrm flipV="1">
                  <a:off x="3173400" y="41140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5" name=""/>
                <p:cNvSpPr/>
                <p:nvPr/>
              </p:nvSpPr>
              <p:spPr>
                <a:xfrm flipV="1">
                  <a:off x="3209040" y="41140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6" name=""/>
                <p:cNvSpPr/>
                <p:nvPr/>
              </p:nvSpPr>
              <p:spPr>
                <a:xfrm flipV="1">
                  <a:off x="3103560" y="412596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 flipV="1">
                  <a:off x="3245040" y="41184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 flipV="1">
                  <a:off x="3278880" y="41266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 flipV="1">
                  <a:off x="3000600" y="4121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"/>
                <p:cNvSpPr/>
                <p:nvPr/>
              </p:nvSpPr>
              <p:spPr>
                <a:xfrm flipV="1">
                  <a:off x="3034800" y="41295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"/>
                <p:cNvSpPr/>
                <p:nvPr/>
              </p:nvSpPr>
              <p:spPr>
                <a:xfrm flipV="1">
                  <a:off x="2964960" y="41166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 flipV="1">
                  <a:off x="2929320" y="41166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"/>
                <p:cNvSpPr/>
                <p:nvPr/>
              </p:nvSpPr>
              <p:spPr>
                <a:xfrm flipV="1">
                  <a:off x="2718000" y="41140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4" name=""/>
                <p:cNvSpPr/>
                <p:nvPr/>
              </p:nvSpPr>
              <p:spPr>
                <a:xfrm flipV="1">
                  <a:off x="2753640" y="41184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5" name=""/>
                <p:cNvSpPr/>
                <p:nvPr/>
              </p:nvSpPr>
              <p:spPr>
                <a:xfrm flipV="1">
                  <a:off x="2787840" y="41266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6" name=""/>
                <p:cNvSpPr/>
                <p:nvPr/>
              </p:nvSpPr>
              <p:spPr>
                <a:xfrm flipV="1">
                  <a:off x="2576520" y="4132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7" name=""/>
                <p:cNvSpPr/>
                <p:nvPr/>
              </p:nvSpPr>
              <p:spPr>
                <a:xfrm>
                  <a:off x="2719440" y="4150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8" name=""/>
                <p:cNvSpPr/>
                <p:nvPr/>
              </p:nvSpPr>
              <p:spPr>
                <a:xfrm>
                  <a:off x="2613960" y="4138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9" name=""/>
                <p:cNvSpPr/>
                <p:nvPr/>
              </p:nvSpPr>
              <p:spPr>
                <a:xfrm>
                  <a:off x="2647800" y="414216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0" name=""/>
                <p:cNvSpPr/>
                <p:nvPr/>
              </p:nvSpPr>
              <p:spPr>
                <a:xfrm>
                  <a:off x="2683800" y="4150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1" name=""/>
                <p:cNvSpPr/>
                <p:nvPr/>
              </p:nvSpPr>
              <p:spPr>
                <a:xfrm>
                  <a:off x="2858040" y="414216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2" name=""/>
                <p:cNvSpPr/>
                <p:nvPr/>
              </p:nvSpPr>
              <p:spPr>
                <a:xfrm>
                  <a:off x="2927880" y="41536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3" name=""/>
                <p:cNvSpPr/>
                <p:nvPr/>
              </p:nvSpPr>
              <p:spPr>
                <a:xfrm>
                  <a:off x="2963880" y="41536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4" name=""/>
                <p:cNvSpPr/>
                <p:nvPr/>
              </p:nvSpPr>
              <p:spPr>
                <a:xfrm>
                  <a:off x="2892240" y="414468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5" name=""/>
                <p:cNvSpPr/>
                <p:nvPr/>
              </p:nvSpPr>
              <p:spPr>
                <a:xfrm>
                  <a:off x="3175200" y="41518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6" name=""/>
                <p:cNvSpPr/>
                <p:nvPr/>
              </p:nvSpPr>
              <p:spPr>
                <a:xfrm>
                  <a:off x="3139200" y="41432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7" name=""/>
                <p:cNvSpPr/>
                <p:nvPr/>
              </p:nvSpPr>
              <p:spPr>
                <a:xfrm>
                  <a:off x="3104640" y="4140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8" name=""/>
                <p:cNvSpPr/>
                <p:nvPr/>
              </p:nvSpPr>
              <p:spPr>
                <a:xfrm>
                  <a:off x="3069000" y="4133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9" name=""/>
                <p:cNvSpPr/>
                <p:nvPr/>
              </p:nvSpPr>
              <p:spPr>
                <a:xfrm>
                  <a:off x="2822400" y="4134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0" name=""/>
                <p:cNvSpPr/>
                <p:nvPr/>
              </p:nvSpPr>
              <p:spPr>
                <a:xfrm>
                  <a:off x="2577960" y="41313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1" name=""/>
              <p:cNvSpPr/>
              <p:nvPr/>
            </p:nvSpPr>
            <p:spPr>
              <a:xfrm rot="19779000">
                <a:off x="3041640" y="4152600"/>
                <a:ext cx="7452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2" name=""/>
            <p:cNvSpPr/>
            <p:nvPr/>
          </p:nvSpPr>
          <p:spPr>
            <a:xfrm flipH="1">
              <a:off x="3133800" y="355284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 flipH="1">
              <a:off x="3133800" y="432432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157920" y="33735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157920" y="41450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4203720" y="21700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5133960" y="1933560"/>
              <a:ext cx="7452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8" name=""/>
            <p:cNvGrpSpPr/>
            <p:nvPr/>
          </p:nvGrpSpPr>
          <p:grpSpPr>
            <a:xfrm>
              <a:off x="4738680" y="1790280"/>
              <a:ext cx="738000" cy="73440"/>
              <a:chOff x="4738680" y="1790280"/>
              <a:chExt cx="738000" cy="73440"/>
            </a:xfrm>
          </p:grpSpPr>
          <p:sp>
            <p:nvSpPr>
              <p:cNvPr id="6099" name=""/>
              <p:cNvSpPr/>
              <p:nvPr/>
            </p:nvSpPr>
            <p:spPr>
              <a:xfrm>
                <a:off x="5372640" y="1827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5408280" y="18230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5442840" y="1814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 flipV="1">
                <a:off x="4985640" y="18111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 flipV="1">
                <a:off x="5055480" y="180180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 flipV="1">
                <a:off x="5021640" y="1804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4917600" y="1821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4951440" y="1813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 flipV="1">
                <a:off x="4808520" y="1798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 flipV="1">
                <a:off x="4844160" y="178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 flipV="1">
                <a:off x="4774320" y="1801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5161680" y="18248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5195160" y="18165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 flipV="1">
                <a:off x="5230080" y="1808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 flipV="1">
                <a:off x="5299920" y="1798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 flipV="1">
                <a:off x="5335560" y="17899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 flipV="1">
                <a:off x="5371200" y="178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 flipV="1">
                <a:off x="5265720" y="1801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 flipV="1">
                <a:off x="5407200" y="1794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 flipV="1">
                <a:off x="5441040" y="1802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 flipV="1">
                <a:off x="5162760" y="1797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 flipV="1">
                <a:off x="5196960" y="1805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 flipV="1">
                <a:off x="5127120" y="1792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 flipV="1">
                <a:off x="5091480" y="1792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 flipV="1">
                <a:off x="4880160" y="178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 flipV="1">
                <a:off x="4915800" y="1794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 flipV="1">
                <a:off x="4950000" y="1802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 flipV="1">
                <a:off x="4738680" y="1808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881600" y="1826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4776120" y="1814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809960" y="181800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4845960" y="1826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5020200" y="181800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5090040" y="1829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126040" y="1829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054400" y="182052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5337360" y="18277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301360" y="1819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5266800" y="1816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5231160" y="1809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984560" y="1810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740120" y="18072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1" name=""/>
            <p:cNvSpPr/>
            <p:nvPr/>
          </p:nvSpPr>
          <p:spPr>
            <a:xfrm>
              <a:off x="4203720" y="293220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5133960" y="2695680"/>
              <a:ext cx="7452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3" name=""/>
            <p:cNvGrpSpPr/>
            <p:nvPr/>
          </p:nvGrpSpPr>
          <p:grpSpPr>
            <a:xfrm>
              <a:off x="4738680" y="2552400"/>
              <a:ext cx="738000" cy="73440"/>
              <a:chOff x="4738680" y="2552400"/>
              <a:chExt cx="738000" cy="73440"/>
            </a:xfrm>
          </p:grpSpPr>
          <p:sp>
            <p:nvSpPr>
              <p:cNvPr id="6144" name=""/>
              <p:cNvSpPr/>
              <p:nvPr/>
            </p:nvSpPr>
            <p:spPr>
              <a:xfrm>
                <a:off x="5372640" y="2589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408280" y="25851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5442840" y="2576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 flipV="1">
                <a:off x="4985640" y="2573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 flipV="1">
                <a:off x="5055480" y="256392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 flipV="1">
                <a:off x="5021640" y="25664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917600" y="258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951440" y="2575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 flipV="1">
                <a:off x="4808520" y="256032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 flipV="1">
                <a:off x="4844160" y="255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 flipV="1">
                <a:off x="4774320" y="256392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5161680" y="258696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5195160" y="25786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 flipV="1">
                <a:off x="5230080" y="2570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 flipV="1">
                <a:off x="5299920" y="256032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 flipV="1">
                <a:off x="5335560" y="25520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 flipV="1">
                <a:off x="5371200" y="255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 flipV="1">
                <a:off x="5265720" y="256392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 flipV="1">
                <a:off x="5407200" y="2556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 flipV="1">
                <a:off x="5441040" y="2564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 flipV="1">
                <a:off x="5162760" y="2559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 flipV="1">
                <a:off x="5196960" y="2567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 flipV="1">
                <a:off x="5127120" y="2554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 flipV="1">
                <a:off x="5091480" y="2554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 flipV="1">
                <a:off x="4880160" y="255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flipV="1">
                <a:off x="4915800" y="2556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flipV="1">
                <a:off x="4950000" y="2564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flipV="1">
                <a:off x="4738680" y="2570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881600" y="2588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4776120" y="2576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809960" y="258012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845960" y="2588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5020200" y="258012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5090040" y="25916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5126040" y="25916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5054400" y="258264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5337360" y="2589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5301360" y="258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5266800" y="2578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5231160" y="257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984560" y="2572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740120" y="256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6" name=""/>
            <p:cNvSpPr/>
            <p:nvPr/>
          </p:nvSpPr>
          <p:spPr>
            <a:xfrm>
              <a:off x="4562640" y="246708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4876920" y="2171880"/>
              <a:ext cx="18072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8" name=""/>
            <p:cNvGrpSpPr/>
            <p:nvPr/>
          </p:nvGrpSpPr>
          <p:grpSpPr>
            <a:xfrm>
              <a:off x="5210280" y="2687760"/>
              <a:ext cx="738720" cy="307080"/>
              <a:chOff x="5210280" y="2687760"/>
              <a:chExt cx="738720" cy="307080"/>
            </a:xfrm>
          </p:grpSpPr>
          <p:sp>
            <p:nvSpPr>
              <p:cNvPr id="6189" name=""/>
              <p:cNvSpPr/>
              <p:nvPr/>
            </p:nvSpPr>
            <p:spPr>
              <a:xfrm>
                <a:off x="5214960" y="268776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 flipH="1">
                <a:off x="5210280" y="286704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1" name=""/>
            <p:cNvGrpSpPr/>
            <p:nvPr/>
          </p:nvGrpSpPr>
          <p:grpSpPr>
            <a:xfrm>
              <a:off x="5207040" y="1916280"/>
              <a:ext cx="738720" cy="307080"/>
              <a:chOff x="5207040" y="1916280"/>
              <a:chExt cx="738720" cy="307080"/>
            </a:xfrm>
          </p:grpSpPr>
          <p:sp>
            <p:nvSpPr>
              <p:cNvPr id="6192" name=""/>
              <p:cNvSpPr/>
              <p:nvPr/>
            </p:nvSpPr>
            <p:spPr>
              <a:xfrm>
                <a:off x="5211720" y="191628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 flipH="1">
                <a:off x="5207040" y="209556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4" name=""/>
            <p:cNvSpPr/>
            <p:nvPr/>
          </p:nvSpPr>
          <p:spPr>
            <a:xfrm>
              <a:off x="5908680" y="36082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5" name=""/>
            <p:cNvGrpSpPr/>
            <p:nvPr/>
          </p:nvGrpSpPr>
          <p:grpSpPr>
            <a:xfrm>
              <a:off x="6443640" y="3314520"/>
              <a:ext cx="738000" cy="73080"/>
              <a:chOff x="6443640" y="3314520"/>
              <a:chExt cx="738000" cy="73080"/>
            </a:xfrm>
          </p:grpSpPr>
          <p:sp>
            <p:nvSpPr>
              <p:cNvPr id="6196" name=""/>
              <p:cNvSpPr/>
              <p:nvPr/>
            </p:nvSpPr>
            <p:spPr>
              <a:xfrm>
                <a:off x="7077600" y="335160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7113240" y="33472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7147800" y="3339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V="1">
                <a:off x="6690600" y="333612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V="1">
                <a:off x="6760440" y="33256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V="1">
                <a:off x="6726600" y="33285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6622560" y="334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6656400" y="3337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 flipV="1">
                <a:off x="6513480" y="332316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V="1">
                <a:off x="6549120" y="3314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 flipV="1">
                <a:off x="6479280" y="33256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866640" y="334908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6900120" y="33404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V="1">
                <a:off x="6935040" y="3332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 flipV="1">
                <a:off x="7004880" y="332316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V="1">
                <a:off x="7040520" y="33141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 flipV="1">
                <a:off x="7076160" y="3314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 flipV="1">
                <a:off x="6970680" y="33256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 flipV="1">
                <a:off x="7112160" y="3318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 flipV="1">
                <a:off x="7146000" y="33267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V="1">
                <a:off x="6867720" y="3321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 flipV="1">
                <a:off x="6901920" y="3329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 flipV="1">
                <a:off x="6832080" y="3316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V="1">
                <a:off x="6796440" y="3316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 flipV="1">
                <a:off x="6585120" y="33141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 flipV="1">
                <a:off x="6620760" y="3318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V="1">
                <a:off x="6654960" y="33267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 flipV="1">
                <a:off x="6443640" y="3332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6586560" y="3350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6481080" y="3339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6514920" y="334224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6550920" y="3350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725160" y="3342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795000" y="3353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831000" y="33534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6759360" y="334440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7042320" y="33516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7006320" y="3343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6971760" y="3340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6936120" y="3333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6689520" y="3335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6445080" y="333144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8" name=""/>
            <p:cNvSpPr/>
            <p:nvPr/>
          </p:nvSpPr>
          <p:spPr>
            <a:xfrm>
              <a:off x="5908680" y="437040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9" name=""/>
            <p:cNvGrpSpPr/>
            <p:nvPr/>
          </p:nvGrpSpPr>
          <p:grpSpPr>
            <a:xfrm>
              <a:off x="6443640" y="4076280"/>
              <a:ext cx="738000" cy="73440"/>
              <a:chOff x="6443640" y="4076280"/>
              <a:chExt cx="738000" cy="73440"/>
            </a:xfrm>
          </p:grpSpPr>
          <p:sp>
            <p:nvSpPr>
              <p:cNvPr id="6240" name=""/>
              <p:cNvSpPr/>
              <p:nvPr/>
            </p:nvSpPr>
            <p:spPr>
              <a:xfrm>
                <a:off x="7077600" y="4113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7113240" y="41090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7147800" y="41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 flipV="1">
                <a:off x="6690600" y="409716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V="1">
                <a:off x="6760440" y="408780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 flipV="1">
                <a:off x="6726600" y="4090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6622560" y="4107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6656400" y="4099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V="1">
                <a:off x="6513480" y="4084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V="1">
                <a:off x="6549120" y="4075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V="1">
                <a:off x="6479280" y="4087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6866640" y="41108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6900120" y="410256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V="1">
                <a:off x="6935040" y="4094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V="1">
                <a:off x="7004880" y="408420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V="1">
                <a:off x="7040520" y="40759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V="1">
                <a:off x="7076160" y="4075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V="1">
                <a:off x="6970680" y="4087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V="1">
                <a:off x="7112160" y="4080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V="1">
                <a:off x="7146000" y="4088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V="1">
                <a:off x="6867720" y="4083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V="1">
                <a:off x="6901920" y="4091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V="1">
                <a:off x="6832080" y="4078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V="1">
                <a:off x="6796440" y="40784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V="1">
                <a:off x="6585120" y="4075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V="1">
                <a:off x="6620760" y="40802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V="1">
                <a:off x="6654960" y="40885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V="1">
                <a:off x="6443640" y="40942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6586560" y="41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6481080" y="41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6514920" y="410400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6550920" y="41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6725160" y="410400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6795000" y="4115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6831000" y="41155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6759360" y="410652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7042320" y="41137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7006320" y="4105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6971760" y="41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6936120" y="4095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6689520" y="4096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6445080" y="40932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2" name=""/>
            <p:cNvSpPr/>
            <p:nvPr/>
          </p:nvSpPr>
          <p:spPr>
            <a:xfrm>
              <a:off x="6267600" y="390528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6600960" y="359100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6838920" y="3371760"/>
              <a:ext cx="7452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6838920" y="4133880"/>
              <a:ext cx="7452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6" name=""/>
            <p:cNvGrpSpPr/>
            <p:nvPr/>
          </p:nvGrpSpPr>
          <p:grpSpPr>
            <a:xfrm>
              <a:off x="6905160" y="3344760"/>
              <a:ext cx="739800" cy="307080"/>
              <a:chOff x="6905160" y="3344760"/>
              <a:chExt cx="739800" cy="307080"/>
            </a:xfrm>
          </p:grpSpPr>
          <p:sp>
            <p:nvSpPr>
              <p:cNvPr id="6287" name=""/>
              <p:cNvSpPr/>
              <p:nvPr/>
            </p:nvSpPr>
            <p:spPr>
              <a:xfrm>
                <a:off x="6910920" y="334476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flipH="1">
                <a:off x="6905160" y="3524040"/>
                <a:ext cx="1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9" name=""/>
            <p:cNvGrpSpPr/>
            <p:nvPr/>
          </p:nvGrpSpPr>
          <p:grpSpPr>
            <a:xfrm>
              <a:off x="6905160" y="4097160"/>
              <a:ext cx="739800" cy="307080"/>
              <a:chOff x="6905160" y="4097160"/>
              <a:chExt cx="739800" cy="307080"/>
            </a:xfrm>
          </p:grpSpPr>
          <p:sp>
            <p:nvSpPr>
              <p:cNvPr id="6290" name=""/>
              <p:cNvSpPr/>
              <p:nvPr/>
            </p:nvSpPr>
            <p:spPr>
              <a:xfrm>
                <a:off x="6910920" y="409716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flipH="1">
                <a:off x="6905160" y="4276440"/>
                <a:ext cx="1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2" name=""/>
            <p:cNvSpPr/>
            <p:nvPr/>
          </p:nvSpPr>
          <p:spPr>
            <a:xfrm>
              <a:off x="4820400" y="2171880"/>
              <a:ext cx="20181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 flipH="1">
              <a:off x="2610000" y="2076480"/>
              <a:ext cx="386928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 flipV="1">
              <a:off x="3581640" y="3104640"/>
              <a:ext cx="327600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 rot="10800000">
              <a:off x="2553120" y="3448440"/>
              <a:ext cx="289512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3390840" y="3225960"/>
              <a:ext cx="93996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5016600" y="3975120"/>
              <a:ext cx="93960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3327480" y="3746520"/>
              <a:ext cx="133344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9" name=""/>
          <p:cNvSpPr/>
          <p:nvPr/>
        </p:nvSpPr>
        <p:spPr>
          <a:xfrm>
            <a:off x="284400" y="1293840"/>
            <a:ext cx="40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artiellement dé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cycle phosphory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425600" y="1679400"/>
            <a:ext cx="0" cy="60984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1" name=""/>
          <p:cNvGrpSpPr/>
          <p:nvPr/>
        </p:nvGrpSpPr>
        <p:grpSpPr>
          <a:xfrm>
            <a:off x="3413160" y="1383840"/>
            <a:ext cx="5488200" cy="4552920"/>
            <a:chOff x="3413160" y="1383840"/>
            <a:chExt cx="5488200" cy="4552920"/>
          </a:xfrm>
        </p:grpSpPr>
        <p:sp>
          <p:nvSpPr>
            <p:cNvPr id="6302" name=""/>
            <p:cNvSpPr/>
            <p:nvPr/>
          </p:nvSpPr>
          <p:spPr>
            <a:xfrm>
              <a:off x="5451120" y="49546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3" name=""/>
            <p:cNvGrpSpPr/>
            <p:nvPr/>
          </p:nvGrpSpPr>
          <p:grpSpPr>
            <a:xfrm>
              <a:off x="5871960" y="4704840"/>
              <a:ext cx="737640" cy="73440"/>
              <a:chOff x="5871960" y="4704840"/>
              <a:chExt cx="737640" cy="73440"/>
            </a:xfrm>
          </p:grpSpPr>
          <p:sp>
            <p:nvSpPr>
              <p:cNvPr id="6304" name=""/>
              <p:cNvSpPr/>
              <p:nvPr/>
            </p:nvSpPr>
            <p:spPr>
              <a:xfrm>
                <a:off x="6505560" y="4742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6541200" y="4737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657576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 flipV="1">
                <a:off x="6118920" y="4725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V="1">
                <a:off x="6188760" y="4716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 flipV="1">
                <a:off x="6154560" y="4718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6050520" y="4736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6084720" y="4728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V="1">
                <a:off x="594180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 flipV="1">
                <a:off x="597744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V="1">
                <a:off x="590760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6294960" y="4739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6328440" y="4731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 flipV="1">
                <a:off x="636300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V="1">
                <a:off x="643284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V="1">
                <a:off x="6468480" y="4704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V="1">
                <a:off x="65044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V="1">
                <a:off x="639864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V="1">
                <a:off x="654012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V="1">
                <a:off x="65743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V="1">
                <a:off x="6296040" y="4711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V="1">
                <a:off x="6329880" y="4719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V="1">
                <a:off x="626004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 flipV="1">
                <a:off x="622440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V="1">
                <a:off x="60130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V="1">
                <a:off x="604908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V="1">
                <a:off x="60829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 flipV="1">
                <a:off x="587196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601488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90940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5943240" y="4732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597924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6153480" y="4732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622332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625896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6187680" y="4735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6470280" y="4742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6434640" y="4733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6400080" y="473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6364080" y="4723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6117840" y="4725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5873400" y="4721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6" name=""/>
            <p:cNvSpPr/>
            <p:nvPr/>
          </p:nvSpPr>
          <p:spPr>
            <a:xfrm>
              <a:off x="5451120" y="57164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810040" y="52513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143400" y="493704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 rot="19779000">
              <a:off x="6336720" y="474300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0" name=""/>
            <p:cNvGrpSpPr/>
            <p:nvPr/>
          </p:nvGrpSpPr>
          <p:grpSpPr>
            <a:xfrm>
              <a:off x="5871960" y="5460480"/>
              <a:ext cx="737640" cy="288000"/>
              <a:chOff x="5871960" y="5460480"/>
              <a:chExt cx="737640" cy="288000"/>
            </a:xfrm>
          </p:grpSpPr>
          <p:grpSp>
            <p:nvGrpSpPr>
              <p:cNvPr id="6351" name=""/>
              <p:cNvGrpSpPr/>
              <p:nvPr/>
            </p:nvGrpSpPr>
            <p:grpSpPr>
              <a:xfrm>
                <a:off x="5871960" y="5460480"/>
                <a:ext cx="737640" cy="73440"/>
                <a:chOff x="5871960" y="5460480"/>
                <a:chExt cx="737640" cy="73440"/>
              </a:xfrm>
            </p:grpSpPr>
            <p:sp>
              <p:nvSpPr>
                <p:cNvPr id="6352" name=""/>
                <p:cNvSpPr/>
                <p:nvPr/>
              </p:nvSpPr>
              <p:spPr>
                <a:xfrm>
                  <a:off x="6505560" y="54979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3" name=""/>
                <p:cNvSpPr/>
                <p:nvPr/>
              </p:nvSpPr>
              <p:spPr>
                <a:xfrm>
                  <a:off x="6541200" y="54932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>
                  <a:off x="657576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 flipV="1">
                  <a:off x="6118920" y="5481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6" name=""/>
                <p:cNvSpPr/>
                <p:nvPr/>
              </p:nvSpPr>
              <p:spPr>
                <a:xfrm flipV="1">
                  <a:off x="6188760" y="547200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 flipV="1">
                  <a:off x="6154560" y="54745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6050520" y="54921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6084720" y="54838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0" name=""/>
                <p:cNvSpPr/>
                <p:nvPr/>
              </p:nvSpPr>
              <p:spPr>
                <a:xfrm flipV="1">
                  <a:off x="594180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1" name=""/>
                <p:cNvSpPr/>
                <p:nvPr/>
              </p:nvSpPr>
              <p:spPr>
                <a:xfrm flipV="1">
                  <a:off x="597744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 flipV="1">
                  <a:off x="590760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6294960" y="549504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6328440" y="54867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 flipV="1">
                  <a:off x="636300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6" name=""/>
                <p:cNvSpPr/>
                <p:nvPr/>
              </p:nvSpPr>
              <p:spPr>
                <a:xfrm flipV="1">
                  <a:off x="643284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 flipV="1">
                  <a:off x="6468480" y="54601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 flipV="1">
                  <a:off x="65044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 flipV="1">
                  <a:off x="639864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 flipV="1">
                  <a:off x="654012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1" name=""/>
                <p:cNvSpPr/>
                <p:nvPr/>
              </p:nvSpPr>
              <p:spPr>
                <a:xfrm flipV="1">
                  <a:off x="65743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 flipV="1">
                  <a:off x="6296040" y="5467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 flipV="1">
                  <a:off x="6329880" y="5475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 flipV="1">
                  <a:off x="626004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 flipV="1">
                  <a:off x="622440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 flipV="1">
                  <a:off x="60130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 flipV="1">
                  <a:off x="604908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8" name=""/>
                <p:cNvSpPr/>
                <p:nvPr/>
              </p:nvSpPr>
              <p:spPr>
                <a:xfrm flipV="1">
                  <a:off x="60829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9" name=""/>
                <p:cNvSpPr/>
                <p:nvPr/>
              </p:nvSpPr>
              <p:spPr>
                <a:xfrm flipV="1">
                  <a:off x="587196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601488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590940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5943240" y="548820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3" name=""/>
                <p:cNvSpPr/>
                <p:nvPr/>
              </p:nvSpPr>
              <p:spPr>
                <a:xfrm>
                  <a:off x="597924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4" name=""/>
                <p:cNvSpPr/>
                <p:nvPr/>
              </p:nvSpPr>
              <p:spPr>
                <a:xfrm>
                  <a:off x="6153480" y="548820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>
                  <a:off x="622332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625896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7" name=""/>
                <p:cNvSpPr/>
                <p:nvPr/>
              </p:nvSpPr>
              <p:spPr>
                <a:xfrm>
                  <a:off x="6187680" y="549072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8" name=""/>
                <p:cNvSpPr/>
                <p:nvPr/>
              </p:nvSpPr>
              <p:spPr>
                <a:xfrm>
                  <a:off x="6470280" y="5497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6434640" y="5489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0" name=""/>
                <p:cNvSpPr/>
                <p:nvPr/>
              </p:nvSpPr>
              <p:spPr>
                <a:xfrm>
                  <a:off x="6400080" y="54867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1" name=""/>
                <p:cNvSpPr/>
                <p:nvPr/>
              </p:nvSpPr>
              <p:spPr>
                <a:xfrm>
                  <a:off x="6364080" y="5479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2" name=""/>
                <p:cNvSpPr/>
                <p:nvPr/>
              </p:nvSpPr>
              <p:spPr>
                <a:xfrm>
                  <a:off x="6117840" y="5481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3" name=""/>
                <p:cNvSpPr/>
                <p:nvPr/>
              </p:nvSpPr>
              <p:spPr>
                <a:xfrm>
                  <a:off x="5873400" y="5477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4" name=""/>
              <p:cNvSpPr/>
              <p:nvPr/>
            </p:nvSpPr>
            <p:spPr>
              <a:xfrm rot="19779000">
                <a:off x="6336720" y="549864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5" name=""/>
            <p:cNvSpPr/>
            <p:nvPr/>
          </p:nvSpPr>
          <p:spPr>
            <a:xfrm>
              <a:off x="3413160" y="32018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6" name=""/>
            <p:cNvGrpSpPr/>
            <p:nvPr/>
          </p:nvGrpSpPr>
          <p:grpSpPr>
            <a:xfrm>
              <a:off x="3833640" y="2952360"/>
              <a:ext cx="737640" cy="73440"/>
              <a:chOff x="3833640" y="2952360"/>
              <a:chExt cx="737640" cy="73440"/>
            </a:xfrm>
          </p:grpSpPr>
          <p:sp>
            <p:nvSpPr>
              <p:cNvPr id="6397" name=""/>
              <p:cNvSpPr/>
              <p:nvPr/>
            </p:nvSpPr>
            <p:spPr>
              <a:xfrm>
                <a:off x="4467240" y="2989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4502880" y="29851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453744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V="1">
                <a:off x="4080600" y="2973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V="1">
                <a:off x="4150440" y="29638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 flipV="1">
                <a:off x="4116240" y="296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4012200" y="2984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4046400" y="2975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 flipV="1">
                <a:off x="390348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V="1">
                <a:off x="393912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V="1">
                <a:off x="386928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4256640" y="29869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4290120" y="2978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V="1">
                <a:off x="432468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V="1">
                <a:off x="439452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 flipV="1">
                <a:off x="4430160" y="2952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 flipV="1">
                <a:off x="44661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 flipV="1">
                <a:off x="436032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 flipV="1">
                <a:off x="450180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flipV="1">
                <a:off x="45360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flipV="1">
                <a:off x="4257720" y="2959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flipV="1">
                <a:off x="4291560" y="2967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V="1">
                <a:off x="422172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flipV="1">
                <a:off x="418608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flipV="1">
                <a:off x="39747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flipV="1">
                <a:off x="401076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flipV="1">
                <a:off x="40446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 flipV="1">
                <a:off x="383364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397656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387108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3904920" y="29800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394092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4115160" y="29800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418500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422064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4149360" y="29826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4431960" y="29898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4396320" y="2981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361760" y="2978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4325760" y="2971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4079520" y="2972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3835080" y="2969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9" name=""/>
            <p:cNvSpPr/>
            <p:nvPr/>
          </p:nvSpPr>
          <p:spPr>
            <a:xfrm>
              <a:off x="3413160" y="396396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771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4105080" y="318456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 rot="19779000">
              <a:off x="4298400" y="29905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3" name=""/>
            <p:cNvGrpSpPr/>
            <p:nvPr/>
          </p:nvGrpSpPr>
          <p:grpSpPr>
            <a:xfrm>
              <a:off x="3833640" y="3708000"/>
              <a:ext cx="737640" cy="288000"/>
              <a:chOff x="3833640" y="3708000"/>
              <a:chExt cx="737640" cy="288000"/>
            </a:xfrm>
          </p:grpSpPr>
          <p:grpSp>
            <p:nvGrpSpPr>
              <p:cNvPr id="6444" name=""/>
              <p:cNvGrpSpPr/>
              <p:nvPr/>
            </p:nvGrpSpPr>
            <p:grpSpPr>
              <a:xfrm>
                <a:off x="3833640" y="3708000"/>
                <a:ext cx="737640" cy="73440"/>
                <a:chOff x="3833640" y="3708000"/>
                <a:chExt cx="737640" cy="73440"/>
              </a:xfrm>
            </p:grpSpPr>
            <p:sp>
              <p:nvSpPr>
                <p:cNvPr id="6445" name=""/>
                <p:cNvSpPr/>
                <p:nvPr/>
              </p:nvSpPr>
              <p:spPr>
                <a:xfrm>
                  <a:off x="4467240" y="37454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6" name=""/>
                <p:cNvSpPr/>
                <p:nvPr/>
              </p:nvSpPr>
              <p:spPr>
                <a:xfrm>
                  <a:off x="4502880" y="37407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7" name=""/>
                <p:cNvSpPr/>
                <p:nvPr/>
              </p:nvSpPr>
              <p:spPr>
                <a:xfrm>
                  <a:off x="453744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8" name=""/>
                <p:cNvSpPr/>
                <p:nvPr/>
              </p:nvSpPr>
              <p:spPr>
                <a:xfrm flipV="1">
                  <a:off x="4080600" y="3728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9" name=""/>
                <p:cNvSpPr/>
                <p:nvPr/>
              </p:nvSpPr>
              <p:spPr>
                <a:xfrm flipV="1">
                  <a:off x="4150440" y="371952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0" name=""/>
                <p:cNvSpPr/>
                <p:nvPr/>
              </p:nvSpPr>
              <p:spPr>
                <a:xfrm flipV="1">
                  <a:off x="4116240" y="372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1" name=""/>
                <p:cNvSpPr/>
                <p:nvPr/>
              </p:nvSpPr>
              <p:spPr>
                <a:xfrm>
                  <a:off x="4012200" y="37396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2" name=""/>
                <p:cNvSpPr/>
                <p:nvPr/>
              </p:nvSpPr>
              <p:spPr>
                <a:xfrm>
                  <a:off x="4046400" y="37314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 flipV="1">
                  <a:off x="390348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 flipV="1">
                  <a:off x="393912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5" name=""/>
                <p:cNvSpPr/>
                <p:nvPr/>
              </p:nvSpPr>
              <p:spPr>
                <a:xfrm flipV="1">
                  <a:off x="386928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6" name=""/>
                <p:cNvSpPr/>
                <p:nvPr/>
              </p:nvSpPr>
              <p:spPr>
                <a:xfrm>
                  <a:off x="4256640" y="374256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7" name=""/>
                <p:cNvSpPr/>
                <p:nvPr/>
              </p:nvSpPr>
              <p:spPr>
                <a:xfrm>
                  <a:off x="4290120" y="37342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8" name=""/>
                <p:cNvSpPr/>
                <p:nvPr/>
              </p:nvSpPr>
              <p:spPr>
                <a:xfrm flipV="1">
                  <a:off x="432468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9" name=""/>
                <p:cNvSpPr/>
                <p:nvPr/>
              </p:nvSpPr>
              <p:spPr>
                <a:xfrm flipV="1">
                  <a:off x="439452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0" name=""/>
                <p:cNvSpPr/>
                <p:nvPr/>
              </p:nvSpPr>
              <p:spPr>
                <a:xfrm flipV="1">
                  <a:off x="4430160" y="37076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1" name=""/>
                <p:cNvSpPr/>
                <p:nvPr/>
              </p:nvSpPr>
              <p:spPr>
                <a:xfrm flipV="1">
                  <a:off x="44661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2" name=""/>
                <p:cNvSpPr/>
                <p:nvPr/>
              </p:nvSpPr>
              <p:spPr>
                <a:xfrm flipV="1">
                  <a:off x="436032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3" name=""/>
                <p:cNvSpPr/>
                <p:nvPr/>
              </p:nvSpPr>
              <p:spPr>
                <a:xfrm flipV="1">
                  <a:off x="450180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4" name=""/>
                <p:cNvSpPr/>
                <p:nvPr/>
              </p:nvSpPr>
              <p:spPr>
                <a:xfrm flipV="1">
                  <a:off x="45360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5" name=""/>
                <p:cNvSpPr/>
                <p:nvPr/>
              </p:nvSpPr>
              <p:spPr>
                <a:xfrm flipV="1">
                  <a:off x="4257720" y="3714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 flipV="1">
                  <a:off x="4291560" y="3723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7" name=""/>
                <p:cNvSpPr/>
                <p:nvPr/>
              </p:nvSpPr>
              <p:spPr>
                <a:xfrm flipV="1">
                  <a:off x="422172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8" name=""/>
                <p:cNvSpPr/>
                <p:nvPr/>
              </p:nvSpPr>
              <p:spPr>
                <a:xfrm flipV="1">
                  <a:off x="418608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9" name=""/>
                <p:cNvSpPr/>
                <p:nvPr/>
              </p:nvSpPr>
              <p:spPr>
                <a:xfrm flipV="1">
                  <a:off x="39747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0" name=""/>
                <p:cNvSpPr/>
                <p:nvPr/>
              </p:nvSpPr>
              <p:spPr>
                <a:xfrm flipV="1">
                  <a:off x="401076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1" name=""/>
                <p:cNvSpPr/>
                <p:nvPr/>
              </p:nvSpPr>
              <p:spPr>
                <a:xfrm flipV="1">
                  <a:off x="40446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2" name=""/>
                <p:cNvSpPr/>
                <p:nvPr/>
              </p:nvSpPr>
              <p:spPr>
                <a:xfrm flipV="1">
                  <a:off x="383364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3" name=""/>
                <p:cNvSpPr/>
                <p:nvPr/>
              </p:nvSpPr>
              <p:spPr>
                <a:xfrm>
                  <a:off x="397656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387108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3904920" y="373572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394092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4115160" y="373572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418500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422064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4149360" y="373824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4431960" y="37454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4396320" y="3736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4361760" y="37342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4325760" y="3726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5" name=""/>
                <p:cNvSpPr/>
                <p:nvPr/>
              </p:nvSpPr>
              <p:spPr>
                <a:xfrm>
                  <a:off x="4079520" y="37285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3835080" y="3724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7" name=""/>
              <p:cNvSpPr/>
              <p:nvPr/>
            </p:nvSpPr>
            <p:spPr>
              <a:xfrm rot="19779000">
                <a:off x="4298400" y="374616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8" name=""/>
            <p:cNvSpPr/>
            <p:nvPr/>
          </p:nvSpPr>
          <p:spPr>
            <a:xfrm flipH="1">
              <a:off x="4390560" y="314640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 flipH="1">
              <a:off x="4390560" y="391788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4415040" y="2967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4415040" y="3738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5460840" y="17636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6391080" y="15271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4" name=""/>
            <p:cNvGrpSpPr/>
            <p:nvPr/>
          </p:nvGrpSpPr>
          <p:grpSpPr>
            <a:xfrm>
              <a:off x="5995800" y="1383840"/>
              <a:ext cx="737640" cy="73440"/>
              <a:chOff x="5995800" y="1383840"/>
              <a:chExt cx="737640" cy="73440"/>
            </a:xfrm>
          </p:grpSpPr>
          <p:sp>
            <p:nvSpPr>
              <p:cNvPr id="6495" name=""/>
              <p:cNvSpPr/>
              <p:nvPr/>
            </p:nvSpPr>
            <p:spPr>
              <a:xfrm>
                <a:off x="6629400" y="1421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6665040" y="1416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669960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 flipV="1">
                <a:off x="6242760" y="1404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V="1">
                <a:off x="6312600" y="1395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 flipV="1">
                <a:off x="6278400" y="1397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6174360" y="1415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6208560" y="1407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 flipV="1">
                <a:off x="606564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 flipV="1">
                <a:off x="610128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 flipV="1">
                <a:off x="603144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6418800" y="1418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6452280" y="1410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 flipV="1">
                <a:off x="648684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 flipV="1">
                <a:off x="655668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flipV="1">
                <a:off x="6592320" y="1383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 flipV="1">
                <a:off x="66283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 flipV="1">
                <a:off x="652248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 flipV="1">
                <a:off x="666396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 flipV="1">
                <a:off x="66981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 flipV="1">
                <a:off x="6419880" y="1390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 flipV="1">
                <a:off x="6453720" y="1398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 flipV="1">
                <a:off x="638388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 flipV="1">
                <a:off x="634824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 flipV="1">
                <a:off x="61369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flipV="1">
                <a:off x="617292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 flipV="1">
                <a:off x="62067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 flipV="1">
                <a:off x="599580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613872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603324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6067080" y="1411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610308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6277320" y="1411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634716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638280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6311520" y="1414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6594120" y="1421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6558480" y="14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6523920" y="1410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487920" y="14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241680" y="1404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997240" y="14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7" name=""/>
            <p:cNvSpPr/>
            <p:nvPr/>
          </p:nvSpPr>
          <p:spPr>
            <a:xfrm>
              <a:off x="5460840" y="25257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6391080" y="22892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9" name=""/>
            <p:cNvGrpSpPr/>
            <p:nvPr/>
          </p:nvGrpSpPr>
          <p:grpSpPr>
            <a:xfrm>
              <a:off x="5995800" y="2145960"/>
              <a:ext cx="737640" cy="73440"/>
              <a:chOff x="5995800" y="2145960"/>
              <a:chExt cx="737640" cy="73440"/>
            </a:xfrm>
          </p:grpSpPr>
          <p:sp>
            <p:nvSpPr>
              <p:cNvPr id="6540" name=""/>
              <p:cNvSpPr/>
              <p:nvPr/>
            </p:nvSpPr>
            <p:spPr>
              <a:xfrm>
                <a:off x="6629400" y="21834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665040" y="217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669960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 flipV="1">
                <a:off x="6242760" y="2166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 flipV="1">
                <a:off x="6312600" y="21574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 flipV="1">
                <a:off x="6278400" y="21600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6174360" y="217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6208560" y="2169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 flipV="1">
                <a:off x="606564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 flipV="1">
                <a:off x="610128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 flipV="1">
                <a:off x="603144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6418800" y="21805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6452280" y="21722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V="1">
                <a:off x="648684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 flipV="1">
                <a:off x="655668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 flipV="1">
                <a:off x="6592320" y="2145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 flipV="1">
                <a:off x="66283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 flipV="1">
                <a:off x="652248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 flipV="1">
                <a:off x="666396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 flipV="1">
                <a:off x="66981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 flipV="1">
                <a:off x="6419880" y="2152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 flipV="1">
                <a:off x="6453720" y="2161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 flipV="1">
                <a:off x="638388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 flipV="1">
                <a:off x="634824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 flipV="1">
                <a:off x="61369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 flipV="1">
                <a:off x="617292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 flipV="1">
                <a:off x="62067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 flipV="1">
                <a:off x="599580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13872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603324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067080" y="21736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10308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6277320" y="21736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34716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38280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311520" y="21762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594120" y="2183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558480" y="2174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523920" y="2172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487920" y="2164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241680" y="2166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5997240" y="2162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2" name=""/>
            <p:cNvSpPr/>
            <p:nvPr/>
          </p:nvSpPr>
          <p:spPr>
            <a:xfrm>
              <a:off x="5819760" y="20606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6134040" y="1765440"/>
              <a:ext cx="18036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4" name=""/>
            <p:cNvGrpSpPr/>
            <p:nvPr/>
          </p:nvGrpSpPr>
          <p:grpSpPr>
            <a:xfrm>
              <a:off x="6467400" y="2281320"/>
              <a:ext cx="738720" cy="307080"/>
              <a:chOff x="6467400" y="2281320"/>
              <a:chExt cx="738720" cy="307080"/>
            </a:xfrm>
          </p:grpSpPr>
          <p:sp>
            <p:nvSpPr>
              <p:cNvPr id="6585" name=""/>
              <p:cNvSpPr/>
              <p:nvPr/>
            </p:nvSpPr>
            <p:spPr>
              <a:xfrm>
                <a:off x="6472080" y="2281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 flipH="1">
                <a:off x="6467400" y="2460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7" name=""/>
            <p:cNvGrpSpPr/>
            <p:nvPr/>
          </p:nvGrpSpPr>
          <p:grpSpPr>
            <a:xfrm>
              <a:off x="6464160" y="1509840"/>
              <a:ext cx="738720" cy="307080"/>
              <a:chOff x="6464160" y="1509840"/>
              <a:chExt cx="738720" cy="307080"/>
            </a:xfrm>
          </p:grpSpPr>
          <p:sp>
            <p:nvSpPr>
              <p:cNvPr id="6588" name=""/>
              <p:cNvSpPr/>
              <p:nvPr/>
            </p:nvSpPr>
            <p:spPr>
              <a:xfrm>
                <a:off x="6468840" y="150984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 flipH="1">
                <a:off x="6464160" y="168912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0" name=""/>
            <p:cNvSpPr/>
            <p:nvPr/>
          </p:nvSpPr>
          <p:spPr>
            <a:xfrm>
              <a:off x="7165800" y="32018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1" name=""/>
            <p:cNvGrpSpPr/>
            <p:nvPr/>
          </p:nvGrpSpPr>
          <p:grpSpPr>
            <a:xfrm>
              <a:off x="7700760" y="2908080"/>
              <a:ext cx="737640" cy="73080"/>
              <a:chOff x="7700760" y="2908080"/>
              <a:chExt cx="737640" cy="73080"/>
            </a:xfrm>
          </p:grpSpPr>
          <p:sp>
            <p:nvSpPr>
              <p:cNvPr id="6592" name=""/>
              <p:cNvSpPr/>
              <p:nvPr/>
            </p:nvSpPr>
            <p:spPr>
              <a:xfrm>
                <a:off x="8334360" y="294516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8370000" y="294084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840456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V="1">
                <a:off x="7947720" y="29296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V="1">
                <a:off x="8017560" y="29192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V="1">
                <a:off x="7983360" y="2922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7879320" y="2939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7913520" y="2931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V="1">
                <a:off x="777060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V="1">
                <a:off x="780624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V="1">
                <a:off x="773640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8123760" y="29426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8157240" y="2934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V="1">
                <a:off x="819180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 flipV="1">
                <a:off x="826164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V="1">
                <a:off x="8297280" y="2907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V="1">
                <a:off x="83332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V="1">
                <a:off x="822744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 flipV="1">
                <a:off x="836892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 flipV="1">
                <a:off x="84031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 flipV="1">
                <a:off x="8124840" y="2914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 flipV="1">
                <a:off x="8158680" y="2923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 flipV="1">
                <a:off x="808884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 flipV="1">
                <a:off x="805320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 flipV="1">
                <a:off x="78418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V="1">
                <a:off x="787788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V="1">
                <a:off x="79117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 flipV="1">
                <a:off x="770076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784368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773820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7772040" y="293580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780804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7982280" y="2935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805212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808776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8016480" y="293796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8299080" y="29451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8263440" y="2936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8228880" y="2934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8192880" y="29268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7946640" y="2928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7702200" y="2925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4" name=""/>
            <p:cNvSpPr/>
            <p:nvPr/>
          </p:nvSpPr>
          <p:spPr>
            <a:xfrm>
              <a:off x="7165800" y="39639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5" name=""/>
            <p:cNvGrpSpPr/>
            <p:nvPr/>
          </p:nvGrpSpPr>
          <p:grpSpPr>
            <a:xfrm>
              <a:off x="7700760" y="3669840"/>
              <a:ext cx="737640" cy="73440"/>
              <a:chOff x="7700760" y="3669840"/>
              <a:chExt cx="737640" cy="73440"/>
            </a:xfrm>
          </p:grpSpPr>
          <p:sp>
            <p:nvSpPr>
              <p:cNvPr id="6636" name=""/>
              <p:cNvSpPr/>
              <p:nvPr/>
            </p:nvSpPr>
            <p:spPr>
              <a:xfrm>
                <a:off x="8334360" y="3707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8370000" y="3702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840456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 flipV="1">
                <a:off x="7947720" y="3690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 flipV="1">
                <a:off x="8017560" y="3681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 flipV="1">
                <a:off x="7983360" y="3683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7879320" y="3701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7913520" y="369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 flipV="1">
                <a:off x="777060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 flipV="1">
                <a:off x="780624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 flipV="1">
                <a:off x="773640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8123760" y="3704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8157240" y="3696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 flipV="1">
                <a:off x="819180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 flipV="1">
                <a:off x="826164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 flipV="1">
                <a:off x="8297280" y="3669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flipV="1">
                <a:off x="83332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 flipV="1">
                <a:off x="822744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 flipV="1">
                <a:off x="836892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 flipV="1">
                <a:off x="84031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V="1">
                <a:off x="8124840" y="3676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 flipV="1">
                <a:off x="8158680" y="3684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 flipV="1">
                <a:off x="808884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 flipV="1">
                <a:off x="805320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 flipV="1">
                <a:off x="78418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 flipV="1">
                <a:off x="787788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 flipV="1">
                <a:off x="79117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 flipV="1">
                <a:off x="770076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784368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773820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772040" y="3697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780804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7982280" y="3697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805212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808776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8016480" y="3700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8299080" y="3707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8263440" y="3698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8228880" y="3696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8192880" y="3688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7946640" y="369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7702200" y="3686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8" name=""/>
            <p:cNvSpPr/>
            <p:nvPr/>
          </p:nvSpPr>
          <p:spPr>
            <a:xfrm>
              <a:off x="7524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7858080" y="3184560"/>
              <a:ext cx="18036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096040" y="29653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8096040" y="37274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2" name=""/>
            <p:cNvGrpSpPr/>
            <p:nvPr/>
          </p:nvGrpSpPr>
          <p:grpSpPr>
            <a:xfrm>
              <a:off x="8162640" y="2938320"/>
              <a:ext cx="738720" cy="307080"/>
              <a:chOff x="8162640" y="2938320"/>
              <a:chExt cx="738720" cy="307080"/>
            </a:xfrm>
          </p:grpSpPr>
          <p:sp>
            <p:nvSpPr>
              <p:cNvPr id="6683" name=""/>
              <p:cNvSpPr/>
              <p:nvPr/>
            </p:nvSpPr>
            <p:spPr>
              <a:xfrm>
                <a:off x="8167320" y="2938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 flipH="1">
                <a:off x="8162640" y="3117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5" name=""/>
            <p:cNvGrpSpPr/>
            <p:nvPr/>
          </p:nvGrpSpPr>
          <p:grpSpPr>
            <a:xfrm>
              <a:off x="8162640" y="3690720"/>
              <a:ext cx="738720" cy="307080"/>
              <a:chOff x="8162640" y="3690720"/>
              <a:chExt cx="738720" cy="307080"/>
            </a:xfrm>
          </p:grpSpPr>
          <p:sp>
            <p:nvSpPr>
              <p:cNvPr id="6686" name=""/>
              <p:cNvSpPr/>
              <p:nvPr/>
            </p:nvSpPr>
            <p:spPr>
              <a:xfrm>
                <a:off x="8167320" y="36907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 flipH="1">
                <a:off x="8162640" y="38700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8" name=""/>
            <p:cNvSpPr/>
            <p:nvPr/>
          </p:nvSpPr>
          <p:spPr>
            <a:xfrm>
              <a:off x="6077880" y="1765440"/>
              <a:ext cx="201744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 flipH="1">
              <a:off x="3867120" y="1670040"/>
              <a:ext cx="386856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 flipV="1">
              <a:off x="4839120" y="2697840"/>
              <a:ext cx="327528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 rot="10800000">
              <a:off x="3809880" y="3042000"/>
              <a:ext cx="289440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4647960" y="2819520"/>
              <a:ext cx="93960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6273720" y="3568680"/>
              <a:ext cx="93924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4584600" y="3340080"/>
              <a:ext cx="133308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326880" y="758880"/>
            <a:ext cx="25992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sommation d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3251160" y="1079640"/>
            <a:ext cx="5715000" cy="506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12760" y="1330200"/>
            <a:ext cx="81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ité ATPasique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hosphorylation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à chaque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237960" y="2968560"/>
            <a:ext cx="67262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onsommation  d'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g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3" name=""/>
          <p:cNvGrpSpPr/>
          <p:nvPr/>
        </p:nvGrpSpPr>
        <p:grpSpPr>
          <a:xfrm>
            <a:off x="3413160" y="1383840"/>
            <a:ext cx="5488200" cy="4552920"/>
            <a:chOff x="3413160" y="1383840"/>
            <a:chExt cx="5488200" cy="4552920"/>
          </a:xfrm>
        </p:grpSpPr>
        <p:sp>
          <p:nvSpPr>
            <p:cNvPr id="6704" name=""/>
            <p:cNvSpPr/>
            <p:nvPr/>
          </p:nvSpPr>
          <p:spPr>
            <a:xfrm>
              <a:off x="5451120" y="49546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5" name=""/>
            <p:cNvGrpSpPr/>
            <p:nvPr/>
          </p:nvGrpSpPr>
          <p:grpSpPr>
            <a:xfrm>
              <a:off x="5871960" y="4704840"/>
              <a:ext cx="737640" cy="73440"/>
              <a:chOff x="5871960" y="4704840"/>
              <a:chExt cx="737640" cy="73440"/>
            </a:xfrm>
          </p:grpSpPr>
          <p:sp>
            <p:nvSpPr>
              <p:cNvPr id="6706" name=""/>
              <p:cNvSpPr/>
              <p:nvPr/>
            </p:nvSpPr>
            <p:spPr>
              <a:xfrm>
                <a:off x="6505560" y="4742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6541200" y="4737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657576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V="1">
                <a:off x="6118920" y="4725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V="1">
                <a:off x="6188760" y="4716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 flipV="1">
                <a:off x="6154560" y="4718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6050520" y="4736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6084720" y="4728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 flipV="1">
                <a:off x="594180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 flipV="1">
                <a:off x="597744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flipV="1">
                <a:off x="590760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294960" y="4739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6328440" y="4731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flipV="1">
                <a:off x="636300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 flipV="1">
                <a:off x="643284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 flipV="1">
                <a:off x="6468480" y="4704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V="1">
                <a:off x="65044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 flipV="1">
                <a:off x="639864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 flipV="1">
                <a:off x="654012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V="1">
                <a:off x="65743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 flipV="1">
                <a:off x="6296040" y="4711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V="1">
                <a:off x="6329880" y="4719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V="1">
                <a:off x="626004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 flipV="1">
                <a:off x="622440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 flipV="1">
                <a:off x="60130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V="1">
                <a:off x="604908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 flipV="1">
                <a:off x="60829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 flipV="1">
                <a:off x="587196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601488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590940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5943240" y="4732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597924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6153480" y="4732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622332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625896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6187680" y="4735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6470280" y="4742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6434640" y="4733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6400080" y="473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6364080" y="4723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6117840" y="4725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5873400" y="4721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8" name=""/>
            <p:cNvSpPr/>
            <p:nvPr/>
          </p:nvSpPr>
          <p:spPr>
            <a:xfrm>
              <a:off x="5451120" y="57164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5810040" y="52513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6143400" y="493704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 rot="19779000">
              <a:off x="6336720" y="474300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2" name=""/>
            <p:cNvGrpSpPr/>
            <p:nvPr/>
          </p:nvGrpSpPr>
          <p:grpSpPr>
            <a:xfrm>
              <a:off x="5871960" y="5460480"/>
              <a:ext cx="737640" cy="288000"/>
              <a:chOff x="5871960" y="5460480"/>
              <a:chExt cx="737640" cy="288000"/>
            </a:xfrm>
          </p:grpSpPr>
          <p:grpSp>
            <p:nvGrpSpPr>
              <p:cNvPr id="6753" name=""/>
              <p:cNvGrpSpPr/>
              <p:nvPr/>
            </p:nvGrpSpPr>
            <p:grpSpPr>
              <a:xfrm>
                <a:off x="5871960" y="5460480"/>
                <a:ext cx="737640" cy="73440"/>
                <a:chOff x="5871960" y="5460480"/>
                <a:chExt cx="737640" cy="73440"/>
              </a:xfrm>
            </p:grpSpPr>
            <p:sp>
              <p:nvSpPr>
                <p:cNvPr id="6754" name=""/>
                <p:cNvSpPr/>
                <p:nvPr/>
              </p:nvSpPr>
              <p:spPr>
                <a:xfrm>
                  <a:off x="6505560" y="54979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6541200" y="54932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657576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 flipV="1">
                  <a:off x="6118920" y="5481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 flipV="1">
                  <a:off x="6188760" y="547200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 flipV="1">
                  <a:off x="6154560" y="54745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6050520" y="54921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6084720" y="54838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 flipV="1">
                  <a:off x="594180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 flipV="1">
                  <a:off x="597744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 flipV="1">
                  <a:off x="590760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6294960" y="549504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6328440" y="54867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 flipV="1">
                  <a:off x="636300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 flipV="1">
                  <a:off x="643284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 flipV="1">
                  <a:off x="6468480" y="54601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 flipV="1">
                  <a:off x="65044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 flipV="1">
                  <a:off x="639864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 flipV="1">
                  <a:off x="654012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 flipV="1">
                  <a:off x="65743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 flipV="1">
                  <a:off x="6296040" y="5467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 flipV="1">
                  <a:off x="6329880" y="5475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 flipV="1">
                  <a:off x="626004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 flipV="1">
                  <a:off x="622440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 flipV="1">
                  <a:off x="60130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 flipV="1">
                  <a:off x="604908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 flipV="1">
                  <a:off x="60829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 flipV="1">
                  <a:off x="587196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601488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590940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5943240" y="548820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597924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6153480" y="548820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622332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625896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6187680" y="549072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6470280" y="5497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6434640" y="5489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6400080" y="54867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6364080" y="5479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6117840" y="5481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5873400" y="5477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6" name=""/>
              <p:cNvSpPr/>
              <p:nvPr/>
            </p:nvSpPr>
            <p:spPr>
              <a:xfrm rot="19779000">
                <a:off x="6336720" y="549864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7" name=""/>
            <p:cNvSpPr/>
            <p:nvPr/>
          </p:nvSpPr>
          <p:spPr>
            <a:xfrm>
              <a:off x="3413160" y="32018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8" name=""/>
            <p:cNvGrpSpPr/>
            <p:nvPr/>
          </p:nvGrpSpPr>
          <p:grpSpPr>
            <a:xfrm>
              <a:off x="3833640" y="2952360"/>
              <a:ext cx="737640" cy="73440"/>
              <a:chOff x="3833640" y="2952360"/>
              <a:chExt cx="737640" cy="73440"/>
            </a:xfrm>
          </p:grpSpPr>
          <p:sp>
            <p:nvSpPr>
              <p:cNvPr id="6799" name=""/>
              <p:cNvSpPr/>
              <p:nvPr/>
            </p:nvSpPr>
            <p:spPr>
              <a:xfrm>
                <a:off x="4467240" y="2989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502880" y="29851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53744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 flipV="1">
                <a:off x="4080600" y="2973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 flipV="1">
                <a:off x="4150440" y="29638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flipV="1">
                <a:off x="4116240" y="296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4012200" y="2984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4046400" y="2975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flipV="1">
                <a:off x="390348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flipV="1">
                <a:off x="393912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flipV="1">
                <a:off x="386928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4256640" y="29869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4290120" y="2978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V="1">
                <a:off x="432468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 flipV="1">
                <a:off x="439452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 flipV="1">
                <a:off x="4430160" y="2952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 flipV="1">
                <a:off x="44661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 flipV="1">
                <a:off x="436032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V="1">
                <a:off x="450180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 flipV="1">
                <a:off x="45360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flipV="1">
                <a:off x="4257720" y="2959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V="1">
                <a:off x="4291560" y="2967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V="1">
                <a:off x="422172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V="1">
                <a:off x="418608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V="1">
                <a:off x="39747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V="1">
                <a:off x="401076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V="1">
                <a:off x="40446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flipV="1">
                <a:off x="383364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97656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87108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3904920" y="29800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394092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115160" y="29800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18500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22064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4149360" y="29826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4431960" y="29898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4396320" y="2981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4361760" y="2978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4325760" y="2971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4079520" y="2972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3835080" y="2969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1" name=""/>
            <p:cNvSpPr/>
            <p:nvPr/>
          </p:nvSpPr>
          <p:spPr>
            <a:xfrm>
              <a:off x="3413160" y="396396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771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4105080" y="318456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 rot="19779000">
              <a:off x="4298400" y="29905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5" name=""/>
            <p:cNvGrpSpPr/>
            <p:nvPr/>
          </p:nvGrpSpPr>
          <p:grpSpPr>
            <a:xfrm>
              <a:off x="3833640" y="3708000"/>
              <a:ext cx="737640" cy="288000"/>
              <a:chOff x="3833640" y="3708000"/>
              <a:chExt cx="737640" cy="288000"/>
            </a:xfrm>
          </p:grpSpPr>
          <p:grpSp>
            <p:nvGrpSpPr>
              <p:cNvPr id="6846" name=""/>
              <p:cNvGrpSpPr/>
              <p:nvPr/>
            </p:nvGrpSpPr>
            <p:grpSpPr>
              <a:xfrm>
                <a:off x="3833640" y="3708000"/>
                <a:ext cx="737640" cy="73440"/>
                <a:chOff x="3833640" y="3708000"/>
                <a:chExt cx="737640" cy="73440"/>
              </a:xfrm>
            </p:grpSpPr>
            <p:sp>
              <p:nvSpPr>
                <p:cNvPr id="6847" name=""/>
                <p:cNvSpPr/>
                <p:nvPr/>
              </p:nvSpPr>
              <p:spPr>
                <a:xfrm>
                  <a:off x="4467240" y="37454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4502880" y="37407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453744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 flipV="1">
                  <a:off x="4080600" y="3728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 flipV="1">
                  <a:off x="4150440" y="371952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 flipV="1">
                  <a:off x="4116240" y="372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4012200" y="37396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4046400" y="37314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 flipV="1">
                  <a:off x="390348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 flipV="1">
                  <a:off x="393912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 flipV="1">
                  <a:off x="386928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4256640" y="374256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4290120" y="37342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 flipV="1">
                  <a:off x="432468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 flipV="1">
                  <a:off x="439452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 flipV="1">
                  <a:off x="4430160" y="37076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 flipV="1">
                  <a:off x="44661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 flipV="1">
                  <a:off x="436032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 flipV="1">
                  <a:off x="450180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 flipV="1">
                  <a:off x="45360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 flipV="1">
                  <a:off x="4257720" y="3714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 flipV="1">
                  <a:off x="4291560" y="3723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 flipV="1">
                  <a:off x="422172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 flipV="1">
                  <a:off x="418608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 flipV="1">
                  <a:off x="39747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 flipV="1">
                  <a:off x="401076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 flipV="1">
                  <a:off x="40446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 flipV="1">
                  <a:off x="383364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97656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87108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904920" y="373572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94092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4115160" y="373572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418500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422064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4149360" y="373824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4431960" y="37454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4396320" y="3736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4361760" y="37342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4325760" y="3726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4079520" y="37285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835080" y="3724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9" name=""/>
              <p:cNvSpPr/>
              <p:nvPr/>
            </p:nvSpPr>
            <p:spPr>
              <a:xfrm rot="19779000">
                <a:off x="4298400" y="374616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0" name=""/>
            <p:cNvSpPr/>
            <p:nvPr/>
          </p:nvSpPr>
          <p:spPr>
            <a:xfrm flipH="1">
              <a:off x="4390560" y="314640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 flipH="1">
              <a:off x="4390560" y="391788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4415040" y="2967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4415040" y="3738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5460840" y="17636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6391080" y="15271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6" name=""/>
            <p:cNvGrpSpPr/>
            <p:nvPr/>
          </p:nvGrpSpPr>
          <p:grpSpPr>
            <a:xfrm>
              <a:off x="5995800" y="1383840"/>
              <a:ext cx="737640" cy="73440"/>
              <a:chOff x="5995800" y="1383840"/>
              <a:chExt cx="737640" cy="73440"/>
            </a:xfrm>
          </p:grpSpPr>
          <p:sp>
            <p:nvSpPr>
              <p:cNvPr id="6897" name=""/>
              <p:cNvSpPr/>
              <p:nvPr/>
            </p:nvSpPr>
            <p:spPr>
              <a:xfrm>
                <a:off x="6629400" y="1421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6665040" y="1416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669960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V="1">
                <a:off x="6242760" y="1404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V="1">
                <a:off x="6312600" y="1395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V="1">
                <a:off x="6278400" y="1397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6174360" y="1415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6208560" y="1407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 flipV="1">
                <a:off x="606564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 flipV="1">
                <a:off x="610128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 flipV="1">
                <a:off x="603144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6418800" y="1418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6452280" y="1410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 flipV="1">
                <a:off x="648684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 flipV="1">
                <a:off x="655668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 flipV="1">
                <a:off x="6592320" y="1383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 flipV="1">
                <a:off x="66283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V="1">
                <a:off x="652248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 flipV="1">
                <a:off x="666396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 flipV="1">
                <a:off x="66981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V="1">
                <a:off x="6419880" y="1390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 flipV="1">
                <a:off x="6453720" y="1398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 flipV="1">
                <a:off x="638388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V="1">
                <a:off x="634824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 flipV="1">
                <a:off x="61369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V="1">
                <a:off x="617292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V="1">
                <a:off x="62067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 flipV="1">
                <a:off x="599580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613872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603324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6067080" y="1411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610308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6277320" y="1411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634716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638280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6311520" y="1414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6594120" y="1421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6558480" y="14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6523920" y="1410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6487920" y="14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6241680" y="1404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5997240" y="14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9" name=""/>
            <p:cNvSpPr/>
            <p:nvPr/>
          </p:nvSpPr>
          <p:spPr>
            <a:xfrm>
              <a:off x="5460840" y="25257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6391080" y="22892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1" name=""/>
            <p:cNvGrpSpPr/>
            <p:nvPr/>
          </p:nvGrpSpPr>
          <p:grpSpPr>
            <a:xfrm>
              <a:off x="5995800" y="2145960"/>
              <a:ext cx="737640" cy="73440"/>
              <a:chOff x="5995800" y="2145960"/>
              <a:chExt cx="737640" cy="73440"/>
            </a:xfrm>
          </p:grpSpPr>
          <p:sp>
            <p:nvSpPr>
              <p:cNvPr id="6942" name=""/>
              <p:cNvSpPr/>
              <p:nvPr/>
            </p:nvSpPr>
            <p:spPr>
              <a:xfrm>
                <a:off x="6629400" y="21834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6665040" y="217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669960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 flipV="1">
                <a:off x="6242760" y="2166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V="1">
                <a:off x="6312600" y="21574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 flipV="1">
                <a:off x="6278400" y="21600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6174360" y="217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6208560" y="2169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V="1">
                <a:off x="606564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V="1">
                <a:off x="610128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V="1">
                <a:off x="603144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6418800" y="21805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6452280" y="21722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V="1">
                <a:off x="648684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V="1">
                <a:off x="655668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 flipV="1">
                <a:off x="6592320" y="2145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V="1">
                <a:off x="66283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V="1">
                <a:off x="652248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V="1">
                <a:off x="666396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V="1">
                <a:off x="66981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V="1">
                <a:off x="6419880" y="2152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 flipV="1">
                <a:off x="6453720" y="2161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V="1">
                <a:off x="638388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V="1">
                <a:off x="634824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V="1">
                <a:off x="61369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V="1">
                <a:off x="617292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V="1">
                <a:off x="62067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 flipV="1">
                <a:off x="599580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613872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03324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067080" y="21736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10308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277320" y="21736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34716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38280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6311520" y="21762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6594120" y="2183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6558480" y="2174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6523920" y="2172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6487920" y="2164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6241680" y="2166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997240" y="2162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4" name=""/>
            <p:cNvSpPr/>
            <p:nvPr/>
          </p:nvSpPr>
          <p:spPr>
            <a:xfrm>
              <a:off x="5819760" y="20606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6134040" y="1765440"/>
              <a:ext cx="18036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6" name=""/>
            <p:cNvGrpSpPr/>
            <p:nvPr/>
          </p:nvGrpSpPr>
          <p:grpSpPr>
            <a:xfrm>
              <a:off x="6467400" y="2281320"/>
              <a:ext cx="738720" cy="307080"/>
              <a:chOff x="6467400" y="2281320"/>
              <a:chExt cx="738720" cy="307080"/>
            </a:xfrm>
          </p:grpSpPr>
          <p:sp>
            <p:nvSpPr>
              <p:cNvPr id="6987" name=""/>
              <p:cNvSpPr/>
              <p:nvPr/>
            </p:nvSpPr>
            <p:spPr>
              <a:xfrm>
                <a:off x="6472080" y="2281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 flipH="1">
                <a:off x="6467400" y="2460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9" name=""/>
            <p:cNvGrpSpPr/>
            <p:nvPr/>
          </p:nvGrpSpPr>
          <p:grpSpPr>
            <a:xfrm>
              <a:off x="6464160" y="1509840"/>
              <a:ext cx="738720" cy="307080"/>
              <a:chOff x="6464160" y="1509840"/>
              <a:chExt cx="738720" cy="307080"/>
            </a:xfrm>
          </p:grpSpPr>
          <p:sp>
            <p:nvSpPr>
              <p:cNvPr id="6990" name=""/>
              <p:cNvSpPr/>
              <p:nvPr/>
            </p:nvSpPr>
            <p:spPr>
              <a:xfrm>
                <a:off x="6468840" y="150984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 flipH="1">
                <a:off x="6464160" y="168912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2" name=""/>
            <p:cNvSpPr/>
            <p:nvPr/>
          </p:nvSpPr>
          <p:spPr>
            <a:xfrm>
              <a:off x="7165800" y="32018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3" name=""/>
            <p:cNvGrpSpPr/>
            <p:nvPr/>
          </p:nvGrpSpPr>
          <p:grpSpPr>
            <a:xfrm>
              <a:off x="7700760" y="2908080"/>
              <a:ext cx="737640" cy="73080"/>
              <a:chOff x="7700760" y="2908080"/>
              <a:chExt cx="737640" cy="73080"/>
            </a:xfrm>
          </p:grpSpPr>
          <p:sp>
            <p:nvSpPr>
              <p:cNvPr id="6994" name=""/>
              <p:cNvSpPr/>
              <p:nvPr/>
            </p:nvSpPr>
            <p:spPr>
              <a:xfrm>
                <a:off x="8334360" y="294516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8370000" y="294084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840456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V="1">
                <a:off x="7947720" y="29296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 flipV="1">
                <a:off x="8017560" y="29192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 flipV="1">
                <a:off x="7983360" y="2922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7879320" y="2939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7913520" y="2931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 flipV="1">
                <a:off x="777060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V="1">
                <a:off x="780624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V="1">
                <a:off x="773640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8123760" y="29426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8157240" y="2934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 flipV="1">
                <a:off x="819180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V="1">
                <a:off x="826164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 flipV="1">
                <a:off x="8297280" y="2907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V="1">
                <a:off x="83332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V="1">
                <a:off x="822744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V="1">
                <a:off x="836892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V="1">
                <a:off x="84031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V="1">
                <a:off x="8124840" y="2914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V="1">
                <a:off x="8158680" y="2923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 flipV="1">
                <a:off x="808884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 flipV="1">
                <a:off x="805320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V="1">
                <a:off x="78418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V="1">
                <a:off x="787788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V="1">
                <a:off x="79117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 flipV="1">
                <a:off x="770076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784368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773820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7772040" y="293580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780804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7982280" y="2935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805212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808776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8016480" y="293796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8299080" y="29451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8263440" y="2936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8228880" y="2934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8192880" y="29268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7946640" y="2928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7702200" y="2925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6" name=""/>
            <p:cNvSpPr/>
            <p:nvPr/>
          </p:nvSpPr>
          <p:spPr>
            <a:xfrm>
              <a:off x="7165800" y="39639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7" name=""/>
            <p:cNvGrpSpPr/>
            <p:nvPr/>
          </p:nvGrpSpPr>
          <p:grpSpPr>
            <a:xfrm>
              <a:off x="7700760" y="3669840"/>
              <a:ext cx="737640" cy="73440"/>
              <a:chOff x="7700760" y="3669840"/>
              <a:chExt cx="737640" cy="73440"/>
            </a:xfrm>
          </p:grpSpPr>
          <p:sp>
            <p:nvSpPr>
              <p:cNvPr id="7038" name=""/>
              <p:cNvSpPr/>
              <p:nvPr/>
            </p:nvSpPr>
            <p:spPr>
              <a:xfrm>
                <a:off x="8334360" y="3707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8370000" y="3702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840456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V="1">
                <a:off x="7947720" y="3690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V="1">
                <a:off x="8017560" y="3681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V="1">
                <a:off x="7983360" y="3683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7879320" y="3701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7913520" y="369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 flipV="1">
                <a:off x="777060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 flipV="1">
                <a:off x="780624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V="1">
                <a:off x="773640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8123760" y="3704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8157240" y="3696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V="1">
                <a:off x="819180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 flipV="1">
                <a:off x="826164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V="1">
                <a:off x="8297280" y="3669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V="1">
                <a:off x="83332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V="1">
                <a:off x="822744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V="1">
                <a:off x="836892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V="1">
                <a:off x="84031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V="1">
                <a:off x="8124840" y="3676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V="1">
                <a:off x="8158680" y="3684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V="1">
                <a:off x="808884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V="1">
                <a:off x="805320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V="1">
                <a:off x="78418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flipV="1">
                <a:off x="787788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V="1">
                <a:off x="79117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 flipV="1">
                <a:off x="770076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784368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73820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7772040" y="3697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780804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7982280" y="3697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805212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808776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8016480" y="3700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8299080" y="3707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8263440" y="3698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8228880" y="3696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8192880" y="3688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7946640" y="369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7702200" y="3686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0" name=""/>
            <p:cNvSpPr/>
            <p:nvPr/>
          </p:nvSpPr>
          <p:spPr>
            <a:xfrm>
              <a:off x="7524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7858080" y="3184560"/>
              <a:ext cx="18036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8096040" y="29653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8096040" y="37274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4" name=""/>
            <p:cNvGrpSpPr/>
            <p:nvPr/>
          </p:nvGrpSpPr>
          <p:grpSpPr>
            <a:xfrm>
              <a:off x="8162640" y="2938320"/>
              <a:ext cx="738720" cy="307080"/>
              <a:chOff x="8162640" y="2938320"/>
              <a:chExt cx="738720" cy="307080"/>
            </a:xfrm>
          </p:grpSpPr>
          <p:sp>
            <p:nvSpPr>
              <p:cNvPr id="7085" name=""/>
              <p:cNvSpPr/>
              <p:nvPr/>
            </p:nvSpPr>
            <p:spPr>
              <a:xfrm>
                <a:off x="8167320" y="2938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 flipH="1">
                <a:off x="8162640" y="3117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7" name=""/>
            <p:cNvGrpSpPr/>
            <p:nvPr/>
          </p:nvGrpSpPr>
          <p:grpSpPr>
            <a:xfrm>
              <a:off x="8162640" y="3690720"/>
              <a:ext cx="738720" cy="307080"/>
              <a:chOff x="8162640" y="3690720"/>
              <a:chExt cx="738720" cy="307080"/>
            </a:xfrm>
          </p:grpSpPr>
          <p:sp>
            <p:nvSpPr>
              <p:cNvPr id="7088" name=""/>
              <p:cNvSpPr/>
              <p:nvPr/>
            </p:nvSpPr>
            <p:spPr>
              <a:xfrm>
                <a:off x="8167320" y="36907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 flipH="1">
                <a:off x="8162640" y="38700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0" name=""/>
            <p:cNvSpPr/>
            <p:nvPr/>
          </p:nvSpPr>
          <p:spPr>
            <a:xfrm>
              <a:off x="6077880" y="1765440"/>
              <a:ext cx="201744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3867120" y="1670040"/>
              <a:ext cx="386856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 flipV="1">
              <a:off x="4839120" y="2697840"/>
              <a:ext cx="327528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 rot="10800000">
              <a:off x="3809880" y="3042000"/>
              <a:ext cx="289440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4647960" y="2819520"/>
              <a:ext cx="93960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6273720" y="3568680"/>
              <a:ext cx="93924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4584600" y="3340080"/>
              <a:ext cx="133308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326880" y="758880"/>
            <a:ext cx="25992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sommation d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3251160" y="1079640"/>
            <a:ext cx="5715000" cy="506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212760" y="1330200"/>
            <a:ext cx="81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ité ATPasique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hosphorylation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à chaque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237960" y="2968560"/>
            <a:ext cx="67262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onsommation  d'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g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vitesse muscle lisse &lt; vitesse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5" name=""/>
          <p:cNvGrpSpPr/>
          <p:nvPr/>
        </p:nvGrpSpPr>
        <p:grpSpPr>
          <a:xfrm>
            <a:off x="3413160" y="1383840"/>
            <a:ext cx="5488200" cy="4552920"/>
            <a:chOff x="3413160" y="1383840"/>
            <a:chExt cx="5488200" cy="4552920"/>
          </a:xfrm>
        </p:grpSpPr>
        <p:sp>
          <p:nvSpPr>
            <p:cNvPr id="7106" name=""/>
            <p:cNvSpPr/>
            <p:nvPr/>
          </p:nvSpPr>
          <p:spPr>
            <a:xfrm>
              <a:off x="5451120" y="49546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7" name=""/>
            <p:cNvGrpSpPr/>
            <p:nvPr/>
          </p:nvGrpSpPr>
          <p:grpSpPr>
            <a:xfrm>
              <a:off x="5871960" y="4704840"/>
              <a:ext cx="737640" cy="73440"/>
              <a:chOff x="5871960" y="4704840"/>
              <a:chExt cx="737640" cy="73440"/>
            </a:xfrm>
          </p:grpSpPr>
          <p:sp>
            <p:nvSpPr>
              <p:cNvPr id="7108" name=""/>
              <p:cNvSpPr/>
              <p:nvPr/>
            </p:nvSpPr>
            <p:spPr>
              <a:xfrm>
                <a:off x="6505560" y="4742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6541200" y="4737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657576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flipV="1">
                <a:off x="6118920" y="4725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V="1">
                <a:off x="6188760" y="4716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 flipV="1">
                <a:off x="6154560" y="4718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6050520" y="4736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6084720" y="4728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 flipV="1">
                <a:off x="594180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V="1">
                <a:off x="597744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 flipV="1">
                <a:off x="590760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6294960" y="4739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6328440" y="4731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V="1">
                <a:off x="636300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 flipV="1">
                <a:off x="643284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 flipV="1">
                <a:off x="6468480" y="4704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V="1">
                <a:off x="65044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V="1">
                <a:off x="639864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V="1">
                <a:off x="654012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V="1">
                <a:off x="65743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V="1">
                <a:off x="6296040" y="4711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V="1">
                <a:off x="6329880" y="4719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V="1">
                <a:off x="626004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V="1">
                <a:off x="622440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V="1">
                <a:off x="60130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 flipV="1">
                <a:off x="604908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 flipV="1">
                <a:off x="60829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 flipV="1">
                <a:off x="587196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601488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90940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943240" y="4732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597924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6153480" y="4732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22332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25896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187680" y="4735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6470280" y="4742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6434640" y="4733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6400080" y="473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6364080" y="4723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6117840" y="4725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5873400" y="4721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0" name=""/>
            <p:cNvSpPr/>
            <p:nvPr/>
          </p:nvSpPr>
          <p:spPr>
            <a:xfrm>
              <a:off x="5451120" y="57164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5810040" y="52513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6143400" y="493704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 rot="19779000">
              <a:off x="6336720" y="474300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4" name=""/>
            <p:cNvGrpSpPr/>
            <p:nvPr/>
          </p:nvGrpSpPr>
          <p:grpSpPr>
            <a:xfrm>
              <a:off x="5871960" y="5460480"/>
              <a:ext cx="737640" cy="288000"/>
              <a:chOff x="5871960" y="5460480"/>
              <a:chExt cx="737640" cy="288000"/>
            </a:xfrm>
          </p:grpSpPr>
          <p:grpSp>
            <p:nvGrpSpPr>
              <p:cNvPr id="7155" name=""/>
              <p:cNvGrpSpPr/>
              <p:nvPr/>
            </p:nvGrpSpPr>
            <p:grpSpPr>
              <a:xfrm>
                <a:off x="5871960" y="5460480"/>
                <a:ext cx="737640" cy="73440"/>
                <a:chOff x="5871960" y="5460480"/>
                <a:chExt cx="737640" cy="73440"/>
              </a:xfrm>
            </p:grpSpPr>
            <p:sp>
              <p:nvSpPr>
                <p:cNvPr id="7156" name=""/>
                <p:cNvSpPr/>
                <p:nvPr/>
              </p:nvSpPr>
              <p:spPr>
                <a:xfrm>
                  <a:off x="6505560" y="54979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7" name=""/>
                <p:cNvSpPr/>
                <p:nvPr/>
              </p:nvSpPr>
              <p:spPr>
                <a:xfrm>
                  <a:off x="6541200" y="54932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8" name=""/>
                <p:cNvSpPr/>
                <p:nvPr/>
              </p:nvSpPr>
              <p:spPr>
                <a:xfrm>
                  <a:off x="657576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9" name=""/>
                <p:cNvSpPr/>
                <p:nvPr/>
              </p:nvSpPr>
              <p:spPr>
                <a:xfrm flipV="1">
                  <a:off x="6118920" y="5481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0" name=""/>
                <p:cNvSpPr/>
                <p:nvPr/>
              </p:nvSpPr>
              <p:spPr>
                <a:xfrm flipV="1">
                  <a:off x="6188760" y="547200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1" name=""/>
                <p:cNvSpPr/>
                <p:nvPr/>
              </p:nvSpPr>
              <p:spPr>
                <a:xfrm flipV="1">
                  <a:off x="6154560" y="54745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2" name=""/>
                <p:cNvSpPr/>
                <p:nvPr/>
              </p:nvSpPr>
              <p:spPr>
                <a:xfrm>
                  <a:off x="6050520" y="54921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3" name=""/>
                <p:cNvSpPr/>
                <p:nvPr/>
              </p:nvSpPr>
              <p:spPr>
                <a:xfrm>
                  <a:off x="6084720" y="54838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4" name=""/>
                <p:cNvSpPr/>
                <p:nvPr/>
              </p:nvSpPr>
              <p:spPr>
                <a:xfrm flipV="1">
                  <a:off x="594180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5" name=""/>
                <p:cNvSpPr/>
                <p:nvPr/>
              </p:nvSpPr>
              <p:spPr>
                <a:xfrm flipV="1">
                  <a:off x="597744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6" name=""/>
                <p:cNvSpPr/>
                <p:nvPr/>
              </p:nvSpPr>
              <p:spPr>
                <a:xfrm flipV="1">
                  <a:off x="590760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7" name=""/>
                <p:cNvSpPr/>
                <p:nvPr/>
              </p:nvSpPr>
              <p:spPr>
                <a:xfrm>
                  <a:off x="6294960" y="549504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8" name=""/>
                <p:cNvSpPr/>
                <p:nvPr/>
              </p:nvSpPr>
              <p:spPr>
                <a:xfrm>
                  <a:off x="6328440" y="54867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9" name=""/>
                <p:cNvSpPr/>
                <p:nvPr/>
              </p:nvSpPr>
              <p:spPr>
                <a:xfrm flipV="1">
                  <a:off x="636300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0" name=""/>
                <p:cNvSpPr/>
                <p:nvPr/>
              </p:nvSpPr>
              <p:spPr>
                <a:xfrm flipV="1">
                  <a:off x="643284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1" name=""/>
                <p:cNvSpPr/>
                <p:nvPr/>
              </p:nvSpPr>
              <p:spPr>
                <a:xfrm flipV="1">
                  <a:off x="6468480" y="54601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2" name=""/>
                <p:cNvSpPr/>
                <p:nvPr/>
              </p:nvSpPr>
              <p:spPr>
                <a:xfrm flipV="1">
                  <a:off x="65044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3" name=""/>
                <p:cNvSpPr/>
                <p:nvPr/>
              </p:nvSpPr>
              <p:spPr>
                <a:xfrm flipV="1">
                  <a:off x="639864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4" name=""/>
                <p:cNvSpPr/>
                <p:nvPr/>
              </p:nvSpPr>
              <p:spPr>
                <a:xfrm flipV="1">
                  <a:off x="654012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5" name=""/>
                <p:cNvSpPr/>
                <p:nvPr/>
              </p:nvSpPr>
              <p:spPr>
                <a:xfrm flipV="1">
                  <a:off x="65743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6" name=""/>
                <p:cNvSpPr/>
                <p:nvPr/>
              </p:nvSpPr>
              <p:spPr>
                <a:xfrm flipV="1">
                  <a:off x="6296040" y="5467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7" name=""/>
                <p:cNvSpPr/>
                <p:nvPr/>
              </p:nvSpPr>
              <p:spPr>
                <a:xfrm flipV="1">
                  <a:off x="6329880" y="5475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8" name=""/>
                <p:cNvSpPr/>
                <p:nvPr/>
              </p:nvSpPr>
              <p:spPr>
                <a:xfrm flipV="1">
                  <a:off x="626004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9" name=""/>
                <p:cNvSpPr/>
                <p:nvPr/>
              </p:nvSpPr>
              <p:spPr>
                <a:xfrm flipV="1">
                  <a:off x="622440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0" name=""/>
                <p:cNvSpPr/>
                <p:nvPr/>
              </p:nvSpPr>
              <p:spPr>
                <a:xfrm flipV="1">
                  <a:off x="60130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1" name=""/>
                <p:cNvSpPr/>
                <p:nvPr/>
              </p:nvSpPr>
              <p:spPr>
                <a:xfrm flipV="1">
                  <a:off x="604908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2" name=""/>
                <p:cNvSpPr/>
                <p:nvPr/>
              </p:nvSpPr>
              <p:spPr>
                <a:xfrm flipV="1">
                  <a:off x="60829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3" name=""/>
                <p:cNvSpPr/>
                <p:nvPr/>
              </p:nvSpPr>
              <p:spPr>
                <a:xfrm flipV="1">
                  <a:off x="587196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4" name=""/>
                <p:cNvSpPr/>
                <p:nvPr/>
              </p:nvSpPr>
              <p:spPr>
                <a:xfrm>
                  <a:off x="601488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5" name=""/>
                <p:cNvSpPr/>
                <p:nvPr/>
              </p:nvSpPr>
              <p:spPr>
                <a:xfrm>
                  <a:off x="590940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6" name=""/>
                <p:cNvSpPr/>
                <p:nvPr/>
              </p:nvSpPr>
              <p:spPr>
                <a:xfrm>
                  <a:off x="5943240" y="548820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7" name=""/>
                <p:cNvSpPr/>
                <p:nvPr/>
              </p:nvSpPr>
              <p:spPr>
                <a:xfrm>
                  <a:off x="597924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8" name=""/>
                <p:cNvSpPr/>
                <p:nvPr/>
              </p:nvSpPr>
              <p:spPr>
                <a:xfrm>
                  <a:off x="6153480" y="548820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9" name=""/>
                <p:cNvSpPr/>
                <p:nvPr/>
              </p:nvSpPr>
              <p:spPr>
                <a:xfrm>
                  <a:off x="622332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0" name=""/>
                <p:cNvSpPr/>
                <p:nvPr/>
              </p:nvSpPr>
              <p:spPr>
                <a:xfrm>
                  <a:off x="625896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1" name=""/>
                <p:cNvSpPr/>
                <p:nvPr/>
              </p:nvSpPr>
              <p:spPr>
                <a:xfrm>
                  <a:off x="6187680" y="549072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2" name=""/>
                <p:cNvSpPr/>
                <p:nvPr/>
              </p:nvSpPr>
              <p:spPr>
                <a:xfrm>
                  <a:off x="6470280" y="5497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3" name=""/>
                <p:cNvSpPr/>
                <p:nvPr/>
              </p:nvSpPr>
              <p:spPr>
                <a:xfrm>
                  <a:off x="6434640" y="5489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4" name=""/>
                <p:cNvSpPr/>
                <p:nvPr/>
              </p:nvSpPr>
              <p:spPr>
                <a:xfrm>
                  <a:off x="6400080" y="54867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5" name=""/>
                <p:cNvSpPr/>
                <p:nvPr/>
              </p:nvSpPr>
              <p:spPr>
                <a:xfrm>
                  <a:off x="6364080" y="5479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6" name=""/>
                <p:cNvSpPr/>
                <p:nvPr/>
              </p:nvSpPr>
              <p:spPr>
                <a:xfrm>
                  <a:off x="6117840" y="5481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7" name=""/>
                <p:cNvSpPr/>
                <p:nvPr/>
              </p:nvSpPr>
              <p:spPr>
                <a:xfrm>
                  <a:off x="5873400" y="5477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8" name=""/>
              <p:cNvSpPr/>
              <p:nvPr/>
            </p:nvSpPr>
            <p:spPr>
              <a:xfrm rot="19779000">
                <a:off x="6336720" y="549864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9" name=""/>
            <p:cNvSpPr/>
            <p:nvPr/>
          </p:nvSpPr>
          <p:spPr>
            <a:xfrm>
              <a:off x="3413160" y="32018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0" name=""/>
            <p:cNvGrpSpPr/>
            <p:nvPr/>
          </p:nvGrpSpPr>
          <p:grpSpPr>
            <a:xfrm>
              <a:off x="3833640" y="2952360"/>
              <a:ext cx="737640" cy="73440"/>
              <a:chOff x="3833640" y="2952360"/>
              <a:chExt cx="737640" cy="73440"/>
            </a:xfrm>
          </p:grpSpPr>
          <p:sp>
            <p:nvSpPr>
              <p:cNvPr id="7201" name=""/>
              <p:cNvSpPr/>
              <p:nvPr/>
            </p:nvSpPr>
            <p:spPr>
              <a:xfrm>
                <a:off x="4467240" y="2989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4502880" y="29851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453744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 flipV="1">
                <a:off x="4080600" y="2973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 flipV="1">
                <a:off x="4150440" y="29638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 flipV="1">
                <a:off x="4116240" y="296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4012200" y="2984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4046400" y="2975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V="1">
                <a:off x="390348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flipV="1">
                <a:off x="393912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 flipV="1">
                <a:off x="386928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4256640" y="29869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4290120" y="2978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V="1">
                <a:off x="432468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 flipV="1">
                <a:off x="439452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flipV="1">
                <a:off x="4430160" y="2952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 flipV="1">
                <a:off x="44661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V="1">
                <a:off x="436032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 flipV="1">
                <a:off x="450180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V="1">
                <a:off x="45360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V="1">
                <a:off x="4257720" y="2959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V="1">
                <a:off x="4291560" y="2967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V="1">
                <a:off x="422172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V="1">
                <a:off x="418608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V="1">
                <a:off x="39747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V="1">
                <a:off x="401076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V="1">
                <a:off x="40446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 flipV="1">
                <a:off x="383364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397656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387108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904920" y="29800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394092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4115160" y="29800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418500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422064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4149360" y="29826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4431960" y="29898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4396320" y="2981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4361760" y="2978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4325760" y="2971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079520" y="2972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3835080" y="2969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3" name=""/>
            <p:cNvSpPr/>
            <p:nvPr/>
          </p:nvSpPr>
          <p:spPr>
            <a:xfrm>
              <a:off x="3413160" y="396396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3771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4105080" y="318456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 rot="19779000">
              <a:off x="4298400" y="29905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7" name=""/>
            <p:cNvGrpSpPr/>
            <p:nvPr/>
          </p:nvGrpSpPr>
          <p:grpSpPr>
            <a:xfrm>
              <a:off x="3833640" y="3708000"/>
              <a:ext cx="737640" cy="288000"/>
              <a:chOff x="3833640" y="3708000"/>
              <a:chExt cx="737640" cy="288000"/>
            </a:xfrm>
          </p:grpSpPr>
          <p:grpSp>
            <p:nvGrpSpPr>
              <p:cNvPr id="7248" name=""/>
              <p:cNvGrpSpPr/>
              <p:nvPr/>
            </p:nvGrpSpPr>
            <p:grpSpPr>
              <a:xfrm>
                <a:off x="3833640" y="3708000"/>
                <a:ext cx="737640" cy="73440"/>
                <a:chOff x="3833640" y="3708000"/>
                <a:chExt cx="737640" cy="73440"/>
              </a:xfrm>
            </p:grpSpPr>
            <p:sp>
              <p:nvSpPr>
                <p:cNvPr id="7249" name=""/>
                <p:cNvSpPr/>
                <p:nvPr/>
              </p:nvSpPr>
              <p:spPr>
                <a:xfrm>
                  <a:off x="4467240" y="37454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0" name=""/>
                <p:cNvSpPr/>
                <p:nvPr/>
              </p:nvSpPr>
              <p:spPr>
                <a:xfrm>
                  <a:off x="4502880" y="37407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>
                  <a:off x="453744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 flipV="1">
                  <a:off x="4080600" y="3728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"/>
                <p:cNvSpPr/>
                <p:nvPr/>
              </p:nvSpPr>
              <p:spPr>
                <a:xfrm flipV="1">
                  <a:off x="4150440" y="371952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"/>
                <p:cNvSpPr/>
                <p:nvPr/>
              </p:nvSpPr>
              <p:spPr>
                <a:xfrm flipV="1">
                  <a:off x="4116240" y="372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>
                  <a:off x="4012200" y="37396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6" name=""/>
                <p:cNvSpPr/>
                <p:nvPr/>
              </p:nvSpPr>
              <p:spPr>
                <a:xfrm>
                  <a:off x="4046400" y="37314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7" name=""/>
                <p:cNvSpPr/>
                <p:nvPr/>
              </p:nvSpPr>
              <p:spPr>
                <a:xfrm flipV="1">
                  <a:off x="390348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"/>
                <p:cNvSpPr/>
                <p:nvPr/>
              </p:nvSpPr>
              <p:spPr>
                <a:xfrm flipV="1">
                  <a:off x="393912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"/>
                <p:cNvSpPr/>
                <p:nvPr/>
              </p:nvSpPr>
              <p:spPr>
                <a:xfrm flipV="1">
                  <a:off x="386928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"/>
                <p:cNvSpPr/>
                <p:nvPr/>
              </p:nvSpPr>
              <p:spPr>
                <a:xfrm>
                  <a:off x="4256640" y="374256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>
                  <a:off x="4290120" y="37342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2" name=""/>
                <p:cNvSpPr/>
                <p:nvPr/>
              </p:nvSpPr>
              <p:spPr>
                <a:xfrm flipV="1">
                  <a:off x="432468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3" name=""/>
                <p:cNvSpPr/>
                <p:nvPr/>
              </p:nvSpPr>
              <p:spPr>
                <a:xfrm flipV="1">
                  <a:off x="439452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"/>
                <p:cNvSpPr/>
                <p:nvPr/>
              </p:nvSpPr>
              <p:spPr>
                <a:xfrm flipV="1">
                  <a:off x="4430160" y="37076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5" name=""/>
                <p:cNvSpPr/>
                <p:nvPr/>
              </p:nvSpPr>
              <p:spPr>
                <a:xfrm flipV="1">
                  <a:off x="44661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6" name=""/>
                <p:cNvSpPr/>
                <p:nvPr/>
              </p:nvSpPr>
              <p:spPr>
                <a:xfrm flipV="1">
                  <a:off x="436032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"/>
                <p:cNvSpPr/>
                <p:nvPr/>
              </p:nvSpPr>
              <p:spPr>
                <a:xfrm flipV="1">
                  <a:off x="450180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8" name=""/>
                <p:cNvSpPr/>
                <p:nvPr/>
              </p:nvSpPr>
              <p:spPr>
                <a:xfrm flipV="1">
                  <a:off x="45360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9" name=""/>
                <p:cNvSpPr/>
                <p:nvPr/>
              </p:nvSpPr>
              <p:spPr>
                <a:xfrm flipV="1">
                  <a:off x="4257720" y="3714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0" name=""/>
                <p:cNvSpPr/>
                <p:nvPr/>
              </p:nvSpPr>
              <p:spPr>
                <a:xfrm flipV="1">
                  <a:off x="4291560" y="3723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1" name=""/>
                <p:cNvSpPr/>
                <p:nvPr/>
              </p:nvSpPr>
              <p:spPr>
                <a:xfrm flipV="1">
                  <a:off x="422172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2" name=""/>
                <p:cNvSpPr/>
                <p:nvPr/>
              </p:nvSpPr>
              <p:spPr>
                <a:xfrm flipV="1">
                  <a:off x="418608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"/>
                <p:cNvSpPr/>
                <p:nvPr/>
              </p:nvSpPr>
              <p:spPr>
                <a:xfrm flipV="1">
                  <a:off x="39747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"/>
                <p:cNvSpPr/>
                <p:nvPr/>
              </p:nvSpPr>
              <p:spPr>
                <a:xfrm flipV="1">
                  <a:off x="401076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5" name=""/>
                <p:cNvSpPr/>
                <p:nvPr/>
              </p:nvSpPr>
              <p:spPr>
                <a:xfrm flipV="1">
                  <a:off x="40446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6" name=""/>
                <p:cNvSpPr/>
                <p:nvPr/>
              </p:nvSpPr>
              <p:spPr>
                <a:xfrm flipV="1">
                  <a:off x="383364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7" name=""/>
                <p:cNvSpPr/>
                <p:nvPr/>
              </p:nvSpPr>
              <p:spPr>
                <a:xfrm>
                  <a:off x="397656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"/>
                <p:cNvSpPr/>
                <p:nvPr/>
              </p:nvSpPr>
              <p:spPr>
                <a:xfrm>
                  <a:off x="387108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"/>
                <p:cNvSpPr/>
                <p:nvPr/>
              </p:nvSpPr>
              <p:spPr>
                <a:xfrm>
                  <a:off x="3904920" y="373572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0" name=""/>
                <p:cNvSpPr/>
                <p:nvPr/>
              </p:nvSpPr>
              <p:spPr>
                <a:xfrm>
                  <a:off x="394092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1" name=""/>
                <p:cNvSpPr/>
                <p:nvPr/>
              </p:nvSpPr>
              <p:spPr>
                <a:xfrm>
                  <a:off x="4115160" y="373572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>
                  <a:off x="418500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3" name=""/>
                <p:cNvSpPr/>
                <p:nvPr/>
              </p:nvSpPr>
              <p:spPr>
                <a:xfrm>
                  <a:off x="422064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"/>
                <p:cNvSpPr/>
                <p:nvPr/>
              </p:nvSpPr>
              <p:spPr>
                <a:xfrm>
                  <a:off x="4149360" y="373824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>
                  <a:off x="4431960" y="37454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"/>
                <p:cNvSpPr/>
                <p:nvPr/>
              </p:nvSpPr>
              <p:spPr>
                <a:xfrm>
                  <a:off x="4396320" y="3736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"/>
                <p:cNvSpPr/>
                <p:nvPr/>
              </p:nvSpPr>
              <p:spPr>
                <a:xfrm>
                  <a:off x="4361760" y="37342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>
                  <a:off x="4325760" y="3726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9" name=""/>
                <p:cNvSpPr/>
                <p:nvPr/>
              </p:nvSpPr>
              <p:spPr>
                <a:xfrm>
                  <a:off x="4079520" y="37285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"/>
                <p:cNvSpPr/>
                <p:nvPr/>
              </p:nvSpPr>
              <p:spPr>
                <a:xfrm>
                  <a:off x="3835080" y="3724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1" name=""/>
              <p:cNvSpPr/>
              <p:nvPr/>
            </p:nvSpPr>
            <p:spPr>
              <a:xfrm rot="19779000">
                <a:off x="4298400" y="374616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2" name=""/>
            <p:cNvSpPr/>
            <p:nvPr/>
          </p:nvSpPr>
          <p:spPr>
            <a:xfrm flipH="1">
              <a:off x="4390560" y="314640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 flipH="1">
              <a:off x="4390560" y="391788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4415040" y="2967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4415040" y="3738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5460840" y="17636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6391080" y="15271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8" name=""/>
            <p:cNvGrpSpPr/>
            <p:nvPr/>
          </p:nvGrpSpPr>
          <p:grpSpPr>
            <a:xfrm>
              <a:off x="5995800" y="1383840"/>
              <a:ext cx="737640" cy="73440"/>
              <a:chOff x="5995800" y="1383840"/>
              <a:chExt cx="737640" cy="73440"/>
            </a:xfrm>
          </p:grpSpPr>
          <p:sp>
            <p:nvSpPr>
              <p:cNvPr id="7299" name=""/>
              <p:cNvSpPr/>
              <p:nvPr/>
            </p:nvSpPr>
            <p:spPr>
              <a:xfrm>
                <a:off x="6629400" y="1421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6665040" y="1416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669960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 flipV="1">
                <a:off x="6242760" y="1404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 flipV="1">
                <a:off x="6312600" y="1395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 flipV="1">
                <a:off x="6278400" y="1397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6174360" y="1415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6208560" y="1407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 flipV="1">
                <a:off x="606564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 flipV="1">
                <a:off x="610128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 flipV="1">
                <a:off x="603144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6418800" y="1418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6452280" y="1410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 flipV="1">
                <a:off x="648684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 flipV="1">
                <a:off x="655668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 flipV="1">
                <a:off x="6592320" y="1383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 flipV="1">
                <a:off x="66283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V="1">
                <a:off x="652248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 flipV="1">
                <a:off x="666396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 flipV="1">
                <a:off x="66981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 flipV="1">
                <a:off x="6419880" y="1390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 flipV="1">
                <a:off x="6453720" y="1398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 flipV="1">
                <a:off x="638388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 flipV="1">
                <a:off x="634824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 flipV="1">
                <a:off x="61369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 flipV="1">
                <a:off x="617292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flipV="1">
                <a:off x="62067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 flipV="1">
                <a:off x="599580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613872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603324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6067080" y="1411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610308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6277320" y="1411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634716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638280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6311520" y="1414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6594120" y="1421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6558480" y="14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6523920" y="1410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6487920" y="14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6241680" y="1404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5997240" y="14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1" name=""/>
            <p:cNvSpPr/>
            <p:nvPr/>
          </p:nvSpPr>
          <p:spPr>
            <a:xfrm>
              <a:off x="5460840" y="25257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6391080" y="22892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3" name=""/>
            <p:cNvGrpSpPr/>
            <p:nvPr/>
          </p:nvGrpSpPr>
          <p:grpSpPr>
            <a:xfrm>
              <a:off x="5995800" y="2145960"/>
              <a:ext cx="737640" cy="73440"/>
              <a:chOff x="5995800" y="2145960"/>
              <a:chExt cx="737640" cy="73440"/>
            </a:xfrm>
          </p:grpSpPr>
          <p:sp>
            <p:nvSpPr>
              <p:cNvPr id="7344" name=""/>
              <p:cNvSpPr/>
              <p:nvPr/>
            </p:nvSpPr>
            <p:spPr>
              <a:xfrm>
                <a:off x="6629400" y="21834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6665040" y="217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669960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 flipV="1">
                <a:off x="6242760" y="2166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V="1">
                <a:off x="6312600" y="21574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 flipV="1">
                <a:off x="6278400" y="21600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6174360" y="217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6208560" y="2169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 flipV="1">
                <a:off x="606564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 flipV="1">
                <a:off x="610128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 flipV="1">
                <a:off x="603144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6418800" y="21805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6452280" y="21722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 flipV="1">
                <a:off x="648684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 flipV="1">
                <a:off x="655668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 flipV="1">
                <a:off x="6592320" y="2145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 flipV="1">
                <a:off x="66283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V="1">
                <a:off x="652248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flipV="1">
                <a:off x="666396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 flipV="1">
                <a:off x="66981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V="1">
                <a:off x="6419880" y="2152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 flipV="1">
                <a:off x="6453720" y="2161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V="1">
                <a:off x="638388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 flipV="1">
                <a:off x="634824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 flipV="1">
                <a:off x="61369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V="1">
                <a:off x="617292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V="1">
                <a:off x="62067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 flipV="1">
                <a:off x="599580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613872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603324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6067080" y="21736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610308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6277320" y="21736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634716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638280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6311520" y="21762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6594120" y="2183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6558480" y="2174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6523920" y="2172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6487920" y="2164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6241680" y="2166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5997240" y="2162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6" name=""/>
            <p:cNvSpPr/>
            <p:nvPr/>
          </p:nvSpPr>
          <p:spPr>
            <a:xfrm>
              <a:off x="5819760" y="20606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6134040" y="1765440"/>
              <a:ext cx="18036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8" name=""/>
            <p:cNvGrpSpPr/>
            <p:nvPr/>
          </p:nvGrpSpPr>
          <p:grpSpPr>
            <a:xfrm>
              <a:off x="6467400" y="2281320"/>
              <a:ext cx="738720" cy="307080"/>
              <a:chOff x="6467400" y="2281320"/>
              <a:chExt cx="738720" cy="307080"/>
            </a:xfrm>
          </p:grpSpPr>
          <p:sp>
            <p:nvSpPr>
              <p:cNvPr id="7389" name=""/>
              <p:cNvSpPr/>
              <p:nvPr/>
            </p:nvSpPr>
            <p:spPr>
              <a:xfrm>
                <a:off x="6472080" y="2281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 flipH="1">
                <a:off x="6467400" y="2460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1" name=""/>
            <p:cNvGrpSpPr/>
            <p:nvPr/>
          </p:nvGrpSpPr>
          <p:grpSpPr>
            <a:xfrm>
              <a:off x="6464160" y="1509840"/>
              <a:ext cx="738720" cy="307080"/>
              <a:chOff x="6464160" y="1509840"/>
              <a:chExt cx="738720" cy="307080"/>
            </a:xfrm>
          </p:grpSpPr>
          <p:sp>
            <p:nvSpPr>
              <p:cNvPr id="7392" name=""/>
              <p:cNvSpPr/>
              <p:nvPr/>
            </p:nvSpPr>
            <p:spPr>
              <a:xfrm>
                <a:off x="6468840" y="150984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 flipH="1">
                <a:off x="6464160" y="168912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4" name=""/>
            <p:cNvSpPr/>
            <p:nvPr/>
          </p:nvSpPr>
          <p:spPr>
            <a:xfrm>
              <a:off x="7165800" y="32018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5" name=""/>
            <p:cNvGrpSpPr/>
            <p:nvPr/>
          </p:nvGrpSpPr>
          <p:grpSpPr>
            <a:xfrm>
              <a:off x="7700760" y="2908080"/>
              <a:ext cx="737640" cy="73080"/>
              <a:chOff x="7700760" y="2908080"/>
              <a:chExt cx="737640" cy="73080"/>
            </a:xfrm>
          </p:grpSpPr>
          <p:sp>
            <p:nvSpPr>
              <p:cNvPr id="7396" name=""/>
              <p:cNvSpPr/>
              <p:nvPr/>
            </p:nvSpPr>
            <p:spPr>
              <a:xfrm>
                <a:off x="8334360" y="294516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8370000" y="294084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840456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 flipV="1">
                <a:off x="7947720" y="29296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 flipV="1">
                <a:off x="8017560" y="29192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 flipV="1">
                <a:off x="7983360" y="2922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7879320" y="2939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7913520" y="2931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V="1">
                <a:off x="777060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flipV="1">
                <a:off x="780624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 flipV="1">
                <a:off x="773640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8123760" y="29426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8157240" y="2934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V="1">
                <a:off x="819180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 flipV="1">
                <a:off x="826164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 flipV="1">
                <a:off x="8297280" y="2907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V="1">
                <a:off x="83332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V="1">
                <a:off x="822744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V="1">
                <a:off x="836892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V="1">
                <a:off x="84031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V="1">
                <a:off x="8124840" y="2914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V="1">
                <a:off x="8158680" y="2923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V="1">
                <a:off x="808884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V="1">
                <a:off x="805320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V="1">
                <a:off x="78418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V="1">
                <a:off x="787788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V="1">
                <a:off x="79117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 flipV="1">
                <a:off x="770076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784368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773820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7772040" y="293580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780804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7982280" y="2935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805212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808776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8016480" y="293796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8299080" y="29451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8263440" y="2936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8228880" y="2934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8192880" y="29268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7946640" y="2928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7702200" y="2925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8" name=""/>
            <p:cNvSpPr/>
            <p:nvPr/>
          </p:nvSpPr>
          <p:spPr>
            <a:xfrm>
              <a:off x="7165800" y="39639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9" name=""/>
            <p:cNvGrpSpPr/>
            <p:nvPr/>
          </p:nvGrpSpPr>
          <p:grpSpPr>
            <a:xfrm>
              <a:off x="7700760" y="3669840"/>
              <a:ext cx="737640" cy="73440"/>
              <a:chOff x="7700760" y="3669840"/>
              <a:chExt cx="737640" cy="73440"/>
            </a:xfrm>
          </p:grpSpPr>
          <p:sp>
            <p:nvSpPr>
              <p:cNvPr id="7440" name=""/>
              <p:cNvSpPr/>
              <p:nvPr/>
            </p:nvSpPr>
            <p:spPr>
              <a:xfrm>
                <a:off x="8334360" y="3707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8370000" y="3702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840456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V="1">
                <a:off x="7947720" y="3690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V="1">
                <a:off x="8017560" y="3681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 flipV="1">
                <a:off x="7983360" y="3683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7879320" y="3701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7913520" y="369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 flipV="1">
                <a:off x="777060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 flipV="1">
                <a:off x="780624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 flipV="1">
                <a:off x="773640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8123760" y="3704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8157240" y="3696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 flipV="1">
                <a:off x="819180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 flipV="1">
                <a:off x="826164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 flipV="1">
                <a:off x="8297280" y="3669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 flipV="1">
                <a:off x="83332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 flipV="1">
                <a:off x="822744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 flipV="1">
                <a:off x="836892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V="1">
                <a:off x="84031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 flipV="1">
                <a:off x="8124840" y="3676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V="1">
                <a:off x="8158680" y="3684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 flipV="1">
                <a:off x="808884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 flipV="1">
                <a:off x="805320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 flipV="1">
                <a:off x="78418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 flipV="1">
                <a:off x="787788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 flipV="1">
                <a:off x="79117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 flipV="1">
                <a:off x="770076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784368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773820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7772040" y="3697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780804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7982280" y="3697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805212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808776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8016480" y="3700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8299080" y="3707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8263440" y="3698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8228880" y="3696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8192880" y="3688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7946640" y="369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7702200" y="3686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2" name=""/>
            <p:cNvSpPr/>
            <p:nvPr/>
          </p:nvSpPr>
          <p:spPr>
            <a:xfrm>
              <a:off x="7524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7858080" y="3184560"/>
              <a:ext cx="18036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8096040" y="29653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8096040" y="37274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6" name=""/>
            <p:cNvGrpSpPr/>
            <p:nvPr/>
          </p:nvGrpSpPr>
          <p:grpSpPr>
            <a:xfrm>
              <a:off x="8162640" y="2938320"/>
              <a:ext cx="738720" cy="307080"/>
              <a:chOff x="8162640" y="2938320"/>
              <a:chExt cx="738720" cy="307080"/>
            </a:xfrm>
          </p:grpSpPr>
          <p:sp>
            <p:nvSpPr>
              <p:cNvPr id="7487" name=""/>
              <p:cNvSpPr/>
              <p:nvPr/>
            </p:nvSpPr>
            <p:spPr>
              <a:xfrm>
                <a:off x="8167320" y="2938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 flipH="1">
                <a:off x="8162640" y="3117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9" name=""/>
            <p:cNvGrpSpPr/>
            <p:nvPr/>
          </p:nvGrpSpPr>
          <p:grpSpPr>
            <a:xfrm>
              <a:off x="8162640" y="3690720"/>
              <a:ext cx="738720" cy="307080"/>
              <a:chOff x="8162640" y="3690720"/>
              <a:chExt cx="738720" cy="307080"/>
            </a:xfrm>
          </p:grpSpPr>
          <p:sp>
            <p:nvSpPr>
              <p:cNvPr id="7490" name=""/>
              <p:cNvSpPr/>
              <p:nvPr/>
            </p:nvSpPr>
            <p:spPr>
              <a:xfrm>
                <a:off x="8167320" y="36907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 flipH="1">
                <a:off x="8162640" y="38700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2" name=""/>
            <p:cNvSpPr/>
            <p:nvPr/>
          </p:nvSpPr>
          <p:spPr>
            <a:xfrm>
              <a:off x="6077880" y="1765440"/>
              <a:ext cx="201744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 flipH="1">
              <a:off x="3867120" y="1670040"/>
              <a:ext cx="386856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 flipV="1">
              <a:off x="4839120" y="2697840"/>
              <a:ext cx="327528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 rot="10800000">
              <a:off x="3809880" y="3042000"/>
              <a:ext cx="289440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647960" y="2819520"/>
              <a:ext cx="93960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6273720" y="3568680"/>
              <a:ext cx="93924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584600" y="3340080"/>
              <a:ext cx="133308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326880" y="758880"/>
            <a:ext cx="25992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sommation d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3251160" y="1079640"/>
            <a:ext cx="5715000" cy="506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212760" y="1330200"/>
            <a:ext cx="81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ité ATPasique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hosphorylation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à chaque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37960" y="2968560"/>
            <a:ext cx="672624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onsommation  d'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g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vitesse muscle lisse &lt; vitesse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ycle déphosphorylé plus lent que cycle 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7" name=""/>
          <p:cNvGrpSpPr/>
          <p:nvPr/>
        </p:nvGrpSpPr>
        <p:grpSpPr>
          <a:xfrm>
            <a:off x="3413160" y="1383840"/>
            <a:ext cx="5488200" cy="4552920"/>
            <a:chOff x="3413160" y="1383840"/>
            <a:chExt cx="5488200" cy="4552920"/>
          </a:xfrm>
        </p:grpSpPr>
        <p:sp>
          <p:nvSpPr>
            <p:cNvPr id="7508" name=""/>
            <p:cNvSpPr/>
            <p:nvPr/>
          </p:nvSpPr>
          <p:spPr>
            <a:xfrm>
              <a:off x="5451120" y="495468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9" name=""/>
            <p:cNvGrpSpPr/>
            <p:nvPr/>
          </p:nvGrpSpPr>
          <p:grpSpPr>
            <a:xfrm>
              <a:off x="5871960" y="4704840"/>
              <a:ext cx="737640" cy="73440"/>
              <a:chOff x="5871960" y="4704840"/>
              <a:chExt cx="737640" cy="73440"/>
            </a:xfrm>
          </p:grpSpPr>
          <p:sp>
            <p:nvSpPr>
              <p:cNvPr id="7510" name=""/>
              <p:cNvSpPr/>
              <p:nvPr/>
            </p:nvSpPr>
            <p:spPr>
              <a:xfrm>
                <a:off x="6505560" y="4742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6541200" y="4737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657576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V="1">
                <a:off x="6118920" y="4725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V="1">
                <a:off x="6188760" y="4716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V="1">
                <a:off x="6154560" y="4718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6050520" y="4736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6084720" y="4728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flipV="1">
                <a:off x="594180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flipV="1">
                <a:off x="597744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V="1">
                <a:off x="590760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6294960" y="4739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6328440" y="4731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flipV="1">
                <a:off x="636300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V="1">
                <a:off x="6432840" y="4712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V="1">
                <a:off x="6468480" y="4704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V="1">
                <a:off x="65044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V="1">
                <a:off x="6398640" y="4716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V="1">
                <a:off x="654012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flipV="1">
                <a:off x="65743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V="1">
                <a:off x="6296040" y="4711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flipV="1">
                <a:off x="6329880" y="4719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flipV="1">
                <a:off x="626004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flipV="1">
                <a:off x="6224400" y="4707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V="1">
                <a:off x="6013080" y="4704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V="1">
                <a:off x="6049080" y="4708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V="1">
                <a:off x="6082920" y="4717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V="1">
                <a:off x="5871960" y="4722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601488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5909400" y="4729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5943240" y="4732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5979240" y="4741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6153480" y="4732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622332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6258960" y="4744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6187680" y="4735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6470280" y="4742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6434640" y="4733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6400080" y="4731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6364080" y="4723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6117840" y="4725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5873400" y="4721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2" name=""/>
            <p:cNvSpPr/>
            <p:nvPr/>
          </p:nvSpPr>
          <p:spPr>
            <a:xfrm>
              <a:off x="5451120" y="57164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5810040" y="52513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6143400" y="493704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 rot="19779000">
              <a:off x="6336720" y="474300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6" name=""/>
            <p:cNvGrpSpPr/>
            <p:nvPr/>
          </p:nvGrpSpPr>
          <p:grpSpPr>
            <a:xfrm>
              <a:off x="5871960" y="5460480"/>
              <a:ext cx="737640" cy="288000"/>
              <a:chOff x="5871960" y="5460480"/>
              <a:chExt cx="737640" cy="288000"/>
            </a:xfrm>
          </p:grpSpPr>
          <p:grpSp>
            <p:nvGrpSpPr>
              <p:cNvPr id="7557" name=""/>
              <p:cNvGrpSpPr/>
              <p:nvPr/>
            </p:nvGrpSpPr>
            <p:grpSpPr>
              <a:xfrm>
                <a:off x="5871960" y="5460480"/>
                <a:ext cx="737640" cy="73440"/>
                <a:chOff x="5871960" y="5460480"/>
                <a:chExt cx="737640" cy="73440"/>
              </a:xfrm>
            </p:grpSpPr>
            <p:sp>
              <p:nvSpPr>
                <p:cNvPr id="7558" name=""/>
                <p:cNvSpPr/>
                <p:nvPr/>
              </p:nvSpPr>
              <p:spPr>
                <a:xfrm>
                  <a:off x="6505560" y="549792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6541200" y="54932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>
                  <a:off x="657576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 flipV="1">
                  <a:off x="6118920" y="54813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 flipV="1">
                  <a:off x="6188760" y="547200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 flipV="1">
                  <a:off x="6154560" y="54745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6050520" y="54921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6084720" y="54838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 flipV="1">
                  <a:off x="594180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 flipV="1">
                  <a:off x="597744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 flipV="1">
                  <a:off x="590760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6294960" y="549504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6328440" y="548676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 flipV="1">
                  <a:off x="636300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 flipV="1">
                  <a:off x="6432840" y="546840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 flipV="1">
                  <a:off x="6468480" y="54601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 flipV="1">
                  <a:off x="65044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 flipV="1">
                  <a:off x="6398640" y="547200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 flipV="1">
                  <a:off x="654012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 flipV="1">
                  <a:off x="65743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 flipV="1">
                  <a:off x="6296040" y="54673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 flipV="1">
                  <a:off x="6329880" y="54756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 flipV="1">
                  <a:off x="626004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 flipV="1">
                  <a:off x="6224400" y="546264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 flipV="1">
                  <a:off x="6013080" y="54601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 flipV="1">
                  <a:off x="6049080" y="54644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 flipV="1">
                  <a:off x="6082920" y="547272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 flipV="1">
                  <a:off x="5871960" y="547848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601488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5909400" y="548496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5943240" y="548820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5979240" y="5496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6153480" y="548820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622332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6258960" y="54997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6187680" y="549072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6470280" y="5497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6434640" y="54892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6400080" y="54867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6364080" y="547920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6117840" y="5481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5873400" y="547740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0" name=""/>
              <p:cNvSpPr/>
              <p:nvPr/>
            </p:nvSpPr>
            <p:spPr>
              <a:xfrm rot="19779000">
                <a:off x="6336720" y="549864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1" name=""/>
            <p:cNvSpPr/>
            <p:nvPr/>
          </p:nvSpPr>
          <p:spPr>
            <a:xfrm>
              <a:off x="3413160" y="320184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2" name=""/>
            <p:cNvGrpSpPr/>
            <p:nvPr/>
          </p:nvGrpSpPr>
          <p:grpSpPr>
            <a:xfrm>
              <a:off x="3833640" y="2952360"/>
              <a:ext cx="737640" cy="73440"/>
              <a:chOff x="3833640" y="2952360"/>
              <a:chExt cx="737640" cy="73440"/>
            </a:xfrm>
          </p:grpSpPr>
          <p:sp>
            <p:nvSpPr>
              <p:cNvPr id="7603" name=""/>
              <p:cNvSpPr/>
              <p:nvPr/>
            </p:nvSpPr>
            <p:spPr>
              <a:xfrm>
                <a:off x="4467240" y="29898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4502880" y="29851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453744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flipV="1">
                <a:off x="4080600" y="29732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V="1">
                <a:off x="4150440" y="29638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V="1">
                <a:off x="4116240" y="29664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4012200" y="29840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4046400" y="2975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 flipV="1">
                <a:off x="390348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 flipV="1">
                <a:off x="393912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 flipV="1">
                <a:off x="386928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4256640" y="29869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4290120" y="29786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 flipV="1">
                <a:off x="432468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V="1">
                <a:off x="4394520" y="29602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 flipV="1">
                <a:off x="4430160" y="2952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 flipV="1">
                <a:off x="44661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 flipV="1">
                <a:off x="4360320" y="29638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 flipV="1">
                <a:off x="450180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 flipV="1">
                <a:off x="45360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 flipV="1">
                <a:off x="4257720" y="2959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 flipV="1">
                <a:off x="4291560" y="2967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 flipV="1">
                <a:off x="422172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 flipV="1">
                <a:off x="4186080" y="29545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V="1">
                <a:off x="3974760" y="29520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 flipV="1">
                <a:off x="4010760" y="29563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 flipV="1">
                <a:off x="4044600" y="2964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 flipV="1">
                <a:off x="3833640" y="297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397656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3871080" y="29768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3904920" y="29800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3940920" y="29887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4115160" y="29800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418500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4220640" y="2991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4149360" y="29826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4431960" y="29898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4396320" y="29811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4361760" y="29786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4325760" y="29710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4079520" y="29728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3835080" y="2969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5" name=""/>
            <p:cNvSpPr/>
            <p:nvPr/>
          </p:nvSpPr>
          <p:spPr>
            <a:xfrm>
              <a:off x="3413160" y="3963960"/>
              <a:ext cx="98100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3771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4105080" y="3184560"/>
              <a:ext cx="18072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 rot="19779000">
              <a:off x="4298400" y="29905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9" name=""/>
            <p:cNvGrpSpPr/>
            <p:nvPr/>
          </p:nvGrpSpPr>
          <p:grpSpPr>
            <a:xfrm>
              <a:off x="3833640" y="3708000"/>
              <a:ext cx="737640" cy="288000"/>
              <a:chOff x="3833640" y="3708000"/>
              <a:chExt cx="737640" cy="288000"/>
            </a:xfrm>
          </p:grpSpPr>
          <p:grpSp>
            <p:nvGrpSpPr>
              <p:cNvPr id="7650" name=""/>
              <p:cNvGrpSpPr/>
              <p:nvPr/>
            </p:nvGrpSpPr>
            <p:grpSpPr>
              <a:xfrm>
                <a:off x="3833640" y="3708000"/>
                <a:ext cx="737640" cy="73440"/>
                <a:chOff x="3833640" y="3708000"/>
                <a:chExt cx="737640" cy="73440"/>
              </a:xfrm>
            </p:grpSpPr>
            <p:sp>
              <p:nvSpPr>
                <p:cNvPr id="7651" name=""/>
                <p:cNvSpPr/>
                <p:nvPr/>
              </p:nvSpPr>
              <p:spPr>
                <a:xfrm>
                  <a:off x="4467240" y="374544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4502880" y="374076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453744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 flipV="1">
                  <a:off x="4080600" y="3728880"/>
                  <a:ext cx="3456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 flipV="1">
                  <a:off x="4150440" y="3719520"/>
                  <a:ext cx="34560" cy="334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 flipV="1">
                  <a:off x="4116240" y="37220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4012200" y="373968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4046400" y="37314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 flipV="1">
                  <a:off x="390348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 flipV="1">
                  <a:off x="393912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 flipV="1">
                  <a:off x="386928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4256640" y="3742560"/>
                  <a:ext cx="3312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4290120" y="373428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 flipV="1">
                  <a:off x="432468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 flipV="1">
                  <a:off x="4394520" y="3715920"/>
                  <a:ext cx="3456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 flipV="1">
                  <a:off x="4430160" y="37076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 flipV="1">
                  <a:off x="44661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 flipV="1">
                  <a:off x="4360320" y="3719520"/>
                  <a:ext cx="33840" cy="334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 flipV="1">
                  <a:off x="450180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 flipV="1">
                  <a:off x="45360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 flipV="1">
                  <a:off x="4257720" y="371484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 flipV="1">
                  <a:off x="4291560" y="372312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 flipV="1">
                  <a:off x="422172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 flipV="1">
                  <a:off x="4186080" y="371016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 flipV="1">
                  <a:off x="3974760" y="37076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 flipV="1">
                  <a:off x="4010760" y="371196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 flipV="1">
                  <a:off x="4044600" y="3720240"/>
                  <a:ext cx="3456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 flipV="1">
                  <a:off x="3833640" y="372600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397656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3871080" y="373248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3904920" y="3735720"/>
                  <a:ext cx="33840" cy="338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3940920" y="374436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4115160" y="3735720"/>
                  <a:ext cx="33840" cy="338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418500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4220640" y="374724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4149360" y="3738240"/>
                  <a:ext cx="33840" cy="349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4431960" y="374544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4396320" y="3736800"/>
                  <a:ext cx="3384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4361760" y="373428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4325760" y="3726720"/>
                  <a:ext cx="34560" cy="3420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4079520" y="3728520"/>
                  <a:ext cx="33840" cy="342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3835080" y="3724920"/>
                  <a:ext cx="33840" cy="349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3" name=""/>
              <p:cNvSpPr/>
              <p:nvPr/>
            </p:nvSpPr>
            <p:spPr>
              <a:xfrm rot="19779000">
                <a:off x="4298400" y="3746160"/>
                <a:ext cx="741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4" name=""/>
            <p:cNvSpPr/>
            <p:nvPr/>
          </p:nvSpPr>
          <p:spPr>
            <a:xfrm flipH="1">
              <a:off x="4390560" y="314640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 flipH="1">
              <a:off x="4390560" y="3917880"/>
              <a:ext cx="13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4415040" y="29671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4415040" y="373860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5460840" y="17636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6391080" y="15271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0" name=""/>
            <p:cNvGrpSpPr/>
            <p:nvPr/>
          </p:nvGrpSpPr>
          <p:grpSpPr>
            <a:xfrm>
              <a:off x="5995800" y="1383840"/>
              <a:ext cx="737640" cy="73440"/>
              <a:chOff x="5995800" y="1383840"/>
              <a:chExt cx="737640" cy="73440"/>
            </a:xfrm>
          </p:grpSpPr>
          <p:sp>
            <p:nvSpPr>
              <p:cNvPr id="7701" name=""/>
              <p:cNvSpPr/>
              <p:nvPr/>
            </p:nvSpPr>
            <p:spPr>
              <a:xfrm>
                <a:off x="6629400" y="1421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6665040" y="1416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669960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 flipV="1">
                <a:off x="6242760" y="1404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 flipV="1">
                <a:off x="6312600" y="1395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 flipV="1">
                <a:off x="6278400" y="1397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6174360" y="1415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6208560" y="1407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 flipV="1">
                <a:off x="606564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flipV="1">
                <a:off x="610128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 flipV="1">
                <a:off x="603144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6418800" y="1418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6452280" y="1410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 flipV="1">
                <a:off x="648684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V="1">
                <a:off x="6556680" y="1391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 flipV="1">
                <a:off x="6592320" y="1383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 flipV="1">
                <a:off x="66283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 flipV="1">
                <a:off x="6522480" y="1395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 flipV="1">
                <a:off x="666396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 flipV="1">
                <a:off x="66981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 flipV="1">
                <a:off x="6419880" y="1390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 flipV="1">
                <a:off x="6453720" y="1398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 flipV="1">
                <a:off x="638388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V="1">
                <a:off x="6348240" y="1386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 flipV="1">
                <a:off x="6136920" y="1383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 flipV="1">
                <a:off x="6172920" y="1387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flipV="1">
                <a:off x="6206760" y="1396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 flipV="1">
                <a:off x="5995800" y="1401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613872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6033240" y="1408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6067080" y="1411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6103080" y="1420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6277320" y="1411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634716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6382800" y="1423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6311520" y="1414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6594120" y="1421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6558480" y="1412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6523920" y="1410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6487920" y="1402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6241680" y="1404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5997240" y="1400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3" name=""/>
            <p:cNvSpPr/>
            <p:nvPr/>
          </p:nvSpPr>
          <p:spPr>
            <a:xfrm>
              <a:off x="5460840" y="25257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6391080" y="22892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5" name=""/>
            <p:cNvGrpSpPr/>
            <p:nvPr/>
          </p:nvGrpSpPr>
          <p:grpSpPr>
            <a:xfrm>
              <a:off x="5995800" y="2145960"/>
              <a:ext cx="737640" cy="73440"/>
              <a:chOff x="5995800" y="2145960"/>
              <a:chExt cx="737640" cy="73440"/>
            </a:xfrm>
          </p:grpSpPr>
          <p:sp>
            <p:nvSpPr>
              <p:cNvPr id="7746" name=""/>
              <p:cNvSpPr/>
              <p:nvPr/>
            </p:nvSpPr>
            <p:spPr>
              <a:xfrm>
                <a:off x="6629400" y="21834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6665040" y="2178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669960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 flipV="1">
                <a:off x="6242760" y="216684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 flipV="1">
                <a:off x="6312600" y="215748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 flipV="1">
                <a:off x="6278400" y="21600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6174360" y="2177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6208560" y="21693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 flipV="1">
                <a:off x="606564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 flipV="1">
                <a:off x="610128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 flipV="1">
                <a:off x="603144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6418800" y="218052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6452280" y="217224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 flipV="1">
                <a:off x="648684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 flipV="1">
                <a:off x="6556680" y="215388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 flipV="1">
                <a:off x="6592320" y="21456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 flipV="1">
                <a:off x="66283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 flipV="1">
                <a:off x="6522480" y="215748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 flipV="1">
                <a:off x="666396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 flipV="1">
                <a:off x="66981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 flipV="1">
                <a:off x="6419880" y="21528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 flipV="1">
                <a:off x="6453720" y="2161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 flipV="1">
                <a:off x="638388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 flipV="1">
                <a:off x="6348240" y="2148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 flipV="1">
                <a:off x="6136920" y="2145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 flipV="1">
                <a:off x="6172920" y="21499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 flipV="1">
                <a:off x="6206760" y="21582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 flipV="1">
                <a:off x="5995800" y="2163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613872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6033240" y="217044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6067080" y="217368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6103080" y="21823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6277320" y="217368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634716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6382800" y="21852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6311520" y="217620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6594120" y="218340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6558480" y="2174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6523920" y="2172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6487920" y="216468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6241680" y="2166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5997240" y="21628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8" name=""/>
            <p:cNvSpPr/>
            <p:nvPr/>
          </p:nvSpPr>
          <p:spPr>
            <a:xfrm>
              <a:off x="5819760" y="20606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6134040" y="1765440"/>
              <a:ext cx="180360" cy="16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0" name=""/>
            <p:cNvGrpSpPr/>
            <p:nvPr/>
          </p:nvGrpSpPr>
          <p:grpSpPr>
            <a:xfrm>
              <a:off x="6467400" y="2281320"/>
              <a:ext cx="738720" cy="307080"/>
              <a:chOff x="6467400" y="2281320"/>
              <a:chExt cx="738720" cy="307080"/>
            </a:xfrm>
          </p:grpSpPr>
          <p:sp>
            <p:nvSpPr>
              <p:cNvPr id="7791" name=""/>
              <p:cNvSpPr/>
              <p:nvPr/>
            </p:nvSpPr>
            <p:spPr>
              <a:xfrm>
                <a:off x="6472080" y="2281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 flipH="1">
                <a:off x="6467400" y="2460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3" name=""/>
            <p:cNvGrpSpPr/>
            <p:nvPr/>
          </p:nvGrpSpPr>
          <p:grpSpPr>
            <a:xfrm>
              <a:off x="6464160" y="1509840"/>
              <a:ext cx="738720" cy="307080"/>
              <a:chOff x="6464160" y="1509840"/>
              <a:chExt cx="738720" cy="307080"/>
            </a:xfrm>
          </p:grpSpPr>
          <p:sp>
            <p:nvSpPr>
              <p:cNvPr id="7794" name=""/>
              <p:cNvSpPr/>
              <p:nvPr/>
            </p:nvSpPr>
            <p:spPr>
              <a:xfrm>
                <a:off x="6468840" y="150984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 flipH="1">
                <a:off x="6464160" y="168912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6" name=""/>
            <p:cNvSpPr/>
            <p:nvPr/>
          </p:nvSpPr>
          <p:spPr>
            <a:xfrm>
              <a:off x="7165800" y="320184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7" name=""/>
            <p:cNvGrpSpPr/>
            <p:nvPr/>
          </p:nvGrpSpPr>
          <p:grpSpPr>
            <a:xfrm>
              <a:off x="7700760" y="2908080"/>
              <a:ext cx="737640" cy="73080"/>
              <a:chOff x="7700760" y="2908080"/>
              <a:chExt cx="737640" cy="73080"/>
            </a:xfrm>
          </p:grpSpPr>
          <p:sp>
            <p:nvSpPr>
              <p:cNvPr id="7798" name=""/>
              <p:cNvSpPr/>
              <p:nvPr/>
            </p:nvSpPr>
            <p:spPr>
              <a:xfrm>
                <a:off x="8334360" y="294516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8370000" y="294084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840456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 flipV="1">
                <a:off x="7947720" y="2929680"/>
                <a:ext cx="3456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 flipV="1">
                <a:off x="8017560" y="291924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 flipV="1">
                <a:off x="7983360" y="29221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879320" y="29397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7913520" y="29314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 flipV="1">
                <a:off x="777060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 flipV="1">
                <a:off x="780624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 flipV="1">
                <a:off x="773640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8123760" y="294264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8157240" y="293400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 flipV="1">
                <a:off x="819180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 flipV="1">
                <a:off x="8261640" y="2916720"/>
                <a:ext cx="3456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flipV="1">
                <a:off x="8297280" y="29077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flipV="1">
                <a:off x="83332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flipV="1">
                <a:off x="8227440" y="291924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flipV="1">
                <a:off x="836892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flipV="1">
                <a:off x="84031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flipV="1">
                <a:off x="8124840" y="29149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flipV="1">
                <a:off x="8158680" y="2923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flipV="1">
                <a:off x="808884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flipV="1">
                <a:off x="8053200" y="291024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flipV="1">
                <a:off x="7841880" y="290772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flipV="1">
                <a:off x="7877880" y="29120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flipV="1">
                <a:off x="7911720" y="29203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flipV="1">
                <a:off x="7700760" y="2926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784368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7738200" y="29325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7772040" y="2935800"/>
                <a:ext cx="3384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7808040" y="29440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7982280" y="293580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805212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8087760" y="29469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8016480" y="2937960"/>
                <a:ext cx="33840" cy="3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8299080" y="294516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8263440" y="2936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8228880" y="2934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8192880" y="29268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7946640" y="29286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7702200" y="2925000"/>
                <a:ext cx="33840" cy="3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0" name=""/>
            <p:cNvSpPr/>
            <p:nvPr/>
          </p:nvSpPr>
          <p:spPr>
            <a:xfrm>
              <a:off x="7165800" y="3963960"/>
              <a:ext cx="980640" cy="217440"/>
            </a:xfrm>
            <a:custGeom>
              <a:avLst/>
              <a:gdLst/>
              <a:ahLst/>
              <a:rect l="l" t="t" r="r" b="b"/>
              <a:pathLst>
                <a:path w="618" h="209">
                  <a:moveTo>
                    <a:pt x="0" y="209"/>
                  </a:moveTo>
                  <a:lnTo>
                    <a:pt x="409" y="209"/>
                  </a:lnTo>
                  <a:lnTo>
                    <a:pt x="61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1" name=""/>
            <p:cNvGrpSpPr/>
            <p:nvPr/>
          </p:nvGrpSpPr>
          <p:grpSpPr>
            <a:xfrm>
              <a:off x="7700760" y="3669840"/>
              <a:ext cx="737640" cy="73440"/>
              <a:chOff x="7700760" y="3669840"/>
              <a:chExt cx="737640" cy="73440"/>
            </a:xfrm>
          </p:grpSpPr>
          <p:sp>
            <p:nvSpPr>
              <p:cNvPr id="7842" name=""/>
              <p:cNvSpPr/>
              <p:nvPr/>
            </p:nvSpPr>
            <p:spPr>
              <a:xfrm>
                <a:off x="8334360" y="370728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8370000" y="370260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840456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V="1">
                <a:off x="7947720" y="3690720"/>
                <a:ext cx="3456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V="1">
                <a:off x="8017560" y="3681360"/>
                <a:ext cx="34560" cy="334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 flipV="1">
                <a:off x="7983360" y="36838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7879320" y="370152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7913520" y="36932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V="1">
                <a:off x="777060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V="1">
                <a:off x="780624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V="1">
                <a:off x="773640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8123760" y="3704400"/>
                <a:ext cx="3312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8157240" y="369612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V="1">
                <a:off x="819180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V="1">
                <a:off x="8261640" y="3677760"/>
                <a:ext cx="3456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V="1">
                <a:off x="8297280" y="36694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 flipV="1">
                <a:off x="83332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 flipV="1">
                <a:off x="8227440" y="3681360"/>
                <a:ext cx="33840" cy="33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 flipV="1">
                <a:off x="836892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 flipV="1">
                <a:off x="84031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 flipV="1">
                <a:off x="8124840" y="367668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 flipV="1">
                <a:off x="8158680" y="368496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 flipV="1">
                <a:off x="808884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 flipV="1">
                <a:off x="8053200" y="367200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 flipV="1">
                <a:off x="7841880" y="36694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 flipV="1">
                <a:off x="7877880" y="367380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 flipV="1">
                <a:off x="7911720" y="3682080"/>
                <a:ext cx="3456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 flipV="1">
                <a:off x="7700760" y="368784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784368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7738200" y="369432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7772040" y="3697560"/>
                <a:ext cx="33840" cy="338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7808040" y="370620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7982280" y="3697560"/>
                <a:ext cx="33840" cy="338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805212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8087760" y="370908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8016480" y="3700080"/>
                <a:ext cx="33840" cy="3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8299080" y="370728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8263440" y="3698640"/>
                <a:ext cx="3384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8228880" y="369612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8192880" y="3688560"/>
                <a:ext cx="34560" cy="34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7946640" y="3690360"/>
                <a:ext cx="33840" cy="34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7702200" y="3686760"/>
                <a:ext cx="33840" cy="34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4" name=""/>
            <p:cNvSpPr/>
            <p:nvPr/>
          </p:nvSpPr>
          <p:spPr>
            <a:xfrm>
              <a:off x="7524720" y="349884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7858080" y="3184560"/>
              <a:ext cx="180360" cy="1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8096040" y="2965320"/>
              <a:ext cx="74160" cy="24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8096040" y="3727440"/>
              <a:ext cx="74160" cy="24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8" name=""/>
            <p:cNvGrpSpPr/>
            <p:nvPr/>
          </p:nvGrpSpPr>
          <p:grpSpPr>
            <a:xfrm>
              <a:off x="8162640" y="2938320"/>
              <a:ext cx="738720" cy="307080"/>
              <a:chOff x="8162640" y="2938320"/>
              <a:chExt cx="738720" cy="307080"/>
            </a:xfrm>
          </p:grpSpPr>
          <p:sp>
            <p:nvSpPr>
              <p:cNvPr id="7889" name=""/>
              <p:cNvSpPr/>
              <p:nvPr/>
            </p:nvSpPr>
            <p:spPr>
              <a:xfrm>
                <a:off x="8167320" y="29383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 flipH="1">
                <a:off x="8162640" y="31176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1" name=""/>
            <p:cNvGrpSpPr/>
            <p:nvPr/>
          </p:nvGrpSpPr>
          <p:grpSpPr>
            <a:xfrm>
              <a:off x="8162640" y="3690720"/>
              <a:ext cx="738720" cy="307080"/>
              <a:chOff x="8162640" y="3690720"/>
              <a:chExt cx="738720" cy="307080"/>
            </a:xfrm>
          </p:grpSpPr>
          <p:sp>
            <p:nvSpPr>
              <p:cNvPr id="7892" name=""/>
              <p:cNvSpPr/>
              <p:nvPr/>
            </p:nvSpPr>
            <p:spPr>
              <a:xfrm>
                <a:off x="8167320" y="369072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ADP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 flipH="1">
                <a:off x="8162640" y="38700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4" name=""/>
            <p:cNvSpPr/>
            <p:nvPr/>
          </p:nvSpPr>
          <p:spPr>
            <a:xfrm>
              <a:off x="6077880" y="1765440"/>
              <a:ext cx="201744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 flipH="1">
              <a:off x="3867120" y="1670040"/>
              <a:ext cx="3868560" cy="22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 flipV="1">
              <a:off x="4839120" y="2697840"/>
              <a:ext cx="3275280" cy="308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 rot="10800000">
              <a:off x="3809880" y="3042000"/>
              <a:ext cx="289440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4647960" y="2819520"/>
              <a:ext cx="939600" cy="81252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0" y="664"/>
                  </a:moveTo>
                  <a:cubicBezTo>
                    <a:pt x="50" y="543"/>
                    <a:pt x="101" y="423"/>
                    <a:pt x="200" y="312"/>
                  </a:cubicBezTo>
                  <a:cubicBezTo>
                    <a:pt x="299" y="201"/>
                    <a:pt x="445" y="100"/>
                    <a:pt x="5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6273720" y="3568680"/>
              <a:ext cx="939240" cy="1054080"/>
            </a:xfrm>
            <a:custGeom>
              <a:avLst/>
              <a:gdLst/>
              <a:ahLst/>
              <a:rect l="l" t="t" r="r" b="b"/>
              <a:pathLst>
                <a:path w="592" h="664">
                  <a:moveTo>
                    <a:pt x="592" y="0"/>
                  </a:moveTo>
                  <a:cubicBezTo>
                    <a:pt x="548" y="72"/>
                    <a:pt x="427" y="321"/>
                    <a:pt x="328" y="432"/>
                  </a:cubicBezTo>
                  <a:cubicBezTo>
                    <a:pt x="229" y="543"/>
                    <a:pt x="68" y="616"/>
                    <a:pt x="0" y="66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4584600" y="3340080"/>
              <a:ext cx="1333080" cy="1295280"/>
            </a:xfrm>
            <a:custGeom>
              <a:avLst/>
              <a:gdLst/>
              <a:ahLst/>
              <a:rect l="l" t="t" r="r" b="b"/>
              <a:pathLst>
                <a:path w="840" h="816">
                  <a:moveTo>
                    <a:pt x="840" y="816"/>
                  </a:moveTo>
                  <a:cubicBezTo>
                    <a:pt x="618" y="672"/>
                    <a:pt x="396" y="528"/>
                    <a:pt x="256" y="392"/>
                  </a:cubicBezTo>
                  <a:cubicBezTo>
                    <a:pt x="116" y="256"/>
                    <a:pt x="58" y="12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>
            <a:off x="326880" y="758880"/>
            <a:ext cx="259920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sommation d’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3251160" y="1079640"/>
            <a:ext cx="5715000" cy="506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212760" y="1330200"/>
            <a:ext cx="81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ctivité ATPasique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hosphorylation de la M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un ATP consommée à chaque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>
            <a:off x="237960" y="2968560"/>
            <a:ext cx="672624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consommation  d'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ar cycl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g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vitesse muscle lisse &lt; vitesse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cycle déphosphorylé plus lent que cycle 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ar unité de 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 lisse &lt; muscle st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336600" y="758880"/>
            <a:ext cx="1524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>
            <a:off x="727200" y="3002040"/>
            <a:ext cx="4178160" cy="237816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2138400" y="54784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 rot="16200000">
            <a:off x="4619520" y="37983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727200" y="3244680"/>
            <a:ext cx="4181400" cy="1514520"/>
          </a:xfrm>
          <a:custGeom>
            <a:avLst/>
            <a:gdLst/>
            <a:ahLst/>
            <a:rect l="l" t="t" r="r" b="b"/>
            <a:pathLst>
              <a:path w="1344" h="487">
                <a:moveTo>
                  <a:pt x="0" y="487"/>
                </a:moveTo>
                <a:lnTo>
                  <a:pt x="248" y="487"/>
                </a:lnTo>
                <a:lnTo>
                  <a:pt x="300" y="463"/>
                </a:lnTo>
                <a:cubicBezTo>
                  <a:pt x="320" y="443"/>
                  <a:pt x="349" y="423"/>
                  <a:pt x="368" y="367"/>
                </a:cubicBezTo>
                <a:cubicBezTo>
                  <a:pt x="387" y="311"/>
                  <a:pt x="403" y="188"/>
                  <a:pt x="416" y="127"/>
                </a:cubicBezTo>
                <a:cubicBezTo>
                  <a:pt x="429" y="66"/>
                  <a:pt x="435" y="0"/>
                  <a:pt x="448" y="3"/>
                </a:cubicBezTo>
                <a:cubicBezTo>
                  <a:pt x="461" y="6"/>
                  <a:pt x="479" y="97"/>
                  <a:pt x="492" y="147"/>
                </a:cubicBezTo>
                <a:cubicBezTo>
                  <a:pt x="505" y="197"/>
                  <a:pt x="511" y="267"/>
                  <a:pt x="528" y="303"/>
                </a:cubicBezTo>
                <a:cubicBezTo>
                  <a:pt x="545" y="339"/>
                  <a:pt x="564" y="351"/>
                  <a:pt x="596" y="363"/>
                </a:cubicBezTo>
                <a:cubicBezTo>
                  <a:pt x="628" y="375"/>
                  <a:pt x="595" y="373"/>
                  <a:pt x="720" y="375"/>
                </a:cubicBezTo>
                <a:cubicBezTo>
                  <a:pt x="845" y="377"/>
                  <a:pt x="1214" y="375"/>
                  <a:pt x="1344" y="375"/>
                </a:cubicBezTo>
              </a:path>
            </a:pathLst>
          </a:custGeom>
          <a:noFill/>
          <a:ln w="19080">
            <a:solidFill>
              <a:srgbClr val="c8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1454040" y="3309840"/>
            <a:ext cx="1040040" cy="1449360"/>
          </a:xfrm>
          <a:custGeom>
            <a:avLst/>
            <a:gdLst/>
            <a:ahLst/>
            <a:rect l="l" t="t" r="r" b="b"/>
            <a:pathLst>
              <a:path w="426" h="466">
                <a:moveTo>
                  <a:pt x="0" y="466"/>
                </a:moveTo>
                <a:cubicBezTo>
                  <a:pt x="19" y="458"/>
                  <a:pt x="73" y="457"/>
                  <a:pt x="113" y="418"/>
                </a:cubicBezTo>
                <a:cubicBezTo>
                  <a:pt x="152" y="379"/>
                  <a:pt x="197" y="293"/>
                  <a:pt x="235" y="229"/>
                </a:cubicBezTo>
                <a:cubicBezTo>
                  <a:pt x="273" y="166"/>
                  <a:pt x="309" y="76"/>
                  <a:pt x="341" y="38"/>
                </a:cubicBezTo>
                <a:cubicBezTo>
                  <a:pt x="373" y="0"/>
                  <a:pt x="408" y="10"/>
                  <a:pt x="426" y="2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2455920" y="3316320"/>
            <a:ext cx="2452680" cy="146160"/>
          </a:xfrm>
          <a:custGeom>
            <a:avLst/>
            <a:gdLst/>
            <a:ahLst/>
            <a:rect l="l" t="t" r="r" b="b"/>
            <a:pathLst>
              <a:path w="668" h="32">
                <a:moveTo>
                  <a:pt x="0" y="0"/>
                </a:moveTo>
                <a:cubicBezTo>
                  <a:pt x="7" y="1"/>
                  <a:pt x="23" y="3"/>
                  <a:pt x="40" y="8"/>
                </a:cubicBezTo>
                <a:cubicBezTo>
                  <a:pt x="57" y="13"/>
                  <a:pt x="73" y="24"/>
                  <a:pt x="104" y="28"/>
                </a:cubicBezTo>
                <a:cubicBezTo>
                  <a:pt x="135" y="32"/>
                  <a:pt x="164" y="32"/>
                  <a:pt x="228" y="32"/>
                </a:cubicBezTo>
                <a:cubicBezTo>
                  <a:pt x="292" y="32"/>
                  <a:pt x="415" y="31"/>
                  <a:pt x="488" y="31"/>
                </a:cubicBezTo>
                <a:cubicBezTo>
                  <a:pt x="561" y="31"/>
                  <a:pt x="638" y="31"/>
                  <a:pt x="668" y="31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>
            <a:off x="4905360" y="2930400"/>
            <a:ext cx="0" cy="244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 flipH="1">
            <a:off x="740880" y="4767120"/>
            <a:ext cx="7239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361080" y="6054840"/>
            <a:ext cx="50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mesure simultanée de la contréction et de la [Ca</a:t>
            </a:r>
            <a:r>
              <a:rPr b="1" i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i="1" lang="fr-FR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>
            <a:off x="285840" y="1187280"/>
            <a:ext cx="57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proportion de cycle phosphorylé / dé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 rot="16200000">
            <a:off x="77760" y="4158720"/>
            <a:ext cx="88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0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0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336600" y="758880"/>
            <a:ext cx="1524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727200" y="3002040"/>
            <a:ext cx="4178160" cy="237816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2138400" y="54784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727200" y="3244680"/>
            <a:ext cx="4181400" cy="1514520"/>
          </a:xfrm>
          <a:custGeom>
            <a:avLst/>
            <a:gdLst/>
            <a:ahLst/>
            <a:rect l="l" t="t" r="r" b="b"/>
            <a:pathLst>
              <a:path w="1344" h="487">
                <a:moveTo>
                  <a:pt x="0" y="487"/>
                </a:moveTo>
                <a:lnTo>
                  <a:pt x="248" y="487"/>
                </a:lnTo>
                <a:lnTo>
                  <a:pt x="300" y="463"/>
                </a:lnTo>
                <a:cubicBezTo>
                  <a:pt x="320" y="443"/>
                  <a:pt x="349" y="423"/>
                  <a:pt x="368" y="367"/>
                </a:cubicBezTo>
                <a:cubicBezTo>
                  <a:pt x="387" y="311"/>
                  <a:pt x="403" y="188"/>
                  <a:pt x="416" y="127"/>
                </a:cubicBezTo>
                <a:cubicBezTo>
                  <a:pt x="429" y="66"/>
                  <a:pt x="435" y="0"/>
                  <a:pt x="448" y="3"/>
                </a:cubicBezTo>
                <a:cubicBezTo>
                  <a:pt x="461" y="6"/>
                  <a:pt x="479" y="97"/>
                  <a:pt x="492" y="147"/>
                </a:cubicBezTo>
                <a:cubicBezTo>
                  <a:pt x="505" y="197"/>
                  <a:pt x="511" y="267"/>
                  <a:pt x="528" y="303"/>
                </a:cubicBezTo>
                <a:cubicBezTo>
                  <a:pt x="545" y="339"/>
                  <a:pt x="564" y="351"/>
                  <a:pt x="596" y="363"/>
                </a:cubicBezTo>
                <a:cubicBezTo>
                  <a:pt x="628" y="375"/>
                  <a:pt x="595" y="373"/>
                  <a:pt x="720" y="375"/>
                </a:cubicBezTo>
                <a:cubicBezTo>
                  <a:pt x="845" y="377"/>
                  <a:pt x="1214" y="375"/>
                  <a:pt x="1344" y="375"/>
                </a:cubicBezTo>
              </a:path>
            </a:pathLst>
          </a:custGeom>
          <a:noFill/>
          <a:ln w="19080">
            <a:solidFill>
              <a:srgbClr val="c8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1454040" y="3309840"/>
            <a:ext cx="1040040" cy="1449360"/>
          </a:xfrm>
          <a:custGeom>
            <a:avLst/>
            <a:gdLst/>
            <a:ahLst/>
            <a:rect l="l" t="t" r="r" b="b"/>
            <a:pathLst>
              <a:path w="426" h="466">
                <a:moveTo>
                  <a:pt x="0" y="466"/>
                </a:moveTo>
                <a:cubicBezTo>
                  <a:pt x="19" y="458"/>
                  <a:pt x="73" y="457"/>
                  <a:pt x="113" y="418"/>
                </a:cubicBezTo>
                <a:cubicBezTo>
                  <a:pt x="152" y="379"/>
                  <a:pt x="197" y="293"/>
                  <a:pt x="235" y="229"/>
                </a:cubicBezTo>
                <a:cubicBezTo>
                  <a:pt x="273" y="166"/>
                  <a:pt x="309" y="76"/>
                  <a:pt x="341" y="38"/>
                </a:cubicBezTo>
                <a:cubicBezTo>
                  <a:pt x="373" y="0"/>
                  <a:pt x="408" y="10"/>
                  <a:pt x="426" y="2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2455920" y="3316320"/>
            <a:ext cx="2452680" cy="146160"/>
          </a:xfrm>
          <a:custGeom>
            <a:avLst/>
            <a:gdLst/>
            <a:ahLst/>
            <a:rect l="l" t="t" r="r" b="b"/>
            <a:pathLst>
              <a:path w="668" h="32">
                <a:moveTo>
                  <a:pt x="0" y="0"/>
                </a:moveTo>
                <a:cubicBezTo>
                  <a:pt x="7" y="1"/>
                  <a:pt x="23" y="3"/>
                  <a:pt x="40" y="8"/>
                </a:cubicBezTo>
                <a:cubicBezTo>
                  <a:pt x="57" y="13"/>
                  <a:pt x="73" y="24"/>
                  <a:pt x="104" y="28"/>
                </a:cubicBezTo>
                <a:cubicBezTo>
                  <a:pt x="135" y="32"/>
                  <a:pt x="164" y="32"/>
                  <a:pt x="228" y="32"/>
                </a:cubicBezTo>
                <a:cubicBezTo>
                  <a:pt x="292" y="32"/>
                  <a:pt x="415" y="31"/>
                  <a:pt x="488" y="31"/>
                </a:cubicBezTo>
                <a:cubicBezTo>
                  <a:pt x="561" y="31"/>
                  <a:pt x="638" y="31"/>
                  <a:pt x="668" y="31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4905360" y="2930400"/>
            <a:ext cx="0" cy="24498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 flipH="1">
            <a:off x="740880" y="4767120"/>
            <a:ext cx="7239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361080" y="6054840"/>
            <a:ext cx="50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mesure simultanée de la contréction et de la [Ca</a:t>
            </a:r>
            <a:r>
              <a:rPr b="1" i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i="1" lang="fr-FR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285840" y="1187280"/>
            <a:ext cx="57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proportion de cycle phosphorylé / dé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>
            <a:off x="1587600" y="3124080"/>
            <a:ext cx="736560" cy="9907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 rot="16200000">
            <a:off x="4619520" y="37983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 rot="16200000">
            <a:off x="77760" y="4158720"/>
            <a:ext cx="88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0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0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356760" y="1609560"/>
            <a:ext cx="3555000" cy="1100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élevée : cycle phosphorylé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élévation rapide de la con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sommation importante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nts actomyosiques « labile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336600" y="758880"/>
            <a:ext cx="15249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ôle du 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727200" y="3002040"/>
            <a:ext cx="4178160" cy="2378160"/>
          </a:xfrm>
          <a:custGeom>
            <a:avLst/>
            <a:gdLst/>
            <a:ahLst/>
            <a:rect l="l" t="t" r="r" b="b"/>
            <a:pathLst>
              <a:path w="1218" h="1008">
                <a:moveTo>
                  <a:pt x="0" y="0"/>
                </a:moveTo>
                <a:lnTo>
                  <a:pt x="0" y="1008"/>
                </a:lnTo>
                <a:lnTo>
                  <a:pt x="1218" y="10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9" name=""/>
          <p:cNvSpPr/>
          <p:nvPr/>
        </p:nvSpPr>
        <p:spPr>
          <a:xfrm>
            <a:off x="2138400" y="54784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mps (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0" name=""/>
          <p:cNvSpPr/>
          <p:nvPr/>
        </p:nvSpPr>
        <p:spPr>
          <a:xfrm>
            <a:off x="727200" y="3244680"/>
            <a:ext cx="4181400" cy="1514520"/>
          </a:xfrm>
          <a:custGeom>
            <a:avLst/>
            <a:gdLst/>
            <a:ahLst/>
            <a:rect l="l" t="t" r="r" b="b"/>
            <a:pathLst>
              <a:path w="1344" h="487">
                <a:moveTo>
                  <a:pt x="0" y="487"/>
                </a:moveTo>
                <a:lnTo>
                  <a:pt x="248" y="487"/>
                </a:lnTo>
                <a:lnTo>
                  <a:pt x="300" y="463"/>
                </a:lnTo>
                <a:cubicBezTo>
                  <a:pt x="320" y="443"/>
                  <a:pt x="349" y="423"/>
                  <a:pt x="368" y="367"/>
                </a:cubicBezTo>
                <a:cubicBezTo>
                  <a:pt x="387" y="311"/>
                  <a:pt x="403" y="188"/>
                  <a:pt x="416" y="127"/>
                </a:cubicBezTo>
                <a:cubicBezTo>
                  <a:pt x="429" y="66"/>
                  <a:pt x="435" y="0"/>
                  <a:pt x="448" y="3"/>
                </a:cubicBezTo>
                <a:cubicBezTo>
                  <a:pt x="461" y="6"/>
                  <a:pt x="479" y="97"/>
                  <a:pt x="492" y="147"/>
                </a:cubicBezTo>
                <a:cubicBezTo>
                  <a:pt x="505" y="197"/>
                  <a:pt x="511" y="267"/>
                  <a:pt x="528" y="303"/>
                </a:cubicBezTo>
                <a:cubicBezTo>
                  <a:pt x="545" y="339"/>
                  <a:pt x="564" y="351"/>
                  <a:pt x="596" y="363"/>
                </a:cubicBezTo>
                <a:cubicBezTo>
                  <a:pt x="628" y="375"/>
                  <a:pt x="595" y="373"/>
                  <a:pt x="720" y="375"/>
                </a:cubicBezTo>
                <a:cubicBezTo>
                  <a:pt x="845" y="377"/>
                  <a:pt x="1214" y="375"/>
                  <a:pt x="1344" y="375"/>
                </a:cubicBezTo>
              </a:path>
            </a:pathLst>
          </a:custGeom>
          <a:noFill/>
          <a:ln w="19080">
            <a:solidFill>
              <a:srgbClr val="c8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1454040" y="3309840"/>
            <a:ext cx="1040040" cy="1449360"/>
          </a:xfrm>
          <a:custGeom>
            <a:avLst/>
            <a:gdLst/>
            <a:ahLst/>
            <a:rect l="l" t="t" r="r" b="b"/>
            <a:pathLst>
              <a:path w="426" h="466">
                <a:moveTo>
                  <a:pt x="0" y="466"/>
                </a:moveTo>
                <a:cubicBezTo>
                  <a:pt x="19" y="458"/>
                  <a:pt x="73" y="457"/>
                  <a:pt x="113" y="418"/>
                </a:cubicBezTo>
                <a:cubicBezTo>
                  <a:pt x="152" y="379"/>
                  <a:pt x="197" y="293"/>
                  <a:pt x="235" y="229"/>
                </a:cubicBezTo>
                <a:cubicBezTo>
                  <a:pt x="273" y="166"/>
                  <a:pt x="309" y="76"/>
                  <a:pt x="341" y="38"/>
                </a:cubicBezTo>
                <a:cubicBezTo>
                  <a:pt x="373" y="0"/>
                  <a:pt x="408" y="10"/>
                  <a:pt x="426" y="2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2" name=""/>
          <p:cNvSpPr/>
          <p:nvPr/>
        </p:nvSpPr>
        <p:spPr>
          <a:xfrm>
            <a:off x="2455920" y="3316320"/>
            <a:ext cx="2452680" cy="146160"/>
          </a:xfrm>
          <a:custGeom>
            <a:avLst/>
            <a:gdLst/>
            <a:ahLst/>
            <a:rect l="l" t="t" r="r" b="b"/>
            <a:pathLst>
              <a:path w="668" h="32">
                <a:moveTo>
                  <a:pt x="0" y="0"/>
                </a:moveTo>
                <a:cubicBezTo>
                  <a:pt x="7" y="1"/>
                  <a:pt x="23" y="3"/>
                  <a:pt x="40" y="8"/>
                </a:cubicBezTo>
                <a:cubicBezTo>
                  <a:pt x="57" y="13"/>
                  <a:pt x="73" y="24"/>
                  <a:pt x="104" y="28"/>
                </a:cubicBezTo>
                <a:cubicBezTo>
                  <a:pt x="135" y="32"/>
                  <a:pt x="164" y="32"/>
                  <a:pt x="228" y="32"/>
                </a:cubicBezTo>
                <a:cubicBezTo>
                  <a:pt x="292" y="32"/>
                  <a:pt x="415" y="31"/>
                  <a:pt x="488" y="31"/>
                </a:cubicBezTo>
                <a:cubicBezTo>
                  <a:pt x="561" y="31"/>
                  <a:pt x="638" y="31"/>
                  <a:pt x="668" y="31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3" name=""/>
          <p:cNvSpPr/>
          <p:nvPr/>
        </p:nvSpPr>
        <p:spPr>
          <a:xfrm>
            <a:off x="4905360" y="2930400"/>
            <a:ext cx="0" cy="244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4" name=""/>
          <p:cNvSpPr/>
          <p:nvPr/>
        </p:nvSpPr>
        <p:spPr>
          <a:xfrm flipH="1">
            <a:off x="740880" y="4767120"/>
            <a:ext cx="7239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5" name=""/>
          <p:cNvSpPr/>
          <p:nvPr/>
        </p:nvSpPr>
        <p:spPr>
          <a:xfrm>
            <a:off x="361080" y="6054840"/>
            <a:ext cx="50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mesure simultanée de la contraction et de la [Ca</a:t>
            </a:r>
            <a:r>
              <a:rPr b="1" i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1" i="1" lang="fr-FR" sz="16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i="1" lang="fr-FR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6" name=""/>
          <p:cNvSpPr/>
          <p:nvPr/>
        </p:nvSpPr>
        <p:spPr>
          <a:xfrm>
            <a:off x="285840" y="1187280"/>
            <a:ext cx="57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proportion de cycle phosphorylé / déphosphoryl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7" name=""/>
          <p:cNvSpPr/>
          <p:nvPr/>
        </p:nvSpPr>
        <p:spPr>
          <a:xfrm>
            <a:off x="3035160" y="3301920"/>
            <a:ext cx="1308240" cy="12574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8" name=""/>
          <p:cNvSpPr/>
          <p:nvPr/>
        </p:nvSpPr>
        <p:spPr>
          <a:xfrm>
            <a:off x="356760" y="1609560"/>
            <a:ext cx="3555000" cy="1100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élevée : cycle phosphorylé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élévation rapide de la con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sommation importante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nts actomyosiques « labile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9" name=""/>
          <p:cNvSpPr/>
          <p:nvPr/>
        </p:nvSpPr>
        <p:spPr>
          <a:xfrm>
            <a:off x="1587600" y="3124080"/>
            <a:ext cx="736560" cy="9907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0" name=""/>
          <p:cNvSpPr/>
          <p:nvPr/>
        </p:nvSpPr>
        <p:spPr>
          <a:xfrm>
            <a:off x="5313240" y="2862360"/>
            <a:ext cx="3681360" cy="11008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1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faible : cycle déphosphorylé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aintien de la con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consommation faible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nts actomyosiques « verrouillé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1" name=""/>
          <p:cNvSpPr/>
          <p:nvPr/>
        </p:nvSpPr>
        <p:spPr>
          <a:xfrm rot="16200000">
            <a:off x="4619520" y="379836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 rot="16200000">
            <a:off x="77760" y="4158720"/>
            <a:ext cx="88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[Ca</a:t>
            </a:r>
            <a:r>
              <a:rPr b="0" lang="fr-FR" sz="1600" spc="-1" strike="noStrike" baseline="30000">
                <a:solidFill>
                  <a:srgbClr val="800000"/>
                </a:solidFill>
                <a:latin typeface="Arial"/>
              </a:rPr>
              <a:t>2+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0" lang="fr-FR" sz="1600" spc="-1" strike="noStrike" baseline="-25000">
                <a:solidFill>
                  <a:srgbClr val="8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8000" y="148284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contrôle de l'activité musculaire par le système nerv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1800" y="968400"/>
            <a:ext cx="84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ment peut-on classer les différents types de muscles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1280" y="431640"/>
            <a:ext cx="3624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06280"/>
            <a:ext cx="83271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introduction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s différents types de mus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0520" y="2627280"/>
            <a:ext cx="75978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« volontaires »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= sous contrôle du système nerveux moteur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squelet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03480" y="4341960"/>
            <a:ext cx="750888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uscles « involontaires »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= sous contrôle du système nerveux auto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muscles lisses et cardiaque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280" y="2857680"/>
            <a:ext cx="406080" cy="1714320"/>
          </a:xfrm>
          <a:custGeom>
            <a:avLst/>
            <a:gdLst/>
            <a:ahLst/>
            <a:rect l="l" t="t" r="r" b="b"/>
            <a:pathLst>
              <a:path w="256" h="1136">
                <a:moveTo>
                  <a:pt x="248" y="0"/>
                </a:moveTo>
                <a:lnTo>
                  <a:pt x="0" y="0"/>
                </a:lnTo>
                <a:lnTo>
                  <a:pt x="0" y="1136"/>
                </a:lnTo>
                <a:lnTo>
                  <a:pt x="256" y="113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324720" y="758880"/>
            <a:ext cx="32684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hysiologie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241200" y="1355760"/>
            <a:ext cx="82105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: activation enzymatique (Ca-Cam + ML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ssibilité de modulation de la contraction : balance MLCK / 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istence de cycles phosphorylé / partiellement déphosphory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de la vitess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de la consomma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aintien de la contraction avec une faible consomma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(ponts actomyosiques « verrouillés 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2921040" y="431640"/>
            <a:ext cx="3865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183240" y="206280"/>
            <a:ext cx="82868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’organisation du muscle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324720" y="758880"/>
            <a:ext cx="326844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hysiologie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333360" y="4846680"/>
            <a:ext cx="8116920" cy="13107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Arial"/>
              </a:rPr>
              <a:t>NB : l’hypothèse des ponts verrouillés non formellement démontré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Arial"/>
              </a:rPr>
              <a:t>(pont actomyosique verrouillé non isolé biochimiqu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autres explications possibles à l’existence de cycles de contraction déphosphorylé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odulation par caldesmone (CD) et calponine(CP), protéines associées au filament 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fr-FR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rotéine Rho et MLC17 : contraction sans phosphory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241200" y="1355760"/>
            <a:ext cx="82105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écanisme d’action du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: activation enzymatique (Ca-Cam + ML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possibilité de modulation de la contraction : balance MLCK / 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xistence de cycles phosphorylé / partiellement déphosphory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de la vitesse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odulation de la consomma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maintien de la contraction avec une faible consommation d’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800000"/>
                </a:solidFill>
                <a:latin typeface="Arial"/>
              </a:rPr>
              <a:t>(ponts actomyosiques « verrouillés 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4089240" y="431640"/>
            <a:ext cx="1846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180720" y="206280"/>
            <a:ext cx="8209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uctures impliqu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333000" y="758880"/>
            <a:ext cx="5589720" cy="4406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tructure impliquée dans l’élévation de la [C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1" name=""/>
          <p:cNvGrpSpPr/>
          <p:nvPr/>
        </p:nvGrpSpPr>
        <p:grpSpPr>
          <a:xfrm>
            <a:off x="4695840" y="4041720"/>
            <a:ext cx="3209760" cy="979560"/>
            <a:chOff x="4695840" y="4041720"/>
            <a:chExt cx="3209760" cy="979560"/>
          </a:xfrm>
        </p:grpSpPr>
        <p:sp>
          <p:nvSpPr>
            <p:cNvPr id="7982" name=""/>
            <p:cNvSpPr/>
            <p:nvPr/>
          </p:nvSpPr>
          <p:spPr>
            <a:xfrm>
              <a:off x="4698000" y="404172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6301800" y="404172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7905600" y="4041720"/>
              <a:ext cx="0" cy="9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5705280" y="40417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4695840" y="40417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5021640" y="413712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5705280" y="42321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4695840" y="42321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5021640" y="43275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5705280" y="44323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4695840" y="44323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5021640" y="452772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5705280" y="46227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4695840" y="46227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5021640" y="47181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5705280" y="4822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4695840" y="48229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5021640" y="49179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5705280" y="50133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4695840" y="50133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7309080" y="40417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6299640" y="40417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6625440" y="413712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7309080" y="42321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6299640" y="42321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6625440" y="43275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7309080" y="44323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6299640" y="44323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6625440" y="452772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7309080" y="46227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6299640" y="46227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6625440" y="47181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7309080" y="4822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6299640" y="482292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6625440" y="4917960"/>
              <a:ext cx="9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7309080" y="50133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6299640" y="5013360"/>
              <a:ext cx="6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9" name=""/>
          <p:cNvSpPr/>
          <p:nvPr/>
        </p:nvSpPr>
        <p:spPr>
          <a:xfrm>
            <a:off x="4692600" y="5092560"/>
            <a:ext cx="3284640" cy="457200"/>
          </a:xfrm>
          <a:custGeom>
            <a:avLst/>
            <a:gdLst/>
            <a:ahLst/>
            <a:rect l="l" t="t" r="r" b="b"/>
            <a:pathLst>
              <a:path w="2069" h="200">
                <a:moveTo>
                  <a:pt x="188" y="88"/>
                </a:moveTo>
                <a:cubicBezTo>
                  <a:pt x="235" y="72"/>
                  <a:pt x="284" y="76"/>
                  <a:pt x="332" y="64"/>
                </a:cubicBezTo>
                <a:cubicBezTo>
                  <a:pt x="420" y="5"/>
                  <a:pt x="498" y="13"/>
                  <a:pt x="604" y="0"/>
                </a:cubicBezTo>
                <a:cubicBezTo>
                  <a:pt x="641" y="6"/>
                  <a:pt x="672" y="15"/>
                  <a:pt x="708" y="24"/>
                </a:cubicBezTo>
                <a:cubicBezTo>
                  <a:pt x="810" y="92"/>
                  <a:pt x="899" y="44"/>
                  <a:pt x="1044" y="40"/>
                </a:cubicBezTo>
                <a:cubicBezTo>
                  <a:pt x="1178" y="62"/>
                  <a:pt x="1223" y="66"/>
                  <a:pt x="1396" y="72"/>
                </a:cubicBezTo>
                <a:cubicBezTo>
                  <a:pt x="1596" y="67"/>
                  <a:pt x="1638" y="68"/>
                  <a:pt x="1780" y="40"/>
                </a:cubicBezTo>
                <a:cubicBezTo>
                  <a:pt x="1868" y="49"/>
                  <a:pt x="1937" y="66"/>
                  <a:pt x="2028" y="72"/>
                </a:cubicBezTo>
                <a:cubicBezTo>
                  <a:pt x="2039" y="88"/>
                  <a:pt x="2049" y="104"/>
                  <a:pt x="2060" y="120"/>
                </a:cubicBezTo>
                <a:cubicBezTo>
                  <a:pt x="2069" y="133"/>
                  <a:pt x="2060" y="154"/>
                  <a:pt x="2052" y="168"/>
                </a:cubicBezTo>
                <a:cubicBezTo>
                  <a:pt x="2048" y="175"/>
                  <a:pt x="2036" y="174"/>
                  <a:pt x="2028" y="176"/>
                </a:cubicBezTo>
                <a:cubicBezTo>
                  <a:pt x="1989" y="187"/>
                  <a:pt x="1948" y="193"/>
                  <a:pt x="1908" y="200"/>
                </a:cubicBezTo>
                <a:cubicBezTo>
                  <a:pt x="1868" y="197"/>
                  <a:pt x="1828" y="196"/>
                  <a:pt x="1788" y="192"/>
                </a:cubicBezTo>
                <a:cubicBezTo>
                  <a:pt x="1774" y="191"/>
                  <a:pt x="1761" y="188"/>
                  <a:pt x="1748" y="184"/>
                </a:cubicBezTo>
                <a:cubicBezTo>
                  <a:pt x="1732" y="180"/>
                  <a:pt x="1700" y="168"/>
                  <a:pt x="1700" y="168"/>
                </a:cubicBezTo>
                <a:cubicBezTo>
                  <a:pt x="1618" y="173"/>
                  <a:pt x="1561" y="181"/>
                  <a:pt x="1484" y="192"/>
                </a:cubicBezTo>
                <a:cubicBezTo>
                  <a:pt x="1335" y="186"/>
                  <a:pt x="1221" y="176"/>
                  <a:pt x="1076" y="184"/>
                </a:cubicBezTo>
                <a:cubicBezTo>
                  <a:pt x="1020" y="198"/>
                  <a:pt x="1015" y="199"/>
                  <a:pt x="948" y="192"/>
                </a:cubicBezTo>
                <a:cubicBezTo>
                  <a:pt x="922" y="175"/>
                  <a:pt x="897" y="170"/>
                  <a:pt x="868" y="160"/>
                </a:cubicBezTo>
                <a:cubicBezTo>
                  <a:pt x="767" y="163"/>
                  <a:pt x="619" y="184"/>
                  <a:pt x="508" y="168"/>
                </a:cubicBezTo>
                <a:cubicBezTo>
                  <a:pt x="476" y="157"/>
                  <a:pt x="444" y="155"/>
                  <a:pt x="412" y="144"/>
                </a:cubicBezTo>
                <a:cubicBezTo>
                  <a:pt x="344" y="151"/>
                  <a:pt x="286" y="171"/>
                  <a:pt x="220" y="184"/>
                </a:cubicBezTo>
                <a:cubicBezTo>
                  <a:pt x="151" y="181"/>
                  <a:pt x="81" y="186"/>
                  <a:pt x="12" y="176"/>
                </a:cubicBezTo>
                <a:cubicBezTo>
                  <a:pt x="2" y="175"/>
                  <a:pt x="0" y="135"/>
                  <a:pt x="12" y="112"/>
                </a:cubicBezTo>
                <a:cubicBezTo>
                  <a:pt x="29" y="78"/>
                  <a:pt x="58" y="85"/>
                  <a:pt x="92" y="80"/>
                </a:cubicBezTo>
                <a:cubicBezTo>
                  <a:pt x="125" y="58"/>
                  <a:pt x="133" y="54"/>
                  <a:pt x="172" y="64"/>
                </a:cubicBezTo>
                <a:cubicBezTo>
                  <a:pt x="177" y="72"/>
                  <a:pt x="188" y="88"/>
                  <a:pt x="188" y="88"/>
                </a:cubicBezTo>
                <a:close/>
              </a:path>
            </a:pathLst>
          </a:custGeom>
          <a:solidFill>
            <a:srgbClr val="ffff95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0" name=""/>
          <p:cNvSpPr/>
          <p:nvPr/>
        </p:nvSpPr>
        <p:spPr>
          <a:xfrm>
            <a:off x="1296360" y="140184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Fibre nerveuse effé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1" name=""/>
          <p:cNvSpPr/>
          <p:nvPr/>
        </p:nvSpPr>
        <p:spPr>
          <a:xfrm>
            <a:off x="1589040" y="3666960"/>
            <a:ext cx="25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Plaque neuromusc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2" name=""/>
          <p:cNvSpPr/>
          <p:nvPr/>
        </p:nvSpPr>
        <p:spPr>
          <a:xfrm>
            <a:off x="3289320" y="421308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Tubule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3" name=""/>
          <p:cNvSpPr/>
          <p:nvPr/>
        </p:nvSpPr>
        <p:spPr>
          <a:xfrm>
            <a:off x="5082840" y="550872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Réticulum sarcoplas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4" name=""/>
          <p:cNvSpPr/>
          <p:nvPr/>
        </p:nvSpPr>
        <p:spPr>
          <a:xfrm>
            <a:off x="927000" y="3289320"/>
            <a:ext cx="7954920" cy="1828800"/>
          </a:xfrm>
          <a:custGeom>
            <a:avLst/>
            <a:gdLst/>
            <a:ahLst/>
            <a:rect l="l" t="t" r="r" b="b"/>
            <a:pathLst>
              <a:path w="5011" h="1152">
                <a:moveTo>
                  <a:pt x="0" y="16"/>
                </a:moveTo>
                <a:cubicBezTo>
                  <a:pt x="223" y="48"/>
                  <a:pt x="30" y="31"/>
                  <a:pt x="256" y="40"/>
                </a:cubicBezTo>
                <a:cubicBezTo>
                  <a:pt x="314" y="59"/>
                  <a:pt x="264" y="0"/>
                  <a:pt x="456" y="40"/>
                </a:cubicBezTo>
                <a:cubicBezTo>
                  <a:pt x="536" y="232"/>
                  <a:pt x="631" y="153"/>
                  <a:pt x="672" y="176"/>
                </a:cubicBezTo>
                <a:cubicBezTo>
                  <a:pt x="689" y="185"/>
                  <a:pt x="880" y="176"/>
                  <a:pt x="880" y="176"/>
                </a:cubicBezTo>
                <a:cubicBezTo>
                  <a:pt x="1008" y="176"/>
                  <a:pt x="1120" y="177"/>
                  <a:pt x="1176" y="184"/>
                </a:cubicBezTo>
                <a:cubicBezTo>
                  <a:pt x="1315" y="181"/>
                  <a:pt x="1277" y="191"/>
                  <a:pt x="1416" y="184"/>
                </a:cubicBezTo>
                <a:cubicBezTo>
                  <a:pt x="1489" y="180"/>
                  <a:pt x="1575" y="186"/>
                  <a:pt x="1656" y="176"/>
                </a:cubicBezTo>
                <a:cubicBezTo>
                  <a:pt x="1703" y="163"/>
                  <a:pt x="1703" y="160"/>
                  <a:pt x="1744" y="144"/>
                </a:cubicBezTo>
                <a:cubicBezTo>
                  <a:pt x="1785" y="128"/>
                  <a:pt x="1861" y="79"/>
                  <a:pt x="1904" y="80"/>
                </a:cubicBezTo>
                <a:cubicBezTo>
                  <a:pt x="1982" y="91"/>
                  <a:pt x="1933" y="107"/>
                  <a:pt x="2000" y="152"/>
                </a:cubicBezTo>
                <a:cubicBezTo>
                  <a:pt x="2005" y="166"/>
                  <a:pt x="2019" y="217"/>
                  <a:pt x="2032" y="232"/>
                </a:cubicBezTo>
                <a:cubicBezTo>
                  <a:pt x="2041" y="242"/>
                  <a:pt x="2054" y="247"/>
                  <a:pt x="2064" y="256"/>
                </a:cubicBezTo>
                <a:cubicBezTo>
                  <a:pt x="2108" y="297"/>
                  <a:pt x="2149" y="334"/>
                  <a:pt x="2168" y="392"/>
                </a:cubicBezTo>
                <a:cubicBezTo>
                  <a:pt x="2160" y="416"/>
                  <a:pt x="2152" y="440"/>
                  <a:pt x="2144" y="464"/>
                </a:cubicBezTo>
                <a:cubicBezTo>
                  <a:pt x="2141" y="472"/>
                  <a:pt x="2136" y="488"/>
                  <a:pt x="2136" y="488"/>
                </a:cubicBezTo>
                <a:cubicBezTo>
                  <a:pt x="2136" y="511"/>
                  <a:pt x="2110" y="973"/>
                  <a:pt x="2192" y="1096"/>
                </a:cubicBezTo>
                <a:cubicBezTo>
                  <a:pt x="2202" y="1135"/>
                  <a:pt x="2211" y="1140"/>
                  <a:pt x="2248" y="1152"/>
                </a:cubicBezTo>
                <a:cubicBezTo>
                  <a:pt x="2256" y="1147"/>
                  <a:pt x="2267" y="1144"/>
                  <a:pt x="2272" y="1136"/>
                </a:cubicBezTo>
                <a:cubicBezTo>
                  <a:pt x="2281" y="1122"/>
                  <a:pt x="2288" y="1088"/>
                  <a:pt x="2288" y="1088"/>
                </a:cubicBezTo>
                <a:cubicBezTo>
                  <a:pt x="2295" y="945"/>
                  <a:pt x="2300" y="798"/>
                  <a:pt x="2320" y="656"/>
                </a:cubicBezTo>
                <a:cubicBezTo>
                  <a:pt x="2317" y="637"/>
                  <a:pt x="2316" y="618"/>
                  <a:pt x="2312" y="600"/>
                </a:cubicBezTo>
                <a:cubicBezTo>
                  <a:pt x="2308" y="584"/>
                  <a:pt x="2296" y="552"/>
                  <a:pt x="2296" y="552"/>
                </a:cubicBezTo>
                <a:cubicBezTo>
                  <a:pt x="2289" y="456"/>
                  <a:pt x="2253" y="321"/>
                  <a:pt x="2304" y="232"/>
                </a:cubicBezTo>
                <a:cubicBezTo>
                  <a:pt x="2316" y="212"/>
                  <a:pt x="2363" y="185"/>
                  <a:pt x="2376" y="176"/>
                </a:cubicBezTo>
                <a:cubicBezTo>
                  <a:pt x="2479" y="107"/>
                  <a:pt x="2632" y="116"/>
                  <a:pt x="2744" y="112"/>
                </a:cubicBezTo>
                <a:cubicBezTo>
                  <a:pt x="3280" y="119"/>
                  <a:pt x="3816" y="123"/>
                  <a:pt x="4352" y="136"/>
                </a:cubicBezTo>
                <a:cubicBezTo>
                  <a:pt x="4380" y="155"/>
                  <a:pt x="4440" y="184"/>
                  <a:pt x="4440" y="184"/>
                </a:cubicBezTo>
                <a:cubicBezTo>
                  <a:pt x="4458" y="211"/>
                  <a:pt x="4464" y="232"/>
                  <a:pt x="4472" y="264"/>
                </a:cubicBezTo>
                <a:cubicBezTo>
                  <a:pt x="4479" y="348"/>
                  <a:pt x="4485" y="431"/>
                  <a:pt x="4512" y="512"/>
                </a:cubicBezTo>
                <a:cubicBezTo>
                  <a:pt x="4514" y="582"/>
                  <a:pt x="4473" y="805"/>
                  <a:pt x="4544" y="912"/>
                </a:cubicBezTo>
                <a:cubicBezTo>
                  <a:pt x="4547" y="928"/>
                  <a:pt x="4548" y="944"/>
                  <a:pt x="4552" y="960"/>
                </a:cubicBezTo>
                <a:cubicBezTo>
                  <a:pt x="4556" y="976"/>
                  <a:pt x="4568" y="1008"/>
                  <a:pt x="4568" y="1008"/>
                </a:cubicBezTo>
                <a:cubicBezTo>
                  <a:pt x="4576" y="1073"/>
                  <a:pt x="4569" y="1078"/>
                  <a:pt x="4624" y="1096"/>
                </a:cubicBezTo>
                <a:cubicBezTo>
                  <a:pt x="4666" y="1089"/>
                  <a:pt x="4672" y="1100"/>
                  <a:pt x="4688" y="1064"/>
                </a:cubicBezTo>
                <a:cubicBezTo>
                  <a:pt x="4695" y="1049"/>
                  <a:pt x="4699" y="1032"/>
                  <a:pt x="4704" y="1016"/>
                </a:cubicBezTo>
                <a:cubicBezTo>
                  <a:pt x="4707" y="1008"/>
                  <a:pt x="4712" y="992"/>
                  <a:pt x="4712" y="992"/>
                </a:cubicBezTo>
                <a:cubicBezTo>
                  <a:pt x="4705" y="812"/>
                  <a:pt x="4702" y="636"/>
                  <a:pt x="4720" y="456"/>
                </a:cubicBezTo>
                <a:cubicBezTo>
                  <a:pt x="4717" y="421"/>
                  <a:pt x="4720" y="386"/>
                  <a:pt x="4712" y="352"/>
                </a:cubicBezTo>
                <a:cubicBezTo>
                  <a:pt x="4709" y="341"/>
                  <a:pt x="4694" y="337"/>
                  <a:pt x="4688" y="328"/>
                </a:cubicBezTo>
                <a:cubicBezTo>
                  <a:pt x="4681" y="317"/>
                  <a:pt x="4673" y="270"/>
                  <a:pt x="4672" y="264"/>
                </a:cubicBezTo>
                <a:cubicBezTo>
                  <a:pt x="4677" y="243"/>
                  <a:pt x="4672" y="216"/>
                  <a:pt x="4688" y="200"/>
                </a:cubicBezTo>
                <a:cubicBezTo>
                  <a:pt x="4709" y="179"/>
                  <a:pt x="4736" y="152"/>
                  <a:pt x="4760" y="136"/>
                </a:cubicBezTo>
                <a:cubicBezTo>
                  <a:pt x="4774" y="127"/>
                  <a:pt x="4825" y="122"/>
                  <a:pt x="4832" y="120"/>
                </a:cubicBezTo>
                <a:cubicBezTo>
                  <a:pt x="4885" y="107"/>
                  <a:pt x="4940" y="89"/>
                  <a:pt x="4992" y="72"/>
                </a:cubicBezTo>
                <a:cubicBezTo>
                  <a:pt x="5000" y="49"/>
                  <a:pt x="5011" y="16"/>
                  <a:pt x="4976" y="16"/>
                </a:cubicBezTo>
              </a:path>
            </a:pathLst>
          </a:custGeom>
          <a:solidFill>
            <a:srgbClr val="ffff9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5" name=""/>
          <p:cNvSpPr/>
          <p:nvPr/>
        </p:nvSpPr>
        <p:spPr>
          <a:xfrm>
            <a:off x="4641840" y="3492360"/>
            <a:ext cx="3284640" cy="470160"/>
          </a:xfrm>
          <a:custGeom>
            <a:avLst/>
            <a:gdLst/>
            <a:ahLst/>
            <a:rect l="l" t="t" r="r" b="b"/>
            <a:pathLst>
              <a:path w="2069" h="200">
                <a:moveTo>
                  <a:pt x="188" y="88"/>
                </a:moveTo>
                <a:cubicBezTo>
                  <a:pt x="235" y="72"/>
                  <a:pt x="284" y="76"/>
                  <a:pt x="332" y="64"/>
                </a:cubicBezTo>
                <a:cubicBezTo>
                  <a:pt x="420" y="5"/>
                  <a:pt x="498" y="13"/>
                  <a:pt x="604" y="0"/>
                </a:cubicBezTo>
                <a:cubicBezTo>
                  <a:pt x="641" y="6"/>
                  <a:pt x="672" y="15"/>
                  <a:pt x="708" y="24"/>
                </a:cubicBezTo>
                <a:cubicBezTo>
                  <a:pt x="810" y="92"/>
                  <a:pt x="899" y="44"/>
                  <a:pt x="1044" y="40"/>
                </a:cubicBezTo>
                <a:cubicBezTo>
                  <a:pt x="1178" y="62"/>
                  <a:pt x="1223" y="66"/>
                  <a:pt x="1396" y="72"/>
                </a:cubicBezTo>
                <a:cubicBezTo>
                  <a:pt x="1596" y="67"/>
                  <a:pt x="1638" y="68"/>
                  <a:pt x="1780" y="40"/>
                </a:cubicBezTo>
                <a:cubicBezTo>
                  <a:pt x="1868" y="49"/>
                  <a:pt x="1937" y="66"/>
                  <a:pt x="2028" y="72"/>
                </a:cubicBezTo>
                <a:cubicBezTo>
                  <a:pt x="2039" y="88"/>
                  <a:pt x="2049" y="104"/>
                  <a:pt x="2060" y="120"/>
                </a:cubicBezTo>
                <a:cubicBezTo>
                  <a:pt x="2069" y="133"/>
                  <a:pt x="2060" y="154"/>
                  <a:pt x="2052" y="168"/>
                </a:cubicBezTo>
                <a:cubicBezTo>
                  <a:pt x="2048" y="175"/>
                  <a:pt x="2036" y="174"/>
                  <a:pt x="2028" y="176"/>
                </a:cubicBezTo>
                <a:cubicBezTo>
                  <a:pt x="1989" y="187"/>
                  <a:pt x="1948" y="193"/>
                  <a:pt x="1908" y="200"/>
                </a:cubicBezTo>
                <a:cubicBezTo>
                  <a:pt x="1868" y="197"/>
                  <a:pt x="1828" y="196"/>
                  <a:pt x="1788" y="192"/>
                </a:cubicBezTo>
                <a:cubicBezTo>
                  <a:pt x="1774" y="191"/>
                  <a:pt x="1761" y="188"/>
                  <a:pt x="1748" y="184"/>
                </a:cubicBezTo>
                <a:cubicBezTo>
                  <a:pt x="1732" y="180"/>
                  <a:pt x="1700" y="168"/>
                  <a:pt x="1700" y="168"/>
                </a:cubicBezTo>
                <a:cubicBezTo>
                  <a:pt x="1618" y="173"/>
                  <a:pt x="1561" y="181"/>
                  <a:pt x="1484" y="192"/>
                </a:cubicBezTo>
                <a:cubicBezTo>
                  <a:pt x="1335" y="186"/>
                  <a:pt x="1221" y="176"/>
                  <a:pt x="1076" y="184"/>
                </a:cubicBezTo>
                <a:cubicBezTo>
                  <a:pt x="1020" y="198"/>
                  <a:pt x="1015" y="199"/>
                  <a:pt x="948" y="192"/>
                </a:cubicBezTo>
                <a:cubicBezTo>
                  <a:pt x="922" y="175"/>
                  <a:pt x="897" y="170"/>
                  <a:pt x="868" y="160"/>
                </a:cubicBezTo>
                <a:cubicBezTo>
                  <a:pt x="767" y="163"/>
                  <a:pt x="619" y="184"/>
                  <a:pt x="508" y="168"/>
                </a:cubicBezTo>
                <a:cubicBezTo>
                  <a:pt x="476" y="157"/>
                  <a:pt x="444" y="155"/>
                  <a:pt x="412" y="144"/>
                </a:cubicBezTo>
                <a:cubicBezTo>
                  <a:pt x="344" y="151"/>
                  <a:pt x="286" y="171"/>
                  <a:pt x="220" y="184"/>
                </a:cubicBezTo>
                <a:cubicBezTo>
                  <a:pt x="151" y="181"/>
                  <a:pt x="81" y="186"/>
                  <a:pt x="12" y="176"/>
                </a:cubicBezTo>
                <a:cubicBezTo>
                  <a:pt x="2" y="175"/>
                  <a:pt x="0" y="135"/>
                  <a:pt x="12" y="112"/>
                </a:cubicBezTo>
                <a:cubicBezTo>
                  <a:pt x="29" y="78"/>
                  <a:pt x="58" y="85"/>
                  <a:pt x="92" y="80"/>
                </a:cubicBezTo>
                <a:cubicBezTo>
                  <a:pt x="125" y="58"/>
                  <a:pt x="133" y="54"/>
                  <a:pt x="172" y="64"/>
                </a:cubicBezTo>
                <a:cubicBezTo>
                  <a:pt x="177" y="72"/>
                  <a:pt x="188" y="88"/>
                  <a:pt x="188" y="88"/>
                </a:cubicBezTo>
                <a:close/>
              </a:path>
            </a:pathLst>
          </a:custGeom>
          <a:solidFill>
            <a:srgbClr val="ffff95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6" name="" descr=""/>
          <p:cNvPicPr/>
          <p:nvPr/>
        </p:nvPicPr>
        <p:blipFill>
          <a:blip r:embed="rId1"/>
          <a:stretch/>
        </p:blipFill>
        <p:spPr>
          <a:xfrm>
            <a:off x="546120" y="4849920"/>
            <a:ext cx="3165480" cy="18572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8027" name=""/>
          <p:cNvSpPr/>
          <p:nvPr/>
        </p:nvSpPr>
        <p:spPr>
          <a:xfrm>
            <a:off x="1295280" y="58896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0000"/>
                </a:solidFill>
                <a:latin typeface="Arial"/>
              </a:rPr>
              <a:t>Marquage du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8" name=""/>
          <p:cNvSpPr/>
          <p:nvPr/>
        </p:nvSpPr>
        <p:spPr>
          <a:xfrm>
            <a:off x="1943280" y="6184800"/>
            <a:ext cx="114120" cy="2034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 flipV="1">
            <a:off x="1917720" y="5067360"/>
            <a:ext cx="507960" cy="838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1417680" y="1644480"/>
            <a:ext cx="2531880" cy="185292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solidFill>
            <a:srgbClr val="eaeaea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2595600" y="2862360"/>
            <a:ext cx="142920" cy="1537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2" name=""/>
          <p:cNvGrpSpPr/>
          <p:nvPr/>
        </p:nvGrpSpPr>
        <p:grpSpPr>
          <a:xfrm>
            <a:off x="2824200" y="3132000"/>
            <a:ext cx="144360" cy="152280"/>
            <a:chOff x="2824200" y="3132000"/>
            <a:chExt cx="144360" cy="152280"/>
          </a:xfrm>
        </p:grpSpPr>
        <p:sp>
          <p:nvSpPr>
            <p:cNvPr id="8033" name=""/>
            <p:cNvSpPr/>
            <p:nvPr/>
          </p:nvSpPr>
          <p:spPr>
            <a:xfrm>
              <a:off x="2824200" y="3132000"/>
              <a:ext cx="14436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2824200" y="3132000"/>
              <a:ext cx="14436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5" name=""/>
          <p:cNvGrpSpPr/>
          <p:nvPr/>
        </p:nvGrpSpPr>
        <p:grpSpPr>
          <a:xfrm>
            <a:off x="3038400" y="3130560"/>
            <a:ext cx="142920" cy="154080"/>
            <a:chOff x="3038400" y="3130560"/>
            <a:chExt cx="142920" cy="154080"/>
          </a:xfrm>
        </p:grpSpPr>
        <p:sp>
          <p:nvSpPr>
            <p:cNvPr id="8036" name=""/>
            <p:cNvSpPr/>
            <p:nvPr/>
          </p:nvSpPr>
          <p:spPr>
            <a:xfrm>
              <a:off x="3038400" y="3130560"/>
              <a:ext cx="142920" cy="1540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3038400" y="3130560"/>
              <a:ext cx="142920" cy="1540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8" name=""/>
          <p:cNvGrpSpPr/>
          <p:nvPr/>
        </p:nvGrpSpPr>
        <p:grpSpPr>
          <a:xfrm>
            <a:off x="2529000" y="3274920"/>
            <a:ext cx="142920" cy="152280"/>
            <a:chOff x="2529000" y="3274920"/>
            <a:chExt cx="142920" cy="152280"/>
          </a:xfrm>
        </p:grpSpPr>
        <p:sp>
          <p:nvSpPr>
            <p:cNvPr id="8039" name=""/>
            <p:cNvSpPr/>
            <p:nvPr/>
          </p:nvSpPr>
          <p:spPr>
            <a:xfrm>
              <a:off x="2529000" y="3274920"/>
              <a:ext cx="14292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2529000" y="3274920"/>
              <a:ext cx="14292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1" name=""/>
          <p:cNvGrpSpPr/>
          <p:nvPr/>
        </p:nvGrpSpPr>
        <p:grpSpPr>
          <a:xfrm>
            <a:off x="3265560" y="3227400"/>
            <a:ext cx="142920" cy="152280"/>
            <a:chOff x="3265560" y="3227400"/>
            <a:chExt cx="142920" cy="152280"/>
          </a:xfrm>
        </p:grpSpPr>
        <p:sp>
          <p:nvSpPr>
            <p:cNvPr id="8042" name=""/>
            <p:cNvSpPr/>
            <p:nvPr/>
          </p:nvSpPr>
          <p:spPr>
            <a:xfrm>
              <a:off x="3265560" y="3227400"/>
              <a:ext cx="14292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3265560" y="3227400"/>
              <a:ext cx="14292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4" name=""/>
          <p:cNvGrpSpPr/>
          <p:nvPr/>
        </p:nvGrpSpPr>
        <p:grpSpPr>
          <a:xfrm>
            <a:off x="2346480" y="3075120"/>
            <a:ext cx="144360" cy="152280"/>
            <a:chOff x="2346480" y="3075120"/>
            <a:chExt cx="144360" cy="152280"/>
          </a:xfrm>
        </p:grpSpPr>
        <p:sp>
          <p:nvSpPr>
            <p:cNvPr id="8045" name=""/>
            <p:cNvSpPr/>
            <p:nvPr/>
          </p:nvSpPr>
          <p:spPr>
            <a:xfrm>
              <a:off x="2346480" y="3075120"/>
              <a:ext cx="14436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2346480" y="3075120"/>
              <a:ext cx="144360" cy="1522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7" name=""/>
          <p:cNvGrpSpPr/>
          <p:nvPr/>
        </p:nvGrpSpPr>
        <p:grpSpPr>
          <a:xfrm>
            <a:off x="3235320" y="2862360"/>
            <a:ext cx="144360" cy="153720"/>
            <a:chOff x="3235320" y="2862360"/>
            <a:chExt cx="144360" cy="153720"/>
          </a:xfrm>
        </p:grpSpPr>
        <p:sp>
          <p:nvSpPr>
            <p:cNvPr id="8048" name=""/>
            <p:cNvSpPr/>
            <p:nvPr/>
          </p:nvSpPr>
          <p:spPr>
            <a:xfrm>
              <a:off x="3235320" y="2862360"/>
              <a:ext cx="144360" cy="1537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3235320" y="2862360"/>
              <a:ext cx="144360" cy="1537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0" name=""/>
          <p:cNvSpPr/>
          <p:nvPr/>
        </p:nvSpPr>
        <p:spPr>
          <a:xfrm>
            <a:off x="6485400" y="304488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Milieu extracell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5357160" y="5127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>
            <a:off x="4074480" y="32734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>
            <a:off x="5255640" y="3527280"/>
            <a:ext cx="5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5618160" y="1401840"/>
            <a:ext cx="3297240" cy="337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xemple du muscle squelet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324360" y="758880"/>
            <a:ext cx="301392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jonction neuro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4408560" y="383544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4675320" y="386388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>
            <a:off x="5084640" y="4125960"/>
            <a:ext cx="1875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4897440" y="358776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5097600" y="38257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4748040" y="42354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4443480" y="414036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5819760" y="40878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5457960" y="42498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898800" y="3814920"/>
            <a:ext cx="185760" cy="1965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4092480" y="4203720"/>
            <a:ext cx="1875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5703840" y="3794040"/>
            <a:ext cx="18720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5332320" y="38512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5781600" y="5265720"/>
            <a:ext cx="1938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4908960" y="5621400"/>
            <a:ext cx="228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  <a:ea typeface="Arial"/>
              </a:rPr>
              <a:t>récepteurs nicoti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4281120" y="340200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2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3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5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6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7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8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9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0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1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2" name=""/>
          <p:cNvSpPr/>
          <p:nvPr/>
        </p:nvSpPr>
        <p:spPr>
          <a:xfrm>
            <a:off x="6892920" y="402912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3" name=""/>
          <p:cNvSpPr/>
          <p:nvPr/>
        </p:nvSpPr>
        <p:spPr>
          <a:xfrm>
            <a:off x="3565440" y="43974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4" name=""/>
          <p:cNvSpPr/>
          <p:nvPr/>
        </p:nvSpPr>
        <p:spPr>
          <a:xfrm>
            <a:off x="4089240" y="431640"/>
            <a:ext cx="1846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180720" y="206280"/>
            <a:ext cx="8209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uctures impliqu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5004720" y="148284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canaux sod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canaux potas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canaux calc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5309640" y="29304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vésicules synap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6782040" y="43783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canaux calc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965160" y="37180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canaux calc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>
            <a:off x="1905840" y="5572080"/>
            <a:ext cx="211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canaux sod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canaux potass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1" name=""/>
          <p:cNvSpPr/>
          <p:nvPr/>
        </p:nvSpPr>
        <p:spPr>
          <a:xfrm>
            <a:off x="1092240" y="3086280"/>
            <a:ext cx="6413400" cy="257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>
            <a:off x="396000" y="1368360"/>
            <a:ext cx="82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VOC : canaux calciques de la MP dépendant du potentiel (voltage-operated chann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4" name=""/>
          <p:cNvGrpSpPr/>
          <p:nvPr/>
        </p:nvGrpSpPr>
        <p:grpSpPr>
          <a:xfrm>
            <a:off x="2003400" y="4029120"/>
            <a:ext cx="4494240" cy="1371240"/>
            <a:chOff x="2003400" y="4029120"/>
            <a:chExt cx="4494240" cy="1371240"/>
          </a:xfrm>
        </p:grpSpPr>
        <p:sp>
          <p:nvSpPr>
            <p:cNvPr id="8105" name=""/>
            <p:cNvSpPr/>
            <p:nvPr/>
          </p:nvSpPr>
          <p:spPr>
            <a:xfrm>
              <a:off x="200628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425196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6497640" y="40291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341712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200340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245988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341712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200340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245988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341712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200340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245988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341712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200340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245988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341712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200340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245988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341712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200340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5662440" y="40291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4248720" y="40291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4705200" y="41626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5662440" y="429552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4248720" y="429552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4705200" y="442908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5662440" y="45759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4248720" y="45759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4705200" y="47095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5662440" y="484236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4248720" y="484236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4705200" y="497592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5662440" y="51228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4248720" y="51228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4705200" y="5255640"/>
              <a:ext cx="135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5662440" y="5389200"/>
              <a:ext cx="83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4248720" y="5389200"/>
              <a:ext cx="84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2" name=""/>
          <p:cNvSpPr/>
          <p:nvPr/>
        </p:nvSpPr>
        <p:spPr>
          <a:xfrm>
            <a:off x="1968480" y="3378240"/>
            <a:ext cx="4572000" cy="507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1104840" y="2781360"/>
            <a:ext cx="6388200" cy="2603520"/>
          </a:xfrm>
          <a:custGeom>
            <a:avLst/>
            <a:gdLst/>
            <a:ahLst/>
            <a:rect l="l" t="t" r="r" b="b"/>
            <a:pathLst>
              <a:path w="3728" h="1560">
                <a:moveTo>
                  <a:pt x="0" y="0"/>
                </a:moveTo>
                <a:lnTo>
                  <a:pt x="0" y="1560"/>
                </a:lnTo>
                <a:lnTo>
                  <a:pt x="368" y="1560"/>
                </a:lnTo>
                <a:lnTo>
                  <a:pt x="368" y="216"/>
                </a:lnTo>
                <a:lnTo>
                  <a:pt x="3352" y="216"/>
                </a:lnTo>
                <a:lnTo>
                  <a:pt x="3352" y="1560"/>
                </a:lnTo>
                <a:lnTo>
                  <a:pt x="3640" y="1560"/>
                </a:lnTo>
                <a:lnTo>
                  <a:pt x="3728" y="1560"/>
                </a:lnTo>
                <a:lnTo>
                  <a:pt x="3728" y="40"/>
                </a:lnTo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4" name=""/>
          <p:cNvSpPr/>
          <p:nvPr/>
        </p:nvSpPr>
        <p:spPr>
          <a:xfrm>
            <a:off x="2540160" y="2882880"/>
            <a:ext cx="266400" cy="380880"/>
          </a:xfrm>
          <a:prstGeom prst="flowChartAlternateProcess">
            <a:avLst/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5" name=""/>
          <p:cNvSpPr/>
          <p:nvPr/>
        </p:nvSpPr>
        <p:spPr>
          <a:xfrm>
            <a:off x="4064040" y="288288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5524560" y="289548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 rot="16200000">
            <a:off x="1536480" y="318708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 rot="16200000">
            <a:off x="1511280" y="4381200"/>
            <a:ext cx="266400" cy="381240"/>
          </a:xfrm>
          <a:prstGeom prst="flowChartAlternateProcess">
            <a:avLst/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 flipH="1" rot="5400000">
            <a:off x="6743520" y="363168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 flipH="1" rot="5400000">
            <a:off x="6806880" y="44190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279396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43308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5245200" y="318780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flipH="1" rot="5400000">
            <a:off x="6400080" y="3377880"/>
            <a:ext cx="266400" cy="381240"/>
          </a:xfrm>
          <a:custGeom>
            <a:avLst/>
            <a:gdLst>
              <a:gd name="textAreaLeft" fmla="*/ 12960 w 266400"/>
              <a:gd name="textAreaRight" fmla="*/ 253440 w 26640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99">
                <a:moveTo>
                  <a:pt x="3600" y="0"/>
                </a:moveTo>
                <a:arcTo wR="3600" hR="3600" stAng="16200000" swAng="-5400000"/>
                <a:lnTo>
                  <a:pt x="0" y="27299"/>
                </a:lnTo>
                <a:arcTo wR="3600" hR="3600" stAng="10800000" swAng="-5400000"/>
                <a:lnTo>
                  <a:pt x="18000" y="308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 rot="16200000">
            <a:off x="1854000" y="3441240"/>
            <a:ext cx="266760" cy="38088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0880"/>
              <a:gd name="textAreaBottom" fmla="*/ 367920 h 380880"/>
            </a:gdLst>
            <a:ahLst/>
            <a:rect l="textAreaLeft" t="textAreaTop" r="textAreaRight" b="textAreaBottom"/>
            <a:pathLst>
              <a:path w="21600" h="30828">
                <a:moveTo>
                  <a:pt x="3600" y="0"/>
                </a:moveTo>
                <a:arcTo wR="3600" hR="3600" stAng="16200000" swAng="-5400000"/>
                <a:lnTo>
                  <a:pt x="0" y="27228"/>
                </a:lnTo>
                <a:arcTo wR="3600" hR="3600" stAng="10800000" swAng="-5400000"/>
                <a:lnTo>
                  <a:pt x="18000" y="30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322920" y="758880"/>
            <a:ext cx="44265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ubule T et réticulum sarcoplas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>
            <a:off x="3020760" y="3425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376920" y="1711440"/>
            <a:ext cx="6723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RRy : canaux calciques du RS sensibles à la ryanodine activés pa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élévation de la [Ca</a:t>
            </a:r>
            <a:r>
              <a:rPr b="1" lang="fr-FR" sz="16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]</a:t>
            </a:r>
            <a:r>
              <a:rPr b="1" lang="fr-FR" sz="1600" spc="-1" strike="noStrike" baseline="-25000">
                <a:solidFill>
                  <a:srgbClr val="ff0066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0066"/>
                </a:solidFill>
                <a:latin typeface="Arial"/>
              </a:rPr>
              <a:t>couplage aux V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>
            <a:off x="4089240" y="431640"/>
            <a:ext cx="18464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>
            <a:off x="180720" y="206280"/>
            <a:ext cx="82094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uctures impliqu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4408560" y="383544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4675320" y="386388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5084640" y="4125960"/>
            <a:ext cx="1875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4897440" y="358776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>
            <a:off x="5097600" y="38257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4748040" y="42354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4443480" y="414036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>
            <a:off x="5819760" y="40878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5457960" y="424980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3898800" y="3814920"/>
            <a:ext cx="185760" cy="1965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4092480" y="4203720"/>
            <a:ext cx="1875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5703840" y="3794040"/>
            <a:ext cx="18720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5332320" y="38512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5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6" name=""/>
          <p:cNvSpPr/>
          <p:nvPr/>
        </p:nvSpPr>
        <p:spPr>
          <a:xfrm>
            <a:off x="4281480" y="3402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7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8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9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0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1" name=""/>
          <p:cNvSpPr/>
          <p:nvPr/>
        </p:nvSpPr>
        <p:spPr>
          <a:xfrm>
            <a:off x="3514680" y="1368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2" name=""/>
          <p:cNvSpPr/>
          <p:nvPr/>
        </p:nvSpPr>
        <p:spPr>
          <a:xfrm>
            <a:off x="2997360" y="208764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3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4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6892920" y="405432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4876920" y="1668600"/>
            <a:ext cx="1033200" cy="947520"/>
          </a:xfrm>
          <a:custGeom>
            <a:avLst/>
            <a:gdLst/>
            <a:ahLst/>
            <a:rect l="l" t="t" r="r" b="b"/>
            <a:pathLst>
              <a:path w="1299" h="1192">
                <a:moveTo>
                  <a:pt x="0" y="1101"/>
                </a:moveTo>
                <a:cubicBezTo>
                  <a:pt x="25" y="1101"/>
                  <a:pt x="115" y="1111"/>
                  <a:pt x="156" y="1100"/>
                </a:cubicBezTo>
                <a:cubicBezTo>
                  <a:pt x="197" y="1089"/>
                  <a:pt x="215" y="1065"/>
                  <a:pt x="248" y="1032"/>
                </a:cubicBezTo>
                <a:cubicBezTo>
                  <a:pt x="281" y="999"/>
                  <a:pt x="316" y="1053"/>
                  <a:pt x="353" y="904"/>
                </a:cubicBezTo>
                <a:cubicBezTo>
                  <a:pt x="390" y="755"/>
                  <a:pt x="448" y="272"/>
                  <a:pt x="471" y="136"/>
                </a:cubicBezTo>
                <a:cubicBezTo>
                  <a:pt x="495" y="0"/>
                  <a:pt x="483" y="48"/>
                  <a:pt x="495" y="88"/>
                </a:cubicBezTo>
                <a:cubicBezTo>
                  <a:pt x="507" y="128"/>
                  <a:pt x="522" y="248"/>
                  <a:pt x="542" y="376"/>
                </a:cubicBezTo>
                <a:cubicBezTo>
                  <a:pt x="562" y="504"/>
                  <a:pt x="593" y="752"/>
                  <a:pt x="613" y="856"/>
                </a:cubicBezTo>
                <a:cubicBezTo>
                  <a:pt x="632" y="960"/>
                  <a:pt x="632" y="952"/>
                  <a:pt x="660" y="1000"/>
                </a:cubicBezTo>
                <a:cubicBezTo>
                  <a:pt x="687" y="1048"/>
                  <a:pt x="742" y="1112"/>
                  <a:pt x="778" y="1144"/>
                </a:cubicBezTo>
                <a:cubicBezTo>
                  <a:pt x="813" y="1176"/>
                  <a:pt x="840" y="1192"/>
                  <a:pt x="872" y="1192"/>
                </a:cubicBezTo>
                <a:cubicBezTo>
                  <a:pt x="903" y="1192"/>
                  <a:pt x="934" y="1159"/>
                  <a:pt x="966" y="1144"/>
                </a:cubicBezTo>
                <a:cubicBezTo>
                  <a:pt x="998" y="1129"/>
                  <a:pt x="1031" y="1111"/>
                  <a:pt x="1062" y="1104"/>
                </a:cubicBezTo>
                <a:cubicBezTo>
                  <a:pt x="1093" y="1097"/>
                  <a:pt x="1113" y="1104"/>
                  <a:pt x="1152" y="1104"/>
                </a:cubicBezTo>
                <a:cubicBezTo>
                  <a:pt x="1191" y="1104"/>
                  <a:pt x="1269" y="1102"/>
                  <a:pt x="1299" y="1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5501520" y="1800360"/>
            <a:ext cx="220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stimulation nerv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potentiel d’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 flipV="1">
            <a:off x="4851360" y="204480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4519080" y="2206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>
            <a:off x="3565440" y="442260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7" name=""/>
          <p:cNvSpPr/>
          <p:nvPr/>
        </p:nvSpPr>
        <p:spPr>
          <a:xfrm>
            <a:off x="4495680" y="4140360"/>
            <a:ext cx="1778040" cy="1193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4344840" y="4076640"/>
            <a:ext cx="18432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4789440" y="4105440"/>
            <a:ext cx="18432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5275440" y="4367160"/>
            <a:ext cx="18720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5189400" y="38671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>
            <a:off x="5110200" y="410544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7" name=""/>
          <p:cNvSpPr/>
          <p:nvPr/>
        </p:nvSpPr>
        <p:spPr>
          <a:xfrm>
            <a:off x="4938840" y="440064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4519440" y="4406760"/>
            <a:ext cx="185760" cy="1987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"/>
          <p:cNvSpPr/>
          <p:nvPr/>
        </p:nvSpPr>
        <p:spPr>
          <a:xfrm>
            <a:off x="5908680" y="427824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0" name=""/>
          <p:cNvSpPr/>
          <p:nvPr/>
        </p:nvSpPr>
        <p:spPr>
          <a:xfrm>
            <a:off x="5546880" y="4351320"/>
            <a:ext cx="18576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3975120" y="3967200"/>
            <a:ext cx="185760" cy="1969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4130640" y="4292640"/>
            <a:ext cx="18720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5703840" y="3794040"/>
            <a:ext cx="18720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4" name=""/>
          <p:cNvSpPr/>
          <p:nvPr/>
        </p:nvSpPr>
        <p:spPr>
          <a:xfrm>
            <a:off x="5522760" y="40924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5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7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8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0" name=""/>
          <p:cNvSpPr/>
          <p:nvPr/>
        </p:nvSpPr>
        <p:spPr>
          <a:xfrm>
            <a:off x="4281480" y="3402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1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3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3514680" y="1368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2997360" y="208764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6892920" y="405432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 flipV="1">
            <a:off x="3705120" y="4111200"/>
            <a:ext cx="0" cy="93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4794840" y="1952640"/>
            <a:ext cx="41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libération d’ACh dans la fente synap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3568680" y="440676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2" name=""/>
          <p:cNvSpPr/>
          <p:nvPr/>
        </p:nvSpPr>
        <p:spPr>
          <a:xfrm>
            <a:off x="4495680" y="4140360"/>
            <a:ext cx="1778040" cy="1193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5689440" y="4800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5162400" y="4835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3565440" y="442260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4944600" y="1889280"/>
            <a:ext cx="386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ouverture des récepteurs nicoti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potentiel de pla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4726080" y="4432320"/>
            <a:ext cx="1839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4967280" y="4397400"/>
            <a:ext cx="18432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"/>
          <p:cNvSpPr/>
          <p:nvPr/>
        </p:nvSpPr>
        <p:spPr>
          <a:xfrm>
            <a:off x="5418000" y="437508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5211720" y="439740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"/>
          <p:cNvSpPr/>
          <p:nvPr/>
        </p:nvSpPr>
        <p:spPr>
          <a:xfrm>
            <a:off x="4486320" y="4419720"/>
            <a:ext cx="187200" cy="1983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"/>
          <p:cNvSpPr/>
          <p:nvPr/>
        </p:nvSpPr>
        <p:spPr>
          <a:xfrm>
            <a:off x="5614920" y="435276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5904000" y="4295880"/>
            <a:ext cx="18720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c6c6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6892920" y="405432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4789440" y="4105440"/>
            <a:ext cx="18432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5189400" y="38671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>
            <a:off x="5110200" y="410544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5522760" y="40924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>
            <a:off x="3187800" y="6330960"/>
            <a:ext cx="1066680" cy="284040"/>
          </a:xfrm>
          <a:custGeom>
            <a:avLst/>
            <a:gdLst/>
            <a:ahLst/>
            <a:rect l="l" t="t" r="r" b="b"/>
            <a:pathLst>
              <a:path w="672" h="243">
                <a:moveTo>
                  <a:pt x="0" y="228"/>
                </a:moveTo>
                <a:cubicBezTo>
                  <a:pt x="92" y="235"/>
                  <a:pt x="184" y="243"/>
                  <a:pt x="240" y="228"/>
                </a:cubicBezTo>
                <a:cubicBezTo>
                  <a:pt x="296" y="213"/>
                  <a:pt x="308" y="165"/>
                  <a:pt x="334" y="140"/>
                </a:cubicBezTo>
                <a:cubicBezTo>
                  <a:pt x="360" y="115"/>
                  <a:pt x="374" y="94"/>
                  <a:pt x="398" y="76"/>
                </a:cubicBezTo>
                <a:cubicBezTo>
                  <a:pt x="422" y="58"/>
                  <a:pt x="451" y="41"/>
                  <a:pt x="480" y="29"/>
                </a:cubicBezTo>
                <a:cubicBezTo>
                  <a:pt x="509" y="17"/>
                  <a:pt x="542" y="8"/>
                  <a:pt x="574" y="4"/>
                </a:cubicBezTo>
                <a:cubicBezTo>
                  <a:pt x="606" y="0"/>
                  <a:pt x="639" y="2"/>
                  <a:pt x="67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 flipV="1">
            <a:off x="3187800" y="605808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2855520" y="6219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>
            <a:off x="5781600" y="5265720"/>
            <a:ext cx="1938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4281480" y="3402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3514680" y="1368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2997360" y="208764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3317760" y="4780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4282920" y="4908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7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0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4789440" y="4105440"/>
            <a:ext cx="18432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5189400" y="38671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110200" y="410544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5522760" y="40924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892920" y="405432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4947120" y="1889280"/>
            <a:ext cx="34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potentiel d’action post-synap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3565440" y="442260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3213000" y="5504040"/>
            <a:ext cx="1033560" cy="947520"/>
          </a:xfrm>
          <a:custGeom>
            <a:avLst/>
            <a:gdLst/>
            <a:ahLst/>
            <a:rect l="l" t="t" r="r" b="b"/>
            <a:pathLst>
              <a:path w="1299" h="1192">
                <a:moveTo>
                  <a:pt x="0" y="1101"/>
                </a:moveTo>
                <a:cubicBezTo>
                  <a:pt x="25" y="1101"/>
                  <a:pt x="115" y="1111"/>
                  <a:pt x="156" y="1100"/>
                </a:cubicBezTo>
                <a:cubicBezTo>
                  <a:pt x="197" y="1089"/>
                  <a:pt x="215" y="1065"/>
                  <a:pt x="248" y="1032"/>
                </a:cubicBezTo>
                <a:cubicBezTo>
                  <a:pt x="281" y="999"/>
                  <a:pt x="316" y="1053"/>
                  <a:pt x="353" y="904"/>
                </a:cubicBezTo>
                <a:cubicBezTo>
                  <a:pt x="390" y="755"/>
                  <a:pt x="448" y="272"/>
                  <a:pt x="471" y="136"/>
                </a:cubicBezTo>
                <a:cubicBezTo>
                  <a:pt x="495" y="0"/>
                  <a:pt x="483" y="48"/>
                  <a:pt x="495" y="88"/>
                </a:cubicBezTo>
                <a:cubicBezTo>
                  <a:pt x="507" y="128"/>
                  <a:pt x="522" y="248"/>
                  <a:pt x="542" y="376"/>
                </a:cubicBezTo>
                <a:cubicBezTo>
                  <a:pt x="562" y="504"/>
                  <a:pt x="593" y="752"/>
                  <a:pt x="613" y="856"/>
                </a:cubicBezTo>
                <a:cubicBezTo>
                  <a:pt x="632" y="960"/>
                  <a:pt x="632" y="952"/>
                  <a:pt x="660" y="1000"/>
                </a:cubicBezTo>
                <a:cubicBezTo>
                  <a:pt x="687" y="1048"/>
                  <a:pt x="742" y="1112"/>
                  <a:pt x="778" y="1144"/>
                </a:cubicBezTo>
                <a:cubicBezTo>
                  <a:pt x="813" y="1176"/>
                  <a:pt x="840" y="1192"/>
                  <a:pt x="872" y="1192"/>
                </a:cubicBezTo>
                <a:cubicBezTo>
                  <a:pt x="903" y="1192"/>
                  <a:pt x="934" y="1159"/>
                  <a:pt x="966" y="1144"/>
                </a:cubicBezTo>
                <a:cubicBezTo>
                  <a:pt x="998" y="1129"/>
                  <a:pt x="1031" y="1111"/>
                  <a:pt x="1062" y="1104"/>
                </a:cubicBezTo>
                <a:cubicBezTo>
                  <a:pt x="1093" y="1097"/>
                  <a:pt x="1113" y="1104"/>
                  <a:pt x="1152" y="1104"/>
                </a:cubicBezTo>
                <a:cubicBezTo>
                  <a:pt x="1191" y="1104"/>
                  <a:pt x="1269" y="1102"/>
                  <a:pt x="1299" y="1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 flipV="1">
            <a:off x="3187800" y="605808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2855520" y="6219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22906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8" name=""/>
          <p:cNvSpPr/>
          <p:nvPr/>
        </p:nvSpPr>
        <p:spPr>
          <a:xfrm>
            <a:off x="2352600" y="1611360"/>
            <a:ext cx="4098960" cy="3017880"/>
          </a:xfrm>
          <a:custGeom>
            <a:avLst/>
            <a:gdLst/>
            <a:ahLst/>
            <a:rect l="l" t="t" r="r" b="b"/>
            <a:pathLst>
              <a:path w="330" h="243">
                <a:moveTo>
                  <a:pt x="0" y="18"/>
                </a:moveTo>
                <a:cubicBezTo>
                  <a:pt x="37" y="9"/>
                  <a:pt x="74" y="0"/>
                  <a:pt x="112" y="19"/>
                </a:cubicBezTo>
                <a:cubicBezTo>
                  <a:pt x="150" y="38"/>
                  <a:pt x="197" y="104"/>
                  <a:pt x="228" y="129"/>
                </a:cubicBezTo>
                <a:cubicBezTo>
                  <a:pt x="259" y="153"/>
                  <a:pt x="287" y="148"/>
                  <a:pt x="298" y="165"/>
                </a:cubicBezTo>
                <a:cubicBezTo>
                  <a:pt x="309" y="182"/>
                  <a:pt x="330" y="219"/>
                  <a:pt x="294" y="231"/>
                </a:cubicBezTo>
                <a:cubicBezTo>
                  <a:pt x="258" y="243"/>
                  <a:pt x="123" y="243"/>
                  <a:pt x="80" y="238"/>
                </a:cubicBezTo>
                <a:cubicBezTo>
                  <a:pt x="38" y="233"/>
                  <a:pt x="36" y="214"/>
                  <a:pt x="39" y="199"/>
                </a:cubicBezTo>
                <a:cubicBezTo>
                  <a:pt x="41" y="185"/>
                  <a:pt x="87" y="170"/>
                  <a:pt x="95" y="150"/>
                </a:cubicBezTo>
                <a:cubicBezTo>
                  <a:pt x="103" y="131"/>
                  <a:pt x="104" y="93"/>
                  <a:pt x="88" y="81"/>
                </a:cubicBezTo>
                <a:cubicBezTo>
                  <a:pt x="72" y="69"/>
                  <a:pt x="36" y="73"/>
                  <a:pt x="0" y="77"/>
                </a:cubicBezTo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9" name=""/>
          <p:cNvSpPr/>
          <p:nvPr/>
        </p:nvSpPr>
        <p:spPr>
          <a:xfrm>
            <a:off x="1382760" y="4184640"/>
            <a:ext cx="6175440" cy="1143000"/>
          </a:xfrm>
          <a:custGeom>
            <a:avLst/>
            <a:gdLst/>
            <a:ahLst/>
            <a:rect l="l" t="t" r="r" b="b"/>
            <a:pathLst>
              <a:path w="497" h="92">
                <a:moveTo>
                  <a:pt x="0" y="14"/>
                </a:moveTo>
                <a:cubicBezTo>
                  <a:pt x="33" y="8"/>
                  <a:pt x="66" y="2"/>
                  <a:pt x="85" y="12"/>
                </a:cubicBezTo>
                <a:cubicBezTo>
                  <a:pt x="104" y="23"/>
                  <a:pt x="80" y="66"/>
                  <a:pt x="115" y="79"/>
                </a:cubicBezTo>
                <a:cubicBezTo>
                  <a:pt x="151" y="92"/>
                  <a:pt x="250" y="92"/>
                  <a:pt x="298" y="92"/>
                </a:cubicBezTo>
                <a:cubicBezTo>
                  <a:pt x="347" y="91"/>
                  <a:pt x="383" y="88"/>
                  <a:pt x="404" y="74"/>
                </a:cubicBezTo>
                <a:cubicBezTo>
                  <a:pt x="425" y="61"/>
                  <a:pt x="410" y="22"/>
                  <a:pt x="425" y="11"/>
                </a:cubicBezTo>
                <a:cubicBezTo>
                  <a:pt x="441" y="0"/>
                  <a:pt x="469" y="3"/>
                  <a:pt x="497" y="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"/>
          <p:cNvSpPr/>
          <p:nvPr/>
        </p:nvSpPr>
        <p:spPr>
          <a:xfrm>
            <a:off x="5781600" y="5265720"/>
            <a:ext cx="1938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1" name=""/>
          <p:cNvSpPr/>
          <p:nvPr/>
        </p:nvSpPr>
        <p:spPr>
          <a:xfrm>
            <a:off x="5260320" y="5735520"/>
            <a:ext cx="188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récepteur nicot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2" name=""/>
          <p:cNvSpPr/>
          <p:nvPr/>
        </p:nvSpPr>
        <p:spPr>
          <a:xfrm>
            <a:off x="2500200" y="254304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"/>
          <p:cNvSpPr/>
          <p:nvPr/>
        </p:nvSpPr>
        <p:spPr>
          <a:xfrm>
            <a:off x="2601000" y="266544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4" name=""/>
          <p:cNvSpPr/>
          <p:nvPr/>
        </p:nvSpPr>
        <p:spPr>
          <a:xfrm>
            <a:off x="3718080" y="1400040"/>
            <a:ext cx="547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5" name=""/>
          <p:cNvSpPr/>
          <p:nvPr/>
        </p:nvSpPr>
        <p:spPr>
          <a:xfrm>
            <a:off x="3848760" y="14749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"/>
          <p:cNvSpPr/>
          <p:nvPr/>
        </p:nvSpPr>
        <p:spPr>
          <a:xfrm>
            <a:off x="4281480" y="340200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7" name=""/>
          <p:cNvSpPr/>
          <p:nvPr/>
        </p:nvSpPr>
        <p:spPr>
          <a:xfrm>
            <a:off x="4068720" y="584028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3743280" y="4629240"/>
            <a:ext cx="608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3864240" y="468936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3514680" y="13683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2997360" y="208764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2820960" y="5235480"/>
            <a:ext cx="460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2921400" y="5357880"/>
            <a:ext cx="20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3317760" y="47800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4282920" y="4908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3384720" y="1536840"/>
            <a:ext cx="271440" cy="49680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4141800" y="5076720"/>
            <a:ext cx="272880" cy="497160"/>
          </a:xfrm>
          <a:prstGeom prst="ellipse">
            <a:avLst/>
          </a:prstGeom>
          <a:gradFill rotWithShape="0">
            <a:gsLst>
              <a:gs pos="0">
                <a:srgbClr val="dc7856"/>
              </a:gs>
              <a:gs pos="50000">
                <a:srgbClr val="cc3300"/>
              </a:gs>
              <a:gs pos="100000">
                <a:srgbClr val="dc78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"/>
          <p:cNvSpPr/>
          <p:nvPr/>
        </p:nvSpPr>
        <p:spPr>
          <a:xfrm>
            <a:off x="3170160" y="496404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9" name=""/>
          <p:cNvSpPr/>
          <p:nvPr/>
        </p:nvSpPr>
        <p:spPr>
          <a:xfrm>
            <a:off x="2849400" y="2271600"/>
            <a:ext cx="273240" cy="4953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0" name=""/>
          <p:cNvSpPr/>
          <p:nvPr/>
        </p:nvSpPr>
        <p:spPr>
          <a:xfrm>
            <a:off x="5580000" y="508176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"/>
          <p:cNvSpPr/>
          <p:nvPr/>
        </p:nvSpPr>
        <p:spPr>
          <a:xfrm>
            <a:off x="5052960" y="5116680"/>
            <a:ext cx="211320" cy="398160"/>
          </a:xfrm>
          <a:custGeom>
            <a:avLst/>
            <a:gdLst/>
            <a:ahLst/>
            <a:rect l="l" t="t" r="r" b="b"/>
            <a:pathLst>
              <a:path w="17" h="32">
                <a:moveTo>
                  <a:pt x="3" y="0"/>
                </a:moveTo>
                <a:cubicBezTo>
                  <a:pt x="1" y="0"/>
                  <a:pt x="0" y="1"/>
                  <a:pt x="0" y="3"/>
                </a:cubicBezTo>
                <a:lnTo>
                  <a:pt x="0" y="29"/>
                </a:lnTo>
                <a:cubicBezTo>
                  <a:pt x="0" y="31"/>
                  <a:pt x="1" y="32"/>
                  <a:pt x="3" y="32"/>
                </a:cubicBezTo>
                <a:lnTo>
                  <a:pt x="14" y="32"/>
                </a:lnTo>
                <a:cubicBezTo>
                  <a:pt x="16" y="32"/>
                  <a:pt x="17" y="31"/>
                  <a:pt x="17" y="29"/>
                </a:cubicBezTo>
                <a:lnTo>
                  <a:pt x="17" y="3"/>
                </a:lnTo>
                <a:cubicBezTo>
                  <a:pt x="17" y="1"/>
                  <a:pt x="16" y="0"/>
                  <a:pt x="14" y="0"/>
                </a:cubicBezTo>
                <a:lnTo>
                  <a:pt x="3" y="0"/>
                </a:lnTo>
                <a:close/>
              </a:path>
            </a:pathLst>
          </a:custGeom>
          <a:gradFill rotWithShape="0">
            <a:gsLst>
              <a:gs pos="0">
                <a:srgbClr val="fedfb1"/>
              </a:gs>
              <a:gs pos="50000">
                <a:srgbClr val="ff9900"/>
              </a:gs>
              <a:gs pos="100000">
                <a:srgbClr val="fedfb1"/>
              </a:gs>
            </a:gsLst>
            <a:lin ang="108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2" name=""/>
          <p:cNvSpPr/>
          <p:nvPr/>
        </p:nvSpPr>
        <p:spPr>
          <a:xfrm>
            <a:off x="4789440" y="4105440"/>
            <a:ext cx="184320" cy="1998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3" name=""/>
          <p:cNvSpPr/>
          <p:nvPr/>
        </p:nvSpPr>
        <p:spPr>
          <a:xfrm>
            <a:off x="5189400" y="386712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"/>
          <p:cNvSpPr/>
          <p:nvPr/>
        </p:nvSpPr>
        <p:spPr>
          <a:xfrm>
            <a:off x="5110200" y="4105440"/>
            <a:ext cx="185760" cy="20160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5" name=""/>
          <p:cNvSpPr/>
          <p:nvPr/>
        </p:nvSpPr>
        <p:spPr>
          <a:xfrm>
            <a:off x="5522760" y="4092480"/>
            <a:ext cx="187560" cy="20016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6" name=""/>
          <p:cNvSpPr/>
          <p:nvPr/>
        </p:nvSpPr>
        <p:spPr>
          <a:xfrm>
            <a:off x="7148160" y="3529080"/>
            <a:ext cx="39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"/>
          <p:cNvSpPr/>
          <p:nvPr/>
        </p:nvSpPr>
        <p:spPr>
          <a:xfrm>
            <a:off x="4946760" y="1889280"/>
            <a:ext cx="33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propagation du potentiel d’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8" name=""/>
          <p:cNvSpPr/>
          <p:nvPr/>
        </p:nvSpPr>
        <p:spPr>
          <a:xfrm>
            <a:off x="3565440" y="4422600"/>
            <a:ext cx="266760" cy="3812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381240"/>
              <a:gd name="textAreaBottom" fmla="*/ 368280 h 381240"/>
            </a:gdLst>
            <a:ahLst/>
            <a:rect l="textAreaLeft" t="textAreaTop" r="textAreaRight" b="textAreaBottom"/>
            <a:pathLst>
              <a:path w="21600" h="30857">
                <a:moveTo>
                  <a:pt x="3600" y="0"/>
                </a:moveTo>
                <a:arcTo wR="3600" hR="3600" stAng="16200000" swAng="-5400000"/>
                <a:lnTo>
                  <a:pt x="0" y="27257"/>
                </a:lnTo>
                <a:arcTo wR="3600" hR="3600" stAng="10800000" swAng="-5400000"/>
                <a:lnTo>
                  <a:pt x="18000" y="308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9" name=""/>
          <p:cNvSpPr/>
          <p:nvPr/>
        </p:nvSpPr>
        <p:spPr>
          <a:xfrm>
            <a:off x="3213000" y="5504040"/>
            <a:ext cx="1033560" cy="947520"/>
          </a:xfrm>
          <a:custGeom>
            <a:avLst/>
            <a:gdLst/>
            <a:ahLst/>
            <a:rect l="l" t="t" r="r" b="b"/>
            <a:pathLst>
              <a:path w="1299" h="1192">
                <a:moveTo>
                  <a:pt x="0" y="1101"/>
                </a:moveTo>
                <a:cubicBezTo>
                  <a:pt x="25" y="1101"/>
                  <a:pt x="115" y="1111"/>
                  <a:pt x="156" y="1100"/>
                </a:cubicBezTo>
                <a:cubicBezTo>
                  <a:pt x="197" y="1089"/>
                  <a:pt x="215" y="1065"/>
                  <a:pt x="248" y="1032"/>
                </a:cubicBezTo>
                <a:cubicBezTo>
                  <a:pt x="281" y="999"/>
                  <a:pt x="316" y="1053"/>
                  <a:pt x="353" y="904"/>
                </a:cubicBezTo>
                <a:cubicBezTo>
                  <a:pt x="390" y="755"/>
                  <a:pt x="448" y="272"/>
                  <a:pt x="471" y="136"/>
                </a:cubicBezTo>
                <a:cubicBezTo>
                  <a:pt x="495" y="0"/>
                  <a:pt x="483" y="48"/>
                  <a:pt x="495" y="88"/>
                </a:cubicBezTo>
                <a:cubicBezTo>
                  <a:pt x="507" y="128"/>
                  <a:pt x="522" y="248"/>
                  <a:pt x="542" y="376"/>
                </a:cubicBezTo>
                <a:cubicBezTo>
                  <a:pt x="562" y="504"/>
                  <a:pt x="593" y="752"/>
                  <a:pt x="613" y="856"/>
                </a:cubicBezTo>
                <a:cubicBezTo>
                  <a:pt x="632" y="960"/>
                  <a:pt x="632" y="952"/>
                  <a:pt x="660" y="1000"/>
                </a:cubicBezTo>
                <a:cubicBezTo>
                  <a:pt x="687" y="1048"/>
                  <a:pt x="742" y="1112"/>
                  <a:pt x="778" y="1144"/>
                </a:cubicBezTo>
                <a:cubicBezTo>
                  <a:pt x="813" y="1176"/>
                  <a:pt x="840" y="1192"/>
                  <a:pt x="872" y="1192"/>
                </a:cubicBezTo>
                <a:cubicBezTo>
                  <a:pt x="903" y="1192"/>
                  <a:pt x="934" y="1159"/>
                  <a:pt x="966" y="1144"/>
                </a:cubicBezTo>
                <a:cubicBezTo>
                  <a:pt x="998" y="1129"/>
                  <a:pt x="1031" y="1111"/>
                  <a:pt x="1062" y="1104"/>
                </a:cubicBezTo>
                <a:cubicBezTo>
                  <a:pt x="1093" y="1097"/>
                  <a:pt x="1113" y="1104"/>
                  <a:pt x="1152" y="1104"/>
                </a:cubicBezTo>
                <a:cubicBezTo>
                  <a:pt x="1191" y="1104"/>
                  <a:pt x="1269" y="1102"/>
                  <a:pt x="1299" y="1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"/>
          <p:cNvSpPr/>
          <p:nvPr/>
        </p:nvSpPr>
        <p:spPr>
          <a:xfrm flipV="1">
            <a:off x="3187800" y="605808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1" name=""/>
          <p:cNvSpPr/>
          <p:nvPr/>
        </p:nvSpPr>
        <p:spPr>
          <a:xfrm>
            <a:off x="2855520" y="6219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2" name=""/>
          <p:cNvSpPr/>
          <p:nvPr/>
        </p:nvSpPr>
        <p:spPr>
          <a:xfrm flipV="1">
            <a:off x="7975440" y="3898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"/>
          <p:cNvSpPr/>
          <p:nvPr/>
        </p:nvSpPr>
        <p:spPr>
          <a:xfrm>
            <a:off x="7643520" y="4060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33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4" name=""/>
          <p:cNvSpPr/>
          <p:nvPr/>
        </p:nvSpPr>
        <p:spPr>
          <a:xfrm>
            <a:off x="7975440" y="3446640"/>
            <a:ext cx="1033560" cy="882360"/>
          </a:xfrm>
          <a:custGeom>
            <a:avLst/>
            <a:gdLst/>
            <a:ahLst/>
            <a:rect l="l" t="t" r="r" b="b"/>
            <a:pathLst>
              <a:path w="651" h="556">
                <a:moveTo>
                  <a:pt x="0" y="551"/>
                </a:moveTo>
                <a:cubicBezTo>
                  <a:pt x="13" y="551"/>
                  <a:pt x="58" y="556"/>
                  <a:pt x="78" y="551"/>
                </a:cubicBezTo>
                <a:cubicBezTo>
                  <a:pt x="99" y="545"/>
                  <a:pt x="108" y="533"/>
                  <a:pt x="124" y="517"/>
                </a:cubicBezTo>
                <a:cubicBezTo>
                  <a:pt x="141" y="500"/>
                  <a:pt x="158" y="527"/>
                  <a:pt x="177" y="453"/>
                </a:cubicBezTo>
                <a:cubicBezTo>
                  <a:pt x="195" y="378"/>
                  <a:pt x="225" y="136"/>
                  <a:pt x="236" y="68"/>
                </a:cubicBezTo>
                <a:cubicBezTo>
                  <a:pt x="248" y="0"/>
                  <a:pt x="238" y="25"/>
                  <a:pt x="248" y="44"/>
                </a:cubicBezTo>
                <a:cubicBezTo>
                  <a:pt x="258" y="63"/>
                  <a:pt x="277" y="125"/>
                  <a:pt x="298" y="184"/>
                </a:cubicBezTo>
                <a:cubicBezTo>
                  <a:pt x="319" y="243"/>
                  <a:pt x="354" y="353"/>
                  <a:pt x="373" y="400"/>
                </a:cubicBezTo>
                <a:cubicBezTo>
                  <a:pt x="392" y="447"/>
                  <a:pt x="400" y="449"/>
                  <a:pt x="412" y="469"/>
                </a:cubicBezTo>
                <a:cubicBezTo>
                  <a:pt x="424" y="489"/>
                  <a:pt x="432" y="509"/>
                  <a:pt x="442" y="520"/>
                </a:cubicBezTo>
                <a:cubicBezTo>
                  <a:pt x="452" y="531"/>
                  <a:pt x="465" y="534"/>
                  <a:pt x="475" y="538"/>
                </a:cubicBezTo>
                <a:cubicBezTo>
                  <a:pt x="485" y="542"/>
                  <a:pt x="493" y="542"/>
                  <a:pt x="502" y="544"/>
                </a:cubicBezTo>
                <a:cubicBezTo>
                  <a:pt x="511" y="546"/>
                  <a:pt x="520" y="552"/>
                  <a:pt x="532" y="553"/>
                </a:cubicBezTo>
                <a:cubicBezTo>
                  <a:pt x="544" y="554"/>
                  <a:pt x="558" y="553"/>
                  <a:pt x="577" y="553"/>
                </a:cubicBezTo>
                <a:cubicBezTo>
                  <a:pt x="597" y="553"/>
                  <a:pt x="636" y="552"/>
                  <a:pt x="651" y="5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5" name=""/>
          <p:cNvSpPr/>
          <p:nvPr/>
        </p:nvSpPr>
        <p:spPr>
          <a:xfrm>
            <a:off x="324000" y="758880"/>
            <a:ext cx="2588760" cy="398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xcitation-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"/>
          <p:cNvSpPr/>
          <p:nvPr/>
        </p:nvSpPr>
        <p:spPr>
          <a:xfrm>
            <a:off x="4089240" y="431640"/>
            <a:ext cx="26593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7" name=""/>
          <p:cNvSpPr/>
          <p:nvPr/>
        </p:nvSpPr>
        <p:spPr>
          <a:xfrm>
            <a:off x="182880" y="206280"/>
            <a:ext cx="80611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Le couplage excitation-contraction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mécanis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8" name=""/>
          <p:cNvSpPr/>
          <p:nvPr/>
        </p:nvSpPr>
        <p:spPr>
          <a:xfrm>
            <a:off x="7032600" y="3807000"/>
            <a:ext cx="0" cy="933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"/>
          <p:cNvSpPr/>
          <p:nvPr/>
        </p:nvSpPr>
        <p:spPr>
          <a:xfrm>
            <a:off x="6896160" y="4038480"/>
            <a:ext cx="266760" cy="381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475"/>
              </a:gs>
              <a:gs pos="50000">
                <a:srgbClr val="00b8ff"/>
              </a:gs>
              <a:gs pos="100000">
                <a:srgbClr val="0054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oux</cp:lastModifiedBy>
  <dcterms:modified xsi:type="dcterms:W3CDTF">2008-04-08T09:27:25Z</dcterms:modified>
  <cp:revision>943</cp:revision>
  <dc:subject/>
  <dc:title>Présentation PowerPoint</dc:title>
</cp:coreProperties>
</file>