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06520" y="1798560"/>
            <a:ext cx="63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es appareils excréteurs des Métazoa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6960" y="596880"/>
            <a:ext cx="7547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19120" y="114480"/>
            <a:ext cx="71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icence Biologie - </a:t>
            </a:r>
            <a:r>
              <a:rPr b="0" lang="fr-FR" sz="2400" spc="-1" strike="noStrike">
                <a:solidFill>
                  <a:srgbClr val="000066"/>
                </a:solidFill>
                <a:latin typeface="Bitstream Vera Sans"/>
              </a:rPr>
              <a:t>UE Biologie animale</a:t>
            </a:r>
            <a:r>
              <a:rPr b="0" lang="fr-FR" sz="2400" spc="-1" strike="noStrike">
                <a:solidFill>
                  <a:srgbClr val="8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0120" cy="1514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6880" y="3103560"/>
            <a:ext cx="78184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daptation cardiovasculaire à l’ischémie INSERM U 1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Bordeaux Seg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plateforme pédagogique l’UFR des sciences de la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lan du cours et descriptif de compétences (format 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diaporama du cours (format 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imaux ammonotél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1000" y="1486080"/>
            <a:ext cx="358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d’ammoniac N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623120" y="1308240"/>
            <a:ext cx="1363320" cy="1551240"/>
            <a:chOff x="4623120" y="1308240"/>
            <a:chExt cx="1363320" cy="1551240"/>
          </a:xfrm>
        </p:grpSpPr>
        <p:sp>
          <p:nvSpPr>
            <p:cNvPr id="116" name=""/>
            <p:cNvSpPr/>
            <p:nvPr/>
          </p:nvSpPr>
          <p:spPr>
            <a:xfrm>
              <a:off x="5123160" y="191628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23120" y="246060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2520" y="130824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18280" y="1573200"/>
              <a:ext cx="0" cy="425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865400" y="2193840"/>
              <a:ext cx="338040" cy="3384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43560" y="2193840"/>
              <a:ext cx="336600" cy="3384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16720" y="244332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0000"/>
                  </a:solidFill>
                  <a:latin typeface="Trebuchet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41360" y="3238560"/>
            <a:ext cx="791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oluble, petite taille : diffuse v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ut être éliminé par diffusion à travers toute surface en contact avec l’eau, sans appareil excré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ès toxique pour l’organisme, même à faible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8080" y="151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imaux ammoniotél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520" y="1549440"/>
            <a:ext cx="791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vertébrés aqu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oissons Téléosté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rocod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rves d’Amphib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3200400"/>
            <a:ext cx="730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Cyprinidés : carpe (Téléosté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d’azote par les branchies 6 à 10 fois plus que par les re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90 % ammoniac, 10 % ur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0240" y="5460840"/>
            <a:ext cx="80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pend du milieu de vie aquatique, plus que des liens phyl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imaux uricotél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40" y="1486080"/>
            <a:ext cx="441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d’acide urique C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5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4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3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29600" y="20811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15080" y="163512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4320" y="407664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724360" y="2423880"/>
            <a:ext cx="0" cy="4251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27560" y="1876320"/>
            <a:ext cx="33660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508640"/>
            <a:ext cx="79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u soluble dans l’eau (solubilité : 6 mg.L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1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u toxique pour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21760" y="20750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5920" y="77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775120" y="1774800"/>
            <a:ext cx="338040" cy="3380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4560" y="1511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5360" y="1787400"/>
            <a:ext cx="33660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207120" y="1128600"/>
            <a:ext cx="0" cy="4255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270480" y="1128600"/>
            <a:ext cx="0" cy="4255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76920" y="2423880"/>
            <a:ext cx="0" cy="4251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740640" y="2423880"/>
            <a:ext cx="0" cy="4251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749560" y="3124080"/>
            <a:ext cx="33804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18120" y="33267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319800" y="3111120"/>
            <a:ext cx="336600" cy="3380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0" y="2781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4360" y="2781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32440" y="2268360"/>
            <a:ext cx="42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32440" y="2992320"/>
            <a:ext cx="42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5760" y="2055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05760" y="2766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9720" y="3708360"/>
            <a:ext cx="0" cy="4255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67160" y="3108240"/>
            <a:ext cx="33840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05320" y="3159000"/>
            <a:ext cx="33840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7040" y="3362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26160" y="2244600"/>
            <a:ext cx="33660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39120" y="2679480"/>
            <a:ext cx="336600" cy="3380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04440" y="24256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80200" y="2598840"/>
            <a:ext cx="42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80200" y="2674800"/>
            <a:ext cx="42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456040" y="2438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imaux uricotél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4280" y="4254480"/>
            <a:ext cx="838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u soluble dans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écipite en milieu concentré : n’intervient plus dans l’osm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cessite très peu d’eau pour son éli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rfois stocké sans élimination (tissu adipeux) : certains 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520" y="1549440"/>
            <a:ext cx="7915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édominant ch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Gastéropodes aér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erpents aér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i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+ Crocodiles, Tort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920" y="5854680"/>
            <a:ext cx="75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pend du milieu de vie aérien, plus que des liens phyl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imaux uréotél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080" y="1486080"/>
            <a:ext cx="311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d’urée C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4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08640"/>
            <a:ext cx="79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ès soluble dans l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oyennement toxique pour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85200" y="1370160"/>
            <a:ext cx="64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68760" y="1558800"/>
            <a:ext cx="336600" cy="338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81720" y="1993680"/>
            <a:ext cx="336600" cy="3380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47040" y="17398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22800" y="1913040"/>
            <a:ext cx="42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22800" y="1989000"/>
            <a:ext cx="42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98640" y="17524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7800" y="2131920"/>
            <a:ext cx="64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1680" y="3403440"/>
            <a:ext cx="83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ès soluble dans l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tervient dans l’osmose : Sélaciens, Coelacanthe, Grenouille mangeuse de cra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3600" y="5854680"/>
            <a:ext cx="67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pend du milieu de vie, plus que des liens phyl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nimaux uréotél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3520" y="1282680"/>
            <a:ext cx="791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élac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oelacan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ort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ammif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mphibiens adul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+ Téléostée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0160" y="33526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42200" y="336564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ide u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5562720"/>
            <a:ext cx="5613480" cy="1003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30400" y="3772080"/>
            <a:ext cx="22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ammif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élac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mphibiens Coelacan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4720" y="3289320"/>
            <a:ext cx="2756160" cy="2031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441680"/>
            <a:ext cx="215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crétion azotée des Vertéb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39040" y="3936960"/>
            <a:ext cx="131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i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9640" y="5232240"/>
            <a:ext cx="1402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ipne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7080" y="5715000"/>
            <a:ext cx="32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éléostéens, Cyclost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0320" y="61596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mmoni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800" y="800280"/>
            <a:ext cx="680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mmonotéliques, uréotéliques, uricotéli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pend plus du mode de vide que des liens phylé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650960"/>
            <a:ext cx="844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eut varier au cours de la vie chez le même individu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mphibiens : larve : ammoniac; adultes : 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ipneustes :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ie aquatique : respiration branchiale, ammoni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vie aérienne : respiratrion pulmonée, 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65760" y="3276720"/>
            <a:ext cx="2755800" cy="2031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82280" y="3835440"/>
            <a:ext cx="2683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quelques 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quelques grenou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67840" y="5219640"/>
            <a:ext cx="143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rocod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5360" y="11448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spécialisées et non spécialis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9640" y="1168560"/>
            <a:ext cx="791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pareils non spécialisés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élimination de différents types de solutés sous forme d’urine (au sens l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xempl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rganes néphri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ube Malpighi des 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ein des Vertéb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ructures spécialisées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élimination d’un type de solu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xemples : élimination de N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ellules à chlorures des branchies des Téléosté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glande à sel des Ois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710280" y="127080"/>
            <a:ext cx="776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nimaux sans appareil excréteur identif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760" y="952560"/>
            <a:ext cx="89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51000" y="961920"/>
            <a:ext cx="6195960" cy="4929120"/>
            <a:chOff x="2151000" y="961920"/>
            <a:chExt cx="6195960" cy="4929120"/>
          </a:xfrm>
        </p:grpSpPr>
        <p:sp>
          <p:nvSpPr>
            <p:cNvPr id="225" name=""/>
            <p:cNvSpPr/>
            <p:nvPr/>
          </p:nvSpPr>
          <p:spPr>
            <a:xfrm>
              <a:off x="7064280" y="2641320"/>
              <a:ext cx="1281240" cy="214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65720" y="2315880"/>
              <a:ext cx="1281240" cy="214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65720" y="5365440"/>
              <a:ext cx="1281240" cy="214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65720" y="5676840"/>
              <a:ext cx="1281240" cy="214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65720" y="961920"/>
              <a:ext cx="1281240" cy="2127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01920" y="3952800"/>
              <a:ext cx="4654440" cy="1842840"/>
            </a:xfrm>
            <a:custGeom>
              <a:avLst/>
              <a:gdLst/>
              <a:ahLst/>
              <a:rect l="l" t="t" r="r" b="b"/>
              <a:pathLst>
                <a:path w="2920" h="1465">
                  <a:moveTo>
                    <a:pt x="255" y="0"/>
                  </a:moveTo>
                  <a:lnTo>
                    <a:pt x="0" y="0"/>
                  </a:lnTo>
                  <a:lnTo>
                    <a:pt x="0" y="1465"/>
                  </a:lnTo>
                  <a:lnTo>
                    <a:pt x="2920" y="14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89320" y="99036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Cord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059600" y="1711080"/>
              <a:ext cx="1280880" cy="212760"/>
              <a:chOff x="7059600" y="1711080"/>
              <a:chExt cx="1280880" cy="212760"/>
            </a:xfrm>
          </p:grpSpPr>
          <p:sp>
            <p:nvSpPr>
              <p:cNvPr id="233" name=""/>
              <p:cNvSpPr/>
              <p:nvPr/>
            </p:nvSpPr>
            <p:spPr>
              <a:xfrm>
                <a:off x="7059600" y="1711080"/>
                <a:ext cx="1280880" cy="212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57320" y="1738080"/>
                <a:ext cx="84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Echinoderm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065720" y="3728880"/>
              <a:ext cx="1281240" cy="214200"/>
              <a:chOff x="7065720" y="3728880"/>
              <a:chExt cx="1281240" cy="214200"/>
            </a:xfrm>
          </p:grpSpPr>
          <p:sp>
            <p:nvSpPr>
              <p:cNvPr id="236" name=""/>
              <p:cNvSpPr/>
              <p:nvPr/>
            </p:nvSpPr>
            <p:spPr>
              <a:xfrm>
                <a:off x="7065720" y="3728880"/>
                <a:ext cx="1281240" cy="2142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65680" y="3765240"/>
                <a:ext cx="74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Arthropod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065720" y="3036600"/>
              <a:ext cx="1281240" cy="212760"/>
              <a:chOff x="7065720" y="3036600"/>
              <a:chExt cx="1281240" cy="212760"/>
            </a:xfrm>
          </p:grpSpPr>
          <p:sp>
            <p:nvSpPr>
              <p:cNvPr id="239" name=""/>
              <p:cNvSpPr/>
              <p:nvPr/>
            </p:nvSpPr>
            <p:spPr>
              <a:xfrm>
                <a:off x="7065720" y="3036600"/>
                <a:ext cx="1281240" cy="212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08600" y="3052440"/>
                <a:ext cx="582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Annélid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065720" y="3371760"/>
              <a:ext cx="1281240" cy="212760"/>
              <a:chOff x="7065720" y="3371760"/>
              <a:chExt cx="1281240" cy="212760"/>
            </a:xfrm>
          </p:grpSpPr>
          <p:sp>
            <p:nvSpPr>
              <p:cNvPr id="242" name=""/>
              <p:cNvSpPr/>
              <p:nvPr/>
            </p:nvSpPr>
            <p:spPr>
              <a:xfrm>
                <a:off x="7065720" y="3371760"/>
                <a:ext cx="1281240" cy="212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09240" y="3380040"/>
                <a:ext cx="681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Mollusqu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164720" y="4176360"/>
              <a:ext cx="107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Némathelmint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2200" y="23396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Némer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28160" y="2665080"/>
              <a:ext cx="89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Plathelmint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30320" y="569880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Démospon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09600" y="54054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Cnidai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40200" y="1071360"/>
              <a:ext cx="1320840" cy="40500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0" y="0"/>
                  </a:lnTo>
                  <a:lnTo>
                    <a:pt x="0" y="203"/>
                  </a:lnTo>
                  <a:lnTo>
                    <a:pt x="0" y="240"/>
                  </a:lnTo>
                  <a:lnTo>
                    <a:pt x="138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7059600" y="1339560"/>
              <a:ext cx="1280880" cy="241200"/>
              <a:chOff x="7059600" y="1339560"/>
              <a:chExt cx="1280880" cy="241200"/>
            </a:xfrm>
          </p:grpSpPr>
          <p:sp>
            <p:nvSpPr>
              <p:cNvPr id="251" name=""/>
              <p:cNvSpPr/>
              <p:nvPr/>
            </p:nvSpPr>
            <p:spPr>
              <a:xfrm>
                <a:off x="7432200" y="1388880"/>
                <a:ext cx="78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Stomocordé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59600" y="1364760"/>
                <a:ext cx="1280880" cy="212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89000" y="1339560"/>
                <a:ext cx="8978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Hémicordé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7065720" y="4152600"/>
              <a:ext cx="1281240" cy="2127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65720" y="4149720"/>
              <a:ext cx="1281240" cy="214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41560" y="4138560"/>
              <a:ext cx="87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Némat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151000" y="48402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0200" y="2420640"/>
              <a:ext cx="1320840" cy="3193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0" y="0"/>
                  </a:lnTo>
                  <a:lnTo>
                    <a:pt x="0" y="203"/>
                  </a:lnTo>
                  <a:lnTo>
                    <a:pt x="0" y="240"/>
                  </a:lnTo>
                  <a:lnTo>
                    <a:pt x="138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40200" y="3160440"/>
              <a:ext cx="1320840" cy="3193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0" y="0"/>
                  </a:lnTo>
                  <a:lnTo>
                    <a:pt x="0" y="203"/>
                  </a:lnTo>
                  <a:lnTo>
                    <a:pt x="0" y="240"/>
                  </a:lnTo>
                  <a:lnTo>
                    <a:pt x="138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0200" y="3819240"/>
              <a:ext cx="1320840" cy="42408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0" y="0"/>
                  </a:lnTo>
                  <a:lnTo>
                    <a:pt x="0" y="203"/>
                  </a:lnTo>
                  <a:lnTo>
                    <a:pt x="0" y="240"/>
                  </a:lnTo>
                  <a:lnTo>
                    <a:pt x="138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43160" y="2579400"/>
              <a:ext cx="797040" cy="7477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0" y="0"/>
                  </a:lnTo>
                  <a:lnTo>
                    <a:pt x="0" y="203"/>
                  </a:lnTo>
                  <a:lnTo>
                    <a:pt x="0" y="240"/>
                  </a:lnTo>
                  <a:lnTo>
                    <a:pt x="138" y="2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08000" y="2587320"/>
              <a:ext cx="4254480" cy="2881440"/>
            </a:xfrm>
            <a:custGeom>
              <a:avLst/>
              <a:gdLst/>
              <a:ahLst/>
              <a:rect l="l" t="t" r="r" b="b"/>
              <a:pathLst>
                <a:path w="2920" h="1465">
                  <a:moveTo>
                    <a:pt x="255" y="0"/>
                  </a:moveTo>
                  <a:lnTo>
                    <a:pt x="0" y="0"/>
                  </a:lnTo>
                  <a:lnTo>
                    <a:pt x="0" y="1465"/>
                  </a:lnTo>
                  <a:lnTo>
                    <a:pt x="2920" y="14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73360" y="2933640"/>
              <a:ext cx="1266840" cy="1095120"/>
            </a:xfrm>
            <a:custGeom>
              <a:avLst/>
              <a:gdLst/>
              <a:ahLst/>
              <a:rect l="l" t="t" r="r" b="b"/>
              <a:pathLst>
                <a:path w="1290" h="690">
                  <a:moveTo>
                    <a:pt x="456" y="0"/>
                  </a:moveTo>
                  <a:lnTo>
                    <a:pt x="0" y="0"/>
                  </a:lnTo>
                  <a:lnTo>
                    <a:pt x="0" y="690"/>
                  </a:lnTo>
                  <a:lnTo>
                    <a:pt x="1290" y="6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78080" y="1523880"/>
              <a:ext cx="1743120" cy="1933560"/>
            </a:xfrm>
            <a:custGeom>
              <a:avLst/>
              <a:gdLst/>
              <a:ahLst/>
              <a:rect l="l" t="t" r="r" b="b"/>
              <a:pathLst>
                <a:path w="1098" h="1218">
                  <a:moveTo>
                    <a:pt x="1098" y="0"/>
                  </a:moveTo>
                  <a:lnTo>
                    <a:pt x="0" y="0"/>
                  </a:lnTo>
                  <a:lnTo>
                    <a:pt x="0" y="1218"/>
                  </a:lnTo>
                  <a:lnTo>
                    <a:pt x="816" y="12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228840" y="3349440"/>
              <a:ext cx="1166760" cy="212760"/>
              <a:chOff x="3228840" y="3349440"/>
              <a:chExt cx="1166760" cy="212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228840" y="3349440"/>
                <a:ext cx="1166760" cy="212760"/>
              </a:xfrm>
              <a:prstGeom prst="rect">
                <a:avLst/>
              </a:prstGeom>
              <a:solidFill>
                <a:srgbClr val="ff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6720" y="3376440"/>
                <a:ext cx="870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Protostomi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940280" y="1266480"/>
              <a:ext cx="2114280" cy="562320"/>
            </a:xfrm>
            <a:custGeom>
              <a:avLst/>
              <a:gdLst/>
              <a:ahLst/>
              <a:rect l="l" t="t" r="r" b="b"/>
              <a:pathLst>
                <a:path w="1332" h="354">
                  <a:moveTo>
                    <a:pt x="504" y="0"/>
                  </a:moveTo>
                  <a:lnTo>
                    <a:pt x="0" y="0"/>
                  </a:lnTo>
                  <a:lnTo>
                    <a:pt x="0" y="354"/>
                  </a:lnTo>
                  <a:lnTo>
                    <a:pt x="1332" y="3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247920" y="1420560"/>
              <a:ext cx="1166760" cy="212760"/>
              <a:chOff x="3247920" y="1420560"/>
              <a:chExt cx="1166760" cy="212760"/>
            </a:xfrm>
          </p:grpSpPr>
          <p:sp>
            <p:nvSpPr>
              <p:cNvPr id="270" name=""/>
              <p:cNvSpPr/>
              <p:nvPr/>
            </p:nvSpPr>
            <p:spPr>
              <a:xfrm>
                <a:off x="3247920" y="1420560"/>
                <a:ext cx="1166760" cy="212760"/>
              </a:xfrm>
              <a:prstGeom prst="rect">
                <a:avLst/>
              </a:prstGeom>
              <a:solidFill>
                <a:srgbClr val="ff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28560" y="1441440"/>
                <a:ext cx="1032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Deutérostomi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rot="16200000">
              <a:off x="1888560" y="2706480"/>
              <a:ext cx="1854720" cy="2412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Triploblastiques ; bilatérie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1872720" y="4038840"/>
              <a:ext cx="1060920" cy="2412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Verdana"/>
                </a:rPr>
                <a:t>Eumétazoai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66680" y="749160"/>
            <a:ext cx="33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nidaires et Échinode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638360"/>
            <a:ext cx="1930320" cy="393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16800" y="5245200"/>
            <a:ext cx="1930320" cy="393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96800" y="608328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 de lien phyl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4600" y="1419120"/>
            <a:ext cx="235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 par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-678600" y="127080"/>
            <a:ext cx="689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 non spécia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672840" y="749160"/>
            <a:ext cx="9811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protonéphri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a métanéphri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 néph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 tube de Malpig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’organisation de l’appareil excré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ppareils avec protonéphri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ppareil sans protonéphri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      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ppareil avec métanéphridies métamérisées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ppareil dérivé de métanéphridies : organe de Boj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ubes de Malpighi des 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 système rénal des Vertéb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31300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31300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pro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31300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mésonéphros.opistho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31300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méta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92880" y="127080"/>
            <a:ext cx="6361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appareils excréteurs des Métazo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45360" y="114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1480" y="1274760"/>
            <a:ext cx="72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. rôle des système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I. 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II. animaux sans appareil excrét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rebuchet MS"/>
              </a:rPr>
              <a:t>IV. les appareils excréteurs non spécia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rotonéphri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44680" y="1590840"/>
            <a:ext cx="2325600" cy="4479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25160" y="119376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rgane excréteur terminé en cul-de-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27280" y="410220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90120" y="390528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paroi mince sync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57400" y="261612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00440" y="244800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cellule fl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625400" y="3517920"/>
            <a:ext cx="67284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39440" y="3349800"/>
            <a:ext cx="24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flamme : cils aglomé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248520" y="2120760"/>
            <a:ext cx="2498760" cy="3356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732760" y="5715000"/>
            <a:ext cx="365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lusieurs cils : cellule fl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n seul cil : solénoc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346040" y="472428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61440" y="454032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canali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045120" y="251460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71000" y="2333520"/>
            <a:ext cx="129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solén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rotonéphri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44680" y="1590840"/>
            <a:ext cx="2325600" cy="4479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25160" y="1193760"/>
            <a:ext cx="48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rgane excréteur terminé en cul-de-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57400" y="261612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00440" y="244800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cellule fl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89640" y="1724040"/>
            <a:ext cx="42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difficile à étud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54360" y="2438280"/>
            <a:ext cx="40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attements des cils : dé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ltrafiltration par dé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689120" y="3403440"/>
            <a:ext cx="635040" cy="343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3137040"/>
            <a:ext cx="355680" cy="571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68800" y="32068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ultrafil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485720" y="4495680"/>
            <a:ext cx="43164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53360" y="4311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sécré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34960" y="4863960"/>
            <a:ext cx="4827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05560" y="465444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réabsor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89400" y="3645000"/>
            <a:ext cx="444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ésente surtout chez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étazoaires dépourvus de cavité coélo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ertaines larves de Protostomiens coelo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tanéphri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20" y="1193760"/>
            <a:ext cx="71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rgane excréteur ouvert aux deux extrémités, non ram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4960" y="2120760"/>
            <a:ext cx="3921120" cy="290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592440" y="212076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vité coelo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75720" y="502920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ore excréteur uri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84680" y="3327480"/>
            <a:ext cx="1839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ubule néphridien très contour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01560" y="264168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néphrostome cilié ouve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64600" y="25401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pill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41600" y="279396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984400" y="347976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91880" y="411480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ve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111480" y="426708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38560" y="4711680"/>
            <a:ext cx="0" cy="3556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374840" y="274320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9800" y="4140360"/>
            <a:ext cx="31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ésent uniquement chez les coelo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métanéphri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20" y="1193760"/>
            <a:ext cx="71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rgane excréteur ouvert aux deux extrémités, non ram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34960" y="2120760"/>
            <a:ext cx="3921120" cy="2901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191200" y="1808280"/>
            <a:ext cx="368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iltration / ré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iltration du liquide présent dans la cavité colo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éabsorption d’ions dans la partie distale : urine dil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régulation osmotiqu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276720" y="2463840"/>
            <a:ext cx="419040" cy="507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219320" y="3060360"/>
            <a:ext cx="1396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néph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030320" y="2641680"/>
            <a:ext cx="6939000" cy="2406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71440" y="12589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chéma d’un néphron ou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00480" y="401328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19960" y="4608360"/>
            <a:ext cx="161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ultrafil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309840" y="3809520"/>
            <a:ext cx="639720" cy="6987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38080" y="464832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898800" y="2959200"/>
            <a:ext cx="419040" cy="5205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222960" y="2425320"/>
            <a:ext cx="1260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84880" y="3632040"/>
            <a:ext cx="152280" cy="444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80440" y="4762440"/>
            <a:ext cx="12600" cy="673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7391520" y="3085920"/>
            <a:ext cx="317520" cy="29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29000" y="22748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464160" y="3187800"/>
            <a:ext cx="241560" cy="482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876560" y="3555720"/>
            <a:ext cx="152280" cy="5331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39200" y="430380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Trebuchet MS"/>
              </a:rPr>
              <a:t>excrétion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84240" y="3119400"/>
            <a:ext cx="4083120" cy="1366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019160" y="1317600"/>
            <a:ext cx="4095720" cy="1111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néph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es différents types de néph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50440" y="153684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phron ou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68880" y="335268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phron fe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36920" y="4381560"/>
            <a:ext cx="281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glomérule de Malpig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92440" y="2984400"/>
            <a:ext cx="0" cy="4572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64000" y="285768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psule de Bo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54280" y="3911760"/>
            <a:ext cx="0" cy="4572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48760" y="199224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ltration / ré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4720" y="378288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iltration / ré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1333440" y="4956120"/>
            <a:ext cx="3810240" cy="1212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5744520" y="518148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phron aglomérul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21880" y="557388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crétion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néph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844640" y="3467160"/>
            <a:ext cx="5400720" cy="1873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413080" y="5041800"/>
            <a:ext cx="12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vité coelo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7680" y="3708360"/>
            <a:ext cx="148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vaisseau sang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514520" y="397512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0160" y="4191120"/>
            <a:ext cx="169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glomérule vascul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330200" y="4470480"/>
            <a:ext cx="155592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83160" y="4863960"/>
            <a:ext cx="0" cy="9144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32280" y="5931000"/>
            <a:ext cx="129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ouverture du néph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4040" y="23893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chéma d’un néphron ou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16920" y="4673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ube colle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810120" y="4826160"/>
            <a:ext cx="43164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33840" y="3289320"/>
            <a:ext cx="0" cy="9144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18040" y="3301920"/>
            <a:ext cx="0" cy="4572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27280" y="299736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artie proxi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78600" y="2997360"/>
            <a:ext cx="19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artie dis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5079960" y="1244160"/>
            <a:ext cx="266760" cy="3187800"/>
          </a:xfrm>
          <a:custGeom>
            <a:avLst/>
            <a:gdLst>
              <a:gd name="textAreaLeft" fmla="*/ 0 w 266760"/>
              <a:gd name="textAreaRight" fmla="*/ 96120 w 266760"/>
              <a:gd name="textAreaTop" fmla="*/ 82800 h 3187800"/>
              <a:gd name="textAreaBottom" fmla="*/ 3105000 h 318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32480" y="2374920"/>
            <a:ext cx="129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néph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9960" y="944640"/>
            <a:ext cx="368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iltration par pression positive / ré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394080" y="2057400"/>
            <a:ext cx="4835520" cy="37180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néph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9960" y="120816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chéma d’un néphron fermé de Mammif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12680" y="269244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glomérule de Malpig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49560" y="2082960"/>
            <a:ext cx="0" cy="4572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90800" y="191772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psule de Bo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838400" y="2158920"/>
            <a:ext cx="1260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165480" y="285768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75280" y="1650960"/>
            <a:ext cx="202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ube contourné prox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37320" y="176544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ube contourné di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565680" y="2108160"/>
            <a:ext cx="1260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67160" y="613404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anse de Henl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29560" y="402588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ubule colle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721280" y="3390840"/>
            <a:ext cx="1260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13280" y="3124080"/>
            <a:ext cx="368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11560" y="57276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artie descen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562360" y="5079960"/>
            <a:ext cx="1260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89600" y="57276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artie ascen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61120" y="5156280"/>
            <a:ext cx="0" cy="4572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394080" y="2057400"/>
            <a:ext cx="4835520" cy="3718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néph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9640" y="1233360"/>
            <a:ext cx="57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nctionnement d’un néphron fermé de Mammif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384520" y="2019240"/>
            <a:ext cx="1260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908520" y="165096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erméable à l’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54840" y="1117440"/>
            <a:ext cx="202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erméablité à l’eau variable (régulation hormonale : AD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642000" y="1917720"/>
            <a:ext cx="15840" cy="799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7696080" y="1917720"/>
            <a:ext cx="1296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013280" y="3073320"/>
            <a:ext cx="3682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10320" y="286848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ultrafil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11680" y="2717640"/>
            <a:ext cx="0" cy="723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52560" y="3543480"/>
            <a:ext cx="28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bsor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olutés (ion, glucose, A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au (osmose)  (67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98760" y="5029200"/>
            <a:ext cx="29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bsorption ion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au (osm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1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264080" y="3454560"/>
            <a:ext cx="469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6160" y="4978440"/>
            <a:ext cx="14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bsorption 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248160" y="5245200"/>
            <a:ext cx="3301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22720" y="4749840"/>
            <a:ext cx="20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erméable à l’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006880" y="4902120"/>
            <a:ext cx="55872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64360" y="4915080"/>
            <a:ext cx="55872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16600" y="4737240"/>
            <a:ext cx="20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imperméable à l’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10160" y="368316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bsorption Na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au (osmo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8-17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37360" y="2933640"/>
            <a:ext cx="0" cy="520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2240" y="186696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e tube de Malpighi des Insec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5343480" y="1486080"/>
            <a:ext cx="1903320" cy="3941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673280" y="1879560"/>
            <a:ext cx="3711600" cy="33717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436120" y="1504800"/>
            <a:ext cx="9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esto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600" y="2914560"/>
            <a:ext cx="123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intestin moy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9800" y="542916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intestin postéri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4440" y="394956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tubes de Malpig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48040" y="4546440"/>
            <a:ext cx="0" cy="8128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609560" y="318780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46040" y="4546440"/>
            <a:ext cx="736920" cy="330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97480" y="1473120"/>
            <a:ext cx="1714680" cy="3949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3280" y="4317840"/>
            <a:ext cx="0" cy="2286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8280" y="604368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emple : criquet migr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39040" y="1649520"/>
            <a:ext cx="12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ortion dis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99280" y="5270400"/>
            <a:ext cx="0" cy="5968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05840" y="580392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ub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99360" y="43927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ortion proxi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717960" y="2755800"/>
            <a:ext cx="76212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31200" y="253368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épithélium cil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7360" y="127080"/>
            <a:ext cx="459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ôle des système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80" y="1317600"/>
            <a:ext cx="924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aintien des concentrations en solutés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aintien du volume d’eau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smo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des produits terminaux du métabol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carbone </a:t>
            </a:r>
            <a:r>
              <a:rPr b="0" lang="fr-FR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CO</a:t>
            </a:r>
            <a:r>
              <a:rPr b="0" lang="fr-FR" sz="18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= élimination par organe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zote </a:t>
            </a:r>
            <a:r>
              <a:rPr b="0" lang="fr-FR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élimination par des systèmes excré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des substances étrangères ou du produit de leur métabol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480" y="5715000"/>
            <a:ext cx="779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écessité d’un rendement variable des structures excré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355760" y="2386080"/>
            <a:ext cx="3297240" cy="26985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e tube de Malpighi des Insec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343480" y="1486080"/>
            <a:ext cx="1903320" cy="39416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39520" y="126360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réticulum end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040" y="202572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microvill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44920" y="1886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lame ba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25880" y="529596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rep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3280" y="2476440"/>
            <a:ext cx="0" cy="4572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19440" y="4317840"/>
            <a:ext cx="0" cy="8128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86680" y="4038480"/>
            <a:ext cx="863280" cy="787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21120" y="4863960"/>
            <a:ext cx="0" cy="5968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439040" y="1649520"/>
            <a:ext cx="12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ortion dis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99360" y="43927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ortion proxi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717960" y="2755800"/>
            <a:ext cx="76212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531200" y="253368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épithélium cil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39960" y="1612800"/>
            <a:ext cx="0" cy="9399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89400" y="2171880"/>
            <a:ext cx="0" cy="5968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54280" y="4178160"/>
            <a:ext cx="0" cy="9655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8400" y="52196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mitochond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22400" y="165096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noy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08240" y="1981080"/>
            <a:ext cx="0" cy="156240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29200" y="1144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unité fon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rebuchet MS"/>
              </a:rPr>
              <a:t>le tube de Malpighi des Insec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2880" y="1160640"/>
            <a:ext cx="46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: excrétion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343480" y="1486080"/>
            <a:ext cx="1903320" cy="39416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7439040" y="1649520"/>
            <a:ext cx="12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ortion dis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99280" y="5270400"/>
            <a:ext cx="0" cy="5968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05840" y="580392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ube diges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299360" y="439272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portion proxi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81480" y="2197080"/>
            <a:ext cx="105408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2413080"/>
            <a:ext cx="105408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1480" y="2603520"/>
            <a:ext cx="1028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5280" y="218448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xcrétion : solutés + 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43560" y="2508120"/>
            <a:ext cx="0" cy="571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6480" y="2889360"/>
            <a:ext cx="0" cy="672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45200" y="3911760"/>
            <a:ext cx="105408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45200" y="4317840"/>
            <a:ext cx="10285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8280" y="3479760"/>
            <a:ext cx="3232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éabsorp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g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2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, Ca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2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, Na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, HCO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3</a:t>
            </a:r>
            <a:r>
              <a:rPr b="0" lang="fr-FR" sz="2000" spc="-1" strike="noStrike" baseline="30000">
                <a:solidFill>
                  <a:srgbClr val="800000"/>
                </a:solidFill>
                <a:latin typeface="Trebuchet MS"/>
              </a:rPr>
              <a:t>-,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94320" y="4108320"/>
            <a:ext cx="0" cy="5716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67600" y="4489560"/>
            <a:ext cx="0" cy="67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rgane néphridien avec protonéphrid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la planaire (Plathelminthe)</a:t>
            </a:r>
            <a:r>
              <a:rPr b="0" lang="en-GB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66280" y="1133640"/>
            <a:ext cx="1703520" cy="5192640"/>
            <a:chOff x="566280" y="1133640"/>
            <a:chExt cx="1703520" cy="519264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1411560" y="1133640"/>
              <a:ext cx="858240" cy="51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 flipH="1">
              <a:off x="566280" y="1133640"/>
              <a:ext cx="857880" cy="519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7" name=""/>
          <p:cNvSpPr/>
          <p:nvPr/>
        </p:nvSpPr>
        <p:spPr>
          <a:xfrm>
            <a:off x="2134440" y="1154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cra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37520" y="61326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6329520" y="1397160"/>
            <a:ext cx="966600" cy="1866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555920" y="3720960"/>
            <a:ext cx="672840" cy="559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5143680" y="4159080"/>
            <a:ext cx="2217600" cy="17067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5979960" y="344808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protonéphri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04000" y="3860640"/>
            <a:ext cx="0" cy="5972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24640" y="5029200"/>
            <a:ext cx="0" cy="11685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07440" y="62546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tube coll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83560" y="5079960"/>
            <a:ext cx="76176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48600" y="4883040"/>
            <a:ext cx="125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pore excré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74800" y="2117880"/>
            <a:ext cx="33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ystème excréteur très ram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257560" y="1704960"/>
            <a:ext cx="2609640" cy="33638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rgane néphridien avec protonéphrid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Nephtys (Annélid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095560" y="208296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7520" y="188928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solénoc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74920" y="3048120"/>
            <a:ext cx="67320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4640" y="287964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ampoule comm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559040" y="2793960"/>
            <a:ext cx="67284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94160" y="26290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vité coelo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733560" y="4051440"/>
            <a:ext cx="67284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83960" y="524520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ore excré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95680" y="3898800"/>
            <a:ext cx="1839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ubule néphrid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37000" y="4946400"/>
            <a:ext cx="0" cy="3301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ppareil sans protonéphri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Ascaris (Nématod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84440" y="1851120"/>
            <a:ext cx="3670200" cy="34970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076120" y="1601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nerf do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43240" y="52754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nerf v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4120" y="12319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ov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69800" y="3483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inte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9640" y="38545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corde laté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3000" y="3436920"/>
            <a:ext cx="128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canal excré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56720" y="570384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uté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4360" y="169848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(cell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myoépithéli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7400" y="43718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hypoder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280" y="471492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cuti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5640" y="243684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prolon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cytplasmi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des cell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Verdana"/>
              </a:rPr>
              <a:t>myoépithél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00200" y="4903920"/>
            <a:ext cx="9399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52680" y="4554360"/>
            <a:ext cx="7347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70400" y="4932360"/>
            <a:ext cx="658800" cy="533520"/>
          </a:xfrm>
          <a:custGeom>
            <a:avLst/>
            <a:gdLst/>
            <a:ahLst/>
            <a:rect l="l" t="t" r="r" b="b"/>
            <a:pathLst>
              <a:path w="544" h="440">
                <a:moveTo>
                  <a:pt x="0" y="0"/>
                </a:moveTo>
                <a:lnTo>
                  <a:pt x="0" y="440"/>
                </a:lnTo>
                <a:lnTo>
                  <a:pt x="544" y="44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074400" y="1789200"/>
            <a:ext cx="453960" cy="45720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0" y="376"/>
                </a:moveTo>
                <a:lnTo>
                  <a:pt x="0" y="0"/>
                </a:lnTo>
                <a:lnTo>
                  <a:pt x="376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1607760" y="3584520"/>
            <a:ext cx="4856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531440" y="2914560"/>
            <a:ext cx="12495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89000" y="2014560"/>
            <a:ext cx="773280" cy="436680"/>
          </a:xfrm>
          <a:custGeom>
            <a:avLst/>
            <a:gdLst/>
            <a:ahLst/>
            <a:rect l="l" t="t" r="r" b="b"/>
            <a:pathLst>
              <a:path w="640" h="360">
                <a:moveTo>
                  <a:pt x="632" y="360"/>
                </a:moveTo>
                <a:lnTo>
                  <a:pt x="6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07320" y="114300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ppareil dépourvu de cellules fl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51480" y="3581280"/>
            <a:ext cx="361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naux excréteu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eux canaux longitudinaux (cellule unique géante creus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ube en forme de H débouchant dans le milieu extérieur (face ventrale de la partie craniale du cor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64080" y="1517760"/>
            <a:ext cx="0" cy="1231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990880" y="4413240"/>
            <a:ext cx="0" cy="1231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463760" y="3738600"/>
            <a:ext cx="658800" cy="253800"/>
          </a:xfrm>
          <a:custGeom>
            <a:avLst/>
            <a:gdLst/>
            <a:ahLst/>
            <a:rect l="l" t="t" r="r" b="b"/>
            <a:pathLst>
              <a:path w="544" h="440">
                <a:moveTo>
                  <a:pt x="0" y="0"/>
                </a:moveTo>
                <a:lnTo>
                  <a:pt x="0" y="440"/>
                </a:lnTo>
                <a:lnTo>
                  <a:pt x="544" y="44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rgane néphridien avec métanéphrid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Annél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271520" y="2836800"/>
            <a:ext cx="5251680" cy="19051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916440" y="2624040"/>
            <a:ext cx="1270080" cy="452520"/>
          </a:xfrm>
          <a:custGeom>
            <a:avLst/>
            <a:gdLst/>
            <a:ahLst/>
            <a:rect l="l" t="t" r="r" b="b"/>
            <a:pathLst>
              <a:path w="600" h="204">
                <a:moveTo>
                  <a:pt x="0" y="186"/>
                </a:moveTo>
                <a:lnTo>
                  <a:pt x="0" y="0"/>
                </a:lnTo>
                <a:lnTo>
                  <a:pt x="600" y="0"/>
                </a:lnTo>
                <a:lnTo>
                  <a:pt x="600" y="204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46360" y="2490840"/>
            <a:ext cx="0" cy="758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49640" y="2343240"/>
            <a:ext cx="12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métam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97480" y="224172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vaisseau do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89360" y="47498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vaisseau v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08040" y="4869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néphrid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19520" y="23781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inte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47640" y="205596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dissép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80760" y="5286240"/>
            <a:ext cx="13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haî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ganglionna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v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88200" y="471636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prosto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70560" y="5245200"/>
            <a:ext cx="191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ganglion cérébroï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inf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38400" y="1913040"/>
            <a:ext cx="113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gangl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érébroï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sup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16320" y="4338720"/>
            <a:ext cx="0" cy="10969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1680" y="4316400"/>
            <a:ext cx="0" cy="9763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72040" y="4386240"/>
            <a:ext cx="0" cy="647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33920" y="4092480"/>
            <a:ext cx="0" cy="7984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545080" y="2665080"/>
            <a:ext cx="0" cy="6714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60880" y="2759040"/>
            <a:ext cx="0" cy="9669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841400" y="2724120"/>
            <a:ext cx="0" cy="884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9440" y="4197240"/>
            <a:ext cx="0" cy="4701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58360" y="1282680"/>
            <a:ext cx="37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chéma général d’un Anné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organe néphridien avec métanéphrid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Annél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251000" y="1568520"/>
            <a:ext cx="2178000" cy="48355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1720" y="2131920"/>
            <a:ext cx="2592360" cy="35020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23920" y="2557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avité coelom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7880" y="110484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chéma d’une Annélide prim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19400" y="3479760"/>
            <a:ext cx="1396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81160" y="2120760"/>
            <a:ext cx="7495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3880" y="197316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oelomoduc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25200" y="33148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métanéphri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3520" y="55785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inte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54200" y="55148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milieu extéri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organe de Bojanus des Mollu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Gastérop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452600" y="2651040"/>
            <a:ext cx="5419800" cy="35974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809960" y="1965240"/>
            <a:ext cx="6750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o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75720" y="415620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branch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980040" y="453060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mant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991920" y="351324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56640" y="23353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péricar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70440" y="4430880"/>
            <a:ext cx="11923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86600" y="4816440"/>
            <a:ext cx="7887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44720" y="4238640"/>
            <a:ext cx="6555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86080" y="5934240"/>
            <a:ext cx="7459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933880" y="3776760"/>
            <a:ext cx="10522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65360" y="2556000"/>
            <a:ext cx="1451160" cy="53172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018040" y="2260440"/>
            <a:ext cx="0" cy="1097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68840" y="399744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65120" y="5686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73920" y="48610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oqu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5864400" y="5132520"/>
            <a:ext cx="11095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7000" y="4302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bou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81200" y="4876920"/>
            <a:ext cx="8776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85880" y="4562640"/>
            <a:ext cx="12175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0520" y="3843360"/>
            <a:ext cx="738360" cy="69372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336320" y="323676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esto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14440" y="3481560"/>
            <a:ext cx="1163880" cy="59976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6080" y="291924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hépatopancré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25600" y="3160800"/>
            <a:ext cx="1354320" cy="60012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11200" y="5823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inte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7240" y="4270320"/>
            <a:ext cx="0" cy="15940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5377680" y="3186000"/>
            <a:ext cx="1608120" cy="60012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968880" y="292248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4500000" y="4348080"/>
            <a:ext cx="2485800" cy="120960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69600" y="52768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gon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2200" y="3591000"/>
            <a:ext cx="165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ganglion céréb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27000" y="463716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pal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26320" y="1282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chéma général d’un Mollu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558800" y="2363760"/>
            <a:ext cx="3238560" cy="34765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’organe de Bojanus des Mollu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 : Gastérop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85960" y="1863720"/>
            <a:ext cx="102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oreille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25840" y="1825560"/>
            <a:ext cx="102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ventri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14440" y="2306520"/>
            <a:ext cx="0" cy="11304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4320" y="2166840"/>
            <a:ext cx="0" cy="11304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49360" y="5940360"/>
            <a:ext cx="15112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uret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82680" y="4470480"/>
            <a:ext cx="18288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19240" y="1206360"/>
            <a:ext cx="241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orifice réno-péricard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49720" y="1909800"/>
            <a:ext cx="368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iltration / ré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ein : filtration depuis l’hémolymphe (pas de passage pas l’orifice réno-péricard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oche néphridienne : réabsorption d’ions et d’e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03640" y="5608800"/>
            <a:ext cx="0" cy="3301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91040" y="1747800"/>
            <a:ext cx="0" cy="21970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7200" y="382752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rein = organ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Boja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93960" y="11430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rivé de métanéphri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280" y="4788000"/>
            <a:ext cx="16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poc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Verdana"/>
              </a:rPr>
              <a:t>néphridie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ubes de Malpighi des Insec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071800"/>
            <a:ext cx="5432040" cy="3413520"/>
            <a:chOff x="304920" y="2071800"/>
            <a:chExt cx="5432040" cy="3413520"/>
          </a:xfrm>
        </p:grpSpPr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1390680" y="3035520"/>
              <a:ext cx="3701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 flipH="1" flipV="1">
              <a:off x="2211120" y="2384280"/>
              <a:ext cx="90360" cy="102852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197160" y="2384640"/>
              <a:ext cx="473040" cy="103824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1437840" y="2316240"/>
              <a:ext cx="754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2259000" y="2316240"/>
              <a:ext cx="13622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3695400" y="2316240"/>
              <a:ext cx="144468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25760" y="207972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Verdana"/>
                </a:rPr>
                <a:t>tê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66440" y="2071800"/>
              <a:ext cx="68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Verdana"/>
                </a:rPr>
                <a:t>thor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76480" y="207180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Verdana"/>
                </a:rPr>
                <a:t>abdo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34960" y="3086280"/>
              <a:ext cx="476280" cy="5698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27360" y="2900520"/>
              <a:ext cx="64800" cy="4572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95760" y="2871720"/>
              <a:ext cx="0" cy="243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95760" y="2871720"/>
              <a:ext cx="298440" cy="317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464000" y="3310200"/>
              <a:ext cx="308160" cy="3729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672000" y="2927520"/>
              <a:ext cx="242640" cy="728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1547640" y="4037040"/>
              <a:ext cx="866880" cy="1778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4379760" y="3727440"/>
              <a:ext cx="605160" cy="1144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01920" y="3795840"/>
              <a:ext cx="1247760" cy="223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26680" y="4289400"/>
              <a:ext cx="474840" cy="1857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518840" y="4438800"/>
              <a:ext cx="606600" cy="4572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547280" y="4392720"/>
              <a:ext cx="465480" cy="2332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359080" y="4354200"/>
              <a:ext cx="277920" cy="4287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925720" y="4589640"/>
              <a:ext cx="0" cy="6141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951360" y="4896000"/>
              <a:ext cx="187200" cy="139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693880" y="4457880"/>
              <a:ext cx="27000" cy="5680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708360" y="4681800"/>
              <a:ext cx="289080" cy="1108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268520" y="3049560"/>
              <a:ext cx="129960" cy="5875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35000" y="2656080"/>
              <a:ext cx="149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Tubes de Malpig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54280" y="2870280"/>
              <a:ext cx="128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vaisseau do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71800" y="314820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co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01840" y="3554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gon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36600" y="47293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an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5000" y="429444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lèv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93880" y="45054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bou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7520" y="47386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mandib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50000" y="2925720"/>
              <a:ext cx="113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oeil compos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44680" y="2659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oc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0480" y="327204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anten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4000" y="2394000"/>
              <a:ext cx="163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ganglion cérébroï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do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5640" y="38624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intest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4920" y="4040280"/>
              <a:ext cx="130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glande saliv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14280" y="4778640"/>
              <a:ext cx="70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han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87640" y="504684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trocha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80920" y="5208840"/>
              <a:ext cx="6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cui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70800" y="451800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jam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18400" y="4762440"/>
              <a:ext cx="54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ta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5480" y="25797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Verdana"/>
                </a:rPr>
                <a:t>a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68280" y="3432240"/>
              <a:ext cx="12384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973760" y="4373640"/>
              <a:ext cx="0" cy="2937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1925640" y="2570400"/>
              <a:ext cx="177840" cy="10303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63400" y="128268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chéma général d’un Ins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6505560" y="2952720"/>
            <a:ext cx="2438280" cy="27496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6394320" y="5986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tubes de Malpig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08920" y="5229360"/>
            <a:ext cx="0" cy="6616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800" y="127080"/>
            <a:ext cx="370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I. 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360" y="1219320"/>
            <a:ext cx="7799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principe général de l’excré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ltra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ansport a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animaux ammoniotél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animaux uricotél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800000"/>
                </a:solidFill>
                <a:latin typeface="Trebuchet MS"/>
              </a:rPr>
              <a:t>animaux uréotél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ubes de Malpighi des Insec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6505560" y="2952720"/>
            <a:ext cx="2438280" cy="27496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6394320" y="598644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00000"/>
                </a:solidFill>
                <a:latin typeface="Verdana"/>
              </a:rPr>
              <a:t>tubes de Malpig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108920" y="5229360"/>
            <a:ext cx="0" cy="66168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2760" y="1397160"/>
            <a:ext cx="90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ube de Malpigi : entre 2 et plusieurs centa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bouchent dans l’intestin à la jonction entre intestin moyen et postéri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2379600"/>
            <a:ext cx="368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écrétion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pas d’inuline dans l’ur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sectes à nourriture sèche: réabsorption d’eau au niveau du rectum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précipitation de l’acide urique sous forme d’urate de potassium (pas d’effet osmotique car non soluble) : perte d’eau min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système rénal des Vertébr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s néphr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941560" y="1914480"/>
            <a:ext cx="3016440" cy="344952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947520" y="256212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tube nerveux do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89720" y="309096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or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95280" y="35114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vaisseau do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60880" y="41893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tube diges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82720" y="46227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coel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807160" y="302580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so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17960" y="4165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splanchnople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815800" y="449748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</a:rPr>
              <a:t>somatople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893680" y="2797200"/>
            <a:ext cx="1011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919240" y="3316320"/>
            <a:ext cx="10303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919240" y="3735360"/>
            <a:ext cx="10526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918880" y="4406760"/>
            <a:ext cx="11113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919240" y="4838760"/>
            <a:ext cx="6955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44840" y="4406760"/>
            <a:ext cx="14464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10160" y="4738680"/>
            <a:ext cx="11811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18240" y="3251160"/>
            <a:ext cx="9730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1960" y="128268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chéma général d’un Cord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1216080" y="1036800"/>
            <a:ext cx="3260520" cy="45622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système rénal des Vertébr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es néphr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02080" y="1994040"/>
            <a:ext cx="31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néphrotome = pièce intermédi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4400" y="380988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vaiss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360400" y="2787480"/>
            <a:ext cx="29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uretère primaire = canal de Wol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0080" y="4030560"/>
            <a:ext cx="85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rê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géni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4680" y="52401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oel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898880" y="1233360"/>
            <a:ext cx="7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so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1215720" y="3963960"/>
            <a:ext cx="5000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216080" y="4184640"/>
            <a:ext cx="866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4335120" y="2970360"/>
            <a:ext cx="8859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246200" y="2127240"/>
            <a:ext cx="9349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1207800" y="5418000"/>
            <a:ext cx="5842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14720" y="1430280"/>
            <a:ext cx="8175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16080" y="3470400"/>
            <a:ext cx="779400" cy="455400"/>
          </a:xfrm>
          <a:custGeom>
            <a:avLst/>
            <a:gdLst/>
            <a:ahLst/>
            <a:rect l="l" t="t" r="r" b="b"/>
            <a:pathLst>
              <a:path w="1040" h="160">
                <a:moveTo>
                  <a:pt x="1040" y="160"/>
                </a:moveTo>
                <a:lnTo>
                  <a:pt x="10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8320" y="3111480"/>
            <a:ext cx="111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psul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Bo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67080" y="4313160"/>
            <a:ext cx="0" cy="146052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06480" y="5843520"/>
            <a:ext cx="131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néphrost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62320" y="3898800"/>
            <a:ext cx="59230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phr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dérivent de métanéphri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e forment à partir des néphrot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rostro-cauda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ourgeonnement latéral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c. de Bow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ourgeonnement longitudinal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canal de Wol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bourgeonnement secondair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néph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système rénal des Vertébr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ormation du re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2760" y="1054080"/>
            <a:ext cx="819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r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étape : formation d’un rein éphémère au cours du développ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es pièces intermédiaires antérieures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rein : pro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nal urinaire = canal de Wol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dulte: régression du pro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0920" y="2397240"/>
            <a:ext cx="819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étape : formation d’un second rein en arrière du pronéph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phrons ramifiés, métamérie effac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nal urinaire = canal de Wol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namniotes : rein définitif : opistho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mniotes : rein transitoire : méso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6880" y="4051440"/>
            <a:ext cx="8199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3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étape : formation d’un 3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e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rein par bourgeonnement : métanéph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e forment à partir des dernières pièces intermédiaires (1 à 3), qui fusionnent à droite et à gauch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blastème métanéphrogène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bourgeonnement de néphrons ramifiés de nombreuses f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anal urinaire : bourgeonnement d’un uretère secondaire à la base du canal de Wol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chez les Amniotes uniqu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système rénal des Vertébr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4718160" y="1260360"/>
            <a:ext cx="2900160" cy="44276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1179360" y="1376280"/>
            <a:ext cx="1859040" cy="443412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1300680" y="60325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namni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25240" y="6019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mni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412440" y="16398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ro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32120" y="1824120"/>
            <a:ext cx="14904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3440" y="1811160"/>
            <a:ext cx="1605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9120" y="238932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opisthonéphos  méso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021040" y="2573280"/>
            <a:ext cx="753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40480" y="2573280"/>
            <a:ext cx="753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65240" y="415440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meta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106960" y="4325760"/>
            <a:ext cx="5382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94240" y="48895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nal de Wol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47760" y="5049720"/>
            <a:ext cx="13003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45120" y="5049720"/>
            <a:ext cx="12999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4998960" y="1297080"/>
            <a:ext cx="2921040" cy="39002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731880" y="1415880"/>
            <a:ext cx="3122640" cy="379116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733920" y="1144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rganisation de l’appareil excré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système rénal des Vertébr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-605520" y="127080"/>
            <a:ext cx="45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appareils excré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47520" y="111744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â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33800" y="113040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em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15480" y="16398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pro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33560" y="1824120"/>
            <a:ext cx="5889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41720" y="1811160"/>
            <a:ext cx="11480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23040" y="34815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méso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95760" y="3639960"/>
            <a:ext cx="753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030640" y="3639960"/>
            <a:ext cx="7542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130880" y="171612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meta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75320" y="4554360"/>
            <a:ext cx="18842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20440" y="3873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nal de 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03440" y="4199040"/>
            <a:ext cx="474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145120" y="5049720"/>
            <a:ext cx="12999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2000" y="747720"/>
            <a:ext cx="4317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mni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9480" y="176688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metanéph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095480" y="2120760"/>
            <a:ext cx="0" cy="719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70720" y="2070000"/>
            <a:ext cx="0" cy="719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68400" y="43941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uretè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73280" y="4567320"/>
            <a:ext cx="19857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577680" y="20955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testic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97120" y="2311560"/>
            <a:ext cx="0" cy="2998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73640" y="2260440"/>
            <a:ext cx="0" cy="3002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61560" y="209556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ov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403848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canal de Wol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61040" y="4046400"/>
            <a:ext cx="969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867840" y="267984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0000"/>
                </a:solidFill>
                <a:latin typeface="Verdana"/>
              </a:rPr>
              <a:t>épididy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44640" y="2840040"/>
            <a:ext cx="1109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6880" y="5372280"/>
            <a:ext cx="81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âle : partie postérieure du canal de Wolff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spermidu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rtie moyenne du canal de Wolff + vestige mésonéphros : épidid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emelle : régression du canal de Wollf, persistence du canal de Mu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64160" y="11448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incipe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952560"/>
            <a:ext cx="8985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ltrafiltration : passage passif et non spécifique d’eau et de solutés du milieu intérie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filtration / réabsorp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1. ultra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2. absorption active et sélective de solutés (et d’eau) de l’appareil excréteur vers le milieu in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ultrafil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2120" y="463536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érê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non sélective de toute substance étrangère, même 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convéni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écessité de système de réabsorption active de la majeurs partie de l’eau et des solutés ultrafilt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4320" y="4114800"/>
            <a:ext cx="39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rein des mammif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73320" y="3327480"/>
            <a:ext cx="3353040" cy="635040"/>
          </a:xfrm>
          <a:custGeom>
            <a:avLst/>
            <a:gdLst>
              <a:gd name="textAreaLeft" fmla="*/ 985680 w 3353040"/>
              <a:gd name="textAreaRight" fmla="*/ 3353400 w 335304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65360" y="3645000"/>
            <a:ext cx="9270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65480" y="3365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41800" y="3137040"/>
            <a:ext cx="0" cy="4442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59320" y="3720960"/>
            <a:ext cx="0" cy="5335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1280" y="3441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4040" y="3645000"/>
            <a:ext cx="7747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8760" y="346392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urin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92520" y="3336840"/>
            <a:ext cx="12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urine prim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64160" y="11448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incipe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5840" y="1219320"/>
            <a:ext cx="8184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mise en évidence : ultrafiltration d’inu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uline : polysaccharide végétal de faible poids moléculaire (5000 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on produite par l’organis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on métabolisée par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se la barrière de 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jamais excrétée manière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jamais réabsorbée de manière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(aucun mécanisme de transport actif conn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injection d’inuline dans le corp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si présence d’inuline dans l’urine :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ultra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oute l’inuline présente dans l’urine définitive est le résultat d’une 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ultrafil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64160" y="11448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rincipe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760" y="1206360"/>
            <a:ext cx="89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transport actif : passage actif et sélectif de solutés du milieu in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ransport act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9200" y="401328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érê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élimination sélective des substances indési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convénien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as de possibilités d’élimination de substances nouvelles (pour lesquelles il n’existent pas de système actif d’élimin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7880" y="339084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emple :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tubes de Malpighi des Insec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1994040"/>
            <a:ext cx="3352680" cy="635040"/>
          </a:xfrm>
          <a:custGeom>
            <a:avLst/>
            <a:gdLst>
              <a:gd name="textAreaLeft" fmla="*/ 985680 w 3352680"/>
              <a:gd name="textAreaRight" fmla="*/ 3353040 w 335268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35440" y="2336400"/>
            <a:ext cx="0" cy="444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1714680"/>
            <a:ext cx="0" cy="5331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89440" y="2311560"/>
            <a:ext cx="7747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4160" y="213048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0000"/>
                </a:solidFill>
                <a:latin typeface="Trebuchet MS"/>
              </a:rPr>
              <a:t>urin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1727280"/>
            <a:ext cx="0" cy="5331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686480" y="2412720"/>
            <a:ext cx="0" cy="444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tabolisme des al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4680" y="1231920"/>
            <a:ext cx="2746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glucides 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CO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+ 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lipides 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CO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+ 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280" y="127080"/>
            <a:ext cx="329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les types d’excré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31600" y="11448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élimination des déchets azo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7200" y="695160"/>
            <a:ext cx="53467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tabolisme des ali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360" y="1193760"/>
            <a:ext cx="53197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rotéines </a:t>
            </a:r>
            <a:r>
              <a:rPr b="0" lang="fr-FR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CO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+ 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O +    N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   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rée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ide u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960" y="2641680"/>
            <a:ext cx="22885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ides nuclé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u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ide u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llantoï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ide allantoï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84560" y="2959200"/>
            <a:ext cx="25765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pyrimid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ides ami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NH</a:t>
            </a:r>
            <a:r>
              <a:rPr b="0" lang="fr-FR" sz="2000" spc="-1" strike="noStrike" baseline="-25000">
                <a:solidFill>
                  <a:srgbClr val="80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urée 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800000"/>
                </a:solidFill>
                <a:latin typeface="Trebuchet MS"/>
              </a:rPr>
              <a:t>acide u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03440" y="1092240"/>
            <a:ext cx="77472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1968480"/>
            <a:ext cx="77472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5120" y="1955880"/>
            <a:ext cx="171432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762440"/>
            <a:ext cx="171468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25880" y="4140360"/>
            <a:ext cx="774720" cy="583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51440" y="4813200"/>
            <a:ext cx="77472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960" y="3467160"/>
            <a:ext cx="171468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308560"/>
            <a:ext cx="77472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600" y="5994360"/>
            <a:ext cx="77472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m</cp:lastModifiedBy>
  <dcterms:modified xsi:type="dcterms:W3CDTF">2011-03-14T16:45:08Z</dcterms:modified>
  <cp:revision>752</cp:revision>
  <dc:subject/>
  <dc:title>Présentation PowerPoint</dc:title>
</cp:coreProperties>
</file>