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7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26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28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7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526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2840" y="568080"/>
            <a:ext cx="78073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468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672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rappel_calcul.pdf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406520" y="1798560"/>
            <a:ext cx="63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4000" spc="-1" strike="noStrike">
                <a:solidFill>
                  <a:srgbClr val="000066"/>
                </a:solidFill>
                <a:latin typeface="Trebuchet MS"/>
              </a:rPr>
              <a:t>l’osmolarit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596960" y="596880"/>
            <a:ext cx="7547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419120" y="114480"/>
            <a:ext cx="71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icence Bi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521000" y="596880"/>
            <a:ext cx="71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Bitstream Vera Sans"/>
              </a:rPr>
              <a:t>UE physiologie cellulaire et animale</a:t>
            </a:r>
            <a:r>
              <a:rPr b="0" lang="fr-FR" sz="2400" spc="-1" strike="noStrike">
                <a:solidFill>
                  <a:srgbClr val="8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0120" cy="1514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42880" y="2874960"/>
            <a:ext cx="7818480" cy="38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Étienne Ro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Adaptation cardiovasculaire à l’ischémie INSERM U 10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UFR des Sciences de la Vie Université Bordeaux Seg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contact: etienne.roux@u-bordeaux2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support de cour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plateforme pédagogique l’UFR des sciences de la V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e-fisio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plan du cours (format p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diaporama du cours (format pp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rappel de calcul de base (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format pdf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89640" y="127080"/>
            <a:ext cx="667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ise en évidenc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ression osmo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01240" y="11448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é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735120"/>
            <a:ext cx="77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NB : concentration io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440360"/>
            <a:ext cx="798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La concentration ionique d’une solution est le nombre de moles de charges présentes dans la solution. Son unité est l’équivalent (Eq) par volume de sol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200" y="2631960"/>
            <a:ext cx="84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emple : calcul de la concentration ionique d’une solution de 10 mM de Na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3611880"/>
            <a:ext cx="7980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NaCl est à la concentration de 10 m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NaCl se dissocie en Na</a:t>
            </a:r>
            <a:r>
              <a:rPr b="0" lang="en-GB" sz="2000" spc="-1" strike="noStrike" baseline="30000">
                <a:solidFill>
                  <a:srgbClr val="800000"/>
                </a:solidFill>
                <a:latin typeface="Trebuchet MS"/>
              </a:rPr>
              <a:t>+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 et Cl</a:t>
            </a:r>
            <a:r>
              <a:rPr b="0" lang="en-GB" sz="2000" spc="-1" strike="noStrike" baseline="30000">
                <a:solidFill>
                  <a:srgbClr val="800000"/>
                </a:solidFill>
                <a:latin typeface="Trebuchet MS"/>
              </a:rPr>
              <a:t>-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Chaque mole de NaCl porte une mole de charges + et une de charges -. La concentration ionique de la solution est donc : 2 x 10 = 20 mEq.l-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14560" y="5800680"/>
            <a:ext cx="45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centration ionique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  osmolar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15120" y="127080"/>
            <a:ext cx="4308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II. physique de l’osmol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60400" y="984240"/>
            <a:ext cx="78915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smolarité d’une solution ; coefficient osmo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exemples de calcu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oefficient osmot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a loi de van’t H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dé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un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exe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smolarité d’un mélange de sol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smolarité effic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olutés impermé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olutés permé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ynamique de l’osm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-720" y="127080"/>
            <a:ext cx="389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hysiqu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osmol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02200" y="1144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smol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690480"/>
            <a:ext cx="824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’osmolarité d’une solution est le nombre de moles de particules en solution dans 1 litre de sol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1 osmole (osm) correspond à une mole de particu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6280" y="2200320"/>
            <a:ext cx="86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emple : calcul de l’osmolarité d’une solution de 10 mM de sacchar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7520" y="2819520"/>
            <a:ext cx="7457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10 mM = 0,001 mol/L = 10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-3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mol/ L  = 10 mol/m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accharose = soluble dans l’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en solution : ne se dissocie 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1 molécule de sacharose en solution = 1 particule en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4848120"/>
            <a:ext cx="74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10 millimoles de saccharose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10 milliosmoles de sacchar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02200" y="1144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smol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690480"/>
            <a:ext cx="824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’osmolarité d’une solution est le nombre de moles de particules en solution dans 1 litre de sol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1 osmole (osm) correspond à une mole de particu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20" y="2200320"/>
            <a:ext cx="79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emple : calcul de l’osmolarité d’une solution de 10 mM de Na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0160" y="2819520"/>
            <a:ext cx="712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10 mM = 0,001 mol/L = 10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-3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mol/ L  = 10 mol/m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aCl = soluble dans l’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en solution : se dissocie en Na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+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et Cl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1 molécule de NaCl en solution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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2 particules en solution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(*tout le NaCl ne de dissocie pas en Na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+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et Cl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-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92720" y="5419800"/>
            <a:ext cx="62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10 millimoles de NaCl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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20 milliosmoles de Na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720" y="127080"/>
            <a:ext cx="389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hysiqu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osmol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02200" y="1144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smol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3960" y="1217520"/>
            <a:ext cx="8272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’osmolarité dépend d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oncentration en solu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ombre de particules effectivement formées par la dissociation du solut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ombre de particules formées par la dissociation d’une molécule de solu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facteur de correction : toutes les molécules de soluté ne se dissocient pas en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-255600" y="633240"/>
            <a:ext cx="3934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efficient osmo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720" y="127080"/>
            <a:ext cx="389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hysiqu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osmol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02200" y="1144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smol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2880" y="1027080"/>
            <a:ext cx="7790040" cy="32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</a:t>
            </a:r>
            <a:r>
              <a:rPr b="0" lang="fr-FR" sz="2800" spc="-1" strike="noStrike">
                <a:solidFill>
                  <a:srgbClr val="800000"/>
                </a:solidFill>
                <a:latin typeface="Trebuchet MS"/>
              </a:rPr>
              <a:t>= (n/V).i.</a:t>
            </a:r>
            <a:r>
              <a:rPr b="0" lang="fr-FR" sz="2800" spc="-1" strike="noStrike">
                <a:solidFill>
                  <a:srgbClr val="800000"/>
                </a:solidFill>
                <a:latin typeface="Symbol"/>
                <a:ea typeface="Symbol"/>
              </a:rPr>
              <a:t>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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ombre de moles de solu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V: 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/V = molarité de la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i : nombre de particules formées par dissociation du solu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phi) : coefficient osmotique = facteur de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NB: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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n’est pas le pourcentage de dissoci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255600" y="633240"/>
            <a:ext cx="3934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efficient osmo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4240" y="4340160"/>
            <a:ext cx="866052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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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exemples :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MgCl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: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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= 0,89   i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aCl :  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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= 0,93  i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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 1 dans 2 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i&gt;1 (le soluté se dissocie en solution)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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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= 1 si 100% de di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i=1 (le soluté ne se dissocie pas en solution)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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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= 1 (pas de corr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-720" y="127080"/>
            <a:ext cx="389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hysiqu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osmol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49080" y="11448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oi de van’t H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179360"/>
            <a:ext cx="856440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a pression osmotique d’une solution est donnée par la loi de van’t Hoff, dérivée de la loi sur les gaz parfa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fr-FR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Trebuchet MS"/>
              </a:rPr>
              <a:t>= R.T.(n/V).i.</a:t>
            </a:r>
            <a:r>
              <a:rPr b="0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R : constante des gaz parfa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T : tempé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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ombre de moles de solu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V: volume (!!! l’unité internationale de volume est le m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3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, et non le lit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i : nombre de particules formées par dissociation du solu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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(phi) : coefficient osmotique = facteur de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-224280" y="633240"/>
            <a:ext cx="2349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é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720" y="127080"/>
            <a:ext cx="389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hysiqu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osmol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49080" y="11448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oi de van’t H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090440"/>
            <a:ext cx="856440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alcul de la pression osmotique en unités internationale : Pascal (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fr-FR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Trebuchet MS"/>
              </a:rPr>
              <a:t>= R.T.(n/V).i.</a:t>
            </a:r>
            <a:r>
              <a:rPr b="0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1 atm = 101,3 kPa = 760 mmH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R  = 8,314 (U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T : en Kelvin (0 K = -273,15°C ; 1 K = 1°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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ans unité     i : sans unité   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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: sans un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V: !!! l’unité internationale de volume est le m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3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, et non le li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228240" y="633240"/>
            <a:ext cx="1902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unit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806560" y="1701720"/>
            <a:ext cx="622440" cy="1313280"/>
            <a:chOff x="2806560" y="1701720"/>
            <a:chExt cx="622440" cy="1313280"/>
          </a:xfrm>
        </p:grpSpPr>
        <p:sp>
          <p:nvSpPr>
            <p:cNvPr id="194" name=""/>
            <p:cNvSpPr/>
            <p:nvPr/>
          </p:nvSpPr>
          <p:spPr>
            <a:xfrm>
              <a:off x="2806560" y="1701720"/>
              <a:ext cx="622440" cy="54612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44720" y="261612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6600"/>
                  </a:solidFill>
                  <a:latin typeface="Trebuchet MS"/>
                </a:rPr>
                <a:t>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343400" y="1574640"/>
            <a:ext cx="3535200" cy="1735920"/>
            <a:chOff x="4343400" y="1574640"/>
            <a:chExt cx="3535200" cy="1735920"/>
          </a:xfrm>
        </p:grpSpPr>
        <p:sp>
          <p:nvSpPr>
            <p:cNvPr id="197" name=""/>
            <p:cNvSpPr/>
            <p:nvPr/>
          </p:nvSpPr>
          <p:spPr>
            <a:xfrm>
              <a:off x="4343400" y="1574640"/>
              <a:ext cx="1676520" cy="90180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23400" y="2606760"/>
              <a:ext cx="335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6600"/>
                  </a:solidFill>
                  <a:latin typeface="Trebuchet MS"/>
                </a:rPr>
                <a:t>osmolarité : </a:t>
              </a:r>
              <a:r>
                <a:rPr b="0" lang="fr-FR" sz="2000" spc="-1" strike="noStrike">
                  <a:solidFill>
                    <a:srgbClr val="ff6600"/>
                  </a:solidFill>
                  <a:latin typeface="Trebuchet MS"/>
                </a:rPr>
                <a:t>	</a:t>
              </a:r>
              <a:r>
                <a:rPr b="0" lang="fr-FR" sz="2000" spc="-1" strike="noStrike">
                  <a:solidFill>
                    <a:srgbClr val="ff6600"/>
                  </a:solidFill>
                  <a:latin typeface="Trebuchet MS"/>
                </a:rPr>
                <a:t>en osm/m</a:t>
              </a:r>
              <a:r>
                <a:rPr b="0" lang="fr-FR" sz="2000" spc="-1" strike="noStrike" baseline="30000">
                  <a:solidFill>
                    <a:srgbClr val="ff6600"/>
                  </a:solidFill>
                  <a:latin typeface="Trebuchet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 baseline="30000">
                  <a:solidFill>
                    <a:srgbClr val="ff6600"/>
                  </a:solidFill>
                  <a:latin typeface="Trebuchet MS"/>
                </a:rPr>
                <a:t>	</a:t>
              </a:r>
              <a:r>
                <a:rPr b="0" lang="fr-FR" sz="2000" spc="-1" strike="noStrike" baseline="30000">
                  <a:solidFill>
                    <a:srgbClr val="ff6600"/>
                  </a:solidFill>
                  <a:latin typeface="Trebuchet MS"/>
                </a:rPr>
                <a:t>	</a:t>
              </a:r>
              <a:r>
                <a:rPr b="0" lang="fr-FR" sz="2000" spc="-1" strike="noStrike">
                  <a:solidFill>
                    <a:srgbClr val="ff6600"/>
                  </a:solidFill>
                  <a:latin typeface="Trebuchet MS"/>
                </a:rPr>
                <a:t>en mosm/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-720" y="127080"/>
            <a:ext cx="389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hysiqu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osmol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49080" y="11448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oi de van’t H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1090440"/>
            <a:ext cx="856440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alcul de la pression osmotique en unités internationale : Pascal (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fr-FR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Trebuchet MS"/>
              </a:rPr>
              <a:t>= R.T.(n/V).i.</a:t>
            </a:r>
            <a:r>
              <a:rPr b="0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1 atm = 101,3 kPa = 760 mmH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R  = 8,314 (U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T : en Kelvin (0 K = -273,15°C ; 1 K = 1°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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ans unité     i : sans unité   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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: sans un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V: !!! l’unité internationale de volume est le m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3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, et non le li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228240" y="633240"/>
            <a:ext cx="1902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unit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806560" y="1701720"/>
            <a:ext cx="648360" cy="1313280"/>
            <a:chOff x="2806560" y="1701720"/>
            <a:chExt cx="648360" cy="1313280"/>
          </a:xfrm>
        </p:grpSpPr>
        <p:sp>
          <p:nvSpPr>
            <p:cNvPr id="205" name=""/>
            <p:cNvSpPr/>
            <p:nvPr/>
          </p:nvSpPr>
          <p:spPr>
            <a:xfrm>
              <a:off x="2806560" y="1701720"/>
              <a:ext cx="622440" cy="54612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41480" y="2616120"/>
              <a:ext cx="6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6600"/>
                  </a:solidFill>
                  <a:latin typeface="Trebuchet MS"/>
                </a:rPr>
                <a:t>k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343400" y="1574640"/>
            <a:ext cx="3756960" cy="1431000"/>
            <a:chOff x="4343400" y="1574640"/>
            <a:chExt cx="3756960" cy="1431000"/>
          </a:xfrm>
        </p:grpSpPr>
        <p:sp>
          <p:nvSpPr>
            <p:cNvPr id="208" name=""/>
            <p:cNvSpPr/>
            <p:nvPr/>
          </p:nvSpPr>
          <p:spPr>
            <a:xfrm>
              <a:off x="4343400" y="1574640"/>
              <a:ext cx="1676520" cy="90180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34920" y="2606760"/>
              <a:ext cx="356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6600"/>
                  </a:solidFill>
                  <a:latin typeface="Trebuchet MS"/>
                </a:rPr>
                <a:t>osmolarité : </a:t>
              </a:r>
              <a:r>
                <a:rPr b="0" lang="fr-FR" sz="2000" spc="-1" strike="noStrike">
                  <a:solidFill>
                    <a:srgbClr val="ff6600"/>
                  </a:solidFill>
                  <a:latin typeface="Trebuchet MS"/>
                </a:rPr>
                <a:t>	</a:t>
              </a:r>
              <a:r>
                <a:rPr b="0" lang="fr-FR" sz="2000" spc="-1" strike="noStrike">
                  <a:solidFill>
                    <a:srgbClr val="ff6600"/>
                  </a:solidFill>
                  <a:latin typeface="Trebuchet MS"/>
                </a:rPr>
                <a:t>en osm/L (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-720" y="127080"/>
            <a:ext cx="389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hysiqu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osmol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49080" y="11448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oi de van’t H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735120"/>
            <a:ext cx="856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fr-FR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Trebuchet MS"/>
              </a:rPr>
              <a:t>= R.T.(n/V).i.</a:t>
            </a:r>
            <a:r>
              <a:rPr b="0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73000" y="1413000"/>
            <a:ext cx="772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emple : calcul de la pression osmotique due à une solution de 10 mM de saccharose, à 20°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43040" y="2819520"/>
            <a:ext cx="783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/V = 10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accharose en solution : ne se dissocie 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i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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4520" y="4848120"/>
            <a:ext cx="695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 8,314 x (20+273,15) x 10 x 1 x 1 = 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24372 Pa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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 244 h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243360" y="633240"/>
            <a:ext cx="235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exe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720" y="127080"/>
            <a:ext cx="389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hysiqu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osmol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280" y="127080"/>
            <a:ext cx="198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osmol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145360" y="114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972720"/>
            <a:ext cx="8297640" cy="41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8280" rIns="90000" tIns="7632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 .mise en évidence de la pression osmo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I. caractéristiques physiques de l’osmol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II. osmolarité et volume cellulaire : les cellules dans l’organis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V.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ression oncotique : les compartiments de l’organis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V. eau et osmolarité : l’organisme dans son mili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49080" y="11448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oi de van’t H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735120"/>
            <a:ext cx="856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fr-FR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Trebuchet MS"/>
              </a:rPr>
              <a:t>= R.T.(n/V).i.</a:t>
            </a:r>
            <a:r>
              <a:rPr b="0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73000" y="1413000"/>
            <a:ext cx="772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emple : calcul de la pression osmotique due à une solution de 10 mM de NaCl, à 20°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3040" y="2819520"/>
            <a:ext cx="783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/V = 10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aCl en solution : se dissocie en Na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+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et Cl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i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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 0,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94880" y="4848120"/>
            <a:ext cx="73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 8,314 x (20+273,15) x 10 x 2 x 0,93 = 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45333 Pa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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 453 h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243360" y="633240"/>
            <a:ext cx="235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exe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720" y="127080"/>
            <a:ext cx="389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hysiqu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osmol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-720" y="127080"/>
            <a:ext cx="389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hysiqu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osmol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7800" y="114480"/>
            <a:ext cx="46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smolarité d’un mél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3191040"/>
            <a:ext cx="84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emple : calcul de l’osmolarité d’une solution contenant 10 mM de sacharose et 10 mM de Na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60440" y="1446120"/>
            <a:ext cx="419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smolarité</a:t>
            </a:r>
            <a:r>
              <a:rPr b="0" lang="fr-FR" sz="2400" spc="-1" strike="noStrike">
                <a:solidFill>
                  <a:srgbClr val="000066"/>
                </a:solidFill>
                <a:latin typeface="Symbol"/>
                <a:ea typeface="Symbol"/>
              </a:rPr>
              <a:t>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larité x(i.</a:t>
            </a:r>
            <a:r>
              <a:rPr b="0" lang="fr-FR" sz="2400" spc="-1" strike="noStrike">
                <a:solidFill>
                  <a:srgbClr val="000066"/>
                </a:solidFill>
                <a:latin typeface="Symbol"/>
                <a:ea typeface="Symbol"/>
              </a:rPr>
              <a:t>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1960" y="914400"/>
            <a:ext cx="284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d’un solu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9400" y="2019240"/>
            <a:ext cx="44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d’un mélange de sol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6440" y="2457360"/>
            <a:ext cx="80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smolarité totale</a:t>
            </a:r>
            <a:r>
              <a:rPr b="0" lang="fr-FR" sz="2400" spc="-1" strike="noStrike">
                <a:solidFill>
                  <a:srgbClr val="000066"/>
                </a:solidFill>
                <a:latin typeface="Symbol"/>
                <a:ea typeface="Symbol"/>
              </a:rPr>
              <a:t></a:t>
            </a:r>
            <a:r>
              <a:rPr b="0" lang="fr-FR" sz="3200" spc="-1" strike="noStrike">
                <a:solidFill>
                  <a:srgbClr val="000066"/>
                </a:solidFill>
                <a:latin typeface="Symbol"/>
                <a:ea typeface="Symbol"/>
              </a:rPr>
              <a:t>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smolarité de chaque solu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33640" y="3962520"/>
            <a:ext cx="6883200" cy="1313640"/>
            <a:chOff x="233640" y="3962520"/>
            <a:chExt cx="6883200" cy="1313640"/>
          </a:xfrm>
        </p:grpSpPr>
        <p:sp>
          <p:nvSpPr>
            <p:cNvPr id="236" name=""/>
            <p:cNvSpPr/>
            <p:nvPr/>
          </p:nvSpPr>
          <p:spPr>
            <a:xfrm>
              <a:off x="233640" y="3962520"/>
              <a:ext cx="6883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osmolarité du saccharose : 10 x 1 x 1 </a:t>
              </a: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	</a:t>
              </a: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= 10 </a:t>
              </a: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	</a:t>
              </a: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mosm. L</a:t>
              </a:r>
              <a:r>
                <a:rPr b="0" lang="fr-FR" sz="2000" spc="-1" strike="noStrike" baseline="30000">
                  <a:solidFill>
                    <a:srgbClr val="800000"/>
                  </a:solidFill>
                  <a:latin typeface="Trebuchet MS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osmolarité du NaCl : 20 x 2 x 0,93</a:t>
              </a: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	</a:t>
              </a: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= 18,6 </a:t>
              </a: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	</a:t>
              </a: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mosm. L</a:t>
              </a:r>
              <a:r>
                <a:rPr b="0" lang="fr-FR" sz="2000" spc="-1" strike="noStrike" baseline="30000">
                  <a:solidFill>
                    <a:srgbClr val="800000"/>
                  </a:solidFill>
                  <a:latin typeface="Trebuchet MS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osmolarité totale </a:t>
              </a: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	</a:t>
              </a: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	</a:t>
              </a: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	</a:t>
              </a: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= 28,6</a:t>
              </a: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	</a:t>
              </a: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 mosm. L</a:t>
              </a:r>
              <a:r>
                <a:rPr b="0" lang="fr-FR" sz="2000" spc="-1" strike="noStrike" baseline="30000">
                  <a:solidFill>
                    <a:srgbClr val="800000"/>
                  </a:solidFill>
                  <a:latin typeface="Trebuchet MS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840" y="4813200"/>
              <a:ext cx="658152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 flipV="1">
            <a:off x="2660760" y="4203720"/>
            <a:ext cx="533160" cy="87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75280" y="4206960"/>
            <a:ext cx="533520" cy="87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62680" y="4203720"/>
            <a:ext cx="533520" cy="87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0760" y="5054760"/>
            <a:ext cx="3835440" cy="672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14560" y="1144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smolarité effic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-294480" y="633240"/>
            <a:ext cx="386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olutés impermé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1069920"/>
            <a:ext cx="872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emple : calcul de la différence de pression osmotique d’une solution A contenant 10 mM de saccharose et d’une solution B contenant 10 mM de Na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720" y="127080"/>
            <a:ext cx="389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hysiqu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osmol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47800" y="2895480"/>
            <a:ext cx="3848400" cy="2832120"/>
          </a:xfrm>
          <a:custGeom>
            <a:avLst/>
            <a:gdLst/>
            <a:ahLst/>
            <a:rect l="l" t="t" r="r" b="b"/>
            <a:pathLst>
              <a:path w="2424" h="1784">
                <a:moveTo>
                  <a:pt x="0" y="8"/>
                </a:moveTo>
                <a:lnTo>
                  <a:pt x="0" y="1784"/>
                </a:lnTo>
                <a:lnTo>
                  <a:pt x="2424" y="1784"/>
                </a:lnTo>
                <a:lnTo>
                  <a:pt x="24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81320" y="2895480"/>
            <a:ext cx="2793960" cy="2146320"/>
          </a:xfrm>
          <a:custGeom>
            <a:avLst/>
            <a:gdLst/>
            <a:ahLst/>
            <a:rect l="l" t="t" r="r" b="b"/>
            <a:pathLst>
              <a:path w="2424" h="1784">
                <a:moveTo>
                  <a:pt x="0" y="8"/>
                </a:moveTo>
                <a:lnTo>
                  <a:pt x="0" y="1784"/>
                </a:lnTo>
                <a:lnTo>
                  <a:pt x="2424" y="1784"/>
                </a:lnTo>
                <a:lnTo>
                  <a:pt x="24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8480" y="505476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17640" y="46926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91560" y="46926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5200" y="198108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acchar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1880" y="196848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86160" y="2021040"/>
            <a:ext cx="21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= R.T.(n/V).i.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= R. T. osmolar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40640" y="2549520"/>
            <a:ext cx="2128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 baseline="-25000">
                <a:solidFill>
                  <a:srgbClr val="800000"/>
                </a:solidFill>
                <a:latin typeface="Trebuchet MS"/>
              </a:rPr>
              <a:t>B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= 8,314 x 293,15x 18,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= </a:t>
            </a:r>
            <a:r>
              <a:rPr b="0" lang="en-GB" sz="1800" spc="-1" strike="noStrike">
                <a:solidFill>
                  <a:srgbClr val="800000"/>
                </a:solidFill>
                <a:latin typeface="Trebuchet MS"/>
              </a:rPr>
              <a:t>453 h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1680" y="2548080"/>
            <a:ext cx="21384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 baseline="-25000">
                <a:solidFill>
                  <a:srgbClr val="800000"/>
                </a:solidFill>
                <a:latin typeface="Trebuchet MS"/>
              </a:rPr>
              <a:t>A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= 8,314 x 293,15 x 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=</a:t>
            </a:r>
            <a:r>
              <a:rPr b="0" lang="en-GB" sz="1800" spc="-1" strike="noStrike">
                <a:solidFill>
                  <a:srgbClr val="800000"/>
                </a:solidFill>
                <a:latin typeface="Trebuchet MS"/>
              </a:rPr>
              <a:t> 244 h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21040" y="2857680"/>
            <a:ext cx="16149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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A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-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 244 - 453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 -209 h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10200" y="5391000"/>
            <a:ext cx="86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0920" y="58579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a différence de pression osmotique crée un mouvement d’eau de A ver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1.85185E-006 L 1.11022E-016 -0.06204 E">
                                      <p:cBhvr>
                                        <p:cTn id="174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1.11111E-006 0.06296 E">
                                      <p:cBhvr>
                                        <p:cTn id="176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V="1">
            <a:off x="2660760" y="4632480"/>
            <a:ext cx="533160" cy="87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75280" y="4206960"/>
            <a:ext cx="533520" cy="87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62680" y="3774960"/>
            <a:ext cx="533520" cy="87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0760" y="5054760"/>
            <a:ext cx="3835440" cy="672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14560" y="1144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smolarité effic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-294480" y="633240"/>
            <a:ext cx="386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olutés impermé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-720" y="127080"/>
            <a:ext cx="389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hysiqu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osmol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47800" y="2895480"/>
            <a:ext cx="3848400" cy="2832120"/>
          </a:xfrm>
          <a:custGeom>
            <a:avLst/>
            <a:gdLst/>
            <a:ahLst/>
            <a:rect l="l" t="t" r="r" b="b"/>
            <a:pathLst>
              <a:path w="2424" h="1784">
                <a:moveTo>
                  <a:pt x="0" y="8"/>
                </a:moveTo>
                <a:lnTo>
                  <a:pt x="0" y="1784"/>
                </a:lnTo>
                <a:lnTo>
                  <a:pt x="2424" y="1784"/>
                </a:lnTo>
                <a:lnTo>
                  <a:pt x="24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81320" y="2895480"/>
            <a:ext cx="2793960" cy="2146320"/>
          </a:xfrm>
          <a:custGeom>
            <a:avLst/>
            <a:gdLst/>
            <a:ahLst/>
            <a:rect l="l" t="t" r="r" b="b"/>
            <a:pathLst>
              <a:path w="2424" h="1784">
                <a:moveTo>
                  <a:pt x="0" y="8"/>
                </a:moveTo>
                <a:lnTo>
                  <a:pt x="0" y="1784"/>
                </a:lnTo>
                <a:lnTo>
                  <a:pt x="2424" y="1784"/>
                </a:lnTo>
                <a:lnTo>
                  <a:pt x="24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8480" y="505476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5200" y="198108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acchar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1880" y="196848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36840" y="2143080"/>
            <a:ext cx="2527560" cy="16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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’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’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A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–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’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B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h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=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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.g . (h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A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– h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B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</a:t>
            </a:r>
            <a:r>
              <a:rPr b="0" lang="fr-FR" sz="16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1600" spc="-1" strike="noStrike">
                <a:solidFill>
                  <a:srgbClr val="800000"/>
                </a:solidFill>
                <a:latin typeface="Trebuchet MS"/>
              </a:rPr>
              <a:t>= masse volum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10200" y="5391000"/>
            <a:ext cx="86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17640" y="46926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91560" y="46926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2697120"/>
            <a:ext cx="21384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 baseline="-25000">
                <a:solidFill>
                  <a:srgbClr val="800000"/>
                </a:solidFill>
                <a:latin typeface="Trebuchet MS"/>
              </a:rPr>
              <a:t>A 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final &gt; </a:t>
            </a: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 baseline="-25000">
                <a:solidFill>
                  <a:srgbClr val="800000"/>
                </a:solidFill>
                <a:latin typeface="Trebuchet MS"/>
              </a:rPr>
              <a:t>A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ini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(concentration due à la perte d’eau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8760" y="10224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e mouvement d’eau de A vers B crée, par la différence de hauteur, une pression hydrostatique qui s’oppose à l’osmo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72320" y="2703600"/>
            <a:ext cx="2138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 baseline="-25000">
                <a:solidFill>
                  <a:srgbClr val="800000"/>
                </a:solidFill>
                <a:latin typeface="Trebuchet MS"/>
              </a:rPr>
              <a:t>B 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final &lt; </a:t>
            </a: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 baseline="-25000">
                <a:solidFill>
                  <a:srgbClr val="800000"/>
                </a:solidFill>
                <a:latin typeface="Trebuchet MS"/>
              </a:rPr>
              <a:t>B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ini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(dilution due au gain en eau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47800" y="4629240"/>
            <a:ext cx="1990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40320" y="3768840"/>
            <a:ext cx="196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3772080"/>
            <a:ext cx="0" cy="86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91440" y="3973680"/>
            <a:ext cx="944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h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A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– h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58579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à l’équilibre, la différence de pression osmotique est égale à la différence de pression hydrostatique qui s’exerce en sens oppos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187880" y="5530680"/>
            <a:ext cx="866880" cy="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14560" y="1144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smolarité effic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-283680" y="633240"/>
            <a:ext cx="353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olutés permé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4960" y="1219320"/>
            <a:ext cx="702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ertains solutés traversent la membrane semi-permé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0920" y="1793880"/>
            <a:ext cx="870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emple : calcul de l’osmolarité et de la pression osmotique d’une solution contenant 10 mM d’u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-720" y="127080"/>
            <a:ext cx="389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hysiqu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osmol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38640" y="3355920"/>
            <a:ext cx="449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: 10 x 1 x 1 = 10 mosm.L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0920" y="2779560"/>
            <a:ext cx="419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smolarité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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olarité x(i.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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8360" y="4059360"/>
            <a:ext cx="49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= R.T.(n/V).i.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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= R. T. osmolar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25760" y="4538520"/>
            <a:ext cx="5662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uré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= 8,314 x 293,15 x 10 =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 244 h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 flipV="1">
            <a:off x="2660760" y="4203720"/>
            <a:ext cx="533160" cy="87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75280" y="4206960"/>
            <a:ext cx="533520" cy="87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62680" y="4203720"/>
            <a:ext cx="533520" cy="87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660760" y="5054760"/>
            <a:ext cx="3835440" cy="672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14560" y="1144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smolarité effic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0920" y="1069920"/>
            <a:ext cx="872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emple : calcul de la différence de pression osmotique d’une solution A contenant 10 mM de saccharose et d’une solution B contenant 10 mM d’u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-720" y="127080"/>
            <a:ext cx="389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hysiqu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osmol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47800" y="2895480"/>
            <a:ext cx="3848400" cy="2832120"/>
          </a:xfrm>
          <a:custGeom>
            <a:avLst/>
            <a:gdLst/>
            <a:ahLst/>
            <a:rect l="l" t="t" r="r" b="b"/>
            <a:pathLst>
              <a:path w="2424" h="1784">
                <a:moveTo>
                  <a:pt x="0" y="8"/>
                </a:moveTo>
                <a:lnTo>
                  <a:pt x="0" y="1784"/>
                </a:lnTo>
                <a:lnTo>
                  <a:pt x="2424" y="1784"/>
                </a:lnTo>
                <a:lnTo>
                  <a:pt x="24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81320" y="2895480"/>
            <a:ext cx="2793960" cy="2146320"/>
          </a:xfrm>
          <a:custGeom>
            <a:avLst/>
            <a:gdLst/>
            <a:ahLst/>
            <a:rect l="l" t="t" r="r" b="b"/>
            <a:pathLst>
              <a:path w="2424" h="1784">
                <a:moveTo>
                  <a:pt x="0" y="8"/>
                </a:moveTo>
                <a:lnTo>
                  <a:pt x="0" y="1784"/>
                </a:lnTo>
                <a:lnTo>
                  <a:pt x="2424" y="1784"/>
                </a:lnTo>
                <a:lnTo>
                  <a:pt x="24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8480" y="505476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617640" y="46926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91560" y="46926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65200" y="198108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acchar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4400" y="196848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u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86160" y="2021040"/>
            <a:ext cx="21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= R.T.(n/V).i.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= R. T. osmolar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40640" y="2549520"/>
            <a:ext cx="2128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 baseline="-25000">
                <a:solidFill>
                  <a:srgbClr val="800000"/>
                </a:solidFill>
                <a:latin typeface="Trebuchet MS"/>
              </a:rPr>
              <a:t>B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= 8,314 x 293,15x 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= </a:t>
            </a:r>
            <a:r>
              <a:rPr b="0" lang="en-GB" sz="1800" spc="-1" strike="noStrike">
                <a:solidFill>
                  <a:srgbClr val="800000"/>
                </a:solidFill>
                <a:latin typeface="Trebuchet MS"/>
              </a:rPr>
              <a:t>244 h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1680" y="2548080"/>
            <a:ext cx="21384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 baseline="-25000">
                <a:solidFill>
                  <a:srgbClr val="800000"/>
                </a:solidFill>
                <a:latin typeface="Trebuchet MS"/>
              </a:rPr>
              <a:t>A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= 8,314 x 293,15 x 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=</a:t>
            </a:r>
            <a:r>
              <a:rPr b="0" lang="en-GB" sz="1800" spc="-1" strike="noStrike">
                <a:solidFill>
                  <a:srgbClr val="800000"/>
                </a:solidFill>
                <a:latin typeface="Trebuchet MS"/>
              </a:rPr>
              <a:t> 244 h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21040" y="2857680"/>
            <a:ext cx="16149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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A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-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 244 - 244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 0 h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0920" y="58579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i la membrane est imperméable à l’urée, il n’y a aucun mouvement d’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283680" y="633240"/>
            <a:ext cx="353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olutés permé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 flipV="1">
            <a:off x="2660760" y="4203720"/>
            <a:ext cx="533160" cy="87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75280" y="4206960"/>
            <a:ext cx="533520" cy="87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62680" y="4203720"/>
            <a:ext cx="533520" cy="87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60760" y="5054760"/>
            <a:ext cx="3835440" cy="672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14560" y="1144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smolarité effic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1069920"/>
            <a:ext cx="872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emple : calcul de la différence de pression osmotique d’une solution A contenant 10 mM de saccharose et d’une solution B contenant 10 mM d’u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720" y="127080"/>
            <a:ext cx="389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hysiqu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osmol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47800" y="2895480"/>
            <a:ext cx="3848400" cy="2832120"/>
          </a:xfrm>
          <a:custGeom>
            <a:avLst/>
            <a:gdLst/>
            <a:ahLst/>
            <a:rect l="l" t="t" r="r" b="b"/>
            <a:pathLst>
              <a:path w="2424" h="1784">
                <a:moveTo>
                  <a:pt x="0" y="8"/>
                </a:moveTo>
                <a:lnTo>
                  <a:pt x="0" y="1784"/>
                </a:lnTo>
                <a:lnTo>
                  <a:pt x="2424" y="1784"/>
                </a:lnTo>
                <a:lnTo>
                  <a:pt x="24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81320" y="2895480"/>
            <a:ext cx="2793960" cy="2146320"/>
          </a:xfrm>
          <a:custGeom>
            <a:avLst/>
            <a:gdLst/>
            <a:ahLst/>
            <a:rect l="l" t="t" r="r" b="b"/>
            <a:pathLst>
              <a:path w="2424" h="1784">
                <a:moveTo>
                  <a:pt x="0" y="8"/>
                </a:moveTo>
                <a:lnTo>
                  <a:pt x="0" y="1784"/>
                </a:lnTo>
                <a:lnTo>
                  <a:pt x="2424" y="1784"/>
                </a:lnTo>
                <a:lnTo>
                  <a:pt x="24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8480" y="505476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17640" y="46926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91560" y="46926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5200" y="198108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acchar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4400" y="196848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u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386160" y="2021040"/>
            <a:ext cx="21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= R.T.(n/V).i.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= R. T. osmolar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40640" y="2549520"/>
            <a:ext cx="2128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 baseline="-25000">
                <a:solidFill>
                  <a:srgbClr val="800000"/>
                </a:solidFill>
                <a:latin typeface="Trebuchet MS"/>
              </a:rPr>
              <a:t>B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= 8,314 x 293,15 x 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= </a:t>
            </a:r>
            <a:r>
              <a:rPr b="0" lang="en-GB" sz="1800" spc="-1" strike="noStrike">
                <a:solidFill>
                  <a:srgbClr val="800000"/>
                </a:solidFill>
                <a:latin typeface="Trebuchet MS"/>
              </a:rPr>
              <a:t>122 h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1680" y="2548080"/>
            <a:ext cx="2138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 baseline="-25000">
                <a:solidFill>
                  <a:srgbClr val="800000"/>
                </a:solidFill>
                <a:latin typeface="Trebuchet MS"/>
              </a:rPr>
              <a:t>A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= 8,314 x 293,15 x (10 + 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=</a:t>
            </a:r>
            <a:r>
              <a:rPr b="0" lang="en-GB" sz="1800" spc="-1" strike="noStrike">
                <a:solidFill>
                  <a:srgbClr val="800000"/>
                </a:solidFill>
                <a:latin typeface="Trebuchet MS"/>
              </a:rPr>
              <a:t> 144 + 12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Trebuchet MS"/>
              </a:rPr>
              <a:t>= 366 h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21040" y="2857680"/>
            <a:ext cx="16149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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A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-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 366 - 12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 144 h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-283680" y="633240"/>
            <a:ext cx="353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olutés permé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0920" y="58579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i la membrane est perméable à l’urée, les concentrations en urée s’équilibrent entre A et B (5 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086360" y="5410080"/>
            <a:ext cx="838080" cy="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95280" y="52084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Trebuchet MS"/>
              </a:rPr>
              <a:t>ur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 flipV="1">
            <a:off x="5985000" y="4197240"/>
            <a:ext cx="533160" cy="87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41680" y="4197240"/>
            <a:ext cx="533160" cy="87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38440" y="4197240"/>
            <a:ext cx="533520" cy="87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0760" y="5054760"/>
            <a:ext cx="3835440" cy="672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14560" y="1144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smolarité effic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0920" y="1069920"/>
            <a:ext cx="872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emple : calcul de la différence de pression osmotique d’une solution A contenant 10 mM de saccharose et d’une solution B contenant 10 mM d’u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-720" y="127080"/>
            <a:ext cx="389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hysiqu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osmol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47800" y="2895480"/>
            <a:ext cx="3848400" cy="2832120"/>
          </a:xfrm>
          <a:custGeom>
            <a:avLst/>
            <a:gdLst/>
            <a:ahLst/>
            <a:rect l="l" t="t" r="r" b="b"/>
            <a:pathLst>
              <a:path w="2424" h="1784">
                <a:moveTo>
                  <a:pt x="0" y="8"/>
                </a:moveTo>
                <a:lnTo>
                  <a:pt x="0" y="1784"/>
                </a:lnTo>
                <a:lnTo>
                  <a:pt x="2424" y="1784"/>
                </a:lnTo>
                <a:lnTo>
                  <a:pt x="24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81320" y="2895480"/>
            <a:ext cx="2793960" cy="2146320"/>
          </a:xfrm>
          <a:custGeom>
            <a:avLst/>
            <a:gdLst/>
            <a:ahLst/>
            <a:rect l="l" t="t" r="r" b="b"/>
            <a:pathLst>
              <a:path w="2424" h="1784">
                <a:moveTo>
                  <a:pt x="0" y="8"/>
                </a:moveTo>
                <a:lnTo>
                  <a:pt x="0" y="1784"/>
                </a:lnTo>
                <a:lnTo>
                  <a:pt x="2424" y="1784"/>
                </a:lnTo>
                <a:lnTo>
                  <a:pt x="24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8480" y="505476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17640" y="46926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191560" y="46926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5200" y="198108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acchar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4400" y="196848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u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86160" y="2021040"/>
            <a:ext cx="21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= R.T.(n/V).i.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= R. T. osmolar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-283680" y="633240"/>
            <a:ext cx="353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olutés permé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1680" y="2548080"/>
            <a:ext cx="2138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 baseline="-25000">
                <a:solidFill>
                  <a:srgbClr val="800000"/>
                </a:solidFill>
                <a:latin typeface="Trebuchet MS"/>
              </a:rPr>
              <a:t>A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= 8,314 x 293,15 x (10 + 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=</a:t>
            </a:r>
            <a:r>
              <a:rPr b="0" lang="en-GB" sz="1800" spc="-1" strike="noStrike">
                <a:solidFill>
                  <a:srgbClr val="800000"/>
                </a:solidFill>
                <a:latin typeface="Trebuchet MS"/>
              </a:rPr>
              <a:t> 144 + 12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Trebuchet MS"/>
              </a:rPr>
              <a:t>= 366 h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40640" y="2549520"/>
            <a:ext cx="2128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 baseline="-25000">
                <a:solidFill>
                  <a:srgbClr val="800000"/>
                </a:solidFill>
                <a:latin typeface="Trebuchet MS"/>
              </a:rPr>
              <a:t>B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= 8,314 x 293,15 x 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= </a:t>
            </a:r>
            <a:r>
              <a:rPr b="0" lang="en-GB" sz="1800" spc="-1" strike="noStrike">
                <a:solidFill>
                  <a:srgbClr val="800000"/>
                </a:solidFill>
                <a:latin typeface="Trebuchet MS"/>
              </a:rPr>
              <a:t>122 h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21040" y="2857680"/>
            <a:ext cx="16149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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A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-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 366 - 12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 144 h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00520" y="3476520"/>
            <a:ext cx="1390680" cy="4190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20560" y="3073320"/>
            <a:ext cx="590760" cy="4190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0920" y="58579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i la membrane est perméable à l’urée, la pression osmotique est due au sacchar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209840" y="5391000"/>
            <a:ext cx="86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1.85185E-006 L 1.11022E-016 -0.06204 E">
                                      <p:cBhvr>
                                        <p:cTn id="263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1.11111E-006 0.06296 E">
                                      <p:cBhvr>
                                        <p:cTn id="265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14560" y="1144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smolarité effic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-720" y="127080"/>
            <a:ext cx="389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hysiqu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osmol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-283680" y="633240"/>
            <a:ext cx="353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olutés permé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0920" y="1562040"/>
            <a:ext cx="8326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dans le cas d’un solution contenant des solutés perméants et non perméants, la pression osmotique à l’équilibre est due aux solutés impermé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efficace : osmolarité des solutés non permé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50920" y="4025880"/>
            <a:ext cx="864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B : les flux d’eau et de particules n’étant pas instantanés, la situation d’équilibre n’est pas obtenue immédi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variations transitoires d’osmolarité, de pression osmotique et de 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998240" y="114480"/>
            <a:ext cx="44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ynamique de l’osm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-720" y="127080"/>
            <a:ext cx="389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hysiqu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osmol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42880" y="1492200"/>
            <a:ext cx="825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ébit d’eau à travers une membrane : dépend de la différence de pression osmotique et de la perméabilité de la membrane à l’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-24120" y="4070520"/>
            <a:ext cx="907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as d’un soluté perméa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es mouvements du soluté à travers la membrane ne sont pas instantan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629080" y="3117960"/>
            <a:ext cx="3606480" cy="628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16120" y="2768760"/>
            <a:ext cx="3619440" cy="977760"/>
          </a:xfrm>
          <a:custGeom>
            <a:avLst/>
            <a:gdLst/>
            <a:ahLst/>
            <a:rect l="l" t="t" r="r" b="b"/>
            <a:pathLst>
              <a:path w="2280" h="848">
                <a:moveTo>
                  <a:pt x="0" y="8"/>
                </a:moveTo>
                <a:lnTo>
                  <a:pt x="0" y="848"/>
                </a:lnTo>
                <a:lnTo>
                  <a:pt x="2280" y="848"/>
                </a:lnTo>
                <a:lnTo>
                  <a:pt x="228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32320" y="2990880"/>
            <a:ext cx="0" cy="7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60480" y="258912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40920" y="258912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77640" y="2530440"/>
            <a:ext cx="928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A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&lt;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008600" y="3295800"/>
            <a:ext cx="86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0720" y="698400"/>
            <a:ext cx="786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es mouvements d’eau jusqu’à l’équilibre des pressions ne sont pas instantan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2880" y="5038560"/>
            <a:ext cx="825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ébit d’eau à travers une membrane : dépend de la différence de concentration en soluté  et de la perméabilité de la membrane au solu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6120" y="6222960"/>
            <a:ext cx="81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B : l’eau et le soluté perméant n’ont pas forcément le même dé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87480" y="127080"/>
            <a:ext cx="695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I. mise en évidenc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ression osmo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05000" y="1892160"/>
            <a:ext cx="6075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bservation expérimen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é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ression osmo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– osmola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oncentration io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416480" y="4546440"/>
            <a:ext cx="355680" cy="1283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73600" y="4533840"/>
            <a:ext cx="4647960" cy="2171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60640" y="3657600"/>
            <a:ext cx="4648320" cy="3035160"/>
          </a:xfrm>
          <a:custGeom>
            <a:avLst/>
            <a:gdLst/>
            <a:ahLst/>
            <a:rect l="l" t="t" r="r" b="b"/>
            <a:pathLst>
              <a:path w="2336" h="1912">
                <a:moveTo>
                  <a:pt x="0" y="0"/>
                </a:moveTo>
                <a:lnTo>
                  <a:pt x="0" y="1912"/>
                </a:lnTo>
                <a:lnTo>
                  <a:pt x="2336" y="1912"/>
                </a:lnTo>
                <a:lnTo>
                  <a:pt x="2336" y="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19720" y="1670040"/>
            <a:ext cx="0" cy="452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62440" y="1670040"/>
            <a:ext cx="0" cy="453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16480" y="619452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57040" y="505152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713240" y="1177920"/>
            <a:ext cx="2883600" cy="1100880"/>
            <a:chOff x="1713240" y="1177920"/>
            <a:chExt cx="2883600" cy="1100880"/>
          </a:xfrm>
        </p:grpSpPr>
        <p:sp>
          <p:nvSpPr>
            <p:cNvPr id="393" name=""/>
            <p:cNvSpPr/>
            <p:nvPr/>
          </p:nvSpPr>
          <p:spPr>
            <a:xfrm>
              <a:off x="3556440" y="1352520"/>
              <a:ext cx="1040400" cy="92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13240" y="117792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800000"/>
                  </a:solidFill>
                  <a:latin typeface="Trebuchet MS"/>
                </a:rPr>
                <a:t>10 mM uré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3860640" y="367020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3640" y="5637240"/>
            <a:ext cx="33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membrane perméable à l’ea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et à l’ur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-720" y="127080"/>
            <a:ext cx="389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hysiqu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osmol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292720" y="1003320"/>
            <a:ext cx="3571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ugmentation transitoire de volume d’eau dans le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à l’équilibre, égalité des concentrations en urée et des pressions osmo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998240" y="114480"/>
            <a:ext cx="44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ynamique de l’osm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48148E-006 L -5.55556E-007 -0.12407 E">
                                      <p:cBhvr>
                                        <p:cTn id="305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12407 L -5.55556E-007 0.00926 E">
                                      <p:cBhvr>
                                        <p:cTn id="308" dur="3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-152280" y="127080"/>
            <a:ext cx="942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rebuchet MS"/>
              </a:rPr>
              <a:t>III. osmolarité et volume cellulaire :</a:t>
            </a:r>
            <a:r>
              <a:rPr b="1" lang="en-GB" sz="2000" spc="-1" strike="noStrike">
                <a:solidFill>
                  <a:srgbClr val="000066"/>
                </a:solidFill>
                <a:latin typeface="Trebuchet MS"/>
              </a:rPr>
              <a:t> les cellules dans l’organisme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Trebuchet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5120" y="1765440"/>
            <a:ext cx="5837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composition des milieux intéri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liquide interstic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milieu intracell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osmolarité cell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isosmolarité - isotonic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applications pra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28040" y="114480"/>
            <a:ext cx="36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milieux intéri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8800" y="1031760"/>
            <a:ext cx="3800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s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lymp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liquide extracel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liquide céphalo-rachid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liquide extracellulaire céréb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liquide synov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u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-41760" y="127080"/>
            <a:ext cx="4925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rebuchet MS"/>
              </a:rPr>
              <a:t>osmolarité et volume cell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28040" y="114480"/>
            <a:ext cx="36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milieux intéri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-41760" y="127080"/>
            <a:ext cx="4925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rebuchet MS"/>
              </a:rPr>
              <a:t>osmolarité et volume cell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-214200" y="633240"/>
            <a:ext cx="34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iquide interstici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628560" y="1117440"/>
          <a:ext cx="7696440" cy="2921040"/>
        </p:xfrm>
        <a:graphic>
          <a:graphicData uri="http://schemas.openxmlformats.org/drawingml/2006/table">
            <a:tbl>
              <a:tblPr/>
              <a:tblGrid>
                <a:gridCol w="2511360"/>
                <a:gridCol w="2590920"/>
                <a:gridCol w="259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intracellulaire (m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extracellulaire (m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Na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K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Mg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a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x 10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H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7x 10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5</a:t>
                      </a: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 (pH = 7,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x 10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5</a:t>
                      </a: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 (pH = 7,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l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Pi (en mEq/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"/>
          <p:cNvSpPr/>
          <p:nvPr/>
        </p:nvSpPr>
        <p:spPr>
          <a:xfrm>
            <a:off x="356040" y="4089240"/>
            <a:ext cx="48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utres composés : glucose, protéines,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520" y="1511280"/>
            <a:ext cx="482760" cy="2793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3200" y="1511280"/>
            <a:ext cx="482400" cy="2793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6280" y="4533840"/>
            <a:ext cx="2562840" cy="3988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ion majoritaire : Na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67360" y="5079960"/>
            <a:ext cx="732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mesurée (osmomètre) : 290 mosm.L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estimée : [cation majoritaire] x 2 : 290 mosm.L-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828040" y="114480"/>
            <a:ext cx="36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milieux intéri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-41760" y="127080"/>
            <a:ext cx="4925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rebuchet MS"/>
              </a:rPr>
              <a:t>osmolarité et volume cell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-222120" y="633240"/>
            <a:ext cx="360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iquide intracell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628560" y="1117440"/>
          <a:ext cx="7696440" cy="2921040"/>
        </p:xfrm>
        <a:graphic>
          <a:graphicData uri="http://schemas.openxmlformats.org/drawingml/2006/table">
            <a:tbl>
              <a:tblPr/>
              <a:tblGrid>
                <a:gridCol w="2511360"/>
                <a:gridCol w="2590920"/>
                <a:gridCol w="259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intracellulaire (m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extracellulaire (m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Na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K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Mg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a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x 10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H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7x 10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5</a:t>
                      </a: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 (pH = 7,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x 10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5</a:t>
                      </a: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 (pH = 7,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l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93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Pi (en mEq/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936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93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"/>
          <p:cNvSpPr/>
          <p:nvPr/>
        </p:nvSpPr>
        <p:spPr>
          <a:xfrm>
            <a:off x="356040" y="4089240"/>
            <a:ext cx="48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utres composés : glucose, protéines,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00400" y="1892160"/>
            <a:ext cx="482760" cy="27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3200" y="1892160"/>
            <a:ext cx="482400" cy="27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1400" y="4533840"/>
            <a:ext cx="2382840" cy="3988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ion majoritaire : K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67360" y="5079960"/>
            <a:ext cx="732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mesurée (osmomètre) : 290 mosm.L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estimée : [cation majoritaire] x 2 : 280 mosm.L-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28040" y="114480"/>
            <a:ext cx="36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milieux intéri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41760" y="127080"/>
            <a:ext cx="4925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rebuchet MS"/>
              </a:rPr>
              <a:t>osmolarité et volume cell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-217080" y="633240"/>
            <a:ext cx="582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iquides intersticiel et  intracellul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880" y="2882880"/>
            <a:ext cx="7808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esure et calcul de l’osmolarité d’une solution :</a:t>
            </a:r>
            <a:r>
              <a:rPr b="0" lang="fr-FR" sz="2000" spc="-1" strike="noStrike">
                <a:solidFill>
                  <a:srgbClr val="06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mesure de l’osmolarité d’une solution : osmomè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estimée d’un liquide biologique intérieur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[cation majoritaire] x 2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(équilibre des charg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calculée d’une solution de composition déterminé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9640" y="14731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21320" y="1380960"/>
            <a:ext cx="766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es milieux extracellulaire et intracellulaire sont isomos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’osmolarité des différents milieux est obtenue différem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8120" y="5891040"/>
            <a:ext cx="77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= (n/V).i.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24840" y="114480"/>
            <a:ext cx="40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smolarité cell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-41760" y="127080"/>
            <a:ext cx="4925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rebuchet MS"/>
              </a:rPr>
              <a:t>osmolarité et volume cell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254520" y="633240"/>
            <a:ext cx="429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isosmolarité - isotonicit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9640" y="14731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81040" y="1384200"/>
            <a:ext cx="8286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deux solutions sont isosmolaires si leurs osmolarités sont ég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une solution est isotonique si son osmolarité efficace est égale à l’osmolarité cell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56800" y="3238560"/>
            <a:ext cx="7349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et volume cell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olution isotonique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volume cellulaire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olution hypotonique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ugmentation du volume cell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olution hypertonique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diminution du volume cell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424840" y="114480"/>
            <a:ext cx="40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smolarité cell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-41760" y="127080"/>
            <a:ext cx="4925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rebuchet MS"/>
              </a:rPr>
              <a:t>osmolarité et volume cell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-254880" y="633240"/>
            <a:ext cx="373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pplication pra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9640" y="14731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81040" y="1384200"/>
            <a:ext cx="82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étermination de la composition d’un solution de NaCl isoto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 : perfusion sangu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2160" y="2666880"/>
            <a:ext cx="676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cellulaire : 290 mosm.L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voulue de la solution de NaCl :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290 mosm.L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5200" y="3960720"/>
            <a:ext cx="370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= molarité.i.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molarité = osmolarité/(i.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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79920" y="5067360"/>
            <a:ext cx="7116480" cy="3988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molarité de la solution de NaCl = 290 /(2 x 0,93) = 156 m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-726120" y="127080"/>
            <a:ext cx="9472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IV. pression oncotique </a:t>
            </a:r>
            <a:r>
              <a:rPr b="1" lang="en-GB" sz="2400" spc="-1" strike="noStrike">
                <a:solidFill>
                  <a:srgbClr val="000066"/>
                </a:solidFill>
                <a:latin typeface="Trebuchet MS"/>
              </a:rPr>
              <a:t>:</a:t>
            </a:r>
            <a:r>
              <a:rPr b="1" lang="en-GB" sz="2000" spc="-1" strike="noStrike">
                <a:solidFill>
                  <a:srgbClr val="000066"/>
                </a:solidFill>
                <a:latin typeface="Trebuchet MS"/>
              </a:rPr>
              <a:t> les compartiments de l’organisme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Trebuchet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-351360" y="1123920"/>
            <a:ext cx="9214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mise en évidence de la pression onco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définition de la pression onco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pression oncotique due à des colloïdes neu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pression oncotique due aux protéines : effet Don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pression oncotique plasmatique et pression hydrost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pression oncotique et filtration  glomér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 flipV="1">
            <a:off x="2660760" y="3859920"/>
            <a:ext cx="533160" cy="876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975280" y="3863880"/>
            <a:ext cx="533520" cy="87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962680" y="3860640"/>
            <a:ext cx="533520" cy="876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660760" y="4711680"/>
            <a:ext cx="3835440" cy="673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2760" y="785880"/>
            <a:ext cx="87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emple : pression osmotique due à une solution d’albu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47800" y="2552760"/>
            <a:ext cx="3848400" cy="2832120"/>
          </a:xfrm>
          <a:custGeom>
            <a:avLst/>
            <a:gdLst/>
            <a:ahLst/>
            <a:rect l="l" t="t" r="r" b="b"/>
            <a:pathLst>
              <a:path w="2424" h="1784">
                <a:moveTo>
                  <a:pt x="0" y="8"/>
                </a:moveTo>
                <a:lnTo>
                  <a:pt x="0" y="1784"/>
                </a:lnTo>
                <a:lnTo>
                  <a:pt x="2424" y="1784"/>
                </a:lnTo>
                <a:lnTo>
                  <a:pt x="24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81320" y="2552760"/>
            <a:ext cx="2793960" cy="2146320"/>
          </a:xfrm>
          <a:custGeom>
            <a:avLst/>
            <a:gdLst/>
            <a:ahLst/>
            <a:rect l="l" t="t" r="r" b="b"/>
            <a:pathLst>
              <a:path w="2424" h="1784">
                <a:moveTo>
                  <a:pt x="0" y="8"/>
                </a:moveTo>
                <a:lnTo>
                  <a:pt x="0" y="1784"/>
                </a:lnTo>
                <a:lnTo>
                  <a:pt x="2424" y="1784"/>
                </a:lnTo>
                <a:lnTo>
                  <a:pt x="24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78480" y="471168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17640" y="43498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91560" y="43498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73000" y="5756400"/>
            <a:ext cx="760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a présence d’albumine crée une pression osmotique dans le compartimen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6120" y="127080"/>
            <a:ext cx="344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ression onco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328080" y="1144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ise en év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351960" y="1622520"/>
            <a:ext cx="2895840" cy="1100880"/>
            <a:chOff x="3351960" y="1622520"/>
            <a:chExt cx="2895840" cy="1100880"/>
          </a:xfrm>
        </p:grpSpPr>
        <p:sp>
          <p:nvSpPr>
            <p:cNvPr id="470" name=""/>
            <p:cNvSpPr/>
            <p:nvPr/>
          </p:nvSpPr>
          <p:spPr>
            <a:xfrm>
              <a:off x="5207400" y="1797120"/>
              <a:ext cx="1040400" cy="92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351960" y="1622520"/>
              <a:ext cx="218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800000"/>
                  </a:solidFill>
                  <a:latin typeface="Trebuchet MS"/>
                </a:rPr>
                <a:t>0,65 mM album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6892920" y="1359000"/>
            <a:ext cx="1857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0,65 mM : concentration sanguine normale en albu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1.85185E-006 L 1.11022E-016 -0.06204 E">
                                      <p:cBhvr>
                                        <p:cTn id="382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1.11111E-006 0.06296 E">
                                      <p:cBhvr>
                                        <p:cTn id="384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19720" y="2629080"/>
            <a:ext cx="355320" cy="2171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89640" y="127080"/>
            <a:ext cx="667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ise en évidenc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ression osmo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71120" y="11448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xpér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73600" y="4152960"/>
            <a:ext cx="4647960" cy="2171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60640" y="3276720"/>
            <a:ext cx="4648320" cy="3035160"/>
          </a:xfrm>
          <a:custGeom>
            <a:avLst/>
            <a:gdLst/>
            <a:ahLst/>
            <a:rect l="l" t="t" r="r" b="b"/>
            <a:pathLst>
              <a:path w="2336" h="1912">
                <a:moveTo>
                  <a:pt x="0" y="0"/>
                </a:moveTo>
                <a:lnTo>
                  <a:pt x="0" y="1912"/>
                </a:lnTo>
                <a:lnTo>
                  <a:pt x="2336" y="1912"/>
                </a:lnTo>
                <a:lnTo>
                  <a:pt x="2336" y="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1289160"/>
            <a:ext cx="0" cy="452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62440" y="1289160"/>
            <a:ext cx="0" cy="453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6480" y="581328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7040" y="467028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685160" y="797040"/>
            <a:ext cx="2911680" cy="1100880"/>
            <a:chOff x="1685160" y="797040"/>
            <a:chExt cx="2911680" cy="1100880"/>
          </a:xfrm>
        </p:grpSpPr>
        <p:sp>
          <p:nvSpPr>
            <p:cNvPr id="62" name=""/>
            <p:cNvSpPr/>
            <p:nvPr/>
          </p:nvSpPr>
          <p:spPr>
            <a:xfrm>
              <a:off x="3556440" y="971640"/>
              <a:ext cx="1040400" cy="92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85160" y="797040"/>
              <a:ext cx="218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800000"/>
                  </a:solidFill>
                  <a:latin typeface="Trebuchet MS"/>
                </a:rPr>
                <a:t>10 mM sacchar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860640" y="328932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7640" y="5256360"/>
            <a:ext cx="337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membrane semi-perméable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perméable à l’ea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imperméable aux solu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89320" y="5816520"/>
            <a:ext cx="1295280" cy="304920"/>
          </a:xfrm>
          <a:custGeom>
            <a:avLst/>
            <a:gdLst/>
            <a:ahLst/>
            <a:rect l="l" t="t" r="r" b="b"/>
            <a:pathLst>
              <a:path w="816" h="192">
                <a:moveTo>
                  <a:pt x="0" y="192"/>
                </a:moveTo>
                <a:lnTo>
                  <a:pt x="816" y="192"/>
                </a:lnTo>
                <a:lnTo>
                  <a:pt x="816" y="0"/>
                </a:lnTo>
              </a:path>
            </a:pathLst>
          </a:custGeom>
          <a:noFill/>
          <a:ln w="93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838400" y="2502000"/>
            <a:ext cx="1194120" cy="276480"/>
            <a:chOff x="4838400" y="2502000"/>
            <a:chExt cx="1194120" cy="276480"/>
          </a:xfrm>
        </p:grpSpPr>
        <p:sp>
          <p:nvSpPr>
            <p:cNvPr id="68" name=""/>
            <p:cNvSpPr/>
            <p:nvPr/>
          </p:nvSpPr>
          <p:spPr>
            <a:xfrm flipH="1">
              <a:off x="4838400" y="26384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53320" y="2502000"/>
              <a:ext cx="97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</a:rPr>
                <a:t>sacchar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4416480" y="4546440"/>
            <a:ext cx="355680" cy="1283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73600" y="4533840"/>
            <a:ext cx="4647960" cy="2171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60640" y="3657600"/>
            <a:ext cx="4648320" cy="3035160"/>
          </a:xfrm>
          <a:custGeom>
            <a:avLst/>
            <a:gdLst/>
            <a:ahLst/>
            <a:rect l="l" t="t" r="r" b="b"/>
            <a:pathLst>
              <a:path w="2336" h="1912">
                <a:moveTo>
                  <a:pt x="0" y="0"/>
                </a:moveTo>
                <a:lnTo>
                  <a:pt x="0" y="1912"/>
                </a:lnTo>
                <a:lnTo>
                  <a:pt x="2336" y="1912"/>
                </a:lnTo>
                <a:lnTo>
                  <a:pt x="2336" y="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19720" y="1670040"/>
            <a:ext cx="0" cy="452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762440" y="1670040"/>
            <a:ext cx="0" cy="453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16480" y="619452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92240" y="5025960"/>
            <a:ext cx="250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eau + NaCl 154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(37 °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709280" y="1177920"/>
            <a:ext cx="2887560" cy="1100880"/>
            <a:chOff x="1709280" y="1177920"/>
            <a:chExt cx="2887560" cy="1100880"/>
          </a:xfrm>
        </p:grpSpPr>
        <p:sp>
          <p:nvSpPr>
            <p:cNvPr id="481" name=""/>
            <p:cNvSpPr/>
            <p:nvPr/>
          </p:nvSpPr>
          <p:spPr>
            <a:xfrm>
              <a:off x="3556440" y="1352520"/>
              <a:ext cx="1040400" cy="92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709280" y="1177920"/>
              <a:ext cx="20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800000"/>
                  </a:solidFill>
                  <a:latin typeface="Trebuchet MS"/>
                </a:rPr>
                <a:t>0,65  mM Dextr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3860640" y="367020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429080" y="1971720"/>
            <a:ext cx="327240" cy="1708200"/>
            <a:chOff x="4429080" y="1971720"/>
            <a:chExt cx="327240" cy="1708200"/>
          </a:xfrm>
        </p:grpSpPr>
        <p:sp>
          <p:nvSpPr>
            <p:cNvPr id="485" name=""/>
            <p:cNvSpPr/>
            <p:nvPr/>
          </p:nvSpPr>
          <p:spPr>
            <a:xfrm>
              <a:off x="4429080" y="3349800"/>
              <a:ext cx="327240" cy="330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91080" y="1971720"/>
              <a:ext cx="0" cy="14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-6120" y="127080"/>
            <a:ext cx="344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ression onco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401240" y="11448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é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-334440" y="633240"/>
            <a:ext cx="58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pression due à des colloïdes neut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50160" y="164448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Dextran : colloïde neu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75800" y="1344600"/>
            <a:ext cx="35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ression osmotique calcul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4400" y="5484960"/>
            <a:ext cx="37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membrane perméables aux 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imperméables aux colloï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13280" y="2028960"/>
            <a:ext cx="2129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 baseline="-25000">
                <a:solidFill>
                  <a:srgbClr val="800000"/>
                </a:solidFill>
                <a:latin typeface="Trebuchet MS"/>
              </a:rPr>
              <a:t>B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= 8,314 x 310,15 x 0,6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= </a:t>
            </a:r>
            <a:r>
              <a:rPr b="0" lang="en-GB" sz="1800" spc="-1" strike="noStrike">
                <a:solidFill>
                  <a:srgbClr val="800000"/>
                </a:solidFill>
                <a:latin typeface="Trebuchet MS"/>
              </a:rPr>
              <a:t>16,8 h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8400" y="2322360"/>
            <a:ext cx="36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ression osmotique mesu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7160" y="2870280"/>
            <a:ext cx="17064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16,8 h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12, 6 mmH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48148E-006 L -5.55556E-007 -0.12407 E">
                                      <p:cBhvr>
                                        <p:cTn id="399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12407 L -5.55556E-007 0.00926 E">
                                      <p:cBhvr>
                                        <p:cTn id="406" dur="3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3.05556E-006 0.12361 E">
                                      <p:cBhvr>
                                        <p:cTn id="408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4416480" y="4546440"/>
            <a:ext cx="355680" cy="1283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73600" y="4533840"/>
            <a:ext cx="4647960" cy="2171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60640" y="3657600"/>
            <a:ext cx="4648320" cy="3035160"/>
          </a:xfrm>
          <a:custGeom>
            <a:avLst/>
            <a:gdLst/>
            <a:ahLst/>
            <a:rect l="l" t="t" r="r" b="b"/>
            <a:pathLst>
              <a:path w="2336" h="1912">
                <a:moveTo>
                  <a:pt x="0" y="0"/>
                </a:moveTo>
                <a:lnTo>
                  <a:pt x="0" y="1912"/>
                </a:lnTo>
                <a:lnTo>
                  <a:pt x="2336" y="1912"/>
                </a:lnTo>
                <a:lnTo>
                  <a:pt x="2336" y="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419720" y="1670040"/>
            <a:ext cx="0" cy="452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762440" y="1670040"/>
            <a:ext cx="0" cy="453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416480" y="619452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592240" y="5025960"/>
            <a:ext cx="250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eau + NaCl 154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(37 °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721160" y="1177920"/>
            <a:ext cx="2875680" cy="1100880"/>
            <a:chOff x="1721160" y="1177920"/>
            <a:chExt cx="2875680" cy="1100880"/>
          </a:xfrm>
        </p:grpSpPr>
        <p:sp>
          <p:nvSpPr>
            <p:cNvPr id="505" name=""/>
            <p:cNvSpPr/>
            <p:nvPr/>
          </p:nvSpPr>
          <p:spPr>
            <a:xfrm>
              <a:off x="3556440" y="1352520"/>
              <a:ext cx="1040400" cy="92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721160" y="1177920"/>
              <a:ext cx="242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800000"/>
                  </a:solidFill>
                  <a:latin typeface="Trebuchet MS"/>
                </a:rPr>
                <a:t>0,65  mM d’album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3860640" y="367020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4429080" y="1768320"/>
            <a:ext cx="327240" cy="1708200"/>
            <a:chOff x="4429080" y="1768320"/>
            <a:chExt cx="327240" cy="1708200"/>
          </a:xfrm>
        </p:grpSpPr>
        <p:sp>
          <p:nvSpPr>
            <p:cNvPr id="509" name=""/>
            <p:cNvSpPr/>
            <p:nvPr/>
          </p:nvSpPr>
          <p:spPr>
            <a:xfrm>
              <a:off x="4429080" y="3146400"/>
              <a:ext cx="327240" cy="330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91080" y="1768320"/>
              <a:ext cx="0" cy="14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-6120" y="127080"/>
            <a:ext cx="344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ression onco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401240" y="11448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é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-318240" y="633240"/>
            <a:ext cx="466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pression due aux proté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50160" y="164448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Dextran : colloïde neu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75800" y="1344600"/>
            <a:ext cx="35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ression osmotique calcul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4400" y="5484960"/>
            <a:ext cx="37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membrane perméables aux 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imperméables aux colloï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13280" y="2028960"/>
            <a:ext cx="2129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 baseline="-25000">
                <a:solidFill>
                  <a:srgbClr val="800000"/>
                </a:solidFill>
                <a:latin typeface="Trebuchet MS"/>
              </a:rPr>
              <a:t>B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= 8,314 x 310,15 x 0,6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= </a:t>
            </a:r>
            <a:r>
              <a:rPr b="0" lang="en-GB" sz="1800" spc="-1" strike="noStrike">
                <a:solidFill>
                  <a:srgbClr val="800000"/>
                </a:solidFill>
                <a:latin typeface="Trebuchet MS"/>
              </a:rPr>
              <a:t>16,8 h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8400" y="2322360"/>
            <a:ext cx="36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ression osmotique mesu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00240" y="2870280"/>
            <a:ext cx="13604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33 h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25 mmH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.00926 L -5.55556E-007 -0.15555 E">
                                      <p:cBhvr>
                                        <p:cTn id="422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15555 L -5.55556E-007 -0.00555 E">
                                      <p:cBhvr>
                                        <p:cTn id="430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3.05556E-006 0.15509 E">
                                      <p:cBhvr>
                                        <p:cTn id="432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-6120" y="127080"/>
            <a:ext cx="344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ression onco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401240" y="11448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é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-318240" y="633240"/>
            <a:ext cx="466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pression due aux proté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57360" y="1352520"/>
            <a:ext cx="8126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ression oncotique = pression colloïdo-osmotique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ression osmotique due aux colloï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olloïdes : « aspect de colle » : intermédiaire homogène entre suspension et solution vraie (taille entre 2 et 20 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ression oncotique due aux protéin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ression oncotique « vraie » + effet Don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9960" y="3987720"/>
            <a:ext cx="74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membrane « de Donnan » : 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membrane perméable à certaines particules chargées et pas à d’aut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203600" y="66348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ffet Don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-6120" y="127080"/>
            <a:ext cx="344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ression onco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401240" y="11448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é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318240" y="633240"/>
            <a:ext cx="466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pression due aux proté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295360" y="2006640"/>
            <a:ext cx="3200040" cy="1904760"/>
            <a:chOff x="2295360" y="2006640"/>
            <a:chExt cx="3200040" cy="1904760"/>
          </a:xfrm>
        </p:grpSpPr>
        <p:sp>
          <p:nvSpPr>
            <p:cNvPr id="533" name=""/>
            <p:cNvSpPr/>
            <p:nvPr/>
          </p:nvSpPr>
          <p:spPr>
            <a:xfrm>
              <a:off x="2295360" y="2006640"/>
              <a:ext cx="3200040" cy="1904760"/>
            </a:xfrm>
            <a:prstGeom prst="rect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95560" y="2006640"/>
              <a:ext cx="0" cy="19047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2899440" y="343692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501080" y="34369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462760" y="230184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[Z</a:t>
            </a:r>
            <a:r>
              <a:rPr b="0" lang="fr-FR" sz="1600" spc="-1" strike="noStrike" baseline="30000">
                <a:solidFill>
                  <a:srgbClr val="800000"/>
                </a:solidFill>
                <a:latin typeface="Verdana"/>
              </a:rPr>
              <a:t>-</a:t>
            </a: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] = 1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16880" y="2692440"/>
            <a:ext cx="5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[X</a:t>
            </a:r>
            <a:r>
              <a:rPr b="0" lang="fr-FR" sz="1600" spc="-1" strike="noStrike" baseline="30000">
                <a:solidFill>
                  <a:srgbClr val="800000"/>
                </a:solidFill>
                <a:latin typeface="Verdana"/>
              </a:rPr>
              <a:t>+</a:t>
            </a: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[Y</a:t>
            </a:r>
            <a:r>
              <a:rPr b="0" lang="fr-FR" sz="1600" spc="-1" strike="noStrike" baseline="30000">
                <a:solidFill>
                  <a:srgbClr val="800000"/>
                </a:solidFill>
                <a:latin typeface="Verdana"/>
              </a:rPr>
              <a:t>-</a:t>
            </a: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1840" y="2301840"/>
            <a:ext cx="107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[X</a:t>
            </a:r>
            <a:r>
              <a:rPr b="0" lang="fr-FR" sz="1600" spc="-1" strike="noStrike" baseline="30000">
                <a:solidFill>
                  <a:srgbClr val="800000"/>
                </a:solidFill>
                <a:latin typeface="Verdana"/>
              </a:rPr>
              <a:t>+</a:t>
            </a: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] = 2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[Y</a:t>
            </a:r>
            <a:r>
              <a:rPr b="0" lang="fr-FR" sz="1600" spc="-1" strike="noStrike" baseline="30000">
                <a:solidFill>
                  <a:srgbClr val="800000"/>
                </a:solidFill>
                <a:latin typeface="Verdana"/>
              </a:rPr>
              <a:t>-</a:t>
            </a: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] = 1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[Z</a:t>
            </a:r>
            <a:r>
              <a:rPr b="0" lang="fr-FR" sz="1600" spc="-1" strike="noStrike" baseline="30000">
                <a:solidFill>
                  <a:srgbClr val="800000"/>
                </a:solidFill>
                <a:latin typeface="Verdana"/>
              </a:rPr>
              <a:t>-</a:t>
            </a: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] = 1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75400" y="2679840"/>
            <a:ext cx="5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[X</a:t>
            </a:r>
            <a:r>
              <a:rPr b="0" lang="fr-FR" sz="1600" spc="-1" strike="noStrike" baseline="30000">
                <a:solidFill>
                  <a:srgbClr val="800000"/>
                </a:solidFill>
                <a:latin typeface="Verdana"/>
              </a:rPr>
              <a:t>+</a:t>
            </a: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[Y</a:t>
            </a:r>
            <a:r>
              <a:rPr b="0" lang="fr-FR" sz="1600" spc="-1" strike="noStrike" baseline="30000">
                <a:solidFill>
                  <a:srgbClr val="800000"/>
                </a:solidFill>
                <a:latin typeface="Verdana"/>
              </a:rPr>
              <a:t>-</a:t>
            </a: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8480" y="164448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e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40360" y="1898640"/>
            <a:ext cx="267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membrane perméable à X et Y, imperméable à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59520" y="1247760"/>
            <a:ext cx="47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de chaque compartiment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08720" y="4241880"/>
            <a:ext cx="657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i les solutés X, Y et Z ne sont pas chargé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efficace : osmolarité d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A – osmolarité B = osmolarité Z = 1 osm.L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203600" y="66348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ffet Don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-6120" y="127080"/>
            <a:ext cx="344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ression onco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01240" y="11448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é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-318240" y="633240"/>
            <a:ext cx="466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pression due aux proté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295360" y="2006640"/>
            <a:ext cx="3200040" cy="1904760"/>
            <a:chOff x="2295360" y="2006640"/>
            <a:chExt cx="3200040" cy="1904760"/>
          </a:xfrm>
        </p:grpSpPr>
        <p:sp>
          <p:nvSpPr>
            <p:cNvPr id="551" name=""/>
            <p:cNvSpPr/>
            <p:nvPr/>
          </p:nvSpPr>
          <p:spPr>
            <a:xfrm>
              <a:off x="2295360" y="2006640"/>
              <a:ext cx="3200040" cy="1904760"/>
            </a:xfrm>
            <a:prstGeom prst="rect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95560" y="2006640"/>
              <a:ext cx="0" cy="19047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2899440" y="343692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501080" y="34369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462760" y="230184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[Z</a:t>
            </a:r>
            <a:r>
              <a:rPr b="0" lang="fr-FR" sz="1600" spc="-1" strike="noStrike" baseline="30000">
                <a:solidFill>
                  <a:srgbClr val="800000"/>
                </a:solidFill>
                <a:latin typeface="Verdana"/>
              </a:rPr>
              <a:t>-</a:t>
            </a: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] = 1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16880" y="2692440"/>
            <a:ext cx="5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[X</a:t>
            </a:r>
            <a:r>
              <a:rPr b="0" lang="fr-FR" sz="1600" spc="-1" strike="noStrike" baseline="30000">
                <a:solidFill>
                  <a:srgbClr val="800000"/>
                </a:solidFill>
                <a:latin typeface="Verdana"/>
              </a:rPr>
              <a:t>+</a:t>
            </a: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[Y</a:t>
            </a:r>
            <a:r>
              <a:rPr b="0" lang="fr-FR" sz="1600" spc="-1" strike="noStrike" baseline="30000">
                <a:solidFill>
                  <a:srgbClr val="800000"/>
                </a:solidFill>
                <a:latin typeface="Verdana"/>
              </a:rPr>
              <a:t>-</a:t>
            </a: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1840" y="2301840"/>
            <a:ext cx="107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[X</a:t>
            </a:r>
            <a:r>
              <a:rPr b="0" lang="fr-FR" sz="1600" spc="-1" strike="noStrike" baseline="30000">
                <a:solidFill>
                  <a:srgbClr val="800000"/>
                </a:solidFill>
                <a:latin typeface="Verdana"/>
              </a:rPr>
              <a:t>+</a:t>
            </a: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] = 2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[Y</a:t>
            </a:r>
            <a:r>
              <a:rPr b="0" lang="fr-FR" sz="1600" spc="-1" strike="noStrike" baseline="30000">
                <a:solidFill>
                  <a:srgbClr val="800000"/>
                </a:solidFill>
                <a:latin typeface="Verdana"/>
              </a:rPr>
              <a:t>-</a:t>
            </a: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] = 1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[Z</a:t>
            </a:r>
            <a:r>
              <a:rPr b="0" lang="fr-FR" sz="1600" spc="-1" strike="noStrike" baseline="30000">
                <a:solidFill>
                  <a:srgbClr val="800000"/>
                </a:solidFill>
                <a:latin typeface="Verdana"/>
              </a:rPr>
              <a:t>-</a:t>
            </a: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] = 1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975400" y="2679840"/>
            <a:ext cx="5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[X</a:t>
            </a:r>
            <a:r>
              <a:rPr b="0" lang="fr-FR" sz="1600" spc="-1" strike="noStrike" baseline="30000">
                <a:solidFill>
                  <a:srgbClr val="800000"/>
                </a:solidFill>
                <a:latin typeface="Verdana"/>
              </a:rPr>
              <a:t>+</a:t>
            </a: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[Y</a:t>
            </a:r>
            <a:r>
              <a:rPr b="0" lang="fr-FR" sz="1600" spc="-1" strike="noStrike" baseline="30000">
                <a:solidFill>
                  <a:srgbClr val="800000"/>
                </a:solidFill>
                <a:latin typeface="Verdana"/>
              </a:rPr>
              <a:t>-</a:t>
            </a: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18480" y="164448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e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940360" y="1898640"/>
            <a:ext cx="267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membrane perméable à X et Y, imperméable à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459520" y="1247760"/>
            <a:ext cx="47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de chaque compartiment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0960" y="4191120"/>
            <a:ext cx="771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i les solutés X, Y et Z sont chargés : équation de Gibbs-Don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203600" y="66348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ffet Don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49360" y="4719960"/>
            <a:ext cx="38383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[X</a:t>
            </a:r>
            <a:r>
              <a:rPr b="0" lang="en-GB" sz="2000" spc="-1" strike="noStrike" baseline="30000">
                <a:solidFill>
                  <a:srgbClr val="800000"/>
                </a:solidFill>
                <a:latin typeface="Trebuchet MS"/>
              </a:rPr>
              <a:t>+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]</a:t>
            </a:r>
            <a:r>
              <a:rPr b="0" lang="en-GB" sz="2000" spc="-1" strike="noStrike" baseline="-25000">
                <a:solidFill>
                  <a:srgbClr val="800000"/>
                </a:solidFill>
                <a:latin typeface="Trebuchet MS"/>
              </a:rPr>
              <a:t>A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 [Y</a:t>
            </a:r>
            <a:r>
              <a:rPr b="0" lang="en-GB" sz="2000" spc="-1" strike="noStrike" baseline="30000">
                <a:solidFill>
                  <a:srgbClr val="800000"/>
                </a:solidFill>
                <a:latin typeface="Trebuchet MS"/>
              </a:rPr>
              <a:t>-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]</a:t>
            </a:r>
            <a:r>
              <a:rPr b="0" lang="en-GB" sz="2000" spc="-1" strike="noStrike" baseline="-25000">
                <a:solidFill>
                  <a:srgbClr val="800000"/>
                </a:solidFill>
                <a:latin typeface="Trebuchet MS"/>
              </a:rPr>
              <a:t>A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 = [X</a:t>
            </a:r>
            <a:r>
              <a:rPr b="0" lang="en-GB" sz="2000" spc="-1" strike="noStrike" baseline="30000">
                <a:solidFill>
                  <a:srgbClr val="800000"/>
                </a:solidFill>
                <a:latin typeface="Trebuchet MS"/>
              </a:rPr>
              <a:t>+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]</a:t>
            </a:r>
            <a:r>
              <a:rPr b="0" lang="en-GB" sz="2000" spc="-1" strike="noStrike" baseline="-25000">
                <a:solidFill>
                  <a:srgbClr val="800000"/>
                </a:solidFill>
                <a:latin typeface="Trebuchet MS"/>
              </a:rPr>
              <a:t>B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 [Y</a:t>
            </a:r>
            <a:r>
              <a:rPr b="0" lang="en-GB" sz="2000" spc="-1" strike="noStrike" baseline="30000">
                <a:solidFill>
                  <a:srgbClr val="800000"/>
                </a:solidFill>
                <a:latin typeface="Trebuchet MS"/>
              </a:rPr>
              <a:t>-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]</a:t>
            </a:r>
            <a:r>
              <a:rPr b="0" lang="en-GB" sz="2000" spc="-1" strike="noStrike" baseline="-25000">
                <a:solidFill>
                  <a:srgbClr val="800000"/>
                </a:solidFill>
                <a:latin typeface="Trebuchet MS"/>
              </a:rPr>
              <a:t>B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+ électroneutralit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+ conservation de la mati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59280" y="6105600"/>
            <a:ext cx="53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répartition inégale de X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+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et Y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-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entre A e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-6120" y="127080"/>
            <a:ext cx="344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ression onco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401240" y="11448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é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-318240" y="633240"/>
            <a:ext cx="466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pression due aux proté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295360" y="2006640"/>
            <a:ext cx="3200040" cy="1904760"/>
            <a:chOff x="2295360" y="2006640"/>
            <a:chExt cx="3200040" cy="1904760"/>
          </a:xfrm>
        </p:grpSpPr>
        <p:sp>
          <p:nvSpPr>
            <p:cNvPr id="571" name=""/>
            <p:cNvSpPr/>
            <p:nvPr/>
          </p:nvSpPr>
          <p:spPr>
            <a:xfrm>
              <a:off x="2295360" y="2006640"/>
              <a:ext cx="3200040" cy="1904760"/>
            </a:xfrm>
            <a:prstGeom prst="rect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95560" y="2006640"/>
              <a:ext cx="0" cy="19047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2899440" y="343692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501080" y="34369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62760" y="230184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[Z</a:t>
            </a:r>
            <a:r>
              <a:rPr b="0" lang="fr-FR" sz="1600" spc="-1" strike="noStrike" baseline="30000">
                <a:solidFill>
                  <a:srgbClr val="800000"/>
                </a:solidFill>
                <a:latin typeface="Verdana"/>
              </a:rPr>
              <a:t>-</a:t>
            </a: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] = 1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098600" y="2692440"/>
            <a:ext cx="117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[X</a:t>
            </a:r>
            <a:r>
              <a:rPr b="0" lang="fr-FR" sz="1600" spc="-1" strike="noStrike" baseline="30000">
                <a:solidFill>
                  <a:srgbClr val="800000"/>
                </a:solidFill>
                <a:latin typeface="Verdana"/>
              </a:rPr>
              <a:t>+</a:t>
            </a: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] = 0,6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[Y</a:t>
            </a:r>
            <a:r>
              <a:rPr b="0" lang="fr-FR" sz="1600" spc="-1" strike="noStrike" baseline="30000">
                <a:solidFill>
                  <a:srgbClr val="800000"/>
                </a:solidFill>
                <a:latin typeface="Verdana"/>
              </a:rPr>
              <a:t>-</a:t>
            </a: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] = 0,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1840" y="2301840"/>
            <a:ext cx="107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[X</a:t>
            </a:r>
            <a:r>
              <a:rPr b="0" lang="fr-FR" sz="1600" spc="-1" strike="noStrike" baseline="30000">
                <a:solidFill>
                  <a:srgbClr val="800000"/>
                </a:solidFill>
                <a:latin typeface="Verdana"/>
              </a:rPr>
              <a:t>+</a:t>
            </a: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] = 2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[Y</a:t>
            </a:r>
            <a:r>
              <a:rPr b="0" lang="fr-FR" sz="1600" spc="-1" strike="noStrike" baseline="30000">
                <a:solidFill>
                  <a:srgbClr val="800000"/>
                </a:solidFill>
                <a:latin typeface="Verdana"/>
              </a:rPr>
              <a:t>-</a:t>
            </a: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] = 1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[Z</a:t>
            </a:r>
            <a:r>
              <a:rPr b="0" lang="fr-FR" sz="1600" spc="-1" strike="noStrike" baseline="30000">
                <a:solidFill>
                  <a:srgbClr val="800000"/>
                </a:solidFill>
                <a:latin typeface="Verdana"/>
              </a:rPr>
              <a:t>-</a:t>
            </a: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] = 1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99920" y="2730600"/>
            <a:ext cx="117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[X</a:t>
            </a:r>
            <a:r>
              <a:rPr b="0" lang="fr-FR" sz="1600" spc="-1" strike="noStrike" baseline="30000">
                <a:solidFill>
                  <a:srgbClr val="800000"/>
                </a:solidFill>
                <a:latin typeface="Verdana"/>
              </a:rPr>
              <a:t>+</a:t>
            </a: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] = 1,3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[Y</a:t>
            </a:r>
            <a:r>
              <a:rPr b="0" lang="fr-FR" sz="1600" spc="-1" strike="noStrike" baseline="30000">
                <a:solidFill>
                  <a:srgbClr val="800000"/>
                </a:solidFill>
                <a:latin typeface="Verdana"/>
              </a:rPr>
              <a:t>-</a:t>
            </a: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] = 0,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18480" y="164448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e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40360" y="1898640"/>
            <a:ext cx="267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membrane perméable à X et Y, imperméable à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459520" y="1247760"/>
            <a:ext cx="47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de chaque compartiment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203600" y="66348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ffet Don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59280" y="6105600"/>
            <a:ext cx="53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répartition inégale de X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+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et Y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-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entre A e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47560" y="4432320"/>
            <a:ext cx="375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 : osmolarité = 1 +1,33 + 0,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B : osmolarité =  1,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95080" y="5334120"/>
            <a:ext cx="69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A – osmolarité B = 1,33 osm.L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-1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&gt; osmolarité 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16400" y="4406760"/>
            <a:ext cx="914400" cy="49536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-6120" y="127080"/>
            <a:ext cx="344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ression onco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401240" y="11448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é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-318240" y="633240"/>
            <a:ext cx="466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pression due aux proté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47920" y="1352520"/>
            <a:ext cx="53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ression oncotique due aux protéin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ression oncotique « vraie » + effet Don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3320" y="2184480"/>
            <a:ext cx="7486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membrane « de Donnan » : 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membrane perméable à certaines particules chargées et pas à d’aut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albumine : protéines chargée négati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effet Don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pression oncotique  &gt; pression oncotique “vrai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(les solutés chargés sont plus concentrés dans le compartiment où se trouvent le soluté chargé imperméan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03600" y="66348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ffet Don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-6120" y="127080"/>
            <a:ext cx="344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ression onco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553920" y="114480"/>
            <a:ext cx="55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ressions oncotique et hydrost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05680" y="5711760"/>
            <a:ext cx="452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lasma  : protéines (album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iquide intersticiel : peu de proté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219320" y="1943280"/>
            <a:ext cx="6794280" cy="1638000"/>
            <a:chOff x="1219320" y="1943280"/>
            <a:chExt cx="6794280" cy="1638000"/>
          </a:xfrm>
        </p:grpSpPr>
        <p:sp>
          <p:nvSpPr>
            <p:cNvPr id="599" name=""/>
            <p:cNvSpPr/>
            <p:nvPr/>
          </p:nvSpPr>
          <p:spPr>
            <a:xfrm>
              <a:off x="1219320" y="1943280"/>
              <a:ext cx="6794280" cy="16254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666880" y="1943280"/>
              <a:ext cx="0" cy="16380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56280" y="1943280"/>
              <a:ext cx="0" cy="1612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347120" y="2133720"/>
              <a:ext cx="1049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plas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3 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768400" y="2184480"/>
              <a:ext cx="2294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liquide interstic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9 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41160" y="2158920"/>
              <a:ext cx="1765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eau cellulai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24 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76440" y="2870280"/>
              <a:ext cx="39384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65840" y="2806920"/>
              <a:ext cx="39348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-275400" y="633240"/>
            <a:ext cx="851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ouvement d’eau entre le plasma et le milieu interstici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417040" y="1333440"/>
            <a:ext cx="40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individu 60 Kg : 36 L d’eau (60 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666880" y="374652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43760" y="4356000"/>
            <a:ext cx="31525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aroi capil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perméable à l’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perméable aux solu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imperméable aux proté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56280" y="37530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86960" y="4349880"/>
            <a:ext cx="3277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embrane plas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perméable à l’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perméable à certains solu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imperméable aux proté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-6120" y="127080"/>
            <a:ext cx="344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ression onco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553920" y="114480"/>
            <a:ext cx="55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ressions oncotique et hydrost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28240" y="4311720"/>
            <a:ext cx="452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lasma  : protéines (album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iquide intersticiel : peu de proté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19320" y="1943280"/>
            <a:ext cx="6794280" cy="1625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666880" y="1943280"/>
            <a:ext cx="0" cy="16380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156280" y="1943280"/>
            <a:ext cx="0" cy="16128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347120" y="2133720"/>
            <a:ext cx="104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3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68400" y="2184480"/>
            <a:ext cx="229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iquide interstic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9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41160" y="2158920"/>
            <a:ext cx="176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eau cell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24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76440" y="2870280"/>
            <a:ext cx="393840" cy="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-275400" y="633240"/>
            <a:ext cx="851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ouvement d’eau entre le plasma et le milieu interstici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417040" y="1333440"/>
            <a:ext cx="40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individu 60 Kg : 36 L d’eau (60 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374652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03160" y="4356000"/>
            <a:ext cx="194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aroi capil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8880" y="5318280"/>
            <a:ext cx="734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efficace = osmolarité onco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ression oncotique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osmose du milieu intersticiel vers le milieu plasm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-6120" y="127080"/>
            <a:ext cx="344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ression onco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553920" y="114480"/>
            <a:ext cx="55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ressions oncotique et hydrost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-275400" y="633240"/>
            <a:ext cx="851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ouvement d’eau entre le plasma et le milieu interstici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19240" y="1841400"/>
            <a:ext cx="6413400" cy="2095560"/>
          </a:xfrm>
          <a:custGeom>
            <a:avLst/>
            <a:gdLst/>
            <a:ahLst/>
            <a:rect l="l" t="t" r="r" b="b"/>
            <a:pathLst>
              <a:path w="3560" h="1976">
                <a:moveTo>
                  <a:pt x="0" y="8"/>
                </a:moveTo>
                <a:lnTo>
                  <a:pt x="0" y="1976"/>
                </a:lnTo>
                <a:lnTo>
                  <a:pt x="3560" y="1976"/>
                </a:lnTo>
                <a:lnTo>
                  <a:pt x="356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641680" y="1841400"/>
            <a:ext cx="5207040" cy="1422360"/>
          </a:xfrm>
          <a:custGeom>
            <a:avLst/>
            <a:gdLst/>
            <a:ahLst/>
            <a:rect l="l" t="t" r="r" b="b"/>
            <a:pathLst>
              <a:path w="3560" h="1976">
                <a:moveTo>
                  <a:pt x="0" y="8"/>
                </a:moveTo>
                <a:lnTo>
                  <a:pt x="0" y="1976"/>
                </a:lnTo>
                <a:lnTo>
                  <a:pt x="3560" y="1976"/>
                </a:lnTo>
                <a:lnTo>
                  <a:pt x="356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59400" y="1495440"/>
            <a:ext cx="9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Trebuchet MS"/>
              </a:rPr>
              <a:t>artéri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696440" y="1495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Trebuchet MS"/>
              </a:rPr>
              <a:t>vein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613040" y="3260880"/>
            <a:ext cx="121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Trebuchet MS"/>
              </a:rPr>
              <a:t>capilla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Trebuchet MS"/>
              </a:rPr>
              <a:t>sanguin 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476960" y="289260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Trebuchet MS"/>
              </a:rPr>
              <a:t>interstitium (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746080" y="3349800"/>
            <a:ext cx="161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-25000">
                <a:solidFill>
                  <a:srgbClr val="800000"/>
                </a:solidFill>
                <a:latin typeface="Trebuchet MS"/>
              </a:rPr>
              <a:t>c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= 30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c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85040" y="3552840"/>
            <a:ext cx="18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= p.onco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66320" y="4024440"/>
            <a:ext cx="22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P= p.hydrost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(mmH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16320" y="3349800"/>
            <a:ext cx="146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-25000">
                <a:solidFill>
                  <a:srgbClr val="800000"/>
                </a:solidFill>
                <a:latin typeface="Trebuchet MS"/>
              </a:rPr>
              <a:t>c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= 30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c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046920" y="4070520"/>
            <a:ext cx="14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-25000">
                <a:solidFill>
                  <a:srgbClr val="800000"/>
                </a:solidFill>
                <a:latin typeface="Trebuchet MS"/>
              </a:rPr>
              <a:t>i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= 12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i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20960" y="4060800"/>
            <a:ext cx="14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-25000">
                <a:solidFill>
                  <a:srgbClr val="800000"/>
                </a:solidFill>
                <a:latin typeface="Trebuchet MS"/>
              </a:rPr>
              <a:t>i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= 12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i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630880" y="4619520"/>
            <a:ext cx="186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Symbol"/>
                <a:ea typeface="Symbol"/>
              </a:rPr>
              <a:t></a:t>
            </a:r>
            <a:r>
              <a:rPr b="0" lang="fr-FR" sz="2400" spc="-1" strike="noStrike" baseline="-25000">
                <a:solidFill>
                  <a:srgbClr val="800000"/>
                </a:solidFill>
                <a:latin typeface="Trebuchet MS"/>
              </a:rPr>
              <a:t>i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= 18 </a:t>
            </a: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i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338920" y="5165640"/>
            <a:ext cx="245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Symbol"/>
                <a:ea typeface="Symbol"/>
              </a:rPr>
              <a:t></a:t>
            </a:r>
            <a:r>
              <a:rPr b="0" lang="fr-FR" sz="2400" spc="-1" strike="noStrike" baseline="-25000">
                <a:solidFill>
                  <a:srgbClr val="800000"/>
                </a:solidFill>
                <a:latin typeface="Trebuchet MS"/>
              </a:rPr>
              <a:t>i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- </a:t>
            </a: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i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-12 mmH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17920" y="2717280"/>
            <a:ext cx="0" cy="7369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685120" y="5175360"/>
            <a:ext cx="228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Symbol"/>
                <a:ea typeface="Symbol"/>
              </a:rPr>
              <a:t></a:t>
            </a:r>
            <a:r>
              <a:rPr b="0" lang="fr-FR" sz="2400" spc="-1" strike="noStrike" baseline="-25000">
                <a:solidFill>
                  <a:srgbClr val="800000"/>
                </a:solidFill>
                <a:latin typeface="Trebuchet MS"/>
              </a:rPr>
              <a:t>i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- </a:t>
            </a: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i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 8 mmH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932800" y="4603680"/>
            <a:ext cx="186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Symbol"/>
                <a:ea typeface="Symbol"/>
              </a:rPr>
              <a:t></a:t>
            </a:r>
            <a:r>
              <a:rPr b="0" lang="fr-FR" sz="2400" spc="-1" strike="noStrike" baseline="-25000">
                <a:solidFill>
                  <a:srgbClr val="800000"/>
                </a:solidFill>
                <a:latin typeface="Trebuchet MS"/>
              </a:rPr>
              <a:t>i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= 18 </a:t>
            </a: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i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845400" y="2743200"/>
            <a:ext cx="0" cy="7365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845400" y="1993680"/>
            <a:ext cx="0" cy="546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405040" y="1498680"/>
            <a:ext cx="228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Trebuchet MS"/>
              </a:rPr>
              <a:t>capillaire lympha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062440" y="5753160"/>
            <a:ext cx="286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à l’entrée du capilla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 sortie d’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366160" y="5753160"/>
            <a:ext cx="293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à la sortie du capilla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 entrée d’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84600" y="1171440"/>
            <a:ext cx="0" cy="29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57560" y="752400"/>
            <a:ext cx="10382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406760" y="2451240"/>
            <a:ext cx="355680" cy="1733400"/>
            <a:chOff x="4406760" y="2451240"/>
            <a:chExt cx="355680" cy="1733400"/>
          </a:xfrm>
        </p:grpSpPr>
        <p:sp>
          <p:nvSpPr>
            <p:cNvPr id="73" name=""/>
            <p:cNvSpPr/>
            <p:nvPr/>
          </p:nvSpPr>
          <p:spPr>
            <a:xfrm>
              <a:off x="4419720" y="2451240"/>
              <a:ext cx="330120" cy="193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06760" y="2651040"/>
              <a:ext cx="355680" cy="1533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873600" y="4152960"/>
            <a:ext cx="4647960" cy="2171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60640" y="3276720"/>
            <a:ext cx="4648320" cy="3035160"/>
          </a:xfrm>
          <a:custGeom>
            <a:avLst/>
            <a:gdLst/>
            <a:ahLst/>
            <a:rect l="l" t="t" r="r" b="b"/>
            <a:pathLst>
              <a:path w="2336" h="1912">
                <a:moveTo>
                  <a:pt x="0" y="0"/>
                </a:moveTo>
                <a:lnTo>
                  <a:pt x="0" y="1912"/>
                </a:lnTo>
                <a:lnTo>
                  <a:pt x="2336" y="1912"/>
                </a:lnTo>
                <a:lnTo>
                  <a:pt x="2336" y="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1289160"/>
            <a:ext cx="0" cy="452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62440" y="1289160"/>
            <a:ext cx="0" cy="453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6480" y="581328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7040" y="467028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5160" y="79704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10 mM sacchar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60640" y="328932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7640" y="5256360"/>
            <a:ext cx="337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membrane semi-perméable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perméable à l’ea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imperméable aux solu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4200" y="1617840"/>
            <a:ext cx="24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pression sur le pis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838400" y="2502000"/>
            <a:ext cx="1194120" cy="276480"/>
            <a:chOff x="4838400" y="2502000"/>
            <a:chExt cx="1194120" cy="276480"/>
          </a:xfrm>
        </p:grpSpPr>
        <p:sp>
          <p:nvSpPr>
            <p:cNvPr id="86" name=""/>
            <p:cNvSpPr/>
            <p:nvPr/>
          </p:nvSpPr>
          <p:spPr>
            <a:xfrm flipH="1">
              <a:off x="4838400" y="26384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53320" y="2502000"/>
              <a:ext cx="97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</a:rPr>
                <a:t>sacchar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886040" y="2124000"/>
            <a:ext cx="10857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51440" y="784080"/>
            <a:ext cx="134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Letter Gothic"/>
              </a:rPr>
              <a:t>244 h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89640" y="127080"/>
            <a:ext cx="667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ise en évidenc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ression osmo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71120" y="11448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xpér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037E-006 L 1.11111E-006 0.21944 E">
                                      <p:cBhvr>
                                        <p:cTn id="2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-6120" y="127080"/>
            <a:ext cx="344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ression onco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553920" y="114480"/>
            <a:ext cx="55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ressions oncotique et hydrost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-275400" y="633240"/>
            <a:ext cx="851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ouvement d’eau entre le plasma et le milieu interstici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14280" y="1447920"/>
            <a:ext cx="8440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entrée du capillaire : sortie de liquide du capillaire (filtr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(homme : 20 L/jo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ortie du capillaire : entrée de liquide dans le capillaire (réabsorp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(homme : 18 L/jo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apillaire lymphatique : entrée de liquide dans le S. lymph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(homme : 2 L/jo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7480" y="4619520"/>
            <a:ext cx="7549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hypoalbuminémie (&lt;20 g.L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-1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) : diminution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ugmentation filtration ; diminution réabsorption : oed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-6120" y="127080"/>
            <a:ext cx="344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ression onco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28440" y="11448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028880" indent="-4572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filtration  glomér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2927520" y="682560"/>
            <a:ext cx="2603160" cy="414828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2760840" y="811080"/>
            <a:ext cx="315720" cy="85680"/>
          </a:xfrm>
          <a:prstGeom prst="line">
            <a:avLst/>
          </a:prstGeom>
          <a:ln w="7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315040" y="785880"/>
            <a:ext cx="203040" cy="110880"/>
          </a:xfrm>
          <a:prstGeom prst="line">
            <a:avLst/>
          </a:prstGeom>
          <a:ln w="7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294920" y="250668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00000"/>
                </a:solidFill>
                <a:latin typeface="Verdana"/>
              </a:rPr>
              <a:t>glomérul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815840" y="4389480"/>
            <a:ext cx="126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00000"/>
                </a:solidFill>
                <a:latin typeface="Verdana"/>
              </a:rPr>
              <a:t>tube proxima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25600" y="819000"/>
            <a:ext cx="156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00000"/>
                </a:solidFill>
                <a:latin typeface="Verdana"/>
              </a:rPr>
              <a:t>artériole afférent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285240" y="808200"/>
            <a:ext cx="156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00000"/>
                </a:solidFill>
                <a:latin typeface="Verdana"/>
              </a:rPr>
              <a:t>artériole efférent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351480" y="25938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00000"/>
                </a:solidFill>
                <a:latin typeface="Verdana"/>
              </a:rPr>
              <a:t>capsule de Bowman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178160" y="3174840"/>
            <a:ext cx="0" cy="45720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2560" y="5438880"/>
            <a:ext cx="756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ultrafiltration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assage du capillaire glomérulaire dans le tube prox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162240" y="4559400"/>
            <a:ext cx="102888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19640" y="2730600"/>
            <a:ext cx="102888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092560" y="965160"/>
            <a:ext cx="102888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06640" y="965160"/>
            <a:ext cx="102852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87520" y="2641680"/>
            <a:ext cx="158760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-6120" y="127080"/>
            <a:ext cx="344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ression onco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28440" y="11448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028880" indent="-4572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filtration  glomér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2927520" y="682560"/>
            <a:ext cx="2603160" cy="414828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2760840" y="811080"/>
            <a:ext cx="315720" cy="85680"/>
          </a:xfrm>
          <a:prstGeom prst="line">
            <a:avLst/>
          </a:prstGeom>
          <a:ln w="7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5315040" y="785880"/>
            <a:ext cx="203040" cy="110880"/>
          </a:xfrm>
          <a:prstGeom prst="line">
            <a:avLst/>
          </a:prstGeom>
          <a:ln w="7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363480" y="3908520"/>
            <a:ext cx="14396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-25000">
                <a:solidFill>
                  <a:srgbClr val="800000"/>
                </a:solidFill>
                <a:latin typeface="Trebuchet MS"/>
              </a:rPr>
              <a:t>t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= 0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t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209600" y="2184480"/>
            <a:ext cx="1610280" cy="8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ent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-25000">
                <a:solidFill>
                  <a:srgbClr val="800000"/>
                </a:solidFill>
                <a:latin typeface="Trebuchet MS"/>
              </a:rPr>
              <a:t>c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= 20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c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49800" y="3451320"/>
            <a:ext cx="245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Symbol"/>
                <a:ea typeface="Symbol"/>
              </a:rPr>
              <a:t></a:t>
            </a:r>
            <a:r>
              <a:rPr b="0" lang="fr-FR" sz="2400" spc="-1" strike="noStrike" baseline="-25000">
                <a:solidFill>
                  <a:srgbClr val="800000"/>
                </a:solidFill>
                <a:latin typeface="Trebuchet MS"/>
              </a:rPr>
              <a:t>i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- </a:t>
            </a: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i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=-15 mmH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78160" y="3174840"/>
            <a:ext cx="0" cy="45720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12760" y="5105520"/>
            <a:ext cx="477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a différence de pression est responsable de la filtration glomér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141880" y="4444920"/>
            <a:ext cx="355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diminution de la pression sanguine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diminution de la filtration glomér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-705600" y="127080"/>
            <a:ext cx="9604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V. osmolarité et milieu de vie :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l’organisme dans son mili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-124560" y="1200240"/>
            <a:ext cx="7953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osmolarité et milieu mar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composition et osmolarité de l’eau de 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conséquences biol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animaux osmoconformes et osmorégul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animaux osmocon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animaux osmorégul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osmolarité et milieu d’eau dou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composition et osmolarité de l’eau dou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conséquences biol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osmorégulation des animaux dulçaqui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-8640" y="127080"/>
            <a:ext cx="42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osmolarité et milieu de 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10200" y="1144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ilieu marin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-295920" y="633240"/>
            <a:ext cx="662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mposition et osmolarité de l’eau de m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550800" y="1477800"/>
          <a:ext cx="7967880" cy="730440"/>
        </p:xfrm>
        <a:graphic>
          <a:graphicData uri="http://schemas.openxmlformats.org/drawingml/2006/table">
            <a:tbl>
              <a:tblPr/>
              <a:tblGrid>
                <a:gridCol w="2076480"/>
                <a:gridCol w="804960"/>
                <a:gridCol w="803160"/>
                <a:gridCol w="804960"/>
                <a:gridCol w="801720"/>
                <a:gridCol w="804960"/>
                <a:gridCol w="803160"/>
                <a:gridCol w="1068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Na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l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K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a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Mg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SO</a:t>
                      </a:r>
                      <a:r>
                        <a:rPr b="0" lang="en-GB" sz="1800" spc="-1" strike="noStrike" baseline="-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proté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eau de 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9" name=""/>
          <p:cNvSpPr/>
          <p:nvPr/>
        </p:nvSpPr>
        <p:spPr>
          <a:xfrm>
            <a:off x="415800" y="2755800"/>
            <a:ext cx="772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principaux ions présents dans l’eau de mer = sodium et  chlo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l’osmolarité de l’eau de mer estimé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478 + 558 = 1036, soit environ </a:t>
            </a:r>
            <a:r>
              <a:rPr b="1" lang="en-GB" sz="2000" spc="-1" strike="noStrike">
                <a:solidFill>
                  <a:srgbClr val="800000"/>
                </a:solidFill>
                <a:latin typeface="Trebuchet MS"/>
              </a:rPr>
              <a:t>1000 mosm/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-350280" y="4202280"/>
            <a:ext cx="429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nséquence biolog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0200" y="4734000"/>
            <a:ext cx="781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importante du milieu mar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i osmolarité animal &lt; osmolarité du mili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ertes hydriques par osm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isosmolarité = osmolarité importante du milieu intéri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-8640" y="127080"/>
            <a:ext cx="42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osmolarité et milieu de 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910200" y="1144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ilieu marin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-384840" y="633240"/>
            <a:ext cx="596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osmoconformes et osmorégulateurs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550800" y="1731960"/>
          <a:ext cx="7967880" cy="2190600"/>
        </p:xfrm>
        <a:graphic>
          <a:graphicData uri="http://schemas.openxmlformats.org/drawingml/2006/table">
            <a:tbl>
              <a:tblPr/>
              <a:tblGrid>
                <a:gridCol w="2076480"/>
                <a:gridCol w="804960"/>
                <a:gridCol w="803160"/>
                <a:gridCol w="804960"/>
                <a:gridCol w="801720"/>
                <a:gridCol w="804960"/>
                <a:gridCol w="803160"/>
                <a:gridCol w="1068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Na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l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K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a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Mg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SO</a:t>
                      </a:r>
                      <a:r>
                        <a:rPr b="0" lang="en-GB" sz="1800" spc="-1" strike="noStrike" baseline="-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proté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eau de 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méd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araignée de 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our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alm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7" name=""/>
          <p:cNvSpPr/>
          <p:nvPr/>
        </p:nvSpPr>
        <p:spPr>
          <a:xfrm>
            <a:off x="5826240" y="663480"/>
            <a:ext cx="30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smocon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57840" y="1282680"/>
            <a:ext cx="62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osmolarité comparée de quelques animaux mar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65040" y="4165560"/>
            <a:ext cx="761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nimaux osmoconformes :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dont l’osmolarité est égale à l’osmolarité du mili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as de phénomène d’osm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-8640" y="127080"/>
            <a:ext cx="42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osmolarité et milieu de 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910200" y="1144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ilieu marin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-384840" y="633240"/>
            <a:ext cx="596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osmoconformes et osmorégulateurs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550800" y="1731960"/>
          <a:ext cx="7967880" cy="2190600"/>
        </p:xfrm>
        <a:graphic>
          <a:graphicData uri="http://schemas.openxmlformats.org/drawingml/2006/table">
            <a:tbl>
              <a:tblPr/>
              <a:tblGrid>
                <a:gridCol w="2076480"/>
                <a:gridCol w="804960"/>
                <a:gridCol w="803160"/>
                <a:gridCol w="804960"/>
                <a:gridCol w="801720"/>
                <a:gridCol w="804960"/>
                <a:gridCol w="803160"/>
                <a:gridCol w="1068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Na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l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K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a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Mg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SO</a:t>
                      </a:r>
                      <a:r>
                        <a:rPr b="0" lang="en-GB" sz="1800" spc="-1" strike="noStrike" baseline="-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proté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eau de 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méd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araignée de 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our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alm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5" name=""/>
          <p:cNvSpPr/>
          <p:nvPr/>
        </p:nvSpPr>
        <p:spPr>
          <a:xfrm>
            <a:off x="5826240" y="663480"/>
            <a:ext cx="30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smocon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57840" y="1282680"/>
            <a:ext cx="62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osmolarité comparée de quelques animaux mar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04720" y="4203720"/>
            <a:ext cx="809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conformité et effet Donna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’effet Donnan : différences passives de concentrations ioniques entre milieu intérieur et extéri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-8640" y="127080"/>
            <a:ext cx="42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osmolarité et milieu de 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910200" y="1144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ilieu marin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-384840" y="633240"/>
            <a:ext cx="596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osmoconformes et osmorégulateurs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826240" y="663480"/>
            <a:ext cx="30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smocon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12760" y="1376280"/>
            <a:ext cx="8431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estimation de l’effet Donnan : Robertson (1956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échantillons de liquide extracellulaire (LEC) dans un sac semi-perméable en Cellophane, mis dans l’eau de m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es concentrations ioniques s’équilibrent de manière passive de part et d’autre de la membrane de cellophane (phénomène de dialyse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es compositions ioniques ainsi obtenues sont comparées avec les concentrations in v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-8640" y="127080"/>
            <a:ext cx="42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osmolarité et milieu de 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910200" y="1144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ilieu marin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-384840" y="633240"/>
            <a:ext cx="596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osmoconformes et osmorégulateurs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26240" y="663480"/>
            <a:ext cx="30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smocon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9" name=""/>
          <p:cNvGraphicFramePr/>
          <p:nvPr/>
        </p:nvGraphicFramePr>
        <p:xfrm>
          <a:off x="630360" y="1866960"/>
          <a:ext cx="7059600" cy="1825560"/>
        </p:xfrm>
        <a:graphic>
          <a:graphicData uri="http://schemas.openxmlformats.org/drawingml/2006/table">
            <a:tbl>
              <a:tblPr/>
              <a:tblGrid>
                <a:gridCol w="2125440"/>
                <a:gridCol w="822240"/>
                <a:gridCol w="822600"/>
                <a:gridCol w="822240"/>
                <a:gridCol w="820800"/>
                <a:gridCol w="823680"/>
                <a:gridCol w="8226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Na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l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K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a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Mg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SO</a:t>
                      </a:r>
                      <a:r>
                        <a:rPr b="0" lang="en-GB" sz="1800" spc="-1" strike="noStrike" baseline="-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méd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araignée de 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our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sei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0" name=""/>
          <p:cNvSpPr/>
          <p:nvPr/>
        </p:nvSpPr>
        <p:spPr>
          <a:xfrm>
            <a:off x="7200" y="1275480"/>
            <a:ext cx="92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Trebuchet MS"/>
              </a:rPr>
              <a:t>composition ionique du LEC  in vivo exprimée en % de la valeur du LEC après dialy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30280" y="3873600"/>
            <a:ext cx="764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es concentrations ioniques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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es animaux sont globalement osmoconfor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28760" y="4772160"/>
            <a:ext cx="8211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’équilibre ionique passif pas toujours réalisé pour tous les ions (sauf Échinoder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i différence entre la concentration in vivo et celle obtenue par dialyse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mécanisme actif (absorption ou élimination act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-8640" y="127080"/>
            <a:ext cx="42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osmolarité et milieu de 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10200" y="1144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ilieu marin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-384840" y="633240"/>
            <a:ext cx="596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osmoconformes et osmorégulateurs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826240" y="663480"/>
            <a:ext cx="30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smorégul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92960" y="1054080"/>
            <a:ext cx="62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osmolarité comparée de quelques animaux mar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9360" y="3497400"/>
            <a:ext cx="835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concentration en ions et en urée de la myxine (Myxinoïde), du requin (Sélacien) et du flet (Téléostéen) en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212760" y="1569960"/>
          <a:ext cx="8524800" cy="1825560"/>
        </p:xfrm>
        <a:graphic>
          <a:graphicData uri="http://schemas.openxmlformats.org/drawingml/2006/table">
            <a:tbl>
              <a:tblPr/>
              <a:tblGrid>
                <a:gridCol w="1455480"/>
                <a:gridCol w="851040"/>
                <a:gridCol w="749160"/>
                <a:gridCol w="787320"/>
                <a:gridCol w="851040"/>
                <a:gridCol w="838080"/>
                <a:gridCol w="863640"/>
                <a:gridCol w="787320"/>
                <a:gridCol w="134172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Na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l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K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a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Mg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SO</a:t>
                      </a:r>
                      <a:r>
                        <a:rPr b="0" lang="en-GB" sz="1800" spc="-1" strike="noStrike" baseline="-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ur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mosm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eau de 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myx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requ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3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fl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3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1" name=""/>
          <p:cNvSpPr/>
          <p:nvPr/>
        </p:nvSpPr>
        <p:spPr>
          <a:xfrm>
            <a:off x="212760" y="4280040"/>
            <a:ext cx="8450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nimaux osmoconformes :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dont l’osmolarité est égale à l’osmolarité du milieu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pas de phénomène d’osm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nimaux osmorégulateurs :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dont l’osmolarité est différente de l’osmolarité du milieu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phénomène d’osmose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mécanisme act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10000" y="1695600"/>
            <a:ext cx="355680" cy="2466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73600" y="4152960"/>
            <a:ext cx="4647960" cy="2171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60640" y="3276720"/>
            <a:ext cx="4648320" cy="3035160"/>
          </a:xfrm>
          <a:custGeom>
            <a:avLst/>
            <a:gdLst/>
            <a:ahLst/>
            <a:rect l="l" t="t" r="r" b="b"/>
            <a:pathLst>
              <a:path w="2336" h="1912">
                <a:moveTo>
                  <a:pt x="0" y="0"/>
                </a:moveTo>
                <a:lnTo>
                  <a:pt x="0" y="1912"/>
                </a:lnTo>
                <a:lnTo>
                  <a:pt x="2336" y="1912"/>
                </a:lnTo>
                <a:lnTo>
                  <a:pt x="2336" y="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1289160"/>
            <a:ext cx="0" cy="452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62440" y="1289160"/>
            <a:ext cx="0" cy="453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6480" y="581328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7040" y="467028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710360" y="797040"/>
            <a:ext cx="2886480" cy="1100880"/>
            <a:chOff x="1710360" y="797040"/>
            <a:chExt cx="2886480" cy="1100880"/>
          </a:xfrm>
        </p:grpSpPr>
        <p:sp>
          <p:nvSpPr>
            <p:cNvPr id="101" name=""/>
            <p:cNvSpPr/>
            <p:nvPr/>
          </p:nvSpPr>
          <p:spPr>
            <a:xfrm>
              <a:off x="3556440" y="971640"/>
              <a:ext cx="1040400" cy="92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10360" y="797040"/>
              <a:ext cx="148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800000"/>
                  </a:solidFill>
                  <a:latin typeface="Trebuchet MS"/>
                </a:rPr>
                <a:t>10 mM Na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860640" y="328932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7640" y="5256360"/>
            <a:ext cx="337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membrane semi-perméable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perméable à l’ea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imperméable aux solu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838400" y="2502000"/>
            <a:ext cx="1194120" cy="276480"/>
            <a:chOff x="4838400" y="2502000"/>
            <a:chExt cx="1194120" cy="276480"/>
          </a:xfrm>
        </p:grpSpPr>
        <p:sp>
          <p:nvSpPr>
            <p:cNvPr id="106" name=""/>
            <p:cNvSpPr/>
            <p:nvPr/>
          </p:nvSpPr>
          <p:spPr>
            <a:xfrm flipH="1">
              <a:off x="4838400" y="26384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53320" y="2502000"/>
              <a:ext cx="97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</a:rPr>
                <a:t>sacchar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854240" y="1565280"/>
            <a:ext cx="748080" cy="276480"/>
            <a:chOff x="4854240" y="1565280"/>
            <a:chExt cx="748080" cy="276480"/>
          </a:xfrm>
        </p:grpSpPr>
        <p:sp>
          <p:nvSpPr>
            <p:cNvPr id="109" name=""/>
            <p:cNvSpPr/>
            <p:nvPr/>
          </p:nvSpPr>
          <p:spPr>
            <a:xfrm flipH="1">
              <a:off x="4854240" y="17017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84640" y="1565280"/>
              <a:ext cx="51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</a:rPr>
                <a:t>NaC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-89640" y="127080"/>
            <a:ext cx="667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ise en évidenc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ression osmo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71120" y="11448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xpér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-8640" y="127080"/>
            <a:ext cx="42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osmolarité et milieu de 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910200" y="1144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ilieu marin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-384840" y="633240"/>
            <a:ext cx="596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osmoconformes et osmorégulateurs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826240" y="663480"/>
            <a:ext cx="30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smorégul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92960" y="1054080"/>
            <a:ext cx="62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osmolarité comparée de quelques animaux mar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212760" y="1569960"/>
          <a:ext cx="8524800" cy="1460520"/>
        </p:xfrm>
        <a:graphic>
          <a:graphicData uri="http://schemas.openxmlformats.org/drawingml/2006/table">
            <a:tbl>
              <a:tblPr/>
              <a:tblGrid>
                <a:gridCol w="1455840"/>
                <a:gridCol w="850680"/>
                <a:gridCol w="749520"/>
                <a:gridCol w="787320"/>
                <a:gridCol w="850680"/>
                <a:gridCol w="838440"/>
                <a:gridCol w="863640"/>
                <a:gridCol w="787320"/>
                <a:gridCol w="134136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Na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l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K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a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Mg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SO</a:t>
                      </a:r>
                      <a:r>
                        <a:rPr b="0" lang="en-GB" sz="1800" spc="-1" strike="noStrike" baseline="-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ur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mosm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eau de 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myx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requ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3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9" name=""/>
          <p:cNvSpPr/>
          <p:nvPr/>
        </p:nvSpPr>
        <p:spPr>
          <a:xfrm>
            <a:off x="212760" y="3340080"/>
            <a:ext cx="8450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nimaux osmoconform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myxines (osmoconformité passive = équilibre des concentr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requin (osmoconformité active = déséquilibre des concentr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élimination active de Na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rôle de l’urée dans l’osmoconform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as de pertes hydr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-8640" y="127080"/>
            <a:ext cx="42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osmolarité et milieu de 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910200" y="1144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ilieu marin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-384840" y="633240"/>
            <a:ext cx="596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osmoconformes et osmorégulateurs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826240" y="663480"/>
            <a:ext cx="30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smorégul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2960" y="1054080"/>
            <a:ext cx="62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osmolarité comparée de quelques animaux mar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212760" y="1569960"/>
          <a:ext cx="8524800" cy="1095480"/>
        </p:xfrm>
        <a:graphic>
          <a:graphicData uri="http://schemas.openxmlformats.org/drawingml/2006/table">
            <a:tbl>
              <a:tblPr/>
              <a:tblGrid>
                <a:gridCol w="1455840"/>
                <a:gridCol w="850680"/>
                <a:gridCol w="749520"/>
                <a:gridCol w="787320"/>
                <a:gridCol w="850680"/>
                <a:gridCol w="838440"/>
                <a:gridCol w="863640"/>
                <a:gridCol w="787320"/>
                <a:gridCol w="134136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Na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l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K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a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Mg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SO</a:t>
                      </a:r>
                      <a:r>
                        <a:rPr b="0" lang="en-GB" sz="1800" spc="-1" strike="noStrike" baseline="-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ur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mosm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eau de 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fl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3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7" name=""/>
          <p:cNvSpPr/>
          <p:nvPr/>
        </p:nvSpPr>
        <p:spPr>
          <a:xfrm>
            <a:off x="237960" y="2933640"/>
            <a:ext cx="8450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nimaux osmorégulateurs :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flet (hypoosmotique / eau de m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ertes hydriques ; influx de Na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ecessité de captation d’eau ; d’élimination hyperosmotique / 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ingestion d’eau de 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faible élimination d’urine concentrée (mais hypoosmotique /m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élimination active de NaCl par les branch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ellules à chlorure : élimination active de Cl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-8640" y="127080"/>
            <a:ext cx="42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osmolarité et milieu de 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-298440" y="633240"/>
            <a:ext cx="649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mposition et osmolarité de l’eau dou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956200" y="11448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ilieu dulçaquicol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523800" y="1139760"/>
          <a:ext cx="8318520" cy="1633680"/>
        </p:xfrm>
        <a:graphic>
          <a:graphicData uri="http://schemas.openxmlformats.org/drawingml/2006/table">
            <a:tbl>
              <a:tblPr/>
              <a:tblGrid>
                <a:gridCol w="1825560"/>
                <a:gridCol w="660600"/>
                <a:gridCol w="799920"/>
                <a:gridCol w="690840"/>
                <a:gridCol w="784080"/>
                <a:gridCol w="785880"/>
                <a:gridCol w="798480"/>
                <a:gridCol w="704880"/>
                <a:gridCol w="126828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Na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l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K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a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Mg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SO</a:t>
                      </a:r>
                      <a:r>
                        <a:rPr b="0" lang="en-GB" sz="1800" spc="-1" strike="noStrike" baseline="-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ur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mosm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eau de 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eau de rivièr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6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3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&lt;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&lt;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"/>
          <p:cNvSpPr/>
          <p:nvPr/>
        </p:nvSpPr>
        <p:spPr>
          <a:xfrm>
            <a:off x="542880" y="2790720"/>
            <a:ext cx="796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*la première valeur est une moyenne des rivières d’Amérique du Nord ; la seconde est la composition d’une eau dite « dure 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42880" y="3327480"/>
            <a:ext cx="772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compositio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osmolarité variable mais toujours très fa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-350280" y="4202280"/>
            <a:ext cx="429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nséquence biolog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166400" y="4835520"/>
            <a:ext cx="567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très faible du milieu d’eau dou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conformité im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7" name=""/>
          <p:cNvGraphicFramePr/>
          <p:nvPr/>
        </p:nvGraphicFramePr>
        <p:xfrm>
          <a:off x="523800" y="1469880"/>
          <a:ext cx="8318520" cy="2376720"/>
        </p:xfrm>
        <a:graphic>
          <a:graphicData uri="http://schemas.openxmlformats.org/drawingml/2006/table">
            <a:tbl>
              <a:tblPr/>
              <a:tblGrid>
                <a:gridCol w="1825560"/>
                <a:gridCol w="660600"/>
                <a:gridCol w="799920"/>
                <a:gridCol w="690840"/>
                <a:gridCol w="784080"/>
                <a:gridCol w="785880"/>
                <a:gridCol w="798480"/>
                <a:gridCol w="704880"/>
                <a:gridCol w="126828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Na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l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K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a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Mg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SO</a:t>
                      </a:r>
                      <a:r>
                        <a:rPr b="0" lang="en-GB" sz="1800" spc="-1" strike="noStrike" baseline="-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ur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mosm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eau de 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fl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3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yp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76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eau de riviè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6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3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&lt;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&lt;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8" name=""/>
          <p:cNvSpPr/>
          <p:nvPr/>
        </p:nvSpPr>
        <p:spPr>
          <a:xfrm>
            <a:off x="720720" y="1091880"/>
            <a:ext cx="67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concentration en ions et en urée du flet et du cyprin (Téléostéens), en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-8640" y="127080"/>
            <a:ext cx="42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osmolarité et milieu de 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523400" y="11448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smorégulation en eau douc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06080" y="4317840"/>
            <a:ext cx="400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yprin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larité plus faible que le f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hyperosmotique / eau dou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73600" y="3080160"/>
            <a:ext cx="2259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8280" rIns="90000" tIns="46800" bIns="0" anchor="ctr">
            <a:spAutoFit/>
          </a:bodyPr>
          <a:p>
            <a:pPr lvl="3" marL="1371600">
              <a:lnSpc>
                <a:spcPct val="100000"/>
              </a:lnSpc>
              <a:buClr>
                <a:srgbClr val="800000"/>
              </a:buClr>
              <a:buFont typeface="Trebuchet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22280" y="736560"/>
            <a:ext cx="67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osmolarité comparée d’animaux d’eau douce et de 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5" name=""/>
          <p:cNvGraphicFramePr/>
          <p:nvPr/>
        </p:nvGraphicFramePr>
        <p:xfrm>
          <a:off x="523800" y="1469880"/>
          <a:ext cx="8318520" cy="1627200"/>
        </p:xfrm>
        <a:graphic>
          <a:graphicData uri="http://schemas.openxmlformats.org/drawingml/2006/table">
            <a:tbl>
              <a:tblPr/>
              <a:tblGrid>
                <a:gridCol w="1825560"/>
                <a:gridCol w="660600"/>
                <a:gridCol w="799920"/>
                <a:gridCol w="690840"/>
                <a:gridCol w="784080"/>
                <a:gridCol w="785880"/>
                <a:gridCol w="798480"/>
                <a:gridCol w="704880"/>
                <a:gridCol w="1268280"/>
              </a:tblGrid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Na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l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K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a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Mg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SO</a:t>
                      </a:r>
                      <a:r>
                        <a:rPr b="0" lang="en-GB" sz="1800" spc="-1" strike="noStrike" baseline="-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4</a:t>
                      </a:r>
                      <a:r>
                        <a:rPr b="0" lang="en-GB" sz="1800" spc="-1" strike="noStrike" baseline="30000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ur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mosm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cyp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2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eau de riviè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6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3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5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0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1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&lt;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800000"/>
                          </a:solidFill>
                          <a:latin typeface="Trebuchet MS"/>
                          <a:ea typeface="Times New Roman"/>
                        </a:rPr>
                        <a:t>&lt;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6" name=""/>
          <p:cNvSpPr/>
          <p:nvPr/>
        </p:nvSpPr>
        <p:spPr>
          <a:xfrm>
            <a:off x="720720" y="1091880"/>
            <a:ext cx="67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concentration en ions et en urée du flet et du cyprin (Téléostéens), en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-8640" y="127080"/>
            <a:ext cx="42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osmolarité et milieu de 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523400" y="11448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smorégulation en eau douc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73600" y="3080160"/>
            <a:ext cx="2259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8280" rIns="90000" tIns="46800" bIns="0" anchor="ctr">
            <a:spAutoFit/>
          </a:bodyPr>
          <a:p>
            <a:pPr lvl="3" marL="1371600">
              <a:lnSpc>
                <a:spcPct val="100000"/>
              </a:lnSpc>
              <a:buClr>
                <a:srgbClr val="800000"/>
              </a:buClr>
              <a:buFont typeface="Trebuchet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22280" y="736560"/>
            <a:ext cx="67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rebuchet MS"/>
              </a:rPr>
              <a:t>osmolarité comparée d’animaux d’eau douce et de 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2880" y="3162240"/>
            <a:ext cx="8450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smorégulation en milieu d’eau dou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flet (hypoosmotique / eau de m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gains hydriques ; pertes io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ecessité d’élimination d’eau ; de captation d’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ingestion d’eau réd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élimination abondante d’urine très dilué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(un tiers du poids de l’animal par jou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aptation active de NaCl par les branch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84600" y="971640"/>
            <a:ext cx="0" cy="315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406760" y="1498680"/>
            <a:ext cx="355680" cy="1733400"/>
            <a:chOff x="4406760" y="1498680"/>
            <a:chExt cx="355680" cy="1733400"/>
          </a:xfrm>
        </p:grpSpPr>
        <p:sp>
          <p:nvSpPr>
            <p:cNvPr id="116" name=""/>
            <p:cNvSpPr/>
            <p:nvPr/>
          </p:nvSpPr>
          <p:spPr>
            <a:xfrm>
              <a:off x="4419720" y="1498680"/>
              <a:ext cx="330120" cy="193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06760" y="1698480"/>
              <a:ext cx="355680" cy="1533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03880" y="2971800"/>
            <a:ext cx="355320" cy="1206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73600" y="4152960"/>
            <a:ext cx="4647960" cy="2171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60640" y="3276720"/>
            <a:ext cx="4648320" cy="3035160"/>
          </a:xfrm>
          <a:custGeom>
            <a:avLst/>
            <a:gdLst/>
            <a:ahLst/>
            <a:rect l="l" t="t" r="r" b="b"/>
            <a:pathLst>
              <a:path w="2336" h="1912">
                <a:moveTo>
                  <a:pt x="0" y="0"/>
                </a:moveTo>
                <a:lnTo>
                  <a:pt x="0" y="1912"/>
                </a:lnTo>
                <a:lnTo>
                  <a:pt x="2336" y="1912"/>
                </a:lnTo>
                <a:lnTo>
                  <a:pt x="2336" y="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1289160"/>
            <a:ext cx="0" cy="452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62440" y="1289160"/>
            <a:ext cx="0" cy="453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6480" y="581328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7040" y="467028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10360" y="79704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10 mM Na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60640" y="328932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7640" y="5256360"/>
            <a:ext cx="337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membrane semi-perméable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perméable à l’ea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imperméable aux solu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4200" y="1617840"/>
            <a:ext cx="24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pression sur le pis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854240" y="1565280"/>
            <a:ext cx="748080" cy="276480"/>
            <a:chOff x="4854240" y="1565280"/>
            <a:chExt cx="748080" cy="276480"/>
          </a:xfrm>
        </p:grpSpPr>
        <p:sp>
          <p:nvSpPr>
            <p:cNvPr id="130" name=""/>
            <p:cNvSpPr/>
            <p:nvPr/>
          </p:nvSpPr>
          <p:spPr>
            <a:xfrm flipH="1">
              <a:off x="4854240" y="17017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84640" y="1565280"/>
              <a:ext cx="51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</a:rPr>
                <a:t>NaC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838400" y="2502000"/>
            <a:ext cx="1194120" cy="276480"/>
            <a:chOff x="4838400" y="2502000"/>
            <a:chExt cx="1194120" cy="276480"/>
          </a:xfrm>
        </p:grpSpPr>
        <p:sp>
          <p:nvSpPr>
            <p:cNvPr id="133" name=""/>
            <p:cNvSpPr/>
            <p:nvPr/>
          </p:nvSpPr>
          <p:spPr>
            <a:xfrm flipH="1">
              <a:off x="4838400" y="26384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53320" y="2502000"/>
              <a:ext cx="97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</a:rPr>
                <a:t>sacchar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057560" y="752400"/>
            <a:ext cx="10382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51440" y="784080"/>
            <a:ext cx="134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Letter Gothic"/>
              </a:rPr>
              <a:t>453 h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89640" y="127080"/>
            <a:ext cx="667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ise en évidenc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ression osmo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71120" y="11448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xpér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1.11111E-006 0.35694 E">
                                      <p:cBhvr>
                                        <p:cTn id="4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-1.66667E-006 0.20555 E">
                                      <p:cBhvr>
                                        <p:cTn id="4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-89640" y="127080"/>
            <a:ext cx="667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ise en évidenc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ression osmo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01240" y="11448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é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054080"/>
            <a:ext cx="7789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ession osmo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a pression osmotique est la pression exercée par les particules en solution, et responsable de l’osmo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sm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mouvement d’eau à travers une membrane semi-perméable, du compartiment le moins concentré en particules en solution vers le compartiment le plus en particules en sol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smolar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’osmolarité d’une solution est le nombre de moles de particules en solution dans 1 litre de sol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1 osmole (osm) correspond à une mole de particu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-89640" y="127080"/>
            <a:ext cx="667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ise en évidence de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ression osmo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01240" y="11448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é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976320"/>
            <a:ext cx="7789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olarité et mola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a molarité est la concentration exprimée en moles par litre de solution. Une solution qui contient une mole par litre est une solution mola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a molalité est la concentration exprimée en moles par kg d’eau. Une solution qui contient une mole par kg d’eau est une solution mol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smolarité et osmola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’osmolarité d’une solution est le nombre de moles de particules en solution dans 1 litre de sol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’osmolalité est le nombre de moles de particules en solution dans 1 kg d’ea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17:47:16Z</dcterms:created>
  <dc:creator>esteve</dc:creator>
  <dc:description/>
  <dc:language>en-US</dc:language>
  <cp:lastModifiedBy>Rm</cp:lastModifiedBy>
  <dcterms:modified xsi:type="dcterms:W3CDTF">2011-02-16T22:15:44Z</dcterms:modified>
  <cp:revision>987</cp:revision>
  <dc:subject/>
  <dc:title>Présentation PowerPoint</dc:title>
</cp:coreProperties>
</file>