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27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26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728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27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526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72840" y="568080"/>
            <a:ext cx="78073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29376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602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4680" indent="-1951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6720" indent="-1951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87200" y="2255760"/>
            <a:ext cx="89568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4000" spc="-1" strike="noStrike">
                <a:solidFill>
                  <a:srgbClr val="000066"/>
                </a:solidFill>
                <a:latin typeface="Trebuchet MS"/>
              </a:rPr>
              <a:t>La respiration et sa régul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800" spc="-1" strike="noStrike">
                <a:solidFill>
                  <a:srgbClr val="000066"/>
                </a:solidFill>
                <a:latin typeface="Trebuchet MS"/>
              </a:rPr>
              <a:t>réponses physiologiques et physiopathologiques à l'altitude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473120" y="1117440"/>
            <a:ext cx="61340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514880" y="1120680"/>
            <a:ext cx="63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UE physiologie, pharmacologie, path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1688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79600" y="281160"/>
            <a:ext cx="417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aster Biologie cellulair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hysiologie et et path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70120" cy="1514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31640" y="4722840"/>
            <a:ext cx="78184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ienne Ro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Adaptation cardiovasculaire à l’ischémie INSERM U 10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UFR des Sciences de la Vie Université Bordeaux Sega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contact: etienne.roux@u-bordeaux2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657360" y="1643040"/>
            <a:ext cx="7968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onséquence</a:t>
            </a:r>
            <a:r>
              <a:rPr b="1" i="1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ur l’oxygénation tiss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38160" y="584352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649240" y="542916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  <a:ea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649240" y="500076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  <a:ea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649240" y="4573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  <a:ea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649240" y="41482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  <a:ea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560680" y="370188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  <a:ea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60680" y="327492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  <a:ea typeface="Arial"/>
              </a:rPr>
              <a:t>1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560680" y="284796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  <a:ea typeface="Arial"/>
              </a:rPr>
              <a:t>1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560680" y="242244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  <a:ea typeface="Arial"/>
              </a:rPr>
              <a:t>1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938320" y="5977080"/>
            <a:ext cx="4632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987640" y="5977080"/>
            <a:ext cx="177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76560" y="5761080"/>
            <a:ext cx="889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987640" y="5548320"/>
            <a:ext cx="1778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076560" y="5335560"/>
            <a:ext cx="889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987640" y="5121360"/>
            <a:ext cx="177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76560" y="4908600"/>
            <a:ext cx="889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987640" y="4697280"/>
            <a:ext cx="177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076560" y="4483080"/>
            <a:ext cx="88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987640" y="4270320"/>
            <a:ext cx="177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076560" y="4057560"/>
            <a:ext cx="88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987640" y="3841920"/>
            <a:ext cx="17784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076560" y="3629160"/>
            <a:ext cx="8892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987640" y="3414600"/>
            <a:ext cx="177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076560" y="3201840"/>
            <a:ext cx="8892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987640" y="2990880"/>
            <a:ext cx="1778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076560" y="2776680"/>
            <a:ext cx="88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987640" y="2563920"/>
            <a:ext cx="177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165480" y="2521080"/>
            <a:ext cx="648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1840" y="2776680"/>
            <a:ext cx="3621240" cy="2881080"/>
          </a:xfrm>
          <a:custGeom>
            <a:avLst/>
            <a:gdLst/>
            <a:ahLst/>
            <a:rect l="l" t="t" r="r" b="b"/>
            <a:pathLst>
              <a:path w="1176" h="1208">
                <a:moveTo>
                  <a:pt x="0" y="0"/>
                </a:moveTo>
                <a:lnTo>
                  <a:pt x="328" y="0"/>
                </a:lnTo>
                <a:lnTo>
                  <a:pt x="328" y="452"/>
                </a:lnTo>
                <a:lnTo>
                  <a:pt x="660" y="452"/>
                </a:lnTo>
                <a:lnTo>
                  <a:pt x="660" y="492"/>
                </a:lnTo>
                <a:lnTo>
                  <a:pt x="984" y="492"/>
                </a:lnTo>
                <a:lnTo>
                  <a:pt x="1176" y="1208"/>
                </a:lnTo>
                <a:lnTo>
                  <a:pt x="996" y="896"/>
                </a:lnTo>
                <a:lnTo>
                  <a:pt x="660" y="896"/>
                </a:lnTo>
              </a:path>
            </a:pathLst>
          </a:custGeom>
          <a:noFill/>
          <a:ln w="93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355760" y="3849840"/>
            <a:ext cx="12445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  <a:ea typeface="Arial"/>
              </a:rPr>
              <a:t>PO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600" spc="-1" strike="noStrike">
                <a:solidFill>
                  <a:srgbClr val="990000"/>
                </a:solidFill>
                <a:latin typeface="Trebuchet MS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  <a:ea typeface="Arial"/>
              </a:rPr>
              <a:t>(mmH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64040" y="225900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  <a:ea typeface="Arial"/>
              </a:rPr>
              <a:t>air inspir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70600" y="280188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  <a:ea typeface="Arial"/>
              </a:rPr>
              <a:t>air alvéo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318280" y="351000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  <a:ea typeface="Arial"/>
              </a:rPr>
              <a:t>sa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214880" y="3244680"/>
            <a:ext cx="0" cy="273240"/>
          </a:xfrm>
          <a:prstGeom prst="line">
            <a:avLst/>
          </a:prstGeom>
          <a:ln w="3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197240" y="4729320"/>
            <a:ext cx="0" cy="271440"/>
          </a:xfrm>
          <a:prstGeom prst="line">
            <a:avLst/>
          </a:prstGeom>
          <a:ln w="3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29160" y="3952800"/>
            <a:ext cx="43344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535720" y="5175360"/>
            <a:ext cx="43488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93160" y="3301920"/>
            <a:ext cx="72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  <a:ea typeface="Arial"/>
              </a:rPr>
              <a:t>tiss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212080" y="402120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  <a:ea typeface="Arial"/>
              </a:rPr>
              <a:t>artéri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189400" y="4487760"/>
            <a:ext cx="92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  <a:ea typeface="Arial"/>
              </a:rPr>
              <a:t>vein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267720" y="2732040"/>
            <a:ext cx="53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6600"/>
                </a:solidFill>
                <a:latin typeface="Trebuchet MS"/>
                <a:ea typeface="Arial"/>
              </a:rPr>
              <a:t>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62960" y="444816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550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195720" y="4483080"/>
            <a:ext cx="3639960" cy="1344600"/>
          </a:xfrm>
          <a:custGeom>
            <a:avLst/>
            <a:gdLst/>
            <a:ahLst/>
            <a:rect l="l" t="t" r="r" b="b"/>
            <a:pathLst>
              <a:path w="1182" h="564">
                <a:moveTo>
                  <a:pt x="660" y="465"/>
                </a:moveTo>
                <a:lnTo>
                  <a:pt x="990" y="465"/>
                </a:lnTo>
                <a:lnTo>
                  <a:pt x="1182" y="564"/>
                </a:lnTo>
                <a:lnTo>
                  <a:pt x="993" y="288"/>
                </a:lnTo>
                <a:lnTo>
                  <a:pt x="660" y="288"/>
                </a:lnTo>
                <a:lnTo>
                  <a:pt x="660" y="270"/>
                </a:lnTo>
                <a:lnTo>
                  <a:pt x="327" y="270"/>
                </a:lnTo>
                <a:lnTo>
                  <a:pt x="327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02560" y="135000"/>
            <a:ext cx="51033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pressions &amp; concentrations en g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5560" y="127080"/>
            <a:ext cx="4084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effets directs de l’alt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87200" y="695160"/>
            <a:ext cx="63979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pression partielle et concentration dans le sa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784760" y="712800"/>
            <a:ext cx="41338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dioxygè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492120" y="1611720"/>
            <a:ext cx="796932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quantité de CO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présente dans le s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69800" y="2637000"/>
            <a:ext cx="83160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as d’effet direct de l’altitude sus la quantité de 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présente dans le s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ffet indirect par la mise en jeu de systèmes de rég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102560" y="135000"/>
            <a:ext cx="51033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pressions &amp; concentrations en g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5560" y="127080"/>
            <a:ext cx="4084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effets directs de l’alt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7200" y="695160"/>
            <a:ext cx="63979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pression partielle et concentration dans le sa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784760" y="712800"/>
            <a:ext cx="41338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dioxyde de carb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160560" y="1219320"/>
            <a:ext cx="64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66"/>
                </a:solidFill>
                <a:latin typeface="Trebuchet MS"/>
              </a:rPr>
              <a:t>principales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 variables régulées de la fonction respirat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361800" y="1765440"/>
          <a:ext cx="8447400" cy="3657600"/>
        </p:xfrm>
        <a:graphic>
          <a:graphicData uri="http://schemas.openxmlformats.org/drawingml/2006/table">
            <a:tbl>
              <a:tblPr/>
              <a:tblGrid>
                <a:gridCol w="2267280"/>
                <a:gridCol w="3166920"/>
                <a:gridCol w="3013200"/>
              </a:tblGrid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variables régulé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apte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ffecte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PO</a:t>
                      </a:r>
                      <a:r>
                        <a:rPr b="0" lang="en-GB" sz="1600" spc="-1" strike="noStrike" baseline="-30000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chémorécepteurs périphér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venti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débit sangu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résistances vasculai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PO</a:t>
                      </a:r>
                      <a:r>
                        <a:rPr b="0" lang="en-GB" sz="1600" spc="-1" strike="noStrike" baseline="-30000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concentration en O</a:t>
                      </a:r>
                      <a:r>
                        <a:rPr b="0" lang="en-GB" sz="1600" spc="-1" strike="noStrike" baseline="-30000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capteurs rénau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érythropoïè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PCO</a:t>
                      </a:r>
                      <a:r>
                        <a:rPr b="0" lang="en-GB" sz="1600" spc="-1" strike="noStrike" baseline="-30000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chémorécepteurs périphér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venti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débit sangu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résistances vasculai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PCO</a:t>
                      </a:r>
                      <a:r>
                        <a:rPr b="0" lang="en-GB" sz="1600" spc="-1" strike="noStrike" baseline="-30000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chémorécepteurs centrau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venti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9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194360" y="135000"/>
            <a:ext cx="4807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chémosensibilité l’à O</a:t>
            </a:r>
            <a:r>
              <a:rPr b="0" lang="en-GB" sz="24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 et au CO</a:t>
            </a:r>
            <a:r>
              <a:rPr b="0" lang="en-GB" sz="24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4800" y="127080"/>
            <a:ext cx="413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effets à court terme (1-3 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87200" y="695160"/>
            <a:ext cx="63979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hémorécepteu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3" name=""/>
          <p:cNvGraphicFramePr/>
          <p:nvPr/>
        </p:nvGraphicFramePr>
        <p:xfrm>
          <a:off x="361800" y="1765440"/>
          <a:ext cx="8447400" cy="3657600"/>
        </p:xfrm>
        <a:graphic>
          <a:graphicData uri="http://schemas.openxmlformats.org/drawingml/2006/table">
            <a:tbl>
              <a:tblPr/>
              <a:tblGrid>
                <a:gridCol w="2267280"/>
                <a:gridCol w="3166920"/>
                <a:gridCol w="3013200"/>
              </a:tblGrid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variables régulé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apte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ffecte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PO</a:t>
                      </a:r>
                      <a:r>
                        <a:rPr b="0" lang="en-GB" sz="1600" spc="-1" strike="noStrike" baseline="-30000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chémorécepteurs périphér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venti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débit sangu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résistances vasculai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PO</a:t>
                      </a:r>
                      <a:r>
                        <a:rPr b="0" lang="en-GB" sz="1600" spc="-1" strike="noStrike" baseline="-30000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concentration en O</a:t>
                      </a:r>
                      <a:r>
                        <a:rPr b="0" lang="en-GB" sz="1600" spc="-1" strike="noStrike" baseline="-30000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capteurs rénau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érythropoïè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PCO</a:t>
                      </a:r>
                      <a:r>
                        <a:rPr b="0" lang="en-GB" sz="1600" spc="-1" strike="noStrike" baseline="-30000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chémorécepteurs périphér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venti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débit sangu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résistances vasculai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PCO</a:t>
                      </a:r>
                      <a:r>
                        <a:rPr b="0" lang="en-GB" sz="1600" spc="-1" strike="noStrike" baseline="-30000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chémorécepteurs centrau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venti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4" name=""/>
          <p:cNvSpPr/>
          <p:nvPr/>
        </p:nvSpPr>
        <p:spPr>
          <a:xfrm>
            <a:off x="225360" y="2019240"/>
            <a:ext cx="1067040" cy="93996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686560" y="2057400"/>
            <a:ext cx="1447560" cy="4968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60560" y="1219320"/>
            <a:ext cx="64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66"/>
                </a:solidFill>
                <a:latin typeface="Trebuchet MS"/>
              </a:rPr>
              <a:t>principales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 variables régulées de la fonction respirat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0520" y="127080"/>
            <a:ext cx="3229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effets à court te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87200" y="695160"/>
            <a:ext cx="63979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hémorécepteu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4360" y="135000"/>
            <a:ext cx="4807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chémosensibilité l’à O</a:t>
            </a:r>
            <a:r>
              <a:rPr b="0" lang="en-GB" sz="24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 et au CO</a:t>
            </a:r>
            <a:r>
              <a:rPr b="0" lang="en-GB" sz="24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551880" y="1392840"/>
            <a:ext cx="654336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effet de l’hyperventilation sur l’oxygè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hyperventilation réflexe (fréquence respiratoire et volum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→ 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augmentation de la PAO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2568600" y="3637080"/>
            <a:ext cx="2271240" cy="464040"/>
            <a:chOff x="2568600" y="3637080"/>
            <a:chExt cx="2271240" cy="464040"/>
          </a:xfrm>
        </p:grpSpPr>
        <p:sp>
          <p:nvSpPr>
            <p:cNvPr id="533" name=""/>
            <p:cNvSpPr/>
            <p:nvPr/>
          </p:nvSpPr>
          <p:spPr>
            <a:xfrm>
              <a:off x="3646800" y="3649680"/>
              <a:ext cx="22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568600" y="3695400"/>
              <a:ext cx="2271240" cy="405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P</a:t>
              </a:r>
              <a:r>
                <a:rPr b="0" lang="fr-FR" sz="1800" spc="-1" strike="noStrike" baseline="-25000">
                  <a:solidFill>
                    <a:srgbClr val="990000"/>
                  </a:solidFill>
                  <a:latin typeface="Trebuchet MS"/>
                </a:rPr>
                <a:t>A</a:t>
              </a: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CO</a:t>
              </a:r>
              <a:r>
                <a:rPr b="0" lang="fr-FR" sz="1800" spc="-1" strike="noStrike" baseline="-25000">
                  <a:solidFill>
                    <a:srgbClr val="990000"/>
                  </a:solidFill>
                  <a:latin typeface="Trebuchet MS"/>
                </a:rPr>
                <a:t>2</a:t>
              </a: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 = (VCO</a:t>
              </a:r>
              <a:r>
                <a:rPr b="0" lang="fr-FR" sz="1800" spc="-1" strike="noStrike" baseline="-25000">
                  <a:solidFill>
                    <a:srgbClr val="990000"/>
                  </a:solidFill>
                  <a:latin typeface="Trebuchet MS"/>
                </a:rPr>
                <a:t>2 </a:t>
              </a: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/ V</a:t>
              </a:r>
              <a:r>
                <a:rPr b="0" lang="fr-FR" sz="1800" spc="-1" strike="noStrike" baseline="-25000">
                  <a:solidFill>
                    <a:srgbClr val="990000"/>
                  </a:solidFill>
                  <a:latin typeface="Trebuchet MS"/>
                </a:rPr>
                <a:t>A</a:t>
              </a: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)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08560" y="3637080"/>
              <a:ext cx="22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659400" y="3649680"/>
              <a:ext cx="22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3514680" y="2870280"/>
            <a:ext cx="3733920" cy="69984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0520" y="127080"/>
            <a:ext cx="3229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effets à court te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87200" y="695160"/>
            <a:ext cx="639792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hémorécepteurs à la PO</a:t>
            </a:r>
            <a:r>
              <a:rPr b="0" lang="fr-FR" sz="22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 artériel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6200" y="2473200"/>
            <a:ext cx="655164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effet sur le dioxyde de car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élimination accrue du CO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→ diminution de la PCO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+ alca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194360" y="135000"/>
            <a:ext cx="4807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chémosensibilité l’à O</a:t>
            </a:r>
            <a:r>
              <a:rPr b="0" lang="en-GB" sz="24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 et au CO</a:t>
            </a:r>
            <a:r>
              <a:rPr b="0" lang="en-GB" sz="24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3" name=""/>
          <p:cNvGraphicFramePr/>
          <p:nvPr/>
        </p:nvGraphicFramePr>
        <p:xfrm>
          <a:off x="361800" y="1765440"/>
          <a:ext cx="8447400" cy="3657600"/>
        </p:xfrm>
        <a:graphic>
          <a:graphicData uri="http://schemas.openxmlformats.org/drawingml/2006/table">
            <a:tbl>
              <a:tblPr/>
              <a:tblGrid>
                <a:gridCol w="2267280"/>
                <a:gridCol w="3166920"/>
                <a:gridCol w="3013200"/>
              </a:tblGrid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variables régulé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apte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ffecte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PO</a:t>
                      </a:r>
                      <a:r>
                        <a:rPr b="0" lang="en-GB" sz="1600" spc="-1" strike="noStrike" baseline="-30000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chémorécepteurs périphér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venti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débit sangu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résistances vasculai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PO</a:t>
                      </a:r>
                      <a:r>
                        <a:rPr b="0" lang="en-GB" sz="1600" spc="-1" strike="noStrike" baseline="-30000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concentration en O</a:t>
                      </a:r>
                      <a:r>
                        <a:rPr b="0" lang="en-GB" sz="1600" spc="-1" strike="noStrike" baseline="-30000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capteurs rénau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érythropoïè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PCO</a:t>
                      </a:r>
                      <a:r>
                        <a:rPr b="0" lang="en-GB" sz="1600" spc="-1" strike="noStrike" baseline="-30000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chémorécepteurs périphér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venti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débit sangu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résistances vasculai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PCO</a:t>
                      </a:r>
                      <a:r>
                        <a:rPr b="0" lang="en-GB" sz="1600" spc="-1" strike="noStrike" baseline="-30000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chémorécepteurs centrau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venti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"/>
          <p:cNvSpPr/>
          <p:nvPr/>
        </p:nvSpPr>
        <p:spPr>
          <a:xfrm>
            <a:off x="174600" y="3848040"/>
            <a:ext cx="1066680" cy="18162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00680" y="3924360"/>
            <a:ext cx="1447920" cy="4968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0520" y="127080"/>
            <a:ext cx="3229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effets à court te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87200" y="695160"/>
            <a:ext cx="639792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hémorécepteurs à la PCO</a:t>
            </a:r>
            <a:r>
              <a:rPr b="0" lang="fr-FR" sz="22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94360" y="135000"/>
            <a:ext cx="4807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chémosensibilité l’à O</a:t>
            </a:r>
            <a:r>
              <a:rPr b="0" lang="en-GB" sz="24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 et au CO</a:t>
            </a:r>
            <a:r>
              <a:rPr b="0" lang="en-GB" sz="24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500040" y="1227600"/>
            <a:ext cx="8181720" cy="46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effet de l’hyperventilation sur l’oxygè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hyperventilation réflexe (fréquence respiratoire et volum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→ 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augmentation de la PAO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effet sur le dioxyde de car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élimination accrue du CO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→ diminution de la PCO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+ alca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effet du dioxyde de carbone sur la 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diminution de la PCO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+ alcalose → activation des chémorécepteurs au CO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→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hypo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respiration cyc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sommeil : respiration périodique avec phase d’apn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584800" y="3637080"/>
            <a:ext cx="2378880" cy="464040"/>
            <a:chOff x="2584800" y="3637080"/>
            <a:chExt cx="2378880" cy="464040"/>
          </a:xfrm>
        </p:grpSpPr>
        <p:sp>
          <p:nvSpPr>
            <p:cNvPr id="552" name=""/>
            <p:cNvSpPr/>
            <p:nvPr/>
          </p:nvSpPr>
          <p:spPr>
            <a:xfrm>
              <a:off x="3624480" y="3649680"/>
              <a:ext cx="22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"/>
                </a:rPr>
                <a:t>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584800" y="3695400"/>
              <a:ext cx="2378880" cy="405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Arial"/>
                </a:rPr>
                <a:t>P</a:t>
              </a:r>
              <a:r>
                <a:rPr b="0" lang="fr-FR" sz="1800" spc="-1" strike="noStrike" baseline="-25000">
                  <a:solidFill>
                    <a:srgbClr val="990000"/>
                  </a:solidFill>
                  <a:latin typeface="Arial"/>
                </a:rPr>
                <a:t>A</a:t>
              </a:r>
              <a:r>
                <a:rPr b="0" lang="fr-FR" sz="1800" spc="-1" strike="noStrike">
                  <a:solidFill>
                    <a:srgbClr val="990000"/>
                  </a:solidFill>
                  <a:latin typeface="Arial"/>
                </a:rPr>
                <a:t>CO</a:t>
              </a:r>
              <a:r>
                <a:rPr b="0" lang="fr-FR" sz="1800" spc="-1" strike="noStrike" baseline="-25000">
                  <a:solidFill>
                    <a:srgbClr val="990000"/>
                  </a:solidFill>
                  <a:latin typeface="Arial"/>
                </a:rPr>
                <a:t>2</a:t>
              </a:r>
              <a:r>
                <a:rPr b="0" lang="fr-FR" sz="1800" spc="-1" strike="noStrike">
                  <a:solidFill>
                    <a:srgbClr val="990000"/>
                  </a:solidFill>
                  <a:latin typeface="Arial"/>
                </a:rPr>
                <a:t> = (VCO</a:t>
              </a:r>
              <a:r>
                <a:rPr b="0" lang="fr-FR" sz="1800" spc="-1" strike="noStrike" baseline="-25000">
                  <a:solidFill>
                    <a:srgbClr val="990000"/>
                  </a:solidFill>
                  <a:latin typeface="Arial"/>
                </a:rPr>
                <a:t>2 </a:t>
              </a:r>
              <a:r>
                <a:rPr b="0" lang="fr-FR" sz="1800" spc="-1" strike="noStrike">
                  <a:solidFill>
                    <a:srgbClr val="990000"/>
                  </a:solidFill>
                  <a:latin typeface="Arial"/>
                </a:rPr>
                <a:t>/ V</a:t>
              </a:r>
              <a:r>
                <a:rPr b="0" lang="fr-FR" sz="1800" spc="-1" strike="noStrike" baseline="-25000">
                  <a:solidFill>
                    <a:srgbClr val="990000"/>
                  </a:solidFill>
                  <a:latin typeface="Arial"/>
                </a:rPr>
                <a:t>A</a:t>
              </a:r>
              <a:r>
                <a:rPr b="0" lang="fr-FR" sz="1800" spc="-1" strike="noStrike">
                  <a:solidFill>
                    <a:srgbClr val="990000"/>
                  </a:solidFill>
                  <a:latin typeface="Arial"/>
                </a:rPr>
                <a:t>)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86240" y="3637080"/>
              <a:ext cx="22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"/>
                </a:rPr>
                <a:t>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637080" y="3649680"/>
              <a:ext cx="22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"/>
                </a:rPr>
                <a:t>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0520" y="127080"/>
            <a:ext cx="3229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effets à court te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87200" y="695160"/>
            <a:ext cx="63979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onséquences fonctionnel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194360" y="135000"/>
            <a:ext cx="4807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chémosensibilité l’à O</a:t>
            </a:r>
            <a:r>
              <a:rPr b="0" lang="en-GB" sz="24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 et au CO</a:t>
            </a:r>
            <a:r>
              <a:rPr b="0" lang="en-GB" sz="24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0520" y="127080"/>
            <a:ext cx="3229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effets à court te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87200" y="695160"/>
            <a:ext cx="63979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onséquences fonctionnel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194360" y="135000"/>
            <a:ext cx="4807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chémosensibilité l’à O</a:t>
            </a:r>
            <a:r>
              <a:rPr b="0" lang="en-GB" sz="24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 et au CO</a:t>
            </a:r>
            <a:r>
              <a:rPr b="0" lang="en-GB" sz="24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48360" y="5522760"/>
            <a:ext cx="76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variations de la PA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et de la PC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lors d’un séjour en altitude (La Pa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764800" y="48340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96960" y="48340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059000" y="48340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722480" y="48340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384520" y="48340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46560" y="48340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708600" y="48340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090520" y="45910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090520" y="425772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090520" y="392112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90520" y="358632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090520" y="325116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090520" y="29178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90520" y="25830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090520" y="2247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090520" y="19112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090520" y="157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2833560" y="4671720"/>
            <a:ext cx="1800" cy="680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3165480" y="4671720"/>
            <a:ext cx="1440" cy="349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3495600" y="4671720"/>
            <a:ext cx="1800" cy="680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3827520" y="4671720"/>
            <a:ext cx="1440" cy="349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4159080" y="4671720"/>
            <a:ext cx="1800" cy="680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4489560" y="4671720"/>
            <a:ext cx="1440" cy="349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4821120" y="4671720"/>
            <a:ext cx="3240" cy="680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5151600" y="4671720"/>
            <a:ext cx="1440" cy="349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5483160" y="4671720"/>
            <a:ext cx="3240" cy="680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5813280" y="4671720"/>
            <a:ext cx="1800" cy="349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6145200" y="4671720"/>
            <a:ext cx="3240" cy="680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6475320" y="4671720"/>
            <a:ext cx="1800" cy="349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6807240" y="4671720"/>
            <a:ext cx="3240" cy="680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814480" y="4672080"/>
            <a:ext cx="397692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2436840" y="1660320"/>
            <a:ext cx="70920" cy="3012840"/>
            <a:chOff x="2436840" y="1660320"/>
            <a:chExt cx="70920" cy="3012840"/>
          </a:xfrm>
        </p:grpSpPr>
        <p:sp>
          <p:nvSpPr>
            <p:cNvPr id="597" name=""/>
            <p:cNvSpPr/>
            <p:nvPr/>
          </p:nvSpPr>
          <p:spPr>
            <a:xfrm>
              <a:off x="2436840" y="4671360"/>
              <a:ext cx="68760" cy="1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469960" y="4504320"/>
              <a:ext cx="35280" cy="1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436840" y="4337280"/>
              <a:ext cx="68760" cy="1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469960" y="4169880"/>
              <a:ext cx="35280" cy="21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436840" y="4002480"/>
              <a:ext cx="68760" cy="21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469960" y="3835440"/>
              <a:ext cx="35280" cy="1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436840" y="3668400"/>
              <a:ext cx="68760" cy="1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469960" y="3499200"/>
              <a:ext cx="35280" cy="21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36840" y="3332160"/>
              <a:ext cx="68760" cy="1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469960" y="3165120"/>
              <a:ext cx="35280" cy="1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436840" y="2998080"/>
              <a:ext cx="68760" cy="1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469960" y="2830320"/>
              <a:ext cx="35280" cy="21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36840" y="2663280"/>
              <a:ext cx="68760" cy="21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469960" y="2496240"/>
              <a:ext cx="35280" cy="21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436840" y="2329200"/>
              <a:ext cx="68760" cy="1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469960" y="2162160"/>
              <a:ext cx="35280" cy="1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436840" y="1995120"/>
              <a:ext cx="68760" cy="1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469960" y="1827720"/>
              <a:ext cx="35280" cy="21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436840" y="1660680"/>
              <a:ext cx="68760" cy="21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2505600" y="1660320"/>
              <a:ext cx="2160" cy="301068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 flipV="1">
            <a:off x="2833560" y="2797200"/>
            <a:ext cx="165240" cy="6840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2998800" y="2262240"/>
            <a:ext cx="1214280" cy="53496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213080" y="2262240"/>
            <a:ext cx="1270080" cy="324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5483160" y="2162160"/>
            <a:ext cx="1324080" cy="10008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765520" y="2795760"/>
            <a:ext cx="137880" cy="137880"/>
          </a:xfrm>
          <a:prstGeom prst="ellipse">
            <a:avLst/>
          </a:prstGeom>
          <a:gradFill rotWithShape="0">
            <a:gsLst>
              <a:gs pos="0">
                <a:srgbClr val="b5b5d2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930400" y="2728800"/>
            <a:ext cx="138240" cy="138240"/>
          </a:xfrm>
          <a:prstGeom prst="ellipse">
            <a:avLst/>
          </a:prstGeom>
          <a:gradFill rotWithShape="0">
            <a:gsLst>
              <a:gs pos="0">
                <a:srgbClr val="b5b5d2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45040" y="2192400"/>
            <a:ext cx="137880" cy="137880"/>
          </a:xfrm>
          <a:prstGeom prst="ellipse">
            <a:avLst/>
          </a:prstGeom>
          <a:gradFill rotWithShape="0">
            <a:gsLst>
              <a:gs pos="0">
                <a:srgbClr val="b5b5d2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413320" y="2192400"/>
            <a:ext cx="138240" cy="137880"/>
          </a:xfrm>
          <a:prstGeom prst="ellipse">
            <a:avLst/>
          </a:prstGeom>
          <a:gradFill rotWithShape="0">
            <a:gsLst>
              <a:gs pos="0">
                <a:srgbClr val="b5b5d2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38840" y="2093760"/>
            <a:ext cx="136800" cy="136800"/>
          </a:xfrm>
          <a:prstGeom prst="ellipse">
            <a:avLst/>
          </a:prstGeom>
          <a:gradFill rotWithShape="0">
            <a:gsLst>
              <a:gs pos="0">
                <a:srgbClr val="b5b5d2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4068720"/>
            <a:ext cx="165240" cy="16848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998800" y="4237200"/>
            <a:ext cx="1214280" cy="16812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213080" y="4405320"/>
            <a:ext cx="1270080" cy="6660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483160" y="4471920"/>
            <a:ext cx="1324080" cy="180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771640" y="4006800"/>
            <a:ext cx="125640" cy="12708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path path="rect">
              <a:fillToRect l="50000" t="50000" r="50000" b="50000"/>
            </a:path>
          </a:gradFill>
          <a:ln w="144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936880" y="4175280"/>
            <a:ext cx="125280" cy="12528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path path="rect">
              <a:fillToRect l="50000" t="50000" r="50000" b="50000"/>
            </a:path>
          </a:gradFill>
          <a:ln w="144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51160" y="4341960"/>
            <a:ext cx="125640" cy="12528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path path="rect">
              <a:fillToRect l="50000" t="50000" r="50000" b="50000"/>
            </a:path>
          </a:gradFill>
          <a:ln w="144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419800" y="4410000"/>
            <a:ext cx="125280" cy="1256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path path="rect">
              <a:fillToRect l="50000" t="50000" r="50000" b="50000"/>
            </a:path>
          </a:gradFill>
          <a:ln w="144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745320" y="4410000"/>
            <a:ext cx="127080" cy="1256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path path="rect">
              <a:fillToRect l="50000" t="50000" r="50000" b="50000"/>
            </a:path>
          </a:gradFill>
          <a:ln w="144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66920" y="5138640"/>
            <a:ext cx="16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temps (heu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583920" y="2819880"/>
            <a:ext cx="219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PAO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Verdana"/>
                <a:ea typeface="Arial"/>
              </a:rPr>
              <a:t>2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, PACO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Verdana"/>
                <a:ea typeface="Arial"/>
              </a:rPr>
              <a:t>2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 (mmH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892480" y="1573200"/>
            <a:ext cx="65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  <a:ea typeface="Arial"/>
              </a:rPr>
              <a:t>PAO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Verdana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919840" y="3808440"/>
            <a:ext cx="78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66cc"/>
                </a:solidFill>
                <a:latin typeface="Verdana"/>
                <a:ea typeface="Arial"/>
              </a:rPr>
              <a:t>PACO</a:t>
            </a:r>
            <a:r>
              <a:rPr b="0" lang="fr-FR" sz="1600" spc="-1" strike="noStrike" baseline="-25000">
                <a:solidFill>
                  <a:srgbClr val="0066cc"/>
                </a:solidFill>
                <a:latin typeface="Verdana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577800" y="810720"/>
            <a:ext cx="786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Verdana"/>
                <a:ea typeface="Arial"/>
              </a:rPr>
              <a:t>courbe de saturation de l’hémoglobine au niveau de la mer et à La Pa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745640" y="44434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Verdan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179440" y="44434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657160" y="44434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Verdan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133440" y="44434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611160" y="44434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Verdan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087440" y="44434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Verdana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565160" y="44434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41440" y="44434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Verdan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516280" y="44434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Verdana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995800" y="44434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Verdana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426000" y="444348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Verdan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472760" y="425124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Verdan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382400" y="39546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382400" y="365616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Verdan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382400" y="33606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382400" y="306396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Verdan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382400" y="276876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Verdana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382400" y="247176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382400" y="217476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Verdan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382400" y="187956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Verdana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382400" y="158436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Verdana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90240" y="128412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Verdan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1789200" y="4354560"/>
            <a:ext cx="3240" cy="6336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2027160" y="4354560"/>
            <a:ext cx="1800" cy="331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2266920" y="4354560"/>
            <a:ext cx="1440" cy="6336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2505240" y="4354560"/>
            <a:ext cx="1440" cy="331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2743200" y="4354560"/>
            <a:ext cx="3240" cy="6336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981160" y="4354560"/>
            <a:ext cx="1800" cy="331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3220920" y="4354560"/>
            <a:ext cx="1800" cy="6336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3457440" y="4354560"/>
            <a:ext cx="3240" cy="331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3697200" y="4354560"/>
            <a:ext cx="3240" cy="6336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3935520" y="4354560"/>
            <a:ext cx="1440" cy="331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4175280" y="4354560"/>
            <a:ext cx="1440" cy="6336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4411800" y="4354560"/>
            <a:ext cx="2880" cy="331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4649760" y="4354560"/>
            <a:ext cx="1440" cy="6336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4889520" y="4354560"/>
            <a:ext cx="1440" cy="331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5126040" y="4354560"/>
            <a:ext cx="3240" cy="6336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5365800" y="4354560"/>
            <a:ext cx="1440" cy="331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5603760" y="4354560"/>
            <a:ext cx="1800" cy="6336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5843520" y="4354560"/>
            <a:ext cx="1800" cy="331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6080040" y="4354560"/>
            <a:ext cx="1800" cy="6336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6319800" y="4354560"/>
            <a:ext cx="1800" cy="331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6558120" y="4354560"/>
            <a:ext cx="1440" cy="6336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789200" y="4354560"/>
            <a:ext cx="481644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724040" y="4354560"/>
            <a:ext cx="6516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757520" y="4205160"/>
            <a:ext cx="31680" cy="32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724040" y="4057560"/>
            <a:ext cx="6516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757520" y="3909960"/>
            <a:ext cx="31680" cy="32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724040" y="3759120"/>
            <a:ext cx="65160" cy="32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757520" y="3611520"/>
            <a:ext cx="3168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724040" y="3463920"/>
            <a:ext cx="65160" cy="32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757520" y="3316320"/>
            <a:ext cx="3168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724040" y="3166920"/>
            <a:ext cx="6516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757520" y="3021120"/>
            <a:ext cx="3168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724040" y="2871720"/>
            <a:ext cx="6516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757520" y="2724120"/>
            <a:ext cx="3168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724040" y="2575080"/>
            <a:ext cx="6516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757520" y="2425680"/>
            <a:ext cx="31680" cy="32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724040" y="2278080"/>
            <a:ext cx="6516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757520" y="2130480"/>
            <a:ext cx="31680" cy="32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724040" y="1982880"/>
            <a:ext cx="6516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757520" y="1833480"/>
            <a:ext cx="3168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724040" y="1687680"/>
            <a:ext cx="6516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757520" y="1538280"/>
            <a:ext cx="3168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724040" y="1387440"/>
            <a:ext cx="6516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1789200" y="1358640"/>
            <a:ext cx="3240" cy="299556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787400" y="4352760"/>
            <a:ext cx="5040" cy="324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787400" y="4352760"/>
            <a:ext cx="5040" cy="3240"/>
          </a:xfrm>
          <a:prstGeom prst="ellipse">
            <a:avLst/>
          </a:pr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55800" y="1455840"/>
            <a:ext cx="4702320" cy="2898720"/>
          </a:xfrm>
          <a:custGeom>
            <a:avLst/>
            <a:gdLst/>
            <a:ahLst/>
            <a:rect l="l" t="t" r="r" b="b"/>
            <a:pathLst>
              <a:path w="4555" h="2808">
                <a:moveTo>
                  <a:pt x="0" y="2808"/>
                </a:moveTo>
                <a:lnTo>
                  <a:pt x="15" y="2795"/>
                </a:lnTo>
                <a:lnTo>
                  <a:pt x="93" y="2726"/>
                </a:lnTo>
                <a:lnTo>
                  <a:pt x="172" y="2651"/>
                </a:lnTo>
                <a:lnTo>
                  <a:pt x="250" y="2571"/>
                </a:lnTo>
                <a:lnTo>
                  <a:pt x="328" y="2487"/>
                </a:lnTo>
                <a:lnTo>
                  <a:pt x="406" y="2398"/>
                </a:lnTo>
                <a:lnTo>
                  <a:pt x="484" y="2305"/>
                </a:lnTo>
                <a:lnTo>
                  <a:pt x="563" y="2208"/>
                </a:lnTo>
                <a:lnTo>
                  <a:pt x="641" y="2109"/>
                </a:lnTo>
                <a:lnTo>
                  <a:pt x="719" y="2007"/>
                </a:lnTo>
                <a:lnTo>
                  <a:pt x="797" y="1903"/>
                </a:lnTo>
                <a:lnTo>
                  <a:pt x="875" y="1797"/>
                </a:lnTo>
                <a:lnTo>
                  <a:pt x="954" y="1690"/>
                </a:lnTo>
                <a:lnTo>
                  <a:pt x="1034" y="1586"/>
                </a:lnTo>
                <a:lnTo>
                  <a:pt x="1112" y="1480"/>
                </a:lnTo>
                <a:lnTo>
                  <a:pt x="1190" y="1378"/>
                </a:lnTo>
                <a:lnTo>
                  <a:pt x="1268" y="1279"/>
                </a:lnTo>
                <a:lnTo>
                  <a:pt x="1347" y="1180"/>
                </a:lnTo>
                <a:lnTo>
                  <a:pt x="1425" y="1087"/>
                </a:lnTo>
                <a:lnTo>
                  <a:pt x="1503" y="998"/>
                </a:lnTo>
                <a:lnTo>
                  <a:pt x="1581" y="914"/>
                </a:lnTo>
                <a:lnTo>
                  <a:pt x="1659" y="834"/>
                </a:lnTo>
                <a:lnTo>
                  <a:pt x="1738" y="758"/>
                </a:lnTo>
                <a:lnTo>
                  <a:pt x="1816" y="687"/>
                </a:lnTo>
                <a:lnTo>
                  <a:pt x="1894" y="622"/>
                </a:lnTo>
                <a:lnTo>
                  <a:pt x="1972" y="562"/>
                </a:lnTo>
                <a:lnTo>
                  <a:pt x="2051" y="506"/>
                </a:lnTo>
                <a:lnTo>
                  <a:pt x="2129" y="454"/>
                </a:lnTo>
                <a:lnTo>
                  <a:pt x="2207" y="408"/>
                </a:lnTo>
                <a:lnTo>
                  <a:pt x="2285" y="365"/>
                </a:lnTo>
                <a:lnTo>
                  <a:pt x="2363" y="326"/>
                </a:lnTo>
                <a:lnTo>
                  <a:pt x="2442" y="290"/>
                </a:lnTo>
                <a:lnTo>
                  <a:pt x="2520" y="259"/>
                </a:lnTo>
                <a:lnTo>
                  <a:pt x="2598" y="231"/>
                </a:lnTo>
                <a:lnTo>
                  <a:pt x="2676" y="205"/>
                </a:lnTo>
                <a:lnTo>
                  <a:pt x="2754" y="180"/>
                </a:lnTo>
                <a:lnTo>
                  <a:pt x="2833" y="160"/>
                </a:lnTo>
                <a:lnTo>
                  <a:pt x="2911" y="141"/>
                </a:lnTo>
                <a:lnTo>
                  <a:pt x="2989" y="125"/>
                </a:lnTo>
                <a:lnTo>
                  <a:pt x="3067" y="110"/>
                </a:lnTo>
                <a:lnTo>
                  <a:pt x="3147" y="95"/>
                </a:lnTo>
                <a:lnTo>
                  <a:pt x="3226" y="84"/>
                </a:lnTo>
                <a:lnTo>
                  <a:pt x="3304" y="72"/>
                </a:lnTo>
                <a:lnTo>
                  <a:pt x="3382" y="63"/>
                </a:lnTo>
                <a:lnTo>
                  <a:pt x="3460" y="56"/>
                </a:lnTo>
                <a:lnTo>
                  <a:pt x="3538" y="46"/>
                </a:lnTo>
                <a:lnTo>
                  <a:pt x="3617" y="41"/>
                </a:lnTo>
                <a:lnTo>
                  <a:pt x="3695" y="35"/>
                </a:lnTo>
                <a:lnTo>
                  <a:pt x="3773" y="30"/>
                </a:lnTo>
                <a:lnTo>
                  <a:pt x="3851" y="24"/>
                </a:lnTo>
                <a:lnTo>
                  <a:pt x="3929" y="20"/>
                </a:lnTo>
                <a:lnTo>
                  <a:pt x="4008" y="17"/>
                </a:lnTo>
                <a:lnTo>
                  <a:pt x="4086" y="13"/>
                </a:lnTo>
                <a:lnTo>
                  <a:pt x="4164" y="11"/>
                </a:lnTo>
                <a:lnTo>
                  <a:pt x="4242" y="7"/>
                </a:lnTo>
                <a:lnTo>
                  <a:pt x="4321" y="5"/>
                </a:lnTo>
                <a:lnTo>
                  <a:pt x="4399" y="4"/>
                </a:lnTo>
                <a:lnTo>
                  <a:pt x="4477" y="2"/>
                </a:lnTo>
                <a:lnTo>
                  <a:pt x="4555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887480" y="1463760"/>
            <a:ext cx="4670640" cy="2890800"/>
          </a:xfrm>
          <a:custGeom>
            <a:avLst/>
            <a:gdLst/>
            <a:ahLst/>
            <a:rect l="l" t="t" r="r" b="b"/>
            <a:pathLst>
              <a:path w="4523" h="2801">
                <a:moveTo>
                  <a:pt x="0" y="2801"/>
                </a:moveTo>
                <a:lnTo>
                  <a:pt x="61" y="2750"/>
                </a:lnTo>
                <a:lnTo>
                  <a:pt x="140" y="2681"/>
                </a:lnTo>
                <a:lnTo>
                  <a:pt x="218" y="2609"/>
                </a:lnTo>
                <a:lnTo>
                  <a:pt x="296" y="2534"/>
                </a:lnTo>
                <a:lnTo>
                  <a:pt x="374" y="2454"/>
                </a:lnTo>
                <a:lnTo>
                  <a:pt x="452" y="2370"/>
                </a:lnTo>
                <a:lnTo>
                  <a:pt x="531" y="2283"/>
                </a:lnTo>
                <a:lnTo>
                  <a:pt x="609" y="2194"/>
                </a:lnTo>
                <a:lnTo>
                  <a:pt x="687" y="2101"/>
                </a:lnTo>
                <a:lnTo>
                  <a:pt x="765" y="2006"/>
                </a:lnTo>
                <a:lnTo>
                  <a:pt x="843" y="1911"/>
                </a:lnTo>
                <a:lnTo>
                  <a:pt x="922" y="1814"/>
                </a:lnTo>
                <a:lnTo>
                  <a:pt x="1002" y="1715"/>
                </a:lnTo>
                <a:lnTo>
                  <a:pt x="1080" y="1618"/>
                </a:lnTo>
                <a:lnTo>
                  <a:pt x="1158" y="1521"/>
                </a:lnTo>
                <a:lnTo>
                  <a:pt x="1236" y="1426"/>
                </a:lnTo>
                <a:lnTo>
                  <a:pt x="1315" y="1333"/>
                </a:lnTo>
                <a:lnTo>
                  <a:pt x="1393" y="1242"/>
                </a:lnTo>
                <a:lnTo>
                  <a:pt x="1471" y="1155"/>
                </a:lnTo>
                <a:lnTo>
                  <a:pt x="1549" y="1069"/>
                </a:lnTo>
                <a:lnTo>
                  <a:pt x="1627" y="987"/>
                </a:lnTo>
                <a:lnTo>
                  <a:pt x="1706" y="909"/>
                </a:lnTo>
                <a:lnTo>
                  <a:pt x="1784" y="836"/>
                </a:lnTo>
                <a:lnTo>
                  <a:pt x="1862" y="766"/>
                </a:lnTo>
                <a:lnTo>
                  <a:pt x="1940" y="700"/>
                </a:lnTo>
                <a:lnTo>
                  <a:pt x="2019" y="639"/>
                </a:lnTo>
                <a:lnTo>
                  <a:pt x="2097" y="581"/>
                </a:lnTo>
                <a:lnTo>
                  <a:pt x="2175" y="527"/>
                </a:lnTo>
                <a:lnTo>
                  <a:pt x="2253" y="479"/>
                </a:lnTo>
                <a:lnTo>
                  <a:pt x="2331" y="432"/>
                </a:lnTo>
                <a:lnTo>
                  <a:pt x="2410" y="391"/>
                </a:lnTo>
                <a:lnTo>
                  <a:pt x="2488" y="352"/>
                </a:lnTo>
                <a:lnTo>
                  <a:pt x="2566" y="317"/>
                </a:lnTo>
                <a:lnTo>
                  <a:pt x="2644" y="283"/>
                </a:lnTo>
                <a:lnTo>
                  <a:pt x="2722" y="253"/>
                </a:lnTo>
                <a:lnTo>
                  <a:pt x="2801" y="227"/>
                </a:lnTo>
                <a:lnTo>
                  <a:pt x="2879" y="203"/>
                </a:lnTo>
                <a:lnTo>
                  <a:pt x="2957" y="181"/>
                </a:lnTo>
                <a:lnTo>
                  <a:pt x="3035" y="160"/>
                </a:lnTo>
                <a:lnTo>
                  <a:pt x="3115" y="142"/>
                </a:lnTo>
                <a:lnTo>
                  <a:pt x="3194" y="125"/>
                </a:lnTo>
                <a:lnTo>
                  <a:pt x="3272" y="110"/>
                </a:lnTo>
                <a:lnTo>
                  <a:pt x="3350" y="97"/>
                </a:lnTo>
                <a:lnTo>
                  <a:pt x="3428" y="84"/>
                </a:lnTo>
                <a:lnTo>
                  <a:pt x="3506" y="73"/>
                </a:lnTo>
                <a:lnTo>
                  <a:pt x="3585" y="64"/>
                </a:lnTo>
                <a:lnTo>
                  <a:pt x="3663" y="54"/>
                </a:lnTo>
                <a:lnTo>
                  <a:pt x="3741" y="47"/>
                </a:lnTo>
                <a:lnTo>
                  <a:pt x="3819" y="39"/>
                </a:lnTo>
                <a:lnTo>
                  <a:pt x="3897" y="34"/>
                </a:lnTo>
                <a:lnTo>
                  <a:pt x="3976" y="26"/>
                </a:lnTo>
                <a:lnTo>
                  <a:pt x="4054" y="23"/>
                </a:lnTo>
                <a:lnTo>
                  <a:pt x="4132" y="17"/>
                </a:lnTo>
                <a:lnTo>
                  <a:pt x="4210" y="13"/>
                </a:lnTo>
                <a:lnTo>
                  <a:pt x="4289" y="10"/>
                </a:lnTo>
                <a:lnTo>
                  <a:pt x="4367" y="6"/>
                </a:lnTo>
                <a:lnTo>
                  <a:pt x="4445" y="2"/>
                </a:lnTo>
                <a:lnTo>
                  <a:pt x="4523" y="0"/>
                </a:lnTo>
              </a:path>
            </a:pathLst>
          </a:custGeom>
          <a:noFill/>
          <a:ln w="19080">
            <a:solidFill>
              <a:srgbClr val="000066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543480" y="4726080"/>
            <a:ext cx="15811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PaO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Verdana"/>
              </a:rPr>
              <a:t>2 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(mm H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rot="16200000">
            <a:off x="226080" y="2401920"/>
            <a:ext cx="1662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Verdana"/>
              </a:rPr>
              <a:t>% saturation O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7840" y="5129280"/>
            <a:ext cx="86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1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er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temps : déplacement de la courbe de dissociation vers la gauche : effet Bo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e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temps : déplacement de la courbe de dissociation vers la droite (2,3 DP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423520" y="2368440"/>
            <a:ext cx="53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  <a:ea typeface="Arial"/>
              </a:rPr>
              <a:t>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776400" y="236844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  <a:ea typeface="Arial"/>
              </a:rPr>
              <a:t>360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81400" y="135000"/>
            <a:ext cx="43959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urbe de dissociation de l’O</a:t>
            </a:r>
            <a:r>
              <a:rPr b="0" lang="fr-FR" sz="24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0520" y="127080"/>
            <a:ext cx="3229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effets à court te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648320" y="1674360"/>
            <a:ext cx="0" cy="2605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700920" y="5497560"/>
            <a:ext cx="78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ltitude → hypoxie alvéolaire → vasoconstriction hypoxique généralis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hypertension artérielle pulmo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867320" y="4756320"/>
            <a:ext cx="23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50     100     150      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97160" y="5045040"/>
            <a:ext cx="1503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PO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 alvéo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rot="16200000">
            <a:off x="-609480" y="3287160"/>
            <a:ext cx="26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débit sanguin (% contrô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rot="16200000">
            <a:off x="1685160" y="4382280"/>
            <a:ext cx="92160" cy="690480"/>
          </a:xfrm>
          <a:custGeom>
            <a:avLst/>
            <a:gdLst/>
            <a:ahLst/>
            <a:rect l="l" t="t" r="r" b="b"/>
            <a:pathLst>
              <a:path w="128" h="1088">
                <a:moveTo>
                  <a:pt x="8" y="0"/>
                </a:moveTo>
                <a:lnTo>
                  <a:pt x="128" y="0"/>
                </a:lnTo>
                <a:lnTo>
                  <a:pt x="128" y="1088"/>
                </a:lnTo>
                <a:lnTo>
                  <a:pt x="0" y="108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076480" y="4678200"/>
            <a:ext cx="685800" cy="10008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774880" y="4683240"/>
            <a:ext cx="685800" cy="9972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468600" y="4683240"/>
            <a:ext cx="685800" cy="9972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987840" y="4511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295280" y="2489040"/>
            <a:ext cx="92160" cy="549360"/>
          </a:xfrm>
          <a:custGeom>
            <a:avLst/>
            <a:gdLst/>
            <a:ahLst/>
            <a:rect l="l" t="t" r="r" b="b"/>
            <a:pathLst>
              <a:path w="128" h="1088">
                <a:moveTo>
                  <a:pt x="8" y="0"/>
                </a:moveTo>
                <a:lnTo>
                  <a:pt x="128" y="0"/>
                </a:lnTo>
                <a:lnTo>
                  <a:pt x="128" y="1088"/>
                </a:lnTo>
                <a:lnTo>
                  <a:pt x="0" y="108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rot="5400000">
            <a:off x="1068480" y="3260520"/>
            <a:ext cx="542880" cy="9864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rot="5400000">
            <a:off x="1062720" y="3813840"/>
            <a:ext cx="542880" cy="10008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rot="5400000">
            <a:off x="1061640" y="4363920"/>
            <a:ext cx="544680" cy="10008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889200" y="39718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86320" y="34020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892440" y="28623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92440" y="23241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87680" y="176544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92400" y="1944720"/>
            <a:ext cx="91800" cy="547560"/>
          </a:xfrm>
          <a:custGeom>
            <a:avLst/>
            <a:gdLst/>
            <a:ahLst/>
            <a:rect l="l" t="t" r="r" b="b"/>
            <a:pathLst>
              <a:path w="128" h="1088">
                <a:moveTo>
                  <a:pt x="8" y="0"/>
                </a:moveTo>
                <a:lnTo>
                  <a:pt x="128" y="0"/>
                </a:lnTo>
                <a:lnTo>
                  <a:pt x="128" y="1088"/>
                </a:lnTo>
                <a:lnTo>
                  <a:pt x="0" y="108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76560" y="3220920"/>
            <a:ext cx="98280" cy="9864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717640" y="2413080"/>
            <a:ext cx="98640" cy="9828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411360" y="2114640"/>
            <a:ext cx="98640" cy="10008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673280" y="3838680"/>
            <a:ext cx="100080" cy="10008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105440" y="1944720"/>
            <a:ext cx="98280" cy="10008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768840" y="2016000"/>
            <a:ext cx="99720" cy="9864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82840" y="2739960"/>
            <a:ext cx="98280" cy="10008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060720" y="2252520"/>
            <a:ext cx="98280" cy="9864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717560" y="1990800"/>
            <a:ext cx="2446560" cy="1898640"/>
          </a:xfrm>
          <a:custGeom>
            <a:avLst/>
            <a:gdLst/>
            <a:ahLst/>
            <a:rect l="l" t="t" r="r" b="b"/>
            <a:pathLst>
              <a:path w="1926" h="1494">
                <a:moveTo>
                  <a:pt x="0" y="1494"/>
                </a:moveTo>
                <a:cubicBezTo>
                  <a:pt x="157" y="1317"/>
                  <a:pt x="314" y="1141"/>
                  <a:pt x="408" y="996"/>
                </a:cubicBezTo>
                <a:cubicBezTo>
                  <a:pt x="502" y="851"/>
                  <a:pt x="493" y="729"/>
                  <a:pt x="564" y="624"/>
                </a:cubicBezTo>
                <a:cubicBezTo>
                  <a:pt x="635" y="519"/>
                  <a:pt x="745" y="431"/>
                  <a:pt x="834" y="366"/>
                </a:cubicBezTo>
                <a:cubicBezTo>
                  <a:pt x="923" y="301"/>
                  <a:pt x="1007" y="273"/>
                  <a:pt x="1098" y="234"/>
                </a:cubicBezTo>
                <a:cubicBezTo>
                  <a:pt x="1189" y="195"/>
                  <a:pt x="1283" y="164"/>
                  <a:pt x="1380" y="132"/>
                </a:cubicBezTo>
                <a:cubicBezTo>
                  <a:pt x="1477" y="100"/>
                  <a:pt x="1589" y="64"/>
                  <a:pt x="1680" y="42"/>
                </a:cubicBezTo>
                <a:cubicBezTo>
                  <a:pt x="1771" y="20"/>
                  <a:pt x="1848" y="10"/>
                  <a:pt x="1926" y="0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015880" y="1852560"/>
            <a:ext cx="3539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mécanisme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cap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orps neuroépithéliaux (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résents dans les voies aérien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sensibles à l’hypox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libération de séroton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muscle lisse vasculaire (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effec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muscle lisse vas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235880" y="140796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la vasoconstriction hypox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617080" y="135000"/>
            <a:ext cx="34221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irculation pulmo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0520" y="127080"/>
            <a:ext cx="3229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effets à court te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3040" y="1123920"/>
            <a:ext cx="249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omposition gazeuse de l’air sec en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77840" y="1725480"/>
          <a:ext cx="2511360" cy="1611360"/>
        </p:xfrm>
        <a:graphic>
          <a:graphicData uri="http://schemas.openxmlformats.org/drawingml/2006/table">
            <a:tbl>
              <a:tblPr/>
              <a:tblGrid>
                <a:gridCol w="1579680"/>
                <a:gridCol w="931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compos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O</a:t>
                      </a:r>
                      <a:r>
                        <a:rPr b="0" lang="en-GB" sz="1600" spc="-1" strike="noStrike" baseline="-25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0,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CO</a:t>
                      </a:r>
                      <a:r>
                        <a:rPr b="0" lang="en-GB" sz="1600" spc="-1" strike="noStrike" baseline="-25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N</a:t>
                      </a:r>
                      <a:r>
                        <a:rPr b="0" lang="en-GB" sz="1600" spc="-1" strike="noStrike" baseline="-25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78,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Arg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0,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187200" y="695160"/>
            <a:ext cx="5191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onnées géné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5400" y="127080"/>
            <a:ext cx="4573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effets physiques de l’alt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99840" y="135000"/>
            <a:ext cx="2983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mposition de l’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55960" y="1141560"/>
            <a:ext cx="50864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ression partielle en vapeur d’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960640" y="1727280"/>
          <a:ext cx="5992920" cy="1004760"/>
        </p:xfrm>
        <a:graphic>
          <a:graphicData uri="http://schemas.openxmlformats.org/drawingml/2006/table">
            <a:tbl>
              <a:tblPr/>
              <a:tblGrid>
                <a:gridCol w="1954440"/>
                <a:gridCol w="40384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empér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ession de vapeur satura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0°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4,6 mmH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37°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47 mmH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203040" y="3513240"/>
            <a:ext cx="840132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ans un poumon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ression  de vapeur d’eau = pression de vapeur saturante = 47 mmH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ression de l’air sec = pression atmosphérique - pression de vapeur saturante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ression atmosphérique au niveau de la mer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760 mm Hg (101,3 kP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ression de l’air sec: 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760 – 47 = 713 mmH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’air sec : 21% d’oxygè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I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(pression partielle en 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dans l’air inhalé) = 150 mmH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363600" y="1411200"/>
            <a:ext cx="82170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rebuchet MS"/>
              </a:rPr>
              <a:t>pathologies aiguës liées à l’altitude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115280" y="1878120"/>
            <a:ext cx="5692680" cy="25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al aigü des montagne (MAM) bén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edème localisé de haute altitude (OLH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al aigü des montagnes compliqué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edème pulmonaire de haute altitude (OPH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edème cérébral de haute latitude (OCH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844640" y="4595760"/>
            <a:ext cx="46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étiologie de l’OP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422360" y="3492360"/>
            <a:ext cx="5397480" cy="44460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588280" y="135000"/>
            <a:ext cx="2895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athologies aigü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0520" y="127080"/>
            <a:ext cx="3229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effets à court te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87200" y="695160"/>
            <a:ext cx="63979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« mal des montagnes 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812880" y="1150920"/>
            <a:ext cx="76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vasocontriction hypoxique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VCH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→ augmentation de 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→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assage du liquide sanguin à travers la paroi endothéliale lésée dans les alvéoles pulmonai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588280" y="135000"/>
            <a:ext cx="2895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athologies aigü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0520" y="127080"/>
            <a:ext cx="3229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effets à court te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87200" y="695160"/>
            <a:ext cx="63979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étiologie de l’OPH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812880" y="3500280"/>
            <a:ext cx="76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rétention hydr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’altitude → augmentation du volume sanguin total, lié à une diminution de la diurèse et une vasocontriction périphérique liée au froi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→ 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ugmentation du volume circulant intra-pulmonaire →  passage du liquide hors des vaisseaux sangui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393840" y="1989000"/>
            <a:ext cx="7600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lésion de la membrane alvéolo-capil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ltitude → modifications de la paroi alvéolo-capillai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u niveau de l’endothélium et de l’épithélium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es lésions endothéliales : effet direct de l’hypox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t/ou action de médiateurs de l’inflam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es lésions épithéliales : hypoxie →  modification des propriétés de réabsorption d’eau de l’espace alvéolaire vers le milieu interstiti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éabsorption d’eau : activité de la pompe Na-K-ATPase au pôle basal des pneumocytes de type 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ctivité de la pompe Na-K-ATPase diminuée par l’hypox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588280" y="135000"/>
            <a:ext cx="2895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athologies aigü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0520" y="127080"/>
            <a:ext cx="3229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effets à court te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87200" y="695160"/>
            <a:ext cx="63979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étiologie de l’OPH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"/>
          <a:stretch/>
        </p:blipFill>
        <p:spPr>
          <a:xfrm>
            <a:off x="6780240" y="976320"/>
            <a:ext cx="2098800" cy="29923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415800" y="792000"/>
            <a:ext cx="602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effet à moyen et long terme : 2-3 jours à 3-4 semai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038240" y="5586480"/>
            <a:ext cx="676260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rebuchet MS"/>
              </a:rPr>
              <a:t>stabilisation de l’hyper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rebuchet MS"/>
              </a:rPr>
              <a:t>stabilisation du p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(modulation de l’élimination des bicarbona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764800" y="48340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396960" y="48340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059000" y="48340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722480" y="48340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384520" y="48340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046560" y="48340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708600" y="48340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090520" y="45910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090520" y="425772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090520" y="392112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090520" y="358632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090520" y="325116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090520" y="29178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090520" y="25830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090520" y="2247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090520" y="19112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090520" y="157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2833560" y="4671720"/>
            <a:ext cx="1800" cy="680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3165480" y="4671720"/>
            <a:ext cx="1440" cy="349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3495600" y="4671720"/>
            <a:ext cx="1800" cy="680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3827520" y="4671720"/>
            <a:ext cx="1440" cy="349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4159080" y="4671720"/>
            <a:ext cx="1800" cy="680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4489560" y="4671720"/>
            <a:ext cx="1440" cy="349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4821120" y="4671720"/>
            <a:ext cx="3240" cy="680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5151600" y="4671720"/>
            <a:ext cx="1440" cy="349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5483160" y="4671720"/>
            <a:ext cx="3240" cy="680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5813280" y="4671720"/>
            <a:ext cx="1800" cy="349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6145200" y="4671720"/>
            <a:ext cx="3240" cy="680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6475320" y="4671720"/>
            <a:ext cx="1800" cy="349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6807240" y="4671720"/>
            <a:ext cx="3240" cy="680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814480" y="4672080"/>
            <a:ext cx="397692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2436840" y="1660320"/>
            <a:ext cx="70920" cy="3012840"/>
            <a:chOff x="2436840" y="1660320"/>
            <a:chExt cx="70920" cy="3012840"/>
          </a:xfrm>
        </p:grpSpPr>
        <p:sp>
          <p:nvSpPr>
            <p:cNvPr id="806" name=""/>
            <p:cNvSpPr/>
            <p:nvPr/>
          </p:nvSpPr>
          <p:spPr>
            <a:xfrm>
              <a:off x="2436840" y="4671360"/>
              <a:ext cx="68760" cy="1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469960" y="4504320"/>
              <a:ext cx="35280" cy="1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436840" y="4337280"/>
              <a:ext cx="68760" cy="1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469960" y="4169880"/>
              <a:ext cx="35280" cy="21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436840" y="4002480"/>
              <a:ext cx="68760" cy="21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469960" y="3835440"/>
              <a:ext cx="35280" cy="1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436840" y="3668400"/>
              <a:ext cx="68760" cy="1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469960" y="3499200"/>
              <a:ext cx="35280" cy="21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436840" y="3332160"/>
              <a:ext cx="68760" cy="1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469960" y="3165120"/>
              <a:ext cx="35280" cy="1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436840" y="2998080"/>
              <a:ext cx="68760" cy="1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469960" y="2830320"/>
              <a:ext cx="35280" cy="21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436840" y="2663280"/>
              <a:ext cx="68760" cy="21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469960" y="2496240"/>
              <a:ext cx="35280" cy="21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436840" y="2329200"/>
              <a:ext cx="68760" cy="1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469960" y="2162160"/>
              <a:ext cx="35280" cy="1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436840" y="1995120"/>
              <a:ext cx="68760" cy="1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469960" y="1827720"/>
              <a:ext cx="35280" cy="21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436840" y="1660680"/>
              <a:ext cx="68760" cy="21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2505600" y="1660320"/>
              <a:ext cx="2160" cy="301068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 flipV="1">
            <a:off x="2833560" y="2797200"/>
            <a:ext cx="165240" cy="6840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998800" y="2262240"/>
            <a:ext cx="1214280" cy="53496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213080" y="2262240"/>
            <a:ext cx="1270080" cy="324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5483160" y="2162160"/>
            <a:ext cx="1324080" cy="10008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765520" y="2795760"/>
            <a:ext cx="137880" cy="137880"/>
          </a:xfrm>
          <a:prstGeom prst="ellipse">
            <a:avLst/>
          </a:prstGeom>
          <a:gradFill rotWithShape="0">
            <a:gsLst>
              <a:gs pos="0">
                <a:srgbClr val="b5b5d2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930400" y="2728800"/>
            <a:ext cx="138240" cy="138240"/>
          </a:xfrm>
          <a:prstGeom prst="ellipse">
            <a:avLst/>
          </a:prstGeom>
          <a:gradFill rotWithShape="0">
            <a:gsLst>
              <a:gs pos="0">
                <a:srgbClr val="b5b5d2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145040" y="2192400"/>
            <a:ext cx="137880" cy="137880"/>
          </a:xfrm>
          <a:prstGeom prst="ellipse">
            <a:avLst/>
          </a:prstGeom>
          <a:gradFill rotWithShape="0">
            <a:gsLst>
              <a:gs pos="0">
                <a:srgbClr val="b5b5d2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413320" y="2192400"/>
            <a:ext cx="138240" cy="137880"/>
          </a:xfrm>
          <a:prstGeom prst="ellipse">
            <a:avLst/>
          </a:prstGeom>
          <a:gradFill rotWithShape="0">
            <a:gsLst>
              <a:gs pos="0">
                <a:srgbClr val="b5b5d2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738840" y="2093760"/>
            <a:ext cx="136800" cy="136800"/>
          </a:xfrm>
          <a:prstGeom prst="ellipse">
            <a:avLst/>
          </a:prstGeom>
          <a:gradFill rotWithShape="0">
            <a:gsLst>
              <a:gs pos="0">
                <a:srgbClr val="b5b5d2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833560" y="4068720"/>
            <a:ext cx="165240" cy="16848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998800" y="4237200"/>
            <a:ext cx="1214280" cy="16812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213080" y="4405320"/>
            <a:ext cx="1270080" cy="6660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483160" y="4471920"/>
            <a:ext cx="1324080" cy="180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771640" y="4006800"/>
            <a:ext cx="125640" cy="12708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path path="rect">
              <a:fillToRect l="50000" t="50000" r="50000" b="50000"/>
            </a:path>
          </a:gradFill>
          <a:ln w="144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936880" y="4175280"/>
            <a:ext cx="125280" cy="12528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path path="rect">
              <a:fillToRect l="50000" t="50000" r="50000" b="50000"/>
            </a:path>
          </a:gradFill>
          <a:ln w="144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151160" y="4341960"/>
            <a:ext cx="125640" cy="12528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path path="rect">
              <a:fillToRect l="50000" t="50000" r="50000" b="50000"/>
            </a:path>
          </a:gradFill>
          <a:ln w="144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419800" y="4410000"/>
            <a:ext cx="125280" cy="1256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path path="rect">
              <a:fillToRect l="50000" t="50000" r="50000" b="50000"/>
            </a:path>
          </a:gradFill>
          <a:ln w="144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745320" y="4410000"/>
            <a:ext cx="127080" cy="1256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path path="rect">
              <a:fillToRect l="50000" t="50000" r="50000" b="50000"/>
            </a:path>
          </a:gradFill>
          <a:ln w="144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066920" y="5138640"/>
            <a:ext cx="16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temps (heu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rot="16200000">
            <a:off x="583920" y="2819880"/>
            <a:ext cx="219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PAO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Verdana"/>
                <a:ea typeface="Arial"/>
              </a:rPr>
              <a:t>2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, PACO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Verdana"/>
                <a:ea typeface="Arial"/>
              </a:rPr>
              <a:t>2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 (mmH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892480" y="1573200"/>
            <a:ext cx="65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  <a:ea typeface="Arial"/>
              </a:rPr>
              <a:t>PAO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Verdana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919840" y="3808440"/>
            <a:ext cx="78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66cc"/>
                </a:solidFill>
                <a:latin typeface="Verdana"/>
                <a:ea typeface="Arial"/>
              </a:rPr>
              <a:t>PACO</a:t>
            </a:r>
            <a:r>
              <a:rPr b="0" lang="fr-FR" sz="1600" spc="-1" strike="noStrike" baseline="-25000">
                <a:solidFill>
                  <a:srgbClr val="0066cc"/>
                </a:solidFill>
                <a:latin typeface="Verdana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313960" y="135000"/>
            <a:ext cx="37818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ventilation et pH sangu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-40680" y="127080"/>
            <a:ext cx="4750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effets à moyen et long ter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2153880" y="44164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712600" y="44164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269880" y="44164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830040" y="44164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388760" y="44164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947840" y="44164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504760" y="44164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063840" y="44164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2176560" y="4227120"/>
            <a:ext cx="1440" cy="507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2455920" y="4227120"/>
            <a:ext cx="1440" cy="255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2735280" y="4227120"/>
            <a:ext cx="1440" cy="507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3014640" y="4227120"/>
            <a:ext cx="1440" cy="255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3294000" y="4227120"/>
            <a:ext cx="1800" cy="507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3573360" y="4227120"/>
            <a:ext cx="1800" cy="255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3852720" y="4227120"/>
            <a:ext cx="1800" cy="507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4132440" y="4227120"/>
            <a:ext cx="1440" cy="255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4411800" y="4227120"/>
            <a:ext cx="1440" cy="507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4691160" y="4227120"/>
            <a:ext cx="1440" cy="255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4970520" y="4227120"/>
            <a:ext cx="1440" cy="507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5249880" y="4227120"/>
            <a:ext cx="1440" cy="255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5527800" y="4227120"/>
            <a:ext cx="1440" cy="507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5808600" y="4227120"/>
            <a:ext cx="1800" cy="255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6087960" y="4227120"/>
            <a:ext cx="1800" cy="507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176560" y="4227480"/>
            <a:ext cx="391140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2176560" y="1700280"/>
            <a:ext cx="1440" cy="252720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176560" y="1930320"/>
            <a:ext cx="3911400" cy="2067120"/>
          </a:xfrm>
          <a:custGeom>
            <a:avLst/>
            <a:gdLst/>
            <a:ahLst/>
            <a:rect l="l" t="t" r="r" b="b"/>
            <a:pathLst>
              <a:path w="7391" h="3905">
                <a:moveTo>
                  <a:pt x="0" y="3905"/>
                </a:moveTo>
                <a:lnTo>
                  <a:pt x="37" y="3887"/>
                </a:lnTo>
                <a:lnTo>
                  <a:pt x="74" y="3870"/>
                </a:lnTo>
                <a:lnTo>
                  <a:pt x="111" y="3850"/>
                </a:lnTo>
                <a:lnTo>
                  <a:pt x="148" y="3830"/>
                </a:lnTo>
                <a:lnTo>
                  <a:pt x="185" y="3808"/>
                </a:lnTo>
                <a:lnTo>
                  <a:pt x="223" y="3785"/>
                </a:lnTo>
                <a:lnTo>
                  <a:pt x="260" y="3758"/>
                </a:lnTo>
                <a:lnTo>
                  <a:pt x="297" y="3731"/>
                </a:lnTo>
                <a:lnTo>
                  <a:pt x="334" y="3700"/>
                </a:lnTo>
                <a:lnTo>
                  <a:pt x="371" y="3664"/>
                </a:lnTo>
                <a:lnTo>
                  <a:pt x="408" y="3625"/>
                </a:lnTo>
                <a:lnTo>
                  <a:pt x="446" y="3582"/>
                </a:lnTo>
                <a:lnTo>
                  <a:pt x="483" y="3535"/>
                </a:lnTo>
                <a:lnTo>
                  <a:pt x="520" y="3482"/>
                </a:lnTo>
                <a:lnTo>
                  <a:pt x="527" y="3472"/>
                </a:lnTo>
                <a:lnTo>
                  <a:pt x="564" y="3414"/>
                </a:lnTo>
                <a:lnTo>
                  <a:pt x="601" y="3351"/>
                </a:lnTo>
                <a:lnTo>
                  <a:pt x="638" y="3282"/>
                </a:lnTo>
                <a:lnTo>
                  <a:pt x="676" y="3208"/>
                </a:lnTo>
                <a:lnTo>
                  <a:pt x="713" y="3129"/>
                </a:lnTo>
                <a:lnTo>
                  <a:pt x="750" y="3045"/>
                </a:lnTo>
                <a:lnTo>
                  <a:pt x="787" y="2957"/>
                </a:lnTo>
                <a:lnTo>
                  <a:pt x="824" y="2862"/>
                </a:lnTo>
                <a:lnTo>
                  <a:pt x="861" y="2764"/>
                </a:lnTo>
                <a:lnTo>
                  <a:pt x="899" y="2659"/>
                </a:lnTo>
                <a:lnTo>
                  <a:pt x="936" y="2551"/>
                </a:lnTo>
                <a:lnTo>
                  <a:pt x="973" y="2438"/>
                </a:lnTo>
                <a:lnTo>
                  <a:pt x="1010" y="2321"/>
                </a:lnTo>
                <a:lnTo>
                  <a:pt x="1047" y="2198"/>
                </a:lnTo>
                <a:lnTo>
                  <a:pt x="1056" y="2169"/>
                </a:lnTo>
                <a:lnTo>
                  <a:pt x="1093" y="2041"/>
                </a:lnTo>
                <a:lnTo>
                  <a:pt x="1130" y="1911"/>
                </a:lnTo>
                <a:lnTo>
                  <a:pt x="1167" y="1776"/>
                </a:lnTo>
                <a:lnTo>
                  <a:pt x="1205" y="1640"/>
                </a:lnTo>
                <a:lnTo>
                  <a:pt x="1242" y="1506"/>
                </a:lnTo>
                <a:lnTo>
                  <a:pt x="1279" y="1370"/>
                </a:lnTo>
                <a:lnTo>
                  <a:pt x="1316" y="1239"/>
                </a:lnTo>
                <a:lnTo>
                  <a:pt x="1353" y="1109"/>
                </a:lnTo>
                <a:lnTo>
                  <a:pt x="1390" y="983"/>
                </a:lnTo>
                <a:lnTo>
                  <a:pt x="1427" y="862"/>
                </a:lnTo>
                <a:lnTo>
                  <a:pt x="1465" y="747"/>
                </a:lnTo>
                <a:lnTo>
                  <a:pt x="1502" y="639"/>
                </a:lnTo>
                <a:lnTo>
                  <a:pt x="1539" y="540"/>
                </a:lnTo>
                <a:lnTo>
                  <a:pt x="1576" y="449"/>
                </a:lnTo>
                <a:lnTo>
                  <a:pt x="1583" y="433"/>
                </a:lnTo>
                <a:lnTo>
                  <a:pt x="1620" y="354"/>
                </a:lnTo>
                <a:lnTo>
                  <a:pt x="1658" y="287"/>
                </a:lnTo>
                <a:lnTo>
                  <a:pt x="1695" y="227"/>
                </a:lnTo>
                <a:lnTo>
                  <a:pt x="1732" y="177"/>
                </a:lnTo>
                <a:lnTo>
                  <a:pt x="1769" y="134"/>
                </a:lnTo>
                <a:lnTo>
                  <a:pt x="1806" y="99"/>
                </a:lnTo>
                <a:lnTo>
                  <a:pt x="1843" y="70"/>
                </a:lnTo>
                <a:lnTo>
                  <a:pt x="1881" y="47"/>
                </a:lnTo>
                <a:lnTo>
                  <a:pt x="1918" y="30"/>
                </a:lnTo>
                <a:lnTo>
                  <a:pt x="1955" y="17"/>
                </a:lnTo>
                <a:lnTo>
                  <a:pt x="1992" y="9"/>
                </a:lnTo>
                <a:lnTo>
                  <a:pt x="2029" y="3"/>
                </a:lnTo>
                <a:lnTo>
                  <a:pt x="2066" y="0"/>
                </a:lnTo>
                <a:lnTo>
                  <a:pt x="2104" y="0"/>
                </a:lnTo>
                <a:lnTo>
                  <a:pt x="2111" y="0"/>
                </a:lnTo>
                <a:lnTo>
                  <a:pt x="2148" y="1"/>
                </a:lnTo>
                <a:lnTo>
                  <a:pt x="2185" y="4"/>
                </a:lnTo>
                <a:lnTo>
                  <a:pt x="2222" y="7"/>
                </a:lnTo>
                <a:lnTo>
                  <a:pt x="2259" y="13"/>
                </a:lnTo>
                <a:lnTo>
                  <a:pt x="2297" y="19"/>
                </a:lnTo>
                <a:lnTo>
                  <a:pt x="2334" y="26"/>
                </a:lnTo>
                <a:lnTo>
                  <a:pt x="2371" y="34"/>
                </a:lnTo>
                <a:lnTo>
                  <a:pt x="2408" y="44"/>
                </a:lnTo>
                <a:lnTo>
                  <a:pt x="2445" y="54"/>
                </a:lnTo>
                <a:lnTo>
                  <a:pt x="2482" y="66"/>
                </a:lnTo>
                <a:lnTo>
                  <a:pt x="2519" y="79"/>
                </a:lnTo>
                <a:lnTo>
                  <a:pt x="2557" y="93"/>
                </a:lnTo>
                <a:lnTo>
                  <a:pt x="2594" y="107"/>
                </a:lnTo>
                <a:lnTo>
                  <a:pt x="2631" y="123"/>
                </a:lnTo>
                <a:lnTo>
                  <a:pt x="2668" y="139"/>
                </a:lnTo>
                <a:lnTo>
                  <a:pt x="2705" y="156"/>
                </a:lnTo>
                <a:lnTo>
                  <a:pt x="2742" y="174"/>
                </a:lnTo>
                <a:lnTo>
                  <a:pt x="2780" y="193"/>
                </a:lnTo>
                <a:lnTo>
                  <a:pt x="2817" y="213"/>
                </a:lnTo>
                <a:lnTo>
                  <a:pt x="2854" y="234"/>
                </a:lnTo>
                <a:lnTo>
                  <a:pt x="2891" y="256"/>
                </a:lnTo>
                <a:lnTo>
                  <a:pt x="2928" y="277"/>
                </a:lnTo>
                <a:lnTo>
                  <a:pt x="2965" y="300"/>
                </a:lnTo>
                <a:lnTo>
                  <a:pt x="3003" y="323"/>
                </a:lnTo>
                <a:lnTo>
                  <a:pt x="3040" y="347"/>
                </a:lnTo>
                <a:lnTo>
                  <a:pt x="3077" y="371"/>
                </a:lnTo>
                <a:lnTo>
                  <a:pt x="3114" y="396"/>
                </a:lnTo>
                <a:lnTo>
                  <a:pt x="3151" y="421"/>
                </a:lnTo>
                <a:lnTo>
                  <a:pt x="3167" y="433"/>
                </a:lnTo>
                <a:lnTo>
                  <a:pt x="3204" y="459"/>
                </a:lnTo>
                <a:lnTo>
                  <a:pt x="3241" y="486"/>
                </a:lnTo>
                <a:lnTo>
                  <a:pt x="3278" y="513"/>
                </a:lnTo>
                <a:lnTo>
                  <a:pt x="3316" y="542"/>
                </a:lnTo>
                <a:lnTo>
                  <a:pt x="3353" y="569"/>
                </a:lnTo>
                <a:lnTo>
                  <a:pt x="3390" y="597"/>
                </a:lnTo>
                <a:lnTo>
                  <a:pt x="3427" y="627"/>
                </a:lnTo>
                <a:lnTo>
                  <a:pt x="3464" y="656"/>
                </a:lnTo>
                <a:lnTo>
                  <a:pt x="3501" y="686"/>
                </a:lnTo>
                <a:lnTo>
                  <a:pt x="3539" y="716"/>
                </a:lnTo>
                <a:lnTo>
                  <a:pt x="3576" y="746"/>
                </a:lnTo>
                <a:lnTo>
                  <a:pt x="3613" y="776"/>
                </a:lnTo>
                <a:lnTo>
                  <a:pt x="3650" y="807"/>
                </a:lnTo>
                <a:lnTo>
                  <a:pt x="3687" y="837"/>
                </a:lnTo>
                <a:lnTo>
                  <a:pt x="3724" y="869"/>
                </a:lnTo>
                <a:lnTo>
                  <a:pt x="3762" y="900"/>
                </a:lnTo>
                <a:lnTo>
                  <a:pt x="3799" y="933"/>
                </a:lnTo>
                <a:lnTo>
                  <a:pt x="3836" y="965"/>
                </a:lnTo>
                <a:lnTo>
                  <a:pt x="3873" y="996"/>
                </a:lnTo>
                <a:lnTo>
                  <a:pt x="3910" y="1029"/>
                </a:lnTo>
                <a:lnTo>
                  <a:pt x="3947" y="1060"/>
                </a:lnTo>
                <a:lnTo>
                  <a:pt x="3985" y="1093"/>
                </a:lnTo>
                <a:lnTo>
                  <a:pt x="4022" y="1126"/>
                </a:lnTo>
                <a:lnTo>
                  <a:pt x="4059" y="1157"/>
                </a:lnTo>
                <a:lnTo>
                  <a:pt x="4096" y="1190"/>
                </a:lnTo>
                <a:lnTo>
                  <a:pt x="4133" y="1223"/>
                </a:lnTo>
                <a:lnTo>
                  <a:pt x="4170" y="1256"/>
                </a:lnTo>
                <a:lnTo>
                  <a:pt x="4208" y="1287"/>
                </a:lnTo>
                <a:lnTo>
                  <a:pt x="4223" y="1302"/>
                </a:lnTo>
                <a:lnTo>
                  <a:pt x="4260" y="1335"/>
                </a:lnTo>
                <a:lnTo>
                  <a:pt x="4298" y="1366"/>
                </a:lnTo>
                <a:lnTo>
                  <a:pt x="4335" y="1399"/>
                </a:lnTo>
                <a:lnTo>
                  <a:pt x="4372" y="1430"/>
                </a:lnTo>
                <a:lnTo>
                  <a:pt x="4409" y="1463"/>
                </a:lnTo>
                <a:lnTo>
                  <a:pt x="4446" y="1495"/>
                </a:lnTo>
                <a:lnTo>
                  <a:pt x="4483" y="1528"/>
                </a:lnTo>
                <a:lnTo>
                  <a:pt x="4521" y="1559"/>
                </a:lnTo>
                <a:lnTo>
                  <a:pt x="4558" y="1590"/>
                </a:lnTo>
                <a:lnTo>
                  <a:pt x="4595" y="1622"/>
                </a:lnTo>
                <a:lnTo>
                  <a:pt x="4632" y="1653"/>
                </a:lnTo>
                <a:lnTo>
                  <a:pt x="4669" y="1685"/>
                </a:lnTo>
                <a:lnTo>
                  <a:pt x="4706" y="1716"/>
                </a:lnTo>
                <a:lnTo>
                  <a:pt x="4744" y="1748"/>
                </a:lnTo>
                <a:lnTo>
                  <a:pt x="4781" y="1778"/>
                </a:lnTo>
                <a:lnTo>
                  <a:pt x="4818" y="1809"/>
                </a:lnTo>
                <a:lnTo>
                  <a:pt x="4855" y="1839"/>
                </a:lnTo>
                <a:lnTo>
                  <a:pt x="4892" y="1869"/>
                </a:lnTo>
                <a:lnTo>
                  <a:pt x="4929" y="1899"/>
                </a:lnTo>
                <a:lnTo>
                  <a:pt x="4967" y="1929"/>
                </a:lnTo>
                <a:lnTo>
                  <a:pt x="5004" y="1958"/>
                </a:lnTo>
                <a:lnTo>
                  <a:pt x="5041" y="1988"/>
                </a:lnTo>
                <a:lnTo>
                  <a:pt x="5078" y="2016"/>
                </a:lnTo>
                <a:lnTo>
                  <a:pt x="5115" y="2045"/>
                </a:lnTo>
                <a:lnTo>
                  <a:pt x="5152" y="2073"/>
                </a:lnTo>
                <a:lnTo>
                  <a:pt x="5190" y="2102"/>
                </a:lnTo>
                <a:lnTo>
                  <a:pt x="5227" y="2131"/>
                </a:lnTo>
                <a:lnTo>
                  <a:pt x="5264" y="2158"/>
                </a:lnTo>
                <a:lnTo>
                  <a:pt x="5280" y="2169"/>
                </a:lnTo>
                <a:lnTo>
                  <a:pt x="5317" y="2196"/>
                </a:lnTo>
                <a:lnTo>
                  <a:pt x="5354" y="2223"/>
                </a:lnTo>
                <a:lnTo>
                  <a:pt x="5391" y="2251"/>
                </a:lnTo>
                <a:lnTo>
                  <a:pt x="5428" y="2276"/>
                </a:lnTo>
                <a:lnTo>
                  <a:pt x="5465" y="2302"/>
                </a:lnTo>
                <a:lnTo>
                  <a:pt x="5503" y="2328"/>
                </a:lnTo>
                <a:lnTo>
                  <a:pt x="5540" y="2354"/>
                </a:lnTo>
                <a:lnTo>
                  <a:pt x="5577" y="2379"/>
                </a:lnTo>
                <a:lnTo>
                  <a:pt x="5614" y="2404"/>
                </a:lnTo>
                <a:lnTo>
                  <a:pt x="5651" y="2428"/>
                </a:lnTo>
                <a:lnTo>
                  <a:pt x="5688" y="2452"/>
                </a:lnTo>
                <a:lnTo>
                  <a:pt x="5726" y="2476"/>
                </a:lnTo>
                <a:lnTo>
                  <a:pt x="5763" y="2499"/>
                </a:lnTo>
                <a:lnTo>
                  <a:pt x="5800" y="2522"/>
                </a:lnTo>
                <a:lnTo>
                  <a:pt x="5837" y="2545"/>
                </a:lnTo>
                <a:lnTo>
                  <a:pt x="5874" y="2568"/>
                </a:lnTo>
                <a:lnTo>
                  <a:pt x="5911" y="2591"/>
                </a:lnTo>
                <a:lnTo>
                  <a:pt x="5948" y="2612"/>
                </a:lnTo>
                <a:lnTo>
                  <a:pt x="5986" y="2634"/>
                </a:lnTo>
                <a:lnTo>
                  <a:pt x="6023" y="2655"/>
                </a:lnTo>
                <a:lnTo>
                  <a:pt x="6060" y="2676"/>
                </a:lnTo>
                <a:lnTo>
                  <a:pt x="6097" y="2696"/>
                </a:lnTo>
                <a:lnTo>
                  <a:pt x="6134" y="2717"/>
                </a:lnTo>
                <a:lnTo>
                  <a:pt x="6171" y="2737"/>
                </a:lnTo>
                <a:lnTo>
                  <a:pt x="6209" y="2757"/>
                </a:lnTo>
                <a:lnTo>
                  <a:pt x="6246" y="2777"/>
                </a:lnTo>
                <a:lnTo>
                  <a:pt x="6283" y="2795"/>
                </a:lnTo>
                <a:lnTo>
                  <a:pt x="6320" y="2814"/>
                </a:lnTo>
                <a:lnTo>
                  <a:pt x="6334" y="2821"/>
                </a:lnTo>
                <a:lnTo>
                  <a:pt x="6372" y="2839"/>
                </a:lnTo>
                <a:lnTo>
                  <a:pt x="6409" y="2857"/>
                </a:lnTo>
                <a:lnTo>
                  <a:pt x="6446" y="2875"/>
                </a:lnTo>
                <a:lnTo>
                  <a:pt x="6483" y="2892"/>
                </a:lnTo>
                <a:lnTo>
                  <a:pt x="6520" y="2909"/>
                </a:lnTo>
                <a:lnTo>
                  <a:pt x="6557" y="2925"/>
                </a:lnTo>
                <a:lnTo>
                  <a:pt x="6595" y="2942"/>
                </a:lnTo>
                <a:lnTo>
                  <a:pt x="6632" y="2958"/>
                </a:lnTo>
                <a:lnTo>
                  <a:pt x="6669" y="2974"/>
                </a:lnTo>
                <a:lnTo>
                  <a:pt x="6706" y="2989"/>
                </a:lnTo>
                <a:lnTo>
                  <a:pt x="6743" y="3005"/>
                </a:lnTo>
                <a:lnTo>
                  <a:pt x="6780" y="3021"/>
                </a:lnTo>
                <a:lnTo>
                  <a:pt x="6818" y="3037"/>
                </a:lnTo>
                <a:lnTo>
                  <a:pt x="6855" y="3051"/>
                </a:lnTo>
                <a:lnTo>
                  <a:pt x="6892" y="3067"/>
                </a:lnTo>
                <a:lnTo>
                  <a:pt x="6929" y="3081"/>
                </a:lnTo>
                <a:lnTo>
                  <a:pt x="6966" y="3095"/>
                </a:lnTo>
                <a:lnTo>
                  <a:pt x="7003" y="3109"/>
                </a:lnTo>
                <a:lnTo>
                  <a:pt x="7041" y="3124"/>
                </a:lnTo>
                <a:lnTo>
                  <a:pt x="7078" y="3138"/>
                </a:lnTo>
                <a:lnTo>
                  <a:pt x="7115" y="3152"/>
                </a:lnTo>
                <a:lnTo>
                  <a:pt x="7152" y="3167"/>
                </a:lnTo>
                <a:lnTo>
                  <a:pt x="7189" y="3181"/>
                </a:lnTo>
                <a:lnTo>
                  <a:pt x="7226" y="3194"/>
                </a:lnTo>
                <a:lnTo>
                  <a:pt x="7263" y="3208"/>
                </a:lnTo>
                <a:lnTo>
                  <a:pt x="7301" y="3222"/>
                </a:lnTo>
                <a:lnTo>
                  <a:pt x="7338" y="3235"/>
                </a:lnTo>
                <a:lnTo>
                  <a:pt x="7375" y="3250"/>
                </a:lnTo>
                <a:lnTo>
                  <a:pt x="7391" y="3255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176560" y="3078000"/>
            <a:ext cx="3911400" cy="1038240"/>
          </a:xfrm>
          <a:custGeom>
            <a:avLst/>
            <a:gdLst/>
            <a:ahLst/>
            <a:rect l="l" t="t" r="r" b="b"/>
            <a:pathLst>
              <a:path w="7391" h="1961">
                <a:moveTo>
                  <a:pt x="0" y="1954"/>
                </a:moveTo>
                <a:lnTo>
                  <a:pt x="37" y="1954"/>
                </a:lnTo>
                <a:lnTo>
                  <a:pt x="74" y="1954"/>
                </a:lnTo>
                <a:lnTo>
                  <a:pt x="111" y="1954"/>
                </a:lnTo>
                <a:lnTo>
                  <a:pt x="148" y="1954"/>
                </a:lnTo>
                <a:lnTo>
                  <a:pt x="185" y="1954"/>
                </a:lnTo>
                <a:lnTo>
                  <a:pt x="223" y="1954"/>
                </a:lnTo>
                <a:lnTo>
                  <a:pt x="260" y="1954"/>
                </a:lnTo>
                <a:lnTo>
                  <a:pt x="297" y="1954"/>
                </a:lnTo>
                <a:lnTo>
                  <a:pt x="334" y="1954"/>
                </a:lnTo>
                <a:lnTo>
                  <a:pt x="371" y="1954"/>
                </a:lnTo>
                <a:lnTo>
                  <a:pt x="408" y="1954"/>
                </a:lnTo>
                <a:lnTo>
                  <a:pt x="446" y="1954"/>
                </a:lnTo>
                <a:lnTo>
                  <a:pt x="483" y="1954"/>
                </a:lnTo>
                <a:lnTo>
                  <a:pt x="520" y="1954"/>
                </a:lnTo>
                <a:lnTo>
                  <a:pt x="527" y="1954"/>
                </a:lnTo>
                <a:lnTo>
                  <a:pt x="564" y="1954"/>
                </a:lnTo>
                <a:lnTo>
                  <a:pt x="601" y="1954"/>
                </a:lnTo>
                <a:lnTo>
                  <a:pt x="638" y="1954"/>
                </a:lnTo>
                <a:lnTo>
                  <a:pt x="676" y="1954"/>
                </a:lnTo>
                <a:lnTo>
                  <a:pt x="713" y="1954"/>
                </a:lnTo>
                <a:lnTo>
                  <a:pt x="750" y="1954"/>
                </a:lnTo>
                <a:lnTo>
                  <a:pt x="787" y="1954"/>
                </a:lnTo>
                <a:lnTo>
                  <a:pt x="824" y="1954"/>
                </a:lnTo>
                <a:lnTo>
                  <a:pt x="861" y="1954"/>
                </a:lnTo>
                <a:lnTo>
                  <a:pt x="899" y="1954"/>
                </a:lnTo>
                <a:lnTo>
                  <a:pt x="936" y="1954"/>
                </a:lnTo>
                <a:lnTo>
                  <a:pt x="973" y="1954"/>
                </a:lnTo>
                <a:lnTo>
                  <a:pt x="1010" y="1954"/>
                </a:lnTo>
                <a:lnTo>
                  <a:pt x="1047" y="1954"/>
                </a:lnTo>
                <a:lnTo>
                  <a:pt x="1056" y="1954"/>
                </a:lnTo>
                <a:lnTo>
                  <a:pt x="1093" y="1954"/>
                </a:lnTo>
                <a:lnTo>
                  <a:pt x="1130" y="1954"/>
                </a:lnTo>
                <a:lnTo>
                  <a:pt x="1167" y="1954"/>
                </a:lnTo>
                <a:lnTo>
                  <a:pt x="1205" y="1954"/>
                </a:lnTo>
                <a:lnTo>
                  <a:pt x="1242" y="1954"/>
                </a:lnTo>
                <a:lnTo>
                  <a:pt x="1279" y="1954"/>
                </a:lnTo>
                <a:lnTo>
                  <a:pt x="1316" y="1954"/>
                </a:lnTo>
                <a:lnTo>
                  <a:pt x="1353" y="1954"/>
                </a:lnTo>
                <a:lnTo>
                  <a:pt x="1390" y="1954"/>
                </a:lnTo>
                <a:lnTo>
                  <a:pt x="1427" y="1954"/>
                </a:lnTo>
                <a:lnTo>
                  <a:pt x="1465" y="1954"/>
                </a:lnTo>
                <a:lnTo>
                  <a:pt x="1502" y="1954"/>
                </a:lnTo>
                <a:lnTo>
                  <a:pt x="1539" y="1954"/>
                </a:lnTo>
                <a:lnTo>
                  <a:pt x="1576" y="1954"/>
                </a:lnTo>
                <a:lnTo>
                  <a:pt x="1583" y="1954"/>
                </a:lnTo>
                <a:lnTo>
                  <a:pt x="1620" y="1954"/>
                </a:lnTo>
                <a:lnTo>
                  <a:pt x="1658" y="1954"/>
                </a:lnTo>
                <a:lnTo>
                  <a:pt x="1695" y="1954"/>
                </a:lnTo>
                <a:lnTo>
                  <a:pt x="1732" y="1954"/>
                </a:lnTo>
                <a:lnTo>
                  <a:pt x="1769" y="1954"/>
                </a:lnTo>
                <a:lnTo>
                  <a:pt x="1806" y="1954"/>
                </a:lnTo>
                <a:lnTo>
                  <a:pt x="1843" y="1954"/>
                </a:lnTo>
                <a:lnTo>
                  <a:pt x="1881" y="1954"/>
                </a:lnTo>
                <a:lnTo>
                  <a:pt x="1918" y="1954"/>
                </a:lnTo>
                <a:lnTo>
                  <a:pt x="1955" y="1954"/>
                </a:lnTo>
                <a:lnTo>
                  <a:pt x="1992" y="1954"/>
                </a:lnTo>
                <a:lnTo>
                  <a:pt x="2029" y="1954"/>
                </a:lnTo>
                <a:lnTo>
                  <a:pt x="2066" y="1954"/>
                </a:lnTo>
                <a:lnTo>
                  <a:pt x="2104" y="1954"/>
                </a:lnTo>
                <a:lnTo>
                  <a:pt x="2111" y="1954"/>
                </a:lnTo>
                <a:lnTo>
                  <a:pt x="2148" y="1954"/>
                </a:lnTo>
                <a:lnTo>
                  <a:pt x="2185" y="1954"/>
                </a:lnTo>
                <a:lnTo>
                  <a:pt x="2222" y="1955"/>
                </a:lnTo>
                <a:lnTo>
                  <a:pt x="2259" y="1955"/>
                </a:lnTo>
                <a:lnTo>
                  <a:pt x="2297" y="1957"/>
                </a:lnTo>
                <a:lnTo>
                  <a:pt x="2334" y="1957"/>
                </a:lnTo>
                <a:lnTo>
                  <a:pt x="2371" y="1957"/>
                </a:lnTo>
                <a:lnTo>
                  <a:pt x="2408" y="1958"/>
                </a:lnTo>
                <a:lnTo>
                  <a:pt x="2445" y="1958"/>
                </a:lnTo>
                <a:lnTo>
                  <a:pt x="2482" y="1958"/>
                </a:lnTo>
                <a:lnTo>
                  <a:pt x="2519" y="1959"/>
                </a:lnTo>
                <a:lnTo>
                  <a:pt x="2557" y="1959"/>
                </a:lnTo>
                <a:lnTo>
                  <a:pt x="2594" y="1959"/>
                </a:lnTo>
                <a:lnTo>
                  <a:pt x="2631" y="1961"/>
                </a:lnTo>
                <a:lnTo>
                  <a:pt x="2668" y="1961"/>
                </a:lnTo>
                <a:lnTo>
                  <a:pt x="2705" y="1961"/>
                </a:lnTo>
                <a:lnTo>
                  <a:pt x="2742" y="1961"/>
                </a:lnTo>
                <a:lnTo>
                  <a:pt x="2780" y="1961"/>
                </a:lnTo>
                <a:lnTo>
                  <a:pt x="2817" y="1961"/>
                </a:lnTo>
                <a:lnTo>
                  <a:pt x="2854" y="1961"/>
                </a:lnTo>
                <a:lnTo>
                  <a:pt x="2891" y="1961"/>
                </a:lnTo>
                <a:lnTo>
                  <a:pt x="2928" y="1961"/>
                </a:lnTo>
                <a:lnTo>
                  <a:pt x="2965" y="1959"/>
                </a:lnTo>
                <a:lnTo>
                  <a:pt x="3003" y="1959"/>
                </a:lnTo>
                <a:lnTo>
                  <a:pt x="3040" y="1958"/>
                </a:lnTo>
                <a:lnTo>
                  <a:pt x="3077" y="1957"/>
                </a:lnTo>
                <a:lnTo>
                  <a:pt x="3114" y="1955"/>
                </a:lnTo>
                <a:lnTo>
                  <a:pt x="3151" y="1954"/>
                </a:lnTo>
                <a:lnTo>
                  <a:pt x="3167" y="1954"/>
                </a:lnTo>
                <a:lnTo>
                  <a:pt x="3204" y="1952"/>
                </a:lnTo>
                <a:lnTo>
                  <a:pt x="3241" y="1949"/>
                </a:lnTo>
                <a:lnTo>
                  <a:pt x="3278" y="1948"/>
                </a:lnTo>
                <a:lnTo>
                  <a:pt x="3316" y="1945"/>
                </a:lnTo>
                <a:lnTo>
                  <a:pt x="3353" y="1944"/>
                </a:lnTo>
                <a:lnTo>
                  <a:pt x="3390" y="1941"/>
                </a:lnTo>
                <a:lnTo>
                  <a:pt x="3427" y="1938"/>
                </a:lnTo>
                <a:lnTo>
                  <a:pt x="3464" y="1935"/>
                </a:lnTo>
                <a:lnTo>
                  <a:pt x="3501" y="1932"/>
                </a:lnTo>
                <a:lnTo>
                  <a:pt x="3539" y="1928"/>
                </a:lnTo>
                <a:lnTo>
                  <a:pt x="3576" y="1925"/>
                </a:lnTo>
                <a:lnTo>
                  <a:pt x="3613" y="1921"/>
                </a:lnTo>
                <a:lnTo>
                  <a:pt x="3650" y="1918"/>
                </a:lnTo>
                <a:lnTo>
                  <a:pt x="3687" y="1914"/>
                </a:lnTo>
                <a:lnTo>
                  <a:pt x="3724" y="1909"/>
                </a:lnTo>
                <a:lnTo>
                  <a:pt x="3762" y="1905"/>
                </a:lnTo>
                <a:lnTo>
                  <a:pt x="3799" y="1901"/>
                </a:lnTo>
                <a:lnTo>
                  <a:pt x="3836" y="1897"/>
                </a:lnTo>
                <a:lnTo>
                  <a:pt x="3873" y="1892"/>
                </a:lnTo>
                <a:lnTo>
                  <a:pt x="3910" y="1888"/>
                </a:lnTo>
                <a:lnTo>
                  <a:pt x="3947" y="1884"/>
                </a:lnTo>
                <a:lnTo>
                  <a:pt x="3985" y="1878"/>
                </a:lnTo>
                <a:lnTo>
                  <a:pt x="4022" y="1874"/>
                </a:lnTo>
                <a:lnTo>
                  <a:pt x="4059" y="1868"/>
                </a:lnTo>
                <a:lnTo>
                  <a:pt x="4096" y="1864"/>
                </a:lnTo>
                <a:lnTo>
                  <a:pt x="4133" y="1858"/>
                </a:lnTo>
                <a:lnTo>
                  <a:pt x="4170" y="1852"/>
                </a:lnTo>
                <a:lnTo>
                  <a:pt x="4208" y="1848"/>
                </a:lnTo>
                <a:lnTo>
                  <a:pt x="4223" y="1845"/>
                </a:lnTo>
                <a:lnTo>
                  <a:pt x="4260" y="1839"/>
                </a:lnTo>
                <a:lnTo>
                  <a:pt x="4298" y="1834"/>
                </a:lnTo>
                <a:lnTo>
                  <a:pt x="4335" y="1828"/>
                </a:lnTo>
                <a:lnTo>
                  <a:pt x="4372" y="1822"/>
                </a:lnTo>
                <a:lnTo>
                  <a:pt x="4409" y="1816"/>
                </a:lnTo>
                <a:lnTo>
                  <a:pt x="4446" y="1811"/>
                </a:lnTo>
                <a:lnTo>
                  <a:pt x="4483" y="1804"/>
                </a:lnTo>
                <a:lnTo>
                  <a:pt x="4521" y="1796"/>
                </a:lnTo>
                <a:lnTo>
                  <a:pt x="4558" y="1789"/>
                </a:lnTo>
                <a:lnTo>
                  <a:pt x="4595" y="1782"/>
                </a:lnTo>
                <a:lnTo>
                  <a:pt x="4632" y="1774"/>
                </a:lnTo>
                <a:lnTo>
                  <a:pt x="4669" y="1765"/>
                </a:lnTo>
                <a:lnTo>
                  <a:pt x="4706" y="1756"/>
                </a:lnTo>
                <a:lnTo>
                  <a:pt x="4744" y="1746"/>
                </a:lnTo>
                <a:lnTo>
                  <a:pt x="4781" y="1736"/>
                </a:lnTo>
                <a:lnTo>
                  <a:pt x="4818" y="1725"/>
                </a:lnTo>
                <a:lnTo>
                  <a:pt x="4855" y="1714"/>
                </a:lnTo>
                <a:lnTo>
                  <a:pt x="4892" y="1701"/>
                </a:lnTo>
                <a:lnTo>
                  <a:pt x="4929" y="1688"/>
                </a:lnTo>
                <a:lnTo>
                  <a:pt x="4967" y="1674"/>
                </a:lnTo>
                <a:lnTo>
                  <a:pt x="5004" y="1659"/>
                </a:lnTo>
                <a:lnTo>
                  <a:pt x="5041" y="1644"/>
                </a:lnTo>
                <a:lnTo>
                  <a:pt x="5078" y="1626"/>
                </a:lnTo>
                <a:lnTo>
                  <a:pt x="5115" y="1609"/>
                </a:lnTo>
                <a:lnTo>
                  <a:pt x="5152" y="1591"/>
                </a:lnTo>
                <a:lnTo>
                  <a:pt x="5190" y="1571"/>
                </a:lnTo>
                <a:lnTo>
                  <a:pt x="5227" y="1551"/>
                </a:lnTo>
                <a:lnTo>
                  <a:pt x="5264" y="1529"/>
                </a:lnTo>
                <a:lnTo>
                  <a:pt x="5280" y="1519"/>
                </a:lnTo>
                <a:lnTo>
                  <a:pt x="5317" y="1496"/>
                </a:lnTo>
                <a:lnTo>
                  <a:pt x="5354" y="1471"/>
                </a:lnTo>
                <a:lnTo>
                  <a:pt x="5391" y="1446"/>
                </a:lnTo>
                <a:lnTo>
                  <a:pt x="5428" y="1419"/>
                </a:lnTo>
                <a:lnTo>
                  <a:pt x="5465" y="1392"/>
                </a:lnTo>
                <a:lnTo>
                  <a:pt x="5503" y="1363"/>
                </a:lnTo>
                <a:lnTo>
                  <a:pt x="5540" y="1335"/>
                </a:lnTo>
                <a:lnTo>
                  <a:pt x="5577" y="1305"/>
                </a:lnTo>
                <a:lnTo>
                  <a:pt x="5614" y="1275"/>
                </a:lnTo>
                <a:lnTo>
                  <a:pt x="5651" y="1243"/>
                </a:lnTo>
                <a:lnTo>
                  <a:pt x="5688" y="1212"/>
                </a:lnTo>
                <a:lnTo>
                  <a:pt x="5726" y="1181"/>
                </a:lnTo>
                <a:lnTo>
                  <a:pt x="5763" y="1148"/>
                </a:lnTo>
                <a:lnTo>
                  <a:pt x="5800" y="1116"/>
                </a:lnTo>
                <a:lnTo>
                  <a:pt x="5837" y="1083"/>
                </a:lnTo>
                <a:lnTo>
                  <a:pt x="5874" y="1049"/>
                </a:lnTo>
                <a:lnTo>
                  <a:pt x="5911" y="1016"/>
                </a:lnTo>
                <a:lnTo>
                  <a:pt x="5948" y="983"/>
                </a:lnTo>
                <a:lnTo>
                  <a:pt x="5986" y="950"/>
                </a:lnTo>
                <a:lnTo>
                  <a:pt x="6023" y="918"/>
                </a:lnTo>
                <a:lnTo>
                  <a:pt x="6060" y="885"/>
                </a:lnTo>
                <a:lnTo>
                  <a:pt x="6097" y="852"/>
                </a:lnTo>
                <a:lnTo>
                  <a:pt x="6134" y="819"/>
                </a:lnTo>
                <a:lnTo>
                  <a:pt x="6171" y="788"/>
                </a:lnTo>
                <a:lnTo>
                  <a:pt x="6209" y="755"/>
                </a:lnTo>
                <a:lnTo>
                  <a:pt x="6246" y="725"/>
                </a:lnTo>
                <a:lnTo>
                  <a:pt x="6283" y="693"/>
                </a:lnTo>
                <a:lnTo>
                  <a:pt x="6320" y="663"/>
                </a:lnTo>
                <a:lnTo>
                  <a:pt x="6334" y="652"/>
                </a:lnTo>
                <a:lnTo>
                  <a:pt x="6372" y="623"/>
                </a:lnTo>
                <a:lnTo>
                  <a:pt x="6409" y="595"/>
                </a:lnTo>
                <a:lnTo>
                  <a:pt x="6446" y="566"/>
                </a:lnTo>
                <a:lnTo>
                  <a:pt x="6483" y="539"/>
                </a:lnTo>
                <a:lnTo>
                  <a:pt x="6520" y="513"/>
                </a:lnTo>
                <a:lnTo>
                  <a:pt x="6557" y="486"/>
                </a:lnTo>
                <a:lnTo>
                  <a:pt x="6595" y="462"/>
                </a:lnTo>
                <a:lnTo>
                  <a:pt x="6632" y="436"/>
                </a:lnTo>
                <a:lnTo>
                  <a:pt x="6669" y="412"/>
                </a:lnTo>
                <a:lnTo>
                  <a:pt x="6706" y="387"/>
                </a:lnTo>
                <a:lnTo>
                  <a:pt x="6743" y="365"/>
                </a:lnTo>
                <a:lnTo>
                  <a:pt x="6780" y="340"/>
                </a:lnTo>
                <a:lnTo>
                  <a:pt x="6818" y="319"/>
                </a:lnTo>
                <a:lnTo>
                  <a:pt x="6855" y="296"/>
                </a:lnTo>
                <a:lnTo>
                  <a:pt x="6892" y="275"/>
                </a:lnTo>
                <a:lnTo>
                  <a:pt x="6929" y="252"/>
                </a:lnTo>
                <a:lnTo>
                  <a:pt x="6966" y="230"/>
                </a:lnTo>
                <a:lnTo>
                  <a:pt x="7003" y="210"/>
                </a:lnTo>
                <a:lnTo>
                  <a:pt x="7041" y="189"/>
                </a:lnTo>
                <a:lnTo>
                  <a:pt x="7078" y="169"/>
                </a:lnTo>
                <a:lnTo>
                  <a:pt x="7115" y="147"/>
                </a:lnTo>
                <a:lnTo>
                  <a:pt x="7152" y="127"/>
                </a:lnTo>
                <a:lnTo>
                  <a:pt x="7189" y="107"/>
                </a:lnTo>
                <a:lnTo>
                  <a:pt x="7226" y="87"/>
                </a:lnTo>
                <a:lnTo>
                  <a:pt x="7263" y="67"/>
                </a:lnTo>
                <a:lnTo>
                  <a:pt x="7301" y="47"/>
                </a:lnTo>
                <a:lnTo>
                  <a:pt x="7338" y="29"/>
                </a:lnTo>
                <a:lnTo>
                  <a:pt x="7375" y="9"/>
                </a:lnTo>
                <a:lnTo>
                  <a:pt x="7391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rot="16200000">
            <a:off x="398880" y="2801160"/>
            <a:ext cx="27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concentration plasma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359400" y="417204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temps (jou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701880" y="170964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Verdana"/>
                <a:ea typeface="Arial"/>
              </a:rPr>
              <a:t>erythropoïétine (EP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424680" y="363852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  <a:ea typeface="Arial"/>
              </a:rPr>
              <a:t>erythroc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276200" y="4976640"/>
            <a:ext cx="6089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hématocr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normal : 40-45 %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près 3-4 semaines d’altitude (3500 m) : 55 – 60 %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815160" y="135000"/>
            <a:ext cx="22654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érythropoïè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-40680" y="127080"/>
            <a:ext cx="4750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effets à moyen et long ter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87200" y="695160"/>
            <a:ext cx="63979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timulation de l’érythropoïè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1717200" y="570240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476080" y="57024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252600" y="57024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032000" y="57024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809960" y="57024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565600" y="570240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488600" y="534024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488600" y="506880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488600" y="479916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488600" y="452916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488600" y="425916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390320" y="398772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390320" y="37180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390320" y="34466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390320" y="3179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390320" y="29066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390320" y="2639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390320" y="23702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390320" y="20988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1787400" y="5460840"/>
            <a:ext cx="1800" cy="698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2174760" y="5460840"/>
            <a:ext cx="3240" cy="3672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2565360" y="5460840"/>
            <a:ext cx="3240" cy="698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2954160" y="5460840"/>
            <a:ext cx="1800" cy="3672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3343320" y="5460840"/>
            <a:ext cx="1440" cy="698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3733920" y="5460840"/>
            <a:ext cx="1440" cy="3672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4122720" y="5460840"/>
            <a:ext cx="1440" cy="698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4511520" y="5460840"/>
            <a:ext cx="1800" cy="3672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4898880" y="5460840"/>
            <a:ext cx="3240" cy="698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5289480" y="5460840"/>
            <a:ext cx="3240" cy="3672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5678640" y="5460840"/>
            <a:ext cx="1440" cy="698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787400" y="5460840"/>
            <a:ext cx="3891240" cy="180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735200" y="5460840"/>
            <a:ext cx="52200" cy="180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760400" y="5327640"/>
            <a:ext cx="27000" cy="14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735200" y="5192640"/>
            <a:ext cx="52200" cy="180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760400" y="5056200"/>
            <a:ext cx="27000" cy="14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735200" y="4921200"/>
            <a:ext cx="52200" cy="180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760400" y="4786200"/>
            <a:ext cx="27000" cy="32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735200" y="4651200"/>
            <a:ext cx="52200" cy="180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760400" y="4518000"/>
            <a:ext cx="27000" cy="14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735200" y="4381560"/>
            <a:ext cx="52200" cy="32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760400" y="4246560"/>
            <a:ext cx="27000" cy="14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735200" y="4113360"/>
            <a:ext cx="52200" cy="14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760400" y="3976560"/>
            <a:ext cx="27000" cy="32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735200" y="3841920"/>
            <a:ext cx="52200" cy="14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760400" y="3708360"/>
            <a:ext cx="27000" cy="180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735200" y="3571920"/>
            <a:ext cx="52200" cy="32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760400" y="3436920"/>
            <a:ext cx="27000" cy="14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735200" y="3300480"/>
            <a:ext cx="52200" cy="32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760400" y="3166920"/>
            <a:ext cx="27000" cy="180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735200" y="3032280"/>
            <a:ext cx="52200" cy="14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760400" y="2895480"/>
            <a:ext cx="27000" cy="180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735200" y="2760840"/>
            <a:ext cx="52200" cy="14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760400" y="2627280"/>
            <a:ext cx="27000" cy="180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735200" y="2490840"/>
            <a:ext cx="52200" cy="14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760400" y="2355840"/>
            <a:ext cx="27000" cy="14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735200" y="2220840"/>
            <a:ext cx="52200" cy="32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1787400" y="2199960"/>
            <a:ext cx="1800" cy="326052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787400" y="3584520"/>
            <a:ext cx="3891240" cy="1876320"/>
          </a:xfrm>
          <a:custGeom>
            <a:avLst/>
            <a:gdLst/>
            <a:ahLst/>
            <a:rect l="l" t="t" r="r" b="b"/>
            <a:pathLst>
              <a:path w="6129" h="2655">
                <a:moveTo>
                  <a:pt x="0" y="2655"/>
                </a:moveTo>
                <a:lnTo>
                  <a:pt x="307" y="2639"/>
                </a:lnTo>
                <a:lnTo>
                  <a:pt x="613" y="2537"/>
                </a:lnTo>
                <a:lnTo>
                  <a:pt x="920" y="2293"/>
                </a:lnTo>
                <a:lnTo>
                  <a:pt x="1226" y="1930"/>
                </a:lnTo>
                <a:lnTo>
                  <a:pt x="1533" y="1527"/>
                </a:lnTo>
                <a:lnTo>
                  <a:pt x="1838" y="1158"/>
                </a:lnTo>
                <a:lnTo>
                  <a:pt x="2145" y="861"/>
                </a:lnTo>
                <a:lnTo>
                  <a:pt x="2451" y="635"/>
                </a:lnTo>
                <a:lnTo>
                  <a:pt x="2758" y="469"/>
                </a:lnTo>
                <a:lnTo>
                  <a:pt x="3065" y="348"/>
                </a:lnTo>
                <a:lnTo>
                  <a:pt x="3371" y="259"/>
                </a:lnTo>
                <a:lnTo>
                  <a:pt x="3678" y="192"/>
                </a:lnTo>
                <a:lnTo>
                  <a:pt x="3983" y="143"/>
                </a:lnTo>
                <a:lnTo>
                  <a:pt x="4290" y="104"/>
                </a:lnTo>
                <a:lnTo>
                  <a:pt x="4596" y="76"/>
                </a:lnTo>
                <a:lnTo>
                  <a:pt x="4903" y="53"/>
                </a:lnTo>
                <a:lnTo>
                  <a:pt x="5209" y="36"/>
                </a:lnTo>
                <a:lnTo>
                  <a:pt x="5516" y="22"/>
                </a:lnTo>
                <a:lnTo>
                  <a:pt x="5822" y="10"/>
                </a:lnTo>
                <a:lnTo>
                  <a:pt x="6129" y="0"/>
                </a:lnTo>
                <a:lnTo>
                  <a:pt x="6129" y="0"/>
                </a:lnTo>
              </a:path>
            </a:pathLst>
          </a:custGeom>
          <a:noFill/>
          <a:ln w="19080">
            <a:solidFill>
              <a:srgbClr val="00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787400" y="3606840"/>
            <a:ext cx="3891240" cy="1854000"/>
          </a:xfrm>
          <a:custGeom>
            <a:avLst/>
            <a:gdLst/>
            <a:ahLst/>
            <a:rect l="l" t="t" r="r" b="b"/>
            <a:pathLst>
              <a:path w="6129" h="2626">
                <a:moveTo>
                  <a:pt x="0" y="2626"/>
                </a:moveTo>
                <a:lnTo>
                  <a:pt x="307" y="2616"/>
                </a:lnTo>
                <a:lnTo>
                  <a:pt x="613" y="2546"/>
                </a:lnTo>
                <a:lnTo>
                  <a:pt x="920" y="2373"/>
                </a:lnTo>
                <a:lnTo>
                  <a:pt x="1226" y="2094"/>
                </a:lnTo>
                <a:lnTo>
                  <a:pt x="1533" y="1750"/>
                </a:lnTo>
                <a:lnTo>
                  <a:pt x="1838" y="1401"/>
                </a:lnTo>
                <a:lnTo>
                  <a:pt x="2145" y="1088"/>
                </a:lnTo>
                <a:lnTo>
                  <a:pt x="2451" y="832"/>
                </a:lnTo>
                <a:lnTo>
                  <a:pt x="2758" y="630"/>
                </a:lnTo>
                <a:lnTo>
                  <a:pt x="3065" y="476"/>
                </a:lnTo>
                <a:lnTo>
                  <a:pt x="3371" y="360"/>
                </a:lnTo>
                <a:lnTo>
                  <a:pt x="3678" y="270"/>
                </a:lnTo>
                <a:lnTo>
                  <a:pt x="3983" y="203"/>
                </a:lnTo>
                <a:lnTo>
                  <a:pt x="4290" y="150"/>
                </a:lnTo>
                <a:lnTo>
                  <a:pt x="4596" y="108"/>
                </a:lnTo>
                <a:lnTo>
                  <a:pt x="4903" y="75"/>
                </a:lnTo>
                <a:lnTo>
                  <a:pt x="5209" y="50"/>
                </a:lnTo>
                <a:lnTo>
                  <a:pt x="5516" y="30"/>
                </a:lnTo>
                <a:lnTo>
                  <a:pt x="5822" y="13"/>
                </a:lnTo>
                <a:lnTo>
                  <a:pt x="6129" y="0"/>
                </a:lnTo>
                <a:lnTo>
                  <a:pt x="6129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787400" y="2697120"/>
            <a:ext cx="3891240" cy="2763720"/>
          </a:xfrm>
          <a:custGeom>
            <a:avLst/>
            <a:gdLst/>
            <a:ahLst/>
            <a:rect l="l" t="t" r="r" b="b"/>
            <a:pathLst>
              <a:path w="6129" h="3913">
                <a:moveTo>
                  <a:pt x="0" y="3913"/>
                </a:moveTo>
                <a:lnTo>
                  <a:pt x="307" y="3897"/>
                </a:lnTo>
                <a:lnTo>
                  <a:pt x="613" y="3793"/>
                </a:lnTo>
                <a:lnTo>
                  <a:pt x="920" y="3536"/>
                </a:lnTo>
                <a:lnTo>
                  <a:pt x="1226" y="3120"/>
                </a:lnTo>
                <a:lnTo>
                  <a:pt x="1533" y="2608"/>
                </a:lnTo>
                <a:lnTo>
                  <a:pt x="1838" y="2087"/>
                </a:lnTo>
                <a:lnTo>
                  <a:pt x="2145" y="1623"/>
                </a:lnTo>
                <a:lnTo>
                  <a:pt x="2451" y="1241"/>
                </a:lnTo>
                <a:lnTo>
                  <a:pt x="2758" y="941"/>
                </a:lnTo>
                <a:lnTo>
                  <a:pt x="3065" y="712"/>
                </a:lnTo>
                <a:lnTo>
                  <a:pt x="3371" y="537"/>
                </a:lnTo>
                <a:lnTo>
                  <a:pt x="3678" y="404"/>
                </a:lnTo>
                <a:lnTo>
                  <a:pt x="3983" y="303"/>
                </a:lnTo>
                <a:lnTo>
                  <a:pt x="4290" y="224"/>
                </a:lnTo>
                <a:lnTo>
                  <a:pt x="4596" y="163"/>
                </a:lnTo>
                <a:lnTo>
                  <a:pt x="4903" y="116"/>
                </a:lnTo>
                <a:lnTo>
                  <a:pt x="5209" y="77"/>
                </a:lnTo>
                <a:lnTo>
                  <a:pt x="5516" y="46"/>
                </a:lnTo>
                <a:lnTo>
                  <a:pt x="5822" y="21"/>
                </a:lnTo>
                <a:lnTo>
                  <a:pt x="6129" y="0"/>
                </a:lnTo>
                <a:lnTo>
                  <a:pt x="6129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098880" y="6005520"/>
            <a:ext cx="133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PO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Verdana"/>
                <a:ea typeface="Arial"/>
              </a:rPr>
              <a:t>2 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(mmH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6200000">
            <a:off x="-528120" y="3610080"/>
            <a:ext cx="30610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concentration sanguine en O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Verdana"/>
                <a:ea typeface="Arial"/>
              </a:rPr>
              <a:t>2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(mL/100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551400" y="33987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825000" y="39574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016080" y="3241800"/>
            <a:ext cx="3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07000" y="1268280"/>
            <a:ext cx="8582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oncentration sanguine en 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(ml/ 100 ml) = (1,39 x Hb x (Sat/100)) + 0,003 P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524920" y="3892680"/>
            <a:ext cx="321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concentration sanguine en O2 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1 : au niveau de la mer 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2 : après 2 jours à 4000 m 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3 : après 3 semaines à 4000 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815160" y="135000"/>
            <a:ext cx="22654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érythropoïè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-40680" y="127080"/>
            <a:ext cx="4750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effets à moyen et long ter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87200" y="695160"/>
            <a:ext cx="63979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oncentration sanguine en dioxygèn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468360" y="89388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hypertension artérielle pulmo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at  normoxique : 20 mm Hg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at hypoxique (15 jours à 5500 m) : 32 mm H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35240" y="225900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effet cardia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0" name=""/>
          <p:cNvGraphicFramePr/>
          <p:nvPr/>
        </p:nvGraphicFramePr>
        <p:xfrm>
          <a:off x="593640" y="2914560"/>
          <a:ext cx="4600800" cy="1005120"/>
        </p:xfrm>
        <a:graphic>
          <a:graphicData uri="http://schemas.openxmlformats.org/drawingml/2006/table">
            <a:tbl>
              <a:tblPr/>
              <a:tblGrid>
                <a:gridCol w="1619280"/>
                <a:gridCol w="1216080"/>
                <a:gridCol w="1308240"/>
                <a:gridCol w="457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ondi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VD (m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VGS (m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normoxi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167 ±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965 ± 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hypox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309 ±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656 ± 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1" name=""/>
          <p:cNvSpPr/>
          <p:nvPr/>
        </p:nvSpPr>
        <p:spPr>
          <a:xfrm>
            <a:off x="6226200" y="5027760"/>
            <a:ext cx="801720" cy="91260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230960" y="3992400"/>
            <a:ext cx="803520" cy="195768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626160" y="4983120"/>
            <a:ext cx="1800" cy="41400"/>
          </a:xfrm>
          <a:prstGeom prst="line">
            <a:avLst/>
          </a:prstGeom>
          <a:ln w="1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599160" y="4983120"/>
            <a:ext cx="55800" cy="1800"/>
          </a:xfrm>
          <a:prstGeom prst="line">
            <a:avLst/>
          </a:prstGeom>
          <a:ln w="1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7632720" y="3895560"/>
            <a:ext cx="1440" cy="84240"/>
          </a:xfrm>
          <a:prstGeom prst="line">
            <a:avLst/>
          </a:prstGeom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04280" y="3895560"/>
            <a:ext cx="56880" cy="1800"/>
          </a:xfrm>
          <a:prstGeom prst="line">
            <a:avLst/>
          </a:prstGeom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673600" y="583236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0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673600" y="541512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0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673600" y="499752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0,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673600" y="457992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0,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673600" y="416088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0,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673600" y="374328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0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V="1">
            <a:off x="6122880" y="5916600"/>
            <a:ext cx="1800" cy="5256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122880" y="5943600"/>
            <a:ext cx="201312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095880" y="5943600"/>
            <a:ext cx="2700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108840" y="5734080"/>
            <a:ext cx="1404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095880" y="5524560"/>
            <a:ext cx="2700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108840" y="5316480"/>
            <a:ext cx="1404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095880" y="5108400"/>
            <a:ext cx="2700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108840" y="4898880"/>
            <a:ext cx="1404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095880" y="4689360"/>
            <a:ext cx="2700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108840" y="4479840"/>
            <a:ext cx="1404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95880" y="4272120"/>
            <a:ext cx="2700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108840" y="4062240"/>
            <a:ext cx="1404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095880" y="3854520"/>
            <a:ext cx="2700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V="1">
            <a:off x="6122880" y="3854160"/>
            <a:ext cx="1800" cy="20890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rot="16200000">
            <a:off x="4949640" y="460044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VD/V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333480" y="6060960"/>
            <a:ext cx="538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235640" y="6070680"/>
            <a:ext cx="886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550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200600" y="4654440"/>
            <a:ext cx="336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VD : ventricule dro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VGS : ventricule gauche + sep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956520" y="550692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hypertrophie cardiaque dro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441760" y="135000"/>
            <a:ext cx="38232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hypertension pulmo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-40680" y="127080"/>
            <a:ext cx="4750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effets à moyen et long ter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636840" y="976320"/>
            <a:ext cx="50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remodelage de la paroi artérielle pulmonai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6" name=""/>
          <p:cNvGraphicFramePr/>
          <p:nvPr/>
        </p:nvGraphicFramePr>
        <p:xfrm>
          <a:off x="593640" y="2832120"/>
          <a:ext cx="8045640" cy="1609560"/>
        </p:xfrm>
        <a:graphic>
          <a:graphicData uri="http://schemas.openxmlformats.org/drawingml/2006/table">
            <a:tbl>
              <a:tblPr/>
              <a:tblGrid>
                <a:gridCol w="1400400"/>
                <a:gridCol w="2174760"/>
                <a:gridCol w="2362320"/>
                <a:gridCol w="2108160"/>
              </a:tblGrid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ondi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urface de muscle lisse par µm de paroi interne (µm</a:t>
                      </a:r>
                      <a:r>
                        <a:rPr b="0" lang="en-GB" sz="1600" spc="-1" strike="noStrike" baseline="30000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mbre de noyaux par unité de su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(cell. / mm</a:t>
                      </a:r>
                      <a:r>
                        <a:rPr b="0" lang="en-GB" sz="1600" spc="-1" strike="noStrike" baseline="30000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épaisseur de la mé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(µ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normoxi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167 ±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965 ± 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0,22 ± 0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hypox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309 ±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656 ± 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0,47 ± 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7" name=""/>
          <p:cNvSpPr/>
          <p:nvPr/>
        </p:nvSpPr>
        <p:spPr>
          <a:xfrm>
            <a:off x="1290960" y="489744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épaississement de la mé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hypertrophie du muscle li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441760" y="135000"/>
            <a:ext cx="38232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hypertension pulmo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-40680" y="127080"/>
            <a:ext cx="4750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effets à moyen et long ter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670040" y="2006640"/>
            <a:ext cx="4797360" cy="2895480"/>
          </a:xfrm>
          <a:custGeom>
            <a:avLst/>
            <a:gdLst/>
            <a:ahLst/>
            <a:rect l="l" t="t" r="r" b="b"/>
            <a:pathLst>
              <a:path w="2850" h="1470">
                <a:moveTo>
                  <a:pt x="0" y="0"/>
                </a:moveTo>
                <a:lnTo>
                  <a:pt x="0" y="1470"/>
                </a:lnTo>
                <a:lnTo>
                  <a:pt x="2850" y="1470"/>
                </a:lnTo>
              </a:path>
            </a:pathLst>
          </a:custGeom>
          <a:noFill/>
          <a:ln w="9360">
            <a:solidFill>
              <a:srgbClr val="99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681200" y="3649680"/>
            <a:ext cx="4241880" cy="511200"/>
          </a:xfrm>
          <a:custGeom>
            <a:avLst/>
            <a:gdLst/>
            <a:ahLst/>
            <a:rect l="l" t="t" r="r" b="b"/>
            <a:pathLst>
              <a:path w="2520" h="259">
                <a:moveTo>
                  <a:pt x="0" y="258"/>
                </a:moveTo>
                <a:cubicBezTo>
                  <a:pt x="101" y="233"/>
                  <a:pt x="265" y="242"/>
                  <a:pt x="354" y="240"/>
                </a:cubicBezTo>
                <a:cubicBezTo>
                  <a:pt x="392" y="231"/>
                  <a:pt x="371" y="239"/>
                  <a:pt x="414" y="210"/>
                </a:cubicBezTo>
                <a:cubicBezTo>
                  <a:pt x="420" y="206"/>
                  <a:pt x="432" y="198"/>
                  <a:pt x="432" y="198"/>
                </a:cubicBezTo>
                <a:cubicBezTo>
                  <a:pt x="457" y="160"/>
                  <a:pt x="469" y="134"/>
                  <a:pt x="510" y="114"/>
                </a:cubicBezTo>
                <a:cubicBezTo>
                  <a:pt x="523" y="95"/>
                  <a:pt x="553" y="74"/>
                  <a:pt x="576" y="66"/>
                </a:cubicBezTo>
                <a:cubicBezTo>
                  <a:pt x="604" y="24"/>
                  <a:pt x="672" y="12"/>
                  <a:pt x="720" y="0"/>
                </a:cubicBezTo>
                <a:cubicBezTo>
                  <a:pt x="792" y="6"/>
                  <a:pt x="880" y="19"/>
                  <a:pt x="942" y="60"/>
                </a:cubicBezTo>
                <a:cubicBezTo>
                  <a:pt x="986" y="126"/>
                  <a:pt x="1051" y="157"/>
                  <a:pt x="1122" y="192"/>
                </a:cubicBezTo>
                <a:cubicBezTo>
                  <a:pt x="1159" y="210"/>
                  <a:pt x="1205" y="232"/>
                  <a:pt x="1248" y="234"/>
                </a:cubicBezTo>
                <a:cubicBezTo>
                  <a:pt x="1314" y="238"/>
                  <a:pt x="1380" y="238"/>
                  <a:pt x="1446" y="240"/>
                </a:cubicBezTo>
                <a:cubicBezTo>
                  <a:pt x="1597" y="259"/>
                  <a:pt x="1777" y="237"/>
                  <a:pt x="1926" y="234"/>
                </a:cubicBezTo>
                <a:cubicBezTo>
                  <a:pt x="2010" y="213"/>
                  <a:pt x="2184" y="237"/>
                  <a:pt x="2262" y="240"/>
                </a:cubicBezTo>
                <a:cubicBezTo>
                  <a:pt x="2322" y="245"/>
                  <a:pt x="2366" y="253"/>
                  <a:pt x="2424" y="246"/>
                </a:cubicBezTo>
                <a:cubicBezTo>
                  <a:pt x="2438" y="244"/>
                  <a:pt x="2452" y="242"/>
                  <a:pt x="2466" y="240"/>
                </a:cubicBezTo>
                <a:cubicBezTo>
                  <a:pt x="2484" y="238"/>
                  <a:pt x="2520" y="234"/>
                  <a:pt x="2520" y="234"/>
                </a:cubicBez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677960" y="3070080"/>
            <a:ext cx="4318200" cy="1095480"/>
          </a:xfrm>
          <a:custGeom>
            <a:avLst/>
            <a:gdLst/>
            <a:ahLst/>
            <a:rect l="l" t="t" r="r" b="b"/>
            <a:pathLst>
              <a:path w="2566" h="556">
                <a:moveTo>
                  <a:pt x="0" y="556"/>
                </a:moveTo>
                <a:cubicBezTo>
                  <a:pt x="101" y="531"/>
                  <a:pt x="265" y="540"/>
                  <a:pt x="354" y="538"/>
                </a:cubicBezTo>
                <a:cubicBezTo>
                  <a:pt x="392" y="529"/>
                  <a:pt x="371" y="537"/>
                  <a:pt x="414" y="508"/>
                </a:cubicBezTo>
                <a:cubicBezTo>
                  <a:pt x="420" y="504"/>
                  <a:pt x="432" y="496"/>
                  <a:pt x="432" y="496"/>
                </a:cubicBezTo>
                <a:cubicBezTo>
                  <a:pt x="436" y="492"/>
                  <a:pt x="454" y="440"/>
                  <a:pt x="462" y="420"/>
                </a:cubicBezTo>
                <a:cubicBezTo>
                  <a:pt x="470" y="400"/>
                  <a:pt x="469" y="398"/>
                  <a:pt x="478" y="376"/>
                </a:cubicBezTo>
                <a:cubicBezTo>
                  <a:pt x="487" y="354"/>
                  <a:pt x="502" y="319"/>
                  <a:pt x="514" y="288"/>
                </a:cubicBezTo>
                <a:cubicBezTo>
                  <a:pt x="526" y="257"/>
                  <a:pt x="536" y="231"/>
                  <a:pt x="550" y="192"/>
                </a:cubicBezTo>
                <a:cubicBezTo>
                  <a:pt x="562" y="152"/>
                  <a:pt x="575" y="64"/>
                  <a:pt x="598" y="56"/>
                </a:cubicBezTo>
                <a:cubicBezTo>
                  <a:pt x="626" y="14"/>
                  <a:pt x="634" y="12"/>
                  <a:pt x="682" y="0"/>
                </a:cubicBezTo>
                <a:cubicBezTo>
                  <a:pt x="754" y="6"/>
                  <a:pt x="824" y="143"/>
                  <a:pt x="886" y="184"/>
                </a:cubicBezTo>
                <a:cubicBezTo>
                  <a:pt x="930" y="250"/>
                  <a:pt x="1095" y="377"/>
                  <a:pt x="1166" y="412"/>
                </a:cubicBezTo>
                <a:cubicBezTo>
                  <a:pt x="1203" y="430"/>
                  <a:pt x="1279" y="466"/>
                  <a:pt x="1322" y="468"/>
                </a:cubicBezTo>
                <a:cubicBezTo>
                  <a:pt x="1388" y="472"/>
                  <a:pt x="1468" y="494"/>
                  <a:pt x="1534" y="496"/>
                </a:cubicBezTo>
                <a:cubicBezTo>
                  <a:pt x="1685" y="515"/>
                  <a:pt x="1761" y="459"/>
                  <a:pt x="1910" y="456"/>
                </a:cubicBezTo>
                <a:cubicBezTo>
                  <a:pt x="1994" y="435"/>
                  <a:pt x="2036" y="405"/>
                  <a:pt x="2114" y="408"/>
                </a:cubicBezTo>
                <a:cubicBezTo>
                  <a:pt x="2174" y="413"/>
                  <a:pt x="2136" y="395"/>
                  <a:pt x="2194" y="388"/>
                </a:cubicBezTo>
                <a:cubicBezTo>
                  <a:pt x="2208" y="386"/>
                  <a:pt x="2356" y="326"/>
                  <a:pt x="2370" y="324"/>
                </a:cubicBezTo>
                <a:cubicBezTo>
                  <a:pt x="2388" y="322"/>
                  <a:pt x="2566" y="148"/>
                  <a:pt x="2566" y="148"/>
                </a:cubicBezTo>
              </a:path>
            </a:pathLst>
          </a:custGeom>
          <a:noFill/>
          <a:ln w="936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677960" y="2235240"/>
            <a:ext cx="4265640" cy="1938240"/>
          </a:xfrm>
          <a:custGeom>
            <a:avLst/>
            <a:gdLst/>
            <a:ahLst/>
            <a:rect l="l" t="t" r="r" b="b"/>
            <a:pathLst>
              <a:path w="2534" h="984">
                <a:moveTo>
                  <a:pt x="0" y="984"/>
                </a:moveTo>
                <a:cubicBezTo>
                  <a:pt x="101" y="948"/>
                  <a:pt x="265" y="961"/>
                  <a:pt x="354" y="958"/>
                </a:cubicBezTo>
                <a:cubicBezTo>
                  <a:pt x="392" y="945"/>
                  <a:pt x="371" y="957"/>
                  <a:pt x="414" y="915"/>
                </a:cubicBezTo>
                <a:cubicBezTo>
                  <a:pt x="420" y="910"/>
                  <a:pt x="432" y="898"/>
                  <a:pt x="432" y="898"/>
                </a:cubicBezTo>
                <a:cubicBezTo>
                  <a:pt x="436" y="892"/>
                  <a:pt x="454" y="818"/>
                  <a:pt x="462" y="789"/>
                </a:cubicBezTo>
                <a:cubicBezTo>
                  <a:pt x="470" y="761"/>
                  <a:pt x="469" y="758"/>
                  <a:pt x="478" y="726"/>
                </a:cubicBezTo>
                <a:cubicBezTo>
                  <a:pt x="487" y="695"/>
                  <a:pt x="502" y="645"/>
                  <a:pt x="514" y="600"/>
                </a:cubicBezTo>
                <a:cubicBezTo>
                  <a:pt x="526" y="556"/>
                  <a:pt x="536" y="519"/>
                  <a:pt x="550" y="463"/>
                </a:cubicBezTo>
                <a:cubicBezTo>
                  <a:pt x="562" y="406"/>
                  <a:pt x="575" y="280"/>
                  <a:pt x="598" y="268"/>
                </a:cubicBezTo>
                <a:cubicBezTo>
                  <a:pt x="626" y="208"/>
                  <a:pt x="634" y="205"/>
                  <a:pt x="682" y="188"/>
                </a:cubicBezTo>
                <a:cubicBezTo>
                  <a:pt x="754" y="197"/>
                  <a:pt x="840" y="322"/>
                  <a:pt x="902" y="380"/>
                </a:cubicBezTo>
                <a:cubicBezTo>
                  <a:pt x="974" y="468"/>
                  <a:pt x="1059" y="474"/>
                  <a:pt x="1130" y="524"/>
                </a:cubicBezTo>
                <a:cubicBezTo>
                  <a:pt x="1167" y="550"/>
                  <a:pt x="1239" y="541"/>
                  <a:pt x="1282" y="544"/>
                </a:cubicBezTo>
                <a:cubicBezTo>
                  <a:pt x="1348" y="550"/>
                  <a:pt x="1386" y="496"/>
                  <a:pt x="1598" y="392"/>
                </a:cubicBezTo>
                <a:cubicBezTo>
                  <a:pt x="2310" y="140"/>
                  <a:pt x="1702" y="352"/>
                  <a:pt x="1842" y="304"/>
                </a:cubicBezTo>
                <a:cubicBezTo>
                  <a:pt x="1926" y="274"/>
                  <a:pt x="2006" y="248"/>
                  <a:pt x="2090" y="224"/>
                </a:cubicBezTo>
                <a:cubicBezTo>
                  <a:pt x="2134" y="204"/>
                  <a:pt x="2076" y="215"/>
                  <a:pt x="2134" y="204"/>
                </a:cubicBezTo>
                <a:cubicBezTo>
                  <a:pt x="2148" y="202"/>
                  <a:pt x="2276" y="151"/>
                  <a:pt x="2290" y="148"/>
                </a:cubicBezTo>
                <a:cubicBezTo>
                  <a:pt x="2308" y="145"/>
                  <a:pt x="2534" y="0"/>
                  <a:pt x="2534" y="0"/>
                </a:cubicBezTo>
              </a:path>
            </a:pathLst>
          </a:custGeom>
          <a:noFill/>
          <a:ln w="93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501880" y="376092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  <a:ea typeface="Arial"/>
              </a:rPr>
              <a:t>500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33640" y="4465800"/>
            <a:ext cx="40608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272400" y="44496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  <a:ea typeface="Arial"/>
              </a:rPr>
              <a:t>séjour en altit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468120" y="4619520"/>
            <a:ext cx="77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tem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rot="16200000">
            <a:off x="117360" y="3253680"/>
            <a:ext cx="253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signes de maladap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074920" y="313056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66cc"/>
                </a:solidFill>
                <a:latin typeface="Verdana"/>
                <a:ea typeface="Arial"/>
              </a:rPr>
              <a:t>600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555800" y="223992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8080"/>
                </a:solidFill>
                <a:latin typeface="Verdana"/>
                <a:ea typeface="Arial"/>
              </a:rPr>
              <a:t>800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43800" y="800280"/>
            <a:ext cx="67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variations temporelles des signes de « maladaptation 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27680" y="5307120"/>
            <a:ext cx="70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5000 m : limite de la vie permanente possible (espèce humain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237080" y="135000"/>
            <a:ext cx="17139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-40680" y="127080"/>
            <a:ext cx="4750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effets à moyen et long ter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/>
          <p:nvPr/>
        </p:nvSpPr>
        <p:spPr>
          <a:xfrm>
            <a:off x="580320" y="1371600"/>
            <a:ext cx="669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opulations vivant en lat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mérique latine : hauts plateaux andins (3500-4000 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sie : hauts plateaux tibétains (3500-4000 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frique : hauts plateaux ethiopiens (3500 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15320" y="4367160"/>
            <a:ext cx="45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études : en général, populations and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519160" y="135000"/>
            <a:ext cx="17856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-5400" y="127080"/>
            <a:ext cx="354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populations d’alt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6120" y="374796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00480" y="374796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27440" y="374184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51160" y="374184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67320" y="374184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97520" y="374184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19800" y="374184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50000" y="374184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073720" y="374184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94560" y="374184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86160" y="358776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86160" y="312408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86160" y="265896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6160" y="219564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86160" y="173196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86160" y="126828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86160" y="80496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954680" y="919080"/>
            <a:ext cx="1440" cy="2782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378400" y="919080"/>
            <a:ext cx="1800" cy="2782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800680" y="919080"/>
            <a:ext cx="1800" cy="2782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222960" y="919080"/>
            <a:ext cx="1800" cy="2782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645240" y="919080"/>
            <a:ext cx="1800" cy="2782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7068960" y="919080"/>
            <a:ext cx="1800" cy="2782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489800" y="919080"/>
            <a:ext cx="1440" cy="2782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7913520" y="919080"/>
            <a:ext cx="1800" cy="2782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8335800" y="919080"/>
            <a:ext cx="1800" cy="2782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43360" y="3586320"/>
            <a:ext cx="3805200" cy="144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43360" y="3354480"/>
            <a:ext cx="3805200" cy="144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43360" y="3122640"/>
            <a:ext cx="3805200" cy="144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43360" y="2890800"/>
            <a:ext cx="3805200" cy="1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43360" y="2657520"/>
            <a:ext cx="3805200" cy="144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43360" y="2427120"/>
            <a:ext cx="3805200" cy="1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43360" y="2193840"/>
            <a:ext cx="3805200" cy="1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43360" y="1963800"/>
            <a:ext cx="3805200" cy="144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43360" y="1730520"/>
            <a:ext cx="3805200" cy="144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43360" y="1500120"/>
            <a:ext cx="3805200" cy="1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43360" y="1266840"/>
            <a:ext cx="3805200" cy="144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43360" y="1036800"/>
            <a:ext cx="3805200" cy="144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165640" y="919080"/>
            <a:ext cx="1800" cy="2782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589720" y="919080"/>
            <a:ext cx="1440" cy="2782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012000" y="919080"/>
            <a:ext cx="1440" cy="2782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432480" y="919080"/>
            <a:ext cx="3240" cy="2782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858000" y="919080"/>
            <a:ext cx="1440" cy="2782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7281720" y="919080"/>
            <a:ext cx="1800" cy="2782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702560" y="919080"/>
            <a:ext cx="1440" cy="2782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8124840" y="919080"/>
            <a:ext cx="3240" cy="2782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43360" y="3468600"/>
            <a:ext cx="3805200" cy="1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43360" y="3238560"/>
            <a:ext cx="3805200" cy="144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43360" y="3005280"/>
            <a:ext cx="3805200" cy="144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43360" y="2774880"/>
            <a:ext cx="3805200" cy="1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43360" y="2541600"/>
            <a:ext cx="3805200" cy="144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43360" y="2311560"/>
            <a:ext cx="3805200" cy="144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43360" y="2077920"/>
            <a:ext cx="3805200" cy="1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43360" y="1846440"/>
            <a:ext cx="3805200" cy="288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43360" y="1616040"/>
            <a:ext cx="3805200" cy="1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43360" y="1382760"/>
            <a:ext cx="3805200" cy="144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43360" y="1152360"/>
            <a:ext cx="3805200" cy="1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743360" y="3701520"/>
            <a:ext cx="1800" cy="55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954680" y="3701520"/>
            <a:ext cx="1440" cy="270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165640" y="3701520"/>
            <a:ext cx="1800" cy="55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378400" y="3701520"/>
            <a:ext cx="1800" cy="270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89720" y="3701520"/>
            <a:ext cx="1440" cy="55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800680" y="3701520"/>
            <a:ext cx="1800" cy="270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012000" y="3701520"/>
            <a:ext cx="1440" cy="55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222960" y="3701520"/>
            <a:ext cx="1800" cy="270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432480" y="3701520"/>
            <a:ext cx="3240" cy="55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5240" y="3701520"/>
            <a:ext cx="1800" cy="270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858000" y="3701520"/>
            <a:ext cx="1440" cy="55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068960" y="3701520"/>
            <a:ext cx="1800" cy="270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281720" y="3701520"/>
            <a:ext cx="1800" cy="55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489800" y="3701520"/>
            <a:ext cx="1440" cy="270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7702560" y="3701520"/>
            <a:ext cx="1440" cy="55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913520" y="3701520"/>
            <a:ext cx="1800" cy="270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8124840" y="3701520"/>
            <a:ext cx="3240" cy="55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8335800" y="3701520"/>
            <a:ext cx="1800" cy="270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8548560" y="3701520"/>
            <a:ext cx="1800" cy="55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3360" y="3701880"/>
            <a:ext cx="380520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87920" y="3701880"/>
            <a:ext cx="5544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14920" y="3586320"/>
            <a:ext cx="2844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87920" y="3468600"/>
            <a:ext cx="5544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14920" y="3354480"/>
            <a:ext cx="2844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87920" y="3238560"/>
            <a:ext cx="5544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14920" y="3122640"/>
            <a:ext cx="2844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87920" y="3005280"/>
            <a:ext cx="5544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14920" y="2890800"/>
            <a:ext cx="2844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87920" y="2774880"/>
            <a:ext cx="5544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14920" y="2657520"/>
            <a:ext cx="2844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87920" y="2541600"/>
            <a:ext cx="5544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14920" y="2427120"/>
            <a:ext cx="2844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87920" y="2311560"/>
            <a:ext cx="5544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14920" y="2193840"/>
            <a:ext cx="2844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87920" y="2077920"/>
            <a:ext cx="5544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714920" y="1963800"/>
            <a:ext cx="2844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87920" y="1846440"/>
            <a:ext cx="55440" cy="28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14920" y="1730520"/>
            <a:ext cx="2844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87920" y="1616040"/>
            <a:ext cx="5544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14920" y="1500120"/>
            <a:ext cx="2844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87920" y="1382760"/>
            <a:ext cx="5544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14920" y="1266840"/>
            <a:ext cx="2844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87920" y="1152360"/>
            <a:ext cx="5544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14920" y="1036800"/>
            <a:ext cx="2844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87920" y="919080"/>
            <a:ext cx="5544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743360" y="919080"/>
            <a:ext cx="1800" cy="2782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43360" y="1103400"/>
            <a:ext cx="1800" cy="3240"/>
          </a:xfrm>
          <a:prstGeom prst="rect">
            <a:avLst/>
          </a:prstGeom>
          <a:solidFill>
            <a:srgbClr val="000000"/>
          </a:solidFill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72120" y="2281320"/>
            <a:ext cx="3240" cy="3240"/>
          </a:xfrm>
          <a:prstGeom prst="rect">
            <a:avLst/>
          </a:prstGeom>
          <a:solidFill>
            <a:srgbClr val="000000"/>
          </a:solidFill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481960" y="3355920"/>
            <a:ext cx="3240" cy="3240"/>
          </a:xfrm>
          <a:prstGeom prst="rect">
            <a:avLst/>
          </a:prstGeom>
          <a:solidFill>
            <a:srgbClr val="000000"/>
          </a:solidFill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43360" y="1104840"/>
            <a:ext cx="3740400" cy="2252880"/>
          </a:xfrm>
          <a:custGeom>
            <a:avLst/>
            <a:gdLst/>
            <a:ahLst/>
            <a:rect l="l" t="t" r="r" b="b"/>
            <a:pathLst>
              <a:path w="4402" h="2595">
                <a:moveTo>
                  <a:pt x="0" y="0"/>
                </a:moveTo>
                <a:lnTo>
                  <a:pt x="74" y="82"/>
                </a:lnTo>
                <a:lnTo>
                  <a:pt x="149" y="160"/>
                </a:lnTo>
                <a:lnTo>
                  <a:pt x="223" y="238"/>
                </a:lnTo>
                <a:lnTo>
                  <a:pt x="299" y="314"/>
                </a:lnTo>
                <a:lnTo>
                  <a:pt x="373" y="389"/>
                </a:lnTo>
                <a:lnTo>
                  <a:pt x="448" y="459"/>
                </a:lnTo>
                <a:lnTo>
                  <a:pt x="522" y="530"/>
                </a:lnTo>
                <a:lnTo>
                  <a:pt x="596" y="599"/>
                </a:lnTo>
                <a:lnTo>
                  <a:pt x="671" y="667"/>
                </a:lnTo>
                <a:lnTo>
                  <a:pt x="747" y="732"/>
                </a:lnTo>
                <a:lnTo>
                  <a:pt x="821" y="797"/>
                </a:lnTo>
                <a:lnTo>
                  <a:pt x="896" y="858"/>
                </a:lnTo>
                <a:lnTo>
                  <a:pt x="970" y="919"/>
                </a:lnTo>
                <a:lnTo>
                  <a:pt x="1044" y="978"/>
                </a:lnTo>
                <a:lnTo>
                  <a:pt x="1119" y="1037"/>
                </a:lnTo>
                <a:lnTo>
                  <a:pt x="1195" y="1094"/>
                </a:lnTo>
                <a:lnTo>
                  <a:pt x="1269" y="1150"/>
                </a:lnTo>
                <a:lnTo>
                  <a:pt x="1343" y="1203"/>
                </a:lnTo>
                <a:lnTo>
                  <a:pt x="1418" y="1256"/>
                </a:lnTo>
                <a:lnTo>
                  <a:pt x="1492" y="1308"/>
                </a:lnTo>
                <a:lnTo>
                  <a:pt x="1566" y="1357"/>
                </a:lnTo>
                <a:lnTo>
                  <a:pt x="1641" y="1407"/>
                </a:lnTo>
                <a:lnTo>
                  <a:pt x="1717" y="1455"/>
                </a:lnTo>
                <a:lnTo>
                  <a:pt x="1791" y="1502"/>
                </a:lnTo>
                <a:lnTo>
                  <a:pt x="1866" y="1546"/>
                </a:lnTo>
                <a:lnTo>
                  <a:pt x="1940" y="1592"/>
                </a:lnTo>
                <a:lnTo>
                  <a:pt x="2014" y="1636"/>
                </a:lnTo>
                <a:lnTo>
                  <a:pt x="2089" y="1678"/>
                </a:lnTo>
                <a:lnTo>
                  <a:pt x="2165" y="1720"/>
                </a:lnTo>
                <a:lnTo>
                  <a:pt x="2239" y="1760"/>
                </a:lnTo>
                <a:lnTo>
                  <a:pt x="2313" y="1800"/>
                </a:lnTo>
                <a:lnTo>
                  <a:pt x="2388" y="1838"/>
                </a:lnTo>
                <a:lnTo>
                  <a:pt x="2462" y="1876"/>
                </a:lnTo>
                <a:lnTo>
                  <a:pt x="2536" y="1912"/>
                </a:lnTo>
                <a:lnTo>
                  <a:pt x="2613" y="1948"/>
                </a:lnTo>
                <a:lnTo>
                  <a:pt x="2687" y="1983"/>
                </a:lnTo>
                <a:lnTo>
                  <a:pt x="2761" y="2017"/>
                </a:lnTo>
                <a:lnTo>
                  <a:pt x="2836" y="2051"/>
                </a:lnTo>
                <a:lnTo>
                  <a:pt x="2910" y="2084"/>
                </a:lnTo>
                <a:lnTo>
                  <a:pt x="2984" y="2114"/>
                </a:lnTo>
                <a:lnTo>
                  <a:pt x="3059" y="2147"/>
                </a:lnTo>
                <a:lnTo>
                  <a:pt x="3135" y="2177"/>
                </a:lnTo>
                <a:lnTo>
                  <a:pt x="3209" y="2206"/>
                </a:lnTo>
                <a:lnTo>
                  <a:pt x="3283" y="2235"/>
                </a:lnTo>
                <a:lnTo>
                  <a:pt x="3358" y="2263"/>
                </a:lnTo>
                <a:lnTo>
                  <a:pt x="3432" y="2292"/>
                </a:lnTo>
                <a:lnTo>
                  <a:pt x="3506" y="2318"/>
                </a:lnTo>
                <a:lnTo>
                  <a:pt x="3583" y="2343"/>
                </a:lnTo>
                <a:lnTo>
                  <a:pt x="3657" y="2370"/>
                </a:lnTo>
                <a:lnTo>
                  <a:pt x="3731" y="2395"/>
                </a:lnTo>
                <a:lnTo>
                  <a:pt x="3806" y="2419"/>
                </a:lnTo>
                <a:lnTo>
                  <a:pt x="3880" y="2442"/>
                </a:lnTo>
                <a:lnTo>
                  <a:pt x="3954" y="2465"/>
                </a:lnTo>
                <a:lnTo>
                  <a:pt x="4031" y="2488"/>
                </a:lnTo>
                <a:lnTo>
                  <a:pt x="4105" y="2511"/>
                </a:lnTo>
                <a:lnTo>
                  <a:pt x="4179" y="2532"/>
                </a:lnTo>
                <a:lnTo>
                  <a:pt x="4254" y="2553"/>
                </a:lnTo>
                <a:lnTo>
                  <a:pt x="4328" y="2574"/>
                </a:lnTo>
                <a:lnTo>
                  <a:pt x="4402" y="2595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2469600" y="2604600"/>
            <a:ext cx="3213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pression atmosphérique (mm H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56920" y="4008600"/>
            <a:ext cx="160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altitude (1000 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8553600" y="919080"/>
            <a:ext cx="1440" cy="2782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43360" y="917640"/>
            <a:ext cx="3805200" cy="144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50800" y="4444920"/>
          <a:ext cx="8043840" cy="1933560"/>
        </p:xfrm>
        <a:graphic>
          <a:graphicData uri="http://schemas.openxmlformats.org/drawingml/2006/table">
            <a:tbl>
              <a:tblPr/>
              <a:tblGrid>
                <a:gridCol w="2757600"/>
                <a:gridCol w="2116080"/>
                <a:gridCol w="1585800"/>
                <a:gridCol w="1584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pressions ( mmH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niveau de la m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5500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diffé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p. atmosphéri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7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3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3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PO</a:t>
                      </a:r>
                      <a:r>
                        <a:rPr b="0" lang="en-GB" sz="16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PIO</a:t>
                      </a:r>
                      <a:r>
                        <a:rPr b="0" lang="en-GB" sz="16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PCO</a:t>
                      </a:r>
                      <a:r>
                        <a:rPr b="0" lang="en-GB" sz="16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0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0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0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PICO</a:t>
                      </a:r>
                      <a:r>
                        <a:rPr b="0" lang="en-GB" sz="16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0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0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0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187200" y="695160"/>
            <a:ext cx="5191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effet de l’altitu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99840" y="135000"/>
            <a:ext cx="2983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mposition de l’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3040" y="1446120"/>
            <a:ext cx="3575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iminution de la pression atmosphé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mposition de l’air en fraction : inchang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560" y="127080"/>
            <a:ext cx="4084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effets directs de l’alt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2" name=""/>
          <p:cNvGraphicFramePr/>
          <p:nvPr/>
        </p:nvGraphicFramePr>
        <p:xfrm>
          <a:off x="593640" y="2755800"/>
          <a:ext cx="7381800" cy="1339920"/>
        </p:xfrm>
        <a:graphic>
          <a:graphicData uri="http://schemas.openxmlformats.org/drawingml/2006/table">
            <a:tbl>
              <a:tblPr/>
              <a:tblGrid>
                <a:gridCol w="1811520"/>
                <a:gridCol w="1811160"/>
                <a:gridCol w="1811520"/>
                <a:gridCol w="19476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altitu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B (mm H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aO</a:t>
                      </a:r>
                      <a:r>
                        <a:rPr b="0" lang="en-GB" sz="1600" spc="-1" strike="noStrike" baseline="-30000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(mm H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aCO</a:t>
                      </a:r>
                      <a:r>
                        <a:rPr b="0" lang="en-GB" sz="1600" spc="-1" strike="noStrike" baseline="-30000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(mm H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3244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5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3600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4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4000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4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3" name=""/>
          <p:cNvSpPr/>
          <p:nvPr/>
        </p:nvSpPr>
        <p:spPr>
          <a:xfrm>
            <a:off x="593640" y="1751040"/>
            <a:ext cx="7245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Verdana"/>
              </a:rPr>
              <a:t>pression atmosphérique (PB), PO</a:t>
            </a:r>
            <a:r>
              <a:rPr b="0" lang="fr-FR" sz="1400" spc="-1" strike="noStrike" baseline="-25000">
                <a:solidFill>
                  <a:srgbClr val="990000"/>
                </a:solidFill>
                <a:latin typeface="Verdana"/>
              </a:rPr>
              <a:t>2</a:t>
            </a:r>
            <a:r>
              <a:rPr b="0" lang="fr-FR" sz="1400" spc="-1" strike="noStrike">
                <a:solidFill>
                  <a:srgbClr val="990000"/>
                </a:solidFill>
                <a:latin typeface="Verdana"/>
              </a:rPr>
              <a:t> artérielle (PaO</a:t>
            </a:r>
            <a:r>
              <a:rPr b="0" lang="fr-FR" sz="1400" spc="-1" strike="noStrike" baseline="-25000">
                <a:solidFill>
                  <a:srgbClr val="990000"/>
                </a:solidFill>
                <a:latin typeface="Verdana"/>
              </a:rPr>
              <a:t>2</a:t>
            </a:r>
            <a:r>
              <a:rPr b="0" lang="fr-FR" sz="1400" spc="-1" strike="noStrike">
                <a:solidFill>
                  <a:srgbClr val="990000"/>
                </a:solidFill>
                <a:latin typeface="Verdana"/>
              </a:rPr>
              <a:t>) et PCO</a:t>
            </a:r>
            <a:r>
              <a:rPr b="0" lang="fr-FR" sz="1400" spc="-1" strike="noStrike" baseline="-25000">
                <a:solidFill>
                  <a:srgbClr val="990000"/>
                </a:solidFill>
                <a:latin typeface="Verdana"/>
              </a:rPr>
              <a:t>2</a:t>
            </a:r>
            <a:r>
              <a:rPr b="0" lang="fr-FR" sz="1400" spc="-1" strike="noStrike">
                <a:solidFill>
                  <a:srgbClr val="990000"/>
                </a:solidFill>
                <a:latin typeface="Verdana"/>
              </a:rPr>
              <a:t> artérielle (PaCO</a:t>
            </a:r>
            <a:r>
              <a:rPr b="0" lang="fr-FR" sz="1400" spc="-1" strike="noStrike" baseline="-25000">
                <a:solidFill>
                  <a:srgbClr val="990000"/>
                </a:solidFill>
                <a:latin typeface="Verdana"/>
              </a:rPr>
              <a:t>2</a:t>
            </a:r>
            <a:r>
              <a:rPr b="0" lang="fr-FR" sz="1400" spc="-1" strike="noStrike">
                <a:solidFill>
                  <a:srgbClr val="990000"/>
                </a:solidFill>
                <a:latin typeface="Verdana"/>
              </a:rPr>
              <a:t>) moyennes à La Paz, en fonction de l’alt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12800" y="4897440"/>
            <a:ext cx="7299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iminution des pressions partielles dans le sang en 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et en C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066080" y="135000"/>
            <a:ext cx="16984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-5400" y="127080"/>
            <a:ext cx="354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populations d’alt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87200" y="695160"/>
            <a:ext cx="639792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PO</a:t>
            </a:r>
            <a:r>
              <a:rPr b="0" lang="en-GB" sz="22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 et PCO</a:t>
            </a:r>
            <a:r>
              <a:rPr b="0" lang="en-GB" sz="22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 dans le sa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5342040" y="4154400"/>
            <a:ext cx="91800" cy="104760"/>
          </a:xfrm>
          <a:prstGeom prst="ellipse">
            <a:avLst/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025960" y="4003560"/>
            <a:ext cx="90720" cy="104760"/>
          </a:xfrm>
          <a:prstGeom prst="ellipse">
            <a:avLst/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072040" y="4057560"/>
            <a:ext cx="316080" cy="14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346720" y="4159080"/>
            <a:ext cx="82440" cy="95400"/>
          </a:xfrm>
          <a:prstGeom prst="rect">
            <a:avLst/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072040" y="4057560"/>
            <a:ext cx="316080" cy="147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029200" y="4008600"/>
            <a:ext cx="84240" cy="95040"/>
          </a:xfrm>
          <a:prstGeom prst="rect">
            <a:avLst/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755880" y="3854520"/>
            <a:ext cx="92160" cy="104760"/>
          </a:xfrm>
          <a:prstGeom prst="ellipse">
            <a:avLst/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803760" y="3906720"/>
            <a:ext cx="1268280" cy="1508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760920" y="3859200"/>
            <a:ext cx="82440" cy="93600"/>
          </a:xfrm>
          <a:prstGeom prst="rect">
            <a:avLst/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801440" y="459756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436480" y="459756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070080" y="459756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679560" y="459756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314600" y="459756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949640" y="459756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583600" y="459756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280520" y="43768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280520" y="407340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192680" y="377352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192680" y="34750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192680" y="31734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192680" y="287172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192680" y="25732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192680" y="22716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192680" y="196992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192680" y="16714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1582560" y="4506480"/>
            <a:ext cx="1800" cy="3348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V="1">
            <a:off x="1898640" y="4506480"/>
            <a:ext cx="1440" cy="651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2216160" y="4506480"/>
            <a:ext cx="1440" cy="3348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2533680" y="4506480"/>
            <a:ext cx="1440" cy="651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2851200" y="4506480"/>
            <a:ext cx="1440" cy="3348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3166920" y="4506480"/>
            <a:ext cx="3240" cy="651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V="1">
            <a:off x="3484440" y="4506480"/>
            <a:ext cx="1800" cy="3348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3803760" y="4506480"/>
            <a:ext cx="1440" cy="651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19480" y="4506480"/>
            <a:ext cx="1800" cy="3348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437000" y="4506480"/>
            <a:ext cx="1800" cy="651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753080" y="4506480"/>
            <a:ext cx="1440" cy="3348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072040" y="4506480"/>
            <a:ext cx="1440" cy="651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5388120" y="4506480"/>
            <a:ext cx="1440" cy="3348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5705640" y="4506480"/>
            <a:ext cx="1440" cy="651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582560" y="4506840"/>
            <a:ext cx="412308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525680" y="4506840"/>
            <a:ext cx="5688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552680" y="4357800"/>
            <a:ext cx="29880" cy="32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525680" y="4205160"/>
            <a:ext cx="56880" cy="32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552680" y="4057560"/>
            <a:ext cx="2988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525680" y="3906720"/>
            <a:ext cx="5688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552680" y="3755880"/>
            <a:ext cx="2988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525680" y="3605040"/>
            <a:ext cx="5688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552680" y="3454560"/>
            <a:ext cx="29880" cy="288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525680" y="3306600"/>
            <a:ext cx="5688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552680" y="3156120"/>
            <a:ext cx="2988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525680" y="3005280"/>
            <a:ext cx="5688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552680" y="2854440"/>
            <a:ext cx="2988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525680" y="2703600"/>
            <a:ext cx="5688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552680" y="2556000"/>
            <a:ext cx="2988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525680" y="2401920"/>
            <a:ext cx="56880" cy="32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552680" y="2254320"/>
            <a:ext cx="2988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525680" y="2103480"/>
            <a:ext cx="5688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552680" y="1952640"/>
            <a:ext cx="2988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525680" y="1801800"/>
            <a:ext cx="5688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1582560" y="1784520"/>
            <a:ext cx="1800" cy="27223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898640" y="1952640"/>
            <a:ext cx="317520" cy="6033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216160" y="2556000"/>
            <a:ext cx="539640" cy="1199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755800" y="3755880"/>
            <a:ext cx="1047960" cy="1508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072040" y="4057560"/>
            <a:ext cx="316080" cy="147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852560" y="1901880"/>
            <a:ext cx="92160" cy="102960"/>
          </a:xfrm>
          <a:prstGeom prst="ellipse">
            <a:avLst/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171880" y="2502000"/>
            <a:ext cx="90360" cy="104760"/>
          </a:xfrm>
          <a:prstGeom prst="ellipse">
            <a:avLst/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709720" y="3705120"/>
            <a:ext cx="92160" cy="103320"/>
          </a:xfrm>
          <a:prstGeom prst="ellipse">
            <a:avLst/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1898640" y="3454560"/>
            <a:ext cx="317520" cy="1504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216160" y="3454560"/>
            <a:ext cx="539640" cy="4521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755800" y="3906720"/>
            <a:ext cx="1047960" cy="1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852560" y="3552840"/>
            <a:ext cx="92160" cy="10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171880" y="3403440"/>
            <a:ext cx="90360" cy="10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709720" y="3854520"/>
            <a:ext cx="92160" cy="10476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898640" y="4057560"/>
            <a:ext cx="317520" cy="180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V="1">
            <a:off x="2216160" y="3906360"/>
            <a:ext cx="539640" cy="15084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857240" y="4008600"/>
            <a:ext cx="82800" cy="95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174760" y="4008600"/>
            <a:ext cx="84240" cy="95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714760" y="3859200"/>
            <a:ext cx="82440" cy="93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500280" y="2371680"/>
            <a:ext cx="381240" cy="1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643200" y="2317680"/>
            <a:ext cx="93600" cy="104760"/>
          </a:xfrm>
          <a:prstGeom prst="ellipse">
            <a:avLst/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500280" y="2603520"/>
            <a:ext cx="381240" cy="32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643200" y="2552760"/>
            <a:ext cx="93600" cy="10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500280" y="2838600"/>
            <a:ext cx="381240" cy="144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649680" y="2792520"/>
            <a:ext cx="81000" cy="93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587680" y="4782960"/>
            <a:ext cx="193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PAO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Verdana"/>
                <a:ea typeface="Arial"/>
              </a:rPr>
              <a:t>2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 (mmH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rot="16200000">
            <a:off x="-166320" y="2998800"/>
            <a:ext cx="190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ventilation (L/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957840" y="2109960"/>
            <a:ext cx="225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natif niveau de la 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061880" y="2363760"/>
            <a:ext cx="30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natif altitude (3600 m) (La Pa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963240" y="2590920"/>
            <a:ext cx="407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natif altitude (3600 m) (La Pa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 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avec polyglobulie patholog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84080" y="5230800"/>
            <a:ext cx="794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opulations andines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hyperventilation moins marquée que chez les sujets acclimaté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aible réponse ventilatoire à l’hypox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066080" y="135000"/>
            <a:ext cx="16984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-5400" y="127080"/>
            <a:ext cx="354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populations d’alt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87200" y="695160"/>
            <a:ext cx="63979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réponse au dioxygè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784760" y="712800"/>
            <a:ext cx="41338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réponse ventilatoire à l’hypoxi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2568600" y="1376280"/>
            <a:ext cx="539640" cy="1854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031840" y="2878200"/>
            <a:ext cx="540000" cy="3524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114720" y="2944800"/>
            <a:ext cx="539640" cy="2858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368360" y="1249200"/>
            <a:ext cx="4452840" cy="1990800"/>
          </a:xfrm>
          <a:custGeom>
            <a:avLst/>
            <a:gdLst/>
            <a:ahLst/>
            <a:rect l="l" t="t" r="r" b="b"/>
            <a:pathLst>
              <a:path w="2769" h="1254">
                <a:moveTo>
                  <a:pt x="0" y="0"/>
                </a:moveTo>
                <a:lnTo>
                  <a:pt x="64" y="0"/>
                </a:lnTo>
                <a:lnTo>
                  <a:pt x="64" y="1248"/>
                </a:lnTo>
                <a:lnTo>
                  <a:pt x="2768" y="1248"/>
                </a:lnTo>
                <a:lnTo>
                  <a:pt x="2769" y="1254"/>
                </a:ln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9" name=""/>
          <p:cNvGrpSpPr/>
          <p:nvPr/>
        </p:nvGrpSpPr>
        <p:grpSpPr>
          <a:xfrm>
            <a:off x="2562120" y="3232080"/>
            <a:ext cx="3270240" cy="128520"/>
            <a:chOff x="2562120" y="3232080"/>
            <a:chExt cx="3270240" cy="128520"/>
          </a:xfrm>
        </p:grpSpPr>
        <p:sp>
          <p:nvSpPr>
            <p:cNvPr id="1130" name=""/>
            <p:cNvSpPr/>
            <p:nvPr/>
          </p:nvSpPr>
          <p:spPr>
            <a:xfrm>
              <a:off x="2562120" y="3240000"/>
              <a:ext cx="0" cy="1206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664080" y="3237120"/>
              <a:ext cx="0" cy="1206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746600" y="3232080"/>
              <a:ext cx="0" cy="1206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832360" y="3235680"/>
              <a:ext cx="0" cy="1206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4" name=""/>
          <p:cNvSpPr/>
          <p:nvPr/>
        </p:nvSpPr>
        <p:spPr>
          <a:xfrm flipH="1">
            <a:off x="1349280" y="1736640"/>
            <a:ext cx="11448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H="1">
            <a:off x="1355400" y="2232000"/>
            <a:ext cx="11412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944640" y="1098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Verdana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944640" y="15685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944640" y="20638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Verdan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944640" y="25588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Verdan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1342800" y="2727360"/>
            <a:ext cx="11412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1342800" y="3228840"/>
            <a:ext cx="11412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rot="16200000">
            <a:off x="-277920" y="2028960"/>
            <a:ext cx="20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Verdana"/>
              </a:rPr>
              <a:t>% population to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535640" y="186048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And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585720" y="3852720"/>
            <a:ext cx="7787160" cy="2772720"/>
            <a:chOff x="585720" y="3852720"/>
            <a:chExt cx="7787160" cy="2772720"/>
          </a:xfrm>
        </p:grpSpPr>
        <p:sp>
          <p:nvSpPr>
            <p:cNvPr id="1145" name=""/>
            <p:cNvSpPr/>
            <p:nvPr/>
          </p:nvSpPr>
          <p:spPr>
            <a:xfrm flipH="1">
              <a:off x="1366560" y="4503600"/>
              <a:ext cx="11412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1373040" y="4998960"/>
              <a:ext cx="11448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7" name=""/>
            <p:cNvGrpSpPr/>
            <p:nvPr/>
          </p:nvGrpSpPr>
          <p:grpSpPr>
            <a:xfrm>
              <a:off x="2576520" y="5986440"/>
              <a:ext cx="3270240" cy="128520"/>
              <a:chOff x="2576520" y="5986440"/>
              <a:chExt cx="3270240" cy="128520"/>
            </a:xfrm>
          </p:grpSpPr>
          <p:sp>
            <p:nvSpPr>
              <p:cNvPr id="1148" name=""/>
              <p:cNvSpPr/>
              <p:nvPr/>
            </p:nvSpPr>
            <p:spPr>
              <a:xfrm>
                <a:off x="2576520" y="5994360"/>
                <a:ext cx="0" cy="120600"/>
              </a:xfrm>
              <a:prstGeom prst="line">
                <a:avLst/>
              </a:prstGeom>
              <a:ln w="190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3678480" y="5991480"/>
                <a:ext cx="0" cy="120600"/>
              </a:xfrm>
              <a:prstGeom prst="line">
                <a:avLst/>
              </a:prstGeom>
              <a:ln w="190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761000" y="5986440"/>
                <a:ext cx="0" cy="120600"/>
              </a:xfrm>
              <a:prstGeom prst="line">
                <a:avLst/>
              </a:prstGeom>
              <a:ln w="190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846760" y="5990040"/>
                <a:ext cx="0" cy="120600"/>
              </a:xfrm>
              <a:prstGeom prst="line">
                <a:avLst/>
              </a:prstGeom>
              <a:ln w="190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2" name=""/>
            <p:cNvSpPr/>
            <p:nvPr/>
          </p:nvSpPr>
          <p:spPr>
            <a:xfrm>
              <a:off x="3678120" y="5313240"/>
              <a:ext cx="540000" cy="6778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214880" y="5643720"/>
              <a:ext cx="539640" cy="3571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751280" y="5881680"/>
              <a:ext cx="540000" cy="1094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132000" y="5427720"/>
              <a:ext cx="540000" cy="5731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576520" y="5646600"/>
              <a:ext cx="552600" cy="3542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030400" y="5608800"/>
              <a:ext cx="539640" cy="3823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484280" y="5923080"/>
              <a:ext cx="539640" cy="7776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379520" y="4014720"/>
              <a:ext cx="4452840" cy="1990800"/>
            </a:xfrm>
            <a:custGeom>
              <a:avLst/>
              <a:gdLst/>
              <a:ahLst/>
              <a:rect l="l" t="t" r="r" b="b"/>
              <a:pathLst>
                <a:path w="2769" h="1254">
                  <a:moveTo>
                    <a:pt x="0" y="0"/>
                  </a:moveTo>
                  <a:lnTo>
                    <a:pt x="64" y="0"/>
                  </a:lnTo>
                  <a:lnTo>
                    <a:pt x="64" y="1248"/>
                  </a:lnTo>
                  <a:lnTo>
                    <a:pt x="2768" y="1248"/>
                  </a:lnTo>
                  <a:lnTo>
                    <a:pt x="2769" y="1254"/>
                  </a:lnTo>
                </a:path>
              </a:pathLst>
            </a:custGeom>
            <a:noFill/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478880" y="6081840"/>
              <a:ext cx="449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Verdana"/>
                </a:rPr>
                <a:t>0</a:t>
              </a:r>
              <a:r>
                <a:rPr b="0" lang="fr-FR" sz="1600" spc="-1" strike="noStrike">
                  <a:solidFill>
                    <a:srgbClr val="990000"/>
                  </a:solidFill>
                  <a:latin typeface="Verdana"/>
                </a:rPr>
                <a:t>	</a:t>
              </a:r>
              <a:r>
                <a:rPr b="0" lang="fr-FR" sz="1600" spc="-1" strike="noStrike">
                  <a:solidFill>
                    <a:srgbClr val="990000"/>
                  </a:solidFill>
                  <a:latin typeface="Verdana"/>
                </a:rPr>
                <a:t> 10</a:t>
              </a:r>
              <a:r>
                <a:rPr b="0" lang="fr-FR" sz="1600" spc="-1" strike="noStrike">
                  <a:solidFill>
                    <a:srgbClr val="990000"/>
                  </a:solidFill>
                  <a:latin typeface="Verdana"/>
                </a:rPr>
                <a:t>	</a:t>
              </a:r>
              <a:r>
                <a:rPr b="0" lang="fr-FR" sz="1600" spc="-1" strike="noStrike">
                  <a:solidFill>
                    <a:srgbClr val="990000"/>
                  </a:solidFill>
                  <a:latin typeface="Verdana"/>
                </a:rPr>
                <a:t>   20</a:t>
              </a:r>
              <a:r>
                <a:rPr b="0" lang="fr-FR" sz="1600" spc="-1" strike="noStrike">
                  <a:solidFill>
                    <a:srgbClr val="990000"/>
                  </a:solidFill>
                  <a:latin typeface="Verdana"/>
                </a:rPr>
                <a:t>	</a:t>
              </a:r>
              <a:r>
                <a:rPr b="0" lang="fr-FR" sz="1600" spc="-1" strike="noStrike">
                  <a:solidFill>
                    <a:srgbClr val="990000"/>
                  </a:solidFill>
                  <a:latin typeface="Verdana"/>
                </a:rPr>
                <a:t>     30</a:t>
              </a:r>
              <a:r>
                <a:rPr b="0" lang="fr-FR" sz="1600" spc="-1" strike="noStrike">
                  <a:solidFill>
                    <a:srgbClr val="990000"/>
                  </a:solidFill>
                  <a:latin typeface="Verdana"/>
                </a:rPr>
                <a:t>	</a:t>
              </a:r>
              <a:r>
                <a:rPr b="0" lang="fr-FR" sz="1600" spc="-1" strike="noStrike">
                  <a:solidFill>
                    <a:srgbClr val="990000"/>
                  </a:solidFill>
                  <a:latin typeface="Verdana"/>
                </a:rPr>
                <a:t>        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962280" y="38527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0000"/>
                  </a:solidFill>
                  <a:latin typeface="Verdana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962280" y="433548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0000"/>
                  </a:solidFill>
                  <a:latin typeface="Verdana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62280" y="483084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0000"/>
                  </a:solidFill>
                  <a:latin typeface="Verdana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962280" y="532620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0000"/>
                  </a:solidFill>
                  <a:latin typeface="Verdana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1360440" y="5494320"/>
              <a:ext cx="11448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1360440" y="5996160"/>
              <a:ext cx="11448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983240" y="6288120"/>
              <a:ext cx="344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0000"/>
                  </a:solidFill>
                  <a:latin typeface="Verdana"/>
                </a:rPr>
                <a:t>débit respiratoire au repos (L/mi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rot="16200000">
              <a:off x="-265320" y="4946760"/>
              <a:ext cx="204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0000"/>
                  </a:solidFill>
                  <a:latin typeface="Verdana"/>
                </a:rPr>
                <a:t>% population tot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559760" y="4502160"/>
              <a:ext cx="104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80"/>
                  </a:solidFill>
                  <a:latin typeface="Verdana"/>
                </a:rPr>
                <a:t>Tibéta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736960" y="4303800"/>
              <a:ext cx="263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00"/>
                  </a:solidFill>
                  <a:latin typeface="Trebuchet MS"/>
                </a:rPr>
                <a:t>débit ventilatoire élev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"/>
          <p:cNvSpPr/>
          <p:nvPr/>
        </p:nvSpPr>
        <p:spPr>
          <a:xfrm>
            <a:off x="5725080" y="2195640"/>
            <a:ext cx="26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rebuchet MS"/>
              </a:rPr>
              <a:t>débit ventilatoire fa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066080" y="135000"/>
            <a:ext cx="16984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-5400" y="127080"/>
            <a:ext cx="354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rebuchet MS"/>
              </a:rPr>
              <a:t>populations d’alt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87200" y="695160"/>
            <a:ext cx="63979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réponse au dioxygè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784760" y="712800"/>
            <a:ext cx="41338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débit ventilatoir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402920" y="3313080"/>
            <a:ext cx="449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0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 10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   20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     30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        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046960" y="3544920"/>
            <a:ext cx="34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débit respiratoire au repos (L/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/>
          <p:nvPr/>
        </p:nvSpPr>
        <p:spPr>
          <a:xfrm>
            <a:off x="777960" y="1804320"/>
            <a:ext cx="675000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normal, niveau de la mer :40 à 4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normal, habitants de La Paz : jusqu’à 57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polyglobulie pathologique (polycythémie) : jusqu’à 8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polyglobulie pathologique d’alt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84080" y="5230800"/>
            <a:ext cx="794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opulations andines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olyglobulie « normale 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+ cas de polyglobulie patholog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859440" y="135000"/>
            <a:ext cx="2186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érythropoïè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-5400" y="127080"/>
            <a:ext cx="354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rebuchet MS"/>
              </a:rPr>
              <a:t>populations d’alt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87200" y="695160"/>
            <a:ext cx="63979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hématocri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/>
          <p:nvPr/>
        </p:nvSpPr>
        <p:spPr>
          <a:xfrm>
            <a:off x="4559760" y="419724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8080"/>
                </a:solidFill>
                <a:latin typeface="Verdana"/>
              </a:rPr>
              <a:t>Tibét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649440" y="3809880"/>
            <a:ext cx="7438320" cy="2795040"/>
            <a:chOff x="649440" y="3809880"/>
            <a:chExt cx="7438320" cy="2795040"/>
          </a:xfrm>
        </p:grpSpPr>
        <p:sp>
          <p:nvSpPr>
            <p:cNvPr id="1187" name=""/>
            <p:cNvSpPr/>
            <p:nvPr/>
          </p:nvSpPr>
          <p:spPr>
            <a:xfrm rot="16200000">
              <a:off x="-201600" y="4822920"/>
              <a:ext cx="204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Verdana"/>
                </a:rPr>
                <a:t>% population tot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835200" y="6267600"/>
              <a:ext cx="427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Verdana"/>
                </a:rPr>
                <a:t>concentration d’hémoglobine (g/10 m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425680" y="5929200"/>
              <a:ext cx="0" cy="907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1467000" y="5277960"/>
              <a:ext cx="90360" cy="1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1468440" y="4637160"/>
              <a:ext cx="90360" cy="14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V="1">
              <a:off x="1463760" y="3979440"/>
              <a:ext cx="90360" cy="1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555920" y="5923080"/>
              <a:ext cx="0" cy="90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282840" y="5929200"/>
              <a:ext cx="0" cy="907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146480" y="5929200"/>
              <a:ext cx="0" cy="907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432160" y="4095720"/>
              <a:ext cx="172800" cy="182880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260440" y="4384800"/>
              <a:ext cx="173160" cy="154296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089080" y="4295880"/>
              <a:ext cx="173160" cy="16318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917720" y="5603760"/>
              <a:ext cx="173160" cy="32400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603520" y="5064120"/>
              <a:ext cx="173160" cy="8636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774880" y="5388120"/>
              <a:ext cx="173160" cy="5396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940120" y="5816520"/>
              <a:ext cx="172800" cy="1112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111480" y="5753160"/>
              <a:ext cx="173160" cy="17460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684080" y="5979960"/>
              <a:ext cx="244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Verdana"/>
                </a:rPr>
                <a:t>10        15        20         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084320" y="380988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Verdana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084320" y="446400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Verdana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084320" y="51307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Verdan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V="1">
              <a:off x="1467000" y="5925600"/>
              <a:ext cx="90360" cy="1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204920" y="57531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Verdan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558800" y="3976560"/>
              <a:ext cx="2589480" cy="1952640"/>
            </a:xfrm>
            <a:custGeom>
              <a:avLst/>
              <a:gdLst/>
              <a:ahLst/>
              <a:rect l="l" t="t" r="r" b="b"/>
              <a:pathLst>
                <a:path w="2727" h="1230">
                  <a:moveTo>
                    <a:pt x="0" y="0"/>
                  </a:moveTo>
                  <a:lnTo>
                    <a:pt x="0" y="1230"/>
                  </a:lnTo>
                  <a:lnTo>
                    <a:pt x="2727" y="123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701680" y="4176720"/>
              <a:ext cx="23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pas de polycythém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2" name=""/>
          <p:cNvGrpSpPr/>
          <p:nvPr/>
        </p:nvGrpSpPr>
        <p:grpSpPr>
          <a:xfrm>
            <a:off x="647640" y="1401840"/>
            <a:ext cx="6679440" cy="2280240"/>
            <a:chOff x="647640" y="1401840"/>
            <a:chExt cx="6679440" cy="2280240"/>
          </a:xfrm>
        </p:grpSpPr>
        <p:sp>
          <p:nvSpPr>
            <p:cNvPr id="1213" name=""/>
            <p:cNvSpPr/>
            <p:nvPr/>
          </p:nvSpPr>
          <p:spPr>
            <a:xfrm>
              <a:off x="4535640" y="2203560"/>
              <a:ext cx="83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Verdana"/>
                </a:rPr>
                <a:t>And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707800" y="2182680"/>
              <a:ext cx="16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polycythém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146480" y="3521160"/>
              <a:ext cx="0" cy="90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084320" y="140184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Verdana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084320" y="205596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Verdana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084320" y="272268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Verdan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204920" y="33447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Verdan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0" name=""/>
            <p:cNvGrpSpPr/>
            <p:nvPr/>
          </p:nvGrpSpPr>
          <p:grpSpPr>
            <a:xfrm>
              <a:off x="1463760" y="1573200"/>
              <a:ext cx="2684520" cy="2042640"/>
              <a:chOff x="1463760" y="1573200"/>
              <a:chExt cx="2684520" cy="2042640"/>
            </a:xfrm>
          </p:grpSpPr>
          <p:sp>
            <p:nvSpPr>
              <p:cNvPr id="1221" name=""/>
              <p:cNvSpPr/>
              <p:nvPr/>
            </p:nvSpPr>
            <p:spPr>
              <a:xfrm>
                <a:off x="2425680" y="3525480"/>
                <a:ext cx="0" cy="9036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1467000" y="2874600"/>
                <a:ext cx="9036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468440" y="2233440"/>
                <a:ext cx="907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463760" y="1576080"/>
                <a:ext cx="907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1555920" y="3519360"/>
                <a:ext cx="0" cy="900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3283200" y="3525480"/>
                <a:ext cx="0" cy="9036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4146840" y="3525480"/>
                <a:ext cx="0" cy="9036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3111480" y="2558880"/>
                <a:ext cx="173160" cy="964800"/>
              </a:xfrm>
              <a:prstGeom prst="rect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2934000" y="2107800"/>
                <a:ext cx="172800" cy="1415880"/>
              </a:xfrm>
              <a:prstGeom prst="rect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2762280" y="1930320"/>
                <a:ext cx="173160" cy="1593360"/>
              </a:xfrm>
              <a:prstGeom prst="rect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2590920" y="2742840"/>
                <a:ext cx="173160" cy="780840"/>
              </a:xfrm>
              <a:prstGeom prst="rect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270240" y="2787480"/>
                <a:ext cx="173160" cy="736200"/>
              </a:xfrm>
              <a:prstGeom prst="rect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448080" y="3282840"/>
                <a:ext cx="173160" cy="240840"/>
              </a:xfrm>
              <a:prstGeom prst="rect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795840" y="3304800"/>
                <a:ext cx="173160" cy="218880"/>
              </a:xfrm>
              <a:prstGeom prst="rect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613320" y="3126960"/>
                <a:ext cx="173160" cy="396720"/>
              </a:xfrm>
              <a:prstGeom prst="rect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2425680" y="3016080"/>
                <a:ext cx="173160" cy="507600"/>
              </a:xfrm>
              <a:prstGeom prst="rect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2254320" y="3428640"/>
                <a:ext cx="173160" cy="95040"/>
              </a:xfrm>
              <a:prstGeom prst="rect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1559160" y="1573200"/>
                <a:ext cx="2589120" cy="1952280"/>
              </a:xfrm>
              <a:custGeom>
                <a:avLst/>
                <a:gdLst/>
                <a:ahLst/>
                <a:rect l="l" t="t" r="r" b="b"/>
                <a:pathLst>
                  <a:path w="2727" h="1230">
                    <a:moveTo>
                      <a:pt x="0" y="0"/>
                    </a:moveTo>
                    <a:lnTo>
                      <a:pt x="0" y="1230"/>
                    </a:lnTo>
                    <a:lnTo>
                      <a:pt x="2727" y="1230"/>
                    </a:lnTo>
                  </a:path>
                </a:pathLst>
              </a:custGeom>
              <a:noFill/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9" name=""/>
            <p:cNvSpPr/>
            <p:nvPr/>
          </p:nvSpPr>
          <p:spPr>
            <a:xfrm rot="16200000">
              <a:off x="-203400" y="2385000"/>
              <a:ext cx="204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Verdana"/>
                </a:rPr>
                <a:t>% population tot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0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859440" y="135000"/>
            <a:ext cx="2186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érythropoïè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-5400" y="127080"/>
            <a:ext cx="354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rebuchet MS"/>
              </a:rPr>
              <a:t>populations d’alt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87200" y="695160"/>
            <a:ext cx="63979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concentration en hémoglob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2451240" y="3984480"/>
            <a:ext cx="5636520" cy="1933560"/>
            <a:chOff x="2451240" y="3984480"/>
            <a:chExt cx="5636520" cy="1933560"/>
          </a:xfrm>
        </p:grpSpPr>
        <p:sp>
          <p:nvSpPr>
            <p:cNvPr id="1245" name=""/>
            <p:cNvSpPr/>
            <p:nvPr/>
          </p:nvSpPr>
          <p:spPr>
            <a:xfrm>
              <a:off x="5701680" y="4672080"/>
              <a:ext cx="23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pas de polycythém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451240" y="3984480"/>
              <a:ext cx="0" cy="1933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547520" y="4692600"/>
              <a:ext cx="117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0000"/>
                  </a:solidFill>
                  <a:latin typeface="Verdana"/>
                </a:rPr>
                <a:t>Éthiopie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8" name=""/>
          <p:cNvGraphicFramePr/>
          <p:nvPr/>
        </p:nvGraphicFramePr>
        <p:xfrm>
          <a:off x="797040" y="2809800"/>
          <a:ext cx="5848200" cy="1005120"/>
        </p:xfrm>
        <a:graphic>
          <a:graphicData uri="http://schemas.openxmlformats.org/drawingml/2006/table">
            <a:tbl>
              <a:tblPr/>
              <a:tblGrid>
                <a:gridCol w="1949040"/>
                <a:gridCol w="1949760"/>
                <a:gridCol w="1949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fil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garç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niveau de la m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7,7 ± 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7,1 ± 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La Pa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13,1 ± 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14,2 ± 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9" name=""/>
          <p:cNvSpPr/>
          <p:nvPr/>
        </p:nvSpPr>
        <p:spPr>
          <a:xfrm>
            <a:off x="622440" y="1687680"/>
            <a:ext cx="760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diffusion alvéolo-capillaire (DL</a:t>
            </a:r>
            <a:r>
              <a:rPr b="0" lang="fr-FR" sz="1600" spc="-1" strike="noStrike" baseline="30000">
                <a:solidFill>
                  <a:srgbClr val="990000"/>
                </a:solidFill>
                <a:latin typeface="Verdana"/>
                <a:ea typeface="Arial"/>
              </a:rPr>
              <a:t>CO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, ml/min/mmHg) corrigées en fonction de la concentration en hémoglobine chez les enfants au niveau de la mer et en altitude (la Pa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55480" y="4570560"/>
            <a:ext cx="530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opulations andines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ugmentation de la diffusion alvéolo-capillai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985280" y="135000"/>
            <a:ext cx="4004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ffusion alvéolo-capillaire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-5400" y="127080"/>
            <a:ext cx="354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rebuchet MS"/>
              </a:rPr>
              <a:t>populations d’alt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/>
          <p:nvPr/>
        </p:nvSpPr>
        <p:spPr>
          <a:xfrm>
            <a:off x="1525680" y="1481040"/>
            <a:ext cx="214200" cy="2435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944720" y="1406520"/>
            <a:ext cx="214200" cy="250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176560" y="1814400"/>
            <a:ext cx="215640" cy="2102040"/>
          </a:xfrm>
          <a:prstGeom prst="rect">
            <a:avLst/>
          </a:prstGeom>
          <a:solidFill>
            <a:srgbClr val="000066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706840" y="2035080"/>
            <a:ext cx="214200" cy="1881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916360" y="1886040"/>
            <a:ext cx="214200" cy="203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137040" y="2073240"/>
            <a:ext cx="217440" cy="1843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357720" y="2219400"/>
            <a:ext cx="215640" cy="1697040"/>
          </a:xfrm>
          <a:prstGeom prst="rect">
            <a:avLst/>
          </a:prstGeom>
          <a:solidFill>
            <a:srgbClr val="000066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773520" y="2627280"/>
            <a:ext cx="216000" cy="1289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994200" y="2443320"/>
            <a:ext cx="217440" cy="1473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203720" y="2556000"/>
            <a:ext cx="217440" cy="1360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435560" y="2851200"/>
            <a:ext cx="217440" cy="1065240"/>
          </a:xfrm>
          <a:prstGeom prst="rect">
            <a:avLst/>
          </a:prstGeom>
          <a:solidFill>
            <a:srgbClr val="000066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840200" y="3294000"/>
            <a:ext cx="216000" cy="622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049720" y="3257640"/>
            <a:ext cx="216000" cy="65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259240" y="3219480"/>
            <a:ext cx="216000" cy="69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491080" y="3443400"/>
            <a:ext cx="217440" cy="473040"/>
          </a:xfrm>
          <a:prstGeom prst="rect">
            <a:avLst/>
          </a:prstGeom>
          <a:solidFill>
            <a:srgbClr val="000066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877320" y="379872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877320" y="32068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877320" y="26146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877320" y="20224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877320" y="14302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098720" y="3921120"/>
            <a:ext cx="6336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128600" y="3624120"/>
            <a:ext cx="3348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098720" y="3328920"/>
            <a:ext cx="6336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128600" y="3032280"/>
            <a:ext cx="3348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098720" y="2736720"/>
            <a:ext cx="6336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128600" y="2438280"/>
            <a:ext cx="33480" cy="32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098720" y="2143080"/>
            <a:ext cx="63360" cy="32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128600" y="1847880"/>
            <a:ext cx="33480" cy="32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098720" y="1550880"/>
            <a:ext cx="6336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128600" y="1254240"/>
            <a:ext cx="3348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V="1">
            <a:off x="1162080" y="1263600"/>
            <a:ext cx="1440" cy="26575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616400" y="100332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C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781000" y="1538280"/>
            <a:ext cx="43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901680" y="213660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C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68000" y="288144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V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703880" y="3916440"/>
            <a:ext cx="381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a b c  d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    a b c  d    a b c  d     a b c 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593160" y="1190520"/>
            <a:ext cx="21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a, b, c : nés à 360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d : nés à 42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482880" y="1238400"/>
            <a:ext cx="1476000" cy="1067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a : 360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b : 420 J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c : 420 m J +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d : 42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rot="16200000">
            <a:off x="-473760" y="2146320"/>
            <a:ext cx="20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volume pulmon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735200" y="1368360"/>
            <a:ext cx="214200" cy="254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278000" y="3919680"/>
            <a:ext cx="529092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154160" y="5853240"/>
            <a:ext cx="70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opulations andine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ugmentation irréversible des volumes pulmonai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021000" y="135000"/>
            <a:ext cx="3053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volume pulmonaire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-5400" y="127080"/>
            <a:ext cx="354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rebuchet MS"/>
              </a:rPr>
              <a:t>populations d’alt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769680" y="4387680"/>
            <a:ext cx="5962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capacité pulmonaire totale (C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capacité vitale (CV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capacité résiduelle fonctionnelle (CRF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volume résiduel (VR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mesurés chez des personnes nées en haute et basse altit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/>
          <p:nvPr/>
        </p:nvSpPr>
        <p:spPr>
          <a:xfrm>
            <a:off x="581040" y="1535040"/>
            <a:ext cx="8191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99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es réponses à court ter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99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es réponses à moyen ter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99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es réponses des nat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variables selon les pop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éponses « physiologiques/physiopathologiques » : réversibles (ajusteme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→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nalyse fonctionn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éponses « développementales » : irréversibles, mais non hérédit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éponses « génétiques » : héréditaires (adaptations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senso strictu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63960" y="955800"/>
            <a:ext cx="472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rebuchet MS"/>
              </a:rPr>
              <a:t>différents types de réponses à l’alt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914400" y="2133720"/>
            <a:ext cx="4025880" cy="7239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131840" y="5103720"/>
            <a:ext cx="485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6600"/>
                </a:solidFill>
                <a:latin typeface="Trebuchet MS"/>
              </a:rPr>
              <a:t>explication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6600"/>
                </a:solidFill>
                <a:latin typeface="Trebuchet MS"/>
              </a:rPr>
              <a:t>début de réponses génétique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6600"/>
                </a:solidFill>
                <a:latin typeface="Trebuchet MS"/>
              </a:rPr>
              <a:t>variabilités aléatoires ? (effet Sewall Wrigh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7287840" y="135000"/>
            <a:ext cx="17139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-5400" y="127080"/>
            <a:ext cx="354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rebuchet MS"/>
              </a:rPr>
              <a:t>populations d’alt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2247840" y="434988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Verdan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072600" y="434988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Verdana"/>
                <a:ea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923280" y="434988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Verdana"/>
                <a:ea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779000" y="434988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Verdana"/>
                <a:ea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630040" y="434988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Verdana"/>
                <a:ea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452640" y="43498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Verdana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095560" y="380700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Verdan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997640" y="330048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Verdana"/>
                <a:ea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997640" y="279576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Verdana"/>
                <a:ea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997640" y="229068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Verdana"/>
                <a:ea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997640" y="178452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Verdana"/>
                <a:ea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899720" y="127944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Verdana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2322360" y="4133520"/>
            <a:ext cx="3240" cy="601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2749680" y="4133880"/>
            <a:ext cx="1440" cy="302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V="1">
            <a:off x="3176640" y="4133520"/>
            <a:ext cx="1440" cy="601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3603600" y="4133880"/>
            <a:ext cx="1440" cy="302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V="1">
            <a:off x="4030560" y="4133520"/>
            <a:ext cx="1800" cy="601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V="1">
            <a:off x="4454640" y="4133880"/>
            <a:ext cx="1440" cy="302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 flipV="1">
            <a:off x="4883040" y="4133520"/>
            <a:ext cx="1800" cy="601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V="1">
            <a:off x="5310360" y="4133880"/>
            <a:ext cx="1440" cy="302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V="1">
            <a:off x="5737320" y="4133520"/>
            <a:ext cx="1440" cy="601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6161040" y="4133880"/>
            <a:ext cx="1800" cy="302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V="1">
            <a:off x="6588000" y="4133520"/>
            <a:ext cx="1800" cy="601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322360" y="4133880"/>
            <a:ext cx="428148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290680" y="4133880"/>
            <a:ext cx="3168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260440" y="3881520"/>
            <a:ext cx="6192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290680" y="3627360"/>
            <a:ext cx="3168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260440" y="3376440"/>
            <a:ext cx="6192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2290680" y="3122640"/>
            <a:ext cx="3168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260440" y="2871720"/>
            <a:ext cx="6192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2290680" y="2617920"/>
            <a:ext cx="3168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260440" y="2365200"/>
            <a:ext cx="6192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290680" y="2112840"/>
            <a:ext cx="31680" cy="32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260440" y="1860480"/>
            <a:ext cx="6192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290680" y="1606680"/>
            <a:ext cx="31680" cy="288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260440" y="1355760"/>
            <a:ext cx="6192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2322360" y="1353960"/>
            <a:ext cx="3240" cy="27799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749680" y="1406520"/>
            <a:ext cx="3838320" cy="2293920"/>
          </a:xfrm>
          <a:custGeom>
            <a:avLst/>
            <a:gdLst/>
            <a:ahLst/>
            <a:rect l="l" t="t" r="r" b="b"/>
            <a:pathLst>
              <a:path w="6046" h="3614">
                <a:moveTo>
                  <a:pt x="0" y="3614"/>
                </a:moveTo>
                <a:lnTo>
                  <a:pt x="335" y="3130"/>
                </a:lnTo>
                <a:lnTo>
                  <a:pt x="671" y="2511"/>
                </a:lnTo>
                <a:lnTo>
                  <a:pt x="1007" y="1909"/>
                </a:lnTo>
                <a:lnTo>
                  <a:pt x="1343" y="1412"/>
                </a:lnTo>
                <a:lnTo>
                  <a:pt x="1679" y="1035"/>
                </a:lnTo>
                <a:lnTo>
                  <a:pt x="2015" y="760"/>
                </a:lnTo>
                <a:lnTo>
                  <a:pt x="2350" y="563"/>
                </a:lnTo>
                <a:lnTo>
                  <a:pt x="2686" y="419"/>
                </a:lnTo>
                <a:lnTo>
                  <a:pt x="3024" y="313"/>
                </a:lnTo>
                <a:lnTo>
                  <a:pt x="3359" y="235"/>
                </a:lnTo>
                <a:lnTo>
                  <a:pt x="3695" y="176"/>
                </a:lnTo>
                <a:lnTo>
                  <a:pt x="4031" y="130"/>
                </a:lnTo>
                <a:lnTo>
                  <a:pt x="4367" y="95"/>
                </a:lnTo>
                <a:lnTo>
                  <a:pt x="4703" y="67"/>
                </a:lnTo>
                <a:lnTo>
                  <a:pt x="5039" y="45"/>
                </a:lnTo>
                <a:lnTo>
                  <a:pt x="5374" y="26"/>
                </a:lnTo>
                <a:lnTo>
                  <a:pt x="5710" y="12"/>
                </a:lnTo>
                <a:lnTo>
                  <a:pt x="6046" y="0"/>
                </a:lnTo>
              </a:path>
            </a:pathLst>
          </a:custGeom>
          <a:solidFill>
            <a:srgbClr val="ffcc99"/>
          </a:solidFill>
          <a:ln w="12600">
            <a:solidFill>
              <a:srgbClr val="99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749680" y="1444680"/>
            <a:ext cx="2133360" cy="2155680"/>
          </a:xfrm>
          <a:custGeom>
            <a:avLst/>
            <a:gdLst/>
            <a:ahLst/>
            <a:rect l="l" t="t" r="r" b="b"/>
            <a:pathLst>
              <a:path w="3359" h="3394">
                <a:moveTo>
                  <a:pt x="0" y="3394"/>
                </a:moveTo>
                <a:lnTo>
                  <a:pt x="335" y="2656"/>
                </a:lnTo>
                <a:lnTo>
                  <a:pt x="671" y="1847"/>
                </a:lnTo>
                <a:lnTo>
                  <a:pt x="1007" y="1204"/>
                </a:lnTo>
                <a:lnTo>
                  <a:pt x="1343" y="767"/>
                </a:lnTo>
                <a:lnTo>
                  <a:pt x="1679" y="483"/>
                </a:lnTo>
                <a:lnTo>
                  <a:pt x="2015" y="300"/>
                </a:lnTo>
                <a:lnTo>
                  <a:pt x="2350" y="178"/>
                </a:lnTo>
                <a:lnTo>
                  <a:pt x="2686" y="97"/>
                </a:lnTo>
                <a:lnTo>
                  <a:pt x="3024" y="40"/>
                </a:lnTo>
                <a:lnTo>
                  <a:pt x="3359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749680" y="1527120"/>
            <a:ext cx="3838320" cy="2246400"/>
          </a:xfrm>
          <a:custGeom>
            <a:avLst/>
            <a:gdLst/>
            <a:ahLst/>
            <a:rect l="l" t="t" r="r" b="b"/>
            <a:pathLst>
              <a:path w="6046" h="3542">
                <a:moveTo>
                  <a:pt x="0" y="3542"/>
                </a:moveTo>
                <a:lnTo>
                  <a:pt x="335" y="3282"/>
                </a:lnTo>
                <a:lnTo>
                  <a:pt x="671" y="2921"/>
                </a:lnTo>
                <a:lnTo>
                  <a:pt x="1007" y="2511"/>
                </a:lnTo>
                <a:lnTo>
                  <a:pt x="1343" y="2098"/>
                </a:lnTo>
                <a:lnTo>
                  <a:pt x="1679" y="1720"/>
                </a:lnTo>
                <a:lnTo>
                  <a:pt x="2015" y="1390"/>
                </a:lnTo>
                <a:lnTo>
                  <a:pt x="2350" y="1115"/>
                </a:lnTo>
                <a:lnTo>
                  <a:pt x="2686" y="887"/>
                </a:lnTo>
                <a:lnTo>
                  <a:pt x="3024" y="702"/>
                </a:lnTo>
                <a:lnTo>
                  <a:pt x="3359" y="551"/>
                </a:lnTo>
                <a:lnTo>
                  <a:pt x="3695" y="429"/>
                </a:lnTo>
                <a:lnTo>
                  <a:pt x="4031" y="329"/>
                </a:lnTo>
                <a:lnTo>
                  <a:pt x="4367" y="246"/>
                </a:lnTo>
                <a:lnTo>
                  <a:pt x="4703" y="177"/>
                </a:lnTo>
                <a:lnTo>
                  <a:pt x="5039" y="121"/>
                </a:lnTo>
                <a:lnTo>
                  <a:pt x="5374" y="73"/>
                </a:lnTo>
                <a:lnTo>
                  <a:pt x="5710" y="33"/>
                </a:lnTo>
                <a:lnTo>
                  <a:pt x="6046" y="0"/>
                </a:lnTo>
              </a:path>
            </a:pathLst>
          </a:custGeom>
          <a:solidFill>
            <a:srgbClr val="ffffff"/>
          </a:solidFill>
          <a:ln w="12600">
            <a:solidFill>
              <a:srgbClr val="99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2749680" y="1415880"/>
            <a:ext cx="2133360" cy="2071800"/>
          </a:xfrm>
          <a:custGeom>
            <a:avLst/>
            <a:gdLst/>
            <a:ahLst/>
            <a:rect l="l" t="t" r="r" b="b"/>
            <a:pathLst>
              <a:path w="3359" h="3264">
                <a:moveTo>
                  <a:pt x="0" y="3264"/>
                </a:moveTo>
                <a:lnTo>
                  <a:pt x="335" y="2360"/>
                </a:lnTo>
                <a:lnTo>
                  <a:pt x="671" y="1515"/>
                </a:lnTo>
                <a:lnTo>
                  <a:pt x="1007" y="932"/>
                </a:lnTo>
                <a:lnTo>
                  <a:pt x="1343" y="571"/>
                </a:lnTo>
                <a:lnTo>
                  <a:pt x="1679" y="352"/>
                </a:lnTo>
                <a:lnTo>
                  <a:pt x="2015" y="215"/>
                </a:lnTo>
                <a:lnTo>
                  <a:pt x="2350" y="128"/>
                </a:lnTo>
                <a:lnTo>
                  <a:pt x="2686" y="69"/>
                </a:lnTo>
                <a:lnTo>
                  <a:pt x="3024" y="29"/>
                </a:lnTo>
                <a:lnTo>
                  <a:pt x="3359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rot="16200000">
            <a:off x="1045080" y="2390040"/>
            <a:ext cx="13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Verdana"/>
              </a:rPr>
              <a:t>saturation (%)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838680" y="3773520"/>
            <a:ext cx="10317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Verdana"/>
              </a:rPr>
              <a:t>PO</a:t>
            </a:r>
            <a:r>
              <a:rPr b="0" lang="fr-FR" sz="1400" spc="-1" strike="noStrike" baseline="-25000">
                <a:solidFill>
                  <a:srgbClr val="990000"/>
                </a:solidFill>
                <a:latin typeface="Verdana"/>
              </a:rPr>
              <a:t>2</a:t>
            </a:r>
            <a:r>
              <a:rPr b="0" lang="fr-FR" sz="1400" spc="-1" strike="noStrike">
                <a:solidFill>
                  <a:srgbClr val="990000"/>
                </a:solidFill>
                <a:latin typeface="Verdana"/>
              </a:rPr>
              <a:t>mmH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410560" y="180324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  <a:ea typeface="Arial"/>
              </a:rPr>
              <a:t>vigog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024000" y="1324080"/>
            <a:ext cx="59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  <a:ea typeface="Arial"/>
              </a:rPr>
              <a:t>l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813040" y="2155680"/>
            <a:ext cx="239760" cy="3765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384720" y="1676520"/>
            <a:ext cx="171360" cy="307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926240" y="2408400"/>
            <a:ext cx="182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Verdana"/>
                <a:ea typeface="Arial"/>
              </a:rPr>
              <a:t>autres Mammifè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H="1" flipV="1">
            <a:off x="4070160" y="2155680"/>
            <a:ext cx="787320" cy="45720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6" name=""/>
          <p:cNvGraphicFramePr/>
          <p:nvPr/>
        </p:nvGraphicFramePr>
        <p:xfrm>
          <a:off x="2589120" y="4622760"/>
          <a:ext cx="3825720" cy="1004760"/>
        </p:xfrm>
        <a:graphic>
          <a:graphicData uri="http://schemas.openxmlformats.org/drawingml/2006/table">
            <a:tbl>
              <a:tblPr/>
              <a:tblGrid>
                <a:gridCol w="2205000"/>
                <a:gridCol w="1620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spè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50 (Tor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vigog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1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autres espè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0 – 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7" name=""/>
          <p:cNvSpPr/>
          <p:nvPr/>
        </p:nvSpPr>
        <p:spPr>
          <a:xfrm>
            <a:off x="825120" y="5764320"/>
            <a:ext cx="4580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éplacement de la courbe vers la gau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ptation d’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au niveau des poum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662720" y="135000"/>
            <a:ext cx="4475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transport de l’O</a:t>
            </a:r>
            <a:r>
              <a:rPr b="0" lang="fr-FR" sz="24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 dans le sa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-33840" y="127080"/>
            <a:ext cx="4591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imaux adaptés à l’altitude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87200" y="695160"/>
            <a:ext cx="63979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courbe de saturation de l’hémoglob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"/>
          <p:cNvSpPr/>
          <p:nvPr/>
        </p:nvSpPr>
        <p:spPr>
          <a:xfrm>
            <a:off x="673560" y="1332000"/>
            <a:ext cx="34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90000"/>
                </a:solidFill>
                <a:latin typeface="Arial"/>
              </a:rPr>
              <a:t>hématoc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Lamas : 23-34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90000"/>
                </a:solidFill>
                <a:latin typeface="Arial"/>
              </a:rPr>
              <a:t>caractéristiques des hém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226200" y="4313160"/>
            <a:ext cx="1903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0000"/>
                </a:solidFill>
                <a:latin typeface="Verdana"/>
                <a:ea typeface="Times New Roman"/>
              </a:rPr>
              <a:t>30-35 g/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213080" y="4313160"/>
            <a:ext cx="2013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0000"/>
                </a:solidFill>
                <a:latin typeface="Verdana"/>
                <a:ea typeface="Times New Roman"/>
              </a:rPr>
              <a:t>39-46 g/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849240" y="4313160"/>
            <a:ext cx="3363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0000"/>
                </a:solidFill>
                <a:latin typeface="Verdana"/>
                <a:ea typeface="Times New Roman"/>
              </a:rPr>
              <a:t>CHCM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226200" y="3978360"/>
            <a:ext cx="190332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0000"/>
                </a:solidFill>
                <a:latin typeface="Verdana"/>
                <a:ea typeface="Times New Roman"/>
              </a:rPr>
              <a:t>25-30 p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213080" y="3978360"/>
            <a:ext cx="201312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990000"/>
                </a:solidFill>
                <a:latin typeface="Verdana"/>
                <a:ea typeface="Times New Roman"/>
              </a:rPr>
              <a:t>9-12 p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849240" y="3978360"/>
            <a:ext cx="33638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990000"/>
                </a:solidFill>
                <a:latin typeface="Verdana"/>
                <a:ea typeface="Times New Roman"/>
              </a:rPr>
              <a:t>HCM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226200" y="3643200"/>
            <a:ext cx="1903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990000"/>
                </a:solidFill>
                <a:latin typeface="Verdana"/>
                <a:ea typeface="Times New Roman"/>
              </a:rPr>
              <a:t>60-80 µm</a:t>
            </a:r>
            <a:r>
              <a:rPr b="0" lang="nl-NL" sz="1600" spc="-1" strike="noStrike" baseline="30000">
                <a:solidFill>
                  <a:srgbClr val="990000"/>
                </a:solidFill>
                <a:latin typeface="Verdana"/>
                <a:ea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213080" y="3643200"/>
            <a:ext cx="2013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0000"/>
                </a:solidFill>
                <a:latin typeface="Verdana"/>
                <a:ea typeface="Times New Roman"/>
              </a:rPr>
              <a:t>22-29 µm</a:t>
            </a:r>
            <a:r>
              <a:rPr b="0" lang="en-GB" sz="1600" spc="-1" strike="noStrike" baseline="30000">
                <a:solidFill>
                  <a:srgbClr val="990000"/>
                </a:solidFill>
                <a:latin typeface="Verdana"/>
                <a:ea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849240" y="3643200"/>
            <a:ext cx="3363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0000"/>
                </a:solidFill>
                <a:latin typeface="Verdana"/>
                <a:ea typeface="Times New Roman"/>
              </a:rPr>
              <a:t>volu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226200" y="3308400"/>
            <a:ext cx="190332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0000"/>
                </a:solidFill>
                <a:latin typeface="Verdana"/>
                <a:ea typeface="Times New Roman"/>
              </a:rPr>
              <a:t>5-10 10</a:t>
            </a:r>
            <a:r>
              <a:rPr b="0" lang="en-GB" sz="1600" spc="-1" strike="noStrike" baseline="30000">
                <a:solidFill>
                  <a:srgbClr val="990000"/>
                </a:solidFill>
                <a:latin typeface="Verdana"/>
                <a:ea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213080" y="3308400"/>
            <a:ext cx="201312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0000"/>
                </a:solidFill>
                <a:latin typeface="Verdana"/>
                <a:ea typeface="Times New Roman"/>
              </a:rPr>
              <a:t>10 – 17 10</a:t>
            </a:r>
            <a:r>
              <a:rPr b="0" lang="en-GB" sz="1600" spc="-1" strike="noStrike" baseline="30000">
                <a:solidFill>
                  <a:srgbClr val="990000"/>
                </a:solidFill>
                <a:latin typeface="Verdana"/>
                <a:ea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849240" y="3308400"/>
            <a:ext cx="33638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0000"/>
                </a:solidFill>
                <a:latin typeface="Verdana"/>
                <a:ea typeface="Times New Roman"/>
              </a:rPr>
              <a:t>nom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226200" y="2973240"/>
            <a:ext cx="1903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0000"/>
                </a:solidFill>
                <a:latin typeface="Verdana"/>
                <a:ea typeface="Times New Roman"/>
              </a:rPr>
              <a:t>cir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213080" y="2973240"/>
            <a:ext cx="2013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0000"/>
                </a:solidFill>
                <a:latin typeface="Verdana"/>
                <a:ea typeface="Times New Roman"/>
              </a:rPr>
              <a:t>ellipsoï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849240" y="2973240"/>
            <a:ext cx="3363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0000"/>
                </a:solidFill>
                <a:latin typeface="Verdana"/>
                <a:ea typeface="Times New Roman"/>
              </a:rPr>
              <a:t>for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226200" y="2638440"/>
            <a:ext cx="1903320" cy="3348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autres espè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213080" y="2638440"/>
            <a:ext cx="2013120" cy="3348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L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849240" y="2638440"/>
            <a:ext cx="3363840" cy="3348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caractéristiques des héma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849240" y="2973240"/>
            <a:ext cx="7280280" cy="0"/>
          </a:xfrm>
          <a:prstGeom prst="line">
            <a:avLst/>
          </a:prstGeom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4213080" y="2651040"/>
            <a:ext cx="0" cy="2027160"/>
          </a:xfrm>
          <a:prstGeom prst="line">
            <a:avLst/>
          </a:prstGeom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226200" y="2638440"/>
            <a:ext cx="0" cy="2039760"/>
          </a:xfrm>
          <a:prstGeom prst="line">
            <a:avLst/>
          </a:prstGeom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849240" y="3308400"/>
            <a:ext cx="7280280" cy="0"/>
          </a:xfrm>
          <a:prstGeom prst="line">
            <a:avLst/>
          </a:prstGeom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849240" y="3643200"/>
            <a:ext cx="7280280" cy="0"/>
          </a:xfrm>
          <a:prstGeom prst="line">
            <a:avLst/>
          </a:prstGeom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849240" y="3978360"/>
            <a:ext cx="7280280" cy="0"/>
          </a:xfrm>
          <a:prstGeom prst="line">
            <a:avLst/>
          </a:prstGeom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49240" y="4313160"/>
            <a:ext cx="7280280" cy="0"/>
          </a:xfrm>
          <a:prstGeom prst="line">
            <a:avLst/>
          </a:prstGeom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849240" y="2638440"/>
            <a:ext cx="7280280" cy="0"/>
          </a:xfrm>
          <a:prstGeom prst="line">
            <a:avLst/>
          </a:prstGeom>
          <a:ln cap="sq"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849240" y="2638440"/>
            <a:ext cx="0" cy="2077920"/>
          </a:xfrm>
          <a:prstGeom prst="line">
            <a:avLst/>
          </a:prstGeom>
          <a:ln cap="sq"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8129520" y="2638440"/>
            <a:ext cx="0" cy="2077920"/>
          </a:xfrm>
          <a:prstGeom prst="line">
            <a:avLst/>
          </a:prstGeom>
          <a:ln cap="sq"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849240" y="4703760"/>
            <a:ext cx="7280280" cy="0"/>
          </a:xfrm>
          <a:prstGeom prst="line">
            <a:avLst/>
          </a:prstGeom>
          <a:ln cap="sq"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860400" y="5200560"/>
            <a:ext cx="7256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*HCM : hémoglobine corpusculaire moyenne : concentration moyenne en hémoglobine par hémat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**CHCM : concentration en hémoglobine corpusculaire moyenne (calculé par rapport à l’hématocri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4662720" y="135000"/>
            <a:ext cx="4475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transport de l’O</a:t>
            </a:r>
            <a:r>
              <a:rPr b="0" lang="fr-FR" sz="24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 dans le sa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-33840" y="127080"/>
            <a:ext cx="4591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imaux adaptés à l’altitude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87200" y="695160"/>
            <a:ext cx="63979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érythrocy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03040" y="1482840"/>
            <a:ext cx="33465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’équation de l’air alvéo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7200" y="695160"/>
            <a:ext cx="5191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pression alvéola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02560" y="135000"/>
            <a:ext cx="51033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pressions &amp; concentrations en g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560" y="127080"/>
            <a:ext cx="4084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effets directs de l’alt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84760" y="712800"/>
            <a:ext cx="41338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dioxyde de carb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40160" y="254808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4680" y="1835280"/>
            <a:ext cx="47512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A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:  ne dépend pas de l’air inspir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épend de la production de 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1960" y="2593800"/>
            <a:ext cx="2271240" cy="40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A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= (V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/ V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A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)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01920" y="253512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0240" y="3228840"/>
            <a:ext cx="772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K : constante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V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: débit de 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produit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V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A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 : débit alvéo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34320" y="318276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89320" y="318276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52760" y="254808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840" y="3665520"/>
            <a:ext cx="285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as d’effet de l’alt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"/>
          <p:cNvSpPr/>
          <p:nvPr/>
        </p:nvSpPr>
        <p:spPr>
          <a:xfrm>
            <a:off x="663480" y="1446120"/>
            <a:ext cx="382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90000"/>
                </a:solidFill>
                <a:latin typeface="Trebuchet MS"/>
              </a:rPr>
              <a:t>déformation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fr-FR" sz="1800" spc="-1" strike="noStrike">
                <a:solidFill>
                  <a:srgbClr val="990000"/>
                </a:solidFill>
                <a:latin typeface="Arial"/>
              </a:rPr>
              <a:t>des globules rou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8" name=""/>
          <p:cNvGraphicFramePr/>
          <p:nvPr/>
        </p:nvGraphicFramePr>
        <p:xfrm>
          <a:off x="1409760" y="2087640"/>
          <a:ext cx="5848200" cy="3014640"/>
        </p:xfrm>
        <a:graphic>
          <a:graphicData uri="http://schemas.openxmlformats.org/drawingml/2006/table">
            <a:tbl>
              <a:tblPr/>
              <a:tblGrid>
                <a:gridCol w="1461600"/>
                <a:gridCol w="1462320"/>
                <a:gridCol w="1461960"/>
                <a:gridCol w="1462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spè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imension des érythrocytes (en µ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déformés à 590 dyn/cm</a:t>
                      </a:r>
                      <a:r>
                        <a:rPr b="0" lang="en-GB" sz="1600" spc="-1" strike="noStrike" baseline="30000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minim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maxim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chèv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5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por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1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hom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1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pho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1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la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,8 x 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pas de déformation ; ori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chamea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3,5 x 6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99" name=""/>
          <p:cNvSpPr/>
          <p:nvPr/>
        </p:nvSpPr>
        <p:spPr>
          <a:xfrm>
            <a:off x="0" y="494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167840" y="5484960"/>
            <a:ext cx="658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mélidés : forme ovoïde ; pas de déformation ; ori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nterprétation ?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662720" y="135000"/>
            <a:ext cx="4475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transport de l’O</a:t>
            </a:r>
            <a:r>
              <a:rPr b="0" lang="fr-FR" sz="24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 dans le sa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-33840" y="127080"/>
            <a:ext cx="4591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imaux adaptés à l’altitude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87200" y="695160"/>
            <a:ext cx="63979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érythrocy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5" name=""/>
          <p:cNvGraphicFramePr/>
          <p:nvPr/>
        </p:nvGraphicFramePr>
        <p:xfrm>
          <a:off x="1155600" y="2093760"/>
          <a:ext cx="7024680" cy="2325600"/>
        </p:xfrm>
        <a:graphic>
          <a:graphicData uri="http://schemas.openxmlformats.org/drawingml/2006/table">
            <a:tbl>
              <a:tblPr/>
              <a:tblGrid>
                <a:gridCol w="2820960"/>
                <a:gridCol w="4203720"/>
              </a:tblGrid>
              <a:tr h="77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ondi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ession artériel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ystolique/diastolique (moyen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haute latitud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(La Raya : 4200 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0/9 (14) mmH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77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basse altitud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(Londr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13/6 (10) mmH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6" name=""/>
          <p:cNvSpPr/>
          <p:nvPr/>
        </p:nvSpPr>
        <p:spPr>
          <a:xfrm>
            <a:off x="1273680" y="1357560"/>
            <a:ext cx="591552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86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pression artérielle pulmonaire mesurée chez des la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947160" y="4824360"/>
            <a:ext cx="574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as d’hypertension artérielle pulmonaire hypox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470920" y="135000"/>
            <a:ext cx="35013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circulation pulmona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-33840" y="127080"/>
            <a:ext cx="4591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imaux adaptés à l’altitude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87200" y="695160"/>
            <a:ext cx="63979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pression artérielle pulmonai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"/>
          <p:cNvSpPr/>
          <p:nvPr/>
        </p:nvSpPr>
        <p:spPr>
          <a:xfrm>
            <a:off x="942480" y="5672160"/>
            <a:ext cx="73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nimaux de plaine : altitude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hypertrophie cardiaque dro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nimaux d’altitude : altitude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pas d’hypertrophie cardiaque dro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065840" y="849600"/>
            <a:ext cx="189972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86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rapport VGS/V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647720" y="3359160"/>
            <a:ext cx="390600" cy="1749240"/>
          </a:xfrm>
          <a:prstGeom prst="rect">
            <a:avLst/>
          </a:prstGeom>
          <a:solidFill>
            <a:srgbClr val="000066"/>
          </a:solidFill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816280" y="3463920"/>
            <a:ext cx="388800" cy="1644480"/>
          </a:xfrm>
          <a:prstGeom prst="rect">
            <a:avLst/>
          </a:prstGeom>
          <a:solidFill>
            <a:srgbClr val="000066"/>
          </a:solidFill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986280" y="3359160"/>
            <a:ext cx="387360" cy="1749240"/>
          </a:xfrm>
          <a:prstGeom prst="rect">
            <a:avLst/>
          </a:prstGeom>
          <a:solidFill>
            <a:srgbClr val="000066"/>
          </a:solidFill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176800" y="3363840"/>
            <a:ext cx="388800" cy="1747800"/>
          </a:xfrm>
          <a:prstGeom prst="rect">
            <a:avLst/>
          </a:prstGeom>
          <a:solidFill>
            <a:srgbClr val="000066"/>
          </a:solidFill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036880" y="2957400"/>
            <a:ext cx="388800" cy="2154240"/>
          </a:xfrm>
          <a:prstGeom prst="rect">
            <a:avLst/>
          </a:prstGeom>
          <a:solidFill>
            <a:srgbClr val="6699ff"/>
          </a:solidFill>
          <a:ln w="648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205080" y="2678040"/>
            <a:ext cx="390600" cy="2433600"/>
          </a:xfrm>
          <a:prstGeom prst="rect">
            <a:avLst/>
          </a:prstGeom>
          <a:solidFill>
            <a:srgbClr val="6699ff"/>
          </a:solidFill>
          <a:ln w="648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4373640" y="2565360"/>
            <a:ext cx="387360" cy="2546280"/>
          </a:xfrm>
          <a:prstGeom prst="rect">
            <a:avLst/>
          </a:prstGeom>
          <a:solidFill>
            <a:srgbClr val="6699ff"/>
          </a:solidFill>
          <a:ln w="648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564160" y="3246480"/>
            <a:ext cx="390600" cy="1865160"/>
          </a:xfrm>
          <a:prstGeom prst="rect">
            <a:avLst/>
          </a:prstGeom>
          <a:solidFill>
            <a:srgbClr val="6699ff"/>
          </a:solidFill>
          <a:ln w="648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345360" y="3363840"/>
            <a:ext cx="388800" cy="1747800"/>
          </a:xfrm>
          <a:prstGeom prst="rect">
            <a:avLst/>
          </a:prstGeom>
          <a:solidFill>
            <a:srgbClr val="6699ff"/>
          </a:solidFill>
          <a:ln w="648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004760" y="498780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0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004760" y="443088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0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004760" y="386712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0,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1004760" y="330660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0,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1004760" y="27446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0,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1357200" y="4830840"/>
            <a:ext cx="3024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324080" y="4549680"/>
            <a:ext cx="63360" cy="32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357200" y="4268880"/>
            <a:ext cx="3024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1324080" y="3987720"/>
            <a:ext cx="63360" cy="32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1357200" y="3708360"/>
            <a:ext cx="3024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324080" y="3425760"/>
            <a:ext cx="6336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357200" y="3146400"/>
            <a:ext cx="3024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1324080" y="2863800"/>
            <a:ext cx="6336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357200" y="2584440"/>
            <a:ext cx="3024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V="1">
            <a:off x="1387440" y="2593800"/>
            <a:ext cx="1800" cy="25178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H="1">
            <a:off x="1312560" y="5111640"/>
            <a:ext cx="5554440" cy="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142360" y="5248440"/>
            <a:ext cx="485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cobaye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lapin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    chien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      lama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    viscac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rot="16200000">
            <a:off x="279000" y="376164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VD/V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527880" y="2075040"/>
            <a:ext cx="390600" cy="353880"/>
          </a:xfrm>
          <a:prstGeom prst="rect">
            <a:avLst/>
          </a:prstGeom>
          <a:solidFill>
            <a:srgbClr val="000066"/>
          </a:solidFill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535800" y="2619360"/>
            <a:ext cx="390600" cy="353880"/>
          </a:xfrm>
          <a:prstGeom prst="rect">
            <a:avLst/>
          </a:prstGeom>
          <a:solidFill>
            <a:srgbClr val="6699ff"/>
          </a:solidFill>
          <a:ln w="648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991920" y="201132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basse latit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6996240" y="2579760"/>
            <a:ext cx="151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haute latit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04720" y="1339920"/>
            <a:ext cx="561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Verdana"/>
              </a:rPr>
              <a:t>rapport du poids du ventricule droit sur le poids du ventricule gauche et du septum (VD/VGS) chez différents animaux de basse et haute altitu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5470920" y="135000"/>
            <a:ext cx="35013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circulation pulmona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-33840" y="127080"/>
            <a:ext cx="4591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imaux adaptés à l’altitude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87200" y="695160"/>
            <a:ext cx="63979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volumes cardia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"/>
          <p:cNvSpPr/>
          <p:nvPr/>
        </p:nvSpPr>
        <p:spPr>
          <a:xfrm>
            <a:off x="593280" y="91836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1" lang="en-GB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Trebuchet MS"/>
              </a:rPr>
              <a:t>notion de réponse / d’adaptation / d’ajus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1143360" y="1779480"/>
            <a:ext cx="6276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réponses « physiologiques » (ajustements)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réversibles (court terme/long ter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en-GB" sz="1800" spc="-1" strike="noStrike">
                <a:solidFill>
                  <a:srgbClr val="990000"/>
                </a:solidFill>
                <a:latin typeface="Trebuchet MS"/>
              </a:rPr>
              <a:t>adaptées/ non adaptées/ hypere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réponses « développementales »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irréversibles, mais non héréditaires (long ter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en-GB" sz="1800" spc="-1" strike="noStrike">
                <a:solidFill>
                  <a:srgbClr val="990000"/>
                </a:solidFill>
                <a:latin typeface="Trebuchet MS"/>
              </a:rPr>
              <a:t>adaptées/ non adaptées/ hypere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13160" y="1332000"/>
            <a:ext cx="45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Trebuchet MS"/>
              </a:rPr>
              <a:t>altitude = conditions « non standard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1254240" y="4202280"/>
            <a:ext cx="6813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éponses « génétiques » : hérédit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adaptation / histoire évolu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ex : Camélid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variations alé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imites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ontraintes extérie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ontraintes intérieures : « choix adaptatif » préexista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00"/>
                </a:solidFill>
                <a:latin typeface="Trebuchet MS"/>
              </a:rPr>
              <a:t>(Oiseaux / Mammifè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90120" y="3859200"/>
            <a:ext cx="40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Trebuchet MS"/>
              </a:rPr>
              <a:t>altitude = conditions « standard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7159320" y="135000"/>
            <a:ext cx="17931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conclu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6960" y="127080"/>
            <a:ext cx="2874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effet de l’altitude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/>
          <p:nvPr/>
        </p:nvSpPr>
        <p:spPr>
          <a:xfrm>
            <a:off x="473040" y="2887560"/>
            <a:ext cx="7893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00"/>
                </a:solidFill>
                <a:latin typeface="Trebuchet MS"/>
              </a:rPr>
              <a:t>« The result is that the phenotype is often a patchwork of features that were specifically selected for a particular function (or as the answer to a particular selection pressure) and others are the by-product of the phenotype as a whole and are simply tolerated by selection 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00"/>
                </a:solidFill>
                <a:latin typeface="Trebuchet MS"/>
              </a:rPr>
              <a:t>E. Mayr, The Growth of biological thou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67800" y="1590120"/>
            <a:ext cx="24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1" lang="en-GB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Trebuchet MS"/>
              </a:rPr>
              <a:t>notion de fo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159320" y="135000"/>
            <a:ext cx="17931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conclu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66960" y="127080"/>
            <a:ext cx="2874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effet de l’altitude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87200" y="695160"/>
            <a:ext cx="5191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pression alvéola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02560" y="135000"/>
            <a:ext cx="51033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pressions &amp; concentrations en g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560" y="127080"/>
            <a:ext cx="4084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effets directs de l’alt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84760" y="712800"/>
            <a:ext cx="41338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dioxygè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3040" y="2817720"/>
            <a:ext cx="3946680" cy="40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A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= (PI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–( 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/R) + F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5040" y="3402000"/>
            <a:ext cx="579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 : quotient respiratoire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 : constante (F = 0 si R =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95480" y="2717640"/>
            <a:ext cx="622080" cy="60984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0680" y="3881520"/>
            <a:ext cx="37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ltitude : diminution de la PA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3040" y="1482840"/>
            <a:ext cx="33465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’équation de l’air alvéo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 flipV="1">
            <a:off x="3290760" y="1436400"/>
            <a:ext cx="3240" cy="263988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776760" y="1436400"/>
            <a:ext cx="1440" cy="263988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264200" y="1436400"/>
            <a:ext cx="1440" cy="263988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748040" y="1436400"/>
            <a:ext cx="3240" cy="263988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234040" y="1436400"/>
            <a:ext cx="1440" cy="263988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722920" y="1436400"/>
            <a:ext cx="3240" cy="263988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208560" y="1436400"/>
            <a:ext cx="1800" cy="263988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692760" y="1436400"/>
            <a:ext cx="3240" cy="263988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535200" y="1436400"/>
            <a:ext cx="0" cy="263988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019400" y="1436400"/>
            <a:ext cx="0" cy="263988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506840" y="1436400"/>
            <a:ext cx="0" cy="263988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992840" y="1436400"/>
            <a:ext cx="1440" cy="263988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477040" y="1436400"/>
            <a:ext cx="2880" cy="263988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5964120" y="1436400"/>
            <a:ext cx="0" cy="263988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450120" y="1436400"/>
            <a:ext cx="1440" cy="263988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8120" y="3816360"/>
            <a:ext cx="3695760" cy="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3552840"/>
            <a:ext cx="3695760" cy="144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8120" y="3292560"/>
            <a:ext cx="3695760" cy="144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8120" y="3030480"/>
            <a:ext cx="3695760" cy="180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8120" y="2768760"/>
            <a:ext cx="3695760" cy="144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8120" y="2508120"/>
            <a:ext cx="3695760" cy="180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8120" y="2246400"/>
            <a:ext cx="3695760" cy="144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8120" y="1982880"/>
            <a:ext cx="3695760" cy="324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8120" y="1724040"/>
            <a:ext cx="3695760" cy="144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8120" y="1463760"/>
            <a:ext cx="3695760" cy="144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46240" y="414972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0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33680" y="414972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0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19680" y="414972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0,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06760" y="414972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0,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92760" y="414972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0,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78400" y="414972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0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64400" y="414972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0,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51480" y="414972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0,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11160" y="399096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625480" y="37306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25480" y="34686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25480" y="320832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625480" y="29462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25480" y="268272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25480" y="2422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625480" y="21636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625480" y="19000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25480" y="163836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39800" y="137808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048120" y="4076640"/>
            <a:ext cx="0" cy="5256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290760" y="4076280"/>
            <a:ext cx="3240" cy="270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535200" y="4076640"/>
            <a:ext cx="0" cy="5256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776760" y="4076280"/>
            <a:ext cx="1440" cy="270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019400" y="4076640"/>
            <a:ext cx="0" cy="5256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264200" y="4076280"/>
            <a:ext cx="1440" cy="270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506840" y="4076640"/>
            <a:ext cx="0" cy="5256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748040" y="4076280"/>
            <a:ext cx="3240" cy="270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992840" y="4076640"/>
            <a:ext cx="1440" cy="5256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234040" y="4076280"/>
            <a:ext cx="1440" cy="270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5477040" y="4076640"/>
            <a:ext cx="2880" cy="5256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722920" y="4076280"/>
            <a:ext cx="3240" cy="270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964120" y="4076640"/>
            <a:ext cx="0" cy="5256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208560" y="4076280"/>
            <a:ext cx="1800" cy="270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450120" y="4076640"/>
            <a:ext cx="1440" cy="5256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692760" y="4076280"/>
            <a:ext cx="3240" cy="270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4076640"/>
            <a:ext cx="3695760" cy="32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94120" y="4076640"/>
            <a:ext cx="54000" cy="32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21120" y="3946680"/>
            <a:ext cx="2700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94120" y="3816360"/>
            <a:ext cx="5400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21120" y="3684600"/>
            <a:ext cx="2700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94120" y="3552840"/>
            <a:ext cx="5400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21120" y="3422520"/>
            <a:ext cx="2700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94120" y="3292560"/>
            <a:ext cx="5400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21120" y="3162240"/>
            <a:ext cx="2700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94120" y="3030480"/>
            <a:ext cx="5400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21120" y="2898720"/>
            <a:ext cx="2700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94120" y="2768760"/>
            <a:ext cx="5400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21120" y="2638440"/>
            <a:ext cx="2700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94120" y="2508120"/>
            <a:ext cx="5400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21120" y="2378160"/>
            <a:ext cx="2700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994120" y="2246400"/>
            <a:ext cx="5400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21120" y="2112840"/>
            <a:ext cx="27000" cy="32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94120" y="1982880"/>
            <a:ext cx="54000" cy="32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21120" y="1854360"/>
            <a:ext cx="2700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94120" y="1724040"/>
            <a:ext cx="5400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21120" y="1593720"/>
            <a:ext cx="2700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94120" y="1463760"/>
            <a:ext cx="5400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048120" y="1436400"/>
            <a:ext cx="0" cy="26398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2759040"/>
            <a:ext cx="3644640" cy="854280"/>
          </a:xfrm>
          <a:custGeom>
            <a:avLst/>
            <a:gdLst/>
            <a:ahLst/>
            <a:rect l="l" t="t" r="r" b="b"/>
            <a:pathLst>
              <a:path w="4418" h="1905">
                <a:moveTo>
                  <a:pt x="0" y="1905"/>
                </a:moveTo>
                <a:lnTo>
                  <a:pt x="25" y="1894"/>
                </a:lnTo>
                <a:lnTo>
                  <a:pt x="49" y="1882"/>
                </a:lnTo>
                <a:lnTo>
                  <a:pt x="74" y="1871"/>
                </a:lnTo>
                <a:lnTo>
                  <a:pt x="99" y="1859"/>
                </a:lnTo>
                <a:lnTo>
                  <a:pt x="124" y="1848"/>
                </a:lnTo>
                <a:lnTo>
                  <a:pt x="149" y="1836"/>
                </a:lnTo>
                <a:lnTo>
                  <a:pt x="173" y="1825"/>
                </a:lnTo>
                <a:lnTo>
                  <a:pt x="198" y="1814"/>
                </a:lnTo>
                <a:lnTo>
                  <a:pt x="223" y="1802"/>
                </a:lnTo>
                <a:lnTo>
                  <a:pt x="248" y="1789"/>
                </a:lnTo>
                <a:lnTo>
                  <a:pt x="272" y="1777"/>
                </a:lnTo>
                <a:lnTo>
                  <a:pt x="297" y="1764"/>
                </a:lnTo>
                <a:lnTo>
                  <a:pt x="322" y="1751"/>
                </a:lnTo>
                <a:lnTo>
                  <a:pt x="347" y="1737"/>
                </a:lnTo>
                <a:lnTo>
                  <a:pt x="371" y="1724"/>
                </a:lnTo>
                <a:lnTo>
                  <a:pt x="396" y="1711"/>
                </a:lnTo>
                <a:lnTo>
                  <a:pt x="421" y="1695"/>
                </a:lnTo>
                <a:lnTo>
                  <a:pt x="446" y="1680"/>
                </a:lnTo>
                <a:lnTo>
                  <a:pt x="470" y="1665"/>
                </a:lnTo>
                <a:lnTo>
                  <a:pt x="495" y="1650"/>
                </a:lnTo>
                <a:lnTo>
                  <a:pt x="520" y="1635"/>
                </a:lnTo>
                <a:lnTo>
                  <a:pt x="545" y="1617"/>
                </a:lnTo>
                <a:lnTo>
                  <a:pt x="570" y="1600"/>
                </a:lnTo>
                <a:lnTo>
                  <a:pt x="589" y="1587"/>
                </a:lnTo>
                <a:lnTo>
                  <a:pt x="613" y="1570"/>
                </a:lnTo>
                <a:lnTo>
                  <a:pt x="638" y="1551"/>
                </a:lnTo>
                <a:lnTo>
                  <a:pt x="663" y="1532"/>
                </a:lnTo>
                <a:lnTo>
                  <a:pt x="688" y="1513"/>
                </a:lnTo>
                <a:lnTo>
                  <a:pt x="712" y="1492"/>
                </a:lnTo>
                <a:lnTo>
                  <a:pt x="737" y="1471"/>
                </a:lnTo>
                <a:lnTo>
                  <a:pt x="762" y="1450"/>
                </a:lnTo>
                <a:lnTo>
                  <a:pt x="787" y="1429"/>
                </a:lnTo>
                <a:lnTo>
                  <a:pt x="811" y="1408"/>
                </a:lnTo>
                <a:lnTo>
                  <a:pt x="836" y="1387"/>
                </a:lnTo>
                <a:lnTo>
                  <a:pt x="861" y="1364"/>
                </a:lnTo>
                <a:lnTo>
                  <a:pt x="886" y="1341"/>
                </a:lnTo>
                <a:lnTo>
                  <a:pt x="911" y="1318"/>
                </a:lnTo>
                <a:lnTo>
                  <a:pt x="935" y="1296"/>
                </a:lnTo>
                <a:lnTo>
                  <a:pt x="960" y="1273"/>
                </a:lnTo>
                <a:lnTo>
                  <a:pt x="985" y="1250"/>
                </a:lnTo>
                <a:lnTo>
                  <a:pt x="1010" y="1227"/>
                </a:lnTo>
                <a:lnTo>
                  <a:pt x="1034" y="1202"/>
                </a:lnTo>
                <a:lnTo>
                  <a:pt x="1059" y="1179"/>
                </a:lnTo>
                <a:lnTo>
                  <a:pt x="1084" y="1156"/>
                </a:lnTo>
                <a:lnTo>
                  <a:pt x="1109" y="1132"/>
                </a:lnTo>
                <a:lnTo>
                  <a:pt x="1133" y="1109"/>
                </a:lnTo>
                <a:lnTo>
                  <a:pt x="1158" y="1084"/>
                </a:lnTo>
                <a:lnTo>
                  <a:pt x="1183" y="1061"/>
                </a:lnTo>
                <a:lnTo>
                  <a:pt x="1208" y="1037"/>
                </a:lnTo>
                <a:lnTo>
                  <a:pt x="1233" y="1014"/>
                </a:lnTo>
                <a:lnTo>
                  <a:pt x="1257" y="991"/>
                </a:lnTo>
                <a:lnTo>
                  <a:pt x="1282" y="966"/>
                </a:lnTo>
                <a:lnTo>
                  <a:pt x="1307" y="943"/>
                </a:lnTo>
                <a:lnTo>
                  <a:pt x="1332" y="920"/>
                </a:lnTo>
                <a:lnTo>
                  <a:pt x="1356" y="897"/>
                </a:lnTo>
                <a:lnTo>
                  <a:pt x="1381" y="875"/>
                </a:lnTo>
                <a:lnTo>
                  <a:pt x="1406" y="854"/>
                </a:lnTo>
                <a:lnTo>
                  <a:pt x="1431" y="831"/>
                </a:lnTo>
                <a:lnTo>
                  <a:pt x="1455" y="810"/>
                </a:lnTo>
                <a:lnTo>
                  <a:pt x="1473" y="795"/>
                </a:lnTo>
                <a:lnTo>
                  <a:pt x="1497" y="774"/>
                </a:lnTo>
                <a:lnTo>
                  <a:pt x="1522" y="753"/>
                </a:lnTo>
                <a:lnTo>
                  <a:pt x="1547" y="732"/>
                </a:lnTo>
                <a:lnTo>
                  <a:pt x="1572" y="713"/>
                </a:lnTo>
                <a:lnTo>
                  <a:pt x="1596" y="692"/>
                </a:lnTo>
                <a:lnTo>
                  <a:pt x="1621" y="673"/>
                </a:lnTo>
                <a:lnTo>
                  <a:pt x="1646" y="654"/>
                </a:lnTo>
                <a:lnTo>
                  <a:pt x="1671" y="635"/>
                </a:lnTo>
                <a:lnTo>
                  <a:pt x="1695" y="618"/>
                </a:lnTo>
                <a:lnTo>
                  <a:pt x="1720" y="598"/>
                </a:lnTo>
                <a:lnTo>
                  <a:pt x="1745" y="581"/>
                </a:lnTo>
                <a:lnTo>
                  <a:pt x="1770" y="564"/>
                </a:lnTo>
                <a:lnTo>
                  <a:pt x="1795" y="547"/>
                </a:lnTo>
                <a:lnTo>
                  <a:pt x="1819" y="530"/>
                </a:lnTo>
                <a:lnTo>
                  <a:pt x="1844" y="515"/>
                </a:lnTo>
                <a:lnTo>
                  <a:pt x="1869" y="498"/>
                </a:lnTo>
                <a:lnTo>
                  <a:pt x="1894" y="482"/>
                </a:lnTo>
                <a:lnTo>
                  <a:pt x="1918" y="467"/>
                </a:lnTo>
                <a:lnTo>
                  <a:pt x="1943" y="452"/>
                </a:lnTo>
                <a:lnTo>
                  <a:pt x="1968" y="437"/>
                </a:lnTo>
                <a:lnTo>
                  <a:pt x="1993" y="421"/>
                </a:lnTo>
                <a:lnTo>
                  <a:pt x="2017" y="408"/>
                </a:lnTo>
                <a:lnTo>
                  <a:pt x="2042" y="395"/>
                </a:lnTo>
                <a:lnTo>
                  <a:pt x="2067" y="381"/>
                </a:lnTo>
                <a:lnTo>
                  <a:pt x="2092" y="368"/>
                </a:lnTo>
                <a:lnTo>
                  <a:pt x="2116" y="355"/>
                </a:lnTo>
                <a:lnTo>
                  <a:pt x="2141" y="341"/>
                </a:lnTo>
                <a:lnTo>
                  <a:pt x="2166" y="328"/>
                </a:lnTo>
                <a:lnTo>
                  <a:pt x="2191" y="317"/>
                </a:lnTo>
                <a:lnTo>
                  <a:pt x="2216" y="305"/>
                </a:lnTo>
                <a:lnTo>
                  <a:pt x="2240" y="294"/>
                </a:lnTo>
                <a:lnTo>
                  <a:pt x="2265" y="282"/>
                </a:lnTo>
                <a:lnTo>
                  <a:pt x="2290" y="271"/>
                </a:lnTo>
                <a:lnTo>
                  <a:pt x="2315" y="260"/>
                </a:lnTo>
                <a:lnTo>
                  <a:pt x="2339" y="250"/>
                </a:lnTo>
                <a:lnTo>
                  <a:pt x="2364" y="239"/>
                </a:lnTo>
                <a:lnTo>
                  <a:pt x="2389" y="229"/>
                </a:lnTo>
                <a:lnTo>
                  <a:pt x="2414" y="220"/>
                </a:lnTo>
                <a:lnTo>
                  <a:pt x="2438" y="210"/>
                </a:lnTo>
                <a:lnTo>
                  <a:pt x="2463" y="200"/>
                </a:lnTo>
                <a:lnTo>
                  <a:pt x="2488" y="191"/>
                </a:lnTo>
                <a:lnTo>
                  <a:pt x="2513" y="183"/>
                </a:lnTo>
                <a:lnTo>
                  <a:pt x="2537" y="174"/>
                </a:lnTo>
                <a:lnTo>
                  <a:pt x="2562" y="166"/>
                </a:lnTo>
                <a:lnTo>
                  <a:pt x="2587" y="159"/>
                </a:lnTo>
                <a:lnTo>
                  <a:pt x="2612" y="151"/>
                </a:lnTo>
                <a:lnTo>
                  <a:pt x="2637" y="143"/>
                </a:lnTo>
                <a:lnTo>
                  <a:pt x="2661" y="136"/>
                </a:lnTo>
                <a:lnTo>
                  <a:pt x="2686" y="128"/>
                </a:lnTo>
                <a:lnTo>
                  <a:pt x="2711" y="120"/>
                </a:lnTo>
                <a:lnTo>
                  <a:pt x="2736" y="115"/>
                </a:lnTo>
                <a:lnTo>
                  <a:pt x="2760" y="109"/>
                </a:lnTo>
                <a:lnTo>
                  <a:pt x="2785" y="101"/>
                </a:lnTo>
                <a:lnTo>
                  <a:pt x="2810" y="96"/>
                </a:lnTo>
                <a:lnTo>
                  <a:pt x="2835" y="90"/>
                </a:lnTo>
                <a:lnTo>
                  <a:pt x="2859" y="84"/>
                </a:lnTo>
                <a:lnTo>
                  <a:pt x="2884" y="79"/>
                </a:lnTo>
                <a:lnTo>
                  <a:pt x="2909" y="75"/>
                </a:lnTo>
                <a:lnTo>
                  <a:pt x="2934" y="69"/>
                </a:lnTo>
                <a:lnTo>
                  <a:pt x="2945" y="67"/>
                </a:lnTo>
                <a:lnTo>
                  <a:pt x="2970" y="63"/>
                </a:lnTo>
                <a:lnTo>
                  <a:pt x="2995" y="58"/>
                </a:lnTo>
                <a:lnTo>
                  <a:pt x="3019" y="54"/>
                </a:lnTo>
                <a:lnTo>
                  <a:pt x="3044" y="50"/>
                </a:lnTo>
                <a:lnTo>
                  <a:pt x="3069" y="46"/>
                </a:lnTo>
                <a:lnTo>
                  <a:pt x="3094" y="42"/>
                </a:lnTo>
                <a:lnTo>
                  <a:pt x="3119" y="39"/>
                </a:lnTo>
                <a:lnTo>
                  <a:pt x="3143" y="35"/>
                </a:lnTo>
                <a:lnTo>
                  <a:pt x="3168" y="33"/>
                </a:lnTo>
                <a:lnTo>
                  <a:pt x="3193" y="29"/>
                </a:lnTo>
                <a:lnTo>
                  <a:pt x="3218" y="27"/>
                </a:lnTo>
                <a:lnTo>
                  <a:pt x="3242" y="23"/>
                </a:lnTo>
                <a:lnTo>
                  <a:pt x="3267" y="21"/>
                </a:lnTo>
                <a:lnTo>
                  <a:pt x="3292" y="20"/>
                </a:lnTo>
                <a:lnTo>
                  <a:pt x="3317" y="18"/>
                </a:lnTo>
                <a:lnTo>
                  <a:pt x="3341" y="16"/>
                </a:lnTo>
                <a:lnTo>
                  <a:pt x="3366" y="14"/>
                </a:lnTo>
                <a:lnTo>
                  <a:pt x="3391" y="12"/>
                </a:lnTo>
                <a:lnTo>
                  <a:pt x="3416" y="10"/>
                </a:lnTo>
                <a:lnTo>
                  <a:pt x="3440" y="8"/>
                </a:lnTo>
                <a:lnTo>
                  <a:pt x="3465" y="6"/>
                </a:lnTo>
                <a:lnTo>
                  <a:pt x="3490" y="6"/>
                </a:lnTo>
                <a:lnTo>
                  <a:pt x="3515" y="4"/>
                </a:lnTo>
                <a:lnTo>
                  <a:pt x="3534" y="4"/>
                </a:lnTo>
                <a:lnTo>
                  <a:pt x="3559" y="4"/>
                </a:lnTo>
                <a:lnTo>
                  <a:pt x="3583" y="2"/>
                </a:lnTo>
                <a:lnTo>
                  <a:pt x="3608" y="2"/>
                </a:lnTo>
                <a:lnTo>
                  <a:pt x="3633" y="2"/>
                </a:lnTo>
                <a:lnTo>
                  <a:pt x="3658" y="2"/>
                </a:lnTo>
                <a:lnTo>
                  <a:pt x="3682" y="0"/>
                </a:lnTo>
                <a:lnTo>
                  <a:pt x="3707" y="0"/>
                </a:lnTo>
                <a:lnTo>
                  <a:pt x="3732" y="0"/>
                </a:lnTo>
                <a:lnTo>
                  <a:pt x="3757" y="0"/>
                </a:lnTo>
                <a:lnTo>
                  <a:pt x="3781" y="0"/>
                </a:lnTo>
                <a:lnTo>
                  <a:pt x="3806" y="0"/>
                </a:lnTo>
                <a:lnTo>
                  <a:pt x="3831" y="0"/>
                </a:lnTo>
                <a:lnTo>
                  <a:pt x="3856" y="2"/>
                </a:lnTo>
                <a:lnTo>
                  <a:pt x="3881" y="2"/>
                </a:lnTo>
                <a:lnTo>
                  <a:pt x="3905" y="2"/>
                </a:lnTo>
                <a:lnTo>
                  <a:pt x="3930" y="2"/>
                </a:lnTo>
                <a:lnTo>
                  <a:pt x="3955" y="2"/>
                </a:lnTo>
                <a:lnTo>
                  <a:pt x="3980" y="2"/>
                </a:lnTo>
                <a:lnTo>
                  <a:pt x="4004" y="2"/>
                </a:lnTo>
                <a:lnTo>
                  <a:pt x="4029" y="4"/>
                </a:lnTo>
                <a:lnTo>
                  <a:pt x="4054" y="4"/>
                </a:lnTo>
                <a:lnTo>
                  <a:pt x="4079" y="4"/>
                </a:lnTo>
                <a:lnTo>
                  <a:pt x="4103" y="4"/>
                </a:lnTo>
                <a:lnTo>
                  <a:pt x="4123" y="4"/>
                </a:lnTo>
                <a:lnTo>
                  <a:pt x="4147" y="4"/>
                </a:lnTo>
                <a:lnTo>
                  <a:pt x="4172" y="4"/>
                </a:lnTo>
                <a:lnTo>
                  <a:pt x="4197" y="4"/>
                </a:lnTo>
                <a:lnTo>
                  <a:pt x="4222" y="4"/>
                </a:lnTo>
                <a:lnTo>
                  <a:pt x="4246" y="4"/>
                </a:lnTo>
                <a:lnTo>
                  <a:pt x="4271" y="4"/>
                </a:lnTo>
                <a:lnTo>
                  <a:pt x="4296" y="4"/>
                </a:lnTo>
                <a:lnTo>
                  <a:pt x="4321" y="4"/>
                </a:lnTo>
                <a:lnTo>
                  <a:pt x="4345" y="4"/>
                </a:lnTo>
                <a:lnTo>
                  <a:pt x="4370" y="4"/>
                </a:lnTo>
                <a:lnTo>
                  <a:pt x="4395" y="4"/>
                </a:lnTo>
                <a:lnTo>
                  <a:pt x="4418" y="4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38760" y="4381560"/>
            <a:ext cx="2728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temps dans le capillaire (s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1649880" y="2023200"/>
            <a:ext cx="129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O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 mmH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05400" y="1469880"/>
            <a:ext cx="2192400" cy="0"/>
          </a:xfrm>
          <a:prstGeom prst="line">
            <a:avLst/>
          </a:prstGeom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6808680" y="2757600"/>
            <a:ext cx="223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994800" y="2523960"/>
            <a:ext cx="155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PAO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  <a:ea typeface="Arial"/>
              </a:rPr>
              <a:t> 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(hypoxi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6816600" y="1465200"/>
            <a:ext cx="22392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90120" y="1231920"/>
            <a:ext cx="1724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8080"/>
                </a:solidFill>
                <a:latin typeface="Trebuchet MS"/>
                <a:ea typeface="Arial"/>
              </a:rPr>
              <a:t>PAO</a:t>
            </a:r>
            <a:r>
              <a:rPr b="0" lang="fr-FR" sz="1600" spc="-1" strike="noStrike" baseline="-25000">
                <a:solidFill>
                  <a:srgbClr val="008080"/>
                </a:solidFill>
                <a:latin typeface="Trebuchet MS"/>
                <a:ea typeface="Arial"/>
              </a:rPr>
              <a:t>2</a:t>
            </a:r>
            <a:r>
              <a:rPr b="0" lang="fr-FR" sz="1600" spc="-1" strike="noStrike" baseline="30000">
                <a:solidFill>
                  <a:srgbClr val="008080"/>
                </a:solidFill>
                <a:latin typeface="Trebuchet MS"/>
                <a:ea typeface="Arial"/>
              </a:rPr>
              <a:t> </a:t>
            </a:r>
            <a:r>
              <a:rPr b="0" lang="fr-FR" sz="1600" spc="-1" strike="noStrike">
                <a:solidFill>
                  <a:srgbClr val="008080"/>
                </a:solidFill>
                <a:latin typeface="Trebuchet MS"/>
                <a:ea typeface="Arial"/>
              </a:rPr>
              <a:t>(normoxi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77360" y="2851200"/>
            <a:ext cx="1709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8080"/>
                </a:solidFill>
                <a:latin typeface="Trebuchet MS"/>
                <a:ea typeface="Arial"/>
              </a:rPr>
              <a:t>PaO</a:t>
            </a:r>
            <a:r>
              <a:rPr b="0" lang="fr-FR" sz="1600" spc="-1" strike="noStrike" baseline="-25000">
                <a:solidFill>
                  <a:srgbClr val="008080"/>
                </a:solidFill>
                <a:latin typeface="Trebuchet MS"/>
                <a:ea typeface="Arial"/>
              </a:rPr>
              <a:t>2</a:t>
            </a:r>
            <a:r>
              <a:rPr b="0" lang="fr-FR" sz="1600" spc="-1" strike="noStrike" baseline="30000">
                <a:solidFill>
                  <a:srgbClr val="008080"/>
                </a:solidFill>
                <a:latin typeface="Trebuchet MS"/>
                <a:ea typeface="Arial"/>
              </a:rPr>
              <a:t> </a:t>
            </a:r>
            <a:r>
              <a:rPr b="0" lang="fr-FR" sz="1600" spc="-1" strike="noStrike">
                <a:solidFill>
                  <a:srgbClr val="008080"/>
                </a:solidFill>
                <a:latin typeface="Trebuchet MS"/>
                <a:ea typeface="Arial"/>
              </a:rPr>
              <a:t>(normoxi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21720" y="3443400"/>
            <a:ext cx="1542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PaO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  <a:ea typeface="Arial"/>
              </a:rPr>
              <a:t> 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(hypoxi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24160" y="3043080"/>
            <a:ext cx="22212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332080" y="3633840"/>
            <a:ext cx="2221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56040" y="1467000"/>
            <a:ext cx="1449360" cy="1550880"/>
          </a:xfrm>
          <a:custGeom>
            <a:avLst/>
            <a:gdLst/>
            <a:ahLst/>
            <a:rect l="l" t="t" r="r" b="b"/>
            <a:pathLst>
              <a:path w="702" h="757">
                <a:moveTo>
                  <a:pt x="0" y="757"/>
                </a:moveTo>
                <a:cubicBezTo>
                  <a:pt x="40" y="704"/>
                  <a:pt x="81" y="651"/>
                  <a:pt x="114" y="589"/>
                </a:cubicBezTo>
                <a:cubicBezTo>
                  <a:pt x="147" y="527"/>
                  <a:pt x="163" y="455"/>
                  <a:pt x="198" y="385"/>
                </a:cubicBezTo>
                <a:cubicBezTo>
                  <a:pt x="233" y="315"/>
                  <a:pt x="286" y="223"/>
                  <a:pt x="324" y="169"/>
                </a:cubicBezTo>
                <a:cubicBezTo>
                  <a:pt x="362" y="115"/>
                  <a:pt x="401" y="83"/>
                  <a:pt x="426" y="61"/>
                </a:cubicBezTo>
                <a:cubicBezTo>
                  <a:pt x="451" y="39"/>
                  <a:pt x="457" y="45"/>
                  <a:pt x="474" y="37"/>
                </a:cubicBezTo>
                <a:cubicBezTo>
                  <a:pt x="491" y="29"/>
                  <a:pt x="509" y="18"/>
                  <a:pt x="528" y="13"/>
                </a:cubicBezTo>
                <a:cubicBezTo>
                  <a:pt x="547" y="8"/>
                  <a:pt x="566" y="9"/>
                  <a:pt x="588" y="7"/>
                </a:cubicBezTo>
                <a:cubicBezTo>
                  <a:pt x="610" y="5"/>
                  <a:pt x="641" y="2"/>
                  <a:pt x="660" y="1"/>
                </a:cubicBezTo>
                <a:cubicBezTo>
                  <a:pt x="679" y="0"/>
                  <a:pt x="690" y="0"/>
                  <a:pt x="702" y="1"/>
                </a:cubicBezTo>
              </a:path>
            </a:pathLst>
          </a:custGeom>
          <a:noFill/>
          <a:ln w="1908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718520"/>
            <a:ext cx="822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PO</a:t>
            </a:r>
            <a:r>
              <a:rPr b="0" i="1" lang="fr-FR" sz="16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r>
              <a:rPr b="0" i="1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 dans le sang, en fonction du temps de passage dans le capillaire, selon la PAO</a:t>
            </a:r>
            <a:r>
              <a:rPr b="0" i="1" lang="fr-FR" sz="16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102560" y="135000"/>
            <a:ext cx="51033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pressions &amp; concentrations en g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560" y="127080"/>
            <a:ext cx="4084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effets directs de l’alt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7200" y="695160"/>
            <a:ext cx="5191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iffusion alvéolo-capilla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492120" y="1611720"/>
            <a:ext cx="796932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quantité d’O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présente dans le sang – en ml O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/100 ml de sang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58880" y="2284560"/>
            <a:ext cx="3898800" cy="40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(1,39 x Hb x (Sat/100)) + 0,003 PO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58880" y="3006720"/>
            <a:ext cx="799452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0000"/>
                </a:solidFill>
                <a:latin typeface="Trebuchet MS"/>
              </a:rPr>
              <a:t>Hb : concentration en hémoglobine du sang </a:t>
            </a:r>
            <a:r>
              <a:rPr b="0" lang="en-GB" sz="16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600" spc="-1" strike="noStrike">
                <a:solidFill>
                  <a:srgbClr val="990000"/>
                </a:solidFill>
                <a:latin typeface="Trebuchet MS"/>
              </a:rPr>
              <a:t>(en g/100 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0000"/>
                </a:solidFill>
                <a:latin typeface="Trebuchet MS"/>
              </a:rPr>
              <a:t>Sat : % de saturation de l’hémoglob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0000"/>
                </a:solidFill>
                <a:latin typeface="Trebuchet MS"/>
              </a:rPr>
              <a:t>PO</a:t>
            </a:r>
            <a:r>
              <a:rPr b="0" lang="en-GB" sz="16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en-GB" sz="1600" spc="-1" strike="noStrike">
                <a:solidFill>
                  <a:srgbClr val="990000"/>
                </a:solidFill>
                <a:latin typeface="Trebuchet MS"/>
              </a:rPr>
              <a:t> en mmH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02560" y="135000"/>
            <a:ext cx="51033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pressions &amp; concentrations en g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560" y="127080"/>
            <a:ext cx="4084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effets directs de l’alt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7200" y="695160"/>
            <a:ext cx="63979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pression partielle et concentration dans le sa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84760" y="712800"/>
            <a:ext cx="41338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dioxygè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492120" y="1611720"/>
            <a:ext cx="796932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quantité d’O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présente dans le sang – en ml O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/100 ml de sang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58880" y="2284560"/>
            <a:ext cx="3898800" cy="40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(1,39 x Hb x (Sat/100)) + 0,003 PO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08040" y="578340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145960" y="560700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52360" y="533232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52360" y="50576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52360" y="47862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052360" y="451152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052360" y="42386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2360" y="396396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52360" y="36892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052360" y="3417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052360" y="314496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955520" y="286848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457360" y="5702040"/>
            <a:ext cx="3240" cy="586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86040" y="57960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25600" y="57960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66960" y="57960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06520" y="57960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46440" y="57960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987800" y="57960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25920" y="57960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68720" y="57960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08640" y="57960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694200" y="579600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2665440" y="5713200"/>
            <a:ext cx="1440" cy="298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886120" y="5713200"/>
            <a:ext cx="1440" cy="586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105000" y="5713200"/>
            <a:ext cx="3240" cy="298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3327480" y="5713200"/>
            <a:ext cx="1440" cy="586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3546360" y="5713200"/>
            <a:ext cx="1800" cy="298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3767040" y="5713200"/>
            <a:ext cx="1800" cy="586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3986280" y="5713200"/>
            <a:ext cx="1440" cy="298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4206960" y="5713200"/>
            <a:ext cx="1440" cy="586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425840" y="5713200"/>
            <a:ext cx="1800" cy="298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646520" y="5713200"/>
            <a:ext cx="3240" cy="586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4867200" y="5713200"/>
            <a:ext cx="1800" cy="298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086440" y="5713200"/>
            <a:ext cx="1440" cy="586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5307120" y="5713200"/>
            <a:ext cx="1440" cy="298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5526000" y="5713200"/>
            <a:ext cx="1800" cy="586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746680" y="5713200"/>
            <a:ext cx="1800" cy="298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5965920" y="5713200"/>
            <a:ext cx="1440" cy="586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6186600" y="5713200"/>
            <a:ext cx="3240" cy="298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405480" y="5713200"/>
            <a:ext cx="3240" cy="586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6627960" y="5713200"/>
            <a:ext cx="1440" cy="298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846840" y="5713200"/>
            <a:ext cx="1800" cy="586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46200" y="5713560"/>
            <a:ext cx="444348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397240" y="5702400"/>
            <a:ext cx="6012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27120" y="5564160"/>
            <a:ext cx="30240" cy="32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97240" y="5427720"/>
            <a:ext cx="6012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427120" y="5292720"/>
            <a:ext cx="3024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397240" y="5153040"/>
            <a:ext cx="6012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27120" y="5016600"/>
            <a:ext cx="3024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97240" y="4881600"/>
            <a:ext cx="6012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427120" y="4743360"/>
            <a:ext cx="3024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397240" y="4606920"/>
            <a:ext cx="6012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27120" y="4470480"/>
            <a:ext cx="30240" cy="32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397240" y="4334040"/>
            <a:ext cx="6012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427120" y="4197240"/>
            <a:ext cx="3024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97240" y="4059360"/>
            <a:ext cx="6012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27120" y="3922560"/>
            <a:ext cx="3024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397240" y="3784680"/>
            <a:ext cx="60120" cy="32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27120" y="3649680"/>
            <a:ext cx="3024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97240" y="3513240"/>
            <a:ext cx="6012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427120" y="3375000"/>
            <a:ext cx="3024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97240" y="3240000"/>
            <a:ext cx="6012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427120" y="3103560"/>
            <a:ext cx="3024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97240" y="2963880"/>
            <a:ext cx="6012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2457360" y="2936880"/>
            <a:ext cx="3240" cy="27655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55920" y="5700600"/>
            <a:ext cx="4680" cy="324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45400" y="3017880"/>
            <a:ext cx="3240" cy="3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455920" y="5700600"/>
            <a:ext cx="4680" cy="3240"/>
          </a:xfrm>
          <a:prstGeom prst="ellipse">
            <a:avLst/>
          </a:pr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45400" y="2962440"/>
            <a:ext cx="3240" cy="28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71760" y="3027240"/>
            <a:ext cx="4375080" cy="2675160"/>
          </a:xfrm>
          <a:custGeom>
            <a:avLst/>
            <a:gdLst/>
            <a:ahLst/>
            <a:rect l="l" t="t" r="r" b="b"/>
            <a:pathLst>
              <a:path w="4555" h="2808">
                <a:moveTo>
                  <a:pt x="0" y="2808"/>
                </a:moveTo>
                <a:lnTo>
                  <a:pt x="15" y="2795"/>
                </a:lnTo>
                <a:lnTo>
                  <a:pt x="93" y="2726"/>
                </a:lnTo>
                <a:lnTo>
                  <a:pt x="172" y="2651"/>
                </a:lnTo>
                <a:lnTo>
                  <a:pt x="250" y="2571"/>
                </a:lnTo>
                <a:lnTo>
                  <a:pt x="328" y="2487"/>
                </a:lnTo>
                <a:lnTo>
                  <a:pt x="406" y="2398"/>
                </a:lnTo>
                <a:lnTo>
                  <a:pt x="484" y="2305"/>
                </a:lnTo>
                <a:lnTo>
                  <a:pt x="563" y="2208"/>
                </a:lnTo>
                <a:lnTo>
                  <a:pt x="641" y="2109"/>
                </a:lnTo>
                <a:lnTo>
                  <a:pt x="719" y="2007"/>
                </a:lnTo>
                <a:lnTo>
                  <a:pt x="797" y="1903"/>
                </a:lnTo>
                <a:lnTo>
                  <a:pt x="875" y="1797"/>
                </a:lnTo>
                <a:lnTo>
                  <a:pt x="954" y="1690"/>
                </a:lnTo>
                <a:lnTo>
                  <a:pt x="1034" y="1586"/>
                </a:lnTo>
                <a:lnTo>
                  <a:pt x="1112" y="1480"/>
                </a:lnTo>
                <a:lnTo>
                  <a:pt x="1190" y="1378"/>
                </a:lnTo>
                <a:lnTo>
                  <a:pt x="1268" y="1279"/>
                </a:lnTo>
                <a:lnTo>
                  <a:pt x="1347" y="1180"/>
                </a:lnTo>
                <a:lnTo>
                  <a:pt x="1425" y="1087"/>
                </a:lnTo>
                <a:lnTo>
                  <a:pt x="1503" y="998"/>
                </a:lnTo>
                <a:lnTo>
                  <a:pt x="1581" y="914"/>
                </a:lnTo>
                <a:lnTo>
                  <a:pt x="1659" y="834"/>
                </a:lnTo>
                <a:lnTo>
                  <a:pt x="1738" y="758"/>
                </a:lnTo>
                <a:lnTo>
                  <a:pt x="1816" y="687"/>
                </a:lnTo>
                <a:lnTo>
                  <a:pt x="1894" y="622"/>
                </a:lnTo>
                <a:lnTo>
                  <a:pt x="1972" y="562"/>
                </a:lnTo>
                <a:lnTo>
                  <a:pt x="2051" y="506"/>
                </a:lnTo>
                <a:lnTo>
                  <a:pt x="2129" y="454"/>
                </a:lnTo>
                <a:lnTo>
                  <a:pt x="2207" y="408"/>
                </a:lnTo>
                <a:lnTo>
                  <a:pt x="2285" y="365"/>
                </a:lnTo>
                <a:lnTo>
                  <a:pt x="2363" y="326"/>
                </a:lnTo>
                <a:lnTo>
                  <a:pt x="2442" y="290"/>
                </a:lnTo>
                <a:lnTo>
                  <a:pt x="2520" y="259"/>
                </a:lnTo>
                <a:lnTo>
                  <a:pt x="2598" y="231"/>
                </a:lnTo>
                <a:lnTo>
                  <a:pt x="2676" y="205"/>
                </a:lnTo>
                <a:lnTo>
                  <a:pt x="2754" y="180"/>
                </a:lnTo>
                <a:lnTo>
                  <a:pt x="2833" y="160"/>
                </a:lnTo>
                <a:lnTo>
                  <a:pt x="2911" y="141"/>
                </a:lnTo>
                <a:lnTo>
                  <a:pt x="2989" y="125"/>
                </a:lnTo>
                <a:lnTo>
                  <a:pt x="3067" y="110"/>
                </a:lnTo>
                <a:lnTo>
                  <a:pt x="3147" y="95"/>
                </a:lnTo>
                <a:lnTo>
                  <a:pt x="3226" y="84"/>
                </a:lnTo>
                <a:lnTo>
                  <a:pt x="3304" y="72"/>
                </a:lnTo>
                <a:lnTo>
                  <a:pt x="3382" y="63"/>
                </a:lnTo>
                <a:lnTo>
                  <a:pt x="3460" y="56"/>
                </a:lnTo>
                <a:lnTo>
                  <a:pt x="3538" y="46"/>
                </a:lnTo>
                <a:lnTo>
                  <a:pt x="3617" y="41"/>
                </a:lnTo>
                <a:lnTo>
                  <a:pt x="3695" y="35"/>
                </a:lnTo>
                <a:lnTo>
                  <a:pt x="3773" y="30"/>
                </a:lnTo>
                <a:lnTo>
                  <a:pt x="3851" y="24"/>
                </a:lnTo>
                <a:lnTo>
                  <a:pt x="3929" y="20"/>
                </a:lnTo>
                <a:lnTo>
                  <a:pt x="4008" y="17"/>
                </a:lnTo>
                <a:lnTo>
                  <a:pt x="4086" y="13"/>
                </a:lnTo>
                <a:lnTo>
                  <a:pt x="4164" y="11"/>
                </a:lnTo>
                <a:lnTo>
                  <a:pt x="4242" y="7"/>
                </a:lnTo>
                <a:lnTo>
                  <a:pt x="4321" y="5"/>
                </a:lnTo>
                <a:lnTo>
                  <a:pt x="4399" y="4"/>
                </a:lnTo>
                <a:lnTo>
                  <a:pt x="4477" y="2"/>
                </a:lnTo>
                <a:lnTo>
                  <a:pt x="4555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135320" y="6137280"/>
            <a:ext cx="16401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aO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Trebuchet MS"/>
              </a:rPr>
              <a:t>2 </a:t>
            </a: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(mm H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16200000">
            <a:off x="954720" y="3935880"/>
            <a:ext cx="1662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rebuchet MS"/>
              </a:rPr>
              <a:t>% saturation O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5524560" y="3160800"/>
            <a:ext cx="1440" cy="2549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6846840" y="3052800"/>
            <a:ext cx="1800" cy="26416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494080" y="3022560"/>
            <a:ext cx="3898800" cy="1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2501640" y="3110040"/>
            <a:ext cx="2881080" cy="2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373440" y="3362400"/>
            <a:ext cx="10951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  <a:ea typeface="Arial"/>
              </a:rPr>
              <a:t>normox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87160" y="3678120"/>
            <a:ext cx="104328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  <a:ea typeface="Arial"/>
              </a:rPr>
              <a:t>hypoxi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  <a:ea typeface="Arial"/>
              </a:rPr>
              <a:t>modér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643280" y="3446640"/>
            <a:ext cx="3240" cy="2193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040280" y="4314960"/>
            <a:ext cx="120960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  <a:ea typeface="Arial"/>
              </a:rPr>
              <a:t>hypoxi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  <a:ea typeface="Arial"/>
              </a:rPr>
              <a:t>prononc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17840" y="3365640"/>
            <a:ext cx="2023920" cy="1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102560" y="135000"/>
            <a:ext cx="51033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pressions &amp; concentrations en g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560" y="127080"/>
            <a:ext cx="4084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effets directs de l’alt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7200" y="695160"/>
            <a:ext cx="63979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pression partielle et concentration dans le sa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784760" y="712800"/>
            <a:ext cx="41338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dioxygè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492120" y="1611720"/>
            <a:ext cx="796932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quantité d’O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présente dans le s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94080" y="2576520"/>
            <a:ext cx="841320" cy="178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20920" y="547704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5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46400" y="547704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6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74760" y="547704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7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02040" y="547704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8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530760" y="547704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9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90520" y="51084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090520" y="47340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090520" y="43578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090520" y="39798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090520" y="36050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090520" y="3228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090520" y="28512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022120" y="247644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3344760" y="5379840"/>
            <a:ext cx="1800" cy="680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755880" y="5380200"/>
            <a:ext cx="3240" cy="3168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172040" y="5379840"/>
            <a:ext cx="1440" cy="680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4584600" y="5380200"/>
            <a:ext cx="1800" cy="3168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4998960" y="5379840"/>
            <a:ext cx="1800" cy="680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5413320" y="5380200"/>
            <a:ext cx="1800" cy="3168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826240" y="5379840"/>
            <a:ext cx="1440" cy="680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6238800" y="5380200"/>
            <a:ext cx="1800" cy="3168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6653160" y="5379840"/>
            <a:ext cx="3240" cy="680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32160" y="5380200"/>
            <a:ext cx="334476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48000" y="5191200"/>
            <a:ext cx="66600" cy="32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81120" y="5002200"/>
            <a:ext cx="3348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448000" y="4813200"/>
            <a:ext cx="66600" cy="32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481120" y="4626000"/>
            <a:ext cx="3348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448000" y="4438800"/>
            <a:ext cx="6660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481120" y="4251240"/>
            <a:ext cx="3348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48000" y="4062240"/>
            <a:ext cx="66600" cy="32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481120" y="3873600"/>
            <a:ext cx="3348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448000" y="3687840"/>
            <a:ext cx="6660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481120" y="3497400"/>
            <a:ext cx="3348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448000" y="3309840"/>
            <a:ext cx="6660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481120" y="3121200"/>
            <a:ext cx="33480" cy="288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448000" y="2933640"/>
            <a:ext cx="6660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481120" y="2746440"/>
            <a:ext cx="3348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448000" y="2558880"/>
            <a:ext cx="6660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2514600" y="2567160"/>
            <a:ext cx="1440" cy="26143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344760" y="3533760"/>
            <a:ext cx="827280" cy="22716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172040" y="3760920"/>
            <a:ext cx="826920" cy="45216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98960" y="4213080"/>
            <a:ext cx="827280" cy="3002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826240" y="4513320"/>
            <a:ext cx="701640" cy="450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87880" y="3481560"/>
            <a:ext cx="112680" cy="10944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16240" y="3705120"/>
            <a:ext cx="108000" cy="10980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943520" y="4157640"/>
            <a:ext cx="111240" cy="10944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770440" y="4459320"/>
            <a:ext cx="111240" cy="10944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2080" y="4911840"/>
            <a:ext cx="111240" cy="10800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44760" y="4362480"/>
            <a:ext cx="827280" cy="15084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72040" y="4513320"/>
            <a:ext cx="826920" cy="60156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287880" y="4308480"/>
            <a:ext cx="112680" cy="109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116240" y="4459320"/>
            <a:ext cx="108000" cy="109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943520" y="5059440"/>
            <a:ext cx="111240" cy="11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2519280" y="2576520"/>
            <a:ext cx="828720" cy="95400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61040" y="2876400"/>
            <a:ext cx="111240" cy="10980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62480" y="3338640"/>
            <a:ext cx="109800" cy="109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003560" y="579924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altitude (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0800000">
            <a:off x="1428840" y="3454920"/>
            <a:ext cx="457200" cy="9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SatO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Verdana"/>
                <a:ea typeface="Arial"/>
              </a:rPr>
              <a:t>2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 (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07200" y="2716200"/>
            <a:ext cx="72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  <a:ea typeface="Arial"/>
              </a:rPr>
              <a:t>re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491080" y="319572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  <a:ea typeface="Arial"/>
              </a:rPr>
              <a:t>effort maxi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02560" y="135000"/>
            <a:ext cx="51033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pressions &amp; concentrations en g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5560" y="127080"/>
            <a:ext cx="4084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effets directs de l’alt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87200" y="695160"/>
            <a:ext cx="63979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pression partielle et concentration dans le sa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84760" y="712800"/>
            <a:ext cx="41338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dioxygè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6T12:04:16Z</dcterms:created>
  <dc:creator>Physiologie III</dc:creator>
  <dc:description/>
  <cp:keywords/>
  <dc:language>en-US</dc:language>
  <cp:lastModifiedBy>Rm</cp:lastModifiedBy>
  <dcterms:modified xsi:type="dcterms:W3CDTF">2012-01-30T22:17:12Z</dcterms:modified>
  <cp:revision>2409</cp:revision>
  <dc:subject/>
  <dc:title>Physiopathologie de la signalisation calcique dans le muscle lisse des voies aériennes : effet des polluants atmosphériques et des anesthésiques généraux</dc:title>
</cp:coreProperties>
</file>