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117440" y="1981080"/>
            <a:ext cx="690912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1117440" y="4130640"/>
            <a:ext cx="690912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11744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5768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117440" y="413064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57680" y="413064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117440" y="198108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453480" y="198108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789520" y="198108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1117440" y="413064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453480" y="413064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789520" y="4130640"/>
            <a:ext cx="222444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1117440" y="1981080"/>
            <a:ext cx="690912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1117440" y="1981080"/>
            <a:ext cx="690912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1117440" y="1981080"/>
            <a:ext cx="3371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57680" y="1981080"/>
            <a:ext cx="3371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17440" y="609120"/>
            <a:ext cx="690912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11744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7680" y="1981080"/>
            <a:ext cx="3371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1117440" y="413064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1117440" y="1981080"/>
            <a:ext cx="3371400" cy="411480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5768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57680" y="413064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11744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57680" y="1981080"/>
            <a:ext cx="337140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1117440" y="4130640"/>
            <a:ext cx="6909120" cy="1962720"/>
          </a:xfrm>
          <a:prstGeom prst="rect">
            <a:avLst/>
          </a:prstGeom>
          <a:noFill/>
          <a:ln w="0">
            <a:noFill/>
          </a:ln>
        </p:spPr>
        <p:txBody>
          <a:bodyPr lIns="90360" rIns="90360" tIns="44280" bIns="442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440" y="609120"/>
            <a:ext cx="690912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117440" y="1981080"/>
            <a:ext cx="690912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1473120" y="1117440"/>
            <a:ext cx="613404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379600" y="281160"/>
            <a:ext cx="4170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Master Biologie cellulai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physiologie et et pathologie</a:t>
            </a:r>
            <a:endParaRPr b="0" lang="en-US" sz="2400" spc="-1" strike="noStrike">
              <a:solidFill>
                <a:srgbClr val="000000"/>
              </a:solidFill>
              <a:latin typeface="Times New Roman"/>
            </a:endParaRPr>
          </a:p>
        </p:txBody>
      </p:sp>
      <p:sp>
        <p:nvSpPr>
          <p:cNvPr id="40" name=""/>
          <p:cNvSpPr/>
          <p:nvPr/>
        </p:nvSpPr>
        <p:spPr>
          <a:xfrm>
            <a:off x="3540240" y="113364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rebuchet MS"/>
              </a:rPr>
              <a:t>UE SAIB</a:t>
            </a:r>
            <a:endParaRPr b="0" lang="en-US" sz="2400" spc="-1" strike="noStrike">
              <a:solidFill>
                <a:srgbClr val="000000"/>
              </a:solidFill>
              <a:latin typeface="Times New Roman"/>
            </a:endParaRPr>
          </a:p>
        </p:txBody>
      </p:sp>
      <p:pic>
        <p:nvPicPr>
          <p:cNvPr id="41" name="" descr=""/>
          <p:cNvPicPr/>
          <p:nvPr/>
        </p:nvPicPr>
        <p:blipFill>
          <a:blip r:embed="rId1"/>
          <a:stretch/>
        </p:blipFill>
        <p:spPr>
          <a:xfrm>
            <a:off x="7616880" y="0"/>
            <a:ext cx="1527120" cy="1527120"/>
          </a:xfrm>
          <a:prstGeom prst="rect">
            <a:avLst/>
          </a:prstGeom>
          <a:ln w="0">
            <a:noFill/>
          </a:ln>
        </p:spPr>
      </p:pic>
      <p:pic>
        <p:nvPicPr>
          <p:cNvPr id="42" name="" descr=""/>
          <p:cNvPicPr/>
          <p:nvPr/>
        </p:nvPicPr>
        <p:blipFill>
          <a:blip r:embed="rId2"/>
          <a:stretch/>
        </p:blipFill>
        <p:spPr>
          <a:xfrm>
            <a:off x="0" y="0"/>
            <a:ext cx="1770120" cy="1514520"/>
          </a:xfrm>
          <a:prstGeom prst="rect">
            <a:avLst/>
          </a:prstGeom>
          <a:ln w="0">
            <a:noFill/>
          </a:ln>
        </p:spPr>
      </p:pic>
      <p:sp>
        <p:nvSpPr>
          <p:cNvPr id="43" name=""/>
          <p:cNvSpPr/>
          <p:nvPr/>
        </p:nvSpPr>
        <p:spPr>
          <a:xfrm>
            <a:off x="431640" y="4235400"/>
            <a:ext cx="78184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Etienne Rou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Adaptation cardiovasculaire à l’ischémie INSERM U 1034</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2000" spc="-1" strike="noStrike">
                <a:solidFill>
                  <a:srgbClr val="000066"/>
                </a:solidFill>
                <a:latin typeface="Trebuchet MS"/>
              </a:rPr>
              <a:t>UFR des Sciences de la Vie Université Bordeaux Segale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fr-FR" sz="2000" spc="-1" strike="noStrike">
                <a:solidFill>
                  <a:srgbClr val="000066"/>
                </a:solidFill>
                <a:latin typeface="Trebuchet MS"/>
              </a:rPr>
              <a:t>contact: etienne.roux@u-bordeaux2.fr</a:t>
            </a:r>
            <a:endParaRPr b="0" lang="en-US" sz="2000" spc="-1" strike="noStrike">
              <a:solidFill>
                <a:srgbClr val="000000"/>
              </a:solidFill>
              <a:latin typeface="Times New Roman"/>
            </a:endParaRPr>
          </a:p>
        </p:txBody>
      </p:sp>
      <p:sp>
        <p:nvSpPr>
          <p:cNvPr id="44" name=""/>
          <p:cNvSpPr/>
          <p:nvPr/>
        </p:nvSpPr>
        <p:spPr>
          <a:xfrm>
            <a:off x="187200" y="2255760"/>
            <a:ext cx="89568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La réactivité des voies aériennes</a:t>
            </a:r>
            <a:endParaRPr b="0" lang="en-US" sz="4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4000" spc="-1" strike="noStrike">
                <a:solidFill>
                  <a:srgbClr val="000066"/>
                </a:solidFill>
                <a:latin typeface="Trebuchet MS"/>
              </a:rPr>
              <a:t>TD</a:t>
            </a:r>
            <a:endParaRPr b="0" lang="en-US" sz="4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24"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25" name=""/>
          <p:cNvSpPr/>
          <p:nvPr/>
        </p:nvSpPr>
        <p:spPr>
          <a:xfrm>
            <a:off x="355680" y="5891040"/>
            <a:ext cx="8548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The effect of 50 μM ryanodine and tetracaine on Ca2+ signaling induced by MCh in airway SMCs. </a:t>
            </a:r>
            <a:endParaRPr b="0" lang="en-US" sz="2000" spc="-1" strike="noStrike">
              <a:solidFill>
                <a:srgbClr val="000000"/>
              </a:solidFill>
              <a:latin typeface="Times New Roman"/>
            </a:endParaRPr>
          </a:p>
        </p:txBody>
      </p:sp>
      <p:pic>
        <p:nvPicPr>
          <p:cNvPr id="126" name="" descr="An external file that holds a picture, illustration, etc.&#10;Object name is zh50080954850004.jpg Object name is zh50080954850004.jpg"/>
          <p:cNvPicPr/>
          <p:nvPr/>
        </p:nvPicPr>
        <p:blipFill>
          <a:blip r:embed="rId1"/>
          <a:stretch/>
        </p:blipFill>
        <p:spPr>
          <a:xfrm>
            <a:off x="355680" y="928800"/>
            <a:ext cx="2960640" cy="4680000"/>
          </a:xfrm>
          <a:prstGeom prst="rect">
            <a:avLst/>
          </a:prstGeom>
          <a:ln w="0">
            <a:noFill/>
          </a:ln>
        </p:spPr>
      </p:pic>
      <p:pic>
        <p:nvPicPr>
          <p:cNvPr id="127" name="" descr="An external file that holds a picture, illustration, etc.&#10;Object name is zh50080954850005.jpg Object name is zh50080954850005.jpg"/>
          <p:cNvPicPr/>
          <p:nvPr/>
        </p:nvPicPr>
        <p:blipFill>
          <a:blip r:embed="rId2"/>
          <a:stretch/>
        </p:blipFill>
        <p:spPr>
          <a:xfrm>
            <a:off x="4863960" y="928800"/>
            <a:ext cx="3710160" cy="4921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30"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31" name=""/>
          <p:cNvSpPr/>
          <p:nvPr/>
        </p:nvSpPr>
        <p:spPr>
          <a:xfrm>
            <a:off x="3881520" y="5359320"/>
            <a:ext cx="487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Effect of 2-APB on Ca2+ waves induced by the flash photolysis of caged-IP3.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2-APB : inhibiteur des PIP3</a:t>
            </a:r>
            <a:endParaRPr b="0" lang="en-US" sz="2000" spc="-1" strike="noStrike">
              <a:solidFill>
                <a:srgbClr val="000000"/>
              </a:solidFill>
              <a:latin typeface="Times New Roman"/>
            </a:endParaRPr>
          </a:p>
        </p:txBody>
      </p:sp>
      <p:pic>
        <p:nvPicPr>
          <p:cNvPr id="132" name="" descr="An external file that holds a picture, illustration, etc.&#10;Object name is zh50080954850007.jpg Object name is zh50080954850007.jpg"/>
          <p:cNvPicPr/>
          <p:nvPr/>
        </p:nvPicPr>
        <p:blipFill>
          <a:blip r:embed="rId1"/>
          <a:stretch/>
        </p:blipFill>
        <p:spPr>
          <a:xfrm>
            <a:off x="4789440" y="928800"/>
            <a:ext cx="4068720" cy="4037040"/>
          </a:xfrm>
          <a:prstGeom prst="rect">
            <a:avLst/>
          </a:prstGeom>
          <a:ln w="0">
            <a:noFill/>
          </a:ln>
        </p:spPr>
      </p:pic>
      <p:pic>
        <p:nvPicPr>
          <p:cNvPr id="133" name="" descr="An external file that holds a picture, illustration, etc.&#10;Object name is zh50080954850006.jpg Object name is zh50080954850006.jpg"/>
          <p:cNvPicPr/>
          <p:nvPr/>
        </p:nvPicPr>
        <p:blipFill>
          <a:blip r:embed="rId2"/>
          <a:stretch/>
        </p:blipFill>
        <p:spPr>
          <a:xfrm>
            <a:off x="355680" y="928800"/>
            <a:ext cx="3925800" cy="38304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36"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37" name=""/>
          <p:cNvSpPr/>
          <p:nvPr/>
        </p:nvSpPr>
        <p:spPr>
          <a:xfrm>
            <a:off x="4538520" y="1144440"/>
            <a:ext cx="4205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Effect of ryanodine and tetracaine on Ca2+ waves induced by flash photolysis of caged-IP3. </a:t>
            </a:r>
            <a:endParaRPr b="0" lang="en-US" sz="2000" spc="-1" strike="noStrike">
              <a:solidFill>
                <a:srgbClr val="000000"/>
              </a:solidFill>
              <a:latin typeface="Times New Roman"/>
            </a:endParaRPr>
          </a:p>
        </p:txBody>
      </p:sp>
      <p:pic>
        <p:nvPicPr>
          <p:cNvPr id="138" name="" descr="An external file that holds a picture, illustration, etc.&#10;Object name is zh50080954850008.jpg Object name is zh50080954850008.jpg"/>
          <p:cNvPicPr/>
          <p:nvPr/>
        </p:nvPicPr>
        <p:blipFill>
          <a:blip r:embed="rId1"/>
          <a:stretch/>
        </p:blipFill>
        <p:spPr>
          <a:xfrm>
            <a:off x="355680" y="928800"/>
            <a:ext cx="3281400" cy="56372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41"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42" name=""/>
          <p:cNvSpPr/>
          <p:nvPr/>
        </p:nvSpPr>
        <p:spPr>
          <a:xfrm>
            <a:off x="5111640" y="1201680"/>
            <a:ext cx="3683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The effect of tetracaine on MCh-induced contraction and the [Ca2+]i of permeabilized airway SMCs. </a:t>
            </a:r>
            <a:endParaRPr b="0" lang="en-US" sz="2000" spc="-1" strike="noStrike">
              <a:solidFill>
                <a:srgbClr val="000000"/>
              </a:solidFill>
              <a:latin typeface="Times New Roman"/>
            </a:endParaRPr>
          </a:p>
        </p:txBody>
      </p:sp>
      <p:pic>
        <p:nvPicPr>
          <p:cNvPr id="143" name="" descr="An external file that holds a picture, illustration, etc.&#10;Object name is zh50080954850011.jpg Object name is zh50080954850011.jpg"/>
          <p:cNvPicPr/>
          <p:nvPr/>
        </p:nvPicPr>
        <p:blipFill>
          <a:blip r:embed="rId1"/>
          <a:stretch/>
        </p:blipFill>
        <p:spPr>
          <a:xfrm>
            <a:off x="355680" y="928800"/>
            <a:ext cx="4462560" cy="44956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46"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47" name=""/>
          <p:cNvSpPr/>
          <p:nvPr/>
        </p:nvSpPr>
        <p:spPr>
          <a:xfrm>
            <a:off x="692280" y="928800"/>
            <a:ext cx="42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conclusion</a:t>
            </a:r>
            <a:endParaRPr b="0" lang="en-US" sz="2000" spc="-1" strike="noStrike">
              <a:solidFill>
                <a:srgbClr val="000000"/>
              </a:solidFill>
              <a:latin typeface="Times New Roman"/>
            </a:endParaRPr>
          </a:p>
        </p:txBody>
      </p:sp>
      <p:sp>
        <p:nvSpPr>
          <p:cNvPr id="148" name=""/>
          <p:cNvSpPr/>
          <p:nvPr/>
        </p:nvSpPr>
        <p:spPr>
          <a:xfrm>
            <a:off x="355680" y="2442960"/>
            <a:ext cx="8410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These results indicate that agonist-induced Ca2+ oscillations in mouse small airway SMCs are primary mediated via IP3Rs and that tetracaine induces relaxation by both decreasing Ca2+ sensitivity and inhibiting agonist-induced Ca2+ oscillations via an IP3-dependent mechanism. </a:t>
            </a: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55680" y="928800"/>
            <a:ext cx="824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Journal of All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Smooth Muscle Hypercontractility in Airway Hyperresponsiveness: Innate, Acquired, or Nonexist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rebuchet MS"/>
              </a:rPr>
              <a:t>Call for Papers</a:t>
            </a:r>
            <a:endParaRPr b="0" lang="en-US" sz="2400" spc="-1" strike="noStrike">
              <a:solidFill>
                <a:srgbClr val="000000"/>
              </a:solidFill>
              <a:latin typeface="Times New Roman"/>
            </a:endParaRPr>
          </a:p>
        </p:txBody>
      </p:sp>
      <p:sp>
        <p:nvSpPr>
          <p:cNvPr id="46" name=""/>
          <p:cNvSpPr/>
          <p:nvPr/>
        </p:nvSpPr>
        <p:spPr>
          <a:xfrm>
            <a:off x="355680" y="2771640"/>
            <a:ext cx="8555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sthma symptoms are triggered/exacerbated by a range of environmental factors, such as allergens, viruses, fungi, exercise, aspirin, or pollutants. Hitherto considered a disease, asthma is henceforth viewed by many as an environmental syndrome with a heterogeneous pathogenesis. Its diagnostic signature is the reversibility of airway obstruction by drug relaxing the airway smooth muscle (ASM), confirming the importance of this tissue in asthma symptoms. Most asthmatics are also hyperresponsive to a bronchoprovocative challenge with a contractile agonist. However, the involvement of ASM in airway hyperresponsiveness (AHR), apart from its undisputed role in airway responsiveness, is still uncertain. This is mainly due to our inability to assess ASM function in vivo.</a:t>
            </a:r>
            <a:endParaRPr b="0" lang="en-US" sz="1800" spc="-1" strike="noStrike">
              <a:solidFill>
                <a:srgbClr val="000000"/>
              </a:solidFill>
              <a:latin typeface="Times New Roman"/>
            </a:endParaRPr>
          </a:p>
        </p:txBody>
      </p:sp>
      <p:sp>
        <p:nvSpPr>
          <p:cNvPr id="47"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1880" y="127080"/>
            <a:ext cx="362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muscle lisse et asthme</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55680" y="927000"/>
            <a:ext cx="8217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réponse contractile d’un anneau de trachée de rat à la stimulation par une solution extracellulaire contenant 80 mM de KCl.</a:t>
            </a:r>
            <a:endParaRPr b="0" lang="en-US" sz="2400" spc="-1" strike="noStrike">
              <a:solidFill>
                <a:srgbClr val="000000"/>
              </a:solidFill>
              <a:latin typeface="Times New Roman"/>
            </a:endParaRPr>
          </a:p>
        </p:txBody>
      </p:sp>
      <p:sp>
        <p:nvSpPr>
          <p:cNvPr id="50"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8560" y="127080"/>
            <a:ext cx="5654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e résultats expérimentaux</a:t>
            </a:r>
            <a:endParaRPr b="0" lang="en-US" sz="2400" spc="-1" strike="noStrike">
              <a:solidFill>
                <a:srgbClr val="000000"/>
              </a:solidFill>
              <a:latin typeface="Times New Roman"/>
            </a:endParaRPr>
          </a:p>
        </p:txBody>
      </p:sp>
      <p:grpSp>
        <p:nvGrpSpPr>
          <p:cNvPr id="52" name=""/>
          <p:cNvGrpSpPr/>
          <p:nvPr/>
        </p:nvGrpSpPr>
        <p:grpSpPr>
          <a:xfrm>
            <a:off x="2738520" y="5152680"/>
            <a:ext cx="2966400" cy="273960"/>
            <a:chOff x="2738520" y="5152680"/>
            <a:chExt cx="2966400" cy="273960"/>
          </a:xfrm>
        </p:grpSpPr>
        <p:sp>
          <p:nvSpPr>
            <p:cNvPr id="53" name=""/>
            <p:cNvSpPr/>
            <p:nvPr/>
          </p:nvSpPr>
          <p:spPr>
            <a:xfrm>
              <a:off x="2738520" y="5213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a:t>
              </a:r>
              <a:endParaRPr b="0" lang="en-US" sz="1400" spc="-1" strike="noStrike">
                <a:solidFill>
                  <a:srgbClr val="000000"/>
                </a:solidFill>
                <a:latin typeface="Times New Roman"/>
              </a:endParaRPr>
            </a:p>
          </p:txBody>
        </p:sp>
        <p:sp>
          <p:nvSpPr>
            <p:cNvPr id="54" name=""/>
            <p:cNvSpPr/>
            <p:nvPr/>
          </p:nvSpPr>
          <p:spPr>
            <a:xfrm>
              <a:off x="3165840" y="5213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Times New Roman"/>
              </a:endParaRPr>
            </a:p>
          </p:txBody>
        </p:sp>
        <p:sp>
          <p:nvSpPr>
            <p:cNvPr id="55" name=""/>
            <p:cNvSpPr/>
            <p:nvPr/>
          </p:nvSpPr>
          <p:spPr>
            <a:xfrm>
              <a:off x="3633120" y="5213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a:t>
              </a:r>
              <a:endParaRPr b="0" lang="en-US" sz="1400" spc="-1" strike="noStrike">
                <a:solidFill>
                  <a:srgbClr val="000000"/>
                </a:solidFill>
                <a:latin typeface="Times New Roman"/>
              </a:endParaRPr>
            </a:p>
          </p:txBody>
        </p:sp>
        <p:sp>
          <p:nvSpPr>
            <p:cNvPr id="56" name=""/>
            <p:cNvSpPr/>
            <p:nvPr/>
          </p:nvSpPr>
          <p:spPr>
            <a:xfrm>
              <a:off x="4106160" y="5213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Times New Roman"/>
              </a:endParaRPr>
            </a:p>
          </p:txBody>
        </p:sp>
        <p:sp>
          <p:nvSpPr>
            <p:cNvPr id="57" name=""/>
            <p:cNvSpPr/>
            <p:nvPr/>
          </p:nvSpPr>
          <p:spPr>
            <a:xfrm>
              <a:off x="4555440" y="5213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a:t>
              </a:r>
              <a:endParaRPr b="0" lang="en-US" sz="1400" spc="-1" strike="noStrike">
                <a:solidFill>
                  <a:srgbClr val="000000"/>
                </a:solidFill>
                <a:latin typeface="Times New Roman"/>
              </a:endParaRPr>
            </a:p>
          </p:txBody>
        </p:sp>
        <p:sp>
          <p:nvSpPr>
            <p:cNvPr id="58" name=""/>
            <p:cNvSpPr/>
            <p:nvPr/>
          </p:nvSpPr>
          <p:spPr>
            <a:xfrm>
              <a:off x="5027040" y="5213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a:t>
              </a:r>
              <a:endParaRPr b="0" lang="en-US" sz="1400" spc="-1" strike="noStrike">
                <a:solidFill>
                  <a:srgbClr val="000000"/>
                </a:solidFill>
                <a:latin typeface="Times New Roman"/>
              </a:endParaRPr>
            </a:p>
          </p:txBody>
        </p:sp>
        <p:sp>
          <p:nvSpPr>
            <p:cNvPr id="59" name=""/>
            <p:cNvSpPr/>
            <p:nvPr/>
          </p:nvSpPr>
          <p:spPr>
            <a:xfrm>
              <a:off x="5500080" y="52131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a:t>
              </a:r>
              <a:endParaRPr b="0" lang="en-US" sz="1400" spc="-1" strike="noStrike">
                <a:solidFill>
                  <a:srgbClr val="000000"/>
                </a:solidFill>
                <a:latin typeface="Times New Roman"/>
              </a:endParaRPr>
            </a:p>
          </p:txBody>
        </p:sp>
        <p:sp>
          <p:nvSpPr>
            <p:cNvPr id="60" name=""/>
            <p:cNvSpPr/>
            <p:nvPr/>
          </p:nvSpPr>
          <p:spPr>
            <a:xfrm flipV="1">
              <a:off x="3003480" y="515268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 name=""/>
            <p:cNvSpPr/>
            <p:nvPr/>
          </p:nvSpPr>
          <p:spPr>
            <a:xfrm flipV="1">
              <a:off x="3240000" y="5153040"/>
              <a:ext cx="180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 name=""/>
            <p:cNvSpPr/>
            <p:nvPr/>
          </p:nvSpPr>
          <p:spPr>
            <a:xfrm flipV="1">
              <a:off x="3475080" y="515268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 name=""/>
            <p:cNvSpPr/>
            <p:nvPr/>
          </p:nvSpPr>
          <p:spPr>
            <a:xfrm flipV="1">
              <a:off x="3711600" y="5153040"/>
              <a:ext cx="180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 name=""/>
            <p:cNvSpPr/>
            <p:nvPr/>
          </p:nvSpPr>
          <p:spPr>
            <a:xfrm flipV="1">
              <a:off x="3948120" y="5152680"/>
              <a:ext cx="180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 name=""/>
            <p:cNvSpPr/>
            <p:nvPr/>
          </p:nvSpPr>
          <p:spPr>
            <a:xfrm flipV="1">
              <a:off x="4184640" y="5153040"/>
              <a:ext cx="180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 name=""/>
            <p:cNvSpPr/>
            <p:nvPr/>
          </p:nvSpPr>
          <p:spPr>
            <a:xfrm flipV="1">
              <a:off x="4419720" y="515268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7" name=""/>
            <p:cNvSpPr/>
            <p:nvPr/>
          </p:nvSpPr>
          <p:spPr>
            <a:xfrm flipV="1">
              <a:off x="4656240" y="5153040"/>
              <a:ext cx="144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 name=""/>
            <p:cNvSpPr/>
            <p:nvPr/>
          </p:nvSpPr>
          <p:spPr>
            <a:xfrm flipV="1">
              <a:off x="4892760" y="515268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 name=""/>
            <p:cNvSpPr/>
            <p:nvPr/>
          </p:nvSpPr>
          <p:spPr>
            <a:xfrm flipV="1">
              <a:off x="5127840" y="5153040"/>
              <a:ext cx="144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 name=""/>
            <p:cNvSpPr/>
            <p:nvPr/>
          </p:nvSpPr>
          <p:spPr>
            <a:xfrm flipV="1">
              <a:off x="5364360" y="5152680"/>
              <a:ext cx="1440" cy="2052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1" name=""/>
            <p:cNvSpPr/>
            <p:nvPr/>
          </p:nvSpPr>
          <p:spPr>
            <a:xfrm flipV="1">
              <a:off x="5600880" y="5153040"/>
              <a:ext cx="1440" cy="41040"/>
            </a:xfrm>
            <a:prstGeom prst="line">
              <a:avLst/>
            </a:prstGeom>
            <a:ln w="792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 name=""/>
            <p:cNvSpPr/>
            <p:nvPr/>
          </p:nvSpPr>
          <p:spPr>
            <a:xfrm>
              <a:off x="2766960" y="5153040"/>
              <a:ext cx="2833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3" name=""/>
          <p:cNvSpPr/>
          <p:nvPr/>
        </p:nvSpPr>
        <p:spPr>
          <a:xfrm>
            <a:off x="2400480" y="49849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0</a:t>
            </a:r>
            <a:endParaRPr b="0" lang="en-US" sz="1400" spc="-1" strike="noStrike">
              <a:solidFill>
                <a:srgbClr val="000000"/>
              </a:solidFill>
              <a:latin typeface="Times New Roman"/>
            </a:endParaRPr>
          </a:p>
        </p:txBody>
      </p:sp>
      <p:sp>
        <p:nvSpPr>
          <p:cNvPr id="74" name=""/>
          <p:cNvSpPr/>
          <p:nvPr/>
        </p:nvSpPr>
        <p:spPr>
          <a:xfrm>
            <a:off x="2324880" y="44402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20</a:t>
            </a:r>
            <a:endParaRPr b="0" lang="en-US" sz="1400" spc="-1" strike="noStrike">
              <a:solidFill>
                <a:srgbClr val="000000"/>
              </a:solidFill>
              <a:latin typeface="Times New Roman"/>
            </a:endParaRPr>
          </a:p>
        </p:txBody>
      </p:sp>
      <p:sp>
        <p:nvSpPr>
          <p:cNvPr id="75" name=""/>
          <p:cNvSpPr/>
          <p:nvPr/>
        </p:nvSpPr>
        <p:spPr>
          <a:xfrm>
            <a:off x="2324880" y="3946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40</a:t>
            </a:r>
            <a:endParaRPr b="0" lang="en-US" sz="1400" spc="-1" strike="noStrike">
              <a:solidFill>
                <a:srgbClr val="000000"/>
              </a:solidFill>
              <a:latin typeface="Times New Roman"/>
            </a:endParaRPr>
          </a:p>
        </p:txBody>
      </p:sp>
      <p:sp>
        <p:nvSpPr>
          <p:cNvPr id="76" name=""/>
          <p:cNvSpPr/>
          <p:nvPr/>
        </p:nvSpPr>
        <p:spPr>
          <a:xfrm>
            <a:off x="2312280" y="340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60</a:t>
            </a:r>
            <a:endParaRPr b="0" lang="en-US" sz="1400" spc="-1" strike="noStrike">
              <a:solidFill>
                <a:srgbClr val="000000"/>
              </a:solidFill>
              <a:latin typeface="Times New Roman"/>
            </a:endParaRPr>
          </a:p>
        </p:txBody>
      </p:sp>
      <p:sp>
        <p:nvSpPr>
          <p:cNvPr id="77" name=""/>
          <p:cNvSpPr/>
          <p:nvPr/>
        </p:nvSpPr>
        <p:spPr>
          <a:xfrm>
            <a:off x="2299680" y="29052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80</a:t>
            </a:r>
            <a:endParaRPr b="0" lang="en-US" sz="1400" spc="-1" strike="noStrike">
              <a:solidFill>
                <a:srgbClr val="000000"/>
              </a:solidFill>
              <a:latin typeface="Times New Roman"/>
            </a:endParaRPr>
          </a:p>
        </p:txBody>
      </p:sp>
      <p:sp>
        <p:nvSpPr>
          <p:cNvPr id="78" name=""/>
          <p:cNvSpPr/>
          <p:nvPr/>
        </p:nvSpPr>
        <p:spPr>
          <a:xfrm flipV="1">
            <a:off x="2639880" y="5076360"/>
            <a:ext cx="1800" cy="41400"/>
          </a:xfrm>
          <a:prstGeom prst="line">
            <a:avLst/>
          </a:prstGeom>
          <a:ln w="792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 name=""/>
          <p:cNvSpPr/>
          <p:nvPr/>
        </p:nvSpPr>
        <p:spPr>
          <a:xfrm>
            <a:off x="2598840" y="5114880"/>
            <a:ext cx="41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2598840" y="4816440"/>
            <a:ext cx="41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a:off x="2598840" y="45561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2598840" y="4297320"/>
            <a:ext cx="41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2598840" y="40370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598840" y="37767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598840" y="351792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598840" y="325764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2598840" y="2997360"/>
            <a:ext cx="41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flipV="1">
            <a:off x="2639880" y="2997360"/>
            <a:ext cx="1800" cy="2079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 name=""/>
          <p:cNvGrpSpPr/>
          <p:nvPr/>
        </p:nvGrpSpPr>
        <p:grpSpPr>
          <a:xfrm>
            <a:off x="2768760" y="3305160"/>
            <a:ext cx="2833560" cy="1771560"/>
            <a:chOff x="2768760" y="3305160"/>
            <a:chExt cx="2833560" cy="1771560"/>
          </a:xfrm>
        </p:grpSpPr>
        <p:sp>
          <p:nvSpPr>
            <p:cNvPr id="90" name=""/>
            <p:cNvSpPr/>
            <p:nvPr/>
          </p:nvSpPr>
          <p:spPr>
            <a:xfrm>
              <a:off x="2768760" y="3305160"/>
              <a:ext cx="1100160" cy="1771560"/>
            </a:xfrm>
            <a:custGeom>
              <a:avLst/>
              <a:gdLst/>
              <a:ahLst/>
              <a:rect l="l" t="t" r="r" b="b"/>
              <a:pathLst>
                <a:path w="2079" h="3348">
                  <a:moveTo>
                    <a:pt x="0" y="3348"/>
                  </a:moveTo>
                  <a:lnTo>
                    <a:pt x="2" y="3334"/>
                  </a:lnTo>
                  <a:lnTo>
                    <a:pt x="5" y="3325"/>
                  </a:lnTo>
                  <a:lnTo>
                    <a:pt x="8" y="3316"/>
                  </a:lnTo>
                  <a:lnTo>
                    <a:pt x="11" y="3304"/>
                  </a:lnTo>
                  <a:lnTo>
                    <a:pt x="14" y="3277"/>
                  </a:lnTo>
                  <a:lnTo>
                    <a:pt x="17" y="3268"/>
                  </a:lnTo>
                  <a:lnTo>
                    <a:pt x="20" y="3249"/>
                  </a:lnTo>
                  <a:lnTo>
                    <a:pt x="23" y="3225"/>
                  </a:lnTo>
                  <a:lnTo>
                    <a:pt x="26" y="3193"/>
                  </a:lnTo>
                  <a:lnTo>
                    <a:pt x="28" y="3185"/>
                  </a:lnTo>
                  <a:lnTo>
                    <a:pt x="32" y="3152"/>
                  </a:lnTo>
                  <a:lnTo>
                    <a:pt x="35" y="3146"/>
                  </a:lnTo>
                  <a:lnTo>
                    <a:pt x="38" y="3119"/>
                  </a:lnTo>
                  <a:lnTo>
                    <a:pt x="41" y="3095"/>
                  </a:lnTo>
                  <a:lnTo>
                    <a:pt x="43" y="3065"/>
                  </a:lnTo>
                  <a:lnTo>
                    <a:pt x="47" y="3037"/>
                  </a:lnTo>
                  <a:lnTo>
                    <a:pt x="49" y="3022"/>
                  </a:lnTo>
                  <a:lnTo>
                    <a:pt x="53" y="2995"/>
                  </a:lnTo>
                  <a:lnTo>
                    <a:pt x="56" y="2974"/>
                  </a:lnTo>
                  <a:lnTo>
                    <a:pt x="58" y="2949"/>
                  </a:lnTo>
                  <a:lnTo>
                    <a:pt x="62" y="2913"/>
                  </a:lnTo>
                  <a:lnTo>
                    <a:pt x="64" y="2896"/>
                  </a:lnTo>
                  <a:lnTo>
                    <a:pt x="68" y="2869"/>
                  </a:lnTo>
                  <a:lnTo>
                    <a:pt x="71" y="2839"/>
                  </a:lnTo>
                  <a:lnTo>
                    <a:pt x="73" y="2820"/>
                  </a:lnTo>
                  <a:lnTo>
                    <a:pt x="77" y="2790"/>
                  </a:lnTo>
                  <a:lnTo>
                    <a:pt x="79" y="2765"/>
                  </a:lnTo>
                  <a:lnTo>
                    <a:pt x="83" y="2744"/>
                  </a:lnTo>
                  <a:lnTo>
                    <a:pt x="85" y="2709"/>
                  </a:lnTo>
                  <a:lnTo>
                    <a:pt x="88" y="2686"/>
                  </a:lnTo>
                  <a:lnTo>
                    <a:pt x="92" y="2665"/>
                  </a:lnTo>
                  <a:lnTo>
                    <a:pt x="94" y="2623"/>
                  </a:lnTo>
                  <a:lnTo>
                    <a:pt x="98" y="2604"/>
                  </a:lnTo>
                  <a:lnTo>
                    <a:pt x="100" y="2566"/>
                  </a:lnTo>
                  <a:lnTo>
                    <a:pt x="103" y="2552"/>
                  </a:lnTo>
                  <a:lnTo>
                    <a:pt x="107" y="2522"/>
                  </a:lnTo>
                  <a:lnTo>
                    <a:pt x="109" y="2483"/>
                  </a:lnTo>
                  <a:lnTo>
                    <a:pt x="113" y="2471"/>
                  </a:lnTo>
                  <a:lnTo>
                    <a:pt x="115" y="2444"/>
                  </a:lnTo>
                  <a:lnTo>
                    <a:pt x="118" y="2418"/>
                  </a:lnTo>
                  <a:lnTo>
                    <a:pt x="121" y="2388"/>
                  </a:lnTo>
                  <a:lnTo>
                    <a:pt x="124" y="2363"/>
                  </a:lnTo>
                  <a:lnTo>
                    <a:pt x="128" y="2314"/>
                  </a:lnTo>
                  <a:lnTo>
                    <a:pt x="130" y="2307"/>
                  </a:lnTo>
                  <a:lnTo>
                    <a:pt x="133" y="2280"/>
                  </a:lnTo>
                  <a:lnTo>
                    <a:pt x="136" y="2247"/>
                  </a:lnTo>
                  <a:lnTo>
                    <a:pt x="139" y="2227"/>
                  </a:lnTo>
                  <a:lnTo>
                    <a:pt x="143" y="2196"/>
                  </a:lnTo>
                  <a:lnTo>
                    <a:pt x="145" y="2168"/>
                  </a:lnTo>
                  <a:lnTo>
                    <a:pt x="148" y="2132"/>
                  </a:lnTo>
                  <a:lnTo>
                    <a:pt x="151" y="2103"/>
                  </a:lnTo>
                  <a:lnTo>
                    <a:pt x="154" y="2070"/>
                  </a:lnTo>
                  <a:lnTo>
                    <a:pt x="156" y="2054"/>
                  </a:lnTo>
                  <a:lnTo>
                    <a:pt x="160" y="2034"/>
                  </a:lnTo>
                  <a:lnTo>
                    <a:pt x="163" y="2003"/>
                  </a:lnTo>
                  <a:lnTo>
                    <a:pt x="166" y="1980"/>
                  </a:lnTo>
                  <a:lnTo>
                    <a:pt x="169" y="1946"/>
                  </a:lnTo>
                  <a:lnTo>
                    <a:pt x="171" y="1929"/>
                  </a:lnTo>
                  <a:lnTo>
                    <a:pt x="175" y="1900"/>
                  </a:lnTo>
                  <a:lnTo>
                    <a:pt x="178" y="1880"/>
                  </a:lnTo>
                  <a:lnTo>
                    <a:pt x="181" y="1866"/>
                  </a:lnTo>
                  <a:lnTo>
                    <a:pt x="184" y="1839"/>
                  </a:lnTo>
                  <a:lnTo>
                    <a:pt x="186" y="1814"/>
                  </a:lnTo>
                  <a:lnTo>
                    <a:pt x="190" y="1778"/>
                  </a:lnTo>
                  <a:lnTo>
                    <a:pt x="192" y="1756"/>
                  </a:lnTo>
                  <a:lnTo>
                    <a:pt x="196" y="1743"/>
                  </a:lnTo>
                  <a:lnTo>
                    <a:pt x="199" y="1719"/>
                  </a:lnTo>
                  <a:lnTo>
                    <a:pt x="201" y="1686"/>
                  </a:lnTo>
                  <a:lnTo>
                    <a:pt x="205" y="1647"/>
                  </a:lnTo>
                  <a:lnTo>
                    <a:pt x="207" y="1643"/>
                  </a:lnTo>
                  <a:lnTo>
                    <a:pt x="211" y="1611"/>
                  </a:lnTo>
                  <a:lnTo>
                    <a:pt x="214" y="1589"/>
                  </a:lnTo>
                  <a:lnTo>
                    <a:pt x="216" y="1575"/>
                  </a:lnTo>
                  <a:lnTo>
                    <a:pt x="220" y="1552"/>
                  </a:lnTo>
                  <a:lnTo>
                    <a:pt x="222" y="1529"/>
                  </a:lnTo>
                  <a:lnTo>
                    <a:pt x="225" y="1513"/>
                  </a:lnTo>
                  <a:lnTo>
                    <a:pt x="228" y="1487"/>
                  </a:lnTo>
                  <a:lnTo>
                    <a:pt x="231" y="1453"/>
                  </a:lnTo>
                  <a:lnTo>
                    <a:pt x="235" y="1442"/>
                  </a:lnTo>
                  <a:lnTo>
                    <a:pt x="237" y="1407"/>
                  </a:lnTo>
                  <a:lnTo>
                    <a:pt x="240" y="1397"/>
                  </a:lnTo>
                  <a:lnTo>
                    <a:pt x="243" y="1364"/>
                  </a:lnTo>
                  <a:lnTo>
                    <a:pt x="246" y="1361"/>
                  </a:lnTo>
                  <a:lnTo>
                    <a:pt x="249" y="1343"/>
                  </a:lnTo>
                  <a:lnTo>
                    <a:pt x="252" y="1311"/>
                  </a:lnTo>
                  <a:lnTo>
                    <a:pt x="255" y="1301"/>
                  </a:lnTo>
                  <a:lnTo>
                    <a:pt x="258" y="1276"/>
                  </a:lnTo>
                  <a:lnTo>
                    <a:pt x="261" y="1268"/>
                  </a:lnTo>
                  <a:lnTo>
                    <a:pt x="264" y="1247"/>
                  </a:lnTo>
                  <a:lnTo>
                    <a:pt x="267" y="1224"/>
                  </a:lnTo>
                  <a:lnTo>
                    <a:pt x="270" y="1194"/>
                  </a:lnTo>
                  <a:lnTo>
                    <a:pt x="273" y="1183"/>
                  </a:lnTo>
                  <a:lnTo>
                    <a:pt x="276" y="1162"/>
                  </a:lnTo>
                  <a:lnTo>
                    <a:pt x="278" y="1155"/>
                  </a:lnTo>
                  <a:lnTo>
                    <a:pt x="282" y="1119"/>
                  </a:lnTo>
                  <a:lnTo>
                    <a:pt x="284" y="1109"/>
                  </a:lnTo>
                  <a:lnTo>
                    <a:pt x="288" y="1107"/>
                  </a:lnTo>
                  <a:lnTo>
                    <a:pt x="291" y="1078"/>
                  </a:lnTo>
                  <a:lnTo>
                    <a:pt x="293" y="1063"/>
                  </a:lnTo>
                  <a:lnTo>
                    <a:pt x="297" y="1038"/>
                  </a:lnTo>
                  <a:lnTo>
                    <a:pt x="299" y="1025"/>
                  </a:lnTo>
                  <a:lnTo>
                    <a:pt x="303" y="1009"/>
                  </a:lnTo>
                  <a:lnTo>
                    <a:pt x="306" y="997"/>
                  </a:lnTo>
                  <a:lnTo>
                    <a:pt x="308" y="979"/>
                  </a:lnTo>
                  <a:lnTo>
                    <a:pt x="312" y="967"/>
                  </a:lnTo>
                  <a:lnTo>
                    <a:pt x="314" y="937"/>
                  </a:lnTo>
                  <a:lnTo>
                    <a:pt x="318" y="935"/>
                  </a:lnTo>
                  <a:lnTo>
                    <a:pt x="320" y="907"/>
                  </a:lnTo>
                  <a:lnTo>
                    <a:pt x="323" y="900"/>
                  </a:lnTo>
                  <a:lnTo>
                    <a:pt x="327" y="880"/>
                  </a:lnTo>
                  <a:lnTo>
                    <a:pt x="329" y="875"/>
                  </a:lnTo>
                  <a:lnTo>
                    <a:pt x="333" y="867"/>
                  </a:lnTo>
                  <a:lnTo>
                    <a:pt x="335" y="850"/>
                  </a:lnTo>
                  <a:lnTo>
                    <a:pt x="338" y="823"/>
                  </a:lnTo>
                  <a:lnTo>
                    <a:pt x="342" y="822"/>
                  </a:lnTo>
                  <a:lnTo>
                    <a:pt x="344" y="804"/>
                  </a:lnTo>
                  <a:lnTo>
                    <a:pt x="348" y="793"/>
                  </a:lnTo>
                  <a:lnTo>
                    <a:pt x="350" y="781"/>
                  </a:lnTo>
                  <a:lnTo>
                    <a:pt x="353" y="774"/>
                  </a:lnTo>
                  <a:lnTo>
                    <a:pt x="356" y="763"/>
                  </a:lnTo>
                  <a:lnTo>
                    <a:pt x="359" y="728"/>
                  </a:lnTo>
                  <a:lnTo>
                    <a:pt x="363" y="732"/>
                  </a:lnTo>
                  <a:lnTo>
                    <a:pt x="365" y="724"/>
                  </a:lnTo>
                  <a:lnTo>
                    <a:pt x="368" y="704"/>
                  </a:lnTo>
                  <a:lnTo>
                    <a:pt x="371" y="698"/>
                  </a:lnTo>
                  <a:lnTo>
                    <a:pt x="374" y="686"/>
                  </a:lnTo>
                  <a:lnTo>
                    <a:pt x="378" y="672"/>
                  </a:lnTo>
                  <a:lnTo>
                    <a:pt x="380" y="659"/>
                  </a:lnTo>
                  <a:lnTo>
                    <a:pt x="383" y="647"/>
                  </a:lnTo>
                  <a:lnTo>
                    <a:pt x="386" y="633"/>
                  </a:lnTo>
                  <a:lnTo>
                    <a:pt x="389" y="621"/>
                  </a:lnTo>
                  <a:lnTo>
                    <a:pt x="391" y="608"/>
                  </a:lnTo>
                  <a:lnTo>
                    <a:pt x="395" y="606"/>
                  </a:lnTo>
                  <a:lnTo>
                    <a:pt x="398" y="596"/>
                  </a:lnTo>
                  <a:lnTo>
                    <a:pt x="401" y="564"/>
                  </a:lnTo>
                  <a:lnTo>
                    <a:pt x="404" y="571"/>
                  </a:lnTo>
                  <a:lnTo>
                    <a:pt x="406" y="564"/>
                  </a:lnTo>
                  <a:lnTo>
                    <a:pt x="410" y="551"/>
                  </a:lnTo>
                  <a:lnTo>
                    <a:pt x="413" y="541"/>
                  </a:lnTo>
                  <a:lnTo>
                    <a:pt x="416" y="532"/>
                  </a:lnTo>
                  <a:lnTo>
                    <a:pt x="419" y="524"/>
                  </a:lnTo>
                  <a:lnTo>
                    <a:pt x="421" y="512"/>
                  </a:lnTo>
                  <a:lnTo>
                    <a:pt x="425" y="511"/>
                  </a:lnTo>
                  <a:lnTo>
                    <a:pt x="427" y="509"/>
                  </a:lnTo>
                  <a:lnTo>
                    <a:pt x="431" y="492"/>
                  </a:lnTo>
                  <a:lnTo>
                    <a:pt x="434" y="489"/>
                  </a:lnTo>
                  <a:lnTo>
                    <a:pt x="436" y="477"/>
                  </a:lnTo>
                  <a:lnTo>
                    <a:pt x="440" y="475"/>
                  </a:lnTo>
                  <a:lnTo>
                    <a:pt x="442" y="460"/>
                  </a:lnTo>
                  <a:lnTo>
                    <a:pt x="446" y="464"/>
                  </a:lnTo>
                  <a:lnTo>
                    <a:pt x="448" y="459"/>
                  </a:lnTo>
                  <a:lnTo>
                    <a:pt x="451" y="447"/>
                  </a:lnTo>
                  <a:lnTo>
                    <a:pt x="455" y="442"/>
                  </a:lnTo>
                  <a:lnTo>
                    <a:pt x="457" y="416"/>
                  </a:lnTo>
                  <a:lnTo>
                    <a:pt x="461" y="412"/>
                  </a:lnTo>
                  <a:lnTo>
                    <a:pt x="463" y="419"/>
                  </a:lnTo>
                  <a:lnTo>
                    <a:pt x="466" y="405"/>
                  </a:lnTo>
                  <a:lnTo>
                    <a:pt x="470" y="399"/>
                  </a:lnTo>
                  <a:lnTo>
                    <a:pt x="472" y="391"/>
                  </a:lnTo>
                  <a:lnTo>
                    <a:pt x="475" y="384"/>
                  </a:lnTo>
                  <a:lnTo>
                    <a:pt x="478" y="378"/>
                  </a:lnTo>
                  <a:lnTo>
                    <a:pt x="481" y="376"/>
                  </a:lnTo>
                  <a:lnTo>
                    <a:pt x="484" y="366"/>
                  </a:lnTo>
                  <a:lnTo>
                    <a:pt x="487" y="363"/>
                  </a:lnTo>
                  <a:lnTo>
                    <a:pt x="490" y="340"/>
                  </a:lnTo>
                  <a:lnTo>
                    <a:pt x="493" y="351"/>
                  </a:lnTo>
                  <a:lnTo>
                    <a:pt x="496" y="341"/>
                  </a:lnTo>
                  <a:lnTo>
                    <a:pt x="499" y="329"/>
                  </a:lnTo>
                  <a:lnTo>
                    <a:pt x="502" y="326"/>
                  </a:lnTo>
                  <a:lnTo>
                    <a:pt x="505" y="310"/>
                  </a:lnTo>
                  <a:lnTo>
                    <a:pt x="508" y="320"/>
                  </a:lnTo>
                  <a:lnTo>
                    <a:pt x="511" y="297"/>
                  </a:lnTo>
                  <a:lnTo>
                    <a:pt x="514" y="304"/>
                  </a:lnTo>
                  <a:lnTo>
                    <a:pt x="517" y="299"/>
                  </a:lnTo>
                  <a:lnTo>
                    <a:pt x="519" y="295"/>
                  </a:lnTo>
                  <a:lnTo>
                    <a:pt x="523" y="266"/>
                  </a:lnTo>
                  <a:lnTo>
                    <a:pt x="526" y="275"/>
                  </a:lnTo>
                  <a:lnTo>
                    <a:pt x="528" y="281"/>
                  </a:lnTo>
                  <a:lnTo>
                    <a:pt x="532" y="281"/>
                  </a:lnTo>
                  <a:lnTo>
                    <a:pt x="534" y="267"/>
                  </a:lnTo>
                  <a:lnTo>
                    <a:pt x="538" y="252"/>
                  </a:lnTo>
                  <a:lnTo>
                    <a:pt x="541" y="262"/>
                  </a:lnTo>
                  <a:lnTo>
                    <a:pt x="543" y="250"/>
                  </a:lnTo>
                  <a:lnTo>
                    <a:pt x="547" y="239"/>
                  </a:lnTo>
                  <a:lnTo>
                    <a:pt x="549" y="213"/>
                  </a:lnTo>
                  <a:lnTo>
                    <a:pt x="553" y="222"/>
                  </a:lnTo>
                  <a:lnTo>
                    <a:pt x="555" y="221"/>
                  </a:lnTo>
                  <a:lnTo>
                    <a:pt x="558" y="239"/>
                  </a:lnTo>
                  <a:lnTo>
                    <a:pt x="562" y="216"/>
                  </a:lnTo>
                  <a:lnTo>
                    <a:pt x="564" y="222"/>
                  </a:lnTo>
                  <a:lnTo>
                    <a:pt x="568" y="205"/>
                  </a:lnTo>
                  <a:lnTo>
                    <a:pt x="570" y="208"/>
                  </a:lnTo>
                  <a:lnTo>
                    <a:pt x="573" y="201"/>
                  </a:lnTo>
                  <a:lnTo>
                    <a:pt x="577" y="200"/>
                  </a:lnTo>
                  <a:lnTo>
                    <a:pt x="579" y="200"/>
                  </a:lnTo>
                  <a:lnTo>
                    <a:pt x="583" y="190"/>
                  </a:lnTo>
                  <a:lnTo>
                    <a:pt x="585" y="189"/>
                  </a:lnTo>
                  <a:lnTo>
                    <a:pt x="588" y="200"/>
                  </a:lnTo>
                  <a:lnTo>
                    <a:pt x="591" y="192"/>
                  </a:lnTo>
                  <a:lnTo>
                    <a:pt x="594" y="196"/>
                  </a:lnTo>
                  <a:lnTo>
                    <a:pt x="598" y="190"/>
                  </a:lnTo>
                  <a:lnTo>
                    <a:pt x="600" y="179"/>
                  </a:lnTo>
                  <a:lnTo>
                    <a:pt x="603" y="166"/>
                  </a:lnTo>
                  <a:lnTo>
                    <a:pt x="606" y="174"/>
                  </a:lnTo>
                  <a:lnTo>
                    <a:pt x="609" y="167"/>
                  </a:lnTo>
                  <a:lnTo>
                    <a:pt x="613" y="151"/>
                  </a:lnTo>
                  <a:lnTo>
                    <a:pt x="615" y="149"/>
                  </a:lnTo>
                  <a:lnTo>
                    <a:pt x="618" y="156"/>
                  </a:lnTo>
                  <a:lnTo>
                    <a:pt x="621" y="155"/>
                  </a:lnTo>
                  <a:lnTo>
                    <a:pt x="624" y="141"/>
                  </a:lnTo>
                  <a:lnTo>
                    <a:pt x="626" y="146"/>
                  </a:lnTo>
                  <a:lnTo>
                    <a:pt x="630" y="153"/>
                  </a:lnTo>
                  <a:lnTo>
                    <a:pt x="633" y="147"/>
                  </a:lnTo>
                  <a:lnTo>
                    <a:pt x="636" y="151"/>
                  </a:lnTo>
                  <a:lnTo>
                    <a:pt x="639" y="140"/>
                  </a:lnTo>
                  <a:lnTo>
                    <a:pt x="641" y="138"/>
                  </a:lnTo>
                  <a:lnTo>
                    <a:pt x="645" y="143"/>
                  </a:lnTo>
                  <a:lnTo>
                    <a:pt x="648" y="137"/>
                  </a:lnTo>
                  <a:lnTo>
                    <a:pt x="651" y="144"/>
                  </a:lnTo>
                  <a:lnTo>
                    <a:pt x="654" y="143"/>
                  </a:lnTo>
                  <a:lnTo>
                    <a:pt x="656" y="128"/>
                  </a:lnTo>
                  <a:lnTo>
                    <a:pt x="660" y="129"/>
                  </a:lnTo>
                  <a:lnTo>
                    <a:pt x="662" y="140"/>
                  </a:lnTo>
                  <a:lnTo>
                    <a:pt x="666" y="111"/>
                  </a:lnTo>
                  <a:lnTo>
                    <a:pt x="669" y="125"/>
                  </a:lnTo>
                  <a:lnTo>
                    <a:pt x="671" y="122"/>
                  </a:lnTo>
                  <a:lnTo>
                    <a:pt x="675" y="123"/>
                  </a:lnTo>
                  <a:lnTo>
                    <a:pt x="677" y="117"/>
                  </a:lnTo>
                  <a:lnTo>
                    <a:pt x="681" y="107"/>
                  </a:lnTo>
                  <a:lnTo>
                    <a:pt x="683" y="102"/>
                  </a:lnTo>
                  <a:lnTo>
                    <a:pt x="686" y="110"/>
                  </a:lnTo>
                  <a:lnTo>
                    <a:pt x="690" y="100"/>
                  </a:lnTo>
                  <a:lnTo>
                    <a:pt x="692" y="102"/>
                  </a:lnTo>
                  <a:lnTo>
                    <a:pt x="696" y="107"/>
                  </a:lnTo>
                  <a:lnTo>
                    <a:pt x="698" y="105"/>
                  </a:lnTo>
                  <a:lnTo>
                    <a:pt x="701" y="96"/>
                  </a:lnTo>
                  <a:lnTo>
                    <a:pt x="705" y="99"/>
                  </a:lnTo>
                  <a:lnTo>
                    <a:pt x="707" y="95"/>
                  </a:lnTo>
                  <a:lnTo>
                    <a:pt x="711" y="100"/>
                  </a:lnTo>
                  <a:lnTo>
                    <a:pt x="713" y="95"/>
                  </a:lnTo>
                  <a:lnTo>
                    <a:pt x="716" y="96"/>
                  </a:lnTo>
                  <a:lnTo>
                    <a:pt x="719" y="80"/>
                  </a:lnTo>
                  <a:lnTo>
                    <a:pt x="722" y="88"/>
                  </a:lnTo>
                  <a:lnTo>
                    <a:pt x="725" y="95"/>
                  </a:lnTo>
                  <a:lnTo>
                    <a:pt x="728" y="81"/>
                  </a:lnTo>
                  <a:lnTo>
                    <a:pt x="731" y="79"/>
                  </a:lnTo>
                  <a:lnTo>
                    <a:pt x="734" y="72"/>
                  </a:lnTo>
                  <a:lnTo>
                    <a:pt x="737" y="91"/>
                  </a:lnTo>
                  <a:lnTo>
                    <a:pt x="740" y="80"/>
                  </a:lnTo>
                  <a:lnTo>
                    <a:pt x="743" y="85"/>
                  </a:lnTo>
                  <a:lnTo>
                    <a:pt x="746" y="91"/>
                  </a:lnTo>
                  <a:lnTo>
                    <a:pt x="749" y="75"/>
                  </a:lnTo>
                  <a:lnTo>
                    <a:pt x="752" y="87"/>
                  </a:lnTo>
                  <a:lnTo>
                    <a:pt x="754" y="79"/>
                  </a:lnTo>
                  <a:lnTo>
                    <a:pt x="758" y="79"/>
                  </a:lnTo>
                  <a:lnTo>
                    <a:pt x="761" y="79"/>
                  </a:lnTo>
                  <a:lnTo>
                    <a:pt x="763" y="65"/>
                  </a:lnTo>
                  <a:lnTo>
                    <a:pt x="767" y="80"/>
                  </a:lnTo>
                  <a:lnTo>
                    <a:pt x="769" y="87"/>
                  </a:lnTo>
                  <a:lnTo>
                    <a:pt x="773" y="83"/>
                  </a:lnTo>
                  <a:lnTo>
                    <a:pt x="776" y="75"/>
                  </a:lnTo>
                  <a:lnTo>
                    <a:pt x="778" y="78"/>
                  </a:lnTo>
                  <a:lnTo>
                    <a:pt x="782" y="72"/>
                  </a:lnTo>
                  <a:lnTo>
                    <a:pt x="784" y="76"/>
                  </a:lnTo>
                  <a:lnTo>
                    <a:pt x="788" y="75"/>
                  </a:lnTo>
                  <a:lnTo>
                    <a:pt x="790" y="77"/>
                  </a:lnTo>
                  <a:lnTo>
                    <a:pt x="793" y="77"/>
                  </a:lnTo>
                  <a:lnTo>
                    <a:pt x="797" y="71"/>
                  </a:lnTo>
                  <a:lnTo>
                    <a:pt x="799" y="67"/>
                  </a:lnTo>
                  <a:lnTo>
                    <a:pt x="803" y="79"/>
                  </a:lnTo>
                  <a:lnTo>
                    <a:pt x="805" y="70"/>
                  </a:lnTo>
                  <a:lnTo>
                    <a:pt x="808" y="62"/>
                  </a:lnTo>
                  <a:lnTo>
                    <a:pt x="812" y="71"/>
                  </a:lnTo>
                  <a:lnTo>
                    <a:pt x="814" y="70"/>
                  </a:lnTo>
                  <a:lnTo>
                    <a:pt x="818" y="78"/>
                  </a:lnTo>
                  <a:lnTo>
                    <a:pt x="820" y="79"/>
                  </a:lnTo>
                  <a:lnTo>
                    <a:pt x="823" y="84"/>
                  </a:lnTo>
                  <a:lnTo>
                    <a:pt x="826" y="73"/>
                  </a:lnTo>
                  <a:lnTo>
                    <a:pt x="829" y="67"/>
                  </a:lnTo>
                  <a:lnTo>
                    <a:pt x="833" y="69"/>
                  </a:lnTo>
                  <a:lnTo>
                    <a:pt x="835" y="67"/>
                  </a:lnTo>
                  <a:lnTo>
                    <a:pt x="838" y="46"/>
                  </a:lnTo>
                  <a:lnTo>
                    <a:pt x="841" y="53"/>
                  </a:lnTo>
                  <a:lnTo>
                    <a:pt x="844" y="68"/>
                  </a:lnTo>
                  <a:lnTo>
                    <a:pt x="848" y="39"/>
                  </a:lnTo>
                  <a:lnTo>
                    <a:pt x="850" y="63"/>
                  </a:lnTo>
                  <a:lnTo>
                    <a:pt x="853" y="64"/>
                  </a:lnTo>
                  <a:lnTo>
                    <a:pt x="856" y="55"/>
                  </a:lnTo>
                  <a:lnTo>
                    <a:pt x="859" y="49"/>
                  </a:lnTo>
                  <a:lnTo>
                    <a:pt x="861" y="55"/>
                  </a:lnTo>
                  <a:lnTo>
                    <a:pt x="865" y="43"/>
                  </a:lnTo>
                  <a:lnTo>
                    <a:pt x="868" y="50"/>
                  </a:lnTo>
                  <a:lnTo>
                    <a:pt x="871" y="48"/>
                  </a:lnTo>
                  <a:lnTo>
                    <a:pt x="874" y="52"/>
                  </a:lnTo>
                  <a:lnTo>
                    <a:pt x="876" y="46"/>
                  </a:lnTo>
                  <a:lnTo>
                    <a:pt x="880" y="35"/>
                  </a:lnTo>
                  <a:lnTo>
                    <a:pt x="883" y="39"/>
                  </a:lnTo>
                  <a:lnTo>
                    <a:pt x="886" y="43"/>
                  </a:lnTo>
                  <a:lnTo>
                    <a:pt x="889" y="31"/>
                  </a:lnTo>
                  <a:lnTo>
                    <a:pt x="891" y="53"/>
                  </a:lnTo>
                  <a:lnTo>
                    <a:pt x="895" y="40"/>
                  </a:lnTo>
                  <a:lnTo>
                    <a:pt x="897" y="46"/>
                  </a:lnTo>
                  <a:lnTo>
                    <a:pt x="901" y="41"/>
                  </a:lnTo>
                  <a:lnTo>
                    <a:pt x="904" y="41"/>
                  </a:lnTo>
                  <a:lnTo>
                    <a:pt x="906" y="38"/>
                  </a:lnTo>
                  <a:lnTo>
                    <a:pt x="910" y="43"/>
                  </a:lnTo>
                  <a:lnTo>
                    <a:pt x="912" y="38"/>
                  </a:lnTo>
                  <a:lnTo>
                    <a:pt x="916" y="30"/>
                  </a:lnTo>
                  <a:lnTo>
                    <a:pt x="918" y="40"/>
                  </a:lnTo>
                  <a:lnTo>
                    <a:pt x="921" y="30"/>
                  </a:lnTo>
                  <a:lnTo>
                    <a:pt x="925" y="35"/>
                  </a:lnTo>
                  <a:lnTo>
                    <a:pt x="927" y="41"/>
                  </a:lnTo>
                  <a:lnTo>
                    <a:pt x="931" y="49"/>
                  </a:lnTo>
                  <a:lnTo>
                    <a:pt x="933" y="35"/>
                  </a:lnTo>
                  <a:lnTo>
                    <a:pt x="936" y="22"/>
                  </a:lnTo>
                  <a:lnTo>
                    <a:pt x="940" y="32"/>
                  </a:lnTo>
                  <a:lnTo>
                    <a:pt x="942" y="31"/>
                  </a:lnTo>
                  <a:lnTo>
                    <a:pt x="946" y="28"/>
                  </a:lnTo>
                  <a:lnTo>
                    <a:pt x="948" y="22"/>
                  </a:lnTo>
                  <a:lnTo>
                    <a:pt x="951" y="10"/>
                  </a:lnTo>
                  <a:lnTo>
                    <a:pt x="954" y="32"/>
                  </a:lnTo>
                  <a:lnTo>
                    <a:pt x="957" y="32"/>
                  </a:lnTo>
                  <a:lnTo>
                    <a:pt x="960" y="25"/>
                  </a:lnTo>
                  <a:lnTo>
                    <a:pt x="963" y="10"/>
                  </a:lnTo>
                  <a:lnTo>
                    <a:pt x="966" y="33"/>
                  </a:lnTo>
                  <a:lnTo>
                    <a:pt x="969" y="35"/>
                  </a:lnTo>
                  <a:lnTo>
                    <a:pt x="972" y="34"/>
                  </a:lnTo>
                  <a:lnTo>
                    <a:pt x="975" y="17"/>
                  </a:lnTo>
                  <a:lnTo>
                    <a:pt x="978" y="20"/>
                  </a:lnTo>
                  <a:lnTo>
                    <a:pt x="981" y="0"/>
                  </a:lnTo>
                  <a:lnTo>
                    <a:pt x="984" y="24"/>
                  </a:lnTo>
                  <a:lnTo>
                    <a:pt x="987" y="33"/>
                  </a:lnTo>
                  <a:lnTo>
                    <a:pt x="989" y="5"/>
                  </a:lnTo>
                  <a:lnTo>
                    <a:pt x="993" y="30"/>
                  </a:lnTo>
                  <a:lnTo>
                    <a:pt x="996" y="16"/>
                  </a:lnTo>
                  <a:lnTo>
                    <a:pt x="999" y="20"/>
                  </a:lnTo>
                  <a:lnTo>
                    <a:pt x="1002" y="38"/>
                  </a:lnTo>
                  <a:lnTo>
                    <a:pt x="1004" y="34"/>
                  </a:lnTo>
                  <a:lnTo>
                    <a:pt x="1008" y="24"/>
                  </a:lnTo>
                  <a:lnTo>
                    <a:pt x="1011" y="22"/>
                  </a:lnTo>
                  <a:lnTo>
                    <a:pt x="1013" y="40"/>
                  </a:lnTo>
                  <a:lnTo>
                    <a:pt x="1017" y="22"/>
                  </a:lnTo>
                  <a:lnTo>
                    <a:pt x="1019" y="30"/>
                  </a:lnTo>
                  <a:lnTo>
                    <a:pt x="1023" y="37"/>
                  </a:lnTo>
                  <a:lnTo>
                    <a:pt x="1025" y="40"/>
                  </a:lnTo>
                  <a:lnTo>
                    <a:pt x="1028" y="34"/>
                  </a:lnTo>
                  <a:lnTo>
                    <a:pt x="1032" y="30"/>
                  </a:lnTo>
                  <a:lnTo>
                    <a:pt x="1034" y="35"/>
                  </a:lnTo>
                  <a:lnTo>
                    <a:pt x="1038" y="38"/>
                  </a:lnTo>
                  <a:lnTo>
                    <a:pt x="1040" y="31"/>
                  </a:lnTo>
                  <a:lnTo>
                    <a:pt x="1043" y="26"/>
                  </a:lnTo>
                  <a:lnTo>
                    <a:pt x="1047" y="30"/>
                  </a:lnTo>
                  <a:lnTo>
                    <a:pt x="1049" y="46"/>
                  </a:lnTo>
                  <a:lnTo>
                    <a:pt x="1053" y="46"/>
                  </a:lnTo>
                  <a:lnTo>
                    <a:pt x="1055" y="46"/>
                  </a:lnTo>
                  <a:lnTo>
                    <a:pt x="1058" y="17"/>
                  </a:lnTo>
                  <a:lnTo>
                    <a:pt x="1061" y="27"/>
                  </a:lnTo>
                  <a:lnTo>
                    <a:pt x="1064" y="43"/>
                  </a:lnTo>
                  <a:lnTo>
                    <a:pt x="1068" y="47"/>
                  </a:lnTo>
                  <a:lnTo>
                    <a:pt x="1070" y="20"/>
                  </a:lnTo>
                  <a:lnTo>
                    <a:pt x="1073" y="33"/>
                  </a:lnTo>
                  <a:lnTo>
                    <a:pt x="1076" y="41"/>
                  </a:lnTo>
                  <a:lnTo>
                    <a:pt x="1079" y="48"/>
                  </a:lnTo>
                  <a:lnTo>
                    <a:pt x="1083" y="37"/>
                  </a:lnTo>
                  <a:lnTo>
                    <a:pt x="1085" y="46"/>
                  </a:lnTo>
                  <a:lnTo>
                    <a:pt x="1088" y="38"/>
                  </a:lnTo>
                  <a:lnTo>
                    <a:pt x="1091" y="34"/>
                  </a:lnTo>
                  <a:lnTo>
                    <a:pt x="1094" y="45"/>
                  </a:lnTo>
                  <a:lnTo>
                    <a:pt x="1096" y="42"/>
                  </a:lnTo>
                  <a:lnTo>
                    <a:pt x="1100" y="48"/>
                  </a:lnTo>
                  <a:lnTo>
                    <a:pt x="1103" y="50"/>
                  </a:lnTo>
                  <a:lnTo>
                    <a:pt x="1106" y="48"/>
                  </a:lnTo>
                  <a:lnTo>
                    <a:pt x="1109" y="54"/>
                  </a:lnTo>
                  <a:lnTo>
                    <a:pt x="1111" y="52"/>
                  </a:lnTo>
                  <a:lnTo>
                    <a:pt x="1115" y="43"/>
                  </a:lnTo>
                  <a:lnTo>
                    <a:pt x="1117" y="52"/>
                  </a:lnTo>
                  <a:lnTo>
                    <a:pt x="1121" y="54"/>
                  </a:lnTo>
                  <a:lnTo>
                    <a:pt x="1124" y="54"/>
                  </a:lnTo>
                  <a:lnTo>
                    <a:pt x="1126" y="52"/>
                  </a:lnTo>
                  <a:lnTo>
                    <a:pt x="1130" y="47"/>
                  </a:lnTo>
                  <a:lnTo>
                    <a:pt x="1132" y="52"/>
                  </a:lnTo>
                  <a:lnTo>
                    <a:pt x="1136" y="48"/>
                  </a:lnTo>
                  <a:lnTo>
                    <a:pt x="1139" y="28"/>
                  </a:lnTo>
                  <a:lnTo>
                    <a:pt x="1141" y="47"/>
                  </a:lnTo>
                  <a:lnTo>
                    <a:pt x="1145" y="53"/>
                  </a:lnTo>
                  <a:lnTo>
                    <a:pt x="1147" y="41"/>
                  </a:lnTo>
                  <a:lnTo>
                    <a:pt x="1151" y="46"/>
                  </a:lnTo>
                  <a:lnTo>
                    <a:pt x="1153" y="45"/>
                  </a:lnTo>
                  <a:lnTo>
                    <a:pt x="1156" y="53"/>
                  </a:lnTo>
                  <a:lnTo>
                    <a:pt x="1160" y="49"/>
                  </a:lnTo>
                  <a:lnTo>
                    <a:pt x="1162" y="45"/>
                  </a:lnTo>
                  <a:lnTo>
                    <a:pt x="1166" y="45"/>
                  </a:lnTo>
                  <a:lnTo>
                    <a:pt x="1168" y="43"/>
                  </a:lnTo>
                  <a:lnTo>
                    <a:pt x="1171" y="39"/>
                  </a:lnTo>
                  <a:lnTo>
                    <a:pt x="1175" y="40"/>
                  </a:lnTo>
                  <a:lnTo>
                    <a:pt x="1177" y="42"/>
                  </a:lnTo>
                  <a:lnTo>
                    <a:pt x="1181" y="31"/>
                  </a:lnTo>
                  <a:lnTo>
                    <a:pt x="1183" y="46"/>
                  </a:lnTo>
                  <a:lnTo>
                    <a:pt x="1186" y="42"/>
                  </a:lnTo>
                  <a:lnTo>
                    <a:pt x="1189" y="42"/>
                  </a:lnTo>
                  <a:lnTo>
                    <a:pt x="1192" y="33"/>
                  </a:lnTo>
                  <a:lnTo>
                    <a:pt x="1196" y="43"/>
                  </a:lnTo>
                  <a:lnTo>
                    <a:pt x="1198" y="40"/>
                  </a:lnTo>
                  <a:lnTo>
                    <a:pt x="1201" y="39"/>
                  </a:lnTo>
                  <a:lnTo>
                    <a:pt x="1204" y="41"/>
                  </a:lnTo>
                  <a:lnTo>
                    <a:pt x="1207" y="46"/>
                  </a:lnTo>
                  <a:lnTo>
                    <a:pt x="1210" y="40"/>
                  </a:lnTo>
                  <a:lnTo>
                    <a:pt x="1213" y="34"/>
                  </a:lnTo>
                  <a:lnTo>
                    <a:pt x="1216" y="26"/>
                  </a:lnTo>
                  <a:lnTo>
                    <a:pt x="1219" y="48"/>
                  </a:lnTo>
                  <a:lnTo>
                    <a:pt x="1222" y="46"/>
                  </a:lnTo>
                  <a:lnTo>
                    <a:pt x="1224" y="37"/>
                  </a:lnTo>
                  <a:lnTo>
                    <a:pt x="1228" y="40"/>
                  </a:lnTo>
                  <a:lnTo>
                    <a:pt x="1231" y="49"/>
                  </a:lnTo>
                  <a:lnTo>
                    <a:pt x="1234" y="35"/>
                  </a:lnTo>
                  <a:lnTo>
                    <a:pt x="1237" y="46"/>
                  </a:lnTo>
                  <a:lnTo>
                    <a:pt x="1239" y="34"/>
                  </a:lnTo>
                  <a:lnTo>
                    <a:pt x="1243" y="49"/>
                  </a:lnTo>
                  <a:lnTo>
                    <a:pt x="1246" y="43"/>
                  </a:lnTo>
                  <a:lnTo>
                    <a:pt x="1249" y="46"/>
                  </a:lnTo>
                  <a:lnTo>
                    <a:pt x="1252" y="45"/>
                  </a:lnTo>
                  <a:lnTo>
                    <a:pt x="1254" y="28"/>
                  </a:lnTo>
                  <a:lnTo>
                    <a:pt x="1258" y="55"/>
                  </a:lnTo>
                  <a:lnTo>
                    <a:pt x="1260" y="48"/>
                  </a:lnTo>
                  <a:lnTo>
                    <a:pt x="1263" y="42"/>
                  </a:lnTo>
                  <a:lnTo>
                    <a:pt x="1267" y="53"/>
                  </a:lnTo>
                  <a:lnTo>
                    <a:pt x="1269" y="52"/>
                  </a:lnTo>
                  <a:lnTo>
                    <a:pt x="1273" y="49"/>
                  </a:lnTo>
                  <a:lnTo>
                    <a:pt x="1275" y="53"/>
                  </a:lnTo>
                  <a:lnTo>
                    <a:pt x="1278" y="50"/>
                  </a:lnTo>
                  <a:lnTo>
                    <a:pt x="1282" y="47"/>
                  </a:lnTo>
                  <a:lnTo>
                    <a:pt x="1284" y="58"/>
                  </a:lnTo>
                  <a:lnTo>
                    <a:pt x="1288" y="53"/>
                  </a:lnTo>
                  <a:lnTo>
                    <a:pt x="1290" y="54"/>
                  </a:lnTo>
                  <a:lnTo>
                    <a:pt x="1293" y="41"/>
                  </a:lnTo>
                  <a:lnTo>
                    <a:pt x="1296" y="53"/>
                  </a:lnTo>
                  <a:lnTo>
                    <a:pt x="1299" y="54"/>
                  </a:lnTo>
                  <a:lnTo>
                    <a:pt x="1303" y="46"/>
                  </a:lnTo>
                  <a:lnTo>
                    <a:pt x="1305" y="43"/>
                  </a:lnTo>
                  <a:lnTo>
                    <a:pt x="1308" y="52"/>
                  </a:lnTo>
                  <a:lnTo>
                    <a:pt x="1311" y="53"/>
                  </a:lnTo>
                  <a:lnTo>
                    <a:pt x="1314" y="60"/>
                  </a:lnTo>
                  <a:lnTo>
                    <a:pt x="1318" y="43"/>
                  </a:lnTo>
                  <a:lnTo>
                    <a:pt x="1320" y="58"/>
                  </a:lnTo>
                  <a:lnTo>
                    <a:pt x="1323" y="62"/>
                  </a:lnTo>
                  <a:lnTo>
                    <a:pt x="1326" y="57"/>
                  </a:lnTo>
                  <a:lnTo>
                    <a:pt x="1329" y="46"/>
                  </a:lnTo>
                  <a:lnTo>
                    <a:pt x="1331" y="39"/>
                  </a:lnTo>
                  <a:lnTo>
                    <a:pt x="1335" y="45"/>
                  </a:lnTo>
                  <a:lnTo>
                    <a:pt x="1338" y="45"/>
                  </a:lnTo>
                  <a:lnTo>
                    <a:pt x="1341" y="41"/>
                  </a:lnTo>
                  <a:lnTo>
                    <a:pt x="1344" y="46"/>
                  </a:lnTo>
                  <a:lnTo>
                    <a:pt x="1346" y="46"/>
                  </a:lnTo>
                  <a:lnTo>
                    <a:pt x="1350" y="43"/>
                  </a:lnTo>
                  <a:lnTo>
                    <a:pt x="1352" y="42"/>
                  </a:lnTo>
                  <a:lnTo>
                    <a:pt x="1356" y="34"/>
                  </a:lnTo>
                  <a:lnTo>
                    <a:pt x="1359" y="42"/>
                  </a:lnTo>
                  <a:lnTo>
                    <a:pt x="1361" y="45"/>
                  </a:lnTo>
                  <a:lnTo>
                    <a:pt x="1365" y="46"/>
                  </a:lnTo>
                  <a:lnTo>
                    <a:pt x="1367" y="41"/>
                  </a:lnTo>
                  <a:lnTo>
                    <a:pt x="1371" y="43"/>
                  </a:lnTo>
                  <a:lnTo>
                    <a:pt x="1374" y="28"/>
                  </a:lnTo>
                  <a:lnTo>
                    <a:pt x="1376" y="39"/>
                  </a:lnTo>
                  <a:lnTo>
                    <a:pt x="1380" y="60"/>
                  </a:lnTo>
                  <a:lnTo>
                    <a:pt x="1382" y="34"/>
                  </a:lnTo>
                  <a:lnTo>
                    <a:pt x="1386" y="54"/>
                  </a:lnTo>
                  <a:lnTo>
                    <a:pt x="1388" y="42"/>
                  </a:lnTo>
                  <a:lnTo>
                    <a:pt x="1391" y="50"/>
                  </a:lnTo>
                  <a:lnTo>
                    <a:pt x="1395" y="42"/>
                  </a:lnTo>
                  <a:lnTo>
                    <a:pt x="1397" y="50"/>
                  </a:lnTo>
                  <a:lnTo>
                    <a:pt x="1401" y="60"/>
                  </a:lnTo>
                  <a:lnTo>
                    <a:pt x="1403" y="49"/>
                  </a:lnTo>
                  <a:lnTo>
                    <a:pt x="1406" y="37"/>
                  </a:lnTo>
                  <a:lnTo>
                    <a:pt x="1410" y="40"/>
                  </a:lnTo>
                  <a:lnTo>
                    <a:pt x="1412" y="48"/>
                  </a:lnTo>
                  <a:lnTo>
                    <a:pt x="1416" y="46"/>
                  </a:lnTo>
                  <a:lnTo>
                    <a:pt x="1418" y="37"/>
                  </a:lnTo>
                  <a:lnTo>
                    <a:pt x="1421" y="46"/>
                  </a:lnTo>
                  <a:lnTo>
                    <a:pt x="1424" y="54"/>
                  </a:lnTo>
                  <a:lnTo>
                    <a:pt x="1427" y="48"/>
                  </a:lnTo>
                  <a:lnTo>
                    <a:pt x="1431" y="47"/>
                  </a:lnTo>
                  <a:lnTo>
                    <a:pt x="1433" y="52"/>
                  </a:lnTo>
                  <a:lnTo>
                    <a:pt x="1436" y="42"/>
                  </a:lnTo>
                  <a:lnTo>
                    <a:pt x="1439" y="52"/>
                  </a:lnTo>
                  <a:lnTo>
                    <a:pt x="1442" y="31"/>
                  </a:lnTo>
                  <a:lnTo>
                    <a:pt x="1446" y="55"/>
                  </a:lnTo>
                  <a:lnTo>
                    <a:pt x="1448" y="50"/>
                  </a:lnTo>
                  <a:lnTo>
                    <a:pt x="1451" y="43"/>
                  </a:lnTo>
                  <a:lnTo>
                    <a:pt x="1454" y="43"/>
                  </a:lnTo>
                  <a:lnTo>
                    <a:pt x="1457" y="49"/>
                  </a:lnTo>
                  <a:lnTo>
                    <a:pt x="1459" y="47"/>
                  </a:lnTo>
                  <a:lnTo>
                    <a:pt x="1463" y="48"/>
                  </a:lnTo>
                  <a:lnTo>
                    <a:pt x="1466" y="58"/>
                  </a:lnTo>
                  <a:lnTo>
                    <a:pt x="1469" y="61"/>
                  </a:lnTo>
                  <a:lnTo>
                    <a:pt x="1472" y="54"/>
                  </a:lnTo>
                  <a:lnTo>
                    <a:pt x="1474" y="28"/>
                  </a:lnTo>
                  <a:lnTo>
                    <a:pt x="1478" y="65"/>
                  </a:lnTo>
                  <a:lnTo>
                    <a:pt x="1481" y="55"/>
                  </a:lnTo>
                  <a:lnTo>
                    <a:pt x="1484" y="57"/>
                  </a:lnTo>
                  <a:lnTo>
                    <a:pt x="1487" y="62"/>
                  </a:lnTo>
                  <a:lnTo>
                    <a:pt x="1489" y="58"/>
                  </a:lnTo>
                  <a:lnTo>
                    <a:pt x="1493" y="56"/>
                  </a:lnTo>
                  <a:lnTo>
                    <a:pt x="1495" y="55"/>
                  </a:lnTo>
                  <a:lnTo>
                    <a:pt x="1499" y="50"/>
                  </a:lnTo>
                  <a:lnTo>
                    <a:pt x="1502" y="30"/>
                  </a:lnTo>
                  <a:lnTo>
                    <a:pt x="1504" y="45"/>
                  </a:lnTo>
                  <a:lnTo>
                    <a:pt x="1508" y="62"/>
                  </a:lnTo>
                  <a:lnTo>
                    <a:pt x="1510" y="49"/>
                  </a:lnTo>
                  <a:lnTo>
                    <a:pt x="1513" y="53"/>
                  </a:lnTo>
                  <a:lnTo>
                    <a:pt x="1517" y="47"/>
                  </a:lnTo>
                  <a:lnTo>
                    <a:pt x="1519" y="50"/>
                  </a:lnTo>
                  <a:lnTo>
                    <a:pt x="1523" y="40"/>
                  </a:lnTo>
                  <a:lnTo>
                    <a:pt x="1525" y="30"/>
                  </a:lnTo>
                  <a:lnTo>
                    <a:pt x="1528" y="50"/>
                  </a:lnTo>
                  <a:lnTo>
                    <a:pt x="1531" y="39"/>
                  </a:lnTo>
                  <a:lnTo>
                    <a:pt x="1534" y="48"/>
                  </a:lnTo>
                  <a:lnTo>
                    <a:pt x="1538" y="45"/>
                  </a:lnTo>
                  <a:lnTo>
                    <a:pt x="1540" y="49"/>
                  </a:lnTo>
                  <a:lnTo>
                    <a:pt x="1543" y="37"/>
                  </a:lnTo>
                  <a:lnTo>
                    <a:pt x="1546" y="37"/>
                  </a:lnTo>
                  <a:lnTo>
                    <a:pt x="1549" y="43"/>
                  </a:lnTo>
                  <a:lnTo>
                    <a:pt x="1553" y="45"/>
                  </a:lnTo>
                  <a:lnTo>
                    <a:pt x="1555" y="40"/>
                  </a:lnTo>
                  <a:lnTo>
                    <a:pt x="1558" y="40"/>
                  </a:lnTo>
                  <a:lnTo>
                    <a:pt x="1561" y="42"/>
                  </a:lnTo>
                  <a:lnTo>
                    <a:pt x="1564" y="32"/>
                  </a:lnTo>
                  <a:lnTo>
                    <a:pt x="1566" y="47"/>
                  </a:lnTo>
                  <a:lnTo>
                    <a:pt x="1570" y="43"/>
                  </a:lnTo>
                  <a:lnTo>
                    <a:pt x="1573" y="39"/>
                  </a:lnTo>
                  <a:lnTo>
                    <a:pt x="1576" y="49"/>
                  </a:lnTo>
                  <a:lnTo>
                    <a:pt x="1579" y="41"/>
                  </a:lnTo>
                  <a:lnTo>
                    <a:pt x="1581" y="39"/>
                  </a:lnTo>
                  <a:lnTo>
                    <a:pt x="1585" y="55"/>
                  </a:lnTo>
                  <a:lnTo>
                    <a:pt x="1587" y="68"/>
                  </a:lnTo>
                  <a:lnTo>
                    <a:pt x="1591" y="70"/>
                  </a:lnTo>
                  <a:lnTo>
                    <a:pt x="1594" y="67"/>
                  </a:lnTo>
                  <a:lnTo>
                    <a:pt x="1596" y="70"/>
                  </a:lnTo>
                  <a:lnTo>
                    <a:pt x="1600" y="67"/>
                  </a:lnTo>
                  <a:lnTo>
                    <a:pt x="1602" y="62"/>
                  </a:lnTo>
                  <a:lnTo>
                    <a:pt x="1606" y="64"/>
                  </a:lnTo>
                  <a:lnTo>
                    <a:pt x="1609" y="70"/>
                  </a:lnTo>
                  <a:lnTo>
                    <a:pt x="1611" y="69"/>
                  </a:lnTo>
                  <a:lnTo>
                    <a:pt x="1615" y="77"/>
                  </a:lnTo>
                  <a:lnTo>
                    <a:pt x="1617" y="76"/>
                  </a:lnTo>
                  <a:lnTo>
                    <a:pt x="1621" y="76"/>
                  </a:lnTo>
                  <a:lnTo>
                    <a:pt x="1623" y="81"/>
                  </a:lnTo>
                  <a:lnTo>
                    <a:pt x="1626" y="72"/>
                  </a:lnTo>
                  <a:lnTo>
                    <a:pt x="1630" y="73"/>
                  </a:lnTo>
                  <a:lnTo>
                    <a:pt x="1632" y="81"/>
                  </a:lnTo>
                  <a:lnTo>
                    <a:pt x="1636" y="81"/>
                  </a:lnTo>
                  <a:lnTo>
                    <a:pt x="1638" y="75"/>
                  </a:lnTo>
                  <a:lnTo>
                    <a:pt x="1641" y="90"/>
                  </a:lnTo>
                  <a:lnTo>
                    <a:pt x="1645" y="77"/>
                  </a:lnTo>
                  <a:lnTo>
                    <a:pt x="1647" y="68"/>
                  </a:lnTo>
                  <a:lnTo>
                    <a:pt x="1651" y="85"/>
                  </a:lnTo>
                  <a:lnTo>
                    <a:pt x="1653" y="91"/>
                  </a:lnTo>
                  <a:lnTo>
                    <a:pt x="1656" y="84"/>
                  </a:lnTo>
                  <a:lnTo>
                    <a:pt x="1659" y="81"/>
                  </a:lnTo>
                  <a:lnTo>
                    <a:pt x="1662" y="80"/>
                  </a:lnTo>
                  <a:lnTo>
                    <a:pt x="1666" y="72"/>
                  </a:lnTo>
                  <a:lnTo>
                    <a:pt x="1668" y="71"/>
                  </a:lnTo>
                  <a:lnTo>
                    <a:pt x="1671" y="88"/>
                  </a:lnTo>
                  <a:lnTo>
                    <a:pt x="1674" y="86"/>
                  </a:lnTo>
                  <a:lnTo>
                    <a:pt x="1677" y="84"/>
                  </a:lnTo>
                  <a:lnTo>
                    <a:pt x="1681" y="83"/>
                  </a:lnTo>
                  <a:lnTo>
                    <a:pt x="1683" y="84"/>
                  </a:lnTo>
                  <a:lnTo>
                    <a:pt x="1686" y="78"/>
                  </a:lnTo>
                  <a:lnTo>
                    <a:pt x="1689" y="70"/>
                  </a:lnTo>
                  <a:lnTo>
                    <a:pt x="1692" y="71"/>
                  </a:lnTo>
                  <a:lnTo>
                    <a:pt x="1694" y="83"/>
                  </a:lnTo>
                  <a:lnTo>
                    <a:pt x="1698" y="86"/>
                  </a:lnTo>
                  <a:lnTo>
                    <a:pt x="1701" y="98"/>
                  </a:lnTo>
                  <a:lnTo>
                    <a:pt x="1704" y="86"/>
                  </a:lnTo>
                  <a:lnTo>
                    <a:pt x="1707" y="84"/>
                  </a:lnTo>
                  <a:lnTo>
                    <a:pt x="1709" y="85"/>
                  </a:lnTo>
                  <a:lnTo>
                    <a:pt x="1713" y="78"/>
                  </a:lnTo>
                  <a:lnTo>
                    <a:pt x="1716" y="80"/>
                  </a:lnTo>
                  <a:lnTo>
                    <a:pt x="1719" y="88"/>
                  </a:lnTo>
                  <a:lnTo>
                    <a:pt x="1722" y="67"/>
                  </a:lnTo>
                  <a:lnTo>
                    <a:pt x="1724" y="88"/>
                  </a:lnTo>
                  <a:lnTo>
                    <a:pt x="1728" y="87"/>
                  </a:lnTo>
                  <a:lnTo>
                    <a:pt x="1730" y="77"/>
                  </a:lnTo>
                  <a:lnTo>
                    <a:pt x="1734" y="93"/>
                  </a:lnTo>
                  <a:lnTo>
                    <a:pt x="1737" y="81"/>
                  </a:lnTo>
                  <a:lnTo>
                    <a:pt x="1739" y="86"/>
                  </a:lnTo>
                  <a:lnTo>
                    <a:pt x="1743" y="92"/>
                  </a:lnTo>
                  <a:lnTo>
                    <a:pt x="1745" y="71"/>
                  </a:lnTo>
                  <a:lnTo>
                    <a:pt x="1748" y="83"/>
                  </a:lnTo>
                  <a:lnTo>
                    <a:pt x="1752" y="76"/>
                  </a:lnTo>
                  <a:lnTo>
                    <a:pt x="1754" y="57"/>
                  </a:lnTo>
                  <a:lnTo>
                    <a:pt x="1758" y="73"/>
                  </a:lnTo>
                  <a:lnTo>
                    <a:pt x="1760" y="69"/>
                  </a:lnTo>
                  <a:lnTo>
                    <a:pt x="1763" y="69"/>
                  </a:lnTo>
                  <a:lnTo>
                    <a:pt x="1766" y="83"/>
                  </a:lnTo>
                  <a:lnTo>
                    <a:pt x="1769" y="77"/>
                  </a:lnTo>
                  <a:lnTo>
                    <a:pt x="1773" y="79"/>
                  </a:lnTo>
                  <a:lnTo>
                    <a:pt x="1775" y="84"/>
                  </a:lnTo>
                  <a:lnTo>
                    <a:pt x="1778" y="76"/>
                  </a:lnTo>
                  <a:lnTo>
                    <a:pt x="1781" y="85"/>
                  </a:lnTo>
                  <a:lnTo>
                    <a:pt x="1784" y="78"/>
                  </a:lnTo>
                  <a:lnTo>
                    <a:pt x="1787" y="84"/>
                  </a:lnTo>
                  <a:lnTo>
                    <a:pt x="1790" y="84"/>
                  </a:lnTo>
                  <a:lnTo>
                    <a:pt x="1793" y="84"/>
                  </a:lnTo>
                  <a:lnTo>
                    <a:pt x="1796" y="93"/>
                  </a:lnTo>
                  <a:lnTo>
                    <a:pt x="1799" y="72"/>
                  </a:lnTo>
                  <a:lnTo>
                    <a:pt x="1801" y="93"/>
                  </a:lnTo>
                  <a:lnTo>
                    <a:pt x="1805" y="95"/>
                  </a:lnTo>
                  <a:lnTo>
                    <a:pt x="1808" y="87"/>
                  </a:lnTo>
                  <a:lnTo>
                    <a:pt x="1811" y="94"/>
                  </a:lnTo>
                  <a:lnTo>
                    <a:pt x="1814" y="87"/>
                  </a:lnTo>
                  <a:lnTo>
                    <a:pt x="1816" y="92"/>
                  </a:lnTo>
                  <a:lnTo>
                    <a:pt x="1820" y="94"/>
                  </a:lnTo>
                  <a:lnTo>
                    <a:pt x="1822" y="96"/>
                  </a:lnTo>
                  <a:lnTo>
                    <a:pt x="1826" y="85"/>
                  </a:lnTo>
                  <a:lnTo>
                    <a:pt x="1829" y="92"/>
                  </a:lnTo>
                  <a:lnTo>
                    <a:pt x="1831" y="92"/>
                  </a:lnTo>
                  <a:lnTo>
                    <a:pt x="1835" y="88"/>
                  </a:lnTo>
                  <a:lnTo>
                    <a:pt x="1837" y="95"/>
                  </a:lnTo>
                  <a:lnTo>
                    <a:pt x="1841" y="93"/>
                  </a:lnTo>
                  <a:lnTo>
                    <a:pt x="1844" y="94"/>
                  </a:lnTo>
                  <a:lnTo>
                    <a:pt x="1846" y="87"/>
                  </a:lnTo>
                  <a:lnTo>
                    <a:pt x="1850" y="95"/>
                  </a:lnTo>
                  <a:lnTo>
                    <a:pt x="1852" y="84"/>
                  </a:lnTo>
                  <a:lnTo>
                    <a:pt x="1856" y="85"/>
                  </a:lnTo>
                  <a:lnTo>
                    <a:pt x="1858" y="88"/>
                  </a:lnTo>
                  <a:lnTo>
                    <a:pt x="1861" y="94"/>
                  </a:lnTo>
                  <a:lnTo>
                    <a:pt x="1865" y="102"/>
                  </a:lnTo>
                  <a:lnTo>
                    <a:pt x="1867" y="100"/>
                  </a:lnTo>
                  <a:lnTo>
                    <a:pt x="1871" y="91"/>
                  </a:lnTo>
                  <a:lnTo>
                    <a:pt x="1873" y="71"/>
                  </a:lnTo>
                  <a:lnTo>
                    <a:pt x="1876" y="96"/>
                  </a:lnTo>
                  <a:lnTo>
                    <a:pt x="1880" y="93"/>
                  </a:lnTo>
                  <a:lnTo>
                    <a:pt x="1882" y="88"/>
                  </a:lnTo>
                  <a:lnTo>
                    <a:pt x="1886" y="84"/>
                  </a:lnTo>
                  <a:lnTo>
                    <a:pt x="1888" y="83"/>
                  </a:lnTo>
                  <a:lnTo>
                    <a:pt x="1891" y="99"/>
                  </a:lnTo>
                  <a:lnTo>
                    <a:pt x="1894" y="100"/>
                  </a:lnTo>
                  <a:lnTo>
                    <a:pt x="1897" y="93"/>
                  </a:lnTo>
                  <a:lnTo>
                    <a:pt x="1901" y="93"/>
                  </a:lnTo>
                  <a:lnTo>
                    <a:pt x="1903" y="94"/>
                  </a:lnTo>
                  <a:lnTo>
                    <a:pt x="1906" y="103"/>
                  </a:lnTo>
                  <a:lnTo>
                    <a:pt x="1909" y="101"/>
                  </a:lnTo>
                  <a:lnTo>
                    <a:pt x="1912" y="99"/>
                  </a:lnTo>
                  <a:lnTo>
                    <a:pt x="1916" y="100"/>
                  </a:lnTo>
                  <a:lnTo>
                    <a:pt x="1918" y="107"/>
                  </a:lnTo>
                  <a:lnTo>
                    <a:pt x="1921" y="93"/>
                  </a:lnTo>
                  <a:lnTo>
                    <a:pt x="1924" y="103"/>
                  </a:lnTo>
                  <a:lnTo>
                    <a:pt x="1927" y="111"/>
                  </a:lnTo>
                  <a:lnTo>
                    <a:pt x="1929" y="105"/>
                  </a:lnTo>
                  <a:lnTo>
                    <a:pt x="1933" y="96"/>
                  </a:lnTo>
                  <a:lnTo>
                    <a:pt x="1936" y="101"/>
                  </a:lnTo>
                  <a:lnTo>
                    <a:pt x="1939" y="99"/>
                  </a:lnTo>
                  <a:lnTo>
                    <a:pt x="1942" y="99"/>
                  </a:lnTo>
                  <a:lnTo>
                    <a:pt x="1944" y="91"/>
                  </a:lnTo>
                  <a:lnTo>
                    <a:pt x="1948" y="95"/>
                  </a:lnTo>
                  <a:lnTo>
                    <a:pt x="1951" y="103"/>
                  </a:lnTo>
                  <a:lnTo>
                    <a:pt x="1954" y="88"/>
                  </a:lnTo>
                  <a:lnTo>
                    <a:pt x="1957" y="103"/>
                  </a:lnTo>
                  <a:lnTo>
                    <a:pt x="1959" y="98"/>
                  </a:lnTo>
                  <a:lnTo>
                    <a:pt x="1963" y="79"/>
                  </a:lnTo>
                  <a:lnTo>
                    <a:pt x="1965" y="95"/>
                  </a:lnTo>
                  <a:lnTo>
                    <a:pt x="1969" y="98"/>
                  </a:lnTo>
                  <a:lnTo>
                    <a:pt x="1972" y="92"/>
                  </a:lnTo>
                  <a:lnTo>
                    <a:pt x="1974" y="78"/>
                  </a:lnTo>
                  <a:lnTo>
                    <a:pt x="1978" y="78"/>
                  </a:lnTo>
                  <a:lnTo>
                    <a:pt x="1980" y="86"/>
                  </a:lnTo>
                  <a:lnTo>
                    <a:pt x="1984" y="91"/>
                  </a:lnTo>
                  <a:lnTo>
                    <a:pt x="1987" y="84"/>
                  </a:lnTo>
                  <a:lnTo>
                    <a:pt x="1989" y="78"/>
                  </a:lnTo>
                  <a:lnTo>
                    <a:pt x="1993" y="86"/>
                  </a:lnTo>
                  <a:lnTo>
                    <a:pt x="1995" y="81"/>
                  </a:lnTo>
                  <a:lnTo>
                    <a:pt x="1998" y="78"/>
                  </a:lnTo>
                  <a:lnTo>
                    <a:pt x="2001" y="81"/>
                  </a:lnTo>
                  <a:lnTo>
                    <a:pt x="2004" y="78"/>
                  </a:lnTo>
                  <a:lnTo>
                    <a:pt x="2008" y="60"/>
                  </a:lnTo>
                  <a:lnTo>
                    <a:pt x="2010" y="67"/>
                  </a:lnTo>
                  <a:lnTo>
                    <a:pt x="2013" y="83"/>
                  </a:lnTo>
                  <a:lnTo>
                    <a:pt x="2016" y="78"/>
                  </a:lnTo>
                  <a:lnTo>
                    <a:pt x="2019" y="90"/>
                  </a:lnTo>
                  <a:lnTo>
                    <a:pt x="2022" y="86"/>
                  </a:lnTo>
                  <a:lnTo>
                    <a:pt x="2025" y="92"/>
                  </a:lnTo>
                  <a:lnTo>
                    <a:pt x="2028" y="94"/>
                  </a:lnTo>
                  <a:lnTo>
                    <a:pt x="2031" y="85"/>
                  </a:lnTo>
                  <a:lnTo>
                    <a:pt x="2034" y="72"/>
                  </a:lnTo>
                  <a:lnTo>
                    <a:pt x="2037" y="96"/>
                  </a:lnTo>
                  <a:lnTo>
                    <a:pt x="2040" y="86"/>
                  </a:lnTo>
                  <a:lnTo>
                    <a:pt x="2043" y="91"/>
                  </a:lnTo>
                  <a:lnTo>
                    <a:pt x="2046" y="99"/>
                  </a:lnTo>
                  <a:lnTo>
                    <a:pt x="2049" y="100"/>
                  </a:lnTo>
                  <a:lnTo>
                    <a:pt x="2051" y="101"/>
                  </a:lnTo>
                  <a:lnTo>
                    <a:pt x="2055" y="93"/>
                  </a:lnTo>
                  <a:lnTo>
                    <a:pt x="2057" y="101"/>
                  </a:lnTo>
                  <a:lnTo>
                    <a:pt x="2061" y="102"/>
                  </a:lnTo>
                  <a:lnTo>
                    <a:pt x="2064" y="106"/>
                  </a:lnTo>
                  <a:lnTo>
                    <a:pt x="2066" y="105"/>
                  </a:lnTo>
                  <a:lnTo>
                    <a:pt x="2070" y="100"/>
                  </a:lnTo>
                  <a:lnTo>
                    <a:pt x="2072" y="94"/>
                  </a:lnTo>
                  <a:lnTo>
                    <a:pt x="2076" y="91"/>
                  </a:lnTo>
                  <a:lnTo>
                    <a:pt x="2079" y="93"/>
                  </a:lnTo>
                </a:path>
              </a:pathLst>
            </a:custGeom>
            <a:noFill/>
            <a:ln w="3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68920" y="3350880"/>
              <a:ext cx="1101600" cy="90360"/>
            </a:xfrm>
            <a:custGeom>
              <a:avLst/>
              <a:gdLst/>
              <a:ahLst/>
              <a:rect l="l" t="t" r="r" b="b"/>
              <a:pathLst>
                <a:path w="2080" h="171">
                  <a:moveTo>
                    <a:pt x="0" y="5"/>
                  </a:moveTo>
                  <a:lnTo>
                    <a:pt x="2" y="6"/>
                  </a:lnTo>
                  <a:lnTo>
                    <a:pt x="6" y="4"/>
                  </a:lnTo>
                  <a:lnTo>
                    <a:pt x="8" y="0"/>
                  </a:lnTo>
                  <a:lnTo>
                    <a:pt x="12" y="10"/>
                  </a:lnTo>
                  <a:lnTo>
                    <a:pt x="14" y="13"/>
                  </a:lnTo>
                  <a:lnTo>
                    <a:pt x="17" y="5"/>
                  </a:lnTo>
                  <a:lnTo>
                    <a:pt x="21" y="6"/>
                  </a:lnTo>
                  <a:lnTo>
                    <a:pt x="23" y="10"/>
                  </a:lnTo>
                  <a:lnTo>
                    <a:pt x="27" y="20"/>
                  </a:lnTo>
                  <a:lnTo>
                    <a:pt x="29" y="6"/>
                  </a:lnTo>
                  <a:lnTo>
                    <a:pt x="32" y="10"/>
                  </a:lnTo>
                  <a:lnTo>
                    <a:pt x="36" y="13"/>
                  </a:lnTo>
                  <a:lnTo>
                    <a:pt x="38" y="12"/>
                  </a:lnTo>
                  <a:lnTo>
                    <a:pt x="42" y="8"/>
                  </a:lnTo>
                  <a:lnTo>
                    <a:pt x="44" y="12"/>
                  </a:lnTo>
                  <a:lnTo>
                    <a:pt x="47" y="4"/>
                  </a:lnTo>
                  <a:lnTo>
                    <a:pt x="50" y="31"/>
                  </a:lnTo>
                  <a:lnTo>
                    <a:pt x="53" y="17"/>
                  </a:lnTo>
                  <a:lnTo>
                    <a:pt x="57" y="11"/>
                  </a:lnTo>
                  <a:lnTo>
                    <a:pt x="59" y="18"/>
                  </a:lnTo>
                  <a:lnTo>
                    <a:pt x="62" y="14"/>
                  </a:lnTo>
                  <a:lnTo>
                    <a:pt x="65" y="25"/>
                  </a:lnTo>
                  <a:lnTo>
                    <a:pt x="68" y="15"/>
                  </a:lnTo>
                  <a:lnTo>
                    <a:pt x="72" y="25"/>
                  </a:lnTo>
                  <a:lnTo>
                    <a:pt x="74" y="22"/>
                  </a:lnTo>
                  <a:lnTo>
                    <a:pt x="77" y="14"/>
                  </a:lnTo>
                  <a:lnTo>
                    <a:pt x="80" y="17"/>
                  </a:lnTo>
                  <a:lnTo>
                    <a:pt x="83" y="20"/>
                  </a:lnTo>
                  <a:lnTo>
                    <a:pt x="85" y="17"/>
                  </a:lnTo>
                  <a:lnTo>
                    <a:pt x="89" y="13"/>
                  </a:lnTo>
                  <a:lnTo>
                    <a:pt x="92" y="15"/>
                  </a:lnTo>
                  <a:lnTo>
                    <a:pt x="95" y="27"/>
                  </a:lnTo>
                  <a:lnTo>
                    <a:pt x="98" y="17"/>
                  </a:lnTo>
                  <a:lnTo>
                    <a:pt x="100" y="12"/>
                  </a:lnTo>
                  <a:lnTo>
                    <a:pt x="104" y="25"/>
                  </a:lnTo>
                  <a:lnTo>
                    <a:pt x="107" y="31"/>
                  </a:lnTo>
                  <a:lnTo>
                    <a:pt x="110" y="21"/>
                  </a:lnTo>
                  <a:lnTo>
                    <a:pt x="113" y="35"/>
                  </a:lnTo>
                  <a:lnTo>
                    <a:pt x="115" y="31"/>
                  </a:lnTo>
                  <a:lnTo>
                    <a:pt x="119" y="22"/>
                  </a:lnTo>
                  <a:lnTo>
                    <a:pt x="121" y="35"/>
                  </a:lnTo>
                  <a:lnTo>
                    <a:pt x="125" y="42"/>
                  </a:lnTo>
                  <a:lnTo>
                    <a:pt x="128" y="34"/>
                  </a:lnTo>
                  <a:lnTo>
                    <a:pt x="130" y="38"/>
                  </a:lnTo>
                  <a:lnTo>
                    <a:pt x="134" y="42"/>
                  </a:lnTo>
                  <a:lnTo>
                    <a:pt x="136" y="43"/>
                  </a:lnTo>
                  <a:lnTo>
                    <a:pt x="140" y="14"/>
                  </a:lnTo>
                  <a:lnTo>
                    <a:pt x="143" y="33"/>
                  </a:lnTo>
                  <a:lnTo>
                    <a:pt x="145" y="35"/>
                  </a:lnTo>
                  <a:lnTo>
                    <a:pt x="149" y="22"/>
                  </a:lnTo>
                  <a:lnTo>
                    <a:pt x="151" y="34"/>
                  </a:lnTo>
                  <a:lnTo>
                    <a:pt x="155" y="35"/>
                  </a:lnTo>
                  <a:lnTo>
                    <a:pt x="157" y="37"/>
                  </a:lnTo>
                  <a:lnTo>
                    <a:pt x="160" y="31"/>
                  </a:lnTo>
                  <a:lnTo>
                    <a:pt x="164" y="51"/>
                  </a:lnTo>
                  <a:lnTo>
                    <a:pt x="166" y="38"/>
                  </a:lnTo>
                  <a:lnTo>
                    <a:pt x="169" y="48"/>
                  </a:lnTo>
                  <a:lnTo>
                    <a:pt x="172" y="52"/>
                  </a:lnTo>
                  <a:lnTo>
                    <a:pt x="175" y="48"/>
                  </a:lnTo>
                  <a:lnTo>
                    <a:pt x="178" y="52"/>
                  </a:lnTo>
                  <a:lnTo>
                    <a:pt x="181" y="37"/>
                  </a:lnTo>
                  <a:lnTo>
                    <a:pt x="184" y="41"/>
                  </a:lnTo>
                  <a:lnTo>
                    <a:pt x="187" y="48"/>
                  </a:lnTo>
                  <a:lnTo>
                    <a:pt x="190" y="50"/>
                  </a:lnTo>
                  <a:lnTo>
                    <a:pt x="193" y="41"/>
                  </a:lnTo>
                  <a:lnTo>
                    <a:pt x="196" y="44"/>
                  </a:lnTo>
                  <a:lnTo>
                    <a:pt x="199" y="25"/>
                  </a:lnTo>
                  <a:lnTo>
                    <a:pt x="202" y="41"/>
                  </a:lnTo>
                  <a:lnTo>
                    <a:pt x="205" y="41"/>
                  </a:lnTo>
                  <a:lnTo>
                    <a:pt x="208" y="26"/>
                  </a:lnTo>
                  <a:lnTo>
                    <a:pt x="211" y="33"/>
                  </a:lnTo>
                  <a:lnTo>
                    <a:pt x="213" y="29"/>
                  </a:lnTo>
                  <a:lnTo>
                    <a:pt x="217" y="34"/>
                  </a:lnTo>
                  <a:lnTo>
                    <a:pt x="220" y="33"/>
                  </a:lnTo>
                  <a:lnTo>
                    <a:pt x="222" y="28"/>
                  </a:lnTo>
                  <a:lnTo>
                    <a:pt x="226" y="22"/>
                  </a:lnTo>
                  <a:lnTo>
                    <a:pt x="228" y="30"/>
                  </a:lnTo>
                  <a:lnTo>
                    <a:pt x="232" y="29"/>
                  </a:lnTo>
                  <a:lnTo>
                    <a:pt x="235" y="30"/>
                  </a:lnTo>
                  <a:lnTo>
                    <a:pt x="237" y="37"/>
                  </a:lnTo>
                  <a:lnTo>
                    <a:pt x="241" y="38"/>
                  </a:lnTo>
                  <a:lnTo>
                    <a:pt x="243" y="21"/>
                  </a:lnTo>
                  <a:lnTo>
                    <a:pt x="247" y="37"/>
                  </a:lnTo>
                  <a:lnTo>
                    <a:pt x="249" y="35"/>
                  </a:lnTo>
                  <a:lnTo>
                    <a:pt x="252" y="31"/>
                  </a:lnTo>
                  <a:lnTo>
                    <a:pt x="256" y="36"/>
                  </a:lnTo>
                  <a:lnTo>
                    <a:pt x="258" y="38"/>
                  </a:lnTo>
                  <a:lnTo>
                    <a:pt x="262" y="33"/>
                  </a:lnTo>
                  <a:lnTo>
                    <a:pt x="264" y="30"/>
                  </a:lnTo>
                  <a:lnTo>
                    <a:pt x="267" y="28"/>
                  </a:lnTo>
                  <a:lnTo>
                    <a:pt x="271" y="34"/>
                  </a:lnTo>
                  <a:lnTo>
                    <a:pt x="273" y="37"/>
                  </a:lnTo>
                  <a:lnTo>
                    <a:pt x="277" y="36"/>
                  </a:lnTo>
                  <a:lnTo>
                    <a:pt x="279" y="27"/>
                  </a:lnTo>
                  <a:lnTo>
                    <a:pt x="282" y="40"/>
                  </a:lnTo>
                  <a:lnTo>
                    <a:pt x="285" y="40"/>
                  </a:lnTo>
                  <a:lnTo>
                    <a:pt x="288" y="26"/>
                  </a:lnTo>
                  <a:lnTo>
                    <a:pt x="292" y="34"/>
                  </a:lnTo>
                  <a:lnTo>
                    <a:pt x="294" y="37"/>
                  </a:lnTo>
                  <a:lnTo>
                    <a:pt x="297" y="35"/>
                  </a:lnTo>
                  <a:lnTo>
                    <a:pt x="300" y="28"/>
                  </a:lnTo>
                  <a:lnTo>
                    <a:pt x="303" y="44"/>
                  </a:lnTo>
                  <a:lnTo>
                    <a:pt x="307" y="31"/>
                  </a:lnTo>
                  <a:lnTo>
                    <a:pt x="309" y="49"/>
                  </a:lnTo>
                  <a:lnTo>
                    <a:pt x="312" y="45"/>
                  </a:lnTo>
                  <a:lnTo>
                    <a:pt x="315" y="45"/>
                  </a:lnTo>
                  <a:lnTo>
                    <a:pt x="318" y="45"/>
                  </a:lnTo>
                  <a:lnTo>
                    <a:pt x="320" y="46"/>
                  </a:lnTo>
                  <a:lnTo>
                    <a:pt x="324" y="41"/>
                  </a:lnTo>
                  <a:lnTo>
                    <a:pt x="327" y="52"/>
                  </a:lnTo>
                  <a:lnTo>
                    <a:pt x="330" y="50"/>
                  </a:lnTo>
                  <a:lnTo>
                    <a:pt x="333" y="43"/>
                  </a:lnTo>
                  <a:lnTo>
                    <a:pt x="335" y="41"/>
                  </a:lnTo>
                  <a:lnTo>
                    <a:pt x="339" y="45"/>
                  </a:lnTo>
                  <a:lnTo>
                    <a:pt x="342" y="46"/>
                  </a:lnTo>
                  <a:lnTo>
                    <a:pt x="345" y="43"/>
                  </a:lnTo>
                  <a:lnTo>
                    <a:pt x="348" y="40"/>
                  </a:lnTo>
                  <a:lnTo>
                    <a:pt x="350" y="43"/>
                  </a:lnTo>
                  <a:lnTo>
                    <a:pt x="354" y="41"/>
                  </a:lnTo>
                  <a:lnTo>
                    <a:pt x="356" y="40"/>
                  </a:lnTo>
                  <a:lnTo>
                    <a:pt x="360" y="41"/>
                  </a:lnTo>
                  <a:lnTo>
                    <a:pt x="363" y="46"/>
                  </a:lnTo>
                  <a:lnTo>
                    <a:pt x="365" y="42"/>
                  </a:lnTo>
                  <a:lnTo>
                    <a:pt x="369" y="50"/>
                  </a:lnTo>
                  <a:lnTo>
                    <a:pt x="371" y="48"/>
                  </a:lnTo>
                  <a:lnTo>
                    <a:pt x="375" y="45"/>
                  </a:lnTo>
                  <a:lnTo>
                    <a:pt x="377" y="31"/>
                  </a:lnTo>
                  <a:lnTo>
                    <a:pt x="380" y="42"/>
                  </a:lnTo>
                  <a:lnTo>
                    <a:pt x="384" y="53"/>
                  </a:lnTo>
                  <a:lnTo>
                    <a:pt x="386" y="43"/>
                  </a:lnTo>
                  <a:lnTo>
                    <a:pt x="390" y="46"/>
                  </a:lnTo>
                  <a:lnTo>
                    <a:pt x="392" y="51"/>
                  </a:lnTo>
                  <a:lnTo>
                    <a:pt x="395" y="42"/>
                  </a:lnTo>
                  <a:lnTo>
                    <a:pt x="399" y="34"/>
                  </a:lnTo>
                  <a:lnTo>
                    <a:pt x="401" y="20"/>
                  </a:lnTo>
                  <a:lnTo>
                    <a:pt x="405" y="50"/>
                  </a:lnTo>
                  <a:lnTo>
                    <a:pt x="407" y="33"/>
                  </a:lnTo>
                  <a:lnTo>
                    <a:pt x="410" y="50"/>
                  </a:lnTo>
                  <a:lnTo>
                    <a:pt x="413" y="50"/>
                  </a:lnTo>
                  <a:lnTo>
                    <a:pt x="416" y="46"/>
                  </a:lnTo>
                  <a:lnTo>
                    <a:pt x="419" y="48"/>
                  </a:lnTo>
                  <a:lnTo>
                    <a:pt x="422" y="45"/>
                  </a:lnTo>
                  <a:lnTo>
                    <a:pt x="425" y="43"/>
                  </a:lnTo>
                  <a:lnTo>
                    <a:pt x="428" y="36"/>
                  </a:lnTo>
                  <a:lnTo>
                    <a:pt x="431" y="18"/>
                  </a:lnTo>
                  <a:lnTo>
                    <a:pt x="434" y="34"/>
                  </a:lnTo>
                  <a:lnTo>
                    <a:pt x="437" y="51"/>
                  </a:lnTo>
                  <a:lnTo>
                    <a:pt x="440" y="46"/>
                  </a:lnTo>
                  <a:lnTo>
                    <a:pt x="443" y="26"/>
                  </a:lnTo>
                  <a:lnTo>
                    <a:pt x="446" y="52"/>
                  </a:lnTo>
                  <a:lnTo>
                    <a:pt x="448" y="44"/>
                  </a:lnTo>
                  <a:lnTo>
                    <a:pt x="452" y="42"/>
                  </a:lnTo>
                  <a:lnTo>
                    <a:pt x="455" y="50"/>
                  </a:lnTo>
                  <a:lnTo>
                    <a:pt x="457" y="30"/>
                  </a:lnTo>
                  <a:lnTo>
                    <a:pt x="461" y="40"/>
                  </a:lnTo>
                  <a:lnTo>
                    <a:pt x="463" y="26"/>
                  </a:lnTo>
                  <a:lnTo>
                    <a:pt x="467" y="30"/>
                  </a:lnTo>
                  <a:lnTo>
                    <a:pt x="470" y="49"/>
                  </a:lnTo>
                  <a:lnTo>
                    <a:pt x="472" y="45"/>
                  </a:lnTo>
                  <a:lnTo>
                    <a:pt x="476" y="40"/>
                  </a:lnTo>
                  <a:lnTo>
                    <a:pt x="478" y="46"/>
                  </a:lnTo>
                  <a:lnTo>
                    <a:pt x="482" y="33"/>
                  </a:lnTo>
                  <a:lnTo>
                    <a:pt x="484" y="38"/>
                  </a:lnTo>
                  <a:lnTo>
                    <a:pt x="487" y="44"/>
                  </a:lnTo>
                  <a:lnTo>
                    <a:pt x="491" y="41"/>
                  </a:lnTo>
                  <a:lnTo>
                    <a:pt x="493" y="37"/>
                  </a:lnTo>
                  <a:lnTo>
                    <a:pt x="497" y="48"/>
                  </a:lnTo>
                  <a:lnTo>
                    <a:pt x="499" y="42"/>
                  </a:lnTo>
                  <a:lnTo>
                    <a:pt x="502" y="37"/>
                  </a:lnTo>
                  <a:lnTo>
                    <a:pt x="506" y="37"/>
                  </a:lnTo>
                  <a:lnTo>
                    <a:pt x="508" y="42"/>
                  </a:lnTo>
                  <a:lnTo>
                    <a:pt x="512" y="49"/>
                  </a:lnTo>
                  <a:lnTo>
                    <a:pt x="514" y="45"/>
                  </a:lnTo>
                  <a:lnTo>
                    <a:pt x="517" y="30"/>
                  </a:lnTo>
                  <a:lnTo>
                    <a:pt x="520" y="26"/>
                  </a:lnTo>
                  <a:lnTo>
                    <a:pt x="523" y="46"/>
                  </a:lnTo>
                  <a:lnTo>
                    <a:pt x="527" y="53"/>
                  </a:lnTo>
                  <a:lnTo>
                    <a:pt x="529" y="49"/>
                  </a:lnTo>
                  <a:lnTo>
                    <a:pt x="532" y="53"/>
                  </a:lnTo>
                  <a:lnTo>
                    <a:pt x="535" y="55"/>
                  </a:lnTo>
                  <a:lnTo>
                    <a:pt x="538" y="56"/>
                  </a:lnTo>
                  <a:lnTo>
                    <a:pt x="542" y="68"/>
                  </a:lnTo>
                  <a:lnTo>
                    <a:pt x="544" y="55"/>
                  </a:lnTo>
                  <a:lnTo>
                    <a:pt x="547" y="56"/>
                  </a:lnTo>
                  <a:lnTo>
                    <a:pt x="550" y="52"/>
                  </a:lnTo>
                  <a:lnTo>
                    <a:pt x="553" y="57"/>
                  </a:lnTo>
                  <a:lnTo>
                    <a:pt x="555" y="51"/>
                  </a:lnTo>
                  <a:lnTo>
                    <a:pt x="559" y="46"/>
                  </a:lnTo>
                  <a:lnTo>
                    <a:pt x="562" y="45"/>
                  </a:lnTo>
                  <a:lnTo>
                    <a:pt x="565" y="58"/>
                  </a:lnTo>
                  <a:lnTo>
                    <a:pt x="568" y="59"/>
                  </a:lnTo>
                  <a:lnTo>
                    <a:pt x="570" y="56"/>
                  </a:lnTo>
                  <a:lnTo>
                    <a:pt x="574" y="44"/>
                  </a:lnTo>
                  <a:lnTo>
                    <a:pt x="577" y="53"/>
                  </a:lnTo>
                  <a:lnTo>
                    <a:pt x="580" y="51"/>
                  </a:lnTo>
                  <a:lnTo>
                    <a:pt x="583" y="57"/>
                  </a:lnTo>
                  <a:lnTo>
                    <a:pt x="585" y="59"/>
                  </a:lnTo>
                  <a:lnTo>
                    <a:pt x="589" y="56"/>
                  </a:lnTo>
                  <a:lnTo>
                    <a:pt x="591" y="44"/>
                  </a:lnTo>
                  <a:lnTo>
                    <a:pt x="595" y="59"/>
                  </a:lnTo>
                  <a:lnTo>
                    <a:pt x="598" y="58"/>
                  </a:lnTo>
                  <a:lnTo>
                    <a:pt x="600" y="63"/>
                  </a:lnTo>
                  <a:lnTo>
                    <a:pt x="604" y="59"/>
                  </a:lnTo>
                  <a:lnTo>
                    <a:pt x="606" y="57"/>
                  </a:lnTo>
                  <a:lnTo>
                    <a:pt x="610" y="46"/>
                  </a:lnTo>
                  <a:lnTo>
                    <a:pt x="612" y="40"/>
                  </a:lnTo>
                  <a:lnTo>
                    <a:pt x="615" y="64"/>
                  </a:lnTo>
                  <a:lnTo>
                    <a:pt x="619" y="48"/>
                  </a:lnTo>
                  <a:lnTo>
                    <a:pt x="621" y="70"/>
                  </a:lnTo>
                  <a:lnTo>
                    <a:pt x="625" y="64"/>
                  </a:lnTo>
                  <a:lnTo>
                    <a:pt x="627" y="67"/>
                  </a:lnTo>
                  <a:lnTo>
                    <a:pt x="630" y="57"/>
                  </a:lnTo>
                  <a:lnTo>
                    <a:pt x="634" y="65"/>
                  </a:lnTo>
                  <a:lnTo>
                    <a:pt x="636" y="66"/>
                  </a:lnTo>
                  <a:lnTo>
                    <a:pt x="640" y="68"/>
                  </a:lnTo>
                  <a:lnTo>
                    <a:pt x="642" y="58"/>
                  </a:lnTo>
                  <a:lnTo>
                    <a:pt x="645" y="56"/>
                  </a:lnTo>
                  <a:lnTo>
                    <a:pt x="648" y="63"/>
                  </a:lnTo>
                  <a:lnTo>
                    <a:pt x="651" y="66"/>
                  </a:lnTo>
                  <a:lnTo>
                    <a:pt x="655" y="68"/>
                  </a:lnTo>
                  <a:lnTo>
                    <a:pt x="657" y="66"/>
                  </a:lnTo>
                  <a:lnTo>
                    <a:pt x="660" y="36"/>
                  </a:lnTo>
                  <a:lnTo>
                    <a:pt x="663" y="66"/>
                  </a:lnTo>
                  <a:lnTo>
                    <a:pt x="666" y="65"/>
                  </a:lnTo>
                  <a:lnTo>
                    <a:pt x="669" y="74"/>
                  </a:lnTo>
                  <a:lnTo>
                    <a:pt x="672" y="76"/>
                  </a:lnTo>
                  <a:lnTo>
                    <a:pt x="675" y="70"/>
                  </a:lnTo>
                  <a:lnTo>
                    <a:pt x="678" y="71"/>
                  </a:lnTo>
                  <a:lnTo>
                    <a:pt x="681" y="76"/>
                  </a:lnTo>
                  <a:lnTo>
                    <a:pt x="683" y="82"/>
                  </a:lnTo>
                  <a:lnTo>
                    <a:pt x="687" y="83"/>
                  </a:lnTo>
                  <a:lnTo>
                    <a:pt x="690" y="55"/>
                  </a:lnTo>
                  <a:lnTo>
                    <a:pt x="693" y="86"/>
                  </a:lnTo>
                  <a:lnTo>
                    <a:pt x="696" y="82"/>
                  </a:lnTo>
                  <a:lnTo>
                    <a:pt x="698" y="87"/>
                  </a:lnTo>
                  <a:lnTo>
                    <a:pt x="702" y="75"/>
                  </a:lnTo>
                  <a:lnTo>
                    <a:pt x="705" y="84"/>
                  </a:lnTo>
                  <a:lnTo>
                    <a:pt x="707" y="89"/>
                  </a:lnTo>
                  <a:lnTo>
                    <a:pt x="711" y="78"/>
                  </a:lnTo>
                  <a:lnTo>
                    <a:pt x="713" y="86"/>
                  </a:lnTo>
                  <a:lnTo>
                    <a:pt x="717" y="74"/>
                  </a:lnTo>
                  <a:lnTo>
                    <a:pt x="719" y="86"/>
                  </a:lnTo>
                  <a:lnTo>
                    <a:pt x="722" y="80"/>
                  </a:lnTo>
                  <a:lnTo>
                    <a:pt x="726" y="78"/>
                  </a:lnTo>
                  <a:lnTo>
                    <a:pt x="728" y="75"/>
                  </a:lnTo>
                  <a:lnTo>
                    <a:pt x="732" y="78"/>
                  </a:lnTo>
                  <a:lnTo>
                    <a:pt x="734" y="59"/>
                  </a:lnTo>
                  <a:lnTo>
                    <a:pt x="737" y="81"/>
                  </a:lnTo>
                  <a:lnTo>
                    <a:pt x="741" y="79"/>
                  </a:lnTo>
                  <a:lnTo>
                    <a:pt x="743" y="70"/>
                  </a:lnTo>
                  <a:lnTo>
                    <a:pt x="747" y="60"/>
                  </a:lnTo>
                  <a:lnTo>
                    <a:pt x="749" y="68"/>
                  </a:lnTo>
                  <a:lnTo>
                    <a:pt x="752" y="58"/>
                  </a:lnTo>
                  <a:lnTo>
                    <a:pt x="755" y="74"/>
                  </a:lnTo>
                  <a:lnTo>
                    <a:pt x="758" y="81"/>
                  </a:lnTo>
                  <a:lnTo>
                    <a:pt x="762" y="75"/>
                  </a:lnTo>
                  <a:lnTo>
                    <a:pt x="764" y="73"/>
                  </a:lnTo>
                  <a:lnTo>
                    <a:pt x="767" y="61"/>
                  </a:lnTo>
                  <a:lnTo>
                    <a:pt x="770" y="72"/>
                  </a:lnTo>
                  <a:lnTo>
                    <a:pt x="773" y="78"/>
                  </a:lnTo>
                  <a:lnTo>
                    <a:pt x="777" y="74"/>
                  </a:lnTo>
                  <a:lnTo>
                    <a:pt x="779" y="80"/>
                  </a:lnTo>
                  <a:lnTo>
                    <a:pt x="782" y="78"/>
                  </a:lnTo>
                  <a:lnTo>
                    <a:pt x="785" y="82"/>
                  </a:lnTo>
                  <a:lnTo>
                    <a:pt x="788" y="87"/>
                  </a:lnTo>
                  <a:lnTo>
                    <a:pt x="790" y="79"/>
                  </a:lnTo>
                  <a:lnTo>
                    <a:pt x="794" y="88"/>
                  </a:lnTo>
                  <a:lnTo>
                    <a:pt x="797" y="76"/>
                  </a:lnTo>
                  <a:lnTo>
                    <a:pt x="800" y="78"/>
                  </a:lnTo>
                  <a:lnTo>
                    <a:pt x="803" y="71"/>
                  </a:lnTo>
                  <a:lnTo>
                    <a:pt x="805" y="74"/>
                  </a:lnTo>
                  <a:lnTo>
                    <a:pt x="809" y="80"/>
                  </a:lnTo>
                  <a:lnTo>
                    <a:pt x="812" y="74"/>
                  </a:lnTo>
                  <a:lnTo>
                    <a:pt x="815" y="73"/>
                  </a:lnTo>
                  <a:lnTo>
                    <a:pt x="818" y="72"/>
                  </a:lnTo>
                  <a:lnTo>
                    <a:pt x="820" y="88"/>
                  </a:lnTo>
                  <a:lnTo>
                    <a:pt x="824" y="88"/>
                  </a:lnTo>
                  <a:lnTo>
                    <a:pt x="826" y="96"/>
                  </a:lnTo>
                  <a:lnTo>
                    <a:pt x="830" y="95"/>
                  </a:lnTo>
                  <a:lnTo>
                    <a:pt x="833" y="102"/>
                  </a:lnTo>
                  <a:lnTo>
                    <a:pt x="835" y="104"/>
                  </a:lnTo>
                  <a:lnTo>
                    <a:pt x="839" y="108"/>
                  </a:lnTo>
                  <a:lnTo>
                    <a:pt x="841" y="97"/>
                  </a:lnTo>
                  <a:lnTo>
                    <a:pt x="845" y="105"/>
                  </a:lnTo>
                  <a:lnTo>
                    <a:pt x="847" y="112"/>
                  </a:lnTo>
                  <a:lnTo>
                    <a:pt x="850" y="96"/>
                  </a:lnTo>
                  <a:lnTo>
                    <a:pt x="854" y="104"/>
                  </a:lnTo>
                  <a:lnTo>
                    <a:pt x="856" y="108"/>
                  </a:lnTo>
                  <a:lnTo>
                    <a:pt x="860" y="87"/>
                  </a:lnTo>
                  <a:lnTo>
                    <a:pt x="862" y="106"/>
                  </a:lnTo>
                  <a:lnTo>
                    <a:pt x="865" y="83"/>
                  </a:lnTo>
                  <a:lnTo>
                    <a:pt x="869" y="109"/>
                  </a:lnTo>
                  <a:lnTo>
                    <a:pt x="871" y="102"/>
                  </a:lnTo>
                  <a:lnTo>
                    <a:pt x="875" y="106"/>
                  </a:lnTo>
                  <a:lnTo>
                    <a:pt x="877" y="106"/>
                  </a:lnTo>
                  <a:lnTo>
                    <a:pt x="880" y="113"/>
                  </a:lnTo>
                  <a:lnTo>
                    <a:pt x="883" y="114"/>
                  </a:lnTo>
                  <a:lnTo>
                    <a:pt x="886" y="104"/>
                  </a:lnTo>
                  <a:lnTo>
                    <a:pt x="890" y="113"/>
                  </a:lnTo>
                  <a:lnTo>
                    <a:pt x="892" y="118"/>
                  </a:lnTo>
                  <a:lnTo>
                    <a:pt x="895" y="102"/>
                  </a:lnTo>
                  <a:lnTo>
                    <a:pt x="898" y="110"/>
                  </a:lnTo>
                  <a:lnTo>
                    <a:pt x="901" y="120"/>
                  </a:lnTo>
                  <a:lnTo>
                    <a:pt x="904" y="105"/>
                  </a:lnTo>
                  <a:lnTo>
                    <a:pt x="907" y="114"/>
                  </a:lnTo>
                  <a:lnTo>
                    <a:pt x="910" y="110"/>
                  </a:lnTo>
                  <a:lnTo>
                    <a:pt x="913" y="108"/>
                  </a:lnTo>
                  <a:lnTo>
                    <a:pt x="916" y="119"/>
                  </a:lnTo>
                  <a:lnTo>
                    <a:pt x="918" y="112"/>
                  </a:lnTo>
                  <a:lnTo>
                    <a:pt x="922" y="112"/>
                  </a:lnTo>
                  <a:lnTo>
                    <a:pt x="925" y="114"/>
                  </a:lnTo>
                  <a:lnTo>
                    <a:pt x="928" y="124"/>
                  </a:lnTo>
                  <a:lnTo>
                    <a:pt x="931" y="127"/>
                  </a:lnTo>
                  <a:lnTo>
                    <a:pt x="933" y="122"/>
                  </a:lnTo>
                  <a:lnTo>
                    <a:pt x="937" y="127"/>
                  </a:lnTo>
                  <a:lnTo>
                    <a:pt x="940" y="129"/>
                  </a:lnTo>
                  <a:lnTo>
                    <a:pt x="943" y="114"/>
                  </a:lnTo>
                  <a:lnTo>
                    <a:pt x="946" y="128"/>
                  </a:lnTo>
                  <a:lnTo>
                    <a:pt x="948" y="128"/>
                  </a:lnTo>
                  <a:lnTo>
                    <a:pt x="952" y="121"/>
                  </a:lnTo>
                  <a:lnTo>
                    <a:pt x="954" y="126"/>
                  </a:lnTo>
                  <a:lnTo>
                    <a:pt x="957" y="127"/>
                  </a:lnTo>
                  <a:lnTo>
                    <a:pt x="961" y="120"/>
                  </a:lnTo>
                  <a:lnTo>
                    <a:pt x="963" y="116"/>
                  </a:lnTo>
                  <a:lnTo>
                    <a:pt x="967" y="129"/>
                  </a:lnTo>
                  <a:lnTo>
                    <a:pt x="969" y="125"/>
                  </a:lnTo>
                  <a:lnTo>
                    <a:pt x="972" y="121"/>
                  </a:lnTo>
                  <a:lnTo>
                    <a:pt x="976" y="113"/>
                  </a:lnTo>
                  <a:lnTo>
                    <a:pt x="978" y="112"/>
                  </a:lnTo>
                  <a:lnTo>
                    <a:pt x="982" y="131"/>
                  </a:lnTo>
                  <a:lnTo>
                    <a:pt x="984" y="131"/>
                  </a:lnTo>
                  <a:lnTo>
                    <a:pt x="987" y="114"/>
                  </a:lnTo>
                  <a:lnTo>
                    <a:pt x="990" y="132"/>
                  </a:lnTo>
                  <a:lnTo>
                    <a:pt x="993" y="127"/>
                  </a:lnTo>
                  <a:lnTo>
                    <a:pt x="997" y="128"/>
                  </a:lnTo>
                  <a:lnTo>
                    <a:pt x="999" y="126"/>
                  </a:lnTo>
                  <a:lnTo>
                    <a:pt x="1002" y="122"/>
                  </a:lnTo>
                  <a:lnTo>
                    <a:pt x="1005" y="128"/>
                  </a:lnTo>
                  <a:lnTo>
                    <a:pt x="1008" y="124"/>
                  </a:lnTo>
                  <a:lnTo>
                    <a:pt x="1012" y="121"/>
                  </a:lnTo>
                  <a:lnTo>
                    <a:pt x="1014" y="105"/>
                  </a:lnTo>
                  <a:lnTo>
                    <a:pt x="1017" y="120"/>
                  </a:lnTo>
                  <a:lnTo>
                    <a:pt x="1020" y="122"/>
                  </a:lnTo>
                  <a:lnTo>
                    <a:pt x="1023" y="116"/>
                  </a:lnTo>
                  <a:lnTo>
                    <a:pt x="1025" y="118"/>
                  </a:lnTo>
                  <a:lnTo>
                    <a:pt x="1029" y="111"/>
                  </a:lnTo>
                  <a:lnTo>
                    <a:pt x="1032" y="120"/>
                  </a:lnTo>
                  <a:lnTo>
                    <a:pt x="1035" y="124"/>
                  </a:lnTo>
                  <a:lnTo>
                    <a:pt x="1038" y="117"/>
                  </a:lnTo>
                  <a:lnTo>
                    <a:pt x="1040" y="133"/>
                  </a:lnTo>
                  <a:lnTo>
                    <a:pt x="1044" y="139"/>
                  </a:lnTo>
                  <a:lnTo>
                    <a:pt x="1046" y="119"/>
                  </a:lnTo>
                  <a:lnTo>
                    <a:pt x="1050" y="131"/>
                  </a:lnTo>
                  <a:lnTo>
                    <a:pt x="1053" y="126"/>
                  </a:lnTo>
                  <a:lnTo>
                    <a:pt x="1055" y="137"/>
                  </a:lnTo>
                  <a:lnTo>
                    <a:pt x="1059" y="144"/>
                  </a:lnTo>
                  <a:lnTo>
                    <a:pt x="1061" y="144"/>
                  </a:lnTo>
                  <a:lnTo>
                    <a:pt x="1065" y="147"/>
                  </a:lnTo>
                  <a:lnTo>
                    <a:pt x="1068" y="150"/>
                  </a:lnTo>
                  <a:lnTo>
                    <a:pt x="1070" y="139"/>
                  </a:lnTo>
                  <a:lnTo>
                    <a:pt x="1074" y="147"/>
                  </a:lnTo>
                  <a:lnTo>
                    <a:pt x="1076" y="149"/>
                  </a:lnTo>
                  <a:lnTo>
                    <a:pt x="1080" y="141"/>
                  </a:lnTo>
                  <a:lnTo>
                    <a:pt x="1082" y="149"/>
                  </a:lnTo>
                  <a:lnTo>
                    <a:pt x="1085" y="147"/>
                  </a:lnTo>
                  <a:lnTo>
                    <a:pt x="1089" y="141"/>
                  </a:lnTo>
                  <a:lnTo>
                    <a:pt x="1091" y="136"/>
                  </a:lnTo>
                  <a:lnTo>
                    <a:pt x="1095" y="133"/>
                  </a:lnTo>
                  <a:lnTo>
                    <a:pt x="1097" y="128"/>
                  </a:lnTo>
                  <a:lnTo>
                    <a:pt x="1100" y="128"/>
                  </a:lnTo>
                  <a:lnTo>
                    <a:pt x="1104" y="137"/>
                  </a:lnTo>
                  <a:lnTo>
                    <a:pt x="1106" y="126"/>
                  </a:lnTo>
                  <a:lnTo>
                    <a:pt x="1110" y="137"/>
                  </a:lnTo>
                  <a:lnTo>
                    <a:pt x="1112" y="129"/>
                  </a:lnTo>
                  <a:lnTo>
                    <a:pt x="1115" y="129"/>
                  </a:lnTo>
                  <a:lnTo>
                    <a:pt x="1118" y="143"/>
                  </a:lnTo>
                  <a:lnTo>
                    <a:pt x="1121" y="124"/>
                  </a:lnTo>
                  <a:lnTo>
                    <a:pt x="1125" y="120"/>
                  </a:lnTo>
                  <a:lnTo>
                    <a:pt x="1127" y="132"/>
                  </a:lnTo>
                  <a:lnTo>
                    <a:pt x="1130" y="135"/>
                  </a:lnTo>
                  <a:lnTo>
                    <a:pt x="1133" y="139"/>
                  </a:lnTo>
                  <a:lnTo>
                    <a:pt x="1136" y="129"/>
                  </a:lnTo>
                  <a:lnTo>
                    <a:pt x="1140" y="142"/>
                  </a:lnTo>
                  <a:lnTo>
                    <a:pt x="1142" y="149"/>
                  </a:lnTo>
                  <a:lnTo>
                    <a:pt x="1145" y="141"/>
                  </a:lnTo>
                  <a:lnTo>
                    <a:pt x="1148" y="139"/>
                  </a:lnTo>
                  <a:lnTo>
                    <a:pt x="1151" y="142"/>
                  </a:lnTo>
                  <a:lnTo>
                    <a:pt x="1153" y="139"/>
                  </a:lnTo>
                  <a:lnTo>
                    <a:pt x="1157" y="149"/>
                  </a:lnTo>
                  <a:lnTo>
                    <a:pt x="1160" y="146"/>
                  </a:lnTo>
                  <a:lnTo>
                    <a:pt x="1163" y="149"/>
                  </a:lnTo>
                  <a:lnTo>
                    <a:pt x="1166" y="144"/>
                  </a:lnTo>
                  <a:lnTo>
                    <a:pt x="1168" y="146"/>
                  </a:lnTo>
                  <a:lnTo>
                    <a:pt x="1172" y="149"/>
                  </a:lnTo>
                  <a:lnTo>
                    <a:pt x="1175" y="133"/>
                  </a:lnTo>
                  <a:lnTo>
                    <a:pt x="1178" y="133"/>
                  </a:lnTo>
                  <a:lnTo>
                    <a:pt x="1181" y="137"/>
                  </a:lnTo>
                  <a:lnTo>
                    <a:pt x="1183" y="136"/>
                  </a:lnTo>
                  <a:lnTo>
                    <a:pt x="1187" y="137"/>
                  </a:lnTo>
                  <a:lnTo>
                    <a:pt x="1189" y="141"/>
                  </a:lnTo>
                  <a:lnTo>
                    <a:pt x="1193" y="141"/>
                  </a:lnTo>
                  <a:lnTo>
                    <a:pt x="1196" y="131"/>
                  </a:lnTo>
                  <a:lnTo>
                    <a:pt x="1198" y="139"/>
                  </a:lnTo>
                  <a:lnTo>
                    <a:pt x="1202" y="137"/>
                  </a:lnTo>
                  <a:lnTo>
                    <a:pt x="1204" y="146"/>
                  </a:lnTo>
                  <a:lnTo>
                    <a:pt x="1207" y="141"/>
                  </a:lnTo>
                  <a:lnTo>
                    <a:pt x="1211" y="147"/>
                  </a:lnTo>
                  <a:lnTo>
                    <a:pt x="1213" y="140"/>
                  </a:lnTo>
                  <a:lnTo>
                    <a:pt x="1217" y="140"/>
                  </a:lnTo>
                  <a:lnTo>
                    <a:pt x="1219" y="140"/>
                  </a:lnTo>
                  <a:lnTo>
                    <a:pt x="1222" y="139"/>
                  </a:lnTo>
                  <a:lnTo>
                    <a:pt x="1225" y="144"/>
                  </a:lnTo>
                  <a:lnTo>
                    <a:pt x="1228" y="146"/>
                  </a:lnTo>
                  <a:lnTo>
                    <a:pt x="1232" y="148"/>
                  </a:lnTo>
                  <a:lnTo>
                    <a:pt x="1234" y="139"/>
                  </a:lnTo>
                  <a:lnTo>
                    <a:pt x="1237" y="147"/>
                  </a:lnTo>
                  <a:lnTo>
                    <a:pt x="1240" y="139"/>
                  </a:lnTo>
                  <a:lnTo>
                    <a:pt x="1243" y="144"/>
                  </a:lnTo>
                  <a:lnTo>
                    <a:pt x="1247" y="155"/>
                  </a:lnTo>
                  <a:lnTo>
                    <a:pt x="1249" y="154"/>
                  </a:lnTo>
                  <a:lnTo>
                    <a:pt x="1252" y="151"/>
                  </a:lnTo>
                  <a:lnTo>
                    <a:pt x="1255" y="146"/>
                  </a:lnTo>
                  <a:lnTo>
                    <a:pt x="1258" y="152"/>
                  </a:lnTo>
                  <a:lnTo>
                    <a:pt x="1260" y="155"/>
                  </a:lnTo>
                  <a:lnTo>
                    <a:pt x="1264" y="155"/>
                  </a:lnTo>
                  <a:lnTo>
                    <a:pt x="1267" y="146"/>
                  </a:lnTo>
                  <a:lnTo>
                    <a:pt x="1270" y="151"/>
                  </a:lnTo>
                  <a:lnTo>
                    <a:pt x="1273" y="134"/>
                  </a:lnTo>
                  <a:lnTo>
                    <a:pt x="1275" y="141"/>
                  </a:lnTo>
                  <a:lnTo>
                    <a:pt x="1279" y="149"/>
                  </a:lnTo>
                  <a:lnTo>
                    <a:pt x="1281" y="152"/>
                  </a:lnTo>
                  <a:lnTo>
                    <a:pt x="1285" y="152"/>
                  </a:lnTo>
                  <a:lnTo>
                    <a:pt x="1288" y="154"/>
                  </a:lnTo>
                  <a:lnTo>
                    <a:pt x="1290" y="150"/>
                  </a:lnTo>
                  <a:lnTo>
                    <a:pt x="1294" y="155"/>
                  </a:lnTo>
                  <a:lnTo>
                    <a:pt x="1296" y="150"/>
                  </a:lnTo>
                  <a:lnTo>
                    <a:pt x="1300" y="146"/>
                  </a:lnTo>
                  <a:lnTo>
                    <a:pt x="1303" y="154"/>
                  </a:lnTo>
                  <a:lnTo>
                    <a:pt x="1305" y="155"/>
                  </a:lnTo>
                  <a:lnTo>
                    <a:pt x="1309" y="159"/>
                  </a:lnTo>
                  <a:lnTo>
                    <a:pt x="1311" y="159"/>
                  </a:lnTo>
                  <a:lnTo>
                    <a:pt x="1315" y="150"/>
                  </a:lnTo>
                  <a:lnTo>
                    <a:pt x="1317" y="154"/>
                  </a:lnTo>
                  <a:lnTo>
                    <a:pt x="1320" y="155"/>
                  </a:lnTo>
                  <a:lnTo>
                    <a:pt x="1324" y="152"/>
                  </a:lnTo>
                  <a:lnTo>
                    <a:pt x="1326" y="156"/>
                  </a:lnTo>
                  <a:lnTo>
                    <a:pt x="1330" y="167"/>
                  </a:lnTo>
                  <a:lnTo>
                    <a:pt x="1332" y="155"/>
                  </a:lnTo>
                  <a:lnTo>
                    <a:pt x="1335" y="170"/>
                  </a:lnTo>
                  <a:lnTo>
                    <a:pt x="1339" y="166"/>
                  </a:lnTo>
                  <a:lnTo>
                    <a:pt x="1341" y="164"/>
                  </a:lnTo>
                  <a:lnTo>
                    <a:pt x="1345" y="161"/>
                  </a:lnTo>
                  <a:lnTo>
                    <a:pt x="1347" y="149"/>
                  </a:lnTo>
                  <a:lnTo>
                    <a:pt x="1350" y="146"/>
                  </a:lnTo>
                  <a:lnTo>
                    <a:pt x="1353" y="151"/>
                  </a:lnTo>
                  <a:lnTo>
                    <a:pt x="1356" y="149"/>
                  </a:lnTo>
                  <a:lnTo>
                    <a:pt x="1360" y="135"/>
                  </a:lnTo>
                  <a:lnTo>
                    <a:pt x="1362" y="146"/>
                  </a:lnTo>
                  <a:lnTo>
                    <a:pt x="1365" y="151"/>
                  </a:lnTo>
                  <a:lnTo>
                    <a:pt x="1368" y="144"/>
                  </a:lnTo>
                  <a:lnTo>
                    <a:pt x="1371" y="146"/>
                  </a:lnTo>
                  <a:lnTo>
                    <a:pt x="1375" y="144"/>
                  </a:lnTo>
                  <a:lnTo>
                    <a:pt x="1377" y="150"/>
                  </a:lnTo>
                  <a:lnTo>
                    <a:pt x="1380" y="150"/>
                  </a:lnTo>
                  <a:lnTo>
                    <a:pt x="1383" y="143"/>
                  </a:lnTo>
                  <a:lnTo>
                    <a:pt x="1386" y="137"/>
                  </a:lnTo>
                  <a:lnTo>
                    <a:pt x="1388" y="129"/>
                  </a:lnTo>
                  <a:lnTo>
                    <a:pt x="1392" y="137"/>
                  </a:lnTo>
                  <a:lnTo>
                    <a:pt x="1395" y="139"/>
                  </a:lnTo>
                  <a:lnTo>
                    <a:pt x="1398" y="136"/>
                  </a:lnTo>
                  <a:lnTo>
                    <a:pt x="1401" y="141"/>
                  </a:lnTo>
                  <a:lnTo>
                    <a:pt x="1403" y="139"/>
                  </a:lnTo>
                  <a:lnTo>
                    <a:pt x="1407" y="125"/>
                  </a:lnTo>
                  <a:lnTo>
                    <a:pt x="1410" y="131"/>
                  </a:lnTo>
                  <a:lnTo>
                    <a:pt x="1413" y="117"/>
                  </a:lnTo>
                  <a:lnTo>
                    <a:pt x="1416" y="127"/>
                  </a:lnTo>
                  <a:lnTo>
                    <a:pt x="1418" y="126"/>
                  </a:lnTo>
                  <a:lnTo>
                    <a:pt x="1422" y="134"/>
                  </a:lnTo>
                  <a:lnTo>
                    <a:pt x="1424" y="131"/>
                  </a:lnTo>
                  <a:lnTo>
                    <a:pt x="1428" y="137"/>
                  </a:lnTo>
                  <a:lnTo>
                    <a:pt x="1431" y="135"/>
                  </a:lnTo>
                  <a:lnTo>
                    <a:pt x="1433" y="133"/>
                  </a:lnTo>
                  <a:lnTo>
                    <a:pt x="1437" y="131"/>
                  </a:lnTo>
                  <a:lnTo>
                    <a:pt x="1439" y="131"/>
                  </a:lnTo>
                  <a:lnTo>
                    <a:pt x="1443" y="144"/>
                  </a:lnTo>
                  <a:lnTo>
                    <a:pt x="1446" y="137"/>
                  </a:lnTo>
                  <a:lnTo>
                    <a:pt x="1448" y="139"/>
                  </a:lnTo>
                  <a:lnTo>
                    <a:pt x="1452" y="133"/>
                  </a:lnTo>
                  <a:lnTo>
                    <a:pt x="1454" y="142"/>
                  </a:lnTo>
                  <a:lnTo>
                    <a:pt x="1457" y="149"/>
                  </a:lnTo>
                  <a:lnTo>
                    <a:pt x="1460" y="150"/>
                  </a:lnTo>
                  <a:lnTo>
                    <a:pt x="1463" y="135"/>
                  </a:lnTo>
                  <a:lnTo>
                    <a:pt x="1467" y="141"/>
                  </a:lnTo>
                  <a:lnTo>
                    <a:pt x="1469" y="147"/>
                  </a:lnTo>
                  <a:lnTo>
                    <a:pt x="1472" y="131"/>
                  </a:lnTo>
                  <a:lnTo>
                    <a:pt x="1475" y="146"/>
                  </a:lnTo>
                  <a:lnTo>
                    <a:pt x="1478" y="128"/>
                  </a:lnTo>
                  <a:lnTo>
                    <a:pt x="1482" y="144"/>
                  </a:lnTo>
                  <a:lnTo>
                    <a:pt x="1484" y="147"/>
                  </a:lnTo>
                  <a:lnTo>
                    <a:pt x="1487" y="141"/>
                  </a:lnTo>
                  <a:lnTo>
                    <a:pt x="1490" y="139"/>
                  </a:lnTo>
                  <a:lnTo>
                    <a:pt x="1493" y="152"/>
                  </a:lnTo>
                  <a:lnTo>
                    <a:pt x="1495" y="149"/>
                  </a:lnTo>
                  <a:lnTo>
                    <a:pt x="1499" y="133"/>
                  </a:lnTo>
                  <a:lnTo>
                    <a:pt x="1502" y="141"/>
                  </a:lnTo>
                  <a:lnTo>
                    <a:pt x="1505" y="143"/>
                  </a:lnTo>
                  <a:lnTo>
                    <a:pt x="1508" y="147"/>
                  </a:lnTo>
                  <a:lnTo>
                    <a:pt x="1510" y="142"/>
                  </a:lnTo>
                  <a:lnTo>
                    <a:pt x="1514" y="128"/>
                  </a:lnTo>
                  <a:lnTo>
                    <a:pt x="1516" y="144"/>
                  </a:lnTo>
                  <a:lnTo>
                    <a:pt x="1520" y="137"/>
                  </a:lnTo>
                  <a:lnTo>
                    <a:pt x="1523" y="154"/>
                  </a:lnTo>
                  <a:lnTo>
                    <a:pt x="1525" y="147"/>
                  </a:lnTo>
                  <a:lnTo>
                    <a:pt x="1529" y="137"/>
                  </a:lnTo>
                  <a:lnTo>
                    <a:pt x="1531" y="146"/>
                  </a:lnTo>
                  <a:lnTo>
                    <a:pt x="1535" y="151"/>
                  </a:lnTo>
                  <a:lnTo>
                    <a:pt x="1538" y="144"/>
                  </a:lnTo>
                  <a:lnTo>
                    <a:pt x="1540" y="134"/>
                  </a:lnTo>
                  <a:lnTo>
                    <a:pt x="1544" y="142"/>
                  </a:lnTo>
                  <a:lnTo>
                    <a:pt x="1546" y="133"/>
                  </a:lnTo>
                  <a:lnTo>
                    <a:pt x="1550" y="132"/>
                  </a:lnTo>
                  <a:lnTo>
                    <a:pt x="1552" y="124"/>
                  </a:lnTo>
                  <a:lnTo>
                    <a:pt x="1555" y="122"/>
                  </a:lnTo>
                  <a:lnTo>
                    <a:pt x="1559" y="124"/>
                  </a:lnTo>
                  <a:lnTo>
                    <a:pt x="1561" y="135"/>
                  </a:lnTo>
                  <a:lnTo>
                    <a:pt x="1565" y="134"/>
                  </a:lnTo>
                  <a:lnTo>
                    <a:pt x="1567" y="139"/>
                  </a:lnTo>
                  <a:lnTo>
                    <a:pt x="1570" y="144"/>
                  </a:lnTo>
                  <a:lnTo>
                    <a:pt x="1574" y="134"/>
                  </a:lnTo>
                  <a:lnTo>
                    <a:pt x="1576" y="133"/>
                  </a:lnTo>
                  <a:lnTo>
                    <a:pt x="1580" y="136"/>
                  </a:lnTo>
                  <a:lnTo>
                    <a:pt x="1582" y="140"/>
                  </a:lnTo>
                  <a:lnTo>
                    <a:pt x="1585" y="127"/>
                  </a:lnTo>
                  <a:lnTo>
                    <a:pt x="1588" y="135"/>
                  </a:lnTo>
                  <a:lnTo>
                    <a:pt x="1591" y="117"/>
                  </a:lnTo>
                  <a:lnTo>
                    <a:pt x="1595" y="126"/>
                  </a:lnTo>
                  <a:lnTo>
                    <a:pt x="1597" y="126"/>
                  </a:lnTo>
                  <a:lnTo>
                    <a:pt x="1600" y="122"/>
                  </a:lnTo>
                  <a:lnTo>
                    <a:pt x="1603" y="121"/>
                  </a:lnTo>
                  <a:lnTo>
                    <a:pt x="1606" y="129"/>
                  </a:lnTo>
                  <a:lnTo>
                    <a:pt x="1610" y="132"/>
                  </a:lnTo>
                  <a:lnTo>
                    <a:pt x="1612" y="139"/>
                  </a:lnTo>
                  <a:lnTo>
                    <a:pt x="1615" y="134"/>
                  </a:lnTo>
                  <a:lnTo>
                    <a:pt x="1618" y="129"/>
                  </a:lnTo>
                  <a:lnTo>
                    <a:pt x="1621" y="128"/>
                  </a:lnTo>
                  <a:lnTo>
                    <a:pt x="1623" y="135"/>
                  </a:lnTo>
                  <a:lnTo>
                    <a:pt x="1627" y="134"/>
                  </a:lnTo>
                  <a:lnTo>
                    <a:pt x="1630" y="120"/>
                  </a:lnTo>
                  <a:lnTo>
                    <a:pt x="1633" y="120"/>
                  </a:lnTo>
                  <a:lnTo>
                    <a:pt x="1636" y="134"/>
                  </a:lnTo>
                  <a:lnTo>
                    <a:pt x="1638" y="127"/>
                  </a:lnTo>
                  <a:lnTo>
                    <a:pt x="1642" y="121"/>
                  </a:lnTo>
                  <a:lnTo>
                    <a:pt x="1645" y="128"/>
                  </a:lnTo>
                  <a:lnTo>
                    <a:pt x="1648" y="121"/>
                  </a:lnTo>
                  <a:lnTo>
                    <a:pt x="1651" y="126"/>
                  </a:lnTo>
                  <a:lnTo>
                    <a:pt x="1653" y="113"/>
                  </a:lnTo>
                  <a:lnTo>
                    <a:pt x="1657" y="133"/>
                  </a:lnTo>
                  <a:lnTo>
                    <a:pt x="1659" y="124"/>
                  </a:lnTo>
                  <a:lnTo>
                    <a:pt x="1663" y="121"/>
                  </a:lnTo>
                  <a:lnTo>
                    <a:pt x="1666" y="128"/>
                  </a:lnTo>
                  <a:lnTo>
                    <a:pt x="1668" y="126"/>
                  </a:lnTo>
                  <a:lnTo>
                    <a:pt x="1672" y="114"/>
                  </a:lnTo>
                  <a:lnTo>
                    <a:pt x="1674" y="90"/>
                  </a:lnTo>
                  <a:lnTo>
                    <a:pt x="1678" y="129"/>
                  </a:lnTo>
                  <a:lnTo>
                    <a:pt x="1681" y="127"/>
                  </a:lnTo>
                  <a:lnTo>
                    <a:pt x="1683" y="120"/>
                  </a:lnTo>
                  <a:lnTo>
                    <a:pt x="1687" y="121"/>
                  </a:lnTo>
                  <a:lnTo>
                    <a:pt x="1689" y="133"/>
                  </a:lnTo>
                  <a:lnTo>
                    <a:pt x="1692" y="136"/>
                  </a:lnTo>
                  <a:lnTo>
                    <a:pt x="1695" y="116"/>
                  </a:lnTo>
                  <a:lnTo>
                    <a:pt x="1698" y="135"/>
                  </a:lnTo>
                  <a:lnTo>
                    <a:pt x="1702" y="125"/>
                  </a:lnTo>
                  <a:lnTo>
                    <a:pt x="1704" y="128"/>
                  </a:lnTo>
                  <a:lnTo>
                    <a:pt x="1707" y="131"/>
                  </a:lnTo>
                  <a:lnTo>
                    <a:pt x="1710" y="135"/>
                  </a:lnTo>
                  <a:lnTo>
                    <a:pt x="1713" y="117"/>
                  </a:lnTo>
                  <a:lnTo>
                    <a:pt x="1716" y="141"/>
                  </a:lnTo>
                  <a:lnTo>
                    <a:pt x="1719" y="142"/>
                  </a:lnTo>
                  <a:lnTo>
                    <a:pt x="1722" y="142"/>
                  </a:lnTo>
                  <a:lnTo>
                    <a:pt x="1725" y="139"/>
                  </a:lnTo>
                  <a:lnTo>
                    <a:pt x="1728" y="121"/>
                  </a:lnTo>
                  <a:lnTo>
                    <a:pt x="1731" y="133"/>
                  </a:lnTo>
                  <a:lnTo>
                    <a:pt x="1734" y="127"/>
                  </a:lnTo>
                  <a:lnTo>
                    <a:pt x="1737" y="129"/>
                  </a:lnTo>
                  <a:lnTo>
                    <a:pt x="1740" y="133"/>
                  </a:lnTo>
                  <a:lnTo>
                    <a:pt x="1743" y="140"/>
                  </a:lnTo>
                  <a:lnTo>
                    <a:pt x="1745" y="124"/>
                  </a:lnTo>
                  <a:lnTo>
                    <a:pt x="1749" y="141"/>
                  </a:lnTo>
                  <a:lnTo>
                    <a:pt x="1751" y="137"/>
                  </a:lnTo>
                  <a:lnTo>
                    <a:pt x="1755" y="146"/>
                  </a:lnTo>
                  <a:lnTo>
                    <a:pt x="1758" y="146"/>
                  </a:lnTo>
                  <a:lnTo>
                    <a:pt x="1760" y="141"/>
                  </a:lnTo>
                  <a:lnTo>
                    <a:pt x="1764" y="147"/>
                  </a:lnTo>
                  <a:lnTo>
                    <a:pt x="1766" y="135"/>
                  </a:lnTo>
                  <a:lnTo>
                    <a:pt x="1770" y="151"/>
                  </a:lnTo>
                  <a:lnTo>
                    <a:pt x="1773" y="150"/>
                  </a:lnTo>
                  <a:lnTo>
                    <a:pt x="1775" y="155"/>
                  </a:lnTo>
                  <a:lnTo>
                    <a:pt x="1779" y="156"/>
                  </a:lnTo>
                  <a:lnTo>
                    <a:pt x="1781" y="137"/>
                  </a:lnTo>
                  <a:lnTo>
                    <a:pt x="1785" y="139"/>
                  </a:lnTo>
                  <a:lnTo>
                    <a:pt x="1787" y="136"/>
                  </a:lnTo>
                  <a:lnTo>
                    <a:pt x="1790" y="132"/>
                  </a:lnTo>
                  <a:lnTo>
                    <a:pt x="1794" y="135"/>
                  </a:lnTo>
                  <a:lnTo>
                    <a:pt x="1796" y="121"/>
                  </a:lnTo>
                  <a:lnTo>
                    <a:pt x="1800" y="126"/>
                  </a:lnTo>
                  <a:lnTo>
                    <a:pt x="1802" y="129"/>
                  </a:lnTo>
                  <a:lnTo>
                    <a:pt x="1805" y="141"/>
                  </a:lnTo>
                  <a:lnTo>
                    <a:pt x="1809" y="141"/>
                  </a:lnTo>
                  <a:lnTo>
                    <a:pt x="1811" y="140"/>
                  </a:lnTo>
                  <a:lnTo>
                    <a:pt x="1815" y="134"/>
                  </a:lnTo>
                  <a:lnTo>
                    <a:pt x="1817" y="129"/>
                  </a:lnTo>
                  <a:lnTo>
                    <a:pt x="1820" y="135"/>
                  </a:lnTo>
                  <a:lnTo>
                    <a:pt x="1823" y="128"/>
                  </a:lnTo>
                  <a:lnTo>
                    <a:pt x="1826" y="127"/>
                  </a:lnTo>
                  <a:lnTo>
                    <a:pt x="1830" y="120"/>
                  </a:lnTo>
                  <a:lnTo>
                    <a:pt x="1832" y="122"/>
                  </a:lnTo>
                  <a:lnTo>
                    <a:pt x="1835" y="127"/>
                  </a:lnTo>
                  <a:lnTo>
                    <a:pt x="1838" y="137"/>
                  </a:lnTo>
                  <a:lnTo>
                    <a:pt x="1841" y="144"/>
                  </a:lnTo>
                  <a:lnTo>
                    <a:pt x="1845" y="135"/>
                  </a:lnTo>
                  <a:lnTo>
                    <a:pt x="1847" y="126"/>
                  </a:lnTo>
                  <a:lnTo>
                    <a:pt x="1850" y="139"/>
                  </a:lnTo>
                  <a:lnTo>
                    <a:pt x="1853" y="135"/>
                  </a:lnTo>
                  <a:lnTo>
                    <a:pt x="1856" y="137"/>
                  </a:lnTo>
                  <a:lnTo>
                    <a:pt x="1858" y="139"/>
                  </a:lnTo>
                  <a:lnTo>
                    <a:pt x="1862" y="133"/>
                  </a:lnTo>
                  <a:lnTo>
                    <a:pt x="1865" y="126"/>
                  </a:lnTo>
                  <a:lnTo>
                    <a:pt x="1868" y="148"/>
                  </a:lnTo>
                  <a:lnTo>
                    <a:pt x="1871" y="132"/>
                  </a:lnTo>
                  <a:lnTo>
                    <a:pt x="1873" y="140"/>
                  </a:lnTo>
                  <a:lnTo>
                    <a:pt x="1877" y="141"/>
                  </a:lnTo>
                  <a:lnTo>
                    <a:pt x="1880" y="146"/>
                  </a:lnTo>
                  <a:lnTo>
                    <a:pt x="1883" y="140"/>
                  </a:lnTo>
                  <a:lnTo>
                    <a:pt x="1886" y="144"/>
                  </a:lnTo>
                  <a:lnTo>
                    <a:pt x="1888" y="139"/>
                  </a:lnTo>
                  <a:lnTo>
                    <a:pt x="1892" y="146"/>
                  </a:lnTo>
                  <a:lnTo>
                    <a:pt x="1894" y="155"/>
                  </a:lnTo>
                  <a:lnTo>
                    <a:pt x="1898" y="154"/>
                  </a:lnTo>
                  <a:lnTo>
                    <a:pt x="1901" y="156"/>
                  </a:lnTo>
                  <a:lnTo>
                    <a:pt x="1903" y="149"/>
                  </a:lnTo>
                  <a:lnTo>
                    <a:pt x="1907" y="131"/>
                  </a:lnTo>
                  <a:lnTo>
                    <a:pt x="1909" y="158"/>
                  </a:lnTo>
                  <a:lnTo>
                    <a:pt x="1913" y="144"/>
                  </a:lnTo>
                  <a:lnTo>
                    <a:pt x="1916" y="157"/>
                  </a:lnTo>
                  <a:lnTo>
                    <a:pt x="1918" y="136"/>
                  </a:lnTo>
                  <a:lnTo>
                    <a:pt x="1922" y="151"/>
                  </a:lnTo>
                  <a:lnTo>
                    <a:pt x="1924" y="152"/>
                  </a:lnTo>
                  <a:lnTo>
                    <a:pt x="1928" y="154"/>
                  </a:lnTo>
                  <a:lnTo>
                    <a:pt x="1930" y="158"/>
                  </a:lnTo>
                  <a:lnTo>
                    <a:pt x="1933" y="156"/>
                  </a:lnTo>
                  <a:lnTo>
                    <a:pt x="1937" y="157"/>
                  </a:lnTo>
                  <a:lnTo>
                    <a:pt x="1939" y="154"/>
                  </a:lnTo>
                  <a:lnTo>
                    <a:pt x="1942" y="161"/>
                  </a:lnTo>
                  <a:lnTo>
                    <a:pt x="1945" y="158"/>
                  </a:lnTo>
                  <a:lnTo>
                    <a:pt x="1948" y="155"/>
                  </a:lnTo>
                  <a:lnTo>
                    <a:pt x="1951" y="150"/>
                  </a:lnTo>
                  <a:lnTo>
                    <a:pt x="1954" y="144"/>
                  </a:lnTo>
                  <a:lnTo>
                    <a:pt x="1957" y="158"/>
                  </a:lnTo>
                  <a:lnTo>
                    <a:pt x="1960" y="154"/>
                  </a:lnTo>
                  <a:lnTo>
                    <a:pt x="1963" y="151"/>
                  </a:lnTo>
                  <a:lnTo>
                    <a:pt x="1966" y="156"/>
                  </a:lnTo>
                  <a:lnTo>
                    <a:pt x="1969" y="154"/>
                  </a:lnTo>
                  <a:lnTo>
                    <a:pt x="1972" y="148"/>
                  </a:lnTo>
                  <a:lnTo>
                    <a:pt x="1975" y="164"/>
                  </a:lnTo>
                  <a:lnTo>
                    <a:pt x="1978" y="164"/>
                  </a:lnTo>
                  <a:lnTo>
                    <a:pt x="1981" y="150"/>
                  </a:lnTo>
                  <a:lnTo>
                    <a:pt x="1984" y="141"/>
                  </a:lnTo>
                  <a:lnTo>
                    <a:pt x="1986" y="155"/>
                  </a:lnTo>
                  <a:lnTo>
                    <a:pt x="1990" y="141"/>
                  </a:lnTo>
                  <a:lnTo>
                    <a:pt x="1993" y="147"/>
                  </a:lnTo>
                  <a:lnTo>
                    <a:pt x="1995" y="154"/>
                  </a:lnTo>
                  <a:lnTo>
                    <a:pt x="1999" y="143"/>
                  </a:lnTo>
                  <a:lnTo>
                    <a:pt x="2001" y="149"/>
                  </a:lnTo>
                  <a:lnTo>
                    <a:pt x="2005" y="154"/>
                  </a:lnTo>
                  <a:lnTo>
                    <a:pt x="2008" y="141"/>
                  </a:lnTo>
                  <a:lnTo>
                    <a:pt x="2010" y="147"/>
                  </a:lnTo>
                  <a:lnTo>
                    <a:pt x="2014" y="152"/>
                  </a:lnTo>
                  <a:lnTo>
                    <a:pt x="2016" y="149"/>
                  </a:lnTo>
                  <a:lnTo>
                    <a:pt x="2020" y="170"/>
                  </a:lnTo>
                  <a:lnTo>
                    <a:pt x="2022" y="154"/>
                  </a:lnTo>
                  <a:lnTo>
                    <a:pt x="2025" y="151"/>
                  </a:lnTo>
                  <a:lnTo>
                    <a:pt x="2029" y="156"/>
                  </a:lnTo>
                  <a:lnTo>
                    <a:pt x="2031" y="159"/>
                  </a:lnTo>
                  <a:lnTo>
                    <a:pt x="2035" y="162"/>
                  </a:lnTo>
                  <a:lnTo>
                    <a:pt x="2037" y="158"/>
                  </a:lnTo>
                  <a:lnTo>
                    <a:pt x="2040" y="164"/>
                  </a:lnTo>
                  <a:lnTo>
                    <a:pt x="2044" y="156"/>
                  </a:lnTo>
                  <a:lnTo>
                    <a:pt x="2046" y="135"/>
                  </a:lnTo>
                  <a:lnTo>
                    <a:pt x="2050" y="164"/>
                  </a:lnTo>
                  <a:lnTo>
                    <a:pt x="2052" y="171"/>
                  </a:lnTo>
                  <a:lnTo>
                    <a:pt x="2055" y="163"/>
                  </a:lnTo>
                  <a:lnTo>
                    <a:pt x="2058" y="156"/>
                  </a:lnTo>
                  <a:lnTo>
                    <a:pt x="2061" y="157"/>
                  </a:lnTo>
                  <a:lnTo>
                    <a:pt x="2065" y="167"/>
                  </a:lnTo>
                  <a:lnTo>
                    <a:pt x="2067" y="158"/>
                  </a:lnTo>
                  <a:lnTo>
                    <a:pt x="2070" y="167"/>
                  </a:lnTo>
                  <a:lnTo>
                    <a:pt x="2073" y="164"/>
                  </a:lnTo>
                  <a:lnTo>
                    <a:pt x="2076" y="170"/>
                  </a:lnTo>
                  <a:lnTo>
                    <a:pt x="2080" y="171"/>
                  </a:lnTo>
                </a:path>
              </a:pathLst>
            </a:custGeom>
            <a:noFill/>
            <a:ln w="3240">
              <a:solidFill>
                <a:srgbClr val="00006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2" name=""/>
            <p:cNvSpPr/>
            <p:nvPr/>
          </p:nvSpPr>
          <p:spPr>
            <a:xfrm>
              <a:off x="4970520" y="3422520"/>
              <a:ext cx="631800" cy="69480"/>
            </a:xfrm>
            <a:custGeom>
              <a:avLst/>
              <a:gdLst/>
              <a:ahLst/>
              <a:rect l="l" t="t" r="r" b="b"/>
              <a:pathLst>
                <a:path w="1195" h="130">
                  <a:moveTo>
                    <a:pt x="0" y="35"/>
                  </a:moveTo>
                  <a:lnTo>
                    <a:pt x="2" y="26"/>
                  </a:lnTo>
                  <a:lnTo>
                    <a:pt x="5" y="30"/>
                  </a:lnTo>
                  <a:lnTo>
                    <a:pt x="8" y="30"/>
                  </a:lnTo>
                  <a:lnTo>
                    <a:pt x="11" y="29"/>
                  </a:lnTo>
                  <a:lnTo>
                    <a:pt x="13" y="27"/>
                  </a:lnTo>
                  <a:lnTo>
                    <a:pt x="17" y="15"/>
                  </a:lnTo>
                  <a:lnTo>
                    <a:pt x="20" y="14"/>
                  </a:lnTo>
                  <a:lnTo>
                    <a:pt x="23" y="34"/>
                  </a:lnTo>
                  <a:lnTo>
                    <a:pt x="26" y="26"/>
                  </a:lnTo>
                  <a:lnTo>
                    <a:pt x="28" y="34"/>
                  </a:lnTo>
                  <a:lnTo>
                    <a:pt x="32" y="29"/>
                  </a:lnTo>
                  <a:lnTo>
                    <a:pt x="35" y="23"/>
                  </a:lnTo>
                  <a:lnTo>
                    <a:pt x="38" y="26"/>
                  </a:lnTo>
                  <a:lnTo>
                    <a:pt x="41" y="33"/>
                  </a:lnTo>
                  <a:lnTo>
                    <a:pt x="43" y="37"/>
                  </a:lnTo>
                  <a:lnTo>
                    <a:pt x="47" y="39"/>
                  </a:lnTo>
                  <a:lnTo>
                    <a:pt x="49" y="37"/>
                  </a:lnTo>
                  <a:lnTo>
                    <a:pt x="53" y="33"/>
                  </a:lnTo>
                  <a:lnTo>
                    <a:pt x="56" y="33"/>
                  </a:lnTo>
                  <a:lnTo>
                    <a:pt x="58" y="27"/>
                  </a:lnTo>
                  <a:lnTo>
                    <a:pt x="62" y="19"/>
                  </a:lnTo>
                  <a:lnTo>
                    <a:pt x="64" y="27"/>
                  </a:lnTo>
                  <a:lnTo>
                    <a:pt x="68" y="30"/>
                  </a:lnTo>
                  <a:lnTo>
                    <a:pt x="71" y="19"/>
                  </a:lnTo>
                  <a:lnTo>
                    <a:pt x="73" y="25"/>
                  </a:lnTo>
                  <a:lnTo>
                    <a:pt x="77" y="6"/>
                  </a:lnTo>
                  <a:lnTo>
                    <a:pt x="79" y="39"/>
                  </a:lnTo>
                  <a:lnTo>
                    <a:pt x="83" y="34"/>
                  </a:lnTo>
                  <a:lnTo>
                    <a:pt x="85" y="34"/>
                  </a:lnTo>
                  <a:lnTo>
                    <a:pt x="88" y="36"/>
                  </a:lnTo>
                  <a:lnTo>
                    <a:pt x="92" y="36"/>
                  </a:lnTo>
                  <a:lnTo>
                    <a:pt x="94" y="31"/>
                  </a:lnTo>
                  <a:lnTo>
                    <a:pt x="98" y="30"/>
                  </a:lnTo>
                  <a:lnTo>
                    <a:pt x="100" y="18"/>
                  </a:lnTo>
                  <a:lnTo>
                    <a:pt x="103" y="27"/>
                  </a:lnTo>
                  <a:lnTo>
                    <a:pt x="106" y="14"/>
                  </a:lnTo>
                  <a:lnTo>
                    <a:pt x="109" y="19"/>
                  </a:lnTo>
                  <a:lnTo>
                    <a:pt x="112" y="15"/>
                  </a:lnTo>
                  <a:lnTo>
                    <a:pt x="115" y="23"/>
                  </a:lnTo>
                  <a:lnTo>
                    <a:pt x="118" y="7"/>
                  </a:lnTo>
                  <a:lnTo>
                    <a:pt x="121" y="8"/>
                  </a:lnTo>
                  <a:lnTo>
                    <a:pt x="124" y="31"/>
                  </a:lnTo>
                  <a:lnTo>
                    <a:pt x="127" y="33"/>
                  </a:lnTo>
                  <a:lnTo>
                    <a:pt x="130" y="29"/>
                  </a:lnTo>
                  <a:lnTo>
                    <a:pt x="133" y="0"/>
                  </a:lnTo>
                  <a:lnTo>
                    <a:pt x="136" y="21"/>
                  </a:lnTo>
                  <a:lnTo>
                    <a:pt x="139" y="20"/>
                  </a:lnTo>
                  <a:lnTo>
                    <a:pt x="141" y="18"/>
                  </a:lnTo>
                  <a:lnTo>
                    <a:pt x="145" y="18"/>
                  </a:lnTo>
                  <a:lnTo>
                    <a:pt x="148" y="20"/>
                  </a:lnTo>
                  <a:lnTo>
                    <a:pt x="151" y="23"/>
                  </a:lnTo>
                  <a:lnTo>
                    <a:pt x="154" y="20"/>
                  </a:lnTo>
                  <a:lnTo>
                    <a:pt x="156" y="25"/>
                  </a:lnTo>
                  <a:lnTo>
                    <a:pt x="160" y="26"/>
                  </a:lnTo>
                  <a:lnTo>
                    <a:pt x="163" y="15"/>
                  </a:lnTo>
                  <a:lnTo>
                    <a:pt x="165" y="28"/>
                  </a:lnTo>
                  <a:lnTo>
                    <a:pt x="169" y="25"/>
                  </a:lnTo>
                  <a:lnTo>
                    <a:pt x="171" y="35"/>
                  </a:lnTo>
                  <a:lnTo>
                    <a:pt x="175" y="15"/>
                  </a:lnTo>
                  <a:lnTo>
                    <a:pt x="177" y="29"/>
                  </a:lnTo>
                  <a:lnTo>
                    <a:pt x="180" y="29"/>
                  </a:lnTo>
                  <a:lnTo>
                    <a:pt x="184" y="28"/>
                  </a:lnTo>
                  <a:lnTo>
                    <a:pt x="186" y="37"/>
                  </a:lnTo>
                  <a:lnTo>
                    <a:pt x="190" y="28"/>
                  </a:lnTo>
                  <a:lnTo>
                    <a:pt x="192" y="25"/>
                  </a:lnTo>
                  <a:lnTo>
                    <a:pt x="195" y="22"/>
                  </a:lnTo>
                  <a:lnTo>
                    <a:pt x="199" y="20"/>
                  </a:lnTo>
                  <a:lnTo>
                    <a:pt x="201" y="25"/>
                  </a:lnTo>
                  <a:lnTo>
                    <a:pt x="205" y="25"/>
                  </a:lnTo>
                  <a:lnTo>
                    <a:pt x="207" y="18"/>
                  </a:lnTo>
                  <a:lnTo>
                    <a:pt x="210" y="7"/>
                  </a:lnTo>
                  <a:lnTo>
                    <a:pt x="213" y="28"/>
                  </a:lnTo>
                  <a:lnTo>
                    <a:pt x="216" y="26"/>
                  </a:lnTo>
                  <a:lnTo>
                    <a:pt x="220" y="22"/>
                  </a:lnTo>
                  <a:lnTo>
                    <a:pt x="222" y="14"/>
                  </a:lnTo>
                  <a:lnTo>
                    <a:pt x="225" y="22"/>
                  </a:lnTo>
                  <a:lnTo>
                    <a:pt x="228" y="22"/>
                  </a:lnTo>
                  <a:lnTo>
                    <a:pt x="231" y="19"/>
                  </a:lnTo>
                  <a:lnTo>
                    <a:pt x="235" y="22"/>
                  </a:lnTo>
                  <a:lnTo>
                    <a:pt x="237" y="20"/>
                  </a:lnTo>
                  <a:lnTo>
                    <a:pt x="240" y="16"/>
                  </a:lnTo>
                  <a:lnTo>
                    <a:pt x="243" y="35"/>
                  </a:lnTo>
                  <a:lnTo>
                    <a:pt x="246" y="37"/>
                  </a:lnTo>
                  <a:lnTo>
                    <a:pt x="248" y="34"/>
                  </a:lnTo>
                  <a:lnTo>
                    <a:pt x="252" y="37"/>
                  </a:lnTo>
                  <a:lnTo>
                    <a:pt x="255" y="35"/>
                  </a:lnTo>
                  <a:lnTo>
                    <a:pt x="258" y="30"/>
                  </a:lnTo>
                  <a:lnTo>
                    <a:pt x="261" y="41"/>
                  </a:lnTo>
                  <a:lnTo>
                    <a:pt x="263" y="35"/>
                  </a:lnTo>
                  <a:lnTo>
                    <a:pt x="267" y="30"/>
                  </a:lnTo>
                  <a:lnTo>
                    <a:pt x="270" y="34"/>
                  </a:lnTo>
                  <a:lnTo>
                    <a:pt x="273" y="44"/>
                  </a:lnTo>
                  <a:lnTo>
                    <a:pt x="276" y="48"/>
                  </a:lnTo>
                  <a:lnTo>
                    <a:pt x="278" y="46"/>
                  </a:lnTo>
                  <a:lnTo>
                    <a:pt x="282" y="51"/>
                  </a:lnTo>
                  <a:lnTo>
                    <a:pt x="284" y="37"/>
                  </a:lnTo>
                  <a:lnTo>
                    <a:pt x="288" y="38"/>
                  </a:lnTo>
                  <a:lnTo>
                    <a:pt x="291" y="39"/>
                  </a:lnTo>
                  <a:lnTo>
                    <a:pt x="293" y="46"/>
                  </a:lnTo>
                  <a:lnTo>
                    <a:pt x="297" y="39"/>
                  </a:lnTo>
                  <a:lnTo>
                    <a:pt x="299" y="39"/>
                  </a:lnTo>
                  <a:lnTo>
                    <a:pt x="303" y="42"/>
                  </a:lnTo>
                  <a:lnTo>
                    <a:pt x="305" y="33"/>
                  </a:lnTo>
                  <a:lnTo>
                    <a:pt x="308" y="37"/>
                  </a:lnTo>
                  <a:lnTo>
                    <a:pt x="312" y="48"/>
                  </a:lnTo>
                  <a:lnTo>
                    <a:pt x="314" y="49"/>
                  </a:lnTo>
                  <a:lnTo>
                    <a:pt x="318" y="50"/>
                  </a:lnTo>
                  <a:lnTo>
                    <a:pt x="320" y="51"/>
                  </a:lnTo>
                  <a:lnTo>
                    <a:pt x="323" y="38"/>
                  </a:lnTo>
                  <a:lnTo>
                    <a:pt x="327" y="51"/>
                  </a:lnTo>
                  <a:lnTo>
                    <a:pt x="329" y="42"/>
                  </a:lnTo>
                  <a:lnTo>
                    <a:pt x="333" y="45"/>
                  </a:lnTo>
                  <a:lnTo>
                    <a:pt x="335" y="25"/>
                  </a:lnTo>
                  <a:lnTo>
                    <a:pt x="338" y="46"/>
                  </a:lnTo>
                  <a:lnTo>
                    <a:pt x="341" y="37"/>
                  </a:lnTo>
                  <a:lnTo>
                    <a:pt x="344" y="42"/>
                  </a:lnTo>
                  <a:lnTo>
                    <a:pt x="348" y="38"/>
                  </a:lnTo>
                  <a:lnTo>
                    <a:pt x="350" y="41"/>
                  </a:lnTo>
                  <a:lnTo>
                    <a:pt x="353" y="44"/>
                  </a:lnTo>
                  <a:lnTo>
                    <a:pt x="356" y="29"/>
                  </a:lnTo>
                  <a:lnTo>
                    <a:pt x="359" y="38"/>
                  </a:lnTo>
                  <a:lnTo>
                    <a:pt x="362" y="34"/>
                  </a:lnTo>
                  <a:lnTo>
                    <a:pt x="365" y="36"/>
                  </a:lnTo>
                  <a:lnTo>
                    <a:pt x="368" y="42"/>
                  </a:lnTo>
                  <a:lnTo>
                    <a:pt x="371" y="46"/>
                  </a:lnTo>
                  <a:lnTo>
                    <a:pt x="374" y="38"/>
                  </a:lnTo>
                  <a:lnTo>
                    <a:pt x="376" y="44"/>
                  </a:lnTo>
                  <a:lnTo>
                    <a:pt x="380" y="50"/>
                  </a:lnTo>
                  <a:lnTo>
                    <a:pt x="383" y="56"/>
                  </a:lnTo>
                  <a:lnTo>
                    <a:pt x="386" y="60"/>
                  </a:lnTo>
                  <a:lnTo>
                    <a:pt x="389" y="60"/>
                  </a:lnTo>
                  <a:lnTo>
                    <a:pt x="391" y="52"/>
                  </a:lnTo>
                  <a:lnTo>
                    <a:pt x="395" y="52"/>
                  </a:lnTo>
                  <a:lnTo>
                    <a:pt x="398" y="30"/>
                  </a:lnTo>
                  <a:lnTo>
                    <a:pt x="400" y="61"/>
                  </a:lnTo>
                  <a:lnTo>
                    <a:pt x="404" y="59"/>
                  </a:lnTo>
                  <a:lnTo>
                    <a:pt x="406" y="67"/>
                  </a:lnTo>
                  <a:lnTo>
                    <a:pt x="410" y="66"/>
                  </a:lnTo>
                  <a:lnTo>
                    <a:pt x="412" y="59"/>
                  </a:lnTo>
                  <a:lnTo>
                    <a:pt x="415" y="66"/>
                  </a:lnTo>
                  <a:lnTo>
                    <a:pt x="419" y="64"/>
                  </a:lnTo>
                  <a:lnTo>
                    <a:pt x="421" y="65"/>
                  </a:lnTo>
                  <a:lnTo>
                    <a:pt x="425" y="49"/>
                  </a:lnTo>
                  <a:lnTo>
                    <a:pt x="427" y="61"/>
                  </a:lnTo>
                  <a:lnTo>
                    <a:pt x="430" y="63"/>
                  </a:lnTo>
                  <a:lnTo>
                    <a:pt x="434" y="52"/>
                  </a:lnTo>
                  <a:lnTo>
                    <a:pt x="436" y="58"/>
                  </a:lnTo>
                  <a:lnTo>
                    <a:pt x="440" y="58"/>
                  </a:lnTo>
                  <a:lnTo>
                    <a:pt x="442" y="37"/>
                  </a:lnTo>
                  <a:lnTo>
                    <a:pt x="445" y="63"/>
                  </a:lnTo>
                  <a:lnTo>
                    <a:pt x="448" y="45"/>
                  </a:lnTo>
                  <a:lnTo>
                    <a:pt x="451" y="51"/>
                  </a:lnTo>
                  <a:lnTo>
                    <a:pt x="455" y="48"/>
                  </a:lnTo>
                  <a:lnTo>
                    <a:pt x="457" y="53"/>
                  </a:lnTo>
                  <a:lnTo>
                    <a:pt x="460" y="59"/>
                  </a:lnTo>
                  <a:lnTo>
                    <a:pt x="463" y="42"/>
                  </a:lnTo>
                  <a:lnTo>
                    <a:pt x="466" y="54"/>
                  </a:lnTo>
                  <a:lnTo>
                    <a:pt x="470" y="48"/>
                  </a:lnTo>
                  <a:lnTo>
                    <a:pt x="472" y="53"/>
                  </a:lnTo>
                  <a:lnTo>
                    <a:pt x="475" y="43"/>
                  </a:lnTo>
                  <a:lnTo>
                    <a:pt x="478" y="57"/>
                  </a:lnTo>
                  <a:lnTo>
                    <a:pt x="481" y="49"/>
                  </a:lnTo>
                  <a:lnTo>
                    <a:pt x="483" y="38"/>
                  </a:lnTo>
                  <a:lnTo>
                    <a:pt x="487" y="56"/>
                  </a:lnTo>
                  <a:lnTo>
                    <a:pt x="490" y="54"/>
                  </a:lnTo>
                  <a:lnTo>
                    <a:pt x="493" y="45"/>
                  </a:lnTo>
                  <a:lnTo>
                    <a:pt x="496" y="52"/>
                  </a:lnTo>
                  <a:lnTo>
                    <a:pt x="498" y="56"/>
                  </a:lnTo>
                  <a:lnTo>
                    <a:pt x="502" y="64"/>
                  </a:lnTo>
                  <a:lnTo>
                    <a:pt x="505" y="43"/>
                  </a:lnTo>
                  <a:lnTo>
                    <a:pt x="508" y="46"/>
                  </a:lnTo>
                  <a:lnTo>
                    <a:pt x="511" y="53"/>
                  </a:lnTo>
                  <a:lnTo>
                    <a:pt x="513" y="64"/>
                  </a:lnTo>
                  <a:lnTo>
                    <a:pt x="517" y="61"/>
                  </a:lnTo>
                  <a:lnTo>
                    <a:pt x="519" y="60"/>
                  </a:lnTo>
                  <a:lnTo>
                    <a:pt x="523" y="64"/>
                  </a:lnTo>
                  <a:lnTo>
                    <a:pt x="526" y="64"/>
                  </a:lnTo>
                  <a:lnTo>
                    <a:pt x="528" y="59"/>
                  </a:lnTo>
                  <a:lnTo>
                    <a:pt x="532" y="65"/>
                  </a:lnTo>
                  <a:lnTo>
                    <a:pt x="534" y="61"/>
                  </a:lnTo>
                  <a:lnTo>
                    <a:pt x="538" y="66"/>
                  </a:lnTo>
                  <a:lnTo>
                    <a:pt x="540" y="59"/>
                  </a:lnTo>
                  <a:lnTo>
                    <a:pt x="543" y="63"/>
                  </a:lnTo>
                  <a:lnTo>
                    <a:pt x="547" y="57"/>
                  </a:lnTo>
                  <a:lnTo>
                    <a:pt x="549" y="61"/>
                  </a:lnTo>
                  <a:lnTo>
                    <a:pt x="553" y="73"/>
                  </a:lnTo>
                  <a:lnTo>
                    <a:pt x="555" y="67"/>
                  </a:lnTo>
                  <a:lnTo>
                    <a:pt x="558" y="79"/>
                  </a:lnTo>
                  <a:lnTo>
                    <a:pt x="562" y="63"/>
                  </a:lnTo>
                  <a:lnTo>
                    <a:pt x="564" y="73"/>
                  </a:lnTo>
                  <a:lnTo>
                    <a:pt x="568" y="72"/>
                  </a:lnTo>
                  <a:lnTo>
                    <a:pt x="570" y="63"/>
                  </a:lnTo>
                  <a:lnTo>
                    <a:pt x="573" y="71"/>
                  </a:lnTo>
                  <a:lnTo>
                    <a:pt x="576" y="69"/>
                  </a:lnTo>
                  <a:lnTo>
                    <a:pt x="579" y="67"/>
                  </a:lnTo>
                  <a:lnTo>
                    <a:pt x="583" y="73"/>
                  </a:lnTo>
                  <a:lnTo>
                    <a:pt x="585" y="71"/>
                  </a:lnTo>
                  <a:lnTo>
                    <a:pt x="588" y="73"/>
                  </a:lnTo>
                  <a:lnTo>
                    <a:pt x="591" y="80"/>
                  </a:lnTo>
                  <a:lnTo>
                    <a:pt x="594" y="76"/>
                  </a:lnTo>
                  <a:lnTo>
                    <a:pt x="597" y="79"/>
                  </a:lnTo>
                  <a:lnTo>
                    <a:pt x="600" y="77"/>
                  </a:lnTo>
                  <a:lnTo>
                    <a:pt x="603" y="69"/>
                  </a:lnTo>
                  <a:lnTo>
                    <a:pt x="606" y="63"/>
                  </a:lnTo>
                  <a:lnTo>
                    <a:pt x="609" y="59"/>
                  </a:lnTo>
                  <a:lnTo>
                    <a:pt x="611" y="69"/>
                  </a:lnTo>
                  <a:lnTo>
                    <a:pt x="615" y="63"/>
                  </a:lnTo>
                  <a:lnTo>
                    <a:pt x="618" y="61"/>
                  </a:lnTo>
                  <a:lnTo>
                    <a:pt x="621" y="73"/>
                  </a:lnTo>
                  <a:lnTo>
                    <a:pt x="624" y="69"/>
                  </a:lnTo>
                  <a:lnTo>
                    <a:pt x="626" y="60"/>
                  </a:lnTo>
                  <a:lnTo>
                    <a:pt x="630" y="71"/>
                  </a:lnTo>
                  <a:lnTo>
                    <a:pt x="633" y="73"/>
                  </a:lnTo>
                  <a:lnTo>
                    <a:pt x="636" y="67"/>
                  </a:lnTo>
                  <a:lnTo>
                    <a:pt x="639" y="66"/>
                  </a:lnTo>
                  <a:lnTo>
                    <a:pt x="641" y="79"/>
                  </a:lnTo>
                  <a:lnTo>
                    <a:pt x="645" y="72"/>
                  </a:lnTo>
                  <a:lnTo>
                    <a:pt x="647" y="73"/>
                  </a:lnTo>
                  <a:lnTo>
                    <a:pt x="650" y="68"/>
                  </a:lnTo>
                  <a:lnTo>
                    <a:pt x="654" y="60"/>
                  </a:lnTo>
                  <a:lnTo>
                    <a:pt x="656" y="51"/>
                  </a:lnTo>
                  <a:lnTo>
                    <a:pt x="660" y="68"/>
                  </a:lnTo>
                  <a:lnTo>
                    <a:pt x="662" y="67"/>
                  </a:lnTo>
                  <a:lnTo>
                    <a:pt x="665" y="48"/>
                  </a:lnTo>
                  <a:lnTo>
                    <a:pt x="669" y="52"/>
                  </a:lnTo>
                  <a:lnTo>
                    <a:pt x="671" y="59"/>
                  </a:lnTo>
                  <a:lnTo>
                    <a:pt x="675" y="60"/>
                  </a:lnTo>
                  <a:lnTo>
                    <a:pt x="677" y="69"/>
                  </a:lnTo>
                  <a:lnTo>
                    <a:pt x="680" y="77"/>
                  </a:lnTo>
                  <a:lnTo>
                    <a:pt x="683" y="66"/>
                  </a:lnTo>
                  <a:lnTo>
                    <a:pt x="686" y="67"/>
                  </a:lnTo>
                  <a:lnTo>
                    <a:pt x="690" y="75"/>
                  </a:lnTo>
                  <a:lnTo>
                    <a:pt x="692" y="81"/>
                  </a:lnTo>
                  <a:lnTo>
                    <a:pt x="695" y="69"/>
                  </a:lnTo>
                  <a:lnTo>
                    <a:pt x="698" y="61"/>
                  </a:lnTo>
                  <a:lnTo>
                    <a:pt x="701" y="64"/>
                  </a:lnTo>
                  <a:lnTo>
                    <a:pt x="705" y="71"/>
                  </a:lnTo>
                  <a:lnTo>
                    <a:pt x="707" y="71"/>
                  </a:lnTo>
                  <a:lnTo>
                    <a:pt x="710" y="79"/>
                  </a:lnTo>
                  <a:lnTo>
                    <a:pt x="713" y="89"/>
                  </a:lnTo>
                  <a:lnTo>
                    <a:pt x="716" y="88"/>
                  </a:lnTo>
                  <a:lnTo>
                    <a:pt x="718" y="83"/>
                  </a:lnTo>
                  <a:lnTo>
                    <a:pt x="722" y="61"/>
                  </a:lnTo>
                  <a:lnTo>
                    <a:pt x="725" y="80"/>
                  </a:lnTo>
                  <a:lnTo>
                    <a:pt x="728" y="65"/>
                  </a:lnTo>
                  <a:lnTo>
                    <a:pt x="731" y="71"/>
                  </a:lnTo>
                  <a:lnTo>
                    <a:pt x="733" y="75"/>
                  </a:lnTo>
                  <a:lnTo>
                    <a:pt x="737" y="76"/>
                  </a:lnTo>
                  <a:lnTo>
                    <a:pt x="740" y="73"/>
                  </a:lnTo>
                  <a:lnTo>
                    <a:pt x="743" y="74"/>
                  </a:lnTo>
                  <a:lnTo>
                    <a:pt x="746" y="79"/>
                  </a:lnTo>
                  <a:lnTo>
                    <a:pt x="748" y="74"/>
                  </a:lnTo>
                  <a:lnTo>
                    <a:pt x="752" y="68"/>
                  </a:lnTo>
                  <a:lnTo>
                    <a:pt x="754" y="76"/>
                  </a:lnTo>
                  <a:lnTo>
                    <a:pt x="758" y="73"/>
                  </a:lnTo>
                  <a:lnTo>
                    <a:pt x="761" y="88"/>
                  </a:lnTo>
                  <a:lnTo>
                    <a:pt x="763" y="83"/>
                  </a:lnTo>
                  <a:lnTo>
                    <a:pt x="767" y="89"/>
                  </a:lnTo>
                  <a:lnTo>
                    <a:pt x="769" y="89"/>
                  </a:lnTo>
                  <a:lnTo>
                    <a:pt x="773" y="91"/>
                  </a:lnTo>
                  <a:lnTo>
                    <a:pt x="775" y="82"/>
                  </a:lnTo>
                  <a:lnTo>
                    <a:pt x="778" y="82"/>
                  </a:lnTo>
                  <a:lnTo>
                    <a:pt x="782" y="84"/>
                  </a:lnTo>
                  <a:lnTo>
                    <a:pt x="784" y="87"/>
                  </a:lnTo>
                  <a:lnTo>
                    <a:pt x="788" y="91"/>
                  </a:lnTo>
                  <a:lnTo>
                    <a:pt x="790" y="83"/>
                  </a:lnTo>
                  <a:lnTo>
                    <a:pt x="793" y="84"/>
                  </a:lnTo>
                  <a:lnTo>
                    <a:pt x="797" y="83"/>
                  </a:lnTo>
                  <a:lnTo>
                    <a:pt x="799" y="80"/>
                  </a:lnTo>
                  <a:lnTo>
                    <a:pt x="803" y="86"/>
                  </a:lnTo>
                  <a:lnTo>
                    <a:pt x="805" y="90"/>
                  </a:lnTo>
                  <a:lnTo>
                    <a:pt x="808" y="90"/>
                  </a:lnTo>
                  <a:lnTo>
                    <a:pt x="811" y="89"/>
                  </a:lnTo>
                  <a:lnTo>
                    <a:pt x="814" y="88"/>
                  </a:lnTo>
                  <a:lnTo>
                    <a:pt x="818" y="87"/>
                  </a:lnTo>
                  <a:lnTo>
                    <a:pt x="820" y="83"/>
                  </a:lnTo>
                  <a:lnTo>
                    <a:pt x="823" y="84"/>
                  </a:lnTo>
                  <a:lnTo>
                    <a:pt x="826" y="92"/>
                  </a:lnTo>
                  <a:lnTo>
                    <a:pt x="829" y="84"/>
                  </a:lnTo>
                  <a:lnTo>
                    <a:pt x="833" y="98"/>
                  </a:lnTo>
                  <a:lnTo>
                    <a:pt x="835" y="97"/>
                  </a:lnTo>
                  <a:lnTo>
                    <a:pt x="838" y="92"/>
                  </a:lnTo>
                  <a:lnTo>
                    <a:pt x="841" y="94"/>
                  </a:lnTo>
                  <a:lnTo>
                    <a:pt x="844" y="92"/>
                  </a:lnTo>
                  <a:lnTo>
                    <a:pt x="846" y="97"/>
                  </a:lnTo>
                  <a:lnTo>
                    <a:pt x="850" y="92"/>
                  </a:lnTo>
                  <a:lnTo>
                    <a:pt x="853" y="75"/>
                  </a:lnTo>
                  <a:lnTo>
                    <a:pt x="856" y="89"/>
                  </a:lnTo>
                  <a:lnTo>
                    <a:pt x="859" y="87"/>
                  </a:lnTo>
                  <a:lnTo>
                    <a:pt x="861" y="92"/>
                  </a:lnTo>
                  <a:lnTo>
                    <a:pt x="865" y="87"/>
                  </a:lnTo>
                  <a:lnTo>
                    <a:pt x="868" y="87"/>
                  </a:lnTo>
                  <a:lnTo>
                    <a:pt x="871" y="61"/>
                  </a:lnTo>
                  <a:lnTo>
                    <a:pt x="874" y="99"/>
                  </a:lnTo>
                  <a:lnTo>
                    <a:pt x="876" y="81"/>
                  </a:lnTo>
                  <a:lnTo>
                    <a:pt x="880" y="91"/>
                  </a:lnTo>
                  <a:lnTo>
                    <a:pt x="882" y="97"/>
                  </a:lnTo>
                  <a:lnTo>
                    <a:pt x="886" y="94"/>
                  </a:lnTo>
                  <a:lnTo>
                    <a:pt x="889" y="95"/>
                  </a:lnTo>
                  <a:lnTo>
                    <a:pt x="891" y="98"/>
                  </a:lnTo>
                  <a:lnTo>
                    <a:pt x="895" y="107"/>
                  </a:lnTo>
                  <a:lnTo>
                    <a:pt x="897" y="111"/>
                  </a:lnTo>
                  <a:lnTo>
                    <a:pt x="900" y="90"/>
                  </a:lnTo>
                  <a:lnTo>
                    <a:pt x="904" y="109"/>
                  </a:lnTo>
                  <a:lnTo>
                    <a:pt x="906" y="110"/>
                  </a:lnTo>
                  <a:lnTo>
                    <a:pt x="910" y="99"/>
                  </a:lnTo>
                  <a:lnTo>
                    <a:pt x="912" y="94"/>
                  </a:lnTo>
                  <a:lnTo>
                    <a:pt x="915" y="99"/>
                  </a:lnTo>
                  <a:lnTo>
                    <a:pt x="918" y="102"/>
                  </a:lnTo>
                  <a:lnTo>
                    <a:pt x="921" y="109"/>
                  </a:lnTo>
                  <a:lnTo>
                    <a:pt x="925" y="97"/>
                  </a:lnTo>
                  <a:lnTo>
                    <a:pt x="927" y="98"/>
                  </a:lnTo>
                  <a:lnTo>
                    <a:pt x="930" y="97"/>
                  </a:lnTo>
                  <a:lnTo>
                    <a:pt x="933" y="103"/>
                  </a:lnTo>
                  <a:lnTo>
                    <a:pt x="936" y="104"/>
                  </a:lnTo>
                  <a:lnTo>
                    <a:pt x="940" y="96"/>
                  </a:lnTo>
                  <a:lnTo>
                    <a:pt x="942" y="101"/>
                  </a:lnTo>
                  <a:lnTo>
                    <a:pt x="945" y="92"/>
                  </a:lnTo>
                  <a:lnTo>
                    <a:pt x="948" y="104"/>
                  </a:lnTo>
                  <a:lnTo>
                    <a:pt x="951" y="97"/>
                  </a:lnTo>
                  <a:lnTo>
                    <a:pt x="953" y="91"/>
                  </a:lnTo>
                  <a:lnTo>
                    <a:pt x="957" y="99"/>
                  </a:lnTo>
                  <a:lnTo>
                    <a:pt x="960" y="107"/>
                  </a:lnTo>
                  <a:lnTo>
                    <a:pt x="963" y="105"/>
                  </a:lnTo>
                  <a:lnTo>
                    <a:pt x="966" y="94"/>
                  </a:lnTo>
                  <a:lnTo>
                    <a:pt x="968" y="112"/>
                  </a:lnTo>
                  <a:lnTo>
                    <a:pt x="972" y="113"/>
                  </a:lnTo>
                  <a:lnTo>
                    <a:pt x="974" y="116"/>
                  </a:lnTo>
                  <a:lnTo>
                    <a:pt x="978" y="110"/>
                  </a:lnTo>
                  <a:lnTo>
                    <a:pt x="981" y="121"/>
                  </a:lnTo>
                  <a:lnTo>
                    <a:pt x="983" y="125"/>
                  </a:lnTo>
                  <a:lnTo>
                    <a:pt x="987" y="109"/>
                  </a:lnTo>
                  <a:lnTo>
                    <a:pt x="989" y="125"/>
                  </a:lnTo>
                  <a:lnTo>
                    <a:pt x="993" y="120"/>
                  </a:lnTo>
                  <a:lnTo>
                    <a:pt x="996" y="122"/>
                  </a:lnTo>
                  <a:lnTo>
                    <a:pt x="998" y="120"/>
                  </a:lnTo>
                  <a:lnTo>
                    <a:pt x="1002" y="105"/>
                  </a:lnTo>
                  <a:lnTo>
                    <a:pt x="1004" y="119"/>
                  </a:lnTo>
                  <a:lnTo>
                    <a:pt x="1008" y="107"/>
                  </a:lnTo>
                  <a:lnTo>
                    <a:pt x="1010" y="117"/>
                  </a:lnTo>
                  <a:lnTo>
                    <a:pt x="1013" y="119"/>
                  </a:lnTo>
                  <a:lnTo>
                    <a:pt x="1017" y="113"/>
                  </a:lnTo>
                  <a:lnTo>
                    <a:pt x="1019" y="110"/>
                  </a:lnTo>
                  <a:lnTo>
                    <a:pt x="1023" y="113"/>
                  </a:lnTo>
                  <a:lnTo>
                    <a:pt x="1025" y="120"/>
                  </a:lnTo>
                  <a:lnTo>
                    <a:pt x="1028" y="101"/>
                  </a:lnTo>
                  <a:lnTo>
                    <a:pt x="1032" y="114"/>
                  </a:lnTo>
                  <a:lnTo>
                    <a:pt x="1034" y="105"/>
                  </a:lnTo>
                  <a:lnTo>
                    <a:pt x="1038" y="105"/>
                  </a:lnTo>
                  <a:lnTo>
                    <a:pt x="1040" y="105"/>
                  </a:lnTo>
                  <a:lnTo>
                    <a:pt x="1043" y="107"/>
                  </a:lnTo>
                  <a:lnTo>
                    <a:pt x="1046" y="83"/>
                  </a:lnTo>
                  <a:lnTo>
                    <a:pt x="1049" y="99"/>
                  </a:lnTo>
                  <a:lnTo>
                    <a:pt x="1053" y="112"/>
                  </a:lnTo>
                  <a:lnTo>
                    <a:pt x="1055" y="90"/>
                  </a:lnTo>
                  <a:lnTo>
                    <a:pt x="1058" y="116"/>
                  </a:lnTo>
                  <a:lnTo>
                    <a:pt x="1061" y="113"/>
                  </a:lnTo>
                  <a:lnTo>
                    <a:pt x="1064" y="107"/>
                  </a:lnTo>
                  <a:lnTo>
                    <a:pt x="1068" y="105"/>
                  </a:lnTo>
                  <a:lnTo>
                    <a:pt x="1070" y="99"/>
                  </a:lnTo>
                  <a:lnTo>
                    <a:pt x="1073" y="112"/>
                  </a:lnTo>
                  <a:lnTo>
                    <a:pt x="1076" y="107"/>
                  </a:lnTo>
                  <a:lnTo>
                    <a:pt x="1079" y="99"/>
                  </a:lnTo>
                  <a:lnTo>
                    <a:pt x="1081" y="107"/>
                  </a:lnTo>
                  <a:lnTo>
                    <a:pt x="1085" y="106"/>
                  </a:lnTo>
                  <a:lnTo>
                    <a:pt x="1088" y="106"/>
                  </a:lnTo>
                  <a:lnTo>
                    <a:pt x="1091" y="105"/>
                  </a:lnTo>
                  <a:lnTo>
                    <a:pt x="1094" y="114"/>
                  </a:lnTo>
                  <a:lnTo>
                    <a:pt x="1096" y="103"/>
                  </a:lnTo>
                  <a:lnTo>
                    <a:pt x="1100" y="114"/>
                  </a:lnTo>
                  <a:lnTo>
                    <a:pt x="1103" y="97"/>
                  </a:lnTo>
                  <a:lnTo>
                    <a:pt x="1106" y="114"/>
                  </a:lnTo>
                  <a:lnTo>
                    <a:pt x="1109" y="105"/>
                  </a:lnTo>
                  <a:lnTo>
                    <a:pt x="1111" y="109"/>
                  </a:lnTo>
                  <a:lnTo>
                    <a:pt x="1115" y="101"/>
                  </a:lnTo>
                  <a:lnTo>
                    <a:pt x="1117" y="109"/>
                  </a:lnTo>
                  <a:lnTo>
                    <a:pt x="1121" y="117"/>
                  </a:lnTo>
                  <a:lnTo>
                    <a:pt x="1124" y="111"/>
                  </a:lnTo>
                  <a:lnTo>
                    <a:pt x="1126" y="119"/>
                  </a:lnTo>
                  <a:lnTo>
                    <a:pt x="1130" y="118"/>
                  </a:lnTo>
                  <a:lnTo>
                    <a:pt x="1132" y="118"/>
                  </a:lnTo>
                  <a:lnTo>
                    <a:pt x="1136" y="106"/>
                  </a:lnTo>
                  <a:lnTo>
                    <a:pt x="1139" y="102"/>
                  </a:lnTo>
                  <a:lnTo>
                    <a:pt x="1141" y="106"/>
                  </a:lnTo>
                  <a:lnTo>
                    <a:pt x="1145" y="110"/>
                  </a:lnTo>
                  <a:lnTo>
                    <a:pt x="1147" y="117"/>
                  </a:lnTo>
                  <a:lnTo>
                    <a:pt x="1150" y="118"/>
                  </a:lnTo>
                  <a:lnTo>
                    <a:pt x="1153" y="127"/>
                  </a:lnTo>
                  <a:lnTo>
                    <a:pt x="1156" y="109"/>
                  </a:lnTo>
                  <a:lnTo>
                    <a:pt x="1160" y="122"/>
                  </a:lnTo>
                  <a:lnTo>
                    <a:pt x="1162" y="121"/>
                  </a:lnTo>
                  <a:lnTo>
                    <a:pt x="1165" y="121"/>
                  </a:lnTo>
                  <a:lnTo>
                    <a:pt x="1168" y="122"/>
                  </a:lnTo>
                  <a:lnTo>
                    <a:pt x="1171" y="126"/>
                  </a:lnTo>
                  <a:lnTo>
                    <a:pt x="1175" y="127"/>
                  </a:lnTo>
                  <a:lnTo>
                    <a:pt x="1177" y="126"/>
                  </a:lnTo>
                  <a:lnTo>
                    <a:pt x="1180" y="119"/>
                  </a:lnTo>
                  <a:lnTo>
                    <a:pt x="1183" y="130"/>
                  </a:lnTo>
                  <a:lnTo>
                    <a:pt x="1186" y="126"/>
                  </a:lnTo>
                  <a:lnTo>
                    <a:pt x="1188" y="126"/>
                  </a:lnTo>
                  <a:lnTo>
                    <a:pt x="1192" y="120"/>
                  </a:lnTo>
                  <a:lnTo>
                    <a:pt x="1195" y="130"/>
                  </a:lnTo>
                </a:path>
              </a:pathLst>
            </a:custGeom>
            <a:noFill/>
            <a:ln w="3240">
              <a:solidFill>
                <a:srgbClr val="00006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93" name=""/>
          <p:cNvSpPr/>
          <p:nvPr/>
        </p:nvSpPr>
        <p:spPr>
          <a:xfrm rot="16200000">
            <a:off x="1641600" y="3949200"/>
            <a:ext cx="103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rebuchet MS"/>
              </a:rPr>
              <a:t>force (%Ach)</a:t>
            </a:r>
            <a:endParaRPr b="0" lang="en-US" sz="1400" spc="-1" strike="noStrike">
              <a:solidFill>
                <a:srgbClr val="000000"/>
              </a:solidFill>
              <a:latin typeface="Times New Roman"/>
            </a:endParaRPr>
          </a:p>
        </p:txBody>
      </p:sp>
      <p:sp>
        <p:nvSpPr>
          <p:cNvPr id="94" name=""/>
          <p:cNvSpPr/>
          <p:nvPr/>
        </p:nvSpPr>
        <p:spPr>
          <a:xfrm>
            <a:off x="3819600" y="5440320"/>
            <a:ext cx="85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ime (min)</a:t>
            </a:r>
            <a:endParaRPr b="0" lang="en-US" sz="1400" spc="-1" strike="noStrike">
              <a:solidFill>
                <a:srgbClr val="000000"/>
              </a:solidFill>
              <a:latin typeface="Times New Roman"/>
            </a:endParaRPr>
          </a:p>
        </p:txBody>
      </p:sp>
      <p:sp>
        <p:nvSpPr>
          <p:cNvPr id="95" name=""/>
          <p:cNvSpPr/>
          <p:nvPr/>
        </p:nvSpPr>
        <p:spPr>
          <a:xfrm>
            <a:off x="3472920" y="2882880"/>
            <a:ext cx="86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trachea</a:t>
            </a:r>
            <a:endParaRPr b="0" lang="en-US" sz="14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5680" y="1253160"/>
            <a:ext cx="8217000" cy="2776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66"/>
                </a:solidFill>
                <a:latin typeface="Trebuchet MS"/>
              </a:rPr>
              <a:t>The contribution of inositol 1,4,5-trisphosphate and ryanodine receptors to agonist-induced Ca</a:t>
            </a:r>
            <a:r>
              <a:rPr b="0" lang="fr-FR" sz="2400" spc="-1" strike="noStrike" baseline="30000">
                <a:solidFill>
                  <a:srgbClr val="000066"/>
                </a:solidFill>
                <a:latin typeface="Trebuchet MS"/>
              </a:rPr>
              <a:t>2+</a:t>
            </a:r>
            <a:r>
              <a:rPr b="0" lang="fr-FR" sz="2400" spc="-1" strike="noStrike">
                <a:solidFill>
                  <a:srgbClr val="000066"/>
                </a:solidFill>
                <a:latin typeface="Trebuchet MS"/>
              </a:rPr>
              <a:t> signaling of airway smooth muscle cells</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66"/>
                </a:solidFill>
                <a:latin typeface="Trebuchet MS"/>
              </a:rPr>
              <a:t>Yan Bai, Martin Edelmann, and Michael J. Sanderson</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fr-FR" sz="1800" spc="-1" strike="noStrike">
                <a:solidFill>
                  <a:srgbClr val="000066"/>
                </a:solidFill>
                <a:latin typeface="Trebuchet MS"/>
              </a:rPr>
              <a:t>Am J Physiol Lung Cell Mol Physiol.</a:t>
            </a:r>
            <a:r>
              <a:rPr b="0" lang="fr-FR" sz="1800" spc="-1" strike="noStrike">
                <a:solidFill>
                  <a:srgbClr val="000066"/>
                </a:solidFill>
                <a:latin typeface="Trebuchet MS"/>
              </a:rPr>
              <a:t> 2009 August; </a:t>
            </a:r>
            <a:r>
              <a:rPr b="1" lang="fr-FR" sz="1800" spc="-1" strike="noStrike">
                <a:solidFill>
                  <a:srgbClr val="000066"/>
                </a:solidFill>
                <a:latin typeface="Trebuchet MS"/>
              </a:rPr>
              <a:t>297</a:t>
            </a:r>
            <a:r>
              <a:rPr b="0" lang="fr-FR" sz="1800" spc="-1" strike="noStrike">
                <a:solidFill>
                  <a:srgbClr val="000066"/>
                </a:solidFill>
                <a:latin typeface="Trebuchet MS"/>
              </a:rPr>
              <a:t>(2): L347–L361</a:t>
            </a:r>
            <a:r>
              <a:rPr b="0" lang="fr-FR" sz="2000" spc="-1" strike="noStrike">
                <a:solidFill>
                  <a:srgbClr val="000066"/>
                </a:solidFill>
                <a:latin typeface="Trebuchet MS"/>
              </a:rPr>
              <a:t> </a:t>
            </a:r>
            <a:endParaRPr b="0" lang="en-US" sz="2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97"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01"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02" name=""/>
          <p:cNvSpPr/>
          <p:nvPr/>
        </p:nvSpPr>
        <p:spPr>
          <a:xfrm>
            <a:off x="355680" y="792720"/>
            <a:ext cx="8381880" cy="454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800" spc="-1" strike="noStrike">
                <a:solidFill>
                  <a:srgbClr val="000066"/>
                </a:solidFill>
                <a:latin typeface="Trebuchet MS"/>
              </a:rPr>
              <a:t>METHODS</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800" spc="-1" strike="noStrike">
                <a:solidFill>
                  <a:srgbClr val="000066"/>
                </a:solidFill>
                <a:latin typeface="Trebuchet MS"/>
              </a:rPr>
              <a:t>Lung slice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66"/>
                </a:solidFill>
                <a:latin typeface="Trebuchet MS"/>
              </a:rPr>
              <a:t>Measurement of airway contraction and relaxation.</a:t>
            </a:r>
            <a:r>
              <a:rPr b="0" lang="fr-FR" sz="1800" spc="-1" strike="noStrike">
                <a:solidFill>
                  <a:srgbClr val="000066"/>
                </a:solidFill>
                <a:latin typeface="Trebuchet MS"/>
              </a:rPr>
              <a: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Airway contraction was measured by determining the change in lumen area, with respect to the initial lumen area, by pixel summing with custom-written macros.</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66"/>
                </a:solidFill>
                <a:latin typeface="Trebuchet MS"/>
              </a:rPr>
              <a:t>Measurement of intracellular Ca2+ signaling.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Oregon Green 488 BAPTA-1 A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Fluorescence intensity was expressed in absolute units or in relative terms as a fluorescence ratio (F/F0) normalized to the initial fluorescent intensity (F0).</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05"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06" name=""/>
          <p:cNvSpPr/>
          <p:nvPr/>
        </p:nvSpPr>
        <p:spPr>
          <a:xfrm>
            <a:off x="355680" y="930600"/>
            <a:ext cx="8381880" cy="564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66"/>
                </a:solidFill>
                <a:latin typeface="Trebuchet MS"/>
              </a:rPr>
              <a:t>Flash photolysis of caged-IP3.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Flash photolysis of caged-IP3 was used to experimentally increase the [IP3]i.</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 </a:t>
            </a:r>
            <a:r>
              <a:rPr b="0" lang="fr-FR" sz="1800" spc="-1" strike="noStrike">
                <a:solidFill>
                  <a:srgbClr val="000066"/>
                </a:solidFill>
                <a:latin typeface="Trebuchet MS"/>
              </a:rPr>
              <a:t>Lung slices were initially loaded with Oregon Green 488 BAPTA-1 AM and subsequently incubated with 2 μM caged-IP3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A UV flash was generated focused as point source into the microscope. The intensity of flash was regulated by neutral density filters. The spot size could be adjusted with an iris diaphragm.</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66"/>
                </a:solidFill>
                <a:latin typeface="Trebuchet MS"/>
              </a:rPr>
              <a:t>Preparation of Ca2+-permeabilized lung slices.</a:t>
            </a:r>
            <a:r>
              <a:rPr b="0" lang="fr-FR" sz="1800" spc="-1" strike="noStrike">
                <a:solidFill>
                  <a:srgbClr val="000066"/>
                </a:solidFill>
                <a:latin typeface="Trebuchet MS"/>
              </a:rPr>
              <a:t>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To clamp the [Ca2+]i of airway SMCs at a constant level, it is necessary to increase the permeability of the plasma membrane to Ca2+. Typically, this has been achieved by the application of detergents or toxin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We have developed an alternative approach using caffeine and ryanodine to only increase the permeability of cell membrane to Ca2+.</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00066"/>
                </a:solidFill>
                <a:latin typeface="Trebuchet MS"/>
              </a:rPr>
              <a:t>Lung slices were simultaneously exposed to 20 mM caffeine and 50 μM ryanodine for 5 min. This treatment is believed to lock the RyRs in the open state and thereby brings about the depletion of the SR Ca2+ store. This, in turn, leads to a persistent Ca2+ influx via store-operated channels to elevate the [Ca2+]i. As a result, the extracellular Ca2+ concentration is used to determine the [Ca2+]i. </a:t>
            </a:r>
            <a:endParaRPr b="0" lang="en-US" sz="18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An external file that holds a picture, illustration, etc.&#10;Object name is zh50080954850001.jpg Object name is zh50080954850001.jpg"/>
          <p:cNvPicPr/>
          <p:nvPr/>
        </p:nvPicPr>
        <p:blipFill>
          <a:blip r:embed="rId1"/>
          <a:stretch/>
        </p:blipFill>
        <p:spPr>
          <a:xfrm>
            <a:off x="628560" y="928800"/>
            <a:ext cx="2921040" cy="5389560"/>
          </a:xfrm>
          <a:prstGeom prst="rect">
            <a:avLst/>
          </a:prstGeom>
          <a:ln w="0">
            <a:noFill/>
          </a:ln>
        </p:spPr>
      </p:pic>
      <p:sp>
        <p:nvSpPr>
          <p:cNvPr id="108"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10"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11" name=""/>
          <p:cNvSpPr/>
          <p:nvPr/>
        </p:nvSpPr>
        <p:spPr>
          <a:xfrm>
            <a:off x="4538520" y="1144440"/>
            <a:ext cx="4205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The effect of 2-aminoethoxydiphenyl borate (2-APB) on agonist-induced airway contra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2-APB : inhibiteur des PIP3</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14"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15" name=""/>
          <p:cNvSpPr/>
          <p:nvPr/>
        </p:nvSpPr>
        <p:spPr>
          <a:xfrm>
            <a:off x="4538520" y="1144440"/>
            <a:ext cx="4205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Effects of ryanodine and tetracaine on agonist-induced airway contra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ryanodine : inhibiteur/activateur des Ry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tétracaine: inhibiteur des Ry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anesthésique local</a:t>
            </a:r>
            <a:endParaRPr b="0" lang="en-US" sz="2000" spc="-1" strike="noStrike">
              <a:solidFill>
                <a:srgbClr val="000000"/>
              </a:solidFill>
              <a:latin typeface="Times New Roman"/>
            </a:endParaRPr>
          </a:p>
        </p:txBody>
      </p:sp>
      <p:pic>
        <p:nvPicPr>
          <p:cNvPr id="116" name="" descr="An external file that holds a picture, illustration, etc.&#10;Object name is zh50080954850002.jpg Object name is zh50080954850002.jpg"/>
          <p:cNvPicPr/>
          <p:nvPr/>
        </p:nvPicPr>
        <p:blipFill>
          <a:blip r:embed="rId1"/>
          <a:stretch/>
        </p:blipFill>
        <p:spPr>
          <a:xfrm>
            <a:off x="355680" y="928800"/>
            <a:ext cx="3914640" cy="5638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647640"/>
            <a:ext cx="9144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560" y="127080"/>
            <a:ext cx="2664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2400" spc="-1" strike="noStrike">
                <a:solidFill>
                  <a:srgbClr val="000066"/>
                </a:solidFill>
                <a:latin typeface="Trebuchet MS"/>
              </a:rPr>
              <a:t>analyse d’article</a:t>
            </a:r>
            <a:endParaRPr b="0" lang="en-US" sz="2400" spc="-1" strike="noStrike">
              <a:solidFill>
                <a:srgbClr val="000000"/>
              </a:solidFill>
              <a:latin typeface="Times New Roman"/>
            </a:endParaRPr>
          </a:p>
        </p:txBody>
      </p:sp>
      <p:sp>
        <p:nvSpPr>
          <p:cNvPr id="119" name=""/>
          <p:cNvSpPr/>
          <p:nvPr/>
        </p:nvSpPr>
        <p:spPr>
          <a:xfrm>
            <a:off x="3235320" y="174600"/>
            <a:ext cx="562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66"/>
                </a:solidFill>
                <a:latin typeface="Trebuchet MS"/>
              </a:rPr>
              <a:t>Am J Physiol Lung Cell Mol Physiol.</a:t>
            </a:r>
            <a:r>
              <a:rPr b="0" lang="fr-FR" sz="1400" spc="-1" strike="noStrike">
                <a:solidFill>
                  <a:srgbClr val="000066"/>
                </a:solidFill>
                <a:latin typeface="Trebuchet MS"/>
              </a:rPr>
              <a:t> 2009 August; </a:t>
            </a:r>
            <a:r>
              <a:rPr b="1" lang="fr-FR" sz="1400" spc="-1" strike="noStrike">
                <a:solidFill>
                  <a:srgbClr val="000066"/>
                </a:solidFill>
                <a:latin typeface="Trebuchet MS"/>
              </a:rPr>
              <a:t>297</a:t>
            </a:r>
            <a:r>
              <a:rPr b="0" lang="fr-FR" sz="1400" spc="-1" strike="noStrike">
                <a:solidFill>
                  <a:srgbClr val="000066"/>
                </a:solidFill>
                <a:latin typeface="Trebuchet MS"/>
              </a:rPr>
              <a:t>(2): L347–L361 </a:t>
            </a:r>
            <a:endParaRPr b="0" lang="en-US" sz="1400" spc="-1" strike="noStrike">
              <a:solidFill>
                <a:srgbClr val="000000"/>
              </a:solidFill>
              <a:latin typeface="Times New Roman"/>
            </a:endParaRPr>
          </a:p>
        </p:txBody>
      </p:sp>
      <p:sp>
        <p:nvSpPr>
          <p:cNvPr id="120" name=""/>
          <p:cNvSpPr/>
          <p:nvPr/>
        </p:nvSpPr>
        <p:spPr>
          <a:xfrm>
            <a:off x="4538520" y="1144440"/>
            <a:ext cx="42055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The effect of 2-APB on the Ca2+ signaling of airway smooth muscle cells (SMCs) induced by 200 nM M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66"/>
                </a:solidFill>
                <a:latin typeface="Trebuchet MS"/>
              </a:rPr>
              <a:t>2-APB : inhibiteur des PIP3</a:t>
            </a:r>
            <a:endParaRPr b="0" lang="en-US" sz="2000" spc="-1" strike="noStrike">
              <a:solidFill>
                <a:srgbClr val="000000"/>
              </a:solidFill>
              <a:latin typeface="Times New Roman"/>
            </a:endParaRPr>
          </a:p>
        </p:txBody>
      </p:sp>
      <p:pic>
        <p:nvPicPr>
          <p:cNvPr id="121" name="" descr="An external file that holds a picture, illustration, etc.&#10;Object name is zh50080954850003.jpg Object name is zh50080954850003.jpg"/>
          <p:cNvPicPr/>
          <p:nvPr/>
        </p:nvPicPr>
        <p:blipFill>
          <a:blip r:embed="rId1"/>
          <a:stretch/>
        </p:blipFill>
        <p:spPr>
          <a:xfrm>
            <a:off x="355680" y="928800"/>
            <a:ext cx="3578040" cy="57466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6T12:04:16Z</dcterms:created>
  <dc:creator>Physiologie III</dc:creator>
  <dc:description/>
  <cp:keywords/>
  <dc:language>en-US</dc:language>
  <cp:lastModifiedBy>Rm</cp:lastModifiedBy>
  <dcterms:modified xsi:type="dcterms:W3CDTF">2011-11-28T15:57:45Z</dcterms:modified>
  <cp:revision>2527</cp:revision>
  <dc:subject/>
  <dc:title>Physiopathologie de la signalisation calcique dans le muscle lisse des voies aériennes : effet des polluants atmosphériques et des anesthésiques généraux</dc:title>
</cp:coreProperties>
</file>